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0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779-3A52-44F1-9099-363A193D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C7E-F036-4380-9ADE-4BF48931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358-A1B3-4E1C-AF48-102E3E1B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F5B-0993-4D61-82A0-56E98C90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AF75-529D-473F-AE55-ACE8201E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7584-BCDD-4B48-923F-AE72E7BA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9B84-A328-4A8F-A37D-C5A05D59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2F53-9BCF-4DEA-BFC1-BF55C2A9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278-F184-4EFD-8CB3-664C54D4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C1BC-A93B-42F1-B74A-AA9A7A2F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FF1E-234B-4806-AC3B-A4347BEE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F43-A770-4383-820E-EEC8429C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2107-149D-48A8-BD83-4277BCF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4CF2-036D-4630-A844-9F84CFDB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6698-E83B-4F09-B477-74297DF7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063D-7A3F-4F61-A535-113314CC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1553-CD7A-4ED1-AB99-1A18777F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802A-812B-457D-B3CF-38AE9C3F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D4C8-A08D-47D1-8CF7-A3FDBFEF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007A0-4D72-48A2-AD08-AA3BACDB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C0A0-FF07-46BB-AC7D-A99CB99A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6D9C-EA0B-44FC-BC68-19D9D618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AC2-DB87-48BE-9699-2D637F7E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9450-EB9C-4925-BDC5-85FCCF1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A8FA-87AC-4BEB-8896-C4FF5AB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E20A-9785-4AFE-AD14-962A7A6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D047-02A7-4721-8B51-EDCECBE8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0D54-9F5F-4087-BB16-16887896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9636-CCD2-4267-A075-81802C0C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8304-5684-4C80-AC62-12E5F10D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2CA-FD41-4BC6-A7B3-B6599EC9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3C5-5B43-40B6-8DC5-706035F7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2371-E19E-4794-A888-497D455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42-81D3-4846-8022-3BAB0DE1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FBF-5957-4489-BB7B-992F26DB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303-795C-4AC1-9235-E34DF3A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6B0D-5B84-4345-B4CE-DD413B482F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7101-4DA8-4AAF-9036-6C32A3E930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BA13-FBA1-4052-9781-1DBC52FB42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852640"/>
            <a:ext cx="5761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第</a:t>
            </a: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3</a:t>
            </a:r>
            <a:r>
              <a:rPr b="0" lang="zh-CN" sz="5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cc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章复习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solidFill>
                <a:srgbClr val="cc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052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的对角线相等，互相垂直，互相平分，每条对角线平分一组对角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方形既是轴对称图形又是中心对称图形，对称轴有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，对称中心是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组邻边相等并且有一个角是直角的平行四边形叫做正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组邻边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87360" y="2637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904920" y="501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1052640"/>
            <a:ext cx="87854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一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正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、菱形、正方形都是平行四边形，且是特殊的平行四边形．矩形是有一内角为直角的平行四边形；菱形是有一组邻边相等的平行四边形；正方形既是矩形，又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腰梯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两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两底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在同一底上的两个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90492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3257280" y="386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/>
          <p:nvPr/>
        </p:nvSpPr>
        <p:spPr>
          <a:xfrm>
            <a:off x="5202000" y="390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/>
          <p:nvPr/>
        </p:nvSpPr>
        <p:spPr>
          <a:xfrm>
            <a:off x="5506920" y="4500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3881160" y="51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052640"/>
            <a:ext cx="87854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是轴对称图形，它只有一条对称轴，一底的垂直平分线是它的对称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腰梯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腰相等的梯形是等腰梯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一底上的两个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梯形是等腰梯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条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梯形是等腰梯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腰梯形的判定方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先判定它是梯形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再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腰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一底上的两个角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来判定它是等腰梯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3904920" y="342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078000" y="402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1052640"/>
            <a:ext cx="878544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中点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点四边形就是连接四边形各边中点所得的四边形，我们可以得到下面的结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四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矩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菱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次连接正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7330320" y="2781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692928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/>
          <p:nvPr/>
        </p:nvSpPr>
        <p:spPr>
          <a:xfrm>
            <a:off x="6857640" y="40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矩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7206840" y="4724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1484280"/>
            <a:ext cx="87854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次连接等腰梯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次连接对角线相等的四边形四边中点所得的四边形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顺次连接对角线互相垂直的四边形四边中点所得的四边形是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矩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7360920" y="148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988920" y="2587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菱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2"/>
          <p:cNvSpPr/>
          <p:nvPr/>
        </p:nvSpPr>
        <p:spPr>
          <a:xfrm>
            <a:off x="1116720" y="1700280"/>
            <a:ext cx="3633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一　平行四边形的性质和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考点攻略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492280"/>
            <a:ext cx="547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已知：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在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黑体"/>
              </a:rPr>
              <a:t>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邻边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MS Mincho"/>
              </a:rPr>
              <a:t>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，延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D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，求证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F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743200" cy="3105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要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即证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平分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因平行四边形的对角线互相平分，因此，考虑构造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为对角线的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/>
          <p:nvPr/>
        </p:nvSpPr>
        <p:spPr>
          <a:xfrm>
            <a:off x="179280" y="692280"/>
            <a:ext cx="8785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黑体"/>
              </a:rPr>
              <a:t>证明：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过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作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交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的延长线于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连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又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DC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BG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又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CE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∥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CE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即四边形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BGEC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  <a:ea typeface="仿宋_GB2312"/>
              </a:rPr>
              <a:t>∴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EF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仿宋_GB2312"/>
              </a:rPr>
              <a:t>F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2"/>
          <p:cNvSpPr/>
          <p:nvPr/>
        </p:nvSpPr>
        <p:spPr>
          <a:xfrm>
            <a:off x="992160" y="1125360"/>
            <a:ext cx="29635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二　菱形的性质和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917720"/>
            <a:ext cx="5473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菱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对角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于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别为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中点，连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证：四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O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247840" cy="397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682560" y="1030320"/>
            <a:ext cx="154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知识归纳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773360"/>
            <a:ext cx="878544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平行四边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边分别平行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　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两组对角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　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______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  <a:ea typeface="Times New Roman"/>
              </a:rPr>
              <a:t>　          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平行四边形是中心对称图形，它的对称中心是两条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5273280" y="306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566568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474912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由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分别为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中点，可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E∥AD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OF∥AB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故四边形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OF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24000" y="990720"/>
          <a:ext cx="8200800" cy="60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200800" cy="60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2"/>
          <p:cNvSpPr/>
          <p:nvPr/>
        </p:nvSpPr>
        <p:spPr>
          <a:xfrm>
            <a:off x="1239120" y="1125360"/>
            <a:ext cx="3695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三　和矩形有关的折叠计算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917720"/>
            <a:ext cx="82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矩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沿直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折叠，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恰好落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边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处．已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图中阴影部分的面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339084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要求阴影部分的面积，由于阴影部分由两个直角三角形构成，所以只要根据勾股定理求出直角三角形的直角边即可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92040" y="2852640"/>
          <a:ext cx="8201160" cy="330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2852640"/>
                    <a:ext cx="820116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392040" y="1341360"/>
          <a:ext cx="820116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41360"/>
                    <a:ext cx="820116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1241640" y="1125360"/>
            <a:ext cx="37742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►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考点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四　和正方形有关的探索性问题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191772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例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在正方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，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度和的最小值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2924280"/>
            <a:ext cx="2700360" cy="2977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34136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解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连接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P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由正方形关于对角线对称将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转移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，要求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C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和的最小值即求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和的最小值，易知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上时，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A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PE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最小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92040" y="1335240"/>
          <a:ext cx="8201160" cy="48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201160" cy="48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57480" y="1623960"/>
            <a:ext cx="3029040" cy="3610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052640"/>
            <a:ext cx="87854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平行四边形的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角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组对边分别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组对边平行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四边形是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易错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对边相等，一组对角相等的四边形不一定是平行四边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/>
          <p:nvPr/>
        </p:nvSpPr>
        <p:spPr>
          <a:xfrm>
            <a:off x="347328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01640" y="234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3416040" y="2944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660040" y="3619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3765240" y="4206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考点攻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92040" y="1335240"/>
          <a:ext cx="8418600" cy="41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335240"/>
                    <a:ext cx="84186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27800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角形中位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的中位线是一条线段．一个三角形有三条中位线．三角形的中位线将三角形分成四个全等的小三角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角形中位线定理：三角形的中位线平行于第三边且等于第三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菱形的定义和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：一组邻边相等的平行四边形叫做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/>
          <p:nvPr/>
        </p:nvSpPr>
        <p:spPr>
          <a:xfrm>
            <a:off x="2279520" y="350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052640"/>
            <a:ext cx="8785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性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的四条边都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的对角线互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互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且每一条对角线平分一组对角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是中心对称图形，它的对称中心是两条对角线的交点；菱形也是轴对称图形，两条对角线所在的直线是它的对称轴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菱形是特殊的平行四边形，故它具有平行四边形的一切性质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菱形的判定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组邻边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角线互相垂直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　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/>
          <p:nvPr/>
        </p:nvSpPr>
        <p:spPr>
          <a:xfrm>
            <a:off x="498456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/>
          <p:nvPr/>
        </p:nvSpPr>
        <p:spPr>
          <a:xfrm>
            <a:off x="809280" y="15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/>
          <p:nvPr/>
        </p:nvSpPr>
        <p:spPr>
          <a:xfrm>
            <a:off x="2609640" y="1528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垂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/>
          <p:nvPr/>
        </p:nvSpPr>
        <p:spPr>
          <a:xfrm>
            <a:off x="3874320" y="4797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/>
          <p:nvPr/>
        </p:nvSpPr>
        <p:spPr>
          <a:xfrm>
            <a:off x="4294800" y="5451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052640"/>
            <a:ext cx="878544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条边都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菱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四边形、平行四边形、菱形关系如图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4327560" cy="375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06480" y="1068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052640"/>
            <a:ext cx="8785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菱形的面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由于菱形是平行四边形，所以菱形的面积＝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菱形的对角线互相垂直平分，所以其对角线将菱形分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全等三角形，故菱形的面积等于两对角线乘积的一半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矩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的对角线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　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3587040" y="4076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且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11292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452400" y="530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互相平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5652720" y="53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1052640"/>
            <a:ext cx="87854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四个角都是直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或矩形的四个角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两条对角线把矩形分成四个面积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角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既是轴对称图形又是中心对称图形，对称轴有</a:t>
            </a:r>
            <a:br>
              <a:rPr sz="2400"/>
            </a:b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，对称中心是对角线的交点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面积等于两邻边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矩形的对角线相等且互相平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这一性质可以得出直角三角形的一个常用的性质：直角三角形斜边上的中线等于斜边长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/>
          <p:nvPr/>
        </p:nvSpPr>
        <p:spPr>
          <a:xfrm>
            <a:off x="7576920" y="17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/>
          <p:nvPr/>
        </p:nvSpPr>
        <p:spPr>
          <a:xfrm>
            <a:off x="387360" y="3284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/>
          <p:nvPr/>
        </p:nvSpPr>
        <p:spPr>
          <a:xfrm>
            <a:off x="4768560" y="3890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乘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/>
          <p:nvPr/>
        </p:nvSpPr>
        <p:spPr>
          <a:xfrm>
            <a:off x="19908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一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62400" y="179280"/>
            <a:ext cx="24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第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  <a:ea typeface="方正黑体_GBK"/>
              </a:rPr>
              <a:t>章复习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┃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知识归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6832440" y="6215040"/>
            <a:ext cx="18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数学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i="1" lang="zh-CN" sz="1800" spc="-1" strike="noStrike">
                <a:solidFill>
                  <a:srgbClr val="ffffff"/>
                </a:solidFill>
                <a:latin typeface="宋体"/>
              </a:rPr>
              <a:t>新课标（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BS</a:t>
            </a:r>
            <a:r>
              <a:rPr b="1" i="1" lang="en-US" sz="1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1052640"/>
            <a:ext cx="878544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矩形判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一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　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三个角是直角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角线相等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正方形的性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对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四边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的四个角都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　                 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4234680" y="17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425412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/>
          <p:nvPr/>
        </p:nvSpPr>
        <p:spPr>
          <a:xfrm>
            <a:off x="3658320" y="29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/>
          <p:nvPr/>
        </p:nvSpPr>
        <p:spPr>
          <a:xfrm>
            <a:off x="36892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3689280" y="4869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455256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504d"/>
                </a:solidFill>
                <a:latin typeface="Arial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8-10T00:50:46Z</dcterms:modified>
  <cp:revision>318</cp:revision>
  <dc:subject/>
  <dc:title>幻灯片 1</dc:title>
</cp:coreProperties>
</file>