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E47-2C45-4630-A1FD-6450D4E7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4E7-E569-4547-A360-F7E6535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079-996D-48EF-987A-AD66737E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C1D-E773-44AA-82CC-00CC9C24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B72-4AC0-4374-9504-F0A1822B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D30-6E51-4455-B1A5-288F2FD4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8CF-CF0F-498B-9C8E-7F1BB00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74E-A35F-4B87-B7F4-21ADD312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D7D-F53B-4CE6-BA76-2594132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D5F-6882-40EC-B52A-87BD550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176-AC74-41A9-971B-153E0497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12D-D8E8-4A3E-9CB0-98B2163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D6E-5EDC-4EA9-B9D4-D845E496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735280" cy="2432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826920" y="112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初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班的同学们准备召开一次班会，他们想把下面的图样放大，使放大前后对应线段的比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然后制成彩纸活跃气氛，请你帮助他们找到放大图样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情境创设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4356000" y="3716280"/>
            <a:ext cx="4321440" cy="1728720"/>
          </a:xfrm>
          <a:prstGeom prst="wedgeRoundRectCallout">
            <a:avLst>
              <a:gd name="adj1" fmla="val -51175"/>
              <a:gd name="adj2" fmla="val 82324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下面我们就一起来学习一种把图形放大或缩小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1692360" y="1700280"/>
            <a:ext cx="4176720" cy="1873080"/>
          </a:xfrm>
          <a:prstGeom prst="wedgeRoundRectCallout">
            <a:avLst>
              <a:gd name="adj1" fmla="val -666"/>
              <a:gd name="adj2" fmla="val 79236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问题的关键在于要改变图形的大小，但不能改变图形的形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584680" y="3424680"/>
            <a:ext cx="809640" cy="1391400"/>
            <a:chOff x="5584680" y="3424680"/>
            <a:chExt cx="809640" cy="1391400"/>
          </a:xfrm>
        </p:grpSpPr>
        <p:sp>
          <p:nvSpPr>
            <p:cNvPr id="81" name="Line 5"/>
            <p:cNvSpPr/>
            <p:nvPr/>
          </p:nvSpPr>
          <p:spPr>
            <a:xfrm flipH="1">
              <a:off x="5584680" y="3425040"/>
              <a:ext cx="35100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5584680" y="4196520"/>
              <a:ext cx="809640" cy="6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5935320" y="3424680"/>
              <a:ext cx="458280" cy="13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9"/>
          <p:cNvSpPr/>
          <p:nvPr/>
        </p:nvSpPr>
        <p:spPr>
          <a:xfrm>
            <a:off x="250920" y="105264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已知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求作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E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使它与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位似，并且相似比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4429080" y="4438800"/>
            <a:ext cx="142920" cy="14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4429080" y="2279520"/>
            <a:ext cx="3024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429080" y="4511520"/>
            <a:ext cx="3888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 flipV="1">
            <a:off x="4429080" y="386352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H="1">
            <a:off x="6805440" y="2279520"/>
            <a:ext cx="64800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805440" y="3863880"/>
            <a:ext cx="1511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453440" y="227952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141800" y="4656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5581800" y="2927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292720" y="4222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6229440" y="4871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7524720" y="2063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6516720" y="4006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8101080" y="5159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7381800" y="227952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6805440" y="386388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8245440" y="501480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1"/>
          <p:cNvSpPr/>
          <p:nvPr/>
        </p:nvSpPr>
        <p:spPr>
          <a:xfrm>
            <a:off x="5651640" y="4149720"/>
            <a:ext cx="3097080" cy="1224000"/>
          </a:xfrm>
          <a:prstGeom prst="wedgeRoundRectCallout">
            <a:avLst>
              <a:gd name="adj1" fmla="val -43745"/>
              <a:gd name="adj2" fmla="val 8164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3"/>
          <p:cNvSpPr/>
          <p:nvPr/>
        </p:nvSpPr>
        <p:spPr>
          <a:xfrm>
            <a:off x="395280" y="2349360"/>
            <a:ext cx="3816360" cy="1871640"/>
          </a:xfrm>
          <a:prstGeom prst="wedgeRoundRectCallout">
            <a:avLst>
              <a:gd name="adj1" fmla="val -19884"/>
              <a:gd name="adj2" fmla="val 10731"/>
              <a:gd name="adj3" fmla="val 16667"/>
            </a:avLst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还可以在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另一侧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468360" y="3860640"/>
            <a:ext cx="934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 flipH="1">
            <a:off x="1402920" y="5157720"/>
            <a:ext cx="64764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539640" y="3933720"/>
            <a:ext cx="1511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8360" y="3860640"/>
            <a:ext cx="5904000" cy="936720"/>
            <a:chOff x="468360" y="3860640"/>
            <a:chExt cx="5904000" cy="936720"/>
          </a:xfrm>
        </p:grpSpPr>
        <p:sp>
          <p:nvSpPr>
            <p:cNvPr id="108" name="Line 37"/>
            <p:cNvSpPr/>
            <p:nvPr/>
          </p:nvSpPr>
          <p:spPr>
            <a:xfrm>
              <a:off x="539640" y="3933720"/>
              <a:ext cx="583272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41"/>
            <p:cNvSpPr/>
            <p:nvPr/>
          </p:nvSpPr>
          <p:spPr>
            <a:xfrm>
              <a:off x="468360" y="386064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979640" y="4217760"/>
            <a:ext cx="3598920" cy="1011600"/>
            <a:chOff x="1979640" y="4217760"/>
            <a:chExt cx="3598920" cy="1011600"/>
          </a:xfrm>
        </p:grpSpPr>
        <p:sp>
          <p:nvSpPr>
            <p:cNvPr id="111" name="Line 35"/>
            <p:cNvSpPr/>
            <p:nvPr/>
          </p:nvSpPr>
          <p:spPr>
            <a:xfrm flipV="1">
              <a:off x="2050920" y="4217760"/>
              <a:ext cx="3527640" cy="939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42"/>
            <p:cNvSpPr/>
            <p:nvPr/>
          </p:nvSpPr>
          <p:spPr>
            <a:xfrm>
              <a:off x="1979640" y="515808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03280" y="3427560"/>
            <a:ext cx="4537080" cy="3241440"/>
            <a:chOff x="1403280" y="3427560"/>
            <a:chExt cx="4537080" cy="3241440"/>
          </a:xfrm>
        </p:grpSpPr>
        <p:sp>
          <p:nvSpPr>
            <p:cNvPr id="114" name="Line 34"/>
            <p:cNvSpPr/>
            <p:nvPr/>
          </p:nvSpPr>
          <p:spPr>
            <a:xfrm flipV="1">
              <a:off x="1476360" y="3427560"/>
              <a:ext cx="4464000" cy="324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3"/>
            <p:cNvSpPr/>
            <p:nvPr/>
          </p:nvSpPr>
          <p:spPr>
            <a:xfrm>
              <a:off x="1403280" y="659736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47"/>
          <p:cNvSpPr/>
          <p:nvPr/>
        </p:nvSpPr>
        <p:spPr>
          <a:xfrm>
            <a:off x="1692360" y="6400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205092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395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3635280" y="5516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即为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080" y="-72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主探究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584680" y="3424680"/>
            <a:ext cx="809640" cy="1391400"/>
            <a:chOff x="5584680" y="3424680"/>
            <a:chExt cx="809640" cy="1391400"/>
          </a:xfrm>
        </p:grpSpPr>
        <p:sp>
          <p:nvSpPr>
            <p:cNvPr id="122" name="Line 5"/>
            <p:cNvSpPr/>
            <p:nvPr/>
          </p:nvSpPr>
          <p:spPr>
            <a:xfrm flipH="1">
              <a:off x="5584680" y="3425040"/>
              <a:ext cx="35100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5584680" y="4196520"/>
              <a:ext cx="809640" cy="6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 flipH="1" flipV="1">
              <a:off x="5935320" y="3424680"/>
              <a:ext cx="458280" cy="13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9"/>
          <p:cNvSpPr/>
          <p:nvPr/>
        </p:nvSpPr>
        <p:spPr>
          <a:xfrm>
            <a:off x="250920" y="404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说说作图的方法步骤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429080" y="4438800"/>
            <a:ext cx="142920" cy="14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4429080" y="2279520"/>
            <a:ext cx="3024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4429080" y="4511520"/>
            <a:ext cx="3888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V="1">
            <a:off x="4429080" y="386352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6805440" y="2279520"/>
            <a:ext cx="64800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6805440" y="3863880"/>
            <a:ext cx="1511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7453440" y="227952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4141800" y="4656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81800" y="2927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292720" y="4222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229440" y="4871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7524720" y="2063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6516720" y="4006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8101080" y="5159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7381800" y="227952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"/>
          <p:cNvSpPr/>
          <p:nvPr/>
        </p:nvSpPr>
        <p:spPr>
          <a:xfrm>
            <a:off x="6805440" y="386388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9"/>
          <p:cNvSpPr/>
          <p:nvPr/>
        </p:nvSpPr>
        <p:spPr>
          <a:xfrm>
            <a:off x="8245440" y="501480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/>
          <p:cNvSpPr/>
          <p:nvPr/>
        </p:nvSpPr>
        <p:spPr>
          <a:xfrm>
            <a:off x="5651640" y="4149720"/>
            <a:ext cx="3097080" cy="1224000"/>
          </a:xfrm>
          <a:prstGeom prst="wedgeRoundRectCallout">
            <a:avLst>
              <a:gd name="adj1" fmla="val -43745"/>
              <a:gd name="adj2" fmla="val 8164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468360" y="3860640"/>
            <a:ext cx="934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9"/>
          <p:cNvSpPr/>
          <p:nvPr/>
        </p:nvSpPr>
        <p:spPr>
          <a:xfrm flipH="1">
            <a:off x="1402920" y="5157720"/>
            <a:ext cx="64764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539640" y="3933720"/>
            <a:ext cx="1511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8360" y="3860640"/>
            <a:ext cx="5904000" cy="936720"/>
            <a:chOff x="468360" y="3860640"/>
            <a:chExt cx="5904000" cy="936720"/>
          </a:xfrm>
        </p:grpSpPr>
        <p:sp>
          <p:nvSpPr>
            <p:cNvPr id="148" name="Line 37"/>
            <p:cNvSpPr/>
            <p:nvPr/>
          </p:nvSpPr>
          <p:spPr>
            <a:xfrm>
              <a:off x="539640" y="3933720"/>
              <a:ext cx="583272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468360" y="386064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640" y="4217760"/>
            <a:ext cx="3598920" cy="1011600"/>
            <a:chOff x="1979640" y="4217760"/>
            <a:chExt cx="3598920" cy="1011600"/>
          </a:xfrm>
        </p:grpSpPr>
        <p:sp>
          <p:nvSpPr>
            <p:cNvPr id="151" name="Line 35"/>
            <p:cNvSpPr/>
            <p:nvPr/>
          </p:nvSpPr>
          <p:spPr>
            <a:xfrm flipV="1">
              <a:off x="2050920" y="4217760"/>
              <a:ext cx="3527640" cy="939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2"/>
            <p:cNvSpPr/>
            <p:nvPr/>
          </p:nvSpPr>
          <p:spPr>
            <a:xfrm>
              <a:off x="1979640" y="515808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03280" y="3427560"/>
            <a:ext cx="4537080" cy="3241440"/>
            <a:chOff x="1403280" y="3427560"/>
            <a:chExt cx="4537080" cy="3241440"/>
          </a:xfrm>
        </p:grpSpPr>
        <p:sp>
          <p:nvSpPr>
            <p:cNvPr id="154" name="Line 34"/>
            <p:cNvSpPr/>
            <p:nvPr/>
          </p:nvSpPr>
          <p:spPr>
            <a:xfrm flipV="1">
              <a:off x="1476360" y="3427560"/>
              <a:ext cx="4464000" cy="324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1403280" y="659736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47"/>
          <p:cNvSpPr/>
          <p:nvPr/>
        </p:nvSpPr>
        <p:spPr>
          <a:xfrm>
            <a:off x="1692360" y="6400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205092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395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9700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确定位似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画出两位似图形对应点到位似中心的相似比的线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顺次连接位似图形的各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2360" y="33264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当堂测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341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已知边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正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它的两条对角线的交点为位似中心，画一个边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与它位似的正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2781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列图形中：①放大镜下的图片；②幻灯片的底片与投影在屏幕上的图象；③天空中两朵白云的照片；④卫星上拍摄的长城照片与相机拍摄的长城照片．其中相似的组数有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105264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关于位似图形的表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似图形一定是位似图形，位似图形一定是相似图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似图形一定有位似中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两个图形是相似图形，且每组对应点的连线所在的直线都经过同一个点，那么，这两个图形是位似图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似图形上任意两点与位似中心的距离之比等于位似比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正确命题的序号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③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3933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4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玉林）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位似图形，且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位似比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已知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积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    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 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6000" y="162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0920" y="3429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初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班的同学们准备召开一次班会，他们想把下面的图样放大，使放大前后对应线段的比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然后制成彩纸活跃气氛，请你帮助他们找到放大图样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527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upload_fdf97be_128233490cf__7fff_00000663"/>
          <p:cNvPicPr/>
          <p:nvPr/>
        </p:nvPicPr>
        <p:blipFill>
          <a:blip r:embed="rId1"/>
          <a:stretch/>
        </p:blipFill>
        <p:spPr>
          <a:xfrm>
            <a:off x="5364000" y="1197000"/>
            <a:ext cx="3224520" cy="3529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68360" y="836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以下方法可以近似地                                      把一个不规则图形放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11280" y="2133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将两根等长的橡皮                          系在一起，连接处形成一个结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400536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一个图形，再选一                          个定点，将橡皮筋的一                          端固定在定点处，把铅笔固定在另一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0240" y="-72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课后练习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11280" y="765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拉动铅笔，使结点沿图形的边缘移动一周，这样铅笔就画出一个新的图形。试试看，它们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upload_fdf97be_128233490cf__7fff_00000663"/>
          <p:cNvPicPr/>
          <p:nvPr/>
        </p:nvPicPr>
        <p:blipFill>
          <a:blip r:embed="rId1"/>
          <a:stretch/>
        </p:blipFill>
        <p:spPr>
          <a:xfrm>
            <a:off x="5364000" y="1197000"/>
            <a:ext cx="3224520" cy="35290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/>
          <p:cNvSpPr/>
          <p:nvPr/>
        </p:nvSpPr>
        <p:spPr>
          <a:xfrm>
            <a:off x="1042920" y="3500280"/>
            <a:ext cx="4394160" cy="2738520"/>
          </a:xfrm>
          <a:prstGeom prst="wedgeRoundRectCallout">
            <a:avLst>
              <a:gd name="adj1" fmla="val 45592"/>
              <a:gd name="adj2" fmla="val -59217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这样所得图形与原图形的相似比是多少？要放大其他的倍数应该怎么做？如果要把图形缩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724360" y="5157720"/>
            <a:ext cx="2664000" cy="647640"/>
            <a:chOff x="5724360" y="5157720"/>
            <a:chExt cx="2664000" cy="647640"/>
          </a:xfrm>
        </p:grpSpPr>
        <p:sp>
          <p:nvSpPr>
            <p:cNvPr id="179" name="AutoShape 8"/>
            <p:cNvSpPr/>
            <p:nvPr/>
          </p:nvSpPr>
          <p:spPr>
            <a:xfrm>
              <a:off x="5724360" y="5157720"/>
              <a:ext cx="2664000" cy="647640"/>
            </a:xfrm>
            <a:custGeom>
              <a:avLst/>
              <a:gdLst>
                <a:gd name="textAreaLeft" fmla="*/ 40320 w 2664000"/>
                <a:gd name="textAreaRight" fmla="*/ 2623680 w 2664000"/>
                <a:gd name="textAreaTop" fmla="*/ 40320 h 647640"/>
                <a:gd name="textAreaBottom" fmla="*/ 607320 h 647640"/>
              </a:gdLst>
              <a:ahLst/>
              <a:rect l="textAreaLeft" t="textAreaTop" r="textAreaRight" b="textAreaBottom"/>
              <a:pathLst>
                <a:path w="88812" h="21600">
                  <a:moveTo>
                    <a:pt x="0" y="0"/>
                  </a:moveTo>
                  <a:lnTo>
                    <a:pt x="88812" y="0"/>
                  </a:lnTo>
                  <a:lnTo>
                    <a:pt x="88812" y="21600"/>
                  </a:lnTo>
                  <a:lnTo>
                    <a:pt x="0" y="21600"/>
                  </a:lnTo>
                  <a:close/>
                </a:path>
                <a:path fill="lightenLess" w="88812" h="21600">
                  <a:moveTo>
                    <a:pt x="0" y="0"/>
                  </a:moveTo>
                  <a:lnTo>
                    <a:pt x="88812" y="0"/>
                  </a:lnTo>
                  <a:lnTo>
                    <a:pt x="87462" y="1350"/>
                  </a:lnTo>
                  <a:lnTo>
                    <a:pt x="1350" y="1350"/>
                  </a:lnTo>
                  <a:close/>
                </a:path>
                <a:path fill="darken" w="88812" h="21600">
                  <a:moveTo>
                    <a:pt x="88812" y="0"/>
                  </a:moveTo>
                  <a:lnTo>
                    <a:pt x="88812" y="21600"/>
                  </a:lnTo>
                  <a:lnTo>
                    <a:pt x="87462" y="20250"/>
                  </a:lnTo>
                  <a:lnTo>
                    <a:pt x="87462" y="1350"/>
                  </a:lnTo>
                  <a:close/>
                </a:path>
                <a:path fill="darkenLess" w="88812" h="21600">
                  <a:moveTo>
                    <a:pt x="88812" y="21600"/>
                  </a:moveTo>
                  <a:lnTo>
                    <a:pt x="0" y="21600"/>
                  </a:lnTo>
                  <a:lnTo>
                    <a:pt x="1350" y="20250"/>
                  </a:lnTo>
                  <a:lnTo>
                    <a:pt x="87462" y="20250"/>
                  </a:lnTo>
                  <a:close/>
                </a:path>
                <a:path fill="lighten" w="88812" h="21600">
                  <a:moveTo>
                    <a:pt x="0" y="216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02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6084720" y="515772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演示动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852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说说画位似图形的步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97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位似图形的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844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似图形上对应点到位似中心的距离之比等于相似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386064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确定位似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画出两位似图形对应点到位似中心的相似比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顺次连接位似图形的各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920" y="620640"/>
            <a:ext cx="43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四章  图形的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63360" y="2860200"/>
            <a:ext cx="6777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第</a:t>
            </a:r>
            <a:r>
              <a:rPr b="0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8</a:t>
            </a: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节  图形的位似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445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南省大姚县实验中学      武发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72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阅读教材，结合预习，观察图形，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似图形，位似中心的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度量、比较，归纳说出“位似图形上对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位似中心的距离之比等于相似比”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自主学习会判断是否是位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精讲点拨能根据条件画位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点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度量、比较，归纳说出“位似图形上对应点到位似中心的距离之比等于相似比”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难点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条件画出位似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T154"/>
          <p:cNvPicPr/>
          <p:nvPr/>
        </p:nvPicPr>
        <p:blipFill>
          <a:blip r:embed="rId1"/>
          <a:stretch/>
        </p:blipFill>
        <p:spPr>
          <a:xfrm>
            <a:off x="1332000" y="1341360"/>
            <a:ext cx="6265800" cy="3116520"/>
          </a:xfrm>
          <a:prstGeom prst="rect">
            <a:avLst/>
          </a:prstGeom>
          <a:ln w="0">
            <a:noFill/>
          </a:ln>
        </p:spPr>
      </p:pic>
      <p:sp>
        <p:nvSpPr>
          <p:cNvPr id="53" name="Line 6"/>
          <p:cNvSpPr/>
          <p:nvPr/>
        </p:nvSpPr>
        <p:spPr>
          <a:xfrm>
            <a:off x="1692360" y="2565360"/>
            <a:ext cx="5545080" cy="5032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4360" y="4437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上五幅图片是形状相同的图形，取图中相对应的两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它们的连线经过镜头中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吗？换其他的对应点试一试，还有类似规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4572000" y="2997360"/>
            <a:ext cx="4248000" cy="1295280"/>
          </a:xfrm>
          <a:prstGeom prst="wedgeRoundRectCallout">
            <a:avLst>
              <a:gd name="adj1" fmla="val -38263"/>
              <a:gd name="adj2" fmla="val 188236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每一组对应点的连线都经过镜头中心点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59280" y="3141360"/>
            <a:ext cx="367344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59280" y="3068640"/>
            <a:ext cx="4105080" cy="122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1484280"/>
            <a:ext cx="223200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1484280"/>
            <a:ext cx="475308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5200" y="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创设情境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620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看课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页内容说说位似多边形，位似中心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30200" y="1557360"/>
            <a:ext cx="8713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如果两个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相似多边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对应点所在的直线都经过同一 个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且每组对应点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的距离之比都等于一个定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k≠0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可变形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A=KOA’)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那么这样的两个多边形叫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位似多边形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位似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1081080" cy="79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5111640" cy="202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2160" y="-72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主探究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8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7129440" cy="2818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765000"/>
            <a:ext cx="7705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量一量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=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OE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=      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O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此你得到什么结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5280" y="2637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对应点到位似中心的距离之比等于相似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7"/>
          <p:cNvSpPr/>
          <p:nvPr/>
        </p:nvSpPr>
        <p:spPr>
          <a:xfrm>
            <a:off x="179280" y="2602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请观察思考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以下每组位似图形中的位似中心在哪里？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两个位似的图形具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4637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1341360"/>
            <a:ext cx="64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对应点的连线经过位似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对应边互相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对应点到位似中心的距离之比等于相似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95280" y="3429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判断一下两组多边形是否是位似多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21_aE1IsG"/>
          <p:cNvPicPr/>
          <p:nvPr/>
        </p:nvPicPr>
        <p:blipFill>
          <a:blip r:embed="rId1"/>
          <a:stretch/>
        </p:blipFill>
        <p:spPr>
          <a:xfrm>
            <a:off x="324000" y="4005360"/>
            <a:ext cx="3384360" cy="2501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0"/>
          <p:cNvSpPr/>
          <p:nvPr/>
        </p:nvSpPr>
        <p:spPr>
          <a:xfrm rot="10800000">
            <a:off x="5219280" y="3141360"/>
            <a:ext cx="1368360" cy="576360"/>
          </a:xfrm>
          <a:prstGeom prst="rightArrow">
            <a:avLst>
              <a:gd name="adj1" fmla="val 50000"/>
              <a:gd name="adj2" fmla="val 5935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 rot="9460200">
            <a:off x="5148000" y="3860280"/>
            <a:ext cx="1944720" cy="863640"/>
          </a:xfrm>
          <a:prstGeom prst="rightArrow">
            <a:avLst>
              <a:gd name="adj1" fmla="val 50000"/>
              <a:gd name="adj2" fmla="val 5629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840" y="-72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练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358000">
            <a:off x="5579640" y="429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831000">
            <a:off x="5508360" y="4797360"/>
            <a:ext cx="2087640" cy="1657440"/>
          </a:xfrm>
          <a:custGeom>
            <a:avLst/>
            <a:gdLst>
              <a:gd name="textAreaLeft" fmla="*/ 860040 w 2087640"/>
              <a:gd name="textAreaRight" fmla="*/ 1227600 w 2087640"/>
              <a:gd name="textAreaTop" fmla="*/ 682920 h 1657440"/>
              <a:gd name="textAreaBottom" fmla="*/ 97452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765000"/>
            <a:ext cx="81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作位似形的方法，可以将一个图形放大或缩小，位似中心（   ）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只能选在原图形的外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只能选在原图形的内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只能选在原图形的边上；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可以选择任意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9:23Z</dcterms:created>
  <dc:creator>Sky123.Org</dc:creator>
  <dc:description/>
  <dc:language>en-US</dc:language>
  <cp:lastModifiedBy>Sky123.Org</cp:lastModifiedBy>
  <dcterms:modified xsi:type="dcterms:W3CDTF">2014-12-27T06:47:44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