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BB9-C50B-4247-A7AF-8B2CF083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1C4E-0A8B-4D39-AF32-2158C216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24CC-2BB1-4E91-8B56-FA9E72C4A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8A4-E0B2-4A62-A797-685A652C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0B2-D372-4FB2-AA9F-D2219344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5712-57DC-407C-A903-0F470114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DCA-3785-4DD7-A7A3-1A8C55FA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3B0-6ABA-49FD-ACCE-59F6A1FF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836-A7B4-4E6F-8344-5E3969AA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D5B-6B70-4893-9815-3901A20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1CE-2392-4B2C-B80B-2F987457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E3C9-D4F5-4966-A488-53F63FB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3ED1-5013-404A-8CEF-F61BBC46F22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透明社标.png"/>
          <p:cNvPicPr/>
          <p:nvPr/>
        </p:nvPicPr>
        <p:blipFill>
          <a:blip r:embed="rId3"/>
          <a:stretch/>
        </p:blipFill>
        <p:spPr>
          <a:xfrm>
            <a:off x="6156360" y="6093000"/>
            <a:ext cx="280836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二章  一元一次不等式与 一元一次不等式组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2.1 </a:t>
            </a: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不等关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4000" y="71280"/>
            <a:ext cx="85104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随堂练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08080" y="981000"/>
            <a:ext cx="85406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用适当的符号表示下列关系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ａ是非负数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直角三角形斜边ｃ比它的两直角边      ａ，ｂ都长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ｘ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和比它的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倍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两数的平方和不小于这两数积的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048040" y="184464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a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</a:rPr>
              <a:t>≥</a:t>
            </a:r>
            <a:r>
              <a:rPr b="1" lang="en-US" sz="2800" spc="-1" strike="noStrike">
                <a:solidFill>
                  <a:srgbClr val="ffc000"/>
                </a:solidFill>
                <a:latin typeface="隶书"/>
                <a:ea typeface="隶书"/>
              </a:rPr>
              <a:t> </a:t>
            </a: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68360" y="3213000"/>
            <a:ext cx="20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c&gt;a</a:t>
            </a:r>
            <a:r>
              <a:rPr b="1" lang="zh-CN" sz="3600" spc="-1" strike="noStrike">
                <a:solidFill>
                  <a:srgbClr val="ffc000"/>
                </a:solidFill>
                <a:latin typeface="隶书"/>
                <a:ea typeface="隶书"/>
              </a:rPr>
              <a:t>且</a:t>
            </a: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c&gt;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68360" y="414972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x+17</a:t>
            </a:r>
            <a:r>
              <a:rPr b="1" lang="zh-CN" sz="3600" spc="-1" strike="noStrike">
                <a:solidFill>
                  <a:srgbClr val="ffc000"/>
                </a:solidFill>
                <a:latin typeface="隶书"/>
                <a:ea typeface="隶书"/>
              </a:rPr>
              <a:t>＜</a:t>
            </a: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ffc000"/>
                </a:solidFill>
                <a:latin typeface="隶书"/>
                <a:ea typeface="隶书"/>
              </a:rPr>
              <a:t>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2050920" y="5229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x</a:t>
            </a:r>
            <a:r>
              <a:rPr b="1" lang="en-US" sz="3600" spc="-1" strike="noStrike" baseline="30000">
                <a:solidFill>
                  <a:srgbClr val="ffc000"/>
                </a:solidFill>
                <a:latin typeface="隶书"/>
                <a:ea typeface="隶书"/>
              </a:rPr>
              <a:t>2</a:t>
            </a: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+y</a:t>
            </a:r>
            <a:r>
              <a:rPr b="1" lang="en-US" sz="3600" spc="-1" strike="noStrike" baseline="30000">
                <a:solidFill>
                  <a:srgbClr val="ffc000"/>
                </a:solidFill>
                <a:latin typeface="隶书"/>
                <a:ea typeface="隶书"/>
              </a:rPr>
              <a:t>2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≥ </a:t>
            </a:r>
            <a:r>
              <a:rPr b="1" lang="en-US" sz="3600" spc="-1" strike="noStrike">
                <a:solidFill>
                  <a:srgbClr val="ffc000"/>
                </a:solidFill>
                <a:latin typeface="隶书"/>
                <a:ea typeface="隶书"/>
              </a:rPr>
              <a:t>2x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250920" y="1182600"/>
            <a:ext cx="8642160" cy="4178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表达式①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≥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；②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a+4b≠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；③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5m+2n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；④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+y&lt;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；⑤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x+2=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中的不等式有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填序号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班班长拿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5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钱去给班内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名优秀学生买奖品，奖品有两种：钢笔和笔记本。已知钢笔每支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，笔记本每本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，如果买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支钢笔，则列出关于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不等式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某厂今年的产值为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万元，预计明后两年平均每年增长率为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%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如果按此速度发展，后年该厂产值将超过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万元，请用不等式表示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与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关系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500800" y="9856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① ② 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571760" y="3357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ffc000"/>
                </a:solidFill>
                <a:latin typeface="宋体"/>
                <a:ea typeface="Microsoft JhengHei"/>
              </a:rPr>
              <a:t>x+3</a:t>
            </a:r>
            <a:r>
              <a:rPr b="1" lang="zh-CN" sz="3200" spc="-1" strike="noStrike">
                <a:solidFill>
                  <a:srgbClr val="ffc000"/>
                </a:solidFill>
                <a:latin typeface="宋体"/>
                <a:ea typeface="Microsoft JhengHei"/>
              </a:rPr>
              <a:t>（</a:t>
            </a:r>
            <a:r>
              <a:rPr b="1" lang="en-US" sz="3200" spc="-1" strike="noStrike">
                <a:solidFill>
                  <a:srgbClr val="ffc000"/>
                </a:solidFill>
                <a:latin typeface="宋体"/>
                <a:ea typeface="Microsoft JhengHei"/>
              </a:rPr>
              <a:t>20-x</a:t>
            </a:r>
            <a:r>
              <a:rPr b="1" lang="zh-CN" sz="3200" spc="-1" strike="noStrike">
                <a:solidFill>
                  <a:srgbClr val="ffc000"/>
                </a:solidFill>
                <a:latin typeface="宋体"/>
                <a:ea typeface="Microsoft JhengHei"/>
              </a:rPr>
              <a:t>）≤</a:t>
            </a:r>
            <a:r>
              <a:rPr b="1" lang="en-US" sz="3200" spc="-1" strike="noStrike">
                <a:solidFill>
                  <a:srgbClr val="ffc000"/>
                </a:solidFill>
                <a:latin typeface="宋体"/>
                <a:ea typeface="Microsoft JhengHei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2000160" y="5343480"/>
            <a:ext cx="30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宋体"/>
              </a:rPr>
              <a:t>100(1+x</a:t>
            </a:r>
            <a:r>
              <a:rPr b="1" lang="zh-CN" sz="3200" spc="-1" strike="noStrike">
                <a:solidFill>
                  <a:srgbClr val="ffc000"/>
                </a:solidFill>
                <a:latin typeface="宋体"/>
              </a:rPr>
              <a:t>％</a:t>
            </a:r>
            <a:r>
              <a:rPr b="1" lang="en-US" sz="3200" spc="-1" strike="noStrike">
                <a:solidFill>
                  <a:srgbClr val="ffc000"/>
                </a:solidFill>
                <a:latin typeface="宋体"/>
              </a:rPr>
              <a:t>)</a:t>
            </a:r>
            <a:r>
              <a:rPr b="1" lang="en-US" sz="3200" spc="-1" strike="noStrike" baseline="30000">
                <a:solidFill>
                  <a:srgbClr val="ffc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c000"/>
                </a:solidFill>
                <a:latin typeface="宋体"/>
              </a:rPr>
              <a:t>＞</a:t>
            </a:r>
            <a:r>
              <a:rPr b="1" lang="en-US" sz="3200" spc="-1" strike="noStrike">
                <a:solidFill>
                  <a:srgbClr val="ffc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301680" y="2286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000"/>
                </a:solidFill>
                <a:latin typeface="Times New Roman"/>
                <a:ea typeface="华文行楷"/>
              </a:rPr>
              <a:t>小　　结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24000" y="1413000"/>
            <a:ext cx="85690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通过本节课的学习，你学到了哪些数学知识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表示不等关系的符号（不等号）都有哪几种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什么叫做不等式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能从现实生活中举出几个表示不等关系的不等式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133720" y="609480"/>
            <a:ext cx="46479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课 外 作 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4920" y="243828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课本第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页习题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注意按照“作业要求”完成作业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57200" y="99072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还记得小孩玩的翘翘板吗？你想过它的工作原理吗？其实，翘翘板就是靠不断改变两端的重量对比来工作的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Image13349"/>
          <p:cNvPicPr/>
          <p:nvPr/>
        </p:nvPicPr>
        <p:blipFill>
          <a:blip r:embed="rId1"/>
          <a:stretch/>
        </p:blipFill>
        <p:spPr>
          <a:xfrm>
            <a:off x="179280" y="2786040"/>
            <a:ext cx="4038840" cy="2911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228600" y="152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看一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Image13350"/>
          <p:cNvPicPr/>
          <p:nvPr/>
        </p:nvPicPr>
        <p:blipFill>
          <a:blip r:embed="rId2"/>
          <a:stretch/>
        </p:blipFill>
        <p:spPr>
          <a:xfrm>
            <a:off x="4427640" y="2571840"/>
            <a:ext cx="4537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24000" y="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古代，我们的祖先就懂得了翘翘板的工作原理，根据这一原理设计出了一些简单机械，并把它们用到了生活实践当中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Image13351"/>
          <p:cNvPicPr/>
          <p:nvPr/>
        </p:nvPicPr>
        <p:blipFill>
          <a:blip r:embed="rId1"/>
          <a:stretch/>
        </p:blipFill>
        <p:spPr>
          <a:xfrm>
            <a:off x="1116000" y="1628640"/>
            <a:ext cx="7010280" cy="29433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47862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由此可见，“不相等”处处可见。从今天起，我们开始学习一类新的数学知识：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不等式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250920" y="289080"/>
            <a:ext cx="864216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温故知新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们学过等式，请问什么是等式？</a:t>
            </a:r>
            <a:r>
              <a:rPr b="1" lang="en-US" sz="3200" spc="-1" strike="noStrike">
                <a:solidFill>
                  <a:srgbClr val="7030a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468360" y="16398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表示相等关系的式子叫等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68360" y="249228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我们知道相等关系的量可以利用等式来描述；同时，现实生活中还存在许多反映不等关系的量。比如，研究表明同学们每天睡觉的时间要不少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时；体育考试中合格的分数要不低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分。请同学们也举一些不等关系的例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0920" y="142920"/>
            <a:ext cx="8424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做一做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某厂今年的产值是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，预计明年年产值增长率高于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%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如果明年的产值是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元，那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满足的关系式是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新宋体"/>
                <a:ea typeface="新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如果某等腰三角形的底边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cm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表示，这边上的高为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4 cm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如果这个三角形的面积不大于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cm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²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那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应该满足的关系式为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（注意：不大于的含义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铁路部门对旅客随身携带的行李有如下规定：每件行李的长、宽、高三边之和不得超过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60cm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设行李的长、宽、高分别为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acm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bcm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ccm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，请你列出行李的长、宽、高满足的关系式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547640" y="185724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(b-a)/a</a:t>
            </a:r>
            <a:r>
              <a:rPr b="1" lang="zh-CN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＞</a:t>
            </a:r>
            <a:r>
              <a:rPr b="1" lang="en-US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20</a:t>
            </a:r>
            <a:r>
              <a:rPr b="1" lang="zh-CN" sz="3200" spc="-1" strike="noStrike">
                <a:solidFill>
                  <a:srgbClr val="ffff00"/>
                </a:solidFill>
                <a:latin typeface="新宋体"/>
                <a:ea typeface="新宋体"/>
              </a:rPr>
              <a:t>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780000" y="32860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1/2 ×4 ×a ≤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435640" y="53578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宋体"/>
              </a:rPr>
              <a:t>a+b+c ≤1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新宋体"/>
              </a:rPr>
              <a:t>问题探讨</a:t>
            </a:r>
            <a:r>
              <a:rPr b="1" lang="zh-CN" sz="3000" spc="-1" strike="noStrike">
                <a:solidFill>
                  <a:srgbClr val="ffff00"/>
                </a:solidFill>
                <a:latin typeface="Times New Roman"/>
                <a:ea typeface="新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校准备在学校饭厅新添一个通风口，四周用长为</a:t>
            </a:r>
            <a:r>
              <a:rPr b="1" i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装潢条镶嵌（不计接缝）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年级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班数学研究性学习小组设计两种方案，如下图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340000" y="2216160"/>
            <a:ext cx="1046160" cy="104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6300720" y="2000160"/>
            <a:ext cx="1295640" cy="1295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380880" y="30718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新宋体"/>
                <a:ea typeface="新宋体"/>
              </a:rPr>
              <a:t>问  题</a:t>
            </a:r>
            <a:r>
              <a:rPr b="1" lang="zh-CN" sz="3000" spc="-1" strike="noStrike">
                <a:solidFill>
                  <a:srgbClr val="ff0000"/>
                </a:solidFill>
                <a:latin typeface="新宋体"/>
                <a:ea typeface="新宋体"/>
              </a:rPr>
              <a:t>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684360" y="22161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案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284720" y="22161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案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19280" y="3859200"/>
          <a:ext cx="6037200" cy="1935000"/>
        </p:xfrm>
        <a:graphic>
          <a:graphicData uri="http://schemas.openxmlformats.org/drawingml/2006/table">
            <a:tbl>
              <a:tblPr/>
              <a:tblGrid>
                <a:gridCol w="3247920"/>
                <a:gridCol w="27892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通风口规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满足的关系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正方形面积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不大于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m</a:t>
                      </a:r>
                      <a:r>
                        <a:rPr b="1" lang="en-US" sz="24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圆的面积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不小于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.5m</a:t>
                      </a:r>
                      <a:r>
                        <a:rPr b="1" lang="en-US" sz="24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55"/>
          <p:cNvSpPr/>
          <p:nvPr/>
        </p:nvSpPr>
        <p:spPr>
          <a:xfrm>
            <a:off x="5334120" y="494496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6"/>
          <p:cNvSpPr/>
          <p:nvPr/>
        </p:nvSpPr>
        <p:spPr>
          <a:xfrm>
            <a:off x="5612400" y="464328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4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&l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60"/>
          <p:cNvSpPr/>
          <p:nvPr/>
        </p:nvSpPr>
        <p:spPr>
          <a:xfrm>
            <a:off x="5618520" y="528624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24000" y="189000"/>
            <a:ext cx="86104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问题探讨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新宋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抗击“非典”时期，某中学准备在学校饭厅新添一个通风口，四周用长为</a:t>
            </a:r>
            <a:r>
              <a:rPr b="1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m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的装潢条镶嵌（不计接缝）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级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班数学研究性学习小组设计两种方案，如下图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16360" y="2143080"/>
            <a:ext cx="1046160" cy="1046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443640" y="1785960"/>
            <a:ext cx="129528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900000" y="2143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案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356000" y="2143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方案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09840" y="2786040"/>
            <a:ext cx="106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Times New Roman"/>
              </a:rPr>
              <a:t>探  究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92360" y="3429000"/>
          <a:ext cx="7238880" cy="2530440"/>
        </p:xfrm>
        <a:graphic>
          <a:graphicData uri="http://schemas.openxmlformats.org/drawingml/2006/table">
            <a:tbl>
              <a:tblPr/>
              <a:tblGrid>
                <a:gridCol w="969840"/>
                <a:gridCol w="2081160"/>
                <a:gridCol w="2130480"/>
                <a:gridCol w="20574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正方形的面积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m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圆的面积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m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r>
                        <a:rPr b="1" lang="zh-CN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正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与</a:t>
                      </a:r>
                      <a:r>
                        <a:rPr b="1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</a:t>
                      </a:r>
                      <a:r>
                        <a:rPr b="1" lang="zh-CN" sz="20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圆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的关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88"/>
          <p:cNvSpPr/>
          <p:nvPr/>
        </p:nvSpPr>
        <p:spPr>
          <a:xfrm>
            <a:off x="3046680" y="42148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16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89"/>
          <p:cNvSpPr/>
          <p:nvPr/>
        </p:nvSpPr>
        <p:spPr>
          <a:xfrm>
            <a:off x="5097960" y="42148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=5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90"/>
          <p:cNvSpPr/>
          <p:nvPr/>
        </p:nvSpPr>
        <p:spPr>
          <a:xfrm>
            <a:off x="7266240" y="4214880"/>
            <a:ext cx="112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2977920" y="485784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16=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93"/>
          <p:cNvSpPr/>
          <p:nvPr/>
        </p:nvSpPr>
        <p:spPr>
          <a:xfrm>
            <a:off x="4951440" y="485784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 = 11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94"/>
          <p:cNvSpPr/>
          <p:nvPr/>
        </p:nvSpPr>
        <p:spPr>
          <a:xfrm>
            <a:off x="18129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96"/>
          <p:cNvSpPr/>
          <p:nvPr/>
        </p:nvSpPr>
        <p:spPr>
          <a:xfrm>
            <a:off x="7305840" y="4857840"/>
            <a:ext cx="112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97"/>
          <p:cNvSpPr/>
          <p:nvPr/>
        </p:nvSpPr>
        <p:spPr>
          <a:xfrm>
            <a:off x="7266240" y="5429160"/>
            <a:ext cx="1125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2400" spc="-1" strike="noStrike" baseline="-25000">
                <a:solidFill>
                  <a:srgbClr val="ffffff"/>
                </a:solidFill>
                <a:latin typeface="Times New Roman"/>
              </a:rPr>
              <a:t>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98"/>
          <p:cNvSpPr/>
          <p:nvPr/>
        </p:nvSpPr>
        <p:spPr>
          <a:xfrm>
            <a:off x="3124080" y="5429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99"/>
          <p:cNvSpPr/>
          <p:nvPr/>
        </p:nvSpPr>
        <p:spPr>
          <a:xfrm>
            <a:off x="5339520" y="5500800"/>
            <a:ext cx="9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 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做一做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24000" y="785880"/>
            <a:ext cx="84582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通过测量一棵树的树围（树干的周长）可以计算出它的树龄，通常规定以树干离地面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5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地方作为测量部位。某树栽种时的树围为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c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以后树围每年增加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cm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这棵树至少生长多少年其树围才能超过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.4m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3643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解：设这棵树生长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其树围才能超过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4m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， 根据题意得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59280" y="507204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＋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x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＞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324000" y="620640"/>
            <a:ext cx="86104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 Black"/>
                <a:ea typeface="华文行楷"/>
              </a:rPr>
              <a:t>议一议：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观察由上述问题得到的关系式，比如：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16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≤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4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＞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.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4π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＞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16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x+5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＞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40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， 它们的共同特点：都是用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不等号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连接的式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9640" y="40719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一般地，用符号“＜”（或“≤”）、“＞”（或“≥”）、“≠”连接的式子叫做不等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08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20:01:58Z</dcterms:created>
  <dc:creator>Administrator</dc:creator>
  <dc:description/>
  <cp:keywords/>
  <dc:language>en-US</dc:language>
  <cp:lastModifiedBy>User</cp:lastModifiedBy>
  <cp:lastPrinted>1899-12-30T00:00:00Z</cp:lastPrinted>
  <dcterms:modified xsi:type="dcterms:W3CDTF">2014-02-20T09:51:09Z</dcterms:modified>
  <cp:revision>42</cp:revision>
  <dc:subject/>
  <dc:title>第二章  一元一次不等式与 一元一次不等式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