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8.png" ContentType="image/png"/>
  <Override PartName="/ppt/media/image1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6215-BD8A-4050-BBF6-24F33254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15800" y="387648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682-5CA3-4D82-BD77-24D56B80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048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8C3B-8A2A-4A00-885A-804490CD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7216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32852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1580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7216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32852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4F9-26EA-4124-8507-0D7EB5D7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E93B-03AC-4950-97A7-4DB8DC76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5EBC-26D8-4BDB-855F-1F1247FD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A2DF-91BE-4B2C-84FA-6C9A0E1C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8ECF-6A46-4BCD-858A-230D647C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272C-1A62-440D-8314-5566CE3D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16160" y="1052280"/>
            <a:ext cx="6913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DACC-8E99-409B-BB32-88E42426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A128-0149-4244-BA43-4EEBD035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AEC7-0262-4CEE-9E98-49DC0F03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048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F512-B469-43D5-ABD9-8554A130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C552-BE32-42E3-878E-C39668E6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15800" y="387648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8CFD-2AC2-42CC-A334-33F6F624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048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0E0A-AD35-4668-85E1-44D81180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7216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32852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1580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77216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32852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CDC1-4D60-4843-A7CF-61AA6586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D0A7A-8E3B-4C52-B815-ECC2FC98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1C515-D898-4AC8-96AB-6DA870E8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24690-1590-4D3D-AA3B-88439DA2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D25DC-3D28-4513-970C-EB4FC169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0D9C6-ADC3-4016-A9DF-ABA46E32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916-004A-4AEF-982E-97357131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16160" y="1052280"/>
            <a:ext cx="6913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B44DE-C921-4B92-9064-195E3DA1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53F1D-543D-4972-9FEE-050EDCBB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048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951C7-50E1-441D-947D-3049F2A8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47D2E-F044-452C-AAC7-CB4CCC2A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15800" y="387648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61B4B-39DE-4A9D-BD7F-2A874F80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09048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5F853-5E89-4745-8A6D-0690EAED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7216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32852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1580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77216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32852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2146B-E412-425F-9C35-F742A617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4636D-C15B-4FE6-88B3-DB9D54CD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EF004-3B28-4934-928E-1BC2D194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7210F-0302-499D-AA73-3C6F403C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BF18-D3FB-44F5-A9E0-37603F84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B73A1-0F6E-4490-8643-FFF6F438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5ACB9-7F95-4AE6-A933-D7F1A63D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216160" y="1052280"/>
            <a:ext cx="6913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402D5-898E-4E4D-A1B0-2C4D2325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BE315-71A1-4CC9-873D-C7F894F9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048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5354D-5999-40AA-AAEC-7F5298B4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EF929-E319-424B-B2A9-CA5B40F6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15800" y="387648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2EDF5-3FCC-407D-87F1-B5216CC4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09048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7015F-C831-42E0-8B2C-ADB452BE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7216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32852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1580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77216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732852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57234-4EF9-460B-8172-0841AFC5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1215B-E724-43B6-A2A7-98987FAD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D4BE-BE7F-44F7-8D5A-FF0F4652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93DB2-A581-4D25-8DF9-82BB7FC4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82439-73AC-4F77-A7AE-091017C6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2AC54-3531-4BC5-AB44-9A08D8D3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089EA-AFB9-4560-843D-AB4F2D03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216160" y="1052280"/>
            <a:ext cx="6913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D4038-8008-461F-812C-54A1A92F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EA206-CC25-4D65-BC38-6D3C9BC2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048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3A650-A0DA-4F3B-840F-7D038802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6F667-5879-4C0D-8ABC-474E5743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15800" y="387648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E71B0-D406-4AEE-A499-6608455B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048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17604-2CFE-4CA7-8279-87172CCB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16160" y="1052280"/>
            <a:ext cx="6913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7C1-3F20-4C47-97E9-B7D08CCF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7216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32852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21580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77216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732852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133CD-8BA5-4DEA-A6BB-39EDCC00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6C5A3-DF55-4FA5-A7F7-D1DC6662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4BFF6-7FC8-4AA9-BFAC-DE2E2550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2DE9E-1834-48CE-84DC-A502C14D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F9555-2DB6-48BC-B86F-A98BE5FB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C29C1-5058-41E2-95EE-E066686C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216160" y="1052280"/>
            <a:ext cx="6913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8668A-DFC6-482C-8E42-989943DF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C0752-DCF7-45F3-8214-35C27BBE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9048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2386C-76C2-42FD-B0AD-6FA820DD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5FC7B-A722-49FA-830E-FDA8BD58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411-663F-457D-80B5-97D99D1D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215800" y="387648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442B4-217F-4218-8BD6-B769F38A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09048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96C73-8EB1-4616-B765-D3A3D01C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7216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328520" y="184464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21580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77216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7328520" y="3876480"/>
            <a:ext cx="243432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D9E42-0D7B-4C58-92C4-92AF37AB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0480" y="387648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05B-D0A6-49A5-97B2-53FCD67E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16160" y="993960"/>
            <a:ext cx="691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1580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0480" y="1844640"/>
            <a:ext cx="36896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15800" y="3876480"/>
            <a:ext cx="756108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FAA-C9D7-4922-8F3C-735F757B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16160" y="1052280"/>
            <a:ext cx="6913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160" y="652428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6524280"/>
            <a:ext cx="31370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73600" y="652428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1237-0ACE-4EA4-A63D-59BFC176AF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2"/>
          <a:stretch/>
        </p:blipFill>
        <p:spPr>
          <a:xfrm>
            <a:off x="6969240" y="6093000"/>
            <a:ext cx="280800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6880" y="1905120"/>
            <a:ext cx="9252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26880" y="6244920"/>
            <a:ext cx="247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99200" y="6244920"/>
            <a:ext cx="247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902E-604F-45E5-BDBE-8B99F631B1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6" descr="透明社标.png"/>
          <p:cNvPicPr/>
          <p:nvPr/>
        </p:nvPicPr>
        <p:blipFill>
          <a:blip r:embed="rId2"/>
          <a:stretch/>
        </p:blipFill>
        <p:spPr>
          <a:xfrm>
            <a:off x="6969240" y="6093000"/>
            <a:ext cx="280800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6880" y="68544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30120" y="1980720"/>
            <a:ext cx="925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326880" y="6019560"/>
            <a:ext cx="247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384360" y="601956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99200" y="6019560"/>
            <a:ext cx="247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B876-9EA1-446B-AD51-DEB6E6840E2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6" descr="透明社标.png"/>
          <p:cNvPicPr/>
          <p:nvPr/>
        </p:nvPicPr>
        <p:blipFill>
          <a:blip r:embed="rId2"/>
          <a:stretch/>
        </p:blipFill>
        <p:spPr>
          <a:xfrm>
            <a:off x="6969240" y="6093000"/>
            <a:ext cx="280800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6" descr="透明社标.png"/>
          <p:cNvPicPr/>
          <p:nvPr/>
        </p:nvPicPr>
        <p:blipFill>
          <a:blip r:embed="rId2"/>
          <a:stretch/>
        </p:blipFill>
        <p:spPr>
          <a:xfrm>
            <a:off x="6969240" y="6093000"/>
            <a:ext cx="2808000" cy="595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16160" y="1052280"/>
            <a:ext cx="6913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215800" y="184464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44520" y="6237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657240" y="6237000"/>
            <a:ext cx="2303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7257600" y="623700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7CC0-1A03-4B8F-8433-AA18C6F4AF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6" descr="透明社标.png"/>
          <p:cNvPicPr/>
          <p:nvPr/>
        </p:nvPicPr>
        <p:blipFill>
          <a:blip r:embed="rId2"/>
          <a:stretch/>
        </p:blipFill>
        <p:spPr>
          <a:xfrm>
            <a:off x="6969240" y="6093000"/>
            <a:ext cx="2808000" cy="5950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26880" y="1905120"/>
            <a:ext cx="9252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326880" y="6244920"/>
            <a:ext cx="247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7099200" y="6244920"/>
            <a:ext cx="247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29A4-9B04-47D6-98BE-321443AC344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6" descr="透明社标.png"/>
          <p:cNvPicPr/>
          <p:nvPr/>
        </p:nvPicPr>
        <p:blipFill>
          <a:blip r:embed="rId2"/>
          <a:stretch/>
        </p:blipFill>
        <p:spPr>
          <a:xfrm>
            <a:off x="6969240" y="6093000"/>
            <a:ext cx="2808000" cy="595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6880" y="68544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30120" y="1980720"/>
            <a:ext cx="925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26880" y="6076440"/>
            <a:ext cx="247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384360" y="607644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7099200" y="6076440"/>
            <a:ext cx="247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D78C-1599-40CF-832E-88E5752D8B00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920880" y="692280"/>
            <a:ext cx="8001000" cy="23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二章  一元一次不等式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        </a:t>
            </a: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一元一次不等式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.6 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一元一次不等式组</a:t>
            </a: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二</a:t>
            </a: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5"/>
          <p:cNvSpPr/>
          <p:nvPr/>
        </p:nvSpPr>
        <p:spPr>
          <a:xfrm>
            <a:off x="2073240" y="1338120"/>
            <a:ext cx="2303640" cy="1079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3741120" y="2781360"/>
            <a:ext cx="388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通过本节课的学习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你有什么收获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AutoShape 4"/>
          <p:cNvSpPr/>
          <p:nvPr/>
        </p:nvSpPr>
        <p:spPr>
          <a:xfrm>
            <a:off x="2360520" y="981000"/>
            <a:ext cx="6480360" cy="4176720"/>
          </a:xfrm>
          <a:custGeom>
            <a:avLst/>
            <a:gdLst>
              <a:gd name="textAreaLeft" fmla="*/ 1620000 w 6480360"/>
              <a:gd name="textAreaRight" fmla="*/ 4860360 w 6480360"/>
              <a:gd name="textAreaTop" fmla="*/ 1044000 h 4176720"/>
              <a:gd name="textAreaBottom" fmla="*/ 405324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5229360" y="1268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3492360" y="3651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4447800" y="2997360"/>
            <a:ext cx="234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习题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隶书"/>
              </a:rPr>
              <a:t>2.9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4"/>
          <p:cNvSpPr txBox="1"/>
          <p:nvPr/>
        </p:nvSpPr>
        <p:spPr>
          <a:xfrm>
            <a:off x="3513240" y="2060640"/>
            <a:ext cx="42908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63000"/>
                  </a:srgbClr>
                </a:solidFill>
                <a:latin typeface="宋体"/>
              </a:rPr>
              <a:t>再见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63000"/>
                </a:srgbClr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6"/>
          <p:cNvSpPr/>
          <p:nvPr/>
        </p:nvSpPr>
        <p:spPr>
          <a:xfrm>
            <a:off x="8439120" y="4591080"/>
            <a:ext cx="66204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4089240" y="3573360"/>
            <a:ext cx="374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6272280" y="5484960"/>
            <a:ext cx="199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3"/>
          <p:cNvGrpSpPr/>
          <p:nvPr/>
        </p:nvGrpSpPr>
        <p:grpSpPr>
          <a:xfrm>
            <a:off x="200160" y="0"/>
            <a:ext cx="9430920" cy="1712160"/>
            <a:chOff x="200160" y="0"/>
            <a:chExt cx="9430920" cy="1712160"/>
          </a:xfrm>
        </p:grpSpPr>
        <p:grpSp>
          <p:nvGrpSpPr>
            <p:cNvPr id="257" name="Group 14"/>
            <p:cNvGrpSpPr/>
            <p:nvPr/>
          </p:nvGrpSpPr>
          <p:grpSpPr>
            <a:xfrm>
              <a:off x="200160" y="163440"/>
              <a:ext cx="2104560" cy="647640"/>
              <a:chOff x="200160" y="163440"/>
              <a:chExt cx="2104560" cy="647640"/>
            </a:xfrm>
          </p:grpSpPr>
          <p:sp>
            <p:nvSpPr>
              <p:cNvPr id="258" name="Oval 15"/>
              <p:cNvSpPr/>
              <p:nvPr/>
            </p:nvSpPr>
            <p:spPr>
              <a:xfrm>
                <a:off x="200160" y="163440"/>
                <a:ext cx="2104560" cy="64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16"/>
              <p:cNvSpPr/>
              <p:nvPr/>
            </p:nvSpPr>
            <p:spPr>
              <a:xfrm>
                <a:off x="524880" y="231480"/>
                <a:ext cx="140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动脑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Text Box 17">
              <a:hlinkClick r:id="rId1" action="ppaction://hlinksldjump"/>
            </p:cNvPr>
            <p:cNvSpPr/>
            <p:nvPr/>
          </p:nvSpPr>
          <p:spPr>
            <a:xfrm>
              <a:off x="425520" y="765000"/>
              <a:ext cx="9205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问题：现有两根木条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a</a:t>
              </a: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和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b</a:t>
              </a: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a</a:t>
              </a: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长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7cm</a:t>
              </a: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b</a:t>
              </a: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长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3cm</a:t>
              </a: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，如果再找一根木条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c</a:t>
              </a: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，用这三根木条钉成一个三角形木框，那么对木条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c</a:t>
              </a: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的长度有什么要求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Picture 18" descr="WW_019"/>
            <p:cNvPicPr/>
            <p:nvPr/>
          </p:nvPicPr>
          <p:blipFill>
            <a:blip r:embed="rId2"/>
            <a:stretch/>
          </p:blipFill>
          <p:spPr>
            <a:xfrm>
              <a:off x="6301800" y="0"/>
              <a:ext cx="189828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19"/>
            <p:cNvSpPr/>
            <p:nvPr/>
          </p:nvSpPr>
          <p:spPr>
            <a:xfrm>
              <a:off x="8301960" y="162000"/>
              <a:ext cx="1084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0"/>
          <p:cNvSpPr/>
          <p:nvPr/>
        </p:nvSpPr>
        <p:spPr>
          <a:xfrm>
            <a:off x="5713560" y="2266920"/>
            <a:ext cx="147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5305320" y="2579760"/>
            <a:ext cx="24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4722840" y="2266920"/>
            <a:ext cx="37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2"/>
          <p:cNvGrpSpPr/>
          <p:nvPr/>
        </p:nvGrpSpPr>
        <p:grpSpPr>
          <a:xfrm>
            <a:off x="849240" y="2133720"/>
            <a:ext cx="7724880" cy="3616200"/>
            <a:chOff x="849240" y="2133720"/>
            <a:chExt cx="7724880" cy="3616200"/>
          </a:xfrm>
        </p:grpSpPr>
        <p:sp>
          <p:nvSpPr>
            <p:cNvPr id="267" name="Text Box 2"/>
            <p:cNvSpPr/>
            <p:nvPr/>
          </p:nvSpPr>
          <p:spPr>
            <a:xfrm>
              <a:off x="849240" y="2276640"/>
              <a:ext cx="458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解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:</a:t>
              </a: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由题中的条件可得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3"/>
            <p:cNvSpPr/>
            <p:nvPr/>
          </p:nvSpPr>
          <p:spPr>
            <a:xfrm>
              <a:off x="1065240" y="3500280"/>
              <a:ext cx="257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解不等式组得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5"/>
            <p:cNvSpPr/>
            <p:nvPr/>
          </p:nvSpPr>
          <p:spPr>
            <a:xfrm>
              <a:off x="1136520" y="4437000"/>
              <a:ext cx="538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若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c</a:t>
              </a: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的长为整数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,c</a:t>
              </a: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可能的取值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2"/>
            <p:cNvSpPr/>
            <p:nvPr/>
          </p:nvSpPr>
          <p:spPr>
            <a:xfrm>
              <a:off x="1352520" y="5229360"/>
              <a:ext cx="722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5cm</a:t>
              </a: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6cm</a:t>
              </a: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7cm</a:t>
              </a: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8cm</a:t>
              </a: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9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Object 26"/>
                <p:cNvSpPr txBox="1"/>
                <p:nvPr/>
              </p:nvSpPr>
              <p:spPr>
                <a:xfrm>
                  <a:off x="4881600" y="2384280"/>
                  <a:ext cx="482400" cy="70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Text Box 28"/>
            <p:cNvSpPr/>
            <p:nvPr/>
          </p:nvSpPr>
          <p:spPr>
            <a:xfrm>
              <a:off x="5240160" y="2133720"/>
              <a:ext cx="187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C</a:t>
              </a:r>
              <a:r>
                <a:rPr b="0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&lt;7+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9"/>
            <p:cNvSpPr/>
            <p:nvPr/>
          </p:nvSpPr>
          <p:spPr>
            <a:xfrm>
              <a:off x="5240160" y="2492280"/>
              <a:ext cx="187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C</a:t>
              </a:r>
              <a:r>
                <a:rPr b="0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&gt;7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31"/>
            <p:cNvSpPr/>
            <p:nvPr/>
          </p:nvSpPr>
          <p:spPr>
            <a:xfrm>
              <a:off x="4016520" y="3573360"/>
              <a:ext cx="23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4&lt;</a:t>
              </a:r>
              <a:r>
                <a:rPr b="0" i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C</a:t>
              </a:r>
              <a:r>
                <a:rPr b="0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&lt;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78"/>
          <p:cNvGrpSpPr/>
          <p:nvPr/>
        </p:nvGrpSpPr>
        <p:grpSpPr>
          <a:xfrm>
            <a:off x="-519120" y="1916280"/>
            <a:ext cx="9217080" cy="4698720"/>
            <a:chOff x="-519120" y="1916280"/>
            <a:chExt cx="9217080" cy="4698720"/>
          </a:xfrm>
        </p:grpSpPr>
        <p:grpSp>
          <p:nvGrpSpPr>
            <p:cNvPr id="276" name="Group 77"/>
            <p:cNvGrpSpPr/>
            <p:nvPr/>
          </p:nvGrpSpPr>
          <p:grpSpPr>
            <a:xfrm>
              <a:off x="-519120" y="1916280"/>
              <a:ext cx="9217080" cy="4698720"/>
              <a:chOff x="-519120" y="1916280"/>
              <a:chExt cx="9217080" cy="4698720"/>
            </a:xfrm>
          </p:grpSpPr>
          <p:grpSp>
            <p:nvGrpSpPr>
              <p:cNvPr id="277" name="Group 76"/>
              <p:cNvGrpSpPr/>
              <p:nvPr/>
            </p:nvGrpSpPr>
            <p:grpSpPr>
              <a:xfrm>
                <a:off x="-519120" y="1916280"/>
                <a:ext cx="9217080" cy="4698720"/>
                <a:chOff x="-519120" y="1916280"/>
                <a:chExt cx="9217080" cy="4698720"/>
              </a:xfrm>
            </p:grpSpPr>
            <p:pic>
              <p:nvPicPr>
                <p:cNvPr id="278" name="Picture 1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15800" y="4724280"/>
                  <a:ext cx="8282160" cy="9082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79" name="Group 63"/>
                <p:cNvGrpSpPr/>
                <p:nvPr/>
              </p:nvGrpSpPr>
              <p:grpSpPr>
                <a:xfrm>
                  <a:off x="560160" y="4581360"/>
                  <a:ext cx="5256360" cy="431640"/>
                  <a:chOff x="560160" y="4581360"/>
                  <a:chExt cx="5256360" cy="431640"/>
                </a:xfrm>
              </p:grpSpPr>
              <p:sp>
                <p:nvSpPr>
                  <p:cNvPr id="280" name="Line 32"/>
                  <p:cNvSpPr/>
                  <p:nvPr/>
                </p:nvSpPr>
                <p:spPr>
                  <a:xfrm flipH="1">
                    <a:off x="5673240" y="4870080"/>
                    <a:ext cx="142920" cy="142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33"/>
                  <p:cNvSpPr/>
                  <p:nvPr/>
                </p:nvSpPr>
                <p:spPr>
                  <a:xfrm flipH="1">
                    <a:off x="5529240" y="4725720"/>
                    <a:ext cx="287280" cy="2872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34"/>
                  <p:cNvSpPr/>
                  <p:nvPr/>
                </p:nvSpPr>
                <p:spPr>
                  <a:xfrm flipH="1">
                    <a:off x="5384520" y="4581360"/>
                    <a:ext cx="431640" cy="43164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3" name="Group 43"/>
                  <p:cNvGrpSpPr/>
                  <p:nvPr/>
                </p:nvGrpSpPr>
                <p:grpSpPr>
                  <a:xfrm>
                    <a:off x="1712880" y="4581360"/>
                    <a:ext cx="2089080" cy="431640"/>
                    <a:chOff x="1712880" y="4581360"/>
                    <a:chExt cx="2089080" cy="431640"/>
                  </a:xfrm>
                </p:grpSpPr>
                <p:sp>
                  <p:nvSpPr>
                    <p:cNvPr id="284" name="Line 35"/>
                    <p:cNvSpPr/>
                    <p:nvPr/>
                  </p:nvSpPr>
                  <p:spPr>
                    <a:xfrm flipH="1">
                      <a:off x="3368520" y="4581360"/>
                      <a:ext cx="43344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36"/>
                    <p:cNvSpPr/>
                    <p:nvPr/>
                  </p:nvSpPr>
                  <p:spPr>
                    <a:xfrm flipH="1">
                      <a:off x="1712880" y="4581360"/>
                      <a:ext cx="43344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37"/>
                    <p:cNvSpPr/>
                    <p:nvPr/>
                  </p:nvSpPr>
                  <p:spPr>
                    <a:xfrm flipH="1">
                      <a:off x="2936880" y="4581360"/>
                      <a:ext cx="43344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38"/>
                    <p:cNvSpPr/>
                    <p:nvPr/>
                  </p:nvSpPr>
                  <p:spPr>
                    <a:xfrm flipH="1">
                      <a:off x="2720880" y="4581360"/>
                      <a:ext cx="43344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39"/>
                    <p:cNvSpPr/>
                    <p:nvPr/>
                  </p:nvSpPr>
                  <p:spPr>
                    <a:xfrm flipH="1">
                      <a:off x="2504880" y="4581360"/>
                      <a:ext cx="43308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40"/>
                    <p:cNvSpPr/>
                    <p:nvPr/>
                  </p:nvSpPr>
                  <p:spPr>
                    <a:xfrm flipH="1">
                      <a:off x="2217600" y="4581360"/>
                      <a:ext cx="43344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Line 41"/>
                    <p:cNvSpPr/>
                    <p:nvPr/>
                  </p:nvSpPr>
                  <p:spPr>
                    <a:xfrm flipH="1">
                      <a:off x="1928880" y="4581360"/>
                      <a:ext cx="43344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Line 42"/>
                    <p:cNvSpPr/>
                    <p:nvPr/>
                  </p:nvSpPr>
                  <p:spPr>
                    <a:xfrm flipH="1">
                      <a:off x="3152880" y="4581360"/>
                      <a:ext cx="43344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44"/>
                  <p:cNvGrpSpPr/>
                  <p:nvPr/>
                </p:nvGrpSpPr>
                <p:grpSpPr>
                  <a:xfrm>
                    <a:off x="3584520" y="4581360"/>
                    <a:ext cx="2089080" cy="431640"/>
                    <a:chOff x="3584520" y="4581360"/>
                    <a:chExt cx="2089080" cy="431640"/>
                  </a:xfrm>
                </p:grpSpPr>
                <p:sp>
                  <p:nvSpPr>
                    <p:cNvPr id="293" name="Line 45"/>
                    <p:cNvSpPr/>
                    <p:nvPr/>
                  </p:nvSpPr>
                  <p:spPr>
                    <a:xfrm flipH="1">
                      <a:off x="5240160" y="4581360"/>
                      <a:ext cx="43344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46"/>
                    <p:cNvSpPr/>
                    <p:nvPr/>
                  </p:nvSpPr>
                  <p:spPr>
                    <a:xfrm flipH="1">
                      <a:off x="3584520" y="4581360"/>
                      <a:ext cx="43344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47"/>
                    <p:cNvSpPr/>
                    <p:nvPr/>
                  </p:nvSpPr>
                  <p:spPr>
                    <a:xfrm flipH="1">
                      <a:off x="4808520" y="4581360"/>
                      <a:ext cx="43344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Line 48"/>
                    <p:cNvSpPr/>
                    <p:nvPr/>
                  </p:nvSpPr>
                  <p:spPr>
                    <a:xfrm flipH="1">
                      <a:off x="4592520" y="4581360"/>
                      <a:ext cx="43344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Line 49"/>
                    <p:cNvSpPr/>
                    <p:nvPr/>
                  </p:nvSpPr>
                  <p:spPr>
                    <a:xfrm flipH="1">
                      <a:off x="4376520" y="4581360"/>
                      <a:ext cx="43308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Line 50"/>
                    <p:cNvSpPr/>
                    <p:nvPr/>
                  </p:nvSpPr>
                  <p:spPr>
                    <a:xfrm flipH="1">
                      <a:off x="4089240" y="4581360"/>
                      <a:ext cx="43344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Line 51"/>
                    <p:cNvSpPr/>
                    <p:nvPr/>
                  </p:nvSpPr>
                  <p:spPr>
                    <a:xfrm flipH="1">
                      <a:off x="3800520" y="4581360"/>
                      <a:ext cx="43344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Line 52"/>
                    <p:cNvSpPr/>
                    <p:nvPr/>
                  </p:nvSpPr>
                  <p:spPr>
                    <a:xfrm flipH="1">
                      <a:off x="5024520" y="4581360"/>
                      <a:ext cx="43344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62"/>
                  <p:cNvGrpSpPr/>
                  <p:nvPr/>
                </p:nvGrpSpPr>
                <p:grpSpPr>
                  <a:xfrm>
                    <a:off x="560160" y="4581360"/>
                    <a:ext cx="1296360" cy="431640"/>
                    <a:chOff x="560160" y="4581360"/>
                    <a:chExt cx="1296360" cy="431640"/>
                  </a:xfrm>
                </p:grpSpPr>
                <p:sp>
                  <p:nvSpPr>
                    <p:cNvPr id="302" name="Line 54"/>
                    <p:cNvSpPr/>
                    <p:nvPr/>
                  </p:nvSpPr>
                  <p:spPr>
                    <a:xfrm flipH="1">
                      <a:off x="1423440" y="4581360"/>
                      <a:ext cx="43308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56"/>
                    <p:cNvSpPr/>
                    <p:nvPr/>
                  </p:nvSpPr>
                  <p:spPr>
                    <a:xfrm flipH="1">
                      <a:off x="991440" y="4581360"/>
                      <a:ext cx="43308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57"/>
                    <p:cNvSpPr/>
                    <p:nvPr/>
                  </p:nvSpPr>
                  <p:spPr>
                    <a:xfrm flipH="1">
                      <a:off x="775800" y="4581360"/>
                      <a:ext cx="43308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58"/>
                    <p:cNvSpPr/>
                    <p:nvPr/>
                  </p:nvSpPr>
                  <p:spPr>
                    <a:xfrm flipH="1">
                      <a:off x="560160" y="4581360"/>
                      <a:ext cx="43308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61"/>
                    <p:cNvSpPr/>
                    <p:nvPr/>
                  </p:nvSpPr>
                  <p:spPr>
                    <a:xfrm flipH="1">
                      <a:off x="1207440" y="4581360"/>
                      <a:ext cx="433080" cy="4316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07" name="Rectangle 68"/>
                <p:cNvSpPr/>
                <p:nvPr/>
              </p:nvSpPr>
              <p:spPr>
                <a:xfrm>
                  <a:off x="200160" y="2349360"/>
                  <a:ext cx="4876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00"/>
                      </a:solidFill>
                      <a:latin typeface="黑体"/>
                      <a:ea typeface="黑体"/>
                    </a:rPr>
                    <a:t>解</a:t>
                  </a:r>
                  <a:r>
                    <a:rPr b="0" lang="en-US" sz="2400" spc="-1" strike="noStrike">
                      <a:solidFill>
                        <a:srgbClr val="ffff00"/>
                      </a:solidFill>
                      <a:latin typeface="黑体"/>
                      <a:ea typeface="黑体"/>
                    </a:rPr>
                    <a:t>:</a:t>
                  </a:r>
                  <a:r>
                    <a:rPr b="0" lang="zh-CN" sz="2400" spc="-1" strike="noStrike">
                      <a:solidFill>
                        <a:srgbClr val="ffff00"/>
                      </a:solidFill>
                      <a:latin typeface="黑体"/>
                      <a:ea typeface="黑体"/>
                    </a:rPr>
                    <a:t>解不等式① </a:t>
                  </a:r>
                  <a:r>
                    <a:rPr b="0" lang="en-US" sz="2400" spc="-1" strike="noStrike">
                      <a:solidFill>
                        <a:srgbClr val="ffff00"/>
                      </a:solidFill>
                      <a:latin typeface="黑体"/>
                      <a:ea typeface="黑体"/>
                    </a:rPr>
                    <a:t>.</a:t>
                  </a:r>
                  <a:r>
                    <a:rPr b="0" lang="zh-CN" sz="2400" spc="-1" strike="noStrike">
                      <a:solidFill>
                        <a:srgbClr val="ffff00"/>
                      </a:solidFill>
                      <a:latin typeface="黑体"/>
                      <a:ea typeface="黑体"/>
                    </a:rPr>
                    <a:t>得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Rectangle 69"/>
                <p:cNvSpPr/>
                <p:nvPr/>
              </p:nvSpPr>
              <p:spPr>
                <a:xfrm>
                  <a:off x="-519120" y="3213000"/>
                  <a:ext cx="48769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00"/>
                      </a:solidFill>
                      <a:latin typeface="黑体"/>
                      <a:ea typeface="黑体"/>
                    </a:rPr>
                    <a:t>       </a:t>
                  </a:r>
                  <a:r>
                    <a:rPr b="0" lang="zh-CN" sz="2400" spc="-1" strike="noStrike">
                      <a:solidFill>
                        <a:srgbClr val="ffff00"/>
                      </a:solidFill>
                      <a:latin typeface="黑体"/>
                      <a:ea typeface="黑体"/>
                    </a:rPr>
                    <a:t>解不等式② </a:t>
                  </a:r>
                  <a:r>
                    <a:rPr b="0" lang="en-US" sz="2400" spc="-1" strike="noStrike">
                      <a:solidFill>
                        <a:srgbClr val="ffff00"/>
                      </a:solidFill>
                      <a:latin typeface="黑体"/>
                      <a:ea typeface="黑体"/>
                    </a:rPr>
                    <a:t>.</a:t>
                  </a:r>
                  <a:r>
                    <a:rPr b="0" lang="zh-CN" sz="2400" spc="-1" strike="noStrike">
                      <a:solidFill>
                        <a:srgbClr val="ffff00"/>
                      </a:solidFill>
                      <a:latin typeface="黑体"/>
                      <a:ea typeface="黑体"/>
                    </a:rPr>
                    <a:t>得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00"/>
                      </a:solidFill>
                      <a:latin typeface="黑体"/>
                      <a:ea typeface="黑体"/>
                    </a:rPr>
                    <a:t>                         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09" name="Object 71"/>
                    <p:cNvSpPr txBox="1"/>
                    <p:nvPr/>
                  </p:nvSpPr>
                  <p:spPr>
                    <a:xfrm>
                      <a:off x="3081240" y="1916280"/>
                      <a:ext cx="852480" cy="880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10" name="Object 72"/>
                    <p:cNvSpPr txBox="1"/>
                    <p:nvPr/>
                  </p:nvSpPr>
                  <p:spPr>
                    <a:xfrm>
                      <a:off x="3008160" y="2852640"/>
                      <a:ext cx="852480" cy="881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11" name="Rectangle 73"/>
                <p:cNvSpPr/>
                <p:nvPr/>
              </p:nvSpPr>
              <p:spPr>
                <a:xfrm>
                  <a:off x="560520" y="3860640"/>
                  <a:ext cx="61722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00"/>
                      </a:solidFill>
                      <a:latin typeface="黑体"/>
                      <a:ea typeface="黑体"/>
                    </a:rPr>
                    <a:t>在同一条数轴上表示不等式① ②的解集</a:t>
                  </a:r>
                  <a:r>
                    <a:rPr b="0" lang="en-US" sz="2400" spc="-1" strike="noStrike">
                      <a:solidFill>
                        <a:srgbClr val="ffff00"/>
                      </a:solidFill>
                      <a:latin typeface="黑体"/>
                      <a:ea typeface="黑体"/>
                    </a:rPr>
                    <a:t>,</a:t>
                  </a:r>
                  <a:r>
                    <a:rPr b="0" lang="zh-CN" sz="2400" spc="-1" strike="noStrike">
                      <a:solidFill>
                        <a:srgbClr val="ffff00"/>
                      </a:solidFill>
                      <a:latin typeface="黑体"/>
                      <a:ea typeface="黑体"/>
                    </a:rPr>
                    <a:t>如图</a:t>
                  </a:r>
                  <a:r>
                    <a:rPr b="0" lang="en-US" sz="2400" spc="-1" strike="noStrike">
                      <a:solidFill>
                        <a:srgbClr val="ffff00"/>
                      </a:solidFill>
                      <a:latin typeface="黑体"/>
                      <a:ea typeface="黑体"/>
                    </a:rPr>
                    <a:t>: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74"/>
                <p:cNvSpPr/>
                <p:nvPr/>
              </p:nvSpPr>
              <p:spPr>
                <a:xfrm>
                  <a:off x="776160" y="5805360"/>
                  <a:ext cx="579132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00"/>
                      </a:solidFill>
                      <a:latin typeface="黑体"/>
                      <a:ea typeface="黑体"/>
                    </a:rPr>
                    <a:t>因此</a:t>
                  </a:r>
                  <a:r>
                    <a:rPr b="0" lang="en-US" sz="2400" spc="-1" strike="noStrike">
                      <a:solidFill>
                        <a:srgbClr val="ffff00"/>
                      </a:solidFill>
                      <a:latin typeface="黑体"/>
                      <a:ea typeface="黑体"/>
                    </a:rPr>
                    <a:t>,</a:t>
                  </a:r>
                  <a:r>
                    <a:rPr b="0" lang="zh-CN" sz="2400" spc="-1" strike="noStrike">
                      <a:solidFill>
                        <a:srgbClr val="ffff00"/>
                      </a:solidFill>
                      <a:latin typeface="黑体"/>
                      <a:ea typeface="黑体"/>
                    </a:rPr>
                    <a:t>原不等式组的解集为</a:t>
                  </a:r>
                  <a:r>
                    <a:rPr b="0" lang="en-US" sz="2400" spc="-1" strike="noStrike">
                      <a:solidFill>
                        <a:srgbClr val="ffff00"/>
                      </a:solidFill>
                      <a:latin typeface="黑体"/>
                      <a:ea typeface="黑体"/>
                    </a:rPr>
                    <a:t>: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13" name="Object 75"/>
                    <p:cNvSpPr txBox="1"/>
                    <p:nvPr/>
                  </p:nvSpPr>
                  <p:spPr>
                    <a:xfrm>
                      <a:off x="4665600" y="5734080"/>
                      <a:ext cx="852480" cy="880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</p:grpSp>
          <p:graphicFrame>
            <p:nvGraphicFramePr>
              <p:cNvPr id="314" name="Object 19"/>
              <p:cNvGraphicFramePr/>
              <p:nvPr/>
            </p:nvGraphicFramePr>
            <p:xfrm>
              <a:off x="5673600" y="5084640"/>
              <a:ext cx="250920" cy="6480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15" name="Object 19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673600" y="5084640"/>
                        <a:ext cx="25092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Object 25"/>
              <p:cNvGraphicFramePr/>
              <p:nvPr/>
            </p:nvGraphicFramePr>
            <p:xfrm>
              <a:off x="5889600" y="5157720"/>
              <a:ext cx="222120" cy="5763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317" name="Object 2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5889600" y="5157720"/>
                        <a:ext cx="222120" cy="57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318" name="Group 28"/>
              <p:cNvGrpSpPr/>
              <p:nvPr/>
            </p:nvGrpSpPr>
            <p:grpSpPr>
              <a:xfrm>
                <a:off x="810720" y="4581000"/>
                <a:ext cx="5040720" cy="431640"/>
                <a:chOff x="810720" y="4581000"/>
                <a:chExt cx="5040720" cy="431640"/>
              </a:xfrm>
            </p:grpSpPr>
            <p:sp>
              <p:nvSpPr>
                <p:cNvPr id="319" name="Line 26"/>
                <p:cNvSpPr/>
                <p:nvPr/>
              </p:nvSpPr>
              <p:spPr>
                <a:xfrm flipV="1">
                  <a:off x="5851440" y="4581000"/>
                  <a:ext cx="0" cy="43164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7"/>
                <p:cNvSpPr/>
                <p:nvPr/>
              </p:nvSpPr>
              <p:spPr>
                <a:xfrm flipH="1">
                  <a:off x="810720" y="4581360"/>
                  <a:ext cx="504036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29"/>
              <p:cNvGrpSpPr/>
              <p:nvPr/>
            </p:nvGrpSpPr>
            <p:grpSpPr>
              <a:xfrm>
                <a:off x="955440" y="4437000"/>
                <a:ext cx="5040720" cy="576000"/>
                <a:chOff x="955440" y="4437000"/>
                <a:chExt cx="5040720" cy="576000"/>
              </a:xfrm>
            </p:grpSpPr>
            <p:sp>
              <p:nvSpPr>
                <p:cNvPr id="322" name="Line 30"/>
                <p:cNvSpPr/>
                <p:nvPr/>
              </p:nvSpPr>
              <p:spPr>
                <a:xfrm flipV="1">
                  <a:off x="5996160" y="4437000"/>
                  <a:ext cx="0" cy="57600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31"/>
                <p:cNvSpPr/>
                <p:nvPr/>
              </p:nvSpPr>
              <p:spPr>
                <a:xfrm flipH="1">
                  <a:off x="955440" y="4437000"/>
                  <a:ext cx="5040360" cy="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Oval 20"/>
            <p:cNvSpPr/>
            <p:nvPr/>
          </p:nvSpPr>
          <p:spPr>
            <a:xfrm>
              <a:off x="5745240" y="5013360"/>
              <a:ext cx="71280" cy="71280"/>
            </a:xfrm>
            <a:prstGeom prst="ellipse">
              <a:avLst/>
            </a:prstGeom>
            <a:solidFill>
              <a:srgbClr val="ebf7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24"/>
            <p:cNvSpPr/>
            <p:nvPr/>
          </p:nvSpPr>
          <p:spPr>
            <a:xfrm>
              <a:off x="5889600" y="5013360"/>
              <a:ext cx="71640" cy="71280"/>
            </a:xfrm>
            <a:prstGeom prst="ellipse">
              <a:avLst/>
            </a:prstGeom>
            <a:solidFill>
              <a:srgbClr val="ebf7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ctangle 65"/>
          <p:cNvSpPr/>
          <p:nvPr/>
        </p:nvSpPr>
        <p:spPr>
          <a:xfrm>
            <a:off x="488880" y="260280"/>
            <a:ext cx="4800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解不等式组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3x-2&lt; x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X+5&gt;4x+1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7"/>
          <p:cNvSpPr/>
          <p:nvPr/>
        </p:nvSpPr>
        <p:spPr>
          <a:xfrm>
            <a:off x="272880" y="765000"/>
            <a:ext cx="304920" cy="1067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51"/>
          <p:cNvSpPr/>
          <p:nvPr/>
        </p:nvSpPr>
        <p:spPr>
          <a:xfrm>
            <a:off x="488880" y="260280"/>
            <a:ext cx="4800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解不等式组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5x-2&lt; 3(x+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X-1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≥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7-  x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52"/>
          <p:cNvSpPr/>
          <p:nvPr/>
        </p:nvSpPr>
        <p:spPr>
          <a:xfrm>
            <a:off x="272880" y="765000"/>
            <a:ext cx="304920" cy="1067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53"/>
              <p:cNvSpPr txBox="1"/>
              <p:nvPr/>
            </p:nvSpPr>
            <p:spPr>
              <a:xfrm>
                <a:off x="560520" y="1125360"/>
                <a:ext cx="347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54"/>
              <p:cNvSpPr txBox="1"/>
              <p:nvPr/>
            </p:nvSpPr>
            <p:spPr>
              <a:xfrm>
                <a:off x="2000160" y="1197000"/>
                <a:ext cx="3477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32" name="Group 67"/>
          <p:cNvGrpSpPr/>
          <p:nvPr/>
        </p:nvGrpSpPr>
        <p:grpSpPr>
          <a:xfrm>
            <a:off x="-519120" y="1916280"/>
            <a:ext cx="8296200" cy="4574880"/>
            <a:chOff x="-519120" y="1916280"/>
            <a:chExt cx="8296200" cy="4574880"/>
          </a:xfrm>
        </p:grpSpPr>
        <p:sp>
          <p:nvSpPr>
            <p:cNvPr id="333" name="Rectangle 34"/>
            <p:cNvSpPr/>
            <p:nvPr/>
          </p:nvSpPr>
          <p:spPr>
            <a:xfrm>
              <a:off x="200160" y="2349360"/>
              <a:ext cx="487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解</a:t>
              </a:r>
              <a:r>
                <a:rPr b="0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:</a:t>
              </a: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解不等式① </a:t>
              </a:r>
              <a:r>
                <a:rPr b="0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.</a:t>
              </a: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35"/>
            <p:cNvSpPr/>
            <p:nvPr/>
          </p:nvSpPr>
          <p:spPr>
            <a:xfrm>
              <a:off x="-519120" y="3213000"/>
              <a:ext cx="487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     </a:t>
              </a: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解不等式② </a:t>
              </a:r>
              <a:r>
                <a:rPr b="0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.</a:t>
              </a: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Object 36"/>
                <p:cNvSpPr txBox="1"/>
                <p:nvPr/>
              </p:nvSpPr>
              <p:spPr>
                <a:xfrm>
                  <a:off x="3081240" y="1916280"/>
                  <a:ext cx="852480" cy="88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Object 37"/>
                <p:cNvSpPr txBox="1"/>
                <p:nvPr/>
              </p:nvSpPr>
              <p:spPr>
                <a:xfrm>
                  <a:off x="3008160" y="3068640"/>
                  <a:ext cx="7956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7" name="Rectangle 38"/>
            <p:cNvSpPr/>
            <p:nvPr/>
          </p:nvSpPr>
          <p:spPr>
            <a:xfrm>
              <a:off x="531720" y="3860640"/>
              <a:ext cx="61722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在同一条数轴上表示不等式① ②的解集</a:t>
              </a:r>
              <a:r>
                <a:rPr b="0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如图</a:t>
              </a:r>
              <a:r>
                <a:rPr b="0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9"/>
            <p:cNvSpPr/>
            <p:nvPr/>
          </p:nvSpPr>
          <p:spPr>
            <a:xfrm>
              <a:off x="719280" y="5805360"/>
              <a:ext cx="5790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因此</a:t>
              </a:r>
              <a:r>
                <a:rPr b="0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原不等式组的解集为</a:t>
              </a:r>
              <a:r>
                <a:rPr b="0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Object 40"/>
                <p:cNvSpPr txBox="1"/>
                <p:nvPr/>
              </p:nvSpPr>
              <p:spPr>
                <a:xfrm>
                  <a:off x="4637160" y="5950080"/>
                  <a:ext cx="795240" cy="39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40" name="Group 66"/>
            <p:cNvGrpSpPr/>
            <p:nvPr/>
          </p:nvGrpSpPr>
          <p:grpSpPr>
            <a:xfrm>
              <a:off x="1440000" y="4570560"/>
              <a:ext cx="6337080" cy="1150560"/>
              <a:chOff x="1440000" y="4570560"/>
              <a:chExt cx="6337080" cy="1150560"/>
            </a:xfrm>
          </p:grpSpPr>
          <p:grpSp>
            <p:nvGrpSpPr>
              <p:cNvPr id="341" name="Group 55"/>
              <p:cNvGrpSpPr/>
              <p:nvPr/>
            </p:nvGrpSpPr>
            <p:grpSpPr>
              <a:xfrm>
                <a:off x="1440000" y="4570560"/>
                <a:ext cx="6337080" cy="1150560"/>
                <a:chOff x="1440000" y="4570560"/>
                <a:chExt cx="6337080" cy="1150560"/>
              </a:xfrm>
            </p:grpSpPr>
            <p:pic>
              <p:nvPicPr>
                <p:cNvPr id="342" name="Picture 5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440000" y="4857840"/>
                  <a:ext cx="6337080" cy="86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3" name="Oval 57"/>
                <p:cNvSpPr/>
                <p:nvPr/>
              </p:nvSpPr>
              <p:spPr>
                <a:xfrm>
                  <a:off x="4822920" y="5073480"/>
                  <a:ext cx="73080" cy="727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4" name="Group 58"/>
                <p:cNvGrpSpPr/>
                <p:nvPr/>
              </p:nvGrpSpPr>
              <p:grpSpPr>
                <a:xfrm>
                  <a:off x="3816360" y="4785840"/>
                  <a:ext cx="3743280" cy="286920"/>
                  <a:chOff x="3816360" y="4785840"/>
                  <a:chExt cx="3743280" cy="286920"/>
                </a:xfrm>
              </p:grpSpPr>
              <p:sp>
                <p:nvSpPr>
                  <p:cNvPr id="345" name="Line 59"/>
                  <p:cNvSpPr/>
                  <p:nvPr/>
                </p:nvSpPr>
                <p:spPr>
                  <a:xfrm flipV="1">
                    <a:off x="3816360" y="4785840"/>
                    <a:ext cx="0" cy="286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Line 60"/>
                  <p:cNvSpPr/>
                  <p:nvPr/>
                </p:nvSpPr>
                <p:spPr>
                  <a:xfrm>
                    <a:off x="3816360" y="4786200"/>
                    <a:ext cx="3743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Group 61"/>
                <p:cNvGrpSpPr/>
                <p:nvPr/>
              </p:nvGrpSpPr>
              <p:grpSpPr>
                <a:xfrm>
                  <a:off x="4824360" y="4570560"/>
                  <a:ext cx="2664000" cy="502560"/>
                  <a:chOff x="4824360" y="4570560"/>
                  <a:chExt cx="2664000" cy="502560"/>
                </a:xfrm>
              </p:grpSpPr>
              <p:sp>
                <p:nvSpPr>
                  <p:cNvPr id="348" name="Line 62"/>
                  <p:cNvSpPr/>
                  <p:nvPr/>
                </p:nvSpPr>
                <p:spPr>
                  <a:xfrm flipV="1">
                    <a:off x="4824360" y="4570560"/>
                    <a:ext cx="0" cy="502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63"/>
                  <p:cNvSpPr/>
                  <p:nvPr/>
                </p:nvSpPr>
                <p:spPr>
                  <a:xfrm>
                    <a:off x="4824360" y="4570560"/>
                    <a:ext cx="2664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0" name="Rectangle 64"/>
              <p:cNvSpPr/>
              <p:nvPr/>
            </p:nvSpPr>
            <p:spPr>
              <a:xfrm>
                <a:off x="4822920" y="4786200"/>
                <a:ext cx="2663640" cy="360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65"/>
              <p:cNvSpPr/>
              <p:nvPr/>
            </p:nvSpPr>
            <p:spPr>
              <a:xfrm>
                <a:off x="3813120" y="5075280"/>
                <a:ext cx="73080" cy="72720"/>
              </a:xfrm>
              <a:prstGeom prst="ellipse">
                <a:avLst/>
              </a:prstGeom>
              <a:solidFill>
                <a:srgbClr val="ebf7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3"/>
          <p:cNvSpPr/>
          <p:nvPr/>
        </p:nvSpPr>
        <p:spPr>
          <a:xfrm>
            <a:off x="1236600" y="157968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704880" y="306864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解不等式① 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0" y="388476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解不等式② 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3657600" y="2852640"/>
                <a:ext cx="795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0"/>
              <p:cNvSpPr txBox="1"/>
              <p:nvPr/>
            </p:nvSpPr>
            <p:spPr>
              <a:xfrm>
                <a:off x="3513240" y="3763800"/>
                <a:ext cx="795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Rectangle 11"/>
          <p:cNvSpPr/>
          <p:nvPr/>
        </p:nvSpPr>
        <p:spPr>
          <a:xfrm>
            <a:off x="1050840" y="450864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在同一条数轴上表示不等式① ②的解集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如图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1208160" y="5950080"/>
            <a:ext cx="5790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它们的解集没有公共部分，因此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原不等式组无解。</a:t>
            </a:r>
            <a:r>
              <a:rPr b="0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6" descr=""/>
          <p:cNvPicPr/>
          <p:nvPr/>
        </p:nvPicPr>
        <p:blipFill>
          <a:blip r:embed="rId1"/>
          <a:srcRect l="10473" t="0" r="72494" b="91347"/>
          <a:stretch/>
        </p:blipFill>
        <p:spPr>
          <a:xfrm>
            <a:off x="992160" y="260280"/>
            <a:ext cx="1800360" cy="6336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27"/>
          <p:cNvSpPr/>
          <p:nvPr/>
        </p:nvSpPr>
        <p:spPr>
          <a:xfrm>
            <a:off x="3616200" y="404640"/>
            <a:ext cx="51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是否存在实数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，使得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x+3&lt;5,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且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x-2&gt;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8"/>
          <p:cNvSpPr/>
          <p:nvPr/>
        </p:nvSpPr>
        <p:spPr>
          <a:xfrm>
            <a:off x="1525680" y="11476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解不等式组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X+3&lt; 5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X-2&gt;4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9" descr=""/>
          <p:cNvPicPr/>
          <p:nvPr/>
        </p:nvPicPr>
        <p:blipFill>
          <a:blip r:embed="rId2"/>
          <a:srcRect l="20529" t="72757" r="11839" b="16538"/>
          <a:stretch/>
        </p:blipFill>
        <p:spPr>
          <a:xfrm>
            <a:off x="1712880" y="5157720"/>
            <a:ext cx="532944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7"/>
          <p:cNvSpPr/>
          <p:nvPr/>
        </p:nvSpPr>
        <p:spPr>
          <a:xfrm>
            <a:off x="488880" y="2375280"/>
            <a:ext cx="869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我们从每个不等式的解集，到这个不等式组的解集，认真观察，互相交流，找出规律</a:t>
            </a:r>
            <a:r>
              <a:rPr b="0" lang="en-US" sz="3200" spc="-1" strike="noStrike">
                <a:solidFill>
                  <a:srgbClr val="ffff00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2"/>
          <p:cNvSpPr/>
          <p:nvPr/>
        </p:nvSpPr>
        <p:spPr>
          <a:xfrm>
            <a:off x="1634040" y="1197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分小组讨论解的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6" descr=""/>
          <p:cNvPicPr/>
          <p:nvPr/>
        </p:nvPicPr>
        <p:blipFill>
          <a:blip r:embed="rId1"/>
          <a:srcRect l="11584" t="0" r="16180" b="91519"/>
          <a:stretch/>
        </p:blipFill>
        <p:spPr>
          <a:xfrm>
            <a:off x="488880" y="0"/>
            <a:ext cx="7632720" cy="620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"/>
          <p:cNvPicPr/>
          <p:nvPr/>
        </p:nvPicPr>
        <p:blipFill>
          <a:blip r:embed="rId2"/>
          <a:srcRect l="11584" t="9460" r="38673" b="71836"/>
          <a:stretch/>
        </p:blipFill>
        <p:spPr>
          <a:xfrm>
            <a:off x="488880" y="692280"/>
            <a:ext cx="5256360" cy="1368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"/>
          <p:cNvPicPr/>
          <p:nvPr/>
        </p:nvPicPr>
        <p:blipFill>
          <a:blip r:embed="rId3"/>
          <a:srcRect l="11584" t="30147" r="38673" b="52153"/>
          <a:stretch/>
        </p:blipFill>
        <p:spPr>
          <a:xfrm>
            <a:off x="488880" y="2205000"/>
            <a:ext cx="5256360" cy="1295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9" descr=""/>
          <p:cNvPicPr/>
          <p:nvPr/>
        </p:nvPicPr>
        <p:blipFill>
          <a:blip r:embed="rId4"/>
          <a:srcRect l="11584" t="51804" r="39348" b="32446"/>
          <a:stretch/>
        </p:blipFill>
        <p:spPr>
          <a:xfrm>
            <a:off x="488880" y="3789360"/>
            <a:ext cx="5184720" cy="115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"/>
          <p:cNvPicPr/>
          <p:nvPr/>
        </p:nvPicPr>
        <p:blipFill>
          <a:blip r:embed="rId5"/>
          <a:srcRect l="11584" t="70512" r="39348" b="13388"/>
          <a:stretch/>
        </p:blipFill>
        <p:spPr>
          <a:xfrm>
            <a:off x="488880" y="5157720"/>
            <a:ext cx="5184720" cy="1177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2" descr=""/>
          <p:cNvPicPr/>
          <p:nvPr/>
        </p:nvPicPr>
        <p:blipFill>
          <a:blip r:embed="rId6"/>
          <a:srcRect l="64997" t="13585" r="10473" b="78540"/>
          <a:stretch/>
        </p:blipFill>
        <p:spPr>
          <a:xfrm>
            <a:off x="6105600" y="981000"/>
            <a:ext cx="2592360" cy="576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"/>
          <p:cNvPicPr/>
          <p:nvPr/>
        </p:nvPicPr>
        <p:blipFill>
          <a:blip r:embed="rId7"/>
          <a:srcRect l="64997" t="37220" r="10473" b="55904"/>
          <a:stretch/>
        </p:blipFill>
        <p:spPr>
          <a:xfrm>
            <a:off x="5961240" y="2637000"/>
            <a:ext cx="2592360" cy="502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"/>
          <p:cNvPicPr/>
          <p:nvPr/>
        </p:nvPicPr>
        <p:blipFill>
          <a:blip r:embed="rId8"/>
          <a:srcRect l="64997" t="56903" r="10473" b="30295"/>
          <a:stretch/>
        </p:blipFill>
        <p:spPr>
          <a:xfrm>
            <a:off x="5961240" y="3933720"/>
            <a:ext cx="2592360" cy="936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5" descr=""/>
          <p:cNvPicPr/>
          <p:nvPr/>
        </p:nvPicPr>
        <p:blipFill>
          <a:blip r:embed="rId9"/>
          <a:srcRect l="64997" t="73638" r="10473" b="13585"/>
          <a:stretch/>
        </p:blipFill>
        <p:spPr>
          <a:xfrm>
            <a:off x="5961240" y="5229360"/>
            <a:ext cx="25923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3" descr=""/>
          <p:cNvPicPr/>
          <p:nvPr/>
        </p:nvPicPr>
        <p:blipFill>
          <a:blip r:embed="rId1"/>
          <a:srcRect l="11163" t="-192" r="67038" b="89369"/>
          <a:stretch/>
        </p:blipFill>
        <p:spPr>
          <a:xfrm>
            <a:off x="992160" y="765000"/>
            <a:ext cx="2303640" cy="792360"/>
          </a:xfrm>
          <a:prstGeom prst="rect">
            <a:avLst/>
          </a:prstGeom>
          <a:ln w="0">
            <a:noFill/>
          </a:ln>
        </p:spPr>
      </p:pic>
      <p:grpSp>
        <p:nvGrpSpPr>
          <p:cNvPr id="375" name="Group 15"/>
          <p:cNvGrpSpPr/>
          <p:nvPr/>
        </p:nvGrpSpPr>
        <p:grpSpPr>
          <a:xfrm>
            <a:off x="1987560" y="2637000"/>
            <a:ext cx="2676600" cy="1385640"/>
            <a:chOff x="1987560" y="2637000"/>
            <a:chExt cx="2676600" cy="1385640"/>
          </a:xfrm>
        </p:grpSpPr>
        <p:pic>
          <p:nvPicPr>
            <p:cNvPr id="376" name="Picture 13" descr=""/>
            <p:cNvPicPr/>
            <p:nvPr/>
          </p:nvPicPr>
          <p:blipFill>
            <a:blip r:embed="rId2"/>
            <a:stretch/>
          </p:blipFill>
          <p:spPr>
            <a:xfrm>
              <a:off x="2937240" y="2637000"/>
              <a:ext cx="1726920" cy="13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 Box 14"/>
            <p:cNvSpPr/>
            <p:nvPr/>
          </p:nvSpPr>
          <p:spPr>
            <a:xfrm>
              <a:off x="1987560" y="3068640"/>
              <a:ext cx="97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0"/>
          <p:cNvGrpSpPr/>
          <p:nvPr/>
        </p:nvGrpSpPr>
        <p:grpSpPr>
          <a:xfrm>
            <a:off x="5587920" y="2852640"/>
            <a:ext cx="3109680" cy="1066680"/>
            <a:chOff x="5587920" y="2852640"/>
            <a:chExt cx="3109680" cy="1066680"/>
          </a:xfrm>
        </p:grpSpPr>
        <p:sp>
          <p:nvSpPr>
            <p:cNvPr id="379" name="Text Box 16"/>
            <p:cNvSpPr/>
            <p:nvPr/>
          </p:nvSpPr>
          <p:spPr>
            <a:xfrm>
              <a:off x="5587920" y="3213000"/>
              <a:ext cx="97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0" name="Picture 17" descr=""/>
            <p:cNvPicPr/>
            <p:nvPr/>
          </p:nvPicPr>
          <p:blipFill>
            <a:blip r:embed="rId3"/>
            <a:stretch/>
          </p:blipFill>
          <p:spPr>
            <a:xfrm>
              <a:off x="6537240" y="2852640"/>
              <a:ext cx="216036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Group 21"/>
          <p:cNvGrpSpPr/>
          <p:nvPr/>
        </p:nvGrpSpPr>
        <p:grpSpPr>
          <a:xfrm>
            <a:off x="1915920" y="4508640"/>
            <a:ext cx="2765520" cy="1168200"/>
            <a:chOff x="1915920" y="4508640"/>
            <a:chExt cx="2765520" cy="1168200"/>
          </a:xfrm>
        </p:grpSpPr>
        <p:sp>
          <p:nvSpPr>
            <p:cNvPr id="382" name="Text Box 7"/>
            <p:cNvSpPr/>
            <p:nvPr/>
          </p:nvSpPr>
          <p:spPr>
            <a:xfrm>
              <a:off x="1915920" y="4740120"/>
              <a:ext cx="97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" name="Picture 18" descr=""/>
            <p:cNvPicPr/>
            <p:nvPr/>
          </p:nvPicPr>
          <p:blipFill>
            <a:blip r:embed="rId4"/>
            <a:stretch/>
          </p:blipFill>
          <p:spPr>
            <a:xfrm>
              <a:off x="2936880" y="4508640"/>
              <a:ext cx="1744560" cy="116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4" name="Group 22"/>
          <p:cNvGrpSpPr/>
          <p:nvPr/>
        </p:nvGrpSpPr>
        <p:grpSpPr>
          <a:xfrm>
            <a:off x="5948280" y="4653000"/>
            <a:ext cx="2692440" cy="1031760"/>
            <a:chOff x="5948280" y="4653000"/>
            <a:chExt cx="2692440" cy="1031760"/>
          </a:xfrm>
        </p:grpSpPr>
        <p:sp>
          <p:nvSpPr>
            <p:cNvPr id="385" name="Text Box 8"/>
            <p:cNvSpPr/>
            <p:nvPr/>
          </p:nvSpPr>
          <p:spPr>
            <a:xfrm>
              <a:off x="5948280" y="4892760"/>
              <a:ext cx="97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4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6" name="Picture 19" descr=""/>
            <p:cNvPicPr/>
            <p:nvPr/>
          </p:nvPicPr>
          <p:blipFill>
            <a:blip r:embed="rId5"/>
            <a:stretch/>
          </p:blipFill>
          <p:spPr>
            <a:xfrm>
              <a:off x="6985080" y="4653000"/>
              <a:ext cx="1655640" cy="103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7" name="Rectangle 23"/>
          <p:cNvSpPr/>
          <p:nvPr/>
        </p:nvSpPr>
        <p:spPr>
          <a:xfrm>
            <a:off x="1783440" y="191628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解下列不等式组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3" descr=""/>
          <p:cNvPicPr/>
          <p:nvPr/>
        </p:nvPicPr>
        <p:blipFill>
          <a:blip r:embed="rId1"/>
          <a:srcRect l="11148" t="3125" r="46591" b="84466"/>
          <a:stretch/>
        </p:blipFill>
        <p:spPr>
          <a:xfrm>
            <a:off x="2143080" y="1800360"/>
            <a:ext cx="4465800" cy="907920"/>
          </a:xfrm>
          <a:prstGeom prst="rect">
            <a:avLst/>
          </a:prstGeom>
          <a:ln w="0">
            <a:noFill/>
          </a:ln>
        </p:spPr>
      </p:pic>
      <p:sp>
        <p:nvSpPr>
          <p:cNvPr id="389" name="AutoShape 9"/>
          <p:cNvSpPr/>
          <p:nvPr/>
        </p:nvSpPr>
        <p:spPr>
          <a:xfrm>
            <a:off x="2000160" y="1197000"/>
            <a:ext cx="1944720" cy="865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2"/>
          <a:srcRect l="10473" t="40149" r="32286" b="30319"/>
          <a:stretch/>
        </p:blipFill>
        <p:spPr>
          <a:xfrm>
            <a:off x="2360520" y="2708280"/>
            <a:ext cx="6048360" cy="21607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3"/>
          <a:srcRect l="18646" t="69685" r="41153" b="15563"/>
          <a:stretch/>
        </p:blipFill>
        <p:spPr>
          <a:xfrm>
            <a:off x="3224160" y="4797360"/>
            <a:ext cx="4248360" cy="1079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"/>
          <p:cNvPicPr/>
          <p:nvPr/>
        </p:nvPicPr>
        <p:blipFill>
          <a:blip r:embed="rId4"/>
          <a:srcRect l="15235" t="86420" r="37067" b="8658"/>
          <a:stretch/>
        </p:blipFill>
        <p:spPr>
          <a:xfrm>
            <a:off x="1065240" y="5877000"/>
            <a:ext cx="5040360" cy="360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"/>
          <p:cNvPicPr/>
          <p:nvPr/>
        </p:nvPicPr>
        <p:blipFill>
          <a:blip r:embed="rId5"/>
          <a:srcRect l="62937" t="85441" r="20012" b="7683"/>
          <a:stretch/>
        </p:blipFill>
        <p:spPr>
          <a:xfrm>
            <a:off x="3297240" y="6237360"/>
            <a:ext cx="1801800" cy="50328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8"/>
          <p:cNvSpPr/>
          <p:nvPr/>
        </p:nvSpPr>
        <p:spPr>
          <a:xfrm>
            <a:off x="2318760" y="1341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补充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1:36:40Z</dcterms:created>
  <dc:creator>陈志</dc:creator>
  <dc:description/>
  <cp:keywords/>
  <dc:language>en-US</dc:language>
  <cp:lastModifiedBy>User</cp:lastModifiedBy>
  <dcterms:modified xsi:type="dcterms:W3CDTF">2014-02-20T09:58:52Z</dcterms:modified>
  <cp:revision>17</cp:revision>
  <dc:subject/>
  <dc:title>一元一次不等式组（2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12052</vt:lpwstr>
  </property>
</Properties>
</file>