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7.jpeg" ContentType="image/jpeg"/>
  <Override PartName="/ppt/media/image8.gif" ContentType="image/gif"/>
  <Override PartName="/ppt/media/image9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77B7-A26E-4F68-BFEB-3F5954AD1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16160" y="993960"/>
            <a:ext cx="4968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15800" y="1844640"/>
            <a:ext cx="756108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15800" y="3876480"/>
            <a:ext cx="756108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616D-B55C-42CC-AB37-E88F9944C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16160" y="993960"/>
            <a:ext cx="4968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15800" y="1844640"/>
            <a:ext cx="36896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0480" y="1844640"/>
            <a:ext cx="36896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15800" y="3876480"/>
            <a:ext cx="36896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090480" y="3876480"/>
            <a:ext cx="36896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9FDE-A7DF-4EBA-90FA-FBABCD8A5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16160" y="993960"/>
            <a:ext cx="4968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15800" y="1844640"/>
            <a:ext cx="243432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72160" y="1844640"/>
            <a:ext cx="243432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328520" y="1844640"/>
            <a:ext cx="243432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15800" y="3876480"/>
            <a:ext cx="243432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772160" y="3876480"/>
            <a:ext cx="243432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328520" y="3876480"/>
            <a:ext cx="243432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7781-9EE0-46CB-9E1C-D0AC3D027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EEEA7-0D8C-4994-9F13-E86557D1E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16160" y="993960"/>
            <a:ext cx="4968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15800" y="1844640"/>
            <a:ext cx="756108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3A340-EA45-4702-A1A7-6E0632391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16160" y="993960"/>
            <a:ext cx="4968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15800" y="1844640"/>
            <a:ext cx="756108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34215-FEF5-4E93-907C-968A64829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16160" y="993960"/>
            <a:ext cx="4968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15800" y="1844640"/>
            <a:ext cx="36896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090480" y="1844640"/>
            <a:ext cx="36896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858BF-3B8F-4440-8598-8CE3F8AFB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16160" y="993960"/>
            <a:ext cx="4968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AB2E9-0A80-42FF-A502-5B66CD691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16160" y="1052280"/>
            <a:ext cx="49687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00160-5918-4643-AA26-919637331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16160" y="993960"/>
            <a:ext cx="4968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15800" y="1844640"/>
            <a:ext cx="36896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090480" y="1844640"/>
            <a:ext cx="36896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15800" y="3876480"/>
            <a:ext cx="36896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D3955-6896-4331-9EB4-C0A2492ED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16160" y="993960"/>
            <a:ext cx="4968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15800" y="1844640"/>
            <a:ext cx="756108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93FA-6EA0-44D7-8455-C21EFE395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16160" y="993960"/>
            <a:ext cx="4968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15800" y="1844640"/>
            <a:ext cx="36896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090480" y="1844640"/>
            <a:ext cx="36896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0480" y="3876480"/>
            <a:ext cx="36896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06C1D-EA07-4540-B70E-23EDE0635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16160" y="993960"/>
            <a:ext cx="4968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15800" y="1844640"/>
            <a:ext cx="36896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090480" y="1844640"/>
            <a:ext cx="36896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15800" y="3876480"/>
            <a:ext cx="756108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92B21-7C32-434B-81A8-49B93B1DA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16160" y="993960"/>
            <a:ext cx="4968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15800" y="1844640"/>
            <a:ext cx="756108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15800" y="3876480"/>
            <a:ext cx="756108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4A48A-8B5E-49F3-842E-A8D45DB52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16160" y="993960"/>
            <a:ext cx="4968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15800" y="1844640"/>
            <a:ext cx="36896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090480" y="1844640"/>
            <a:ext cx="36896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15800" y="3876480"/>
            <a:ext cx="36896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090480" y="3876480"/>
            <a:ext cx="36896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11001-B718-46B6-A09A-30857974E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16160" y="993960"/>
            <a:ext cx="4968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15800" y="1844640"/>
            <a:ext cx="243432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72160" y="1844640"/>
            <a:ext cx="243432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328520" y="1844640"/>
            <a:ext cx="243432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15800" y="3876480"/>
            <a:ext cx="243432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772160" y="3876480"/>
            <a:ext cx="243432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7328520" y="3876480"/>
            <a:ext cx="243432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59FE8-A9F5-4DED-B6D6-897A6C96A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C890A-9E01-4DAE-99F8-2805E26C1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16160" y="993960"/>
            <a:ext cx="4968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215800" y="1844640"/>
            <a:ext cx="756108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A2E30-5DCB-4EAD-A8CC-AEC40A728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16160" y="993960"/>
            <a:ext cx="4968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15800" y="1844640"/>
            <a:ext cx="756108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9E19E-7D57-4D0D-90A1-BA4415DA1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16160" y="993960"/>
            <a:ext cx="4968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15800" y="1844640"/>
            <a:ext cx="36896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090480" y="1844640"/>
            <a:ext cx="36896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CDC51-BA1E-458D-98EB-7837AA97A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16160" y="993960"/>
            <a:ext cx="4968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B01F4-B054-4B22-AD7D-337BF87C5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16160" y="993960"/>
            <a:ext cx="4968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15800" y="1844640"/>
            <a:ext cx="756108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F577-8471-4B90-BF39-77B0F2C60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216160" y="1052280"/>
            <a:ext cx="49687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E30A5-C30C-41EB-B80D-9AC04244C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16160" y="993960"/>
            <a:ext cx="4968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15800" y="1844640"/>
            <a:ext cx="36896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090480" y="1844640"/>
            <a:ext cx="36896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215800" y="3876480"/>
            <a:ext cx="36896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D6200-27FF-4991-AF60-061058CD9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16160" y="993960"/>
            <a:ext cx="4968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15800" y="1844640"/>
            <a:ext cx="36896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090480" y="1844640"/>
            <a:ext cx="36896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90480" y="3876480"/>
            <a:ext cx="36896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501FF-A8C3-482C-8431-E1D26A6F7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16160" y="993960"/>
            <a:ext cx="4968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15800" y="1844640"/>
            <a:ext cx="36896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090480" y="1844640"/>
            <a:ext cx="36896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215800" y="3876480"/>
            <a:ext cx="756108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A2C12-C0A8-4F7A-819B-EC47A4CBD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16160" y="993960"/>
            <a:ext cx="4968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15800" y="1844640"/>
            <a:ext cx="756108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215800" y="3876480"/>
            <a:ext cx="756108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9F58D-1458-4ED0-8B0B-D0ED54816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16160" y="993960"/>
            <a:ext cx="4968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15800" y="1844640"/>
            <a:ext cx="36896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090480" y="1844640"/>
            <a:ext cx="36896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215800" y="3876480"/>
            <a:ext cx="36896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090480" y="3876480"/>
            <a:ext cx="36896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7E1CC-51F9-4EDE-8A4E-13B0EE7DC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16160" y="993960"/>
            <a:ext cx="4968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15800" y="1844640"/>
            <a:ext cx="243432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72160" y="1844640"/>
            <a:ext cx="243432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7328520" y="1844640"/>
            <a:ext cx="243432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2215800" y="3876480"/>
            <a:ext cx="243432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4772160" y="3876480"/>
            <a:ext cx="243432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7328520" y="3876480"/>
            <a:ext cx="243432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0D25B-6D86-4EA4-A4E5-DD723B856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01210-0221-49C4-9DD4-2EA183099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16160" y="993960"/>
            <a:ext cx="4968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2215800" y="1844640"/>
            <a:ext cx="756108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EF8D4-5A13-4D9B-B9E8-4431F94A3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16160" y="993960"/>
            <a:ext cx="4968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15800" y="1844640"/>
            <a:ext cx="756108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93C49-6B71-469D-8878-662C75DCF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16160" y="993960"/>
            <a:ext cx="4968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15800" y="1844640"/>
            <a:ext cx="36896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090480" y="1844640"/>
            <a:ext cx="36896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B80B-DB7E-4617-93A2-5DC06495E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16160" y="993960"/>
            <a:ext cx="4968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15800" y="1844640"/>
            <a:ext cx="36896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090480" y="1844640"/>
            <a:ext cx="36896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D216F-0E9C-4D5C-A368-5FB0A49F9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16160" y="993960"/>
            <a:ext cx="4968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15ABD-6677-4A75-B33E-D8EC1EED1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2216160" y="1052280"/>
            <a:ext cx="49687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16EFC-A5D1-41EA-B5D3-567218AE1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16160" y="993960"/>
            <a:ext cx="4968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15800" y="1844640"/>
            <a:ext cx="36896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090480" y="1844640"/>
            <a:ext cx="36896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215800" y="3876480"/>
            <a:ext cx="36896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22388-6A4B-4C75-B83F-71F24D16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16160" y="993960"/>
            <a:ext cx="4968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15800" y="1844640"/>
            <a:ext cx="36896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090480" y="1844640"/>
            <a:ext cx="36896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0480" y="3876480"/>
            <a:ext cx="36896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1EA6A-3AF1-466A-9FEC-0CFDF074F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16160" y="993960"/>
            <a:ext cx="4968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15800" y="1844640"/>
            <a:ext cx="36896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90480" y="1844640"/>
            <a:ext cx="36896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215800" y="3876480"/>
            <a:ext cx="756108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167FC-B714-4504-8052-3702E0B4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16160" y="993960"/>
            <a:ext cx="4968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15800" y="1844640"/>
            <a:ext cx="756108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2215800" y="3876480"/>
            <a:ext cx="756108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0AC59-5BA1-4C26-9D8A-0CB5CFBA8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16160" y="993960"/>
            <a:ext cx="4968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15800" y="1844640"/>
            <a:ext cx="36896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090480" y="1844640"/>
            <a:ext cx="36896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2215800" y="3876480"/>
            <a:ext cx="36896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090480" y="3876480"/>
            <a:ext cx="36896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63138-E10C-4EC9-95DE-41DAC6250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16160" y="993960"/>
            <a:ext cx="4968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15800" y="1844640"/>
            <a:ext cx="243432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72160" y="1844640"/>
            <a:ext cx="243432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7328520" y="1844640"/>
            <a:ext cx="243432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2215800" y="3876480"/>
            <a:ext cx="243432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4772160" y="3876480"/>
            <a:ext cx="243432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7328520" y="3876480"/>
            <a:ext cx="243432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BEDCB-9322-4CC4-95C5-3E32CF887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16160" y="993960"/>
            <a:ext cx="4968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8DD3-B7BF-4AA1-B6BA-18542E3A5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16160" y="1052280"/>
            <a:ext cx="49687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AA6C-99C3-4AEE-BEFA-DF8C1B61F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16160" y="993960"/>
            <a:ext cx="4968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15800" y="1844640"/>
            <a:ext cx="36896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090480" y="1844640"/>
            <a:ext cx="36896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15800" y="3876480"/>
            <a:ext cx="36896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822B-2722-4883-B5FB-84F3B952E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16160" y="993960"/>
            <a:ext cx="4968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15800" y="1844640"/>
            <a:ext cx="36896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090480" y="1844640"/>
            <a:ext cx="36896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0480" y="3876480"/>
            <a:ext cx="36896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78C8-C08A-4E6C-8DF4-751F5D3FC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16160" y="993960"/>
            <a:ext cx="4968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15800" y="1844640"/>
            <a:ext cx="36896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090480" y="1844640"/>
            <a:ext cx="36896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15800" y="3876480"/>
            <a:ext cx="756108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893A-765D-4DF9-9387-45DCD8DC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6"/>
            </a:gs>
            <a:gs pos="50000">
              <a:srgbClr val="0066ff"/>
            </a:gs>
            <a:gs pos="100000">
              <a:srgbClr val="00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16160" y="1052280"/>
            <a:ext cx="4968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15800" y="1844640"/>
            <a:ext cx="756108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00160" y="6524280"/>
            <a:ext cx="231120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1840" y="6524280"/>
            <a:ext cx="31370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473600" y="6524280"/>
            <a:ext cx="231156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12E1E-567A-4E41-9DBC-C37634397C0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6" descr="透明社标.png"/>
          <p:cNvPicPr/>
          <p:nvPr/>
        </p:nvPicPr>
        <p:blipFill>
          <a:blip r:embed="rId2"/>
          <a:stretch/>
        </p:blipFill>
        <p:spPr>
          <a:xfrm>
            <a:off x="6824520" y="6093000"/>
            <a:ext cx="2808360" cy="59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6"/>
            </a:gs>
            <a:gs pos="50000">
              <a:srgbClr val="0066ff"/>
            </a:gs>
            <a:gs pos="100000">
              <a:srgbClr val="00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26880" y="609120"/>
            <a:ext cx="925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26880" y="1905120"/>
            <a:ext cx="925200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326880" y="6244920"/>
            <a:ext cx="2479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099200" y="6244920"/>
            <a:ext cx="2479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8CFD7-5F17-4A77-8B39-0023E4654A5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图片 6" descr="透明社标.png"/>
          <p:cNvPicPr/>
          <p:nvPr/>
        </p:nvPicPr>
        <p:blipFill>
          <a:blip r:embed="rId2"/>
          <a:stretch/>
        </p:blipFill>
        <p:spPr>
          <a:xfrm>
            <a:off x="6824520" y="6021360"/>
            <a:ext cx="2808360" cy="595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6"/>
            </a:gs>
            <a:gs pos="50000">
              <a:srgbClr val="0066ff"/>
            </a:gs>
            <a:gs pos="100000">
              <a:srgbClr val="00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6" descr="透明社标.png"/>
          <p:cNvPicPr/>
          <p:nvPr/>
        </p:nvPicPr>
        <p:blipFill>
          <a:blip r:embed="rId2"/>
          <a:stretch/>
        </p:blipFill>
        <p:spPr>
          <a:xfrm>
            <a:off x="6824520" y="6093000"/>
            <a:ext cx="2808360" cy="5950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16160" y="1052280"/>
            <a:ext cx="4968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15800" y="1844640"/>
            <a:ext cx="756108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344520" y="623700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657240" y="6237000"/>
            <a:ext cx="2303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7257600" y="623700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8BF43-3D8C-4DF5-81FA-B2184B570C7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6"/>
            </a:gs>
            <a:gs pos="50000">
              <a:srgbClr val="0066ff"/>
            </a:gs>
            <a:gs pos="100000">
              <a:srgbClr val="00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图片 6" descr="透明社标.png"/>
          <p:cNvPicPr/>
          <p:nvPr/>
        </p:nvPicPr>
        <p:blipFill>
          <a:blip r:embed="rId2"/>
          <a:stretch/>
        </p:blipFill>
        <p:spPr>
          <a:xfrm>
            <a:off x="6897600" y="6093000"/>
            <a:ext cx="2808360" cy="5950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6880" y="609120"/>
            <a:ext cx="925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326880" y="1905120"/>
            <a:ext cx="925200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326880" y="6244920"/>
            <a:ext cx="2479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7099200" y="6244920"/>
            <a:ext cx="2479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336B8-DD39-4C13-B2D7-A490550B8CC2}" type="slidenum">
              <a:rPr b="0" lang="zh-CN" sz="1400" spc="-1" strike="noStrike">
                <a:solidFill>
                  <a:srgbClr val="007a77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jpeg"/><Relationship Id="rId5" Type="http://schemas.openxmlformats.org/officeDocument/2006/relationships/image" Target="../media/image8.gif"/><Relationship Id="rId6" Type="http://schemas.openxmlformats.org/officeDocument/2006/relationships/image" Target="../media/image9.gif"/><Relationship Id="rId7" Type="http://schemas.openxmlformats.org/officeDocument/2006/relationships/image" Target="../media/image10.gif"/><Relationship Id="rId8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6"/>
            </a:gs>
            <a:gs pos="50000">
              <a:srgbClr val="0066ff"/>
            </a:gs>
            <a:gs pos="100000">
              <a:srgbClr val="00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560520" y="1413000"/>
            <a:ext cx="836136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一元一次不等式组的应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10"/>
          <p:cNvSpPr/>
          <p:nvPr/>
        </p:nvSpPr>
        <p:spPr>
          <a:xfrm>
            <a:off x="776160" y="5445000"/>
            <a:ext cx="80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Arial"/>
                <a:ea typeface="隶书"/>
              </a:rPr>
              <a:t>答：大约需要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隶书"/>
              </a:rPr>
              <a:t>188</a:t>
            </a:r>
            <a:r>
              <a:rPr b="0" lang="zh-CN" sz="2400" spc="-1" strike="noStrike">
                <a:solidFill>
                  <a:srgbClr val="ffff00"/>
                </a:solidFill>
                <a:latin typeface="Arial"/>
                <a:ea typeface="隶书"/>
              </a:rPr>
              <a:t>天到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隶书"/>
              </a:rPr>
              <a:t>563</a:t>
            </a:r>
            <a:r>
              <a:rPr b="0" lang="zh-CN" sz="2400" spc="-1" strike="noStrike">
                <a:solidFill>
                  <a:srgbClr val="ffff00"/>
                </a:solidFill>
                <a:latin typeface="Arial"/>
                <a:ea typeface="隶书"/>
              </a:rPr>
              <a:t>天，小颖的头发才能生长到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隶书"/>
              </a:rPr>
              <a:t>16cm</a:t>
            </a:r>
            <a:r>
              <a:rPr b="0" lang="zh-CN" sz="2400" spc="-1" strike="noStrike">
                <a:solidFill>
                  <a:srgbClr val="ffff00"/>
                </a:solidFill>
                <a:latin typeface="Arial"/>
                <a:ea typeface="隶书"/>
              </a:rPr>
              <a:t>到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隶书"/>
              </a:rPr>
              <a:t>28cm</a:t>
            </a:r>
            <a:r>
              <a:rPr b="0" lang="zh-CN" sz="2400" spc="-1" strike="noStrike">
                <a:solidFill>
                  <a:srgbClr val="ffff00"/>
                </a:solidFill>
                <a:latin typeface="Arial"/>
                <a:ea typeface="隶书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704880" y="54936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情境引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3"/>
          <p:cNvSpPr/>
          <p:nvPr/>
        </p:nvSpPr>
        <p:spPr>
          <a:xfrm>
            <a:off x="704880" y="1704960"/>
            <a:ext cx="85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    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一个人的头发大约有 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0 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万根到 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20 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万根，每根头发每天大约 生长 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0.32 mm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．小颖的头发现在大约有 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0 cm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长，那么大约经过多长时间， 她的头发才能生长到 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6 cm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到 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28 cm 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4"/>
          <p:cNvSpPr/>
          <p:nvPr/>
        </p:nvSpPr>
        <p:spPr>
          <a:xfrm>
            <a:off x="776160" y="3104280"/>
            <a:ext cx="78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解：小颖现在的头发长度为 </a:t>
            </a:r>
            <a:r>
              <a:rPr b="0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10 cm</a:t>
            </a: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，每根头发每天大约生长</a:t>
            </a:r>
            <a:r>
              <a:rPr b="0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0.32mm</a:t>
            </a: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，如果设经过 </a:t>
            </a:r>
            <a:r>
              <a:rPr b="0" i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x </a:t>
            </a: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天小颖的头发可以生长到 </a:t>
            </a:r>
            <a:r>
              <a:rPr b="0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16 cm </a:t>
            </a: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到 </a:t>
            </a:r>
            <a:r>
              <a:rPr b="0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28 cm </a:t>
            </a: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之间，那么她 </a:t>
            </a:r>
            <a:r>
              <a:rPr b="0" i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x </a:t>
            </a: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天后 的头发长度为（</a:t>
            </a:r>
            <a:r>
              <a:rPr b="0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100 + 0.32 </a:t>
            </a:r>
            <a:r>
              <a:rPr b="0" i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x</a:t>
            </a: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）</a:t>
            </a:r>
            <a:r>
              <a:rPr b="0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mm</a:t>
            </a: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．于是，可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160 ≤100 + 0.32 </a:t>
            </a:r>
            <a:r>
              <a:rPr b="0" i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x </a:t>
            </a:r>
            <a:r>
              <a:rPr b="0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≤280</a:t>
            </a: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解这个不等式组，得   </a:t>
            </a:r>
            <a:r>
              <a:rPr b="0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187.5 ≤</a:t>
            </a:r>
            <a:r>
              <a:rPr b="0" i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x</a:t>
            </a:r>
            <a:r>
              <a:rPr b="0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≤562.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9"/>
          <p:cNvSpPr/>
          <p:nvPr/>
        </p:nvSpPr>
        <p:spPr>
          <a:xfrm>
            <a:off x="867600" y="2592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宋体"/>
              </a:rPr>
              <a:t>探究新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318960" y="1631880"/>
            <a:ext cx="958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问 题 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2   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用 若 干 辆 载 重 量 为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8 t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的 汽 车 运 一 批 货 物 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若 每 辆 汽 车 只 装 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4 t,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则剩下 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20 t 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货物；若每辆汽车装满 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8 t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，则最后一辆汽车不满也不空．请你算一算：有多少辆汽车运这批货物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1963440" y="5372640"/>
            <a:ext cx="601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因为 </a:t>
            </a:r>
            <a:r>
              <a:rPr b="0" i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x </a:t>
            </a: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只能取整数，所以 </a:t>
            </a:r>
            <a:r>
              <a:rPr b="0" i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x </a:t>
            </a:r>
            <a:r>
              <a:rPr b="0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= 6</a:t>
            </a: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，即有 </a:t>
            </a:r>
            <a:r>
              <a:rPr b="0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6 </a:t>
            </a: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辆汽车运这批货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17"/>
          <p:cNvGrpSpPr/>
          <p:nvPr/>
        </p:nvGrpSpPr>
        <p:grpSpPr>
          <a:xfrm>
            <a:off x="488880" y="3138840"/>
            <a:ext cx="8798040" cy="2288520"/>
            <a:chOff x="488880" y="3138840"/>
            <a:chExt cx="8798040" cy="2288520"/>
          </a:xfrm>
        </p:grpSpPr>
        <p:sp>
          <p:nvSpPr>
            <p:cNvPr id="177" name="Rectangle 14"/>
            <p:cNvSpPr/>
            <p:nvPr/>
          </p:nvSpPr>
          <p:spPr>
            <a:xfrm>
              <a:off x="488880" y="3138840"/>
              <a:ext cx="879804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解：设有</a:t>
              </a:r>
              <a:r>
                <a:rPr b="0" i="1" lang="en-US" sz="24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x</a:t>
              </a:r>
              <a:r>
                <a:rPr b="0" lang="zh-CN" sz="24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辆汽车，那么这批货物共有（</a:t>
              </a:r>
              <a:r>
                <a:rPr b="0" lang="en-US" sz="24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4 </a:t>
              </a:r>
              <a:r>
                <a:rPr b="0" i="1" lang="en-US" sz="24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x </a:t>
              </a:r>
              <a:r>
                <a:rPr b="0" lang="en-US" sz="24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+ 20</a:t>
              </a:r>
              <a:r>
                <a:rPr b="0" lang="zh-CN" sz="24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）</a:t>
              </a:r>
              <a:r>
                <a:rPr b="0" lang="en-US" sz="24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t</a:t>
              </a:r>
              <a:r>
                <a:rPr b="0" lang="zh-CN" sz="24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．于是，可得   </a:t>
              </a:r>
              <a:r>
                <a:rPr b="0" lang="en-US" sz="24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4 </a:t>
              </a:r>
              <a:r>
                <a:rPr b="0" i="1" lang="en-US" sz="24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x </a:t>
              </a:r>
              <a:r>
                <a:rPr b="0" lang="en-US" sz="24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+ 20 &lt; 8 </a:t>
              </a:r>
              <a:r>
                <a:rPr b="0" i="1" lang="en-US" sz="24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x</a:t>
              </a:r>
              <a:r>
                <a:rPr b="0" lang="zh-CN" sz="24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    </a:t>
              </a:r>
              <a:r>
                <a:rPr b="0" lang="en-US" sz="24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4 </a:t>
              </a:r>
              <a:r>
                <a:rPr b="0" i="1" lang="en-US" sz="24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x </a:t>
              </a:r>
              <a:r>
                <a:rPr b="0" lang="en-US" sz="24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+ 20 &gt; 8 ( </a:t>
              </a:r>
              <a:r>
                <a:rPr b="0" i="1" lang="en-US" sz="24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x </a:t>
              </a:r>
              <a:r>
                <a:rPr b="0" lang="en-US" sz="24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-1)</a:t>
              </a:r>
              <a:r>
                <a:rPr b="0" lang="zh-CN" sz="24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解这个不等式组，得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5 &lt; </a:t>
              </a:r>
              <a:r>
                <a:rPr b="0" i="1" lang="en-US" sz="24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x </a:t>
              </a:r>
              <a:r>
                <a:rPr b="0" lang="en-US" sz="24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&lt; 7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utoShape 16"/>
            <p:cNvSpPr/>
            <p:nvPr/>
          </p:nvSpPr>
          <p:spPr>
            <a:xfrm>
              <a:off x="1496880" y="3645000"/>
              <a:ext cx="69840" cy="720720"/>
            </a:xfrm>
            <a:custGeom>
              <a:avLst/>
              <a:gdLst>
                <a:gd name="textAreaLeft" fmla="*/ 44640 w 69840"/>
                <a:gd name="textAreaRight" fmla="*/ 69840 w 69840"/>
                <a:gd name="textAreaTop" fmla="*/ 18720 h 720720"/>
                <a:gd name="textAreaBottom" fmla="*/ 70200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4"/>
          <p:cNvSpPr/>
          <p:nvPr/>
        </p:nvSpPr>
        <p:spPr>
          <a:xfrm>
            <a:off x="200160" y="873720"/>
            <a:ext cx="9432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一堆玩具分给若干个小朋友，若每人分</a:t>
            </a:r>
            <a:r>
              <a:rPr b="0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件，则剩余</a:t>
            </a:r>
            <a:r>
              <a:rPr b="0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件；若前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每人分</a:t>
            </a:r>
            <a:r>
              <a:rPr b="0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件，则最后一个人得到的玩具数不足</a:t>
            </a:r>
            <a:r>
              <a:rPr b="0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件</a:t>
            </a:r>
            <a:r>
              <a:rPr b="0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.</a:t>
            </a: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求小朋友的人数与玩具数</a:t>
            </a:r>
            <a:r>
              <a:rPr b="0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已知利民服装厂现有</a:t>
            </a:r>
            <a:r>
              <a:rPr b="0" i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A</a:t>
            </a: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种布料</a:t>
            </a:r>
            <a:r>
              <a:rPr b="0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70</a:t>
            </a: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米，</a:t>
            </a:r>
            <a:r>
              <a:rPr b="0" i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B</a:t>
            </a: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种布料</a:t>
            </a:r>
            <a:r>
              <a:rPr b="0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52</a:t>
            </a: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米，现计划用这两种布料生产</a:t>
            </a:r>
            <a:r>
              <a:rPr b="0" i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M</a:t>
            </a:r>
            <a:r>
              <a:rPr b="0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,</a:t>
            </a:r>
            <a:r>
              <a:rPr b="0" i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N</a:t>
            </a: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两种型号的时装共</a:t>
            </a:r>
            <a:r>
              <a:rPr b="0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80</a:t>
            </a: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套，已知做一套</a:t>
            </a:r>
            <a:r>
              <a:rPr b="0" i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M</a:t>
            </a: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型号时装需</a:t>
            </a:r>
            <a:r>
              <a:rPr b="0" i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A</a:t>
            </a: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种布料</a:t>
            </a:r>
            <a:r>
              <a:rPr b="0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0.6</a:t>
            </a: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米，</a:t>
            </a:r>
            <a:r>
              <a:rPr b="0" i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B</a:t>
            </a: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种布料</a:t>
            </a:r>
            <a:r>
              <a:rPr b="0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0.9</a:t>
            </a: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米，做一套</a:t>
            </a:r>
            <a:r>
              <a:rPr b="0" i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N</a:t>
            </a: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型号时装需用</a:t>
            </a:r>
            <a:r>
              <a:rPr b="0" i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A</a:t>
            </a: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种布料</a:t>
            </a:r>
            <a:r>
              <a:rPr b="0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1.1</a:t>
            </a: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米， </a:t>
            </a:r>
            <a:r>
              <a:rPr b="0" i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B</a:t>
            </a: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种布料</a:t>
            </a:r>
            <a:r>
              <a:rPr b="0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0.4</a:t>
            </a: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米，若设生产</a:t>
            </a:r>
            <a:r>
              <a:rPr b="0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N</a:t>
            </a: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型号的时装套数为</a:t>
            </a:r>
            <a:r>
              <a:rPr b="0" i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x</a:t>
            </a: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，用这批布料生产这两种型号的时装有几种方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5" descr=""/>
          <p:cNvPicPr/>
          <p:nvPr/>
        </p:nvPicPr>
        <p:blipFill>
          <a:blip r:embed="rId1"/>
          <a:stretch/>
        </p:blipFill>
        <p:spPr>
          <a:xfrm>
            <a:off x="3297240" y="2060640"/>
            <a:ext cx="3024360" cy="105876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6"/>
          <p:cNvSpPr/>
          <p:nvPr/>
        </p:nvSpPr>
        <p:spPr>
          <a:xfrm>
            <a:off x="704880" y="1666800"/>
            <a:ext cx="7848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1" lang="zh-CN" sz="2000" spc="-1" strike="noStrike">
                <a:solidFill>
                  <a:srgbClr val="ffff00"/>
                </a:solidFill>
                <a:latin typeface="Arial"/>
              </a:rPr>
              <a:t>解：设小朋友的人数为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1" lang="zh-CN" sz="2000" spc="-1" strike="noStrike">
                <a:solidFill>
                  <a:srgbClr val="ffff00"/>
                </a:solidFill>
                <a:latin typeface="Arial"/>
              </a:rPr>
              <a:t>，则玩具数为（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+3</a:t>
            </a:r>
            <a:r>
              <a:rPr b="1" lang="zh-CN" sz="2000" spc="-1" strike="noStrike">
                <a:solidFill>
                  <a:srgbClr val="ffff00"/>
                </a:solidFill>
                <a:latin typeface="Arial"/>
              </a:rPr>
              <a:t>）件，根据题意，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1413360" y="5047920"/>
            <a:ext cx="61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解：生产</a:t>
            </a:r>
            <a:r>
              <a:rPr b="0" i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N</a:t>
            </a: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型号的时装套数为</a:t>
            </a:r>
            <a:r>
              <a:rPr b="0" i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x</a:t>
            </a: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时，则生产</a:t>
            </a:r>
            <a:r>
              <a:rPr b="0" i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M</a:t>
            </a: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型号的时装套数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80</a:t>
            </a: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－</a:t>
            </a:r>
            <a:r>
              <a:rPr b="0" i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x</a:t>
            </a: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），根据题意，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7" descr=""/>
          <p:cNvPicPr/>
          <p:nvPr/>
        </p:nvPicPr>
        <p:blipFill>
          <a:blip r:embed="rId2"/>
          <a:stretch/>
        </p:blipFill>
        <p:spPr>
          <a:xfrm>
            <a:off x="3008160" y="5842080"/>
            <a:ext cx="3024360" cy="92376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10"/>
          <p:cNvSpPr/>
          <p:nvPr/>
        </p:nvSpPr>
        <p:spPr>
          <a:xfrm>
            <a:off x="0" y="-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巩固练习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AutoShape 4"/>
          <p:cNvSpPr/>
          <p:nvPr/>
        </p:nvSpPr>
        <p:spPr>
          <a:xfrm>
            <a:off x="2075040" y="1338120"/>
            <a:ext cx="2301840" cy="107964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隶书"/>
              </a:rPr>
              <a:t>小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3741120" y="2781360"/>
            <a:ext cx="3884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隶书"/>
              </a:rPr>
              <a:t>通过本节课的学习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隶书"/>
              </a:rPr>
              <a:t>你有什么收获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5" descr="SP_045"/>
          <p:cNvPicPr/>
          <p:nvPr/>
        </p:nvPicPr>
        <p:blipFill>
          <a:blip r:embed="rId1"/>
          <a:stretch/>
        </p:blipFill>
        <p:spPr>
          <a:xfrm>
            <a:off x="3440160" y="549360"/>
            <a:ext cx="1523880" cy="14288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SP_012"/>
          <p:cNvPicPr/>
          <p:nvPr/>
        </p:nvPicPr>
        <p:blipFill>
          <a:blip r:embed="rId2"/>
          <a:stretch/>
        </p:blipFill>
        <p:spPr>
          <a:xfrm>
            <a:off x="539640" y="404640"/>
            <a:ext cx="2305080" cy="6480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01-11-001-02"/>
          <p:cNvPicPr/>
          <p:nvPr/>
        </p:nvPicPr>
        <p:blipFill>
          <a:blip r:embed="rId3"/>
          <a:stretch/>
        </p:blipFill>
        <p:spPr>
          <a:xfrm>
            <a:off x="0" y="2924280"/>
            <a:ext cx="3809880" cy="9525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8" descr="u=2054772624,2940703875&amp;gp=2"/>
          <p:cNvPicPr/>
          <p:nvPr/>
        </p:nvPicPr>
        <p:blipFill>
          <a:blip r:embed="rId4"/>
          <a:stretch/>
        </p:blipFill>
        <p:spPr>
          <a:xfrm>
            <a:off x="250920" y="3716280"/>
            <a:ext cx="3419280" cy="2592360"/>
          </a:xfrm>
          <a:prstGeom prst="rect">
            <a:avLst/>
          </a:prstGeom>
          <a:ln w="0">
            <a:noFill/>
          </a:ln>
        </p:spPr>
      </p:pic>
      <p:grpSp>
        <p:nvGrpSpPr>
          <p:cNvPr id="191" name="Group 9"/>
          <p:cNvGrpSpPr/>
          <p:nvPr/>
        </p:nvGrpSpPr>
        <p:grpSpPr>
          <a:xfrm>
            <a:off x="5867280" y="2637000"/>
            <a:ext cx="3276720" cy="1871640"/>
            <a:chOff x="5867280" y="2637000"/>
            <a:chExt cx="3276720" cy="1871640"/>
          </a:xfrm>
        </p:grpSpPr>
        <p:pic>
          <p:nvPicPr>
            <p:cNvPr id="192" name="Picture 10" descr="RX_011"/>
            <p:cNvPicPr/>
            <p:nvPr/>
          </p:nvPicPr>
          <p:blipFill>
            <a:blip r:embed="rId5"/>
            <a:stretch/>
          </p:blipFill>
          <p:spPr>
            <a:xfrm>
              <a:off x="5867280" y="2637000"/>
              <a:ext cx="792360" cy="18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AutoShape 11"/>
            <p:cNvSpPr/>
            <p:nvPr/>
          </p:nvSpPr>
          <p:spPr>
            <a:xfrm>
              <a:off x="7201080" y="2852640"/>
              <a:ext cx="1942920" cy="1440000"/>
            </a:xfrm>
            <a:prstGeom prst="cloudCallout">
              <a:avLst>
                <a:gd name="adj1" fmla="val -98611"/>
                <a:gd name="adj2" fmla="val -7000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3399"/>
                  </a:solidFill>
                  <a:latin typeface="Arial"/>
                  <a:ea typeface="宋体"/>
                </a:rPr>
                <a:t>一盒饼干的标价可是整数哦</a:t>
              </a:r>
              <a:r>
                <a:rPr b="0" lang="en-US" sz="1800" spc="-1" strike="noStrike">
                  <a:solidFill>
                    <a:srgbClr val="003399"/>
                  </a:solidFill>
                  <a:latin typeface="Arial"/>
                  <a:ea typeface="宋体"/>
                </a:rPr>
                <a:t>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12"/>
          <p:cNvGrpSpPr/>
          <p:nvPr/>
        </p:nvGrpSpPr>
        <p:grpSpPr>
          <a:xfrm>
            <a:off x="4284720" y="260280"/>
            <a:ext cx="3814560" cy="4267440"/>
            <a:chOff x="4284720" y="260280"/>
            <a:chExt cx="3814560" cy="4267440"/>
          </a:xfrm>
        </p:grpSpPr>
        <p:pic>
          <p:nvPicPr>
            <p:cNvPr id="195" name="Picture 13" descr="3d_rw10"/>
            <p:cNvPicPr/>
            <p:nvPr/>
          </p:nvPicPr>
          <p:blipFill>
            <a:blip r:embed="rId6"/>
            <a:stretch/>
          </p:blipFill>
          <p:spPr>
            <a:xfrm>
              <a:off x="4284720" y="1339920"/>
              <a:ext cx="1655640" cy="318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AutoShape 14"/>
            <p:cNvSpPr/>
            <p:nvPr/>
          </p:nvSpPr>
          <p:spPr>
            <a:xfrm>
              <a:off x="5580000" y="260280"/>
              <a:ext cx="2519280" cy="2376720"/>
            </a:xfrm>
            <a:prstGeom prst="wedgeRoundRectCallout">
              <a:avLst>
                <a:gd name="adj1" fmla="val -57499"/>
                <a:gd name="adj2" fmla="val 45856"/>
                <a:gd name="adj3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3399"/>
                  </a:solidFill>
                  <a:latin typeface="Arial"/>
                  <a:ea typeface="宋体"/>
                </a:rPr>
                <a:t>小朋友</a:t>
              </a:r>
              <a:r>
                <a:rPr b="0" lang="en-US" sz="1800" spc="-1" strike="noStrike">
                  <a:solidFill>
                    <a:srgbClr val="003399"/>
                  </a:solidFill>
                  <a:latin typeface="Arial"/>
                  <a:ea typeface="宋体"/>
                </a:rPr>
                <a:t>,</a:t>
              </a:r>
              <a:r>
                <a:rPr b="0" lang="zh-CN" sz="1800" spc="-1" strike="noStrike">
                  <a:solidFill>
                    <a:srgbClr val="003399"/>
                  </a:solidFill>
                  <a:latin typeface="Arial"/>
                  <a:ea typeface="宋体"/>
                </a:rPr>
                <a:t>本来你用</a:t>
              </a:r>
              <a:r>
                <a:rPr b="0" lang="en-US" sz="1800" spc="-1" strike="noStrike">
                  <a:solidFill>
                    <a:srgbClr val="003399"/>
                  </a:solidFill>
                  <a:latin typeface="Arial"/>
                  <a:ea typeface="宋体"/>
                </a:rPr>
                <a:t>10</a:t>
              </a:r>
              <a:r>
                <a:rPr b="0" lang="zh-CN" sz="1800" spc="-1" strike="noStrike">
                  <a:solidFill>
                    <a:srgbClr val="003399"/>
                  </a:solidFill>
                  <a:latin typeface="Arial"/>
                  <a:ea typeface="宋体"/>
                </a:rPr>
                <a:t>元钱买一盒饼干是有多的</a:t>
              </a:r>
              <a:r>
                <a:rPr b="0" lang="en-US" sz="1800" spc="-1" strike="noStrike">
                  <a:solidFill>
                    <a:srgbClr val="003399"/>
                  </a:solidFill>
                  <a:latin typeface="Arial"/>
                  <a:ea typeface="宋体"/>
                </a:rPr>
                <a:t>,</a:t>
              </a:r>
              <a:r>
                <a:rPr b="0" lang="zh-CN" sz="1800" spc="-1" strike="noStrike">
                  <a:solidFill>
                    <a:srgbClr val="003399"/>
                  </a:solidFill>
                  <a:latin typeface="Arial"/>
                  <a:ea typeface="宋体"/>
                </a:rPr>
                <a:t>但是再买一袋牛奶就不够了</a:t>
              </a:r>
              <a:r>
                <a:rPr b="0" lang="en-US" sz="1800" spc="-1" strike="noStrike">
                  <a:solidFill>
                    <a:srgbClr val="003399"/>
                  </a:solidFill>
                  <a:latin typeface="Arial"/>
                  <a:ea typeface="宋体"/>
                </a:rPr>
                <a:t>!</a:t>
              </a:r>
              <a:r>
                <a:rPr b="0" lang="zh-CN" sz="1800" spc="-1" strike="noStrike">
                  <a:solidFill>
                    <a:srgbClr val="003399"/>
                  </a:solidFill>
                  <a:latin typeface="Arial"/>
                  <a:ea typeface="宋体"/>
                </a:rPr>
                <a:t>今天是儿童节</a:t>
              </a:r>
              <a:r>
                <a:rPr b="0" lang="en-US" sz="1800" spc="-1" strike="noStrike">
                  <a:solidFill>
                    <a:srgbClr val="003399"/>
                  </a:solidFill>
                  <a:latin typeface="Arial"/>
                  <a:ea typeface="宋体"/>
                </a:rPr>
                <a:t>,</a:t>
              </a:r>
              <a:r>
                <a:rPr b="0" lang="zh-CN" sz="1800" spc="-1" strike="noStrike">
                  <a:solidFill>
                    <a:srgbClr val="003399"/>
                  </a:solidFill>
                  <a:latin typeface="Arial"/>
                  <a:ea typeface="宋体"/>
                </a:rPr>
                <a:t>我给你买的饼干打</a:t>
              </a:r>
              <a:r>
                <a:rPr b="0" lang="en-US" sz="1800" spc="-1" strike="noStrike">
                  <a:solidFill>
                    <a:srgbClr val="003399"/>
                  </a:solidFill>
                  <a:latin typeface="Arial"/>
                  <a:ea typeface="宋体"/>
                </a:rPr>
                <a:t>9</a:t>
              </a:r>
              <a:r>
                <a:rPr b="0" lang="zh-CN" sz="1800" spc="-1" strike="noStrike">
                  <a:solidFill>
                    <a:srgbClr val="003399"/>
                  </a:solidFill>
                  <a:latin typeface="Arial"/>
                  <a:ea typeface="宋体"/>
                </a:rPr>
                <a:t>折</a:t>
              </a:r>
              <a:r>
                <a:rPr b="0" lang="en-US" sz="1800" spc="-1" strike="noStrike">
                  <a:solidFill>
                    <a:srgbClr val="003399"/>
                  </a:solidFill>
                  <a:latin typeface="Arial"/>
                  <a:ea typeface="宋体"/>
                </a:rPr>
                <a:t>,</a:t>
              </a:r>
              <a:r>
                <a:rPr b="0" lang="zh-CN" sz="1800" spc="-1" strike="noStrike">
                  <a:solidFill>
                    <a:srgbClr val="003399"/>
                  </a:solidFill>
                  <a:latin typeface="Arial"/>
                  <a:ea typeface="宋体"/>
                </a:rPr>
                <a:t>两样东西请拿好</a:t>
              </a:r>
              <a:r>
                <a:rPr b="0" lang="en-US" sz="1800" spc="-1" strike="noStrike">
                  <a:solidFill>
                    <a:srgbClr val="003399"/>
                  </a:solidFill>
                  <a:latin typeface="Arial"/>
                  <a:ea typeface="宋体"/>
                </a:rPr>
                <a:t>!</a:t>
              </a:r>
              <a:r>
                <a:rPr b="0" lang="zh-CN" sz="1800" spc="-1" strike="noStrike">
                  <a:solidFill>
                    <a:srgbClr val="003399"/>
                  </a:solidFill>
                  <a:latin typeface="Arial"/>
                  <a:ea typeface="宋体"/>
                </a:rPr>
                <a:t>还有找你的</a:t>
              </a:r>
              <a:r>
                <a:rPr b="0" lang="en-US" sz="1800" spc="-1" strike="noStrike">
                  <a:solidFill>
                    <a:srgbClr val="003399"/>
                  </a:solidFill>
                  <a:latin typeface="Arial"/>
                  <a:ea typeface="宋体"/>
                </a:rPr>
                <a:t>8</a:t>
              </a:r>
              <a:r>
                <a:rPr b="0" lang="zh-CN" sz="1800" spc="-1" strike="noStrike">
                  <a:solidFill>
                    <a:srgbClr val="003399"/>
                  </a:solidFill>
                  <a:latin typeface="Arial"/>
                  <a:ea typeface="宋体"/>
                </a:rPr>
                <a:t>角钱</a:t>
              </a:r>
              <a:r>
                <a:rPr b="0" lang="en-US" sz="1800" spc="-1" strike="noStrike">
                  <a:solidFill>
                    <a:srgbClr val="003399"/>
                  </a:solidFill>
                  <a:latin typeface="Arial"/>
                  <a:ea typeface="宋体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Group 15"/>
          <p:cNvGrpSpPr/>
          <p:nvPr/>
        </p:nvGrpSpPr>
        <p:grpSpPr>
          <a:xfrm>
            <a:off x="2195640" y="1195560"/>
            <a:ext cx="2643120" cy="3241440"/>
            <a:chOff x="2195640" y="1195560"/>
            <a:chExt cx="2643120" cy="3241440"/>
          </a:xfrm>
        </p:grpSpPr>
        <p:pic>
          <p:nvPicPr>
            <p:cNvPr id="198" name="Picture 16" descr="01-09-022-27"/>
            <p:cNvPicPr/>
            <p:nvPr/>
          </p:nvPicPr>
          <p:blipFill>
            <a:blip r:embed="rId7"/>
            <a:stretch/>
          </p:blipFill>
          <p:spPr>
            <a:xfrm>
              <a:off x="3851280" y="2708280"/>
              <a:ext cx="987480" cy="17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AutoShape 17"/>
            <p:cNvSpPr/>
            <p:nvPr/>
          </p:nvSpPr>
          <p:spPr>
            <a:xfrm>
              <a:off x="2195640" y="1195560"/>
              <a:ext cx="1657080" cy="1511280"/>
            </a:xfrm>
            <a:prstGeom prst="wedgeRoundRectCallout">
              <a:avLst>
                <a:gd name="adj1" fmla="val 70500"/>
                <a:gd name="adj2" fmla="val 69430"/>
                <a:gd name="adj3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3399"/>
                  </a:solidFill>
                  <a:latin typeface="Arial"/>
                  <a:ea typeface="宋体"/>
                </a:rPr>
                <a:t>阿姨</a:t>
              </a:r>
              <a:r>
                <a:rPr b="0" lang="en-US" sz="1800" spc="-1" strike="noStrike">
                  <a:solidFill>
                    <a:srgbClr val="003399"/>
                  </a:solidFill>
                  <a:latin typeface="Arial"/>
                  <a:ea typeface="宋体"/>
                </a:rPr>
                <a:t>,</a:t>
              </a:r>
              <a:r>
                <a:rPr b="0" lang="zh-CN" sz="1800" spc="-1" strike="noStrike">
                  <a:solidFill>
                    <a:srgbClr val="003399"/>
                  </a:solidFill>
                  <a:latin typeface="Arial"/>
                  <a:ea typeface="宋体"/>
                </a:rPr>
                <a:t>我要买一 盒饼干和一袋牛奶</a:t>
              </a:r>
              <a:r>
                <a:rPr b="0" lang="en-US" sz="1800" spc="-1" strike="noStrike">
                  <a:solidFill>
                    <a:srgbClr val="003399"/>
                  </a:solidFill>
                  <a:latin typeface="Arial"/>
                  <a:ea typeface="宋体"/>
                </a:rPr>
                <a:t>(</a:t>
              </a:r>
              <a:r>
                <a:rPr b="0" lang="zh-CN" sz="1800" spc="-1" strike="noStrike">
                  <a:solidFill>
                    <a:srgbClr val="003399"/>
                  </a:solidFill>
                  <a:latin typeface="Arial"/>
                  <a:ea typeface="宋体"/>
                </a:rPr>
                <a:t>递上</a:t>
              </a:r>
              <a:r>
                <a:rPr b="0" lang="en-US" sz="1800" spc="-1" strike="noStrike">
                  <a:solidFill>
                    <a:srgbClr val="003399"/>
                  </a:solidFill>
                  <a:latin typeface="Arial"/>
                  <a:ea typeface="宋体"/>
                </a:rPr>
                <a:t>10</a:t>
              </a:r>
              <a:r>
                <a:rPr b="0" lang="zh-CN" sz="1800" spc="-1" strike="noStrike">
                  <a:solidFill>
                    <a:srgbClr val="003399"/>
                  </a:solidFill>
                  <a:latin typeface="Arial"/>
                  <a:ea typeface="宋体"/>
                </a:rPr>
                <a:t>元钱</a:t>
              </a:r>
              <a:r>
                <a:rPr b="0" lang="en-US" sz="1800" spc="-1" strike="noStrike">
                  <a:solidFill>
                    <a:srgbClr val="003399"/>
                  </a:solidFill>
                  <a:latin typeface="Arial"/>
                  <a:ea typeface="宋体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Text Box 18"/>
          <p:cNvSpPr/>
          <p:nvPr/>
        </p:nvSpPr>
        <p:spPr>
          <a:xfrm>
            <a:off x="4620600" y="4724280"/>
            <a:ext cx="364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宋体"/>
              </a:rPr>
              <a:t>   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宋体"/>
              </a:rPr>
              <a:t>根据对话的内容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,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宋体"/>
              </a:rPr>
              <a:t>试求出饼干和牛奶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宋体"/>
              </a:rPr>
              <a:t>标价各是多少元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9"/>
          <p:cNvSpPr/>
          <p:nvPr/>
        </p:nvSpPr>
        <p:spPr>
          <a:xfrm>
            <a:off x="343800" y="1371600"/>
            <a:ext cx="105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作业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隶书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WordArt 4"/>
          <p:cNvSpPr txBox="1"/>
          <p:nvPr/>
        </p:nvSpPr>
        <p:spPr>
          <a:xfrm>
            <a:off x="3513240" y="2060640"/>
            <a:ext cx="429084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>
                    <a:alpha val="63000"/>
                  </a:srgbClr>
                </a:solidFill>
                <a:latin typeface="宋体"/>
              </a:rPr>
              <a:t>再见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>
                  <a:alpha val="63000"/>
                </a:srgbClr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4T01:54:30Z</dcterms:created>
  <dc:creator>陈志</dc:creator>
  <dc:description/>
  <cp:keywords/>
  <dc:language>en-US</dc:language>
  <cp:lastModifiedBy>User</cp:lastModifiedBy>
  <dcterms:modified xsi:type="dcterms:W3CDTF">2014-02-20T09:58:49Z</dcterms:modified>
  <cp:revision>16</cp:revision>
  <dc:subject/>
  <dc:title>一元一次不等式组（3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962512052</vt:lpwstr>
  </property>
</Properties>
</file>