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type.wav" ContentType="audio/x-wav"/>
  <Override PartName="/ppt/media/chimes.wav" ContentType="audio/x-wav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8AB-18C8-427A-93A3-CC634D83F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361E-FBD5-48DB-AA4D-1EF3B421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A3AD-7D58-4D49-A9BE-F491361C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4A2A-4E61-4E30-842B-69C5746E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102-DF8C-458F-B892-46CB167B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B0AE-5CB4-4CD8-AB19-865C6F9A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0D8-8196-47D5-B05B-3625E930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0282-9B6E-41C9-A7F7-9869BB05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DF54-2B8F-429E-803B-DFA87753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98AC-793F-4A96-B806-57C01431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A7F9-1BC6-4A44-B55F-F570377C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54B7-63B6-48C7-9A51-2413125D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4E2E-BAA9-4EC6-B939-824881F6BF24}" type="datetime">
              <a:rPr b="0" lang="zh-CN" sz="1200" spc="-1" strike="noStrike">
                <a:solidFill>
                  <a:srgbClr val="ffffff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E356-8392-486D-8A59-84E43AF3ED0E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WordArt 2" descr=""/>
          <p:cNvPicPr/>
          <p:nvPr/>
        </p:nvPicPr>
        <p:blipFill>
          <a:blip r:embed="rId2"/>
          <a:stretch/>
        </p:blipFill>
        <p:spPr>
          <a:xfrm>
            <a:off x="981000" y="3273480"/>
            <a:ext cx="6986520" cy="774720"/>
          </a:xfrm>
          <a:prstGeom prst="rect">
            <a:avLst/>
          </a:prstGeom>
          <a:ln w="0">
            <a:noFill/>
          </a:ln>
        </p:spPr>
      </p:pic>
      <p:sp>
        <p:nvSpPr>
          <p:cNvPr id="43" name="WordArt 3"/>
          <p:cNvSpPr txBox="1"/>
          <p:nvPr/>
        </p:nvSpPr>
        <p:spPr>
          <a:xfrm>
            <a:off x="755640" y="1268280"/>
            <a:ext cx="7620120" cy="8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第一章  三角形的证明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143000" y="137160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Group 3"/>
          <p:cNvGrpSpPr/>
          <p:nvPr/>
        </p:nvGrpSpPr>
        <p:grpSpPr>
          <a:xfrm>
            <a:off x="0" y="0"/>
            <a:ext cx="3423960" cy="614160"/>
            <a:chOff x="0" y="0"/>
            <a:chExt cx="3423960" cy="614160"/>
          </a:xfrm>
        </p:grpSpPr>
        <p:sp>
          <p:nvSpPr>
            <p:cNvPr id="110" name="Rectangle 4"/>
            <p:cNvSpPr/>
            <p:nvPr/>
          </p:nvSpPr>
          <p:spPr>
            <a:xfrm>
              <a:off x="0" y="32760"/>
              <a:ext cx="225864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隶书"/>
                </a:rPr>
                <a:t>隋堂练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1893960" y="27000"/>
              <a:ext cx="277560" cy="459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BatangChe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2" name="Picture 6" descr="678"/>
            <p:cNvPicPr/>
            <p:nvPr/>
          </p:nvPicPr>
          <p:blipFill>
            <a:blip r:embed="rId1"/>
            <a:stretch/>
          </p:blipFill>
          <p:spPr>
            <a:xfrm>
              <a:off x="2258640" y="0"/>
              <a:ext cx="1165320" cy="47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7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0" y="105120"/>
              <a:ext cx="51012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Rectangle 8"/>
          <p:cNvSpPr/>
          <p:nvPr/>
        </p:nvSpPr>
        <p:spPr>
          <a:xfrm>
            <a:off x="250920" y="762120"/>
            <a:ext cx="860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用反证法证明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个三角形中不能有两个角是直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已知：△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求证：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中不能有两个角是直角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250920" y="2637000"/>
            <a:ext cx="88930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证明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假设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中有两个角是直角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不妨设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=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=9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°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+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+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=9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°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9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°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＞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°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与三角形内角和定理矛盾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所以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=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=9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°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成立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所以一个三角形中不能有两个角是直角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26920" y="47628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活动与探究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96720" y="981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如图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平分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B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平分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C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，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N∥B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，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=1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C=18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△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M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的周长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   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85920" y="2565360"/>
            <a:ext cx="48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分析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要求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MN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的周长，则需求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M+MN+AN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而这三条边都是未知的．由已知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=1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C=1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可使我们联想到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MN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的周长需转化成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有关系的形式．而已知中的角平分线和平行线告诉我们图形中有等腰三角形出现，因此，找到问题的突破口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 5"/>
          <p:cNvGrpSpPr/>
          <p:nvPr/>
        </p:nvGrpSpPr>
        <p:grpSpPr>
          <a:xfrm>
            <a:off x="5210280" y="3057480"/>
            <a:ext cx="3682800" cy="2819520"/>
            <a:chOff x="5210280" y="3057480"/>
            <a:chExt cx="3682800" cy="2819520"/>
          </a:xfrm>
        </p:grpSpPr>
        <p:sp>
          <p:nvSpPr>
            <p:cNvPr id="120" name="AutoShape 6"/>
            <p:cNvSpPr/>
            <p:nvPr/>
          </p:nvSpPr>
          <p:spPr>
            <a:xfrm>
              <a:off x="5210280" y="3057480"/>
              <a:ext cx="36828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7"/>
            <p:cNvSpPr/>
            <p:nvPr/>
          </p:nvSpPr>
          <p:spPr>
            <a:xfrm>
              <a:off x="5654520" y="5421240"/>
              <a:ext cx="2779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8"/>
            <p:cNvSpPr/>
            <p:nvPr/>
          </p:nvSpPr>
          <p:spPr>
            <a:xfrm>
              <a:off x="6349680" y="3568680"/>
              <a:ext cx="2084040" cy="185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9"/>
            <p:cNvSpPr/>
            <p:nvPr/>
          </p:nvSpPr>
          <p:spPr>
            <a:xfrm flipH="1">
              <a:off x="5654520" y="3568680"/>
              <a:ext cx="694800" cy="185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10"/>
            <p:cNvSpPr/>
            <p:nvPr/>
          </p:nvSpPr>
          <p:spPr>
            <a:xfrm>
              <a:off x="5876640" y="4813200"/>
              <a:ext cx="187596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11"/>
            <p:cNvSpPr/>
            <p:nvPr/>
          </p:nvSpPr>
          <p:spPr>
            <a:xfrm flipH="1">
              <a:off x="5654520" y="4825800"/>
              <a:ext cx="1112400" cy="59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>
              <a:off x="6767280" y="4825800"/>
              <a:ext cx="1666440" cy="59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Group 13"/>
            <p:cNvGrpSpPr/>
            <p:nvPr/>
          </p:nvGrpSpPr>
          <p:grpSpPr>
            <a:xfrm>
              <a:off x="7848720" y="4564080"/>
              <a:ext cx="240120" cy="396360"/>
              <a:chOff x="7848720" y="4564080"/>
              <a:chExt cx="240120" cy="396360"/>
            </a:xfrm>
          </p:grpSpPr>
          <p:sp>
            <p:nvSpPr>
              <p:cNvPr id="128" name="Rectangle 14"/>
              <p:cNvSpPr/>
              <p:nvPr/>
            </p:nvSpPr>
            <p:spPr>
              <a:xfrm>
                <a:off x="7849800" y="456408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7848720" y="4564080"/>
                <a:ext cx="2401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16"/>
            <p:cNvGrpSpPr/>
            <p:nvPr/>
          </p:nvGrpSpPr>
          <p:grpSpPr>
            <a:xfrm>
              <a:off x="5542560" y="4605120"/>
              <a:ext cx="294840" cy="396360"/>
              <a:chOff x="5542560" y="4605120"/>
              <a:chExt cx="294840" cy="396360"/>
            </a:xfrm>
          </p:grpSpPr>
          <p:sp>
            <p:nvSpPr>
              <p:cNvPr id="131" name="Rectangle 17"/>
              <p:cNvSpPr/>
              <p:nvPr/>
            </p:nvSpPr>
            <p:spPr>
              <a:xfrm>
                <a:off x="5543280" y="4605120"/>
                <a:ext cx="1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Rectangle 18"/>
              <p:cNvSpPr/>
              <p:nvPr/>
            </p:nvSpPr>
            <p:spPr>
              <a:xfrm>
                <a:off x="5542560" y="4605120"/>
                <a:ext cx="2948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3" name="Group 19"/>
            <p:cNvGrpSpPr/>
            <p:nvPr/>
          </p:nvGrpSpPr>
          <p:grpSpPr>
            <a:xfrm>
              <a:off x="8433360" y="5324400"/>
              <a:ext cx="221760" cy="396360"/>
              <a:chOff x="8433360" y="5324400"/>
              <a:chExt cx="221760" cy="396360"/>
            </a:xfrm>
          </p:grpSpPr>
          <p:sp>
            <p:nvSpPr>
              <p:cNvPr id="134" name="Rectangle 20"/>
              <p:cNvSpPr/>
              <p:nvPr/>
            </p:nvSpPr>
            <p:spPr>
              <a:xfrm>
                <a:off x="8434080" y="5324400"/>
                <a:ext cx="1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Rectangle 21"/>
              <p:cNvSpPr/>
              <p:nvPr/>
            </p:nvSpPr>
            <p:spPr>
              <a:xfrm>
                <a:off x="8433360" y="5324400"/>
                <a:ext cx="2217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22"/>
            <p:cNvGrpSpPr/>
            <p:nvPr/>
          </p:nvGrpSpPr>
          <p:grpSpPr>
            <a:xfrm>
              <a:off x="5404320" y="5324400"/>
              <a:ext cx="221760" cy="396360"/>
              <a:chOff x="5404320" y="5324400"/>
              <a:chExt cx="221760" cy="396360"/>
            </a:xfrm>
          </p:grpSpPr>
          <p:sp>
            <p:nvSpPr>
              <p:cNvPr id="137" name="Rectangle 23"/>
              <p:cNvSpPr/>
              <p:nvPr/>
            </p:nvSpPr>
            <p:spPr>
              <a:xfrm>
                <a:off x="5405040" y="5324400"/>
                <a:ext cx="1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Rectangle 24"/>
              <p:cNvSpPr/>
              <p:nvPr/>
            </p:nvSpPr>
            <p:spPr>
              <a:xfrm>
                <a:off x="5404320" y="5324400"/>
                <a:ext cx="2217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25"/>
            <p:cNvGrpSpPr/>
            <p:nvPr/>
          </p:nvGrpSpPr>
          <p:grpSpPr>
            <a:xfrm>
              <a:off x="6126840" y="3224160"/>
              <a:ext cx="221760" cy="396360"/>
              <a:chOff x="6126840" y="3224160"/>
              <a:chExt cx="221760" cy="396360"/>
            </a:xfrm>
          </p:grpSpPr>
          <p:sp>
            <p:nvSpPr>
              <p:cNvPr id="140" name="Rectangle 26"/>
              <p:cNvSpPr/>
              <p:nvPr/>
            </p:nvSpPr>
            <p:spPr>
              <a:xfrm>
                <a:off x="6127560" y="3224160"/>
                <a:ext cx="1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Rectangle 27"/>
              <p:cNvSpPr/>
              <p:nvPr/>
            </p:nvSpPr>
            <p:spPr>
              <a:xfrm>
                <a:off x="6126840" y="3224160"/>
                <a:ext cx="22176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" name="Group 28"/>
            <p:cNvGrpSpPr/>
            <p:nvPr/>
          </p:nvGrpSpPr>
          <p:grpSpPr>
            <a:xfrm>
              <a:off x="6654960" y="4452840"/>
              <a:ext cx="240120" cy="396360"/>
              <a:chOff x="6654960" y="4452840"/>
              <a:chExt cx="240120" cy="396360"/>
            </a:xfrm>
          </p:grpSpPr>
          <p:sp>
            <p:nvSpPr>
              <p:cNvPr id="143" name="Rectangle 29"/>
              <p:cNvSpPr/>
              <p:nvPr/>
            </p:nvSpPr>
            <p:spPr>
              <a:xfrm>
                <a:off x="6656040" y="445284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30"/>
              <p:cNvSpPr/>
              <p:nvPr/>
            </p:nvSpPr>
            <p:spPr>
              <a:xfrm>
                <a:off x="6654960" y="4452840"/>
                <a:ext cx="2401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112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现有等腰三角形纸片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如果能从一个角的顶点出发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将原纸片一次剪开成两块等腰三角形纸片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问此时的等腰三角形的顶角的度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3851280" y="3716280"/>
            <a:ext cx="1057320" cy="20163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 rot="8091000">
            <a:off x="1043280" y="4507560"/>
            <a:ext cx="1726920" cy="1728720"/>
          </a:xfrm>
          <a:prstGeom prst="rtTriangl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5076720" y="2781360"/>
            <a:ext cx="3456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6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90°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Arial"/>
              </a:rPr>
              <a:t>108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5580000" y="4437000"/>
            <a:ext cx="3024360" cy="7923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1879560" y="4149720"/>
            <a:ext cx="0" cy="1224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 flipV="1">
            <a:off x="3851280" y="4941360"/>
            <a:ext cx="865080" cy="792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 flipH="1">
            <a:off x="6659640" y="4437000"/>
            <a:ext cx="433440" cy="792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79440" y="15552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活动与探究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40"/>
          <p:cNvSpPr/>
          <p:nvPr/>
        </p:nvSpPr>
        <p:spPr>
          <a:xfrm>
            <a:off x="23760" y="1832760"/>
            <a:ext cx="914400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本节课学习了哪些内容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等腰三角形的判定方法有哪几种？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结合本节课的学习，谈谈等腰三角形性质和判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定的区别和联系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举例谈谈用反证法说理的基本思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237960" y="642960"/>
            <a:ext cx="1893960" cy="582120"/>
          </a:xfrm>
          <a:prstGeom prst="rect">
            <a:avLst/>
          </a:prstGeom>
          <a:noFill/>
          <a:ln w="73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课堂小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想一想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247680" y="1417680"/>
            <a:ext cx="9645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问题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等腰三角形性质定理的内容是什么？这个命题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的题设和结论分别是什么？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问题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我们是如何证明上述定理的？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问题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我们把性质定理的条件和结论反过来还成立么？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如果一个三角形有两个角相等，那么这两个角所对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的边也相等？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826920" y="131112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前面已经证明了等腰三角形的两个底角相等，反过来，有两个角相等的三角形是等腰三角形吗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84080" y="48276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议一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836640" y="2568600"/>
            <a:ext cx="481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已知：在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中，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=∠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求证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=A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539640" y="422100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分析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只要构造两个全等的三角形，使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成为对应边就可以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作角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的平分线，或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上的高，都可以把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分成两个全等的三角形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Group 6"/>
          <p:cNvGrpSpPr/>
          <p:nvPr/>
        </p:nvGrpSpPr>
        <p:grpSpPr>
          <a:xfrm>
            <a:off x="6588000" y="2205000"/>
            <a:ext cx="1274760" cy="1743120"/>
            <a:chOff x="6588000" y="2205000"/>
            <a:chExt cx="1274760" cy="1743120"/>
          </a:xfrm>
        </p:grpSpPr>
        <p:sp>
          <p:nvSpPr>
            <p:cNvPr id="51" name="Line 7"/>
            <p:cNvSpPr/>
            <p:nvPr/>
          </p:nvSpPr>
          <p:spPr>
            <a:xfrm flipH="1">
              <a:off x="6804000" y="2547720"/>
              <a:ext cx="444240" cy="1137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Line 8"/>
            <p:cNvSpPr/>
            <p:nvPr/>
          </p:nvSpPr>
          <p:spPr>
            <a:xfrm>
              <a:off x="6804000" y="3685320"/>
              <a:ext cx="89064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Line 9"/>
            <p:cNvSpPr/>
            <p:nvPr/>
          </p:nvSpPr>
          <p:spPr>
            <a:xfrm>
              <a:off x="7248240" y="2547720"/>
              <a:ext cx="446400" cy="1137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10"/>
            <p:cNvGrpSpPr/>
            <p:nvPr/>
          </p:nvGrpSpPr>
          <p:grpSpPr>
            <a:xfrm>
              <a:off x="7692840" y="3642840"/>
              <a:ext cx="169920" cy="305280"/>
              <a:chOff x="7692840" y="3642840"/>
              <a:chExt cx="169920" cy="305280"/>
            </a:xfrm>
          </p:grpSpPr>
          <p:sp>
            <p:nvSpPr>
              <p:cNvPr id="55" name="Rectangle 11"/>
              <p:cNvSpPr/>
              <p:nvPr/>
            </p:nvSpPr>
            <p:spPr>
              <a:xfrm>
                <a:off x="7692840" y="364284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12"/>
              <p:cNvSpPr/>
              <p:nvPr/>
            </p:nvSpPr>
            <p:spPr>
              <a:xfrm>
                <a:off x="7692840" y="364284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" name="Group 13"/>
            <p:cNvGrpSpPr/>
            <p:nvPr/>
          </p:nvGrpSpPr>
          <p:grpSpPr>
            <a:xfrm>
              <a:off x="6588000" y="3642840"/>
              <a:ext cx="169920" cy="305280"/>
              <a:chOff x="6588000" y="3642840"/>
              <a:chExt cx="169920" cy="305280"/>
            </a:xfrm>
          </p:grpSpPr>
          <p:sp>
            <p:nvSpPr>
              <p:cNvPr id="58" name="Rectangle 14"/>
              <p:cNvSpPr/>
              <p:nvPr/>
            </p:nvSpPr>
            <p:spPr>
              <a:xfrm>
                <a:off x="6588000" y="3642840"/>
                <a:ext cx="1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5"/>
              <p:cNvSpPr/>
              <p:nvPr/>
            </p:nvSpPr>
            <p:spPr>
              <a:xfrm>
                <a:off x="6588000" y="364284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" name="Rectangle 16"/>
            <p:cNvSpPr/>
            <p:nvPr/>
          </p:nvSpPr>
          <p:spPr>
            <a:xfrm>
              <a:off x="7164360" y="2205000"/>
              <a:ext cx="287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468360" y="1901880"/>
            <a:ext cx="79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定理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有两个角相等的三角形是等腰三角形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等角对等边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68360" y="555480"/>
            <a:ext cx="55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等腰三角形的判定定理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78040" y="354348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在△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∵∠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＝∠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已知）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∴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AB=A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等角对等边）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5580000" y="717480"/>
            <a:ext cx="3411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隶书"/>
              </a:rPr>
              <a:t>几何的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隶书"/>
              </a:rPr>
              <a:t>三种语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6516720" y="3213000"/>
            <a:ext cx="1676520" cy="2059920"/>
            <a:chOff x="6516720" y="3213000"/>
            <a:chExt cx="1676520" cy="2059920"/>
          </a:xfrm>
        </p:grpSpPr>
        <p:sp>
          <p:nvSpPr>
            <p:cNvPr id="66" name="Line 7"/>
            <p:cNvSpPr/>
            <p:nvPr/>
          </p:nvSpPr>
          <p:spPr>
            <a:xfrm>
              <a:off x="6834240" y="5041800"/>
              <a:ext cx="1152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8"/>
            <p:cNvSpPr/>
            <p:nvPr/>
          </p:nvSpPr>
          <p:spPr>
            <a:xfrm flipH="1">
              <a:off x="6833880" y="3593880"/>
              <a:ext cx="576360" cy="1447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Text Box 9"/>
            <p:cNvSpPr/>
            <p:nvPr/>
          </p:nvSpPr>
          <p:spPr>
            <a:xfrm>
              <a:off x="7126200" y="3213000"/>
              <a:ext cx="24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Text Box 10"/>
            <p:cNvSpPr/>
            <p:nvPr/>
          </p:nvSpPr>
          <p:spPr>
            <a:xfrm>
              <a:off x="7945560" y="4813200"/>
              <a:ext cx="24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11"/>
            <p:cNvSpPr/>
            <p:nvPr/>
          </p:nvSpPr>
          <p:spPr>
            <a:xfrm>
              <a:off x="7410600" y="3593880"/>
              <a:ext cx="576000" cy="1447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Text Box 12"/>
            <p:cNvSpPr/>
            <p:nvPr/>
          </p:nvSpPr>
          <p:spPr>
            <a:xfrm>
              <a:off x="6516720" y="4813200"/>
              <a:ext cx="24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Times New Roman"/>
              </a:rPr>
              <a:t>练习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Times New Roman"/>
              </a:rPr>
              <a:t>　如图，∠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楷体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6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楷体"/>
              </a:rPr>
              <a:t>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楷体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Times New Roman"/>
              </a:rPr>
              <a:t>∠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BC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楷体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6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楷体"/>
              </a:rPr>
              <a:t>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楷体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Times New Roman"/>
              </a:rPr>
              <a:t>∠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C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楷体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72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楷体"/>
              </a:rPr>
              <a:t>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Times New Roman"/>
              </a:rPr>
              <a:t>，图中一共有几个等腰三角形？找出其中的一个等腰三角形给予证明．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3567240" y="3279600"/>
            <a:ext cx="2100240" cy="3007800"/>
            <a:chOff x="3567240" y="3279600"/>
            <a:chExt cx="2100240" cy="3007800"/>
          </a:xfrm>
        </p:grpSpPr>
        <p:sp>
          <p:nvSpPr>
            <p:cNvPr id="74" name="Rectangle 4"/>
            <p:cNvSpPr/>
            <p:nvPr/>
          </p:nvSpPr>
          <p:spPr>
            <a:xfrm>
              <a:off x="4434120" y="32796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5"/>
            <p:cNvSpPr/>
            <p:nvPr/>
          </p:nvSpPr>
          <p:spPr>
            <a:xfrm>
              <a:off x="3567240" y="57668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6"/>
            <p:cNvSpPr/>
            <p:nvPr/>
          </p:nvSpPr>
          <p:spPr>
            <a:xfrm>
              <a:off x="5393880" y="5757840"/>
              <a:ext cx="27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7"/>
            <p:cNvSpPr/>
            <p:nvPr/>
          </p:nvSpPr>
          <p:spPr>
            <a:xfrm>
              <a:off x="5061960" y="4834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" name="Group 8"/>
            <p:cNvGrpSpPr/>
            <p:nvPr/>
          </p:nvGrpSpPr>
          <p:grpSpPr>
            <a:xfrm>
              <a:off x="3925080" y="3616920"/>
              <a:ext cx="1420200" cy="2333160"/>
              <a:chOff x="3925080" y="3616920"/>
              <a:chExt cx="1420200" cy="2333160"/>
            </a:xfrm>
          </p:grpSpPr>
          <p:sp>
            <p:nvSpPr>
              <p:cNvPr id="79" name="AutoShape 9"/>
              <p:cNvSpPr/>
              <p:nvPr/>
            </p:nvSpPr>
            <p:spPr>
              <a:xfrm>
                <a:off x="3925080" y="3616920"/>
                <a:ext cx="1420200" cy="233316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10"/>
              <p:cNvSpPr/>
              <p:nvPr/>
            </p:nvSpPr>
            <p:spPr>
              <a:xfrm flipV="1">
                <a:off x="3925080" y="5080320"/>
                <a:ext cx="1154160" cy="8697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1" name="Rectangle 11"/>
          <p:cNvSpPr/>
          <p:nvPr/>
        </p:nvSpPr>
        <p:spPr>
          <a:xfrm>
            <a:off x="900000" y="549360"/>
            <a:ext cx="23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随堂练习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539640" y="1447920"/>
            <a:ext cx="80661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练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已知：如图，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A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是△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的外角，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D∥B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且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=∠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求证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=A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900000" y="549360"/>
            <a:ext cx="23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随堂练习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5435640" y="2133720"/>
            <a:ext cx="26096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143000" y="22860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想一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539640" y="1125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小明说，在一个三角形中，如果两个角不相等，那么这两个角所对的边也不相等．你认为这个结论成立吗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?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如果成立，你能证明它吗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0" y="277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611280" y="2708280"/>
            <a:ext cx="62658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我们来看一位同学的想法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如图，在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中，已知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≠∠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此时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要么相等，要么不相等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假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=A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那么根据“等边对等角”定理可得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=∠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但已知条件是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≠∠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．“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=∠B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与已知条件“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≠∠C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相矛盾，因此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≠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你能理解他的推理过程吗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Group 6"/>
          <p:cNvGrpSpPr/>
          <p:nvPr/>
        </p:nvGrpSpPr>
        <p:grpSpPr>
          <a:xfrm>
            <a:off x="6916680" y="3284640"/>
            <a:ext cx="1543320" cy="1582200"/>
            <a:chOff x="6916680" y="3284640"/>
            <a:chExt cx="1543320" cy="1582200"/>
          </a:xfrm>
        </p:grpSpPr>
        <p:sp>
          <p:nvSpPr>
            <p:cNvPr id="90" name="Line 7"/>
            <p:cNvSpPr/>
            <p:nvPr/>
          </p:nvSpPr>
          <p:spPr>
            <a:xfrm>
              <a:off x="7164360" y="4538880"/>
              <a:ext cx="1092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8"/>
            <p:cNvSpPr/>
            <p:nvPr/>
          </p:nvSpPr>
          <p:spPr>
            <a:xfrm>
              <a:off x="7907400" y="3746520"/>
              <a:ext cx="349200" cy="79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9"/>
            <p:cNvSpPr/>
            <p:nvPr/>
          </p:nvSpPr>
          <p:spPr>
            <a:xfrm flipH="1">
              <a:off x="7164360" y="3746520"/>
              <a:ext cx="743040" cy="79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10"/>
            <p:cNvGrpSpPr/>
            <p:nvPr/>
          </p:nvGrpSpPr>
          <p:grpSpPr>
            <a:xfrm>
              <a:off x="8256600" y="4500720"/>
              <a:ext cx="203400" cy="366120"/>
              <a:chOff x="8256600" y="4500720"/>
              <a:chExt cx="203400" cy="366120"/>
            </a:xfrm>
          </p:grpSpPr>
          <p:sp>
            <p:nvSpPr>
              <p:cNvPr id="94" name="Rectangle 11"/>
              <p:cNvSpPr/>
              <p:nvPr/>
            </p:nvSpPr>
            <p:spPr>
              <a:xfrm>
                <a:off x="8256600" y="4500720"/>
                <a:ext cx="144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Rectangle 12"/>
              <p:cNvSpPr/>
              <p:nvPr/>
            </p:nvSpPr>
            <p:spPr>
              <a:xfrm>
                <a:off x="8256600" y="4500720"/>
                <a:ext cx="203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13"/>
            <p:cNvGrpSpPr/>
            <p:nvPr/>
          </p:nvGrpSpPr>
          <p:grpSpPr>
            <a:xfrm>
              <a:off x="6916680" y="4500720"/>
              <a:ext cx="203400" cy="366120"/>
              <a:chOff x="6916680" y="4500720"/>
              <a:chExt cx="203400" cy="366120"/>
            </a:xfrm>
          </p:grpSpPr>
          <p:sp>
            <p:nvSpPr>
              <p:cNvPr id="97" name="Rectangle 14"/>
              <p:cNvSpPr/>
              <p:nvPr/>
            </p:nvSpPr>
            <p:spPr>
              <a:xfrm>
                <a:off x="6916680" y="4500720"/>
                <a:ext cx="144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Rectangle 15"/>
              <p:cNvSpPr/>
              <p:nvPr/>
            </p:nvSpPr>
            <p:spPr>
              <a:xfrm>
                <a:off x="6916680" y="4500720"/>
                <a:ext cx="203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6"/>
            <p:cNvGrpSpPr/>
            <p:nvPr/>
          </p:nvGrpSpPr>
          <p:grpSpPr>
            <a:xfrm>
              <a:off x="7781760" y="3284640"/>
              <a:ext cx="203400" cy="366120"/>
              <a:chOff x="7781760" y="3284640"/>
              <a:chExt cx="203400" cy="366120"/>
            </a:xfrm>
          </p:grpSpPr>
          <p:sp>
            <p:nvSpPr>
              <p:cNvPr id="100" name="Rectangle 17"/>
              <p:cNvSpPr/>
              <p:nvPr/>
            </p:nvSpPr>
            <p:spPr>
              <a:xfrm>
                <a:off x="7781760" y="3284640"/>
                <a:ext cx="144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Rectangle 18"/>
              <p:cNvSpPr/>
              <p:nvPr/>
            </p:nvSpPr>
            <p:spPr>
              <a:xfrm>
                <a:off x="7781760" y="3284640"/>
                <a:ext cx="2034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24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" name="Oval 19"/>
            <p:cNvSpPr/>
            <p:nvPr/>
          </p:nvSpPr>
          <p:spPr>
            <a:xfrm>
              <a:off x="7896240" y="3735360"/>
              <a:ext cx="22320" cy="223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11280" y="476280"/>
            <a:ext cx="82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再例如，我们要证明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中不可能有两个直角，也可以采用这位同学的证法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假设有两个角是直角，不妨设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=90°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=90°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可得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+∠B=180°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，但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中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+∠B+∠C=180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“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+∠B=180°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与“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+∠B+∠C=180°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相矛盾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因此△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中不可能有两个直角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928800" y="3835440"/>
            <a:ext cx="52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上面的证法有什么共同的特点呢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561960" y="4653000"/>
            <a:ext cx="78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在上面的证法中，都是先假设命题的结论不成立，然后由此推导出了与已知或公理或已证明过的定理相矛盾，从而证明命题的结论一定成立．我们把它叫做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反证法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755640" y="260280"/>
            <a:ext cx="8137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eeece1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例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证明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如果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a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a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a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a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a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都是正数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且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a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+a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+a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+a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+a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=1,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那么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这五个数中至少有一个大于或等于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1/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755640" y="2492280"/>
            <a:ext cx="78501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用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反证法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来证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证明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假设这五个数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全部</a:t>
            </a:r>
            <a:r>
              <a:rPr b="1" lang="zh-CN" sz="2800" spc="-1" strike="noStrike">
                <a:solidFill>
                  <a:srgbClr val="0033cc"/>
                </a:solidFill>
                <a:latin typeface="隶书"/>
                <a:ea typeface="隶书"/>
              </a:rPr>
              <a:t>小于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1/5,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那么这五个数的和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a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+a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+a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+a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+a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就小于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这与已知这五个数的和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a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+a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+a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+a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+a</a:t>
            </a:r>
            <a:r>
              <a:rPr b="1" lang="zh-CN" sz="2800" spc="-1" strike="noStrike" baseline="-25000">
                <a:solidFill>
                  <a:srgbClr val="ffffff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=1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相矛盾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因此假设不成立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原命题成立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即这五个数中至少有下个大于或等于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1/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2-18T03:20:32Z</dcterms:modified>
  <cp:revision>2</cp:revision>
  <dc:subject/>
  <dc:title>幻灯片 1</dc:title>
</cp:coreProperties>
</file>