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16B9-32ED-4CEF-A7E6-B924FC0F2B85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72F6-04FC-494C-A6E9-0A027B1FBBCF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F8B2-BC6F-46C9-8F8A-4122430F13CB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8514-B2BF-4F61-A0FA-6C27813401D3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1C64-0E61-4889-92E4-9A81AAB29E69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799D-7C53-4DCC-AA5A-C9E07CDA1ACA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2FAD-604C-489E-B3F3-DFD9F3BB9CB7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3801-DE8B-4250-889B-FCD2BA33E223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F553-958D-4511-8A02-4062D53D6177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5824-0AC8-4F2D-ADB1-A9811CE231A7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5F0D-7276-4143-8CC7-500C4DEE5156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2049-BAC0-4EE1-B211-6A9D32D29F19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888F-FE05-4B6A-BC02-BB7B85F81F3F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00A0-46D6-4501-80CE-7917F3B5C76C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2156-237F-4B18-A857-7525BE6DD22C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ED39-6F50-4003-9E44-E69135BF3D86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F082-8838-4360-8599-53C36FEF885F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4C1F-99B9-4C77-8CEE-0358F260180E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A6D4-7D25-4CB1-8AE4-453BF6802EF8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6F80-39BA-4528-A096-4CDE29E7B004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38D4-E7B3-4DED-807E-DAAF3C8EF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9B73-F923-4556-9700-4C1559E1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9B4A-C452-4662-B4DB-4D4B0EED1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EC7A-3046-4835-87BF-0EE723377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AC33-B366-4B23-928E-FD8CCBB6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206C-7BD0-4D7B-9031-A15A17E8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D07B-97D7-4ADC-8C53-54444A95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FF6F-97C6-422D-8EAB-9DD45BD2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0820-BD30-40CF-B3DF-A0D9BB1C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27C3-98CE-40B4-BAD5-BB037750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9577-9F18-4B2C-9BC2-6720441F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568D-2B15-4835-A553-F2F3F052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B758-3A1C-422C-90A6-23C5EE080C8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1150920" y="2664000"/>
            <a:ext cx="682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.1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不等关系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1241280" y="503280"/>
            <a:ext cx="261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新知归纳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1278000" y="1584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不等式的定义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7"/>
          <p:cNvSpPr/>
          <p:nvPr/>
        </p:nvSpPr>
        <p:spPr>
          <a:xfrm>
            <a:off x="0" y="230364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般地，用符号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”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“≤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”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“≥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连接的式子叫做不等式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6"/>
          <p:cNvSpPr/>
          <p:nvPr/>
        </p:nvSpPr>
        <p:spPr>
          <a:xfrm>
            <a:off x="1150920" y="324000"/>
            <a:ext cx="292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范例讲解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2"/>
          <p:cNvSpPr/>
          <p:nvPr/>
        </p:nvSpPr>
        <p:spPr>
          <a:xfrm>
            <a:off x="534960" y="919080"/>
            <a:ext cx="7458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用适当的符号表示下列关系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和比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小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非负数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地球上海洋的面积大于陆地面积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老师的年龄不超过你的年龄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7"/>
          <p:cNvSpPr/>
          <p:nvPr/>
        </p:nvSpPr>
        <p:spPr>
          <a:xfrm>
            <a:off x="459360" y="3564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解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85"/>
          <p:cNvGraphicFramePr/>
          <p:nvPr/>
        </p:nvGraphicFramePr>
        <p:xfrm>
          <a:off x="1015920" y="3608280"/>
          <a:ext cx="2322720" cy="53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8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920" y="3608280"/>
                    <a:ext cx="23227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86"/>
          <p:cNvGraphicFramePr/>
          <p:nvPr/>
        </p:nvGraphicFramePr>
        <p:xfrm>
          <a:off x="4032360" y="3519360"/>
          <a:ext cx="16588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Object 8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2360" y="3519360"/>
                    <a:ext cx="1658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87"/>
          <p:cNvGraphicFramePr/>
          <p:nvPr/>
        </p:nvGraphicFramePr>
        <p:xfrm>
          <a:off x="1015920" y="4149720"/>
          <a:ext cx="607716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9" name="Object 8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15920" y="4149720"/>
                    <a:ext cx="60771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88"/>
          <p:cNvGraphicFramePr/>
          <p:nvPr/>
        </p:nvGraphicFramePr>
        <p:xfrm>
          <a:off x="1670040" y="4778280"/>
          <a:ext cx="1822320" cy="585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1" name="Object 8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0040" y="4778280"/>
                    <a:ext cx="182232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89"/>
          <p:cNvGraphicFramePr/>
          <p:nvPr/>
        </p:nvGraphicFramePr>
        <p:xfrm>
          <a:off x="998640" y="5319720"/>
          <a:ext cx="6453000" cy="544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3" name="Object 8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98640" y="5319720"/>
                    <a:ext cx="645300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90"/>
          <p:cNvGraphicFramePr/>
          <p:nvPr/>
        </p:nvGraphicFramePr>
        <p:xfrm>
          <a:off x="1646280" y="5853240"/>
          <a:ext cx="1576440" cy="558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5" name="Object 9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46280" y="5853240"/>
                    <a:ext cx="157644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8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62000" y="1673280"/>
            <a:ext cx="8756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用适当的符号表示下列不等式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非负数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直角三角形斜边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比它的两直角边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都长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和比它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小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197000" y="728640"/>
            <a:ext cx="27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巩固练习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06280" y="1898640"/>
            <a:ext cx="880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中任取两个数就组成一组数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写出其中两数之和小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所有数组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836640" y="863640"/>
            <a:ext cx="243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巩固练习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1241280" y="54936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合作交流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206280" y="1268280"/>
            <a:ext cx="940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请你设计不同的实际背景来表示下列不等式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                                 (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78"/>
              <p:cNvSpPr txBox="1"/>
              <p:nvPr/>
            </p:nvSpPr>
            <p:spPr>
              <a:xfrm>
                <a:off x="4797360" y="2281320"/>
                <a:ext cx="19353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≥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79"/>
              <p:cNvSpPr txBox="1"/>
              <p:nvPr/>
            </p:nvSpPr>
            <p:spPr>
              <a:xfrm>
                <a:off x="949320" y="2227320"/>
                <a:ext cx="186696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≤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1150920" y="458640"/>
            <a:ext cx="292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新知归纳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2021760" y="1268280"/>
            <a:ext cx="24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“≥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≤”的意义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06280" y="1943280"/>
            <a:ext cx="893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“≥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小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低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示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1962000" y="2529000"/>
            <a:ext cx="70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非负数表示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≥0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250920" y="3338640"/>
            <a:ext cx="893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“≤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大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高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示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≤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2006640" y="3924360"/>
            <a:ext cx="70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非正数表示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≤0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"/>
          <p:cNvSpPr/>
          <p:nvPr/>
        </p:nvSpPr>
        <p:spPr>
          <a:xfrm>
            <a:off x="1181160" y="396720"/>
            <a:ext cx="294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范例讲解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62"/>
          <p:cNvSpPr/>
          <p:nvPr/>
        </p:nvSpPr>
        <p:spPr>
          <a:xfrm>
            <a:off x="22320" y="958680"/>
            <a:ext cx="895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甲、乙两种原料配制成某种饮料，已知这两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种原料的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含量及购买这两种原料的价格如下表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15920" y="2619360"/>
          <a:ext cx="8821800" cy="1982880"/>
        </p:xfrm>
        <a:graphic>
          <a:graphicData uri="http://schemas.openxmlformats.org/drawingml/2006/table">
            <a:tbl>
              <a:tblPr/>
              <a:tblGrid>
                <a:gridCol w="3779640"/>
                <a:gridCol w="2565720"/>
                <a:gridCol w="2476440"/>
              </a:tblGrid>
              <a:tr h="941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甲种原料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乙种原料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维生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/(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单位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千克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原料价格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(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元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千克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Text Box 84"/>
          <p:cNvSpPr/>
          <p:nvPr/>
        </p:nvSpPr>
        <p:spPr>
          <a:xfrm>
            <a:off x="42840" y="4689360"/>
            <a:ext cx="902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现配制这种饮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千克，要求至少含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2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单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试写出所需甲种原料的质量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千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应满足的不等式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85"/>
          <p:cNvSpPr/>
          <p:nvPr/>
        </p:nvSpPr>
        <p:spPr>
          <a:xfrm>
            <a:off x="2764800" y="2703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料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86"/>
          <p:cNvSpPr/>
          <p:nvPr/>
        </p:nvSpPr>
        <p:spPr>
          <a:xfrm>
            <a:off x="549000" y="30528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及价格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114480" y="958680"/>
            <a:ext cx="897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甲、乙两种原料配制成某种饮料，已知这两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种原料的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含量及购买这两种原料的价格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下表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197000" y="36828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巩固练习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15920" y="2617920"/>
          <a:ext cx="8821800" cy="1982520"/>
        </p:xfrm>
        <a:graphic>
          <a:graphicData uri="http://schemas.openxmlformats.org/drawingml/2006/table">
            <a:tbl>
              <a:tblPr/>
              <a:tblGrid>
                <a:gridCol w="3779640"/>
                <a:gridCol w="2565720"/>
                <a:gridCol w="2476440"/>
              </a:tblGrid>
              <a:tr h="941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甲种原料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乙种原料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维生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/(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单位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千克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原料价格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(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元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千克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Text Box 92"/>
          <p:cNvSpPr/>
          <p:nvPr/>
        </p:nvSpPr>
        <p:spPr>
          <a:xfrm>
            <a:off x="114480" y="4708440"/>
            <a:ext cx="927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条件下，如果还要求购买甲、乙两种原料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费用不超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元，那么你能写出所需甲种原料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质量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千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应满足的另一个不等式吗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93"/>
          <p:cNvSpPr/>
          <p:nvPr/>
        </p:nvSpPr>
        <p:spPr>
          <a:xfrm>
            <a:off x="2764800" y="2701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料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94"/>
          <p:cNvSpPr/>
          <p:nvPr/>
        </p:nvSpPr>
        <p:spPr>
          <a:xfrm>
            <a:off x="549000" y="3051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及价格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19160" y="965160"/>
            <a:ext cx="9024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在通过桥洞时，我们往往会看到如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所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标志，这是限制车高的标志。你知道通过该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洞的车高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m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范围吗？在通过桥面时，我们往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往会看到如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所示的标志，这是限制车重的标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志。你知道通过该桥面的车重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范围吗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241280" y="368280"/>
            <a:ext cx="23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巩固练习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Group 18"/>
          <p:cNvGrpSpPr/>
          <p:nvPr/>
        </p:nvGrpSpPr>
        <p:grpSpPr>
          <a:xfrm>
            <a:off x="3402000" y="3659040"/>
            <a:ext cx="5132520" cy="2697480"/>
            <a:chOff x="3402000" y="3659040"/>
            <a:chExt cx="5132520" cy="2697480"/>
          </a:xfrm>
        </p:grpSpPr>
        <p:grpSp>
          <p:nvGrpSpPr>
            <p:cNvPr id="175" name="Group 10"/>
            <p:cNvGrpSpPr/>
            <p:nvPr/>
          </p:nvGrpSpPr>
          <p:grpSpPr>
            <a:xfrm>
              <a:off x="3402000" y="3659040"/>
              <a:ext cx="2160720" cy="2697480"/>
              <a:chOff x="3402000" y="3659040"/>
              <a:chExt cx="2160720" cy="2697480"/>
            </a:xfrm>
          </p:grpSpPr>
          <p:grpSp>
            <p:nvGrpSpPr>
              <p:cNvPr id="176" name="Group 9"/>
              <p:cNvGrpSpPr/>
              <p:nvPr/>
            </p:nvGrpSpPr>
            <p:grpSpPr>
              <a:xfrm>
                <a:off x="3402000" y="3659040"/>
                <a:ext cx="2160720" cy="2160360"/>
                <a:chOff x="3402000" y="3659040"/>
                <a:chExt cx="2160720" cy="2160360"/>
              </a:xfrm>
            </p:grpSpPr>
            <p:sp>
              <p:nvSpPr>
                <p:cNvPr id="177" name="Oval 6"/>
                <p:cNvSpPr/>
                <p:nvPr/>
              </p:nvSpPr>
              <p:spPr>
                <a:xfrm>
                  <a:off x="3402000" y="3659040"/>
                  <a:ext cx="2160720" cy="2160360"/>
                </a:xfrm>
                <a:prstGeom prst="ellipse">
                  <a:avLst/>
                </a:prstGeom>
                <a:solidFill>
                  <a:srgbClr val="009999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Oval 7"/>
                <p:cNvSpPr/>
                <p:nvPr/>
              </p:nvSpPr>
              <p:spPr>
                <a:xfrm>
                  <a:off x="3695760" y="3952440"/>
                  <a:ext cx="1574640" cy="157500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9" name="Rectangle 8"/>
              <p:cNvSpPr/>
              <p:nvPr/>
            </p:nvSpPr>
            <p:spPr>
              <a:xfrm>
                <a:off x="4154760" y="5775120"/>
                <a:ext cx="656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(1)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Group 11"/>
            <p:cNvGrpSpPr/>
            <p:nvPr/>
          </p:nvGrpSpPr>
          <p:grpSpPr>
            <a:xfrm>
              <a:off x="6373800" y="3659040"/>
              <a:ext cx="2160720" cy="2697480"/>
              <a:chOff x="6373800" y="3659040"/>
              <a:chExt cx="2160720" cy="2697480"/>
            </a:xfrm>
          </p:grpSpPr>
          <p:grpSp>
            <p:nvGrpSpPr>
              <p:cNvPr id="181" name="Group 12"/>
              <p:cNvGrpSpPr/>
              <p:nvPr/>
            </p:nvGrpSpPr>
            <p:grpSpPr>
              <a:xfrm>
                <a:off x="6373800" y="3659040"/>
                <a:ext cx="2160720" cy="2160360"/>
                <a:chOff x="6373800" y="3659040"/>
                <a:chExt cx="2160720" cy="2160360"/>
              </a:xfrm>
            </p:grpSpPr>
            <p:sp>
              <p:nvSpPr>
                <p:cNvPr id="182" name="Oval 13"/>
                <p:cNvSpPr/>
                <p:nvPr/>
              </p:nvSpPr>
              <p:spPr>
                <a:xfrm>
                  <a:off x="6373800" y="3659040"/>
                  <a:ext cx="2160720" cy="2160360"/>
                </a:xfrm>
                <a:prstGeom prst="ellipse">
                  <a:avLst/>
                </a:prstGeom>
                <a:solidFill>
                  <a:srgbClr val="009999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Oval 14"/>
                <p:cNvSpPr/>
                <p:nvPr/>
              </p:nvSpPr>
              <p:spPr>
                <a:xfrm>
                  <a:off x="6667560" y="3952440"/>
                  <a:ext cx="1574640" cy="157500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" name="Rectangle 15"/>
              <p:cNvSpPr/>
              <p:nvPr/>
            </p:nvSpPr>
            <p:spPr>
              <a:xfrm>
                <a:off x="7126560" y="5775120"/>
                <a:ext cx="656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(2)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Rectangle 16"/>
            <p:cNvSpPr/>
            <p:nvPr/>
          </p:nvSpPr>
          <p:spPr>
            <a:xfrm>
              <a:off x="7093440" y="4467240"/>
              <a:ext cx="72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0t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17"/>
            <p:cNvSpPr/>
            <p:nvPr/>
          </p:nvSpPr>
          <p:spPr>
            <a:xfrm>
              <a:off x="4123800" y="4467240"/>
              <a:ext cx="72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5m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1241280" y="414360"/>
            <a:ext cx="27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堂小结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17"/>
          <p:cNvSpPr/>
          <p:nvPr/>
        </p:nvSpPr>
        <p:spPr>
          <a:xfrm>
            <a:off x="1895040" y="108900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不等式的定义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18"/>
          <p:cNvSpPr/>
          <p:nvPr/>
        </p:nvSpPr>
        <p:spPr>
          <a:xfrm>
            <a:off x="115920" y="1731960"/>
            <a:ext cx="893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般地，用符号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”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“≤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”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“≥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连接的式子叫做不等式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19"/>
          <p:cNvSpPr/>
          <p:nvPr/>
        </p:nvSpPr>
        <p:spPr>
          <a:xfrm>
            <a:off x="1058040" y="2979720"/>
            <a:ext cx="28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“≥、≤”的意义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20"/>
          <p:cNvSpPr/>
          <p:nvPr/>
        </p:nvSpPr>
        <p:spPr>
          <a:xfrm>
            <a:off x="611280" y="3699000"/>
            <a:ext cx="713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“≥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小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低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示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21"/>
          <p:cNvSpPr/>
          <p:nvPr/>
        </p:nvSpPr>
        <p:spPr>
          <a:xfrm>
            <a:off x="2097000" y="428472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非负数表示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≥0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22"/>
          <p:cNvSpPr/>
          <p:nvPr/>
        </p:nvSpPr>
        <p:spPr>
          <a:xfrm>
            <a:off x="566640" y="4959360"/>
            <a:ext cx="697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“≤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大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高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示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≤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23"/>
          <p:cNvSpPr/>
          <p:nvPr/>
        </p:nvSpPr>
        <p:spPr>
          <a:xfrm>
            <a:off x="2050920" y="5724360"/>
            <a:ext cx="436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非正数表示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≤0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4080" y="1371600"/>
            <a:ext cx="898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地球上海洋的面积大于陆地的面积，铅球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质量比篮球的质量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6"/>
          <p:cNvSpPr/>
          <p:nvPr/>
        </p:nvSpPr>
        <p:spPr>
          <a:xfrm>
            <a:off x="1197000" y="503280"/>
            <a:ext cx="261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情景引入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45"/>
              <p:cNvSpPr txBox="1"/>
              <p:nvPr/>
            </p:nvSpPr>
            <p:spPr>
              <a:xfrm>
                <a:off x="1062000" y="2733840"/>
                <a:ext cx="2024280" cy="14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−</m:t>
                              </m:r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" name="Text Box 46"/>
          <p:cNvSpPr/>
          <p:nvPr/>
        </p:nvSpPr>
        <p:spPr>
          <a:xfrm>
            <a:off x="115920" y="4260960"/>
            <a:ext cx="898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利用相等关系可以解决许多问题，利用不等关系同样可以解决许多问题。在我们的生活中，不等关系更为普遍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7000" y="1101600"/>
            <a:ext cx="949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如图，利用两个长度均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c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绳子，分别围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一个正方形和圆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7"/>
          <p:cNvSpPr/>
          <p:nvPr/>
        </p:nvSpPr>
        <p:spPr>
          <a:xfrm>
            <a:off x="1197000" y="368280"/>
            <a:ext cx="26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新知探究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3"/>
          <p:cNvSpPr/>
          <p:nvPr/>
        </p:nvSpPr>
        <p:spPr>
          <a:xfrm>
            <a:off x="1987560" y="2168640"/>
            <a:ext cx="1709640" cy="1709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Oval 54"/>
          <p:cNvSpPr/>
          <p:nvPr/>
        </p:nvSpPr>
        <p:spPr>
          <a:xfrm>
            <a:off x="4867200" y="1808280"/>
            <a:ext cx="2025720" cy="2025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5"/>
          <p:cNvSpPr/>
          <p:nvPr/>
        </p:nvSpPr>
        <p:spPr>
          <a:xfrm>
            <a:off x="73080" y="3878280"/>
            <a:ext cx="949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要使正方形的面积不大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那么绳子长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应满足怎样的关系式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Object 56"/>
          <p:cNvGraphicFramePr/>
          <p:nvPr/>
        </p:nvGraphicFramePr>
        <p:xfrm>
          <a:off x="1623960" y="4959360"/>
          <a:ext cx="1725840" cy="122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3960" y="4959360"/>
                    <a:ext cx="1725840" cy="12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57"/>
          <p:cNvGraphicFramePr/>
          <p:nvPr/>
        </p:nvGraphicFramePr>
        <p:xfrm>
          <a:off x="2575080" y="2468520"/>
          <a:ext cx="531720" cy="109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Object 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75080" y="2468520"/>
                    <a:ext cx="5317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AutoShape 58"/>
          <p:cNvSpPr/>
          <p:nvPr/>
        </p:nvSpPr>
        <p:spPr>
          <a:xfrm>
            <a:off x="3560760" y="5410080"/>
            <a:ext cx="1550880" cy="316080"/>
          </a:xfrm>
          <a:prstGeom prst="rightArrow">
            <a:avLst>
              <a:gd name="adj1" fmla="val 50000"/>
              <a:gd name="adj2" fmla="val 149538"/>
            </a:avLst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Object 59"/>
          <p:cNvGraphicFramePr/>
          <p:nvPr/>
        </p:nvGraphicFramePr>
        <p:xfrm>
          <a:off x="5337000" y="4979880"/>
          <a:ext cx="1327320" cy="109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" name="Object 5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7000" y="4979880"/>
                    <a:ext cx="13273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8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73080" y="998640"/>
            <a:ext cx="890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如图，利用两个长度均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c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绳子，分别围成一个正方形和圆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285920" y="368280"/>
            <a:ext cx="261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新知探究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1962000" y="2025720"/>
            <a:ext cx="1710000" cy="1709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5"/>
          <p:cNvSpPr/>
          <p:nvPr/>
        </p:nvSpPr>
        <p:spPr>
          <a:xfrm>
            <a:off x="4751280" y="1763640"/>
            <a:ext cx="2025720" cy="2025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3480" y="3789360"/>
            <a:ext cx="91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果要使圆的面积不小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那么绳子长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应满足怎样的关系式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Object 7"/>
          <p:cNvGraphicFramePr/>
          <p:nvPr/>
        </p:nvGraphicFramePr>
        <p:xfrm>
          <a:off x="1432080" y="4869000"/>
          <a:ext cx="2457360" cy="122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2080" y="4869000"/>
                    <a:ext cx="2457360" cy="12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2" name="Object 9"/>
              <p:cNvSpPr txBox="1"/>
              <p:nvPr/>
            </p:nvSpPr>
            <p:spPr>
              <a:xfrm>
                <a:off x="5427720" y="2214720"/>
                <a:ext cx="66348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AutoShape 10"/>
          <p:cNvSpPr/>
          <p:nvPr/>
        </p:nvSpPr>
        <p:spPr>
          <a:xfrm>
            <a:off x="4013280" y="5362560"/>
            <a:ext cx="1890720" cy="316080"/>
          </a:xfrm>
          <a:prstGeom prst="rightArrow">
            <a:avLst>
              <a:gd name="adj1" fmla="val 50000"/>
              <a:gd name="adj2" fmla="val 149544"/>
            </a:avLst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Object 11"/>
          <p:cNvGraphicFramePr/>
          <p:nvPr/>
        </p:nvGraphicFramePr>
        <p:xfrm>
          <a:off x="6039000" y="4906800"/>
          <a:ext cx="1593720" cy="109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39000" y="4906800"/>
                    <a:ext cx="1593720" cy="10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6" name="Object 12"/>
              <p:cNvSpPr txBox="1"/>
              <p:nvPr/>
            </p:nvSpPr>
            <p:spPr>
              <a:xfrm>
                <a:off x="2575080" y="2259000"/>
                <a:ext cx="53172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wheel spokes="8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27000" y="1012680"/>
            <a:ext cx="949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如图，利用两个长度均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c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绳子，分别围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一个正方形和圆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241280" y="36828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新知探究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987560" y="2168640"/>
            <a:ext cx="1709640" cy="1709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5"/>
          <p:cNvSpPr/>
          <p:nvPr/>
        </p:nvSpPr>
        <p:spPr>
          <a:xfrm>
            <a:off x="4842000" y="1989000"/>
            <a:ext cx="2025360" cy="2025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73080" y="3968640"/>
            <a:ext cx="94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，正方形和圆的面积哪个大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7"/>
              <p:cNvSpPr txBox="1"/>
              <p:nvPr/>
            </p:nvSpPr>
            <p:spPr>
              <a:xfrm>
                <a:off x="942840" y="4464000"/>
                <a:ext cx="218916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正方形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8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10"/>
              <p:cNvSpPr txBox="1"/>
              <p:nvPr/>
            </p:nvSpPr>
            <p:spPr>
              <a:xfrm>
                <a:off x="1962000" y="5743440"/>
                <a:ext cx="630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11"/>
              <p:cNvSpPr txBox="1"/>
              <p:nvPr/>
            </p:nvSpPr>
            <p:spPr>
              <a:xfrm>
                <a:off x="3699000" y="4419720"/>
                <a:ext cx="222228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圆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8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12"/>
              <p:cNvSpPr txBox="1"/>
              <p:nvPr/>
            </p:nvSpPr>
            <p:spPr>
              <a:xfrm>
                <a:off x="4211640" y="5724360"/>
                <a:ext cx="89532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6" name="Object 13"/>
          <p:cNvGraphicFramePr/>
          <p:nvPr/>
        </p:nvGraphicFramePr>
        <p:xfrm>
          <a:off x="6192720" y="5229360"/>
          <a:ext cx="2657520" cy="90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720" y="5229360"/>
                    <a:ext cx="265752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8" name="Object 14"/>
              <p:cNvSpPr txBox="1"/>
              <p:nvPr/>
            </p:nvSpPr>
            <p:spPr>
              <a:xfrm>
                <a:off x="5538960" y="2378160"/>
                <a:ext cx="66348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15"/>
              <p:cNvSpPr txBox="1"/>
              <p:nvPr/>
            </p:nvSpPr>
            <p:spPr>
              <a:xfrm>
                <a:off x="2575080" y="2513160"/>
                <a:ext cx="53172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wheel spokes="8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27000" y="907920"/>
            <a:ext cx="949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如图，利用两个长度均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c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绳子，分别围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一个正方形和圆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285920" y="324000"/>
            <a:ext cx="26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新知探究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987560" y="1943280"/>
            <a:ext cx="1709640" cy="1709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5"/>
          <p:cNvSpPr/>
          <p:nvPr/>
        </p:nvSpPr>
        <p:spPr>
          <a:xfrm>
            <a:off x="4797360" y="1673280"/>
            <a:ext cx="2025720" cy="2025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33440" y="3743280"/>
            <a:ext cx="764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，正方形和圆的面积哪个大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7"/>
              <p:cNvSpPr txBox="1"/>
              <p:nvPr/>
            </p:nvSpPr>
            <p:spPr>
              <a:xfrm>
                <a:off x="927000" y="4464000"/>
                <a:ext cx="235584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正方形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10"/>
              <p:cNvSpPr txBox="1"/>
              <p:nvPr/>
            </p:nvSpPr>
            <p:spPr>
              <a:xfrm>
                <a:off x="1916280" y="5859360"/>
                <a:ext cx="6300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11"/>
              <p:cNvSpPr txBox="1"/>
              <p:nvPr/>
            </p:nvSpPr>
            <p:spPr>
              <a:xfrm>
                <a:off x="3672000" y="4373640"/>
                <a:ext cx="222228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圆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12"/>
              <p:cNvSpPr txBox="1"/>
              <p:nvPr/>
            </p:nvSpPr>
            <p:spPr>
              <a:xfrm>
                <a:off x="4167360" y="5678640"/>
                <a:ext cx="109512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13"/>
              <p:cNvSpPr txBox="1"/>
              <p:nvPr/>
            </p:nvSpPr>
            <p:spPr>
              <a:xfrm>
                <a:off x="6237360" y="5273640"/>
                <a:ext cx="265896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正方形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圆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4"/>
              <p:cNvSpPr txBox="1"/>
              <p:nvPr/>
            </p:nvSpPr>
            <p:spPr>
              <a:xfrm>
                <a:off x="5427720" y="2168640"/>
                <a:ext cx="66348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5"/>
              <p:cNvSpPr txBox="1"/>
              <p:nvPr/>
            </p:nvSpPr>
            <p:spPr>
              <a:xfrm>
                <a:off x="2575080" y="2259000"/>
                <a:ext cx="53172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wheel spokes="8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27000" y="966960"/>
            <a:ext cx="949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如图，利用两个长度均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c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绳子，分别围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一个正方形和圆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241280" y="324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新知探究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1987560" y="2124000"/>
            <a:ext cx="1709640" cy="1709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5"/>
          <p:cNvSpPr/>
          <p:nvPr/>
        </p:nvSpPr>
        <p:spPr>
          <a:xfrm>
            <a:off x="4842000" y="1989000"/>
            <a:ext cx="1890720" cy="1844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8680" y="3924360"/>
            <a:ext cx="87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能得到什么猜想？改变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取值再试一试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Object 7"/>
          <p:cNvGraphicFramePr/>
          <p:nvPr/>
        </p:nvGraphicFramePr>
        <p:xfrm>
          <a:off x="3492360" y="4689360"/>
          <a:ext cx="146232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4689360"/>
                    <a:ext cx="14623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9" name="Object 10"/>
              <p:cNvSpPr txBox="1"/>
              <p:nvPr/>
            </p:nvSpPr>
            <p:spPr>
              <a:xfrm>
                <a:off x="5538960" y="2279520"/>
                <a:ext cx="66348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11"/>
              <p:cNvSpPr txBox="1"/>
              <p:nvPr/>
            </p:nvSpPr>
            <p:spPr>
              <a:xfrm>
                <a:off x="2575080" y="2368440"/>
                <a:ext cx="53172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wheel spokes="8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0" y="1042920"/>
            <a:ext cx="940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通过测量一棵树的树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树干的周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以计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算它的树龄。通常以树干离地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5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地方作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测量部位。某棵树栽种时的树围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c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以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内每年约增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c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这棵树至少生长多少年其树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围才能超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 c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只列关系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9" descr="8x004"/>
          <p:cNvPicPr/>
          <p:nvPr/>
        </p:nvPicPr>
        <p:blipFill>
          <a:blip r:embed="rId1"/>
          <a:srcRect l="46765" t="37660" r="16476" b="40761"/>
          <a:stretch/>
        </p:blipFill>
        <p:spPr>
          <a:xfrm>
            <a:off x="4886280" y="3203640"/>
            <a:ext cx="3870360" cy="31878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0"/>
          <p:cNvSpPr/>
          <p:nvPr/>
        </p:nvSpPr>
        <p:spPr>
          <a:xfrm>
            <a:off x="832320" y="3743280"/>
            <a:ext cx="335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设这棵树至少生长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年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树围才能超过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0 cm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Object 11"/>
          <p:cNvGraphicFramePr/>
          <p:nvPr/>
        </p:nvGraphicFramePr>
        <p:xfrm>
          <a:off x="1082520" y="4915080"/>
          <a:ext cx="2482920" cy="62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2520" y="4915080"/>
                    <a:ext cx="248292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Text Box 12"/>
          <p:cNvSpPr/>
          <p:nvPr/>
        </p:nvSpPr>
        <p:spPr>
          <a:xfrm>
            <a:off x="1150920" y="368280"/>
            <a:ext cx="23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新知探究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181160" y="414360"/>
            <a:ext cx="24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合作交流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204840" y="1108080"/>
            <a:ext cx="73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观察下列关系式，你有什么发现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Object 6"/>
          <p:cNvGraphicFramePr/>
          <p:nvPr/>
        </p:nvGraphicFramePr>
        <p:xfrm>
          <a:off x="4481640" y="3564000"/>
          <a:ext cx="211284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1640" y="3564000"/>
                    <a:ext cx="21128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7"/>
          <p:cNvGraphicFramePr/>
          <p:nvPr/>
        </p:nvGraphicFramePr>
        <p:xfrm>
          <a:off x="1781280" y="1763640"/>
          <a:ext cx="1725480" cy="122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81280" y="1763640"/>
                    <a:ext cx="1725480" cy="12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8"/>
          <p:cNvGraphicFramePr/>
          <p:nvPr/>
        </p:nvGraphicFramePr>
        <p:xfrm>
          <a:off x="4381560" y="1719360"/>
          <a:ext cx="2457360" cy="122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4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81560" y="1719360"/>
                    <a:ext cx="2457360" cy="12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10"/>
          <p:cNvSpPr/>
          <p:nvPr/>
        </p:nvSpPr>
        <p:spPr>
          <a:xfrm>
            <a:off x="2411280" y="4778280"/>
            <a:ext cx="40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由不等号连接而成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Object 11"/>
          <p:cNvGraphicFramePr/>
          <p:nvPr/>
        </p:nvGraphicFramePr>
        <p:xfrm>
          <a:off x="1781280" y="3159000"/>
          <a:ext cx="1461960" cy="109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7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81280" y="3159000"/>
                    <a:ext cx="146196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8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4T06:15:19Z</dcterms:created>
  <dc:creator/>
  <dc:description/>
  <dc:language>en-US</dc:language>
  <cp:lastModifiedBy/>
  <dcterms:modified xsi:type="dcterms:W3CDTF">2014-03-04T06:15:26Z</dcterms:modified>
  <cp:revision>1</cp:revision>
  <dc:subject/>
  <dc:title/>
</cp:coreProperties>
</file>