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35BD-ECD9-40D7-B984-21C6E6D02BD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8FDC-0E4C-4C76-918F-E46D9362690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C13E-6761-4188-8132-0A907B9BBAC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928B-19A2-4332-8A66-7688470053B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7F48-A6A7-4369-8752-11DF9EABCAC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8611-DE8C-4C13-BF7B-56D2D15C363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95CF-8319-40A0-BF67-B7A986404DB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6B42-BED8-479F-88C3-8CC4AB42E46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C821-B743-4C7F-B310-300CA7832B9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E646-D4EF-4B2C-8F9E-31D5C173C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2DB5-01E6-414B-BD7D-CA4ACEEF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0BA1-85C8-4D44-AF91-889654A99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113F-953A-463F-8057-82E512CE4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447C-618E-4946-B576-49C9ABA9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21A9-CAD0-4E18-AFC1-4683D20E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8CA5-6BFD-4DB3-9D0A-4EDD76E0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E2D2-29F4-44D3-ABE6-B928D158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BF5E-4C2C-4BD0-9CA9-963F88CD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1EF4-3018-4600-A180-AB3D48FC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ECE3-F4EC-47E3-B1A9-A1344EB9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D22E-EAFC-4FDA-AD78-47455AA4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638C-0E4D-47F3-98AC-639C3EA0A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857240" y="2928960"/>
            <a:ext cx="5724720" cy="703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黑体"/>
                <a:ea typeface="黑体"/>
              </a:rPr>
              <a:t>2.4 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一元一次不等式（</a:t>
            </a:r>
            <a:r>
              <a:rPr b="1" lang="en-US" sz="4000" spc="-1" strike="noStrike">
                <a:solidFill>
                  <a:srgbClr val="ff00ff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000080" y="1143000"/>
            <a:ext cx="72723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第二章   一元一次不等式与一元一次不等式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395280" y="507060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求不等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+1) ≤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正整数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68360" y="2212920"/>
            <a:ext cx="84247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一元一次不等式大致要分五个步骤进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去分母；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去括号；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移项；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合并同类项；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系数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注意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在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和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中，如果乘数或除数是负数，要改变不等号的方向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50920" y="161460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解一元一次不等式的一般步骤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7"/>
          <p:cNvGrpSpPr/>
          <p:nvPr/>
        </p:nvGrpSpPr>
        <p:grpSpPr>
          <a:xfrm>
            <a:off x="642960" y="214200"/>
            <a:ext cx="2089080" cy="647280"/>
            <a:chOff x="642960" y="214200"/>
            <a:chExt cx="2089080" cy="647280"/>
          </a:xfrm>
        </p:grpSpPr>
        <p:pic>
          <p:nvPicPr>
            <p:cNvPr id="54" name="Picture 8" descr=""/>
            <p:cNvPicPr/>
            <p:nvPr/>
          </p:nvPicPr>
          <p:blipFill>
            <a:blip r:embed="rId1"/>
            <a:stretch/>
          </p:blipFill>
          <p:spPr>
            <a:xfrm>
              <a:off x="642960" y="231840"/>
              <a:ext cx="2089080" cy="62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9"/>
            <p:cNvSpPr/>
            <p:nvPr/>
          </p:nvSpPr>
          <p:spPr>
            <a:xfrm>
              <a:off x="1162080" y="214200"/>
              <a:ext cx="156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复  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468360" y="141300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某种商品进价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，标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出售，商场规定可以打折销售，但其利润不能少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请你帮忙计算一下，这种商品最多可以按几折销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7"/>
          <p:cNvGrpSpPr/>
          <p:nvPr/>
        </p:nvGrpSpPr>
        <p:grpSpPr>
          <a:xfrm>
            <a:off x="785880" y="214200"/>
            <a:ext cx="2089080" cy="502920"/>
            <a:chOff x="785880" y="214200"/>
            <a:chExt cx="2089080" cy="502920"/>
          </a:xfrm>
        </p:grpSpPr>
        <p:pic>
          <p:nvPicPr>
            <p:cNvPr id="58" name="Picture 8" descr=""/>
            <p:cNvPicPr/>
            <p:nvPr/>
          </p:nvPicPr>
          <p:blipFill>
            <a:blip r:embed="rId1"/>
            <a:stretch/>
          </p:blipFill>
          <p:spPr>
            <a:xfrm>
              <a:off x="785880" y="227880"/>
              <a:ext cx="2089080" cy="4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9"/>
            <p:cNvSpPr/>
            <p:nvPr/>
          </p:nvSpPr>
          <p:spPr>
            <a:xfrm>
              <a:off x="1305000" y="214200"/>
              <a:ext cx="156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情景引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250920" y="112536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次环保知识竞赛共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道题，规定答对一道题得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，答错或不答一道题扣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，在这次竞赛中，小明被评为优秀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或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以上），小明至少答对了几道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7"/>
          <p:cNvGrpSpPr/>
          <p:nvPr/>
        </p:nvGrpSpPr>
        <p:grpSpPr>
          <a:xfrm>
            <a:off x="714240" y="214200"/>
            <a:ext cx="2089440" cy="502920"/>
            <a:chOff x="714240" y="214200"/>
            <a:chExt cx="2089440" cy="502920"/>
          </a:xfrm>
        </p:grpSpPr>
        <p:pic>
          <p:nvPicPr>
            <p:cNvPr id="62" name="Picture 8" descr=""/>
            <p:cNvPicPr/>
            <p:nvPr/>
          </p:nvPicPr>
          <p:blipFill>
            <a:blip r:embed="rId1"/>
            <a:stretch/>
          </p:blipFill>
          <p:spPr>
            <a:xfrm>
              <a:off x="714240" y="227880"/>
              <a:ext cx="2089440" cy="4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9"/>
            <p:cNvSpPr/>
            <p:nvPr/>
          </p:nvSpPr>
          <p:spPr>
            <a:xfrm>
              <a:off x="1233720" y="214200"/>
              <a:ext cx="156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情景引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 Box 8"/>
          <p:cNvSpPr/>
          <p:nvPr/>
        </p:nvSpPr>
        <p:spPr>
          <a:xfrm>
            <a:off x="324000" y="3213000"/>
            <a:ext cx="842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：设小明答对了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道题，则他答错或不答的共有（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5-x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道题，依题意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x-(25-x) ≥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这个不等式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≥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小明至少答对了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2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道题，他可能答对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2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3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4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或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5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道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1446480" y="90720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列不等式解应用题基本步骤是什么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713520" y="168516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找不等关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50880" y="2477520"/>
            <a:ext cx="15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设未知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1144800" y="3340800"/>
            <a:ext cx="30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不等关系，列不等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24000" y="4133160"/>
            <a:ext cx="38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解不等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324000" y="499680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实际情况，写出全部答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7"/>
          <p:cNvGrpSpPr/>
          <p:nvPr/>
        </p:nvGrpSpPr>
        <p:grpSpPr>
          <a:xfrm>
            <a:off x="1000080" y="142920"/>
            <a:ext cx="2089080" cy="502920"/>
            <a:chOff x="1000080" y="142920"/>
            <a:chExt cx="2089080" cy="502920"/>
          </a:xfrm>
        </p:grpSpPr>
        <p:pic>
          <p:nvPicPr>
            <p:cNvPr id="72" name="Picture 8" descr=""/>
            <p:cNvPicPr/>
            <p:nvPr/>
          </p:nvPicPr>
          <p:blipFill>
            <a:blip r:embed="rId1"/>
            <a:stretch/>
          </p:blipFill>
          <p:spPr>
            <a:xfrm>
              <a:off x="1000080" y="156600"/>
              <a:ext cx="2089080" cy="4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9"/>
            <p:cNvSpPr/>
            <p:nvPr/>
          </p:nvSpPr>
          <p:spPr>
            <a:xfrm>
              <a:off x="1519200" y="142920"/>
              <a:ext cx="156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归纳方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52280" y="144792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次期中考试小华数学考得不好，没有     达到自己定的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90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分的目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由于要出去旅游，小华去商场买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T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恤衫，他身上带着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0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块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一小华跟爸爸妈妈去北京旅游，发现各景点门票都很贵，没有低于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元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路上小华看到一个限速标志，爸爸告诉他这是限制最高时速为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公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.   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小华买了几盒奶，上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写着保质期为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个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200705180011_1494983"/>
          <p:cNvPicPr/>
          <p:nvPr/>
        </p:nvPicPr>
        <p:blipFill>
          <a:blip r:embed="rId1"/>
          <a:stretch/>
        </p:blipFill>
        <p:spPr>
          <a:xfrm>
            <a:off x="7467480" y="4648320"/>
            <a:ext cx="1516320" cy="1447560"/>
          </a:xfrm>
          <a:prstGeom prst="rect">
            <a:avLst/>
          </a:prstGeom>
          <a:ln w="0">
            <a:noFill/>
          </a:ln>
        </p:spPr>
      </p:pic>
      <p:sp>
        <p:nvSpPr>
          <p:cNvPr id="76" name="WordArt 4"/>
          <p:cNvSpPr txBox="1"/>
          <p:nvPr/>
        </p:nvSpPr>
        <p:spPr>
          <a:xfrm>
            <a:off x="838080" y="228600"/>
            <a:ext cx="731520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你是从语句中哪些地方看出不等关系的呢？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77" name="Picture 5" descr="1232569995558402055"/>
          <p:cNvPicPr/>
          <p:nvPr/>
        </p:nvPicPr>
        <p:blipFill>
          <a:blip r:embed="rId2"/>
          <a:stretch/>
        </p:blipFill>
        <p:spPr>
          <a:xfrm>
            <a:off x="914400" y="4952880"/>
            <a:ext cx="18288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324000" y="1341360"/>
            <a:ext cx="8208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直接型的不等关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可以通过一些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关键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如“大于，小于，不大于，不小于，至多，至少，不够，超过”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“各景点门票都很贵，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没有低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元的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隐含型的不等关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不等关系比较隐蔽，表面上没有关键词，需要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分析题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再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依据生活实际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得出不等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“他身上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带着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80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块钱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1071720" y="500040"/>
            <a:ext cx="2808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找不等关系的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468360" y="1125360"/>
            <a:ext cx="82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颖准备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钱买笔和笔记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已知每支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，每个笔记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，她买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笔记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你帮她算一算，她还可能买几支笔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7"/>
          <p:cNvGrpSpPr/>
          <p:nvPr/>
        </p:nvGrpSpPr>
        <p:grpSpPr>
          <a:xfrm>
            <a:off x="1000080" y="357120"/>
            <a:ext cx="2089080" cy="502920"/>
            <a:chOff x="1000080" y="357120"/>
            <a:chExt cx="2089080" cy="502920"/>
          </a:xfrm>
        </p:grpSpPr>
        <p:pic>
          <p:nvPicPr>
            <p:cNvPr id="82" name="Picture 8" descr=""/>
            <p:cNvPicPr/>
            <p:nvPr/>
          </p:nvPicPr>
          <p:blipFill>
            <a:blip r:embed="rId1"/>
            <a:stretch/>
          </p:blipFill>
          <p:spPr>
            <a:xfrm>
              <a:off x="1000080" y="370800"/>
              <a:ext cx="2089080" cy="4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9"/>
            <p:cNvSpPr/>
            <p:nvPr/>
          </p:nvSpPr>
          <p:spPr>
            <a:xfrm>
              <a:off x="1519200" y="357120"/>
              <a:ext cx="156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课堂练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Rectangle 8"/>
          <p:cNvSpPr/>
          <p:nvPr/>
        </p:nvSpPr>
        <p:spPr>
          <a:xfrm>
            <a:off x="395280" y="3141720"/>
            <a:ext cx="8569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取何值时，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方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x+3=3x+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解大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5T01:53:01Z</dcterms:created>
  <dc:creator/>
  <dc:description/>
  <dc:language>en-US</dc:language>
  <cp:lastModifiedBy/>
  <dcterms:modified xsi:type="dcterms:W3CDTF">2014-03-06T02:55:09Z</dcterms:modified>
  <cp:revision>1</cp:revision>
  <dc:subject/>
  <dc:title/>
</cp:coreProperties>
</file>