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D6C6-E710-4208-83E3-52809155C2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2B96-3CED-47E4-9672-AD810786A4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8DE-46B1-4AD0-B830-ECBC4A67A5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ACD-AB86-4397-B857-AB601EFFF8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3EC-92CB-4AEC-80CB-F2E3B5F4EE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8BCF-5B30-48D2-B9B2-7F669F9745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F29-DD38-4F12-870A-AA0D38F5D1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DB7E-2BEA-4A21-9953-0DB2D72AC7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581-FCCA-4CB0-98E5-E95F22267D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976-3D8E-4A80-84F4-2363C03E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D02-96C8-42FA-89E8-A0DF9813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BAC-3E0A-4983-9A33-C408CF5D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D97-0981-4F1E-B75F-54C1FE55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510-6EBE-4233-ACEE-AF25A153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F05-E1C2-4BCE-8AF9-CC26C8D0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D11-22E9-4153-857B-E50BFFC2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7EF-BD26-40C5-B530-2AB999E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BF9-3D90-46FE-B7A7-37D35C02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41B-C0C8-4580-8307-47C1C754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C03-8D4C-4566-B667-CD162617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E0E-7287-4821-8597-C229A09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6276-D506-4B69-A08B-FFEC7C22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7240" y="2928960"/>
            <a:ext cx="572472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2.4 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一元一次不等式（</a:t>
            </a:r>
            <a:r>
              <a:rPr b="1" lang="en-US" sz="4000" spc="-1" strike="noStrike">
                <a:solidFill>
                  <a:srgbClr val="ff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00080" y="1143000"/>
            <a:ext cx="7272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二章   一元一次不等式与一元一次不等式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5280" y="50706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求不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+1) ≤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整数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2212920"/>
            <a:ext cx="842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一元一次不等式大致要分五个步骤进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去分母；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去括号；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移项；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合并同类项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系数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和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中，如果乘数或除数是负数，要改变不等号的方向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16146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解一元一次不等式的一般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642960" y="214200"/>
            <a:ext cx="2089080" cy="647280"/>
            <a:chOff x="642960" y="214200"/>
            <a:chExt cx="2089080" cy="647280"/>
          </a:xfrm>
        </p:grpSpPr>
        <p:pic>
          <p:nvPicPr>
            <p:cNvPr id="54" name="Picture 8" descr=""/>
            <p:cNvPicPr/>
            <p:nvPr/>
          </p:nvPicPr>
          <p:blipFill>
            <a:blip r:embed="rId1"/>
            <a:stretch/>
          </p:blipFill>
          <p:spPr>
            <a:xfrm>
              <a:off x="642960" y="231840"/>
              <a:ext cx="2089080" cy="62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9"/>
            <p:cNvSpPr/>
            <p:nvPr/>
          </p:nvSpPr>
          <p:spPr>
            <a:xfrm>
              <a:off x="1162080" y="214200"/>
              <a:ext cx="15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复  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1413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种商品进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标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出售，商场规定可以打折销售，但其利润不能少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你帮忙计算一下，这种商品最多可以按几折销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785880" y="214200"/>
            <a:ext cx="2089080" cy="502920"/>
            <a:chOff x="785880" y="214200"/>
            <a:chExt cx="2089080" cy="502920"/>
          </a:xfrm>
        </p:grpSpPr>
        <p:pic>
          <p:nvPicPr>
            <p:cNvPr id="58" name="Picture 8" descr=""/>
            <p:cNvPicPr/>
            <p:nvPr/>
          </p:nvPicPr>
          <p:blipFill>
            <a:blip r:embed="rId1"/>
            <a:stretch/>
          </p:blipFill>
          <p:spPr>
            <a:xfrm>
              <a:off x="785880" y="22788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9"/>
            <p:cNvSpPr/>
            <p:nvPr/>
          </p:nvSpPr>
          <p:spPr>
            <a:xfrm>
              <a:off x="1305000" y="21420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情景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125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环保知识竞赛共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题，规定答对一道题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答错或不答一道题扣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在这次竞赛中，小明被评为优秀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以上），小明至少答对了几道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714240" y="214200"/>
            <a:ext cx="2089440" cy="502920"/>
            <a:chOff x="714240" y="214200"/>
            <a:chExt cx="2089440" cy="502920"/>
          </a:xfrm>
        </p:grpSpPr>
        <p:pic>
          <p:nvPicPr>
            <p:cNvPr id="62" name="Picture 8" descr=""/>
            <p:cNvPicPr/>
            <p:nvPr/>
          </p:nvPicPr>
          <p:blipFill>
            <a:blip r:embed="rId1"/>
            <a:stretch/>
          </p:blipFill>
          <p:spPr>
            <a:xfrm>
              <a:off x="714240" y="227880"/>
              <a:ext cx="208944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9"/>
            <p:cNvSpPr/>
            <p:nvPr/>
          </p:nvSpPr>
          <p:spPr>
            <a:xfrm>
              <a:off x="1233720" y="214200"/>
              <a:ext cx="15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情景引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8"/>
          <p:cNvSpPr/>
          <p:nvPr/>
        </p:nvSpPr>
        <p:spPr>
          <a:xfrm>
            <a:off x="324000" y="321300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：设小明答对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，则他答错或不答的共有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-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道题，依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-(25-x) ≥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这个不等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≥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小明至少答对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，他可能答对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6480" y="9072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不等式解应用题基本步骤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13520" y="16851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不等关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50880" y="247752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设未知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144800" y="33408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不等关系，列不等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24000" y="413316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不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49968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实际情况，写出全部答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1000080" y="142920"/>
            <a:ext cx="2089080" cy="502920"/>
            <a:chOff x="1000080" y="142920"/>
            <a:chExt cx="2089080" cy="502920"/>
          </a:xfrm>
        </p:grpSpPr>
        <p:pic>
          <p:nvPicPr>
            <p:cNvPr id="72" name="Picture 8" descr=""/>
            <p:cNvPicPr/>
            <p:nvPr/>
          </p:nvPicPr>
          <p:blipFill>
            <a:blip r:embed="rId1"/>
            <a:stretch/>
          </p:blipFill>
          <p:spPr>
            <a:xfrm>
              <a:off x="1000080" y="15660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9"/>
            <p:cNvSpPr/>
            <p:nvPr/>
          </p:nvSpPr>
          <p:spPr>
            <a:xfrm>
              <a:off x="1519200" y="14292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归纳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次期中考试小华数学考得不好，没有     达到自己定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的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要出去旅游，小华去商场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恤衫，他身上带着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块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一小华跟爸爸妈妈去北京旅游，发现各景点门票都很贵，没有低于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路上小华看到一个限速标志，爸爸告诉他这是限制最高时速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华买了几盒奶，上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着保质期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00705180011_1494983"/>
          <p:cNvPicPr/>
          <p:nvPr/>
        </p:nvPicPr>
        <p:blipFill>
          <a:blip r:embed="rId1"/>
          <a:stretch/>
        </p:blipFill>
        <p:spPr>
          <a:xfrm>
            <a:off x="7467480" y="4648320"/>
            <a:ext cx="1516320" cy="144756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838080" y="228600"/>
            <a:ext cx="73152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你是从语句中哪些地方看出不等关系的呢？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77" name="Picture 5" descr="1232569995558402055"/>
          <p:cNvPicPr/>
          <p:nvPr/>
        </p:nvPicPr>
        <p:blipFill>
          <a:blip r:embed="rId2"/>
          <a:stretch/>
        </p:blipFill>
        <p:spPr>
          <a:xfrm>
            <a:off x="914400" y="49528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24000" y="1341360"/>
            <a:ext cx="820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直接型的不等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可以通过一些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关键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“大于，小于，不大于，不小于，至多，至少，不够，超过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“各景点门票都很贵，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没有低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的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隐含型的不等关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不等关系比较隐蔽，表面上没有关键词，需要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分析题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依据生活实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出不等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“他身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带着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块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071720" y="500040"/>
            <a:ext cx="2808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找不等关系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68360" y="1125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颖准备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钱买笔和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每支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每个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她买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笔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帮她算一算，她还可能买几支笔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1000080" y="357120"/>
            <a:ext cx="2089080" cy="502920"/>
            <a:chOff x="1000080" y="357120"/>
            <a:chExt cx="2089080" cy="502920"/>
          </a:xfrm>
        </p:grpSpPr>
        <p:pic>
          <p:nvPicPr>
            <p:cNvPr id="82" name="Picture 8" descr=""/>
            <p:cNvPicPr/>
            <p:nvPr/>
          </p:nvPicPr>
          <p:blipFill>
            <a:blip r:embed="rId1"/>
            <a:stretch/>
          </p:blipFill>
          <p:spPr>
            <a:xfrm>
              <a:off x="1000080" y="370800"/>
              <a:ext cx="208908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9"/>
            <p:cNvSpPr/>
            <p:nvPr/>
          </p:nvSpPr>
          <p:spPr>
            <a:xfrm>
              <a:off x="1519200" y="357120"/>
              <a:ext cx="156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课堂练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8"/>
          <p:cNvSpPr/>
          <p:nvPr/>
        </p:nvSpPr>
        <p:spPr>
          <a:xfrm>
            <a:off x="395280" y="3141720"/>
            <a:ext cx="856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何值时，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x+3=3x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1:53:01Z</dcterms:created>
  <dc:creator/>
  <dc:description/>
  <dc:language>en-US</dc:language>
  <cp:lastModifiedBy/>
  <dcterms:modified xsi:type="dcterms:W3CDTF">2014-03-06T02:55:09Z</dcterms:modified>
  <cp:revision>1</cp:revision>
  <dc:subject/>
  <dc:title/>
</cp:coreProperties>
</file>