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dt" idx="73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 type="sldNum" idx="75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CC87-0E7F-4BD5-845F-91909DD054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B893-BA57-46DB-9804-093719243F9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A14-E403-4258-9668-E6D083A3F3D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2C0-63D6-4EFE-A63F-CC51F6AF7CB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1029-438F-414D-A42E-CC4F636A7A8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F79-C0AF-49A8-A778-1C1063684DA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047-2484-44AA-8F1C-B3A995EFCCD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0C9-7BA2-4219-9CA2-93C5ACD2805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7F0-54F6-4667-8654-9093903A217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D52-4593-4779-94D5-3FEF2B33AA0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C93-45C2-40A9-9594-214EE23F5E3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6FF-F8DD-4E00-964D-6D82DC71A7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435-4723-4ADF-8BCB-4CDEE10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A21-F154-4FFF-9E63-508CF4B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47DF-A24B-4A2E-9DEC-952D02E4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9DAFB-FF50-4004-8D33-0D72980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54C1B-621B-4ABC-B25E-82E4923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B50AA-3ED7-45C8-BA06-180F530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0782A-F97E-45E8-8C7E-B4FF68F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795A-9366-4074-BD2D-AD55E60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B6D5-7B4D-46B6-9198-373D4AD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A16C-DCB2-4D18-A9E3-2E40891E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181F4-403C-49A3-974C-A76B8691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84F88-E0D2-4E5F-88BE-A93C0B0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39F-80CE-4D74-9DB8-61B39F88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D2273-EC6D-4B6B-8442-EF3AD4C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2FB2B-346D-4AD1-A8BC-825659EE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93A3A-EF65-4916-AB57-949CD72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F8622-28AC-4A6A-9582-D280B08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AF060-D7E2-4724-BB58-3BDBB1CE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C4D0-A57F-4F8B-9E29-F1DAE4D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105DC-1C57-467B-A7E2-912BD0B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B23C5-19A2-4CD0-BD23-31CFAAD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89755-2B16-44E2-AD92-4E03794B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61F64-C22C-4711-845D-2EB6C9BA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D60-E74D-4338-ABA1-D7DA571E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AAAD3-9C87-45DF-8889-CF453F9F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39C05-838C-4BCA-8682-3CFBF1EC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15ED-4433-4716-9761-9143CA87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B1014-48BF-49EE-A54F-03CD9B8C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A7F9B-C987-453D-AACC-79690527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725BA-1C67-43D4-9014-6FCF4D94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3D2F-8B0A-4736-A92C-107DA728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BCA5-6483-44E0-8B4B-CC0585AD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48CEA-1D61-4374-A0E6-2575C14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3199-C673-4618-85F4-B44851C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4F4A-2A64-4F3A-AE52-8F0C7BBB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6143-AD3B-4DA1-A1E7-2A5CF3F3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9855-92CD-4EAC-9ACD-401C9E1F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F448-F7E9-4A0A-9CA0-787AAAD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1E202-B812-45E8-9D2A-E0C9C10C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0D8C8-E29E-4CF4-9B23-DE89CCAB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07F2B-B8C2-4DC9-8152-76E9509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3EF6F-48A1-4435-A57F-8552B2C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F16E3-F807-46C6-AAFB-98FC1710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A057-2A5E-4CEB-8B16-BF023726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6CC82-83F3-462D-882D-2BD041C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13CE-BB09-4ACB-87ED-9358B3D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4FAA5-878C-4054-ABCC-AB623A35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4B125-C330-4C44-BDC0-283F494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02D29-DDC1-45FC-A923-243A6DF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2D91F-6A05-4124-BAF4-19F064B6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D5174-5B6C-4AF5-A7D0-B630A265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254C7-0B95-47D7-B203-6E076D78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9EAAA-B8E0-459C-A629-260C7F1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1553B-22BF-43B5-B7BA-4D3C9A6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3924B-9FE5-4264-93FF-7286658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A8ACB-F921-47DE-8098-28BD65F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FAC-7E5C-491D-B4CC-35528BC8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613F8-F11D-4212-A866-82AFDE1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4B52F-BCA1-49BC-A04E-E4E50ED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6ACD7-C50B-4468-A575-F7796AD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9754B-3A87-4F94-A668-E059BB7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EB418-61AD-411D-BFA0-A871FC93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5D169-ECDD-48AE-8842-8F93E8A4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840CF-611D-43AE-8767-3C1E3756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8325A-C851-41F9-A443-0879D49C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8847F-11E3-40C4-86B0-63C03D47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5188F-0885-4853-9053-C630BDF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D3D0-E0E0-40E4-BCAD-6E5E8E4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199CE-169D-4A4D-B7BD-B981192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CFA16-5628-4F19-A4BC-ED911CFA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12171-0EDF-4F73-BDBF-2418769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16A69-1439-4086-A6F0-DD719F7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1D747-BD68-4835-8463-CCF74C9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2B446-DCD7-49E7-A1B6-8D6FA62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C0A99-A11D-4290-BBD7-0A051D9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42980-11D0-446A-9443-1935290A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C01B6-AD7A-47B8-9C01-DDA2488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00196-60CB-45CA-843E-A7C051D2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AA0E-07CF-488E-B420-547381FC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7708C-BBFD-42CD-8B6D-864D40F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B7EB6-FA5F-4AE0-AAEC-CB62604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CEBFB-F2CF-4426-8151-27680E4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00A6B-2F9D-4F0F-B878-BBC5CEC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A5648-F1C3-4CEA-9296-D11C9346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1B4C9-6421-4D97-B0B4-4FD1C76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A0143-6921-4222-A898-D56B133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61FA1-378D-40EB-8C25-CCB7BC5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CAFEF-0361-4B3F-8B15-B3BDEEA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C74E0-C7AD-4EB5-AF49-3D7A39ED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2A0-1C8A-4D4E-8ECB-B5ABDBF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8CE23-B906-45DD-8E24-659870B2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2DCA5-AA0A-4753-8817-F1ECBAD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4B956-330A-4B9A-9493-49ADB45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18A2D-4A9F-4397-8BBC-292DD7B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3696A-82E2-4A27-A085-7293F6F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4A627-1A47-47D7-9B83-803888A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BFF72-3BED-41BA-9E14-F37D109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D1156-BC43-4829-97DB-85A8B3E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1EFB5-36F6-4A88-BAB8-5651FA6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544C6-9186-4B98-BCA4-652F0FF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8B4F-1735-4A4E-A288-DCAC7B31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1149C-E94A-487F-AEBB-50E8B9A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30046-1E35-4166-B9EA-348A804D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214DE-EEFD-483A-A4AE-5CF113E8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AF88B-DDDB-417D-8FEE-717511A1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079DA-7D0A-4425-A02F-31B8D3B4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ACADF-3DFC-429D-BEFF-412489C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FFFA4-9EBB-4A8C-B2CB-1B80FB8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EFBE1-8046-4C4E-ABB8-D454A0B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DA01F-D982-4B5D-A25F-4392A397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BBEED-F73E-4518-9102-97D80F7A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B41-299E-4AB3-A4FE-DCF11FBD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64A9-4BB8-4465-A1A8-50C39D9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D0E08-E449-42F0-8F00-7F7C4D0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B555F-DBAF-4261-A75E-43A787B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CCED8-F172-4721-B7E0-30C36E83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5588C-F20F-498F-8467-77E13EE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7B565-03BC-4EAB-AD1D-28177011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A0B30-491C-4BBB-8F24-41382A99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5A54B-6E6C-467F-B033-6CB99B1D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C3FEA-13A6-4F64-BCF4-D650614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89A48-BC42-4A28-A51C-E2CF906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FED1A-09F8-44ED-AAEF-DAE9908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3A52-2C34-4003-9914-5EC1BB3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8C162-6629-4C2F-AC05-318499E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04D96-AD50-4EAE-96F3-4BA1482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09F73-71DE-41E2-B69E-6830204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CE69A-E1D2-4D69-91E8-679D6B3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F7D1C-854B-4891-A2A2-343FB76F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43FFC-8B4E-4F45-91A6-D6AEBE21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3E13C-CDB9-4DA0-BFAA-6094167A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608B8-8042-4828-AB96-46B85C5A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E5E27-AEFF-49AB-88E1-712F5D0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8B5C1-01A3-4E85-8E0F-2346BE1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4CE-2D58-42AA-9570-146A2F42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3F374-0C95-4E64-AA37-E46B1EA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20CF0-AFDE-4E7D-9598-56D948A3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C87E8-FB1B-4EA3-A0FF-F862AEA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44A13-F564-47B3-9EC9-F6E6726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4980B-074E-4E82-BC3F-C07BD41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12CF4-7056-40A9-8A5C-786286F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32BF5-C83D-4109-BA99-96301DF5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1E11D-EF1F-4CE5-B7F6-BB035386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77993-0699-4881-BE45-B5F0001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C64DA-9BF4-495D-B725-9664B1B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0BBF-9CAF-4C03-AEB4-E57CE3DB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E2A4E-6CB4-44D4-9695-82D2B61B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EC065-54E0-4939-8771-1E4750A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39AE3D-91E3-4A1C-8525-1A789BC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BEE83-15BD-40D5-A44E-A8EF0D6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86629-4A2C-4B03-AF6C-2327AB5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3FE76-20C8-42E3-964C-3093C140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1D3A67-ADD2-4AEF-AF4D-92CD780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DD240-C566-41B0-9F1D-A80243A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06810-885F-4224-A384-9B03F200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9BAE2-032D-493C-BF4F-2F41384E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B7F-2F4A-4344-A8B3-176F939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107DD-7689-4B33-9AAB-E07DEE98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8CD87-0F2D-4012-8117-E6BAABB2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CAC57-43FC-47C8-8150-6C94DA4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A8983-B0FF-4FC6-961A-F325979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B4918-D3CD-4816-A565-3CE90D7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D0933-43E3-41E0-8B90-418327B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B9E6F-F663-47BC-BEC0-4A040CD5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6BCD9-D436-4F0B-B250-2EB3F23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E5F14-D3E2-4ACA-AFE1-155AC6E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07DBC-F65C-478A-80D1-09F669D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2D6B-22A5-420A-9B56-F4688BA4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D38F4-D1F3-4A9D-857A-4A4233F8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B68D2-04A3-47F0-B43D-6A0E0574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0EF0A-F371-43D0-B044-76FE8120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F2BC6-989B-4E0A-82FF-4F624856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17C8CD-DC76-4375-8B1A-1FD19AF9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48681-926A-4693-80DC-82710195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69ADED-3D9C-4094-B9C7-DC3E6140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67B18-4ECA-4320-94A3-55DDF8E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F2F50-4944-4E73-AD94-3162E22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7BE96-5055-46C1-957D-08D76A1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03B2-896A-47DC-976D-542AEC8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2DF05F-ECE1-4C51-BE94-3007FD9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C5E235-38AD-4369-8CBB-C536C93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894D1-B259-462B-8EED-6CF01EB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58F39-2136-4581-86E7-A5DEBDC7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4C1992-FEDB-4062-BDAD-147A188F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89BD1-D23B-4DED-88D1-C0C63ADB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CB0FC-A81A-4E5A-96D4-85049E69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A3E58-4395-43F4-9B57-6E55929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B08E2E-0ED4-4829-9A7C-52A5D642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EFB50E-01BC-4556-B303-C5B5BCC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1E10-5BF1-4E8C-8C50-F1B1DFB8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2D1505-42B0-4AC2-85F3-933DE0BB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19C572-C430-44E5-9726-6A4E829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275E7-8C72-4153-AF8D-B44278CA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0CF57-872B-43E0-866C-289F0F7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A5740-6B24-480B-AE76-92A09117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7DF12C-22CB-4716-8BCC-FE63D25B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FD067-6BAE-4DEE-9EC2-07CBBFA9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229A19-192B-42DB-988A-418909DB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F8F372-1FDB-40A0-A21C-6F7B83C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C8C7D-3846-4A9E-B52F-A46F384B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5FF7-6ED5-4729-A76C-3A60F02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6D7F0-2299-40CE-A553-852D30D2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63C80-D9F2-4736-86CC-E3047FFA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E9083-9282-4858-9636-1049D85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EC6F5E-ED76-483E-B6F6-F986429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648584-C041-407C-A05C-7F91A32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E98087-8E89-4C33-8045-343124DE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31EEB9-666C-4B20-B76D-AF535AA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C32B1F-4FA1-4D19-8F78-D6C56CFB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4E9FD-9FEC-4836-BF86-7D73889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7B33-81F7-4AA3-A636-717E74A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493-E1AF-4027-9C49-BB298AB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9D15-B725-4772-A235-C153BC6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17C1-53A1-4E87-84FC-7D8DD7E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949E-4C55-4696-9641-94B2194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0916-A9B8-47DB-9020-4C5D1B1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3C8F-A52C-41E1-AB21-82AAC54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5B30-A407-4FD3-B637-B603AE10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13D2-E74F-4371-8717-DA72710B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ABC2-8779-4F77-9593-94971537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80F6-2F8B-472E-8A6D-3F35AF4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FC96-B29D-4155-B528-C9A746BD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EC1-F378-424A-BC04-65FC54D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3568-9E77-41E3-98DF-EDE3A7A3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C6CA-9B01-4CF9-A641-F62CDEDE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0383-0A0C-43C6-B476-8473F810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5F23-7EF5-40DE-BC6E-1055541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84CA-2D46-40B9-A2D9-41D6AD1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D440-8612-4BEC-9BA0-4D28DE6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0972-BD7D-43CA-98F2-26845CEE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D0E5-DCD7-42A1-910F-086CF471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A665-C772-4C4F-8075-60B08B9A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04F4-90C6-441D-BCCD-2B1A0D63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993-5146-4F14-8A9D-1E79425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F4B6-2CAF-4ED9-89D1-72B53FA9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BC69-11D5-4F30-B7A4-B729863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91C5-6A4A-46F6-B8C8-ADDD4B1E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0AAF-E862-487A-9FCE-AC78561B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6584-39E8-44C6-AB0B-59EE6916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B304-93D8-40CD-B2A1-6F8E281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224D-318C-4FA0-8AC1-084F41B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D3A3-F6D8-4B9E-9F29-39E83A1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B100-454D-497D-9FDB-C3FB6FFB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AB81-DF85-4AC8-97B1-4BAE4DFB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503-8C37-4AC9-9BAE-DF16A5B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C7147-F25D-4B68-9F1F-80EBC60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6990-3A89-48E8-B73D-7EE559DE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86BD-A28B-451D-A9BE-3D7B7B78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7853-F276-4EC1-A88A-5731C33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9A66-0969-4226-9E5C-E7B7D74F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D9F9-EBE5-48D8-9148-F03CF4D9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F412-A1AE-4F2F-97E9-FDA3FDE0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AA35-468B-4D36-BB8A-0C1DFCE6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8DCD-0BFC-487B-838D-0A32963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8134B-A0C6-4405-AEDF-5C71A16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8E6-54FA-4E80-877D-927D887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56FA-80C6-4192-84E9-75790DF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085B-9822-45D6-9108-F22418CE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E8D36-A129-45A2-BC84-F96C6FFA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52C6-4E03-47D5-BD69-DFE27194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4B22-DA22-45C0-BB1B-CD6D269E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C10F-FF99-415D-BA89-BFE0E76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B124-4CB8-4E04-93B3-84E1E3E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E193-771B-4F20-8976-55C1F0A5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7C3F-AE07-4E4A-8145-ABBDF3C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E94A-E1F1-429A-8AE5-9C0ED6C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566-8FED-44D1-8BD8-63A09E0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01FB-F24A-4E6E-A375-970B9DD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94DF7-7FDB-48FD-B82C-48E86E7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5CF9-E1E3-4830-9162-DBA0B4F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D748-AE4A-433D-9702-5F785048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6D1B-CD0E-4DAE-978B-D98046B7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F701F-062A-49F6-8C48-212ED61E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A451D-582A-40A8-AC83-C87C4B1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8893-0D9B-4CD9-8EE9-A5C7F4B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672C-2C07-48F9-9B7E-FD85820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88CF-6C21-426B-992F-94AB6259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E6B-8F47-4A4B-BBEC-5904605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6D18-8F6B-4FD9-97D6-1F7A82F0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A829-E201-43BB-B05E-FA99977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9DC8-42C7-4F21-AAB8-5017D3A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2252-45FB-4C8F-9DF0-D1BE7D3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6016F-4352-485C-B14C-B148C2D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AC99-7778-4885-9E64-1C20AA28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C380C-FB7B-4B77-89D6-A63F6352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A5A01-E99D-46F6-AB97-77D377E3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98636-34A2-497B-9FC6-76E1BA5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1B7B-AB09-43E1-A420-07ECE14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016-56E6-4A91-93F0-36D942C988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2D20-D1AC-44A7-9D99-1E10D9E51D3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4BE-84AB-466C-822B-1F45443B9B2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216C-1686-4385-B488-1B9A7F54484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D24-FBE5-49E3-8F54-AD5059E66A9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0109-EE21-4E68-A9E0-8F8A0DD2D47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E6E-839A-4B75-8CF6-56EB1F7882D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F78-9E33-475B-B514-F151063D9A2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7F1-DC31-4F52-B5BD-0173C7F0684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468-B27C-4661-BB6C-D59685E9B4C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FEF-6DF7-4A73-849E-74E4A9B9663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102C-A1A6-45D6-B37F-A33A139EE5F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B9C0-0A79-4FF1-9F0E-55CA02A163B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FBD-E758-48C1-8082-1364BE52416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A09-4056-4922-9EE9-096BBE178AC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DC8D-C142-48FB-B6EA-087378286C4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A071-4111-44FF-A46F-8A3772711AC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A2A-B464-46CD-A495-F08BC136C1B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C4F-0D96-4EAD-9447-8D36BFD250B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D8E9-A7F8-45C5-B19B-4EB2C8CCD88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7650-930C-484E-8C49-00A3AAF15A8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672-1B97-4D79-9CE3-2F14AFBFC9D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1A4-D21D-48C0-B0B4-52BD4604EA6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060D-A7A2-483D-A4D6-D2C6E36C516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3"/>
          <p:cNvSpPr/>
          <p:nvPr/>
        </p:nvSpPr>
        <p:spPr>
          <a:xfrm>
            <a:off x="304920" y="12193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三章  图形的平移与旋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副标题 2"/>
          <p:cNvSpPr/>
          <p:nvPr/>
        </p:nvSpPr>
        <p:spPr>
          <a:xfrm>
            <a:off x="1523880" y="31240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3.1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图形的平移（三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228600" y="533520"/>
            <a:ext cx="8686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平移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纵坐标不变，横坐标分别增加（减少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单位时，图形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移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 单位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横坐标不变，纵坐标分别增加（减少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单位时，图形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单位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243828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向右（向左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2438280" y="3200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向上（向下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2743200" y="152280"/>
            <a:ext cx="2514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6"/>
          <p:cNvSpPr/>
          <p:nvPr/>
        </p:nvSpPr>
        <p:spPr>
          <a:xfrm>
            <a:off x="228600" y="3886200"/>
            <a:ext cx="8763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横坐标分别增加（减少）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单位、纵坐标分别增加（减少）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单位时，图形是怎样平移的？请你与同学交流，并总结有哪几种平移方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作业布置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课本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3.3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-146160" y="914040"/>
            <a:ext cx="921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一个图形沿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轴方向平移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a&gt;0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）个单位长度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Rectangle 3"/>
          <p:cNvSpPr/>
          <p:nvPr/>
        </p:nvSpPr>
        <p:spPr>
          <a:xfrm>
            <a:off x="685800" y="2133720"/>
            <a:ext cx="129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 , 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4"/>
          <p:cNvSpPr/>
          <p:nvPr/>
        </p:nvSpPr>
        <p:spPr>
          <a:xfrm>
            <a:off x="5791320" y="205740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6629400" y="1752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+a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, 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6"/>
          <p:cNvSpPr/>
          <p:nvPr/>
        </p:nvSpPr>
        <p:spPr>
          <a:xfrm>
            <a:off x="-71280" y="2819520"/>
            <a:ext cx="921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一个图形沿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轴方向平移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a&gt;0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）个单位长度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7"/>
          <p:cNvSpPr/>
          <p:nvPr/>
        </p:nvSpPr>
        <p:spPr>
          <a:xfrm flipV="1">
            <a:off x="1905120" y="2133360"/>
            <a:ext cx="6858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8"/>
          <p:cNvSpPr/>
          <p:nvPr/>
        </p:nvSpPr>
        <p:spPr>
          <a:xfrm>
            <a:off x="1905120" y="2590920"/>
            <a:ext cx="68580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9"/>
          <p:cNvSpPr/>
          <p:nvPr/>
        </p:nvSpPr>
        <p:spPr>
          <a:xfrm>
            <a:off x="2666880" y="18288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向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右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平移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0"/>
          <p:cNvSpPr/>
          <p:nvPr/>
        </p:nvSpPr>
        <p:spPr>
          <a:xfrm>
            <a:off x="2666880" y="259236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向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左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平移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1"/>
          <p:cNvSpPr/>
          <p:nvPr/>
        </p:nvSpPr>
        <p:spPr>
          <a:xfrm>
            <a:off x="5791320" y="281952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2"/>
          <p:cNvSpPr/>
          <p:nvPr/>
        </p:nvSpPr>
        <p:spPr>
          <a:xfrm>
            <a:off x="6629400" y="251460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-a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 , 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3"/>
          <p:cNvSpPr/>
          <p:nvPr/>
        </p:nvSpPr>
        <p:spPr>
          <a:xfrm>
            <a:off x="762120" y="41148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 , 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"/>
          <p:cNvSpPr/>
          <p:nvPr/>
        </p:nvSpPr>
        <p:spPr>
          <a:xfrm>
            <a:off x="5867280" y="40384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5"/>
          <p:cNvSpPr/>
          <p:nvPr/>
        </p:nvSpPr>
        <p:spPr>
          <a:xfrm>
            <a:off x="6705720" y="3733920"/>
            <a:ext cx="1752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 , y</a:t>
            </a: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+a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6"/>
          <p:cNvSpPr/>
          <p:nvPr/>
        </p:nvSpPr>
        <p:spPr>
          <a:xfrm flipV="1">
            <a:off x="1981080" y="4114440"/>
            <a:ext cx="6858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17"/>
          <p:cNvSpPr/>
          <p:nvPr/>
        </p:nvSpPr>
        <p:spPr>
          <a:xfrm>
            <a:off x="1981080" y="4572000"/>
            <a:ext cx="68580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18"/>
          <p:cNvSpPr/>
          <p:nvPr/>
        </p:nvSpPr>
        <p:spPr>
          <a:xfrm>
            <a:off x="2743200" y="38098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向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上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平移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9"/>
          <p:cNvSpPr/>
          <p:nvPr/>
        </p:nvSpPr>
        <p:spPr>
          <a:xfrm>
            <a:off x="2743200" y="457344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向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下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平移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Line 2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1"/>
          <p:cNvSpPr/>
          <p:nvPr/>
        </p:nvSpPr>
        <p:spPr>
          <a:xfrm>
            <a:off x="6705720" y="4495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(x , y</a:t>
            </a: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-a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2"/>
          <p:cNvSpPr/>
          <p:nvPr/>
        </p:nvSpPr>
        <p:spPr>
          <a:xfrm>
            <a:off x="990720" y="457200"/>
            <a:ext cx="18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回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2"/>
          <p:cNvSpPr/>
          <p:nvPr/>
        </p:nvSpPr>
        <p:spPr>
          <a:xfrm>
            <a:off x="2566440" y="1905120"/>
            <a:ext cx="32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(x,y)</a:t>
            </a: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x,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2566440" y="2819520"/>
            <a:ext cx="32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(x,y)</a:t>
            </a: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x,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2591280" y="4495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(x,y)</a:t>
            </a: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+x , 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5"/>
          <p:cNvSpPr/>
          <p:nvPr/>
        </p:nvSpPr>
        <p:spPr>
          <a:xfrm>
            <a:off x="2590920" y="3581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x,y) </a:t>
            </a: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x-1 , 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6"/>
          <p:cNvSpPr/>
          <p:nvPr/>
        </p:nvSpPr>
        <p:spPr>
          <a:xfrm>
            <a:off x="228600" y="1522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口答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坐标系中，将坐标作如下变化时，图形将怎样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1557360" y="5410080"/>
            <a:ext cx="43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思考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. (x,y)</a:t>
            </a:r>
            <a:r>
              <a:rPr b="1" lang="zh-CN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x-1 , y+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01360" cy="4648320"/>
          </a:xfrm>
          <a:prstGeom prst="rect">
            <a:avLst/>
          </a:prstGeom>
          <a:ln w="0">
            <a:noFill/>
          </a:ln>
        </p:spPr>
      </p:pic>
      <p:sp>
        <p:nvSpPr>
          <p:cNvPr id="1023" name="Text Box 3"/>
          <p:cNvSpPr/>
          <p:nvPr/>
        </p:nvSpPr>
        <p:spPr>
          <a:xfrm>
            <a:off x="387360" y="42696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7631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71120" cy="1447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8663040" cy="152244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4"/>
          <p:cNvSpPr/>
          <p:nvPr/>
        </p:nvSpPr>
        <p:spPr>
          <a:xfrm>
            <a:off x="380880" y="388620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口答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坐标系中，将坐标作如下变化时，图形将怎样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5"/>
          <p:cNvSpPr/>
          <p:nvPr/>
        </p:nvSpPr>
        <p:spPr>
          <a:xfrm>
            <a:off x="2516040" y="52578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x,y)  </a:t>
            </a:r>
            <a:r>
              <a:rPr b="1" lang="zh-CN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(x-1 , y+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152280" y="230040"/>
            <a:ext cx="8763120" cy="3046680"/>
            <a:chOff x="152280" y="230040"/>
            <a:chExt cx="8763120" cy="3046680"/>
          </a:xfrm>
        </p:grpSpPr>
        <p:pic>
          <p:nvPicPr>
            <p:cNvPr id="1030" name="Picture 3" descr=""/>
            <p:cNvPicPr/>
            <p:nvPr/>
          </p:nvPicPr>
          <p:blipFill>
            <a:blip r:embed="rId1"/>
            <a:stretch/>
          </p:blipFill>
          <p:spPr>
            <a:xfrm>
              <a:off x="152280" y="230040"/>
              <a:ext cx="8763120" cy="30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 Box 4"/>
            <p:cNvSpPr/>
            <p:nvPr/>
          </p:nvSpPr>
          <p:spPr>
            <a:xfrm>
              <a:off x="380880" y="232560"/>
              <a:ext cx="75672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例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34340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240320" cy="4011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281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312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6:06:47Z</dcterms:created>
  <dc:creator/>
  <dc:description/>
  <cp:keywords/>
  <dc:language>en-US</dc:language>
  <cp:lastModifiedBy/>
  <dcterms:modified xsi:type="dcterms:W3CDTF">2014-03-17T06:06:52Z</dcterms:modified>
  <cp:revision>1</cp:revision>
  <dc:subject/>
  <dc:title/>
</cp:coreProperties>
</file>