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9.png" ContentType="image/png"/>
  <Override PartName="/ppt/media/image8.gif" ContentType="image/gif"/>
  <Override PartName="/ppt/media/image7.gif" ContentType="image/gif"/>
  <Override PartName="/ppt/media/type.wav" ContentType="audio/x-wav"/>
  <Override PartName="/ppt/media/applause.wav" ContentType="audio/x-wav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2.png" ContentType="image/png"/>
  <Override PartName="/ppt/media/image5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D29B-6C5D-4FB0-AC67-71FC477F27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236-7091-4E69-9C75-106C8A11D5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D9DD-7968-4915-B1D8-5F323B77D1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060F-BAEF-4D13-978E-D1BF6069D9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38A-5D10-4B61-BBA4-B0E6B1DCFB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C8B-1254-4D1E-BD3E-60A5577D3C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3BD-F1BC-4A10-9CD3-D16B0B4319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568-90CA-4AEE-A55B-F7ABDD6826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AA97-B8E0-401F-8F0E-22EAD65165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DE1-4C3A-4259-86F3-02A8E8C5D6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526-1FC3-4388-B587-A269E80C2E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C5F-EBB7-4176-A89A-3F3FC44082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9A2-5B97-489A-B13E-8B118BF181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35CB-2803-4B85-8B10-882141D184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836F-1BD4-4B64-A232-BEF116DCC6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667-83D3-4B35-96F5-8D15B40DF4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6EB-F634-49D6-8CB2-501CC74985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14D-0FA9-422F-AC88-CF48483380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013-F360-48E1-82C5-8C8808FC3A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632-193A-4892-9CA1-FE9489695E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30C-B5E1-4C48-874B-E13D1A1F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73D-FA52-4109-80B1-BAA5349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C32B3-1B97-47E2-98A0-7562924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BA404-C07B-44C6-9AB8-109460A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35ABA-87D5-465D-9EF8-5DE8B7D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A752D-104D-498B-BAC4-29B70A9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D26C3-687F-4D18-B926-5AD3135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4429-4E53-4F56-BFC9-4CFA95F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A4A8-346C-4662-ABE1-30B97483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3A6CC-C07D-4EE0-BFBA-6B79B42E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517D-A411-44A4-834E-4F9C5CF4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82165-CB96-4553-BA26-71737373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FFB-89FF-4B0A-87C7-74289937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1D573-3CE3-4DA0-BDBE-D8273A5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F6CD2-C5CF-4B38-A626-17864BF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5CA47-B05B-48DE-822B-30AB61D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B99D2-4B21-4763-AC9C-CD356796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C1A10-9B0B-4264-9942-D5F16481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898A5-2D29-45AA-B51D-49A23DD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CBCA6-63FC-487B-890A-ECEF15B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43066-6AF0-4DB8-AE4C-FD04B85F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EC232-E98B-4DFD-9FBF-9AB4449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93106-BBD0-4FF7-BF00-FBAA6078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2F0-2E49-4E04-B328-7C0FD156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8F518-B873-49D0-9030-BC3FD2BF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79632-45A6-4C13-9C15-0FACD2F7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AA4B-E7EA-40BE-AE09-EC13307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3EDE4-C7D3-4DB3-B2FC-E6DA1774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17D59-C187-4295-BDE9-FEBF7AF4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EAD9B-ACF8-44A1-B95B-902A762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D36C3-3798-4F38-BC54-508A0E66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AC6C-36D7-41A0-AA49-CD0345E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DE60B-2C7A-427D-B55A-736B0E0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3D1FA-BEE1-4E77-AC7D-FE2CDE8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B47D-B556-4637-8B56-E702C9E7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7A1B-5358-490D-904D-F7479C28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8939-6A90-4B18-BCC9-80BC4F96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4928-8704-4723-9EE6-77784722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9CCAC-A391-4AB6-B72D-038218AA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6CB6A-909B-4F98-9C59-DCE0B1C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4CE95-E2E0-4E65-8A83-ADADC7FD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2E07-AF6E-4545-A057-1E15C270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6ED10-F73C-45A9-B3B6-705E251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38FAA-C00D-4682-A86C-FE690567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78193-EABA-4780-959A-62E548D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24D4-AF55-4809-83C6-0DD62A02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C8D2-AC09-4A5A-B1A6-AA12369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3EC34-E489-4B83-B5BB-E4CCA10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55D41-3B08-4B42-BBAA-9ED41733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BDE51-7D61-4FA2-B5BB-9B8CADDC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52434-D226-4EFD-BDDD-95913B5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5109-E485-48A1-A08A-2C0A386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3769-5D4F-4D10-92AC-5896F53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087-C3AC-4F7A-BB51-F1BA3A21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D80D-E383-4EF3-9606-FFD2CE19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FF0-12D2-4435-A8B6-8FAF565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1F0-2591-4945-8ECF-FE6D6055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F10F-7C0E-4AE8-A566-AB4E1AA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06C9-878C-416E-BAB1-8F8E0AA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7009-6F74-42DD-B7B9-824308A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7BFA-0824-4126-98FC-30C33086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4D4-5413-413F-B0BE-871F3BFE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33CF-AB11-4CCB-891E-B645109D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5041-8EDE-4AE6-8140-FBD5679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D2D4-64FF-400A-9558-F806EC60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B951-D7E2-4FBB-9074-632D682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7D4F-8813-4E44-BFDD-182223B5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7A3-EF1D-4FDD-97BF-7AE28A8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1728-4C25-4E13-AF3D-922E1123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5B34-4CFD-4674-A75C-C18C368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DC73-B8EE-4B1D-A5CB-E66646D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DC56-0AE7-4E8E-A572-4306F0DF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30F5-4325-40D8-B438-81E2402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183D-3C2F-45AF-B5A2-416D9B26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8259-141B-47DC-9AEB-B0D12F34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B24D-495D-41E1-B84A-B0BAE610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8AA9-55CF-4A5A-ACE1-597C957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BD4D-AE6C-431E-864A-9633852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B2A-D25C-4E89-B50B-7FCCF34C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35A7-A970-40CD-A713-9BB2A93D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59EB-8BAF-45CB-B340-7DC77AD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3732-F4C6-4869-B5CE-DDD9AB9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D699-745F-4B8E-B467-48482D92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1B57-99D6-4758-AA18-6E463BE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0054-EF21-4DC4-90A0-F0CB2F9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2281-E10F-4ACF-8046-4A4D873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549E-45CC-4613-A462-7D92FB74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1197-2BBD-441C-B872-404B441A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60EF-8AAC-4A6E-A818-72B838DE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F96-0F2E-4E94-920D-317CB32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E91D-4161-4058-97D3-615117C4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43BE-665F-422B-82BB-7FA41A46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C4E0-C3B0-4701-9692-475B957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D545-6937-4D41-98F4-510DA82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ECE6-54BC-4B21-B8F0-46307FE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FE7F-584C-4CD1-8C5C-A2805CF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6FD3-1587-4AFD-A860-1A20C63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1391-3AE3-4547-8063-CCDAEBC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E952-6E9F-4214-B141-948CD54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B1A2-ED6F-4049-B9FD-C55CD6A4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D3E-47E1-4E0B-A1B0-B2FE384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D326-1161-4821-A275-E3A305E1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E9657-B949-4214-B816-71FC24E2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C63D3-9449-499F-B988-5804D817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E511-4764-4445-9932-966F33E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1D44-34ED-4521-A00D-6F9A3F72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36C8-8EE0-4C13-AAE2-4FE8B82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E8C2-9D7A-4EF1-B8E1-9153F724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C3DA-45C3-471E-8E45-D6D1722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3DEA-ECAF-47F0-BACB-EF175E2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E275-D4E4-4E86-805F-FB00499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8D4-C696-43F1-B2DA-8FFF4E4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CD2E-3F6D-412D-BF97-513F156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19B2-9530-450F-9E74-B86D4B2F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94C31-2336-4CE8-86C4-2EEA90BB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AC4C7-09E3-4469-961F-43AD6F0E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726BA-40B0-4888-B44E-D01D073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3931C-D252-4124-94F4-D0B11BF9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0F7D-4923-4C2F-BE12-B5EDF5F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8D70-4757-48A2-B8DC-80BCE82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9587-6542-4CF4-8FD9-AB3F8C0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FB28-DC8A-4D87-857E-71EDF94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E14-DA4C-45D9-ABF2-073A44F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8B5B-FDFA-45E5-9FB9-2713663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C935-5009-434E-A7DF-110AA95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C5A6-CF9B-4783-94B2-D5128CD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29F9-0772-41D4-8457-42184EBB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E2E8-9C8E-42E7-AAC6-A3A3C256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C754-F38C-48D3-95AC-38F8F962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C729-05E3-47C9-B70D-592F318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56CB7-D024-4E21-9683-D9863AF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532A-F47F-4D3A-BF8E-6F137D76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5B77-FB50-4E3D-9981-AAE91A6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76F-D75E-4ED4-A303-716B4D1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14B4B-B5F9-4044-BAE4-AEBC51A9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F44E-1B9A-4053-AED6-0F599E8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8261-6F8F-4D38-947E-415A310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88C2A-8092-48D7-98DF-3A93192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B0F5E-8011-4FB3-9145-436C765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C3D0-8748-4B49-BB32-2FA80126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9ED3C-4F4F-4AF5-8715-00771019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85E4-B7BB-4666-B147-8D0D4193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43E3-8B09-4E7C-AC9A-11D9110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EF570-AFD1-4BCA-808F-B60F723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CDA-3E0D-4074-AB12-8F9B6A74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596A-D5EF-4E98-9B30-CDE5E2EE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9B1-667F-4D55-9D72-2370EB7E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4CD3-262F-4390-8BAE-AB758852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E3C-47D1-4329-BF39-CC926A58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1670-40EA-4EBD-B867-1084BE73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F45-B473-446B-9445-22B7BF51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8FC-1C46-406E-B720-D5A58A29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339-A208-4855-B0E7-D8B4D315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BBA-FFA5-4D6C-9D9E-3399516C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11D0-6437-45F2-A8BF-663BF602F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829-C4E2-48C9-BBBA-6BFC391F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57160" y="157176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　　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.2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　直角三角形（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勾股定理与它的逆定理的证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07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838080" y="1066680"/>
            <a:ext cx="8001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两个命题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一个命题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是另一个命题的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这两个命题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一个命题称为另一个命题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91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12" name="AutoShape 92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3" name="Picture 93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94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95"/>
          <p:cNvSpPr/>
          <p:nvPr/>
        </p:nvSpPr>
        <p:spPr>
          <a:xfrm>
            <a:off x="83808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写出命题“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如果两个有理数相等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那么它们的平方相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的逆命题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838080" y="411480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们都是真命题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838080" y="47242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命题是真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逆命题是真命题还是假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19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与逆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838080" y="914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逆命题却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24" name="AutoShape 11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Picture 12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13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Rectangle 14"/>
          <p:cNvSpPr/>
          <p:nvPr/>
        </p:nvSpPr>
        <p:spPr>
          <a:xfrm>
            <a:off x="838080" y="31240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已经学习了一些互逆的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勾股定理及其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838080" y="457200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还能举出一些例子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6"/>
          <p:cNvSpPr/>
          <p:nvPr/>
        </p:nvSpPr>
        <p:spPr>
          <a:xfrm>
            <a:off x="838080" y="510552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互逆命题与互逆定理有何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838080" y="14479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一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逆命题经过证明是真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它是一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定理称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一个定理称另一个定理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47960" y="13608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蓄势待发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2" name="Group 6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733" name="Rectangle 7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隋堂练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8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5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Rectangle 11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1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39" name="Picture 13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1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Rectangle 17"/>
          <p:cNvSpPr/>
          <p:nvPr/>
        </p:nvSpPr>
        <p:spPr>
          <a:xfrm>
            <a:off x="1066680" y="49528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是否能将有关命题的知识予以整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380880" y="112392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下列合理的逆命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判断每对命题的真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5"/>
          <p:cNvSpPr/>
          <p:nvPr/>
        </p:nvSpPr>
        <p:spPr>
          <a:xfrm>
            <a:off x="838080" y="1828800"/>
            <a:ext cx="4876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边形是多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同旁内角互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=0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0,b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838080" y="35812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你举出一些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然后写出它的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判断这些逆命题的真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6" name="Group 9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47" name="Rectangle 10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1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9" name="Picture 12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13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Rectangle 42"/>
          <p:cNvSpPr/>
          <p:nvPr/>
        </p:nvSpPr>
        <p:spPr>
          <a:xfrm>
            <a:off x="809640" y="180504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勾股定理是数学上有证明方法最多的定理──有四百多种说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古今中外有许多人探索勾股定理的证明方法，不但有数学家，还有物理学家，甚至画家、政治家。如赵爽（中）、梅文鼎（中）、欧几里德（希腊）、辛卜松（英）、加菲尔德（美第二十届总统）等等。其证明方法达数百种之多，这在数学史上是十分罕见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46"/>
          <p:cNvGrpSpPr/>
          <p:nvPr/>
        </p:nvGrpSpPr>
        <p:grpSpPr>
          <a:xfrm>
            <a:off x="6781680" y="4737240"/>
            <a:ext cx="2362320" cy="1834920"/>
            <a:chOff x="6781680" y="4737240"/>
            <a:chExt cx="2362320" cy="1834920"/>
          </a:xfrm>
        </p:grpSpPr>
        <p:pic>
          <p:nvPicPr>
            <p:cNvPr id="753" name="Picture 47" descr="20"/>
            <p:cNvPicPr/>
            <p:nvPr/>
          </p:nvPicPr>
          <p:blipFill>
            <a:blip r:embed="rId3"/>
            <a:stretch/>
          </p:blipFill>
          <p:spPr>
            <a:xfrm>
              <a:off x="6781680" y="473724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48"/>
            <p:cNvSpPr/>
            <p:nvPr/>
          </p:nvSpPr>
          <p:spPr>
            <a:xfrm>
              <a:off x="7238880" y="54734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Rectangle 123"/>
          <p:cNvSpPr/>
          <p:nvPr/>
        </p:nvSpPr>
        <p:spPr>
          <a:xfrm>
            <a:off x="1143000" y="7621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57" name="Group 6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58" name="Rectangle 7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8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Rectangle 11"/>
          <p:cNvSpPr/>
          <p:nvPr/>
        </p:nvSpPr>
        <p:spPr>
          <a:xfrm>
            <a:off x="990720" y="12859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 历时几千年的两个定理，牵动着世界上不知多少代亿万人们的心，前人以坚韧的毅力，开拓创新的精神谱写了科学知识宝库中探宝的光辉篇章，还有许多宝藏等待后人开采。自然无限，创造永恒。同学们要努力学习，提高自身素质，不辜负时代重托，将来为人类作出更大贡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13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64" name="Picture 14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15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Rectangle 16"/>
          <p:cNvSpPr/>
          <p:nvPr/>
        </p:nvSpPr>
        <p:spPr>
          <a:xfrm>
            <a:off x="1143000" y="762120"/>
            <a:ext cx="7467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69" name="Rectangle 7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8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3" name="Rectangle 11"/>
          <p:cNvSpPr/>
          <p:nvPr/>
        </p:nvSpPr>
        <p:spPr>
          <a:xfrm>
            <a:off x="990720" y="1857240"/>
            <a:ext cx="7619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学习永远是件快乐而有趣的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勾股定理的魅力将把你引入一个奇妙的境界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Group 13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75" name="Picture 14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Text Box 15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Rectangle 16"/>
          <p:cNvSpPr/>
          <p:nvPr/>
        </p:nvSpPr>
        <p:spPr>
          <a:xfrm>
            <a:off x="1143000" y="1004760"/>
            <a:ext cx="746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4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723920" y="76320"/>
            <a:ext cx="4038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梦想成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0" name="Group 15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781" name="Rectangle 16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试一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17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Picture 18" descr="678"/>
            <p:cNvPicPr/>
            <p:nvPr/>
          </p:nvPicPr>
          <p:blipFill>
            <a:blip r:embed="rId1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1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5" name="Rectangle 34"/>
          <p:cNvSpPr/>
          <p:nvPr/>
        </p:nvSpPr>
        <p:spPr>
          <a:xfrm>
            <a:off x="785880" y="10717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：英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一个长方体的房间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蜘蛛在一面墙的正中间离天花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苍蝇则在对面墙的正中间离地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蜘蛛为了捕获苍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爬行的最短距离是多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86"/>
          <p:cNvGrpSpPr/>
          <p:nvPr/>
        </p:nvGrpSpPr>
        <p:grpSpPr>
          <a:xfrm>
            <a:off x="2971800" y="3733920"/>
            <a:ext cx="3657600" cy="1906920"/>
            <a:chOff x="2971800" y="3733920"/>
            <a:chExt cx="3657600" cy="1906920"/>
          </a:xfrm>
        </p:grpSpPr>
        <p:sp>
          <p:nvSpPr>
            <p:cNvPr id="787" name="AutoShape 77"/>
            <p:cNvSpPr/>
            <p:nvPr/>
          </p:nvSpPr>
          <p:spPr>
            <a:xfrm>
              <a:off x="2971800" y="3733920"/>
              <a:ext cx="3048120" cy="15238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78"/>
            <p:cNvSpPr/>
            <p:nvPr/>
          </p:nvSpPr>
          <p:spPr>
            <a:xfrm>
              <a:off x="3352680" y="3733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79"/>
            <p:cNvSpPr/>
            <p:nvPr/>
          </p:nvSpPr>
          <p:spPr>
            <a:xfrm flipH="1">
              <a:off x="3352320" y="4876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80"/>
            <p:cNvSpPr/>
            <p:nvPr/>
          </p:nvSpPr>
          <p:spPr>
            <a:xfrm flipH="1">
              <a:off x="2971800" y="48769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81"/>
            <p:cNvSpPr/>
            <p:nvPr/>
          </p:nvSpPr>
          <p:spPr>
            <a:xfrm>
              <a:off x="5715000" y="3962520"/>
              <a:ext cx="68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82"/>
            <p:cNvSpPr/>
            <p:nvPr/>
          </p:nvSpPr>
          <p:spPr>
            <a:xfrm>
              <a:off x="2971800" y="4449600"/>
              <a:ext cx="68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83"/>
            <p:cNvSpPr/>
            <p:nvPr/>
          </p:nvSpPr>
          <p:spPr>
            <a:xfrm>
              <a:off x="4038480" y="525456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84"/>
            <p:cNvSpPr/>
            <p:nvPr/>
          </p:nvSpPr>
          <p:spPr>
            <a:xfrm>
              <a:off x="5791320" y="495288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85"/>
            <p:cNvSpPr/>
            <p:nvPr/>
          </p:nvSpPr>
          <p:spPr>
            <a:xfrm>
              <a:off x="5943600" y="411480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勾股定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直角三角形两直角边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斜边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直角三角形两直角边的平方和等于斜边的平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勾股定理在西方文献中又称为毕达哥拉斯定理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thagoras theor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勾股定理的逆定理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两个命题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命题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另一个命题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两个命题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一个命题称为另一个命题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与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逆命题经过证明是真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它是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定理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一个定理称另一个定理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799" name="Group 6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800" name="AutoShape 7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8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2" name="Picture 9" descr="打开书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10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24560" y="850680"/>
            <a:ext cx="4208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05" name="Group 5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806" name="Picture 6" descr="AG00029_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7" name="Group 7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808" name="AutoShape 8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Text Box 9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Text Box 10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Rectangle 11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P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1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5   1,2,3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9880" y="12024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严格性之于数学家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犹如道德之于人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于：条理清晰，因果相应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言必有据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4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815" name="Picture 5" descr="gif1450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6" name="Group 6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817" name="AutoShape 7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8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Text Box 9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10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821" name="Group 11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822" name="AutoShape 12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3" name="Picture 13" descr="GTH_001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4" name="Group 14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825" name="WordArt 15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826" name="Picture 16" descr="051（致敬）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17" descr="052（致敬）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130"/>
          <p:cNvGrpSpPr/>
          <p:nvPr/>
        </p:nvGrpSpPr>
        <p:grpSpPr>
          <a:xfrm>
            <a:off x="3143160" y="71280"/>
            <a:ext cx="2276640" cy="958680"/>
            <a:chOff x="3143160" y="71280"/>
            <a:chExt cx="2276640" cy="958680"/>
          </a:xfrm>
        </p:grpSpPr>
        <p:sp>
          <p:nvSpPr>
            <p:cNvPr id="547" name="AutoShape 131"/>
            <p:cNvSpPr/>
            <p:nvPr/>
          </p:nvSpPr>
          <p:spPr>
            <a:xfrm>
              <a:off x="3143160" y="71280"/>
              <a:ext cx="22766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3"/>
            <p:cNvSpPr/>
            <p:nvPr/>
          </p:nvSpPr>
          <p:spPr>
            <a:xfrm>
              <a:off x="3344400" y="213120"/>
              <a:ext cx="199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复习回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TextBox 5"/>
          <p:cNvSpPr/>
          <p:nvPr/>
        </p:nvSpPr>
        <p:spPr>
          <a:xfrm>
            <a:off x="1285920" y="107172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经探索过的直角三角形的哪些性质和判定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圆角矩形 6"/>
          <p:cNvSpPr/>
          <p:nvPr/>
        </p:nvSpPr>
        <p:spPr>
          <a:xfrm>
            <a:off x="1285920" y="1714680"/>
            <a:ext cx="6072120" cy="2571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5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直角三角形的性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两锐角互余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斜边上的中线等于斜边的一半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如果一个锐角等于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，那么它所对的直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边等于斜边的一半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如果一条直角边等于斜边的一半，那么这条直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边所对的角等于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0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圆角矩形 7"/>
          <p:cNvGrpSpPr/>
          <p:nvPr/>
        </p:nvGrpSpPr>
        <p:grpSpPr>
          <a:xfrm>
            <a:off x="4084560" y="4322880"/>
            <a:ext cx="4541760" cy="1968480"/>
            <a:chOff x="4084560" y="4322880"/>
            <a:chExt cx="4541760" cy="1968480"/>
          </a:xfrm>
        </p:grpSpPr>
        <p:pic>
          <p:nvPicPr>
            <p:cNvPr id="55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84560" y="4322880"/>
              <a:ext cx="45417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233960" y="4448160"/>
              <a:ext cx="42480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直角三角形的判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1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有一个角等于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90°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的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2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有两个角互余的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3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如果三角形一边上的中线等于这条边的一半，那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这个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6781680" y="3886200"/>
            <a:ext cx="2362320" cy="2485800"/>
            <a:chOff x="6781680" y="3886200"/>
            <a:chExt cx="2362320" cy="2485800"/>
          </a:xfrm>
        </p:grpSpPr>
        <p:pic>
          <p:nvPicPr>
            <p:cNvPr id="555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3708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 Box 4"/>
            <p:cNvSpPr/>
            <p:nvPr/>
          </p:nvSpPr>
          <p:spPr>
            <a:xfrm>
              <a:off x="7238880" y="38862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43400" y="-16200"/>
            <a:ext cx="44956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1143000" y="13716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直角三角形两直角边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斜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直角三角形两直角边的平方和等于斜边的平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勾股定理在西方文献中又称为毕达哥拉斯定理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ythagoras theore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130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560" name="AutoShape 131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132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33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53"/>
          <p:cNvGrpSpPr/>
          <p:nvPr/>
        </p:nvGrpSpPr>
        <p:grpSpPr>
          <a:xfrm>
            <a:off x="1371600" y="4114800"/>
            <a:ext cx="2514600" cy="1755000"/>
            <a:chOff x="1371600" y="4114800"/>
            <a:chExt cx="2514600" cy="1755000"/>
          </a:xfrm>
        </p:grpSpPr>
        <p:sp>
          <p:nvSpPr>
            <p:cNvPr id="564" name="AutoShape 154"/>
            <p:cNvSpPr/>
            <p:nvPr/>
          </p:nvSpPr>
          <p:spPr>
            <a:xfrm>
              <a:off x="1828800" y="4114800"/>
              <a:ext cx="2057400" cy="1295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55"/>
            <p:cNvSpPr/>
            <p:nvPr/>
          </p:nvSpPr>
          <p:spPr>
            <a:xfrm>
              <a:off x="1828800" y="5257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56"/>
            <p:cNvSpPr/>
            <p:nvPr/>
          </p:nvSpPr>
          <p:spPr>
            <a:xfrm>
              <a:off x="1981080" y="5257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7"/>
            <p:cNvSpPr/>
            <p:nvPr/>
          </p:nvSpPr>
          <p:spPr>
            <a:xfrm>
              <a:off x="137160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58"/>
            <p:cNvSpPr/>
            <p:nvPr/>
          </p:nvSpPr>
          <p:spPr>
            <a:xfrm>
              <a:off x="274320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59"/>
            <p:cNvSpPr/>
            <p:nvPr/>
          </p:nvSpPr>
          <p:spPr>
            <a:xfrm>
              <a:off x="25146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0"/>
          <p:cNvGrpSpPr/>
          <p:nvPr/>
        </p:nvGrpSpPr>
        <p:grpSpPr>
          <a:xfrm>
            <a:off x="4267080" y="4038480"/>
            <a:ext cx="2514600" cy="1755000"/>
            <a:chOff x="4267080" y="4038480"/>
            <a:chExt cx="2514600" cy="1755000"/>
          </a:xfrm>
        </p:grpSpPr>
        <p:sp>
          <p:nvSpPr>
            <p:cNvPr id="571" name="AutoShape 161"/>
            <p:cNvSpPr/>
            <p:nvPr/>
          </p:nvSpPr>
          <p:spPr>
            <a:xfrm>
              <a:off x="4724280" y="4038480"/>
              <a:ext cx="2057400" cy="1295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62"/>
            <p:cNvSpPr/>
            <p:nvPr/>
          </p:nvSpPr>
          <p:spPr>
            <a:xfrm>
              <a:off x="4724280" y="5181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63"/>
            <p:cNvSpPr/>
            <p:nvPr/>
          </p:nvSpPr>
          <p:spPr>
            <a:xfrm>
              <a:off x="4876560" y="518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64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65"/>
            <p:cNvSpPr/>
            <p:nvPr/>
          </p:nvSpPr>
          <p:spPr>
            <a:xfrm>
              <a:off x="56386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66"/>
            <p:cNvSpPr/>
            <p:nvPr/>
          </p:nvSpPr>
          <p:spPr>
            <a:xfrm>
              <a:off x="5410080" y="5333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91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578" name="Picture 20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21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证明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1" name="Group 74"/>
          <p:cNvGrpSpPr/>
          <p:nvPr/>
        </p:nvGrpSpPr>
        <p:grpSpPr>
          <a:xfrm>
            <a:off x="1071720" y="142920"/>
            <a:ext cx="3581280" cy="685800"/>
            <a:chOff x="1071720" y="142920"/>
            <a:chExt cx="3581280" cy="685800"/>
          </a:xfrm>
        </p:grpSpPr>
        <p:sp>
          <p:nvSpPr>
            <p:cNvPr id="582" name="Rectangle 75"/>
            <p:cNvSpPr/>
            <p:nvPr/>
          </p:nvSpPr>
          <p:spPr>
            <a:xfrm>
              <a:off x="1071720" y="1904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76"/>
            <p:cNvSpPr/>
            <p:nvPr/>
          </p:nvSpPr>
          <p:spPr>
            <a:xfrm>
              <a:off x="3052800" y="1810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77" descr="678"/>
            <p:cNvPicPr/>
            <p:nvPr/>
          </p:nvPicPr>
          <p:blipFill>
            <a:blip r:embed="rId2"/>
            <a:stretch/>
          </p:blipFill>
          <p:spPr>
            <a:xfrm>
              <a:off x="3433680" y="142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78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071720" y="295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Rectangle 79"/>
          <p:cNvSpPr/>
          <p:nvPr/>
        </p:nvSpPr>
        <p:spPr>
          <a:xfrm>
            <a:off x="3276720" y="1143000"/>
            <a:ext cx="4800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4" action="ppaction://hlinksldjump"/>
              </a:rPr>
              <a:t>方法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拼图计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5" action="ppaction://hlinksldjump"/>
              </a:rPr>
              <a:t>方法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割补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6" action="ppaction://hlinksldjump"/>
              </a:rPr>
              <a:t>方法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赵爽的弦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7" action="ppaction://hlinksldjump"/>
              </a:rPr>
              <a:t>方法四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总统证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五：青朱出入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六：折纸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七：拼图计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1"/>
          <p:cNvSpPr/>
          <p:nvPr/>
        </p:nvSpPr>
        <p:spPr>
          <a:xfrm>
            <a:off x="1828800" y="5105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些证法你还能记得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最喜欢哪种证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47960" y="6012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统证法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9" name="Group 1030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590" name="Rectangle 1031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032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1033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034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 1037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595" name="Picture 1038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039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40"/>
          <p:cNvSpPr/>
          <p:nvPr/>
        </p:nvSpPr>
        <p:spPr>
          <a:xfrm>
            <a:off x="1143000" y="1047600"/>
            <a:ext cx="79246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这个证明方法出自一位总统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 1881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年，伽菲尔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(J.A. Garfield )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就任美国第二十任总统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876 , 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利用了梯形面积公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图中三个三角形面积的和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×ab/2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c/2;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梯形面积为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(a+b)(a+b)/2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比较可得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0"/>
          <p:cNvSpPr/>
          <p:nvPr/>
        </p:nvSpPr>
        <p:spPr>
          <a:xfrm>
            <a:off x="1371600" y="411480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伽菲尔德的证法在数学史上被传为佳话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后来，人们为了纪念他对勾股定理直观、简捷、易懂、明了的证明，就把这一证法称为“总统”证法。 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勾股定理不只是数学家爱好，魅力真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1109"/>
          <p:cNvGrpSpPr/>
          <p:nvPr/>
        </p:nvGrpSpPr>
        <p:grpSpPr>
          <a:xfrm>
            <a:off x="6172200" y="2437920"/>
            <a:ext cx="2971800" cy="1831680"/>
            <a:chOff x="6172200" y="2437920"/>
            <a:chExt cx="2971800" cy="1831680"/>
          </a:xfrm>
        </p:grpSpPr>
        <p:sp>
          <p:nvSpPr>
            <p:cNvPr id="600" name="AutoShape 1110"/>
            <p:cNvSpPr/>
            <p:nvPr/>
          </p:nvSpPr>
          <p:spPr>
            <a:xfrm>
              <a:off x="6476760" y="3124080"/>
              <a:ext cx="1447920" cy="76176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AutoShape 1111"/>
            <p:cNvSpPr/>
            <p:nvPr/>
          </p:nvSpPr>
          <p:spPr>
            <a:xfrm rot="16200000">
              <a:off x="7581960" y="2780640"/>
              <a:ext cx="1447560" cy="76212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112"/>
            <p:cNvSpPr/>
            <p:nvPr/>
          </p:nvSpPr>
          <p:spPr>
            <a:xfrm flipV="1">
              <a:off x="6476760" y="243792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113"/>
            <p:cNvSpPr/>
            <p:nvPr/>
          </p:nvSpPr>
          <p:spPr>
            <a:xfrm>
              <a:off x="6172200" y="327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1114"/>
            <p:cNvSpPr/>
            <p:nvPr/>
          </p:nvSpPr>
          <p:spPr>
            <a:xfrm>
              <a:off x="68580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115"/>
            <p:cNvSpPr/>
            <p:nvPr/>
          </p:nvSpPr>
          <p:spPr>
            <a:xfrm>
              <a:off x="8153280" y="373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116"/>
            <p:cNvSpPr/>
            <p:nvPr/>
          </p:nvSpPr>
          <p:spPr>
            <a:xfrm>
              <a:off x="86868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117"/>
            <p:cNvSpPr/>
            <p:nvPr/>
          </p:nvSpPr>
          <p:spPr>
            <a:xfrm>
              <a:off x="708660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18"/>
            <p:cNvSpPr/>
            <p:nvPr/>
          </p:nvSpPr>
          <p:spPr>
            <a:xfrm>
              <a:off x="80010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610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逆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13" name="Group 9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614" name="Rectangle 10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1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2" descr="678"/>
            <p:cNvPicPr/>
            <p:nvPr/>
          </p:nvPicPr>
          <p:blipFill>
            <a:blip r:embed="rId2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Rectangle 14"/>
          <p:cNvSpPr/>
          <p:nvPr/>
        </p:nvSpPr>
        <p:spPr>
          <a:xfrm>
            <a:off x="114300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1143000" y="1676520"/>
            <a:ext cx="647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58"/>
          <p:cNvGrpSpPr/>
          <p:nvPr/>
        </p:nvGrpSpPr>
        <p:grpSpPr>
          <a:xfrm>
            <a:off x="2057400" y="2895480"/>
            <a:ext cx="2971800" cy="2517120"/>
            <a:chOff x="2057400" y="2895480"/>
            <a:chExt cx="2971800" cy="2517120"/>
          </a:xfrm>
        </p:grpSpPr>
        <p:sp>
          <p:nvSpPr>
            <p:cNvPr id="621" name="AutoShape 37"/>
            <p:cNvSpPr/>
            <p:nvPr/>
          </p:nvSpPr>
          <p:spPr>
            <a:xfrm>
              <a:off x="2514600" y="327636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0"/>
            <p:cNvSpPr/>
            <p:nvPr/>
          </p:nvSpPr>
          <p:spPr>
            <a:xfrm>
              <a:off x="2057400" y="373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41"/>
            <p:cNvSpPr/>
            <p:nvPr/>
          </p:nvSpPr>
          <p:spPr>
            <a:xfrm>
              <a:off x="342900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20040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4648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44"/>
            <p:cNvSpPr/>
            <p:nvPr/>
          </p:nvSpPr>
          <p:spPr>
            <a:xfrm>
              <a:off x="228600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45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57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7067520" y="5022720"/>
            <a:ext cx="2362320" cy="1835280"/>
            <a:chOff x="7067520" y="5022720"/>
            <a:chExt cx="2362320" cy="1835280"/>
          </a:xfrm>
        </p:grpSpPr>
        <p:pic>
          <p:nvPicPr>
            <p:cNvPr id="630" name="Picture 3" descr="20"/>
            <p:cNvPicPr/>
            <p:nvPr/>
          </p:nvPicPr>
          <p:blipFill>
            <a:blip r:embed="rId1"/>
            <a:stretch/>
          </p:blipFill>
          <p:spPr>
            <a:xfrm>
              <a:off x="7067520" y="502272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4"/>
            <p:cNvSpPr/>
            <p:nvPr/>
          </p:nvSpPr>
          <p:spPr>
            <a:xfrm>
              <a:off x="7524720" y="5759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的证明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3" name="Group 9"/>
          <p:cNvGrpSpPr/>
          <p:nvPr/>
        </p:nvGrpSpPr>
        <p:grpSpPr>
          <a:xfrm>
            <a:off x="714240" y="76320"/>
            <a:ext cx="3581280" cy="685800"/>
            <a:chOff x="714240" y="76320"/>
            <a:chExt cx="3581280" cy="685800"/>
          </a:xfrm>
        </p:grpSpPr>
        <p:sp>
          <p:nvSpPr>
            <p:cNvPr id="634" name="Rectangle 10"/>
            <p:cNvSpPr/>
            <p:nvPr/>
          </p:nvSpPr>
          <p:spPr>
            <a:xfrm>
              <a:off x="71424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>
              <a:off x="269532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Picture 12" descr="678"/>
            <p:cNvPicPr/>
            <p:nvPr/>
          </p:nvPicPr>
          <p:blipFill>
            <a:blip r:embed="rId2"/>
            <a:stretch/>
          </p:blipFill>
          <p:spPr>
            <a:xfrm>
              <a:off x="307620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1424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Rectangle 14"/>
          <p:cNvSpPr/>
          <p:nvPr/>
        </p:nvSpPr>
        <p:spPr>
          <a:xfrm>
            <a:off x="642960" y="16002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A′B′C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C,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B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6"/>
          <p:cNvSpPr/>
          <p:nvPr/>
        </p:nvSpPr>
        <p:spPr>
          <a:xfrm>
            <a:off x="642960" y="685800"/>
            <a:ext cx="6477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1)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A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7"/>
          <p:cNvGrpSpPr/>
          <p:nvPr/>
        </p:nvGrpSpPr>
        <p:grpSpPr>
          <a:xfrm>
            <a:off x="6172200" y="838080"/>
            <a:ext cx="2971800" cy="2517120"/>
            <a:chOff x="6172200" y="838080"/>
            <a:chExt cx="2971800" cy="2517120"/>
          </a:xfrm>
        </p:grpSpPr>
        <p:sp>
          <p:nvSpPr>
            <p:cNvPr id="641" name="AutoShape 18"/>
            <p:cNvSpPr/>
            <p:nvPr/>
          </p:nvSpPr>
          <p:spPr>
            <a:xfrm>
              <a:off x="6629400" y="121896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6172200" y="1676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7543800" y="1447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1"/>
            <p:cNvSpPr/>
            <p:nvPr/>
          </p:nvSpPr>
          <p:spPr>
            <a:xfrm>
              <a:off x="73152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2"/>
            <p:cNvSpPr/>
            <p:nvPr/>
          </p:nvSpPr>
          <p:spPr>
            <a:xfrm>
              <a:off x="87631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23"/>
            <p:cNvSpPr/>
            <p:nvPr/>
          </p:nvSpPr>
          <p:spPr>
            <a:xfrm>
              <a:off x="6400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24"/>
            <p:cNvSpPr/>
            <p:nvPr/>
          </p:nvSpPr>
          <p:spPr>
            <a:xfrm>
              <a:off x="62485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25"/>
            <p:cNvSpPr/>
            <p:nvPr/>
          </p:nvSpPr>
          <p:spPr>
            <a:xfrm>
              <a:off x="7162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6"/>
          <p:cNvGrpSpPr/>
          <p:nvPr/>
        </p:nvGrpSpPr>
        <p:grpSpPr>
          <a:xfrm>
            <a:off x="5791320" y="3048120"/>
            <a:ext cx="3352680" cy="2517120"/>
            <a:chOff x="5791320" y="3048120"/>
            <a:chExt cx="3352680" cy="2517120"/>
          </a:xfrm>
        </p:grpSpPr>
        <p:grpSp>
          <p:nvGrpSpPr>
            <p:cNvPr id="650" name="Group 27"/>
            <p:cNvGrpSpPr/>
            <p:nvPr/>
          </p:nvGrpSpPr>
          <p:grpSpPr>
            <a:xfrm>
              <a:off x="5867640" y="3429000"/>
              <a:ext cx="2514600" cy="1755000"/>
              <a:chOff x="5867640" y="3429000"/>
              <a:chExt cx="2514600" cy="1755000"/>
            </a:xfrm>
          </p:grpSpPr>
          <p:sp>
            <p:nvSpPr>
              <p:cNvPr id="651" name="AutoShape 28"/>
              <p:cNvSpPr/>
              <p:nvPr/>
            </p:nvSpPr>
            <p:spPr>
              <a:xfrm>
                <a:off x="6324840" y="3429000"/>
                <a:ext cx="2057400" cy="129528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29"/>
              <p:cNvSpPr/>
              <p:nvPr/>
            </p:nvSpPr>
            <p:spPr>
              <a:xfrm>
                <a:off x="6324840" y="457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30"/>
              <p:cNvSpPr/>
              <p:nvPr/>
            </p:nvSpPr>
            <p:spPr>
              <a:xfrm>
                <a:off x="647712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31"/>
              <p:cNvSpPr/>
              <p:nvPr/>
            </p:nvSpPr>
            <p:spPr>
              <a:xfrm>
                <a:off x="5867640" y="388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32"/>
              <p:cNvSpPr/>
              <p:nvPr/>
            </p:nvSpPr>
            <p:spPr>
              <a:xfrm>
                <a:off x="723924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33"/>
              <p:cNvSpPr/>
              <p:nvPr/>
            </p:nvSpPr>
            <p:spPr>
              <a:xfrm>
                <a:off x="7010640" y="4724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Text Box 34"/>
            <p:cNvSpPr/>
            <p:nvPr/>
          </p:nvSpPr>
          <p:spPr>
            <a:xfrm>
              <a:off x="586764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35"/>
            <p:cNvSpPr/>
            <p:nvPr/>
          </p:nvSpPr>
          <p:spPr>
            <a:xfrm>
              <a:off x="830592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36"/>
            <p:cNvSpPr/>
            <p:nvPr/>
          </p:nvSpPr>
          <p:spPr>
            <a:xfrm>
              <a:off x="5791320" y="4572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37"/>
            <p:cNvSpPr/>
            <p:nvPr/>
          </p:nvSpPr>
          <p:spPr>
            <a:xfrm>
              <a:off x="69343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Rectangle 38"/>
          <p:cNvSpPr/>
          <p:nvPr/>
        </p:nvSpPr>
        <p:spPr>
          <a:xfrm>
            <a:off x="642960" y="23623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勾股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9"/>
          <p:cNvSpPr/>
          <p:nvPr/>
        </p:nvSpPr>
        <p:spPr>
          <a:xfrm>
            <a:off x="785880" y="27432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C,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B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0"/>
          <p:cNvSpPr/>
          <p:nvPr/>
        </p:nvSpPr>
        <p:spPr>
          <a:xfrm>
            <a:off x="785880" y="35053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1"/>
          <p:cNvSpPr/>
          <p:nvPr/>
        </p:nvSpPr>
        <p:spPr>
          <a:xfrm>
            <a:off x="785880" y="3886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=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2"/>
          <p:cNvSpPr/>
          <p:nvPr/>
        </p:nvSpPr>
        <p:spPr>
          <a:xfrm>
            <a:off x="785880" y="43434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△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A′B′C′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SS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3"/>
          <p:cNvSpPr/>
          <p:nvPr/>
        </p:nvSpPr>
        <p:spPr>
          <a:xfrm>
            <a:off x="785880" y="480060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∠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全等三角形的对应边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44"/>
          <p:cNvSpPr/>
          <p:nvPr/>
        </p:nvSpPr>
        <p:spPr>
          <a:xfrm>
            <a:off x="1219320" y="556272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△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直角三角形意义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47960" y="6012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69" name="Group 6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670" name="Rectangle 7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Rectangle 11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781680" y="4879800"/>
            <a:ext cx="2362320" cy="1835280"/>
            <a:chOff x="6781680" y="4879800"/>
            <a:chExt cx="2362320" cy="1835280"/>
          </a:xfrm>
        </p:grpSpPr>
        <p:pic>
          <p:nvPicPr>
            <p:cNvPr id="676" name="Picture 13" descr="20"/>
            <p:cNvPicPr/>
            <p:nvPr/>
          </p:nvPicPr>
          <p:blipFill>
            <a:blip r:embed="rId3"/>
            <a:stretch/>
          </p:blipFill>
          <p:spPr>
            <a:xfrm>
              <a:off x="6781680" y="48798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14"/>
            <p:cNvSpPr/>
            <p:nvPr/>
          </p:nvSpPr>
          <p:spPr>
            <a:xfrm>
              <a:off x="7238880" y="5616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Rectangle 15"/>
          <p:cNvSpPr/>
          <p:nvPr/>
        </p:nvSpPr>
        <p:spPr>
          <a:xfrm>
            <a:off x="1219320" y="1123920"/>
            <a:ext cx="4495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逆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7"/>
          <p:cNvSpPr/>
          <p:nvPr/>
        </p:nvSpPr>
        <p:spPr>
          <a:xfrm>
            <a:off x="1219320" y="502920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判定直角三角形的根据之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8"/>
          <p:cNvSpPr/>
          <p:nvPr/>
        </p:nvSpPr>
        <p:spPr>
          <a:xfrm>
            <a:off x="1219320" y="2971800"/>
            <a:ext cx="73152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39"/>
          <p:cNvGrpSpPr/>
          <p:nvPr/>
        </p:nvGrpSpPr>
        <p:grpSpPr>
          <a:xfrm>
            <a:off x="5791320" y="1219320"/>
            <a:ext cx="2971800" cy="2517120"/>
            <a:chOff x="5791320" y="1219320"/>
            <a:chExt cx="2971800" cy="2517120"/>
          </a:xfrm>
        </p:grpSpPr>
        <p:sp>
          <p:nvSpPr>
            <p:cNvPr id="682" name="AutoShape 40"/>
            <p:cNvSpPr/>
            <p:nvPr/>
          </p:nvSpPr>
          <p:spPr>
            <a:xfrm>
              <a:off x="6248520" y="160020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41"/>
            <p:cNvSpPr/>
            <p:nvPr/>
          </p:nvSpPr>
          <p:spPr>
            <a:xfrm>
              <a:off x="579132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42"/>
            <p:cNvSpPr/>
            <p:nvPr/>
          </p:nvSpPr>
          <p:spPr>
            <a:xfrm>
              <a:off x="71629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43"/>
            <p:cNvSpPr/>
            <p:nvPr/>
          </p:nvSpPr>
          <p:spPr>
            <a:xfrm>
              <a:off x="6934320" y="289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44"/>
            <p:cNvSpPr/>
            <p:nvPr/>
          </p:nvSpPr>
          <p:spPr>
            <a:xfrm>
              <a:off x="8382240" y="266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45"/>
            <p:cNvSpPr/>
            <p:nvPr/>
          </p:nvSpPr>
          <p:spPr>
            <a:xfrm>
              <a:off x="601992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46"/>
            <p:cNvSpPr/>
            <p:nvPr/>
          </p:nvSpPr>
          <p:spPr>
            <a:xfrm>
              <a:off x="5867640" y="266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47"/>
            <p:cNvSpPr/>
            <p:nvPr/>
          </p:nvSpPr>
          <p:spPr>
            <a:xfrm>
              <a:off x="67820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6996240" y="4951440"/>
            <a:ext cx="2361960" cy="1835280"/>
            <a:chOff x="6996240" y="4951440"/>
            <a:chExt cx="2361960" cy="1835280"/>
          </a:xfrm>
        </p:grpSpPr>
        <p:pic>
          <p:nvPicPr>
            <p:cNvPr id="691" name="Picture 3" descr="20"/>
            <p:cNvPicPr/>
            <p:nvPr/>
          </p:nvPicPr>
          <p:blipFill>
            <a:blip r:embed="rId1"/>
            <a:stretch/>
          </p:blipFill>
          <p:spPr>
            <a:xfrm>
              <a:off x="6996240" y="4951440"/>
              <a:ext cx="23619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4"/>
            <p:cNvSpPr/>
            <p:nvPr/>
          </p:nvSpPr>
          <p:spPr>
            <a:xfrm>
              <a:off x="7453080" y="5688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762120" y="97164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角三角形两直角边的平方和等于斜边的平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2"/>
          <p:cNvSpPr/>
          <p:nvPr/>
        </p:nvSpPr>
        <p:spPr>
          <a:xfrm>
            <a:off x="762120" y="12952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3"/>
          <p:cNvSpPr/>
          <p:nvPr/>
        </p:nvSpPr>
        <p:spPr>
          <a:xfrm>
            <a:off x="762120" y="1785960"/>
            <a:ext cx="788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观察上面两个命题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它们的条件与结论之间有怎样的关系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与同伴交流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74"/>
          <p:cNvSpPr/>
          <p:nvPr/>
        </p:nvSpPr>
        <p:spPr>
          <a:xfrm>
            <a:off x="785880" y="2286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再观察下面三组命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75"/>
          <p:cNvSpPr/>
          <p:nvPr/>
        </p:nvSpPr>
        <p:spPr>
          <a:xfrm>
            <a:off x="838080" y="2714760"/>
            <a:ext cx="4448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两个角是对顶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它们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两个角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它们是对顶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6"/>
          <p:cNvSpPr/>
          <p:nvPr/>
        </p:nvSpPr>
        <p:spPr>
          <a:xfrm>
            <a:off x="838080" y="3571920"/>
            <a:ext cx="473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小明患了肺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他一定会发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小明发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他一定患了肺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77"/>
          <p:cNvSpPr/>
          <p:nvPr/>
        </p:nvSpPr>
        <p:spPr>
          <a:xfrm>
            <a:off x="838080" y="4500720"/>
            <a:ext cx="41626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角形中相等的边所对的角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角形中相等的角所对的边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8"/>
          <p:cNvSpPr/>
          <p:nvPr/>
        </p:nvSpPr>
        <p:spPr>
          <a:xfrm>
            <a:off x="1190520" y="514368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上面每组中两个命题的条件和结论之间也有类似的关系吗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与同伴进行交流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84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03" name="AutoShape 85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Picture 86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87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36:07Z</dcterms:created>
  <dc:creator/>
  <dc:description/>
  <dc:language>en-US</dc:language>
  <cp:lastModifiedBy/>
  <dcterms:modified xsi:type="dcterms:W3CDTF">2014-02-21T02:36:15Z</dcterms:modified>
  <cp:revision>1</cp:revision>
  <dc:subject/>
  <dc:title/>
</cp:coreProperties>
</file>