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type.wav" ContentType="audio/x-wav"/>
  <Override PartName="/ppt/media/image6.wmf" ContentType="image/x-wmf"/>
  <Override PartName="/ppt/media/image12.png" ContentType="image/png"/>
  <Override PartName="/ppt/media/image7.gif" ContentType="image/gif"/>
  <Override PartName="/ppt/media/image9.wmf" ContentType="image/x-wmf"/>
  <Override PartName="/ppt/media/image11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2B7A-5437-4DAE-A3CE-E1C2869CC3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0DD-0159-4D6D-9865-A0847346B808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4AF-BD5D-4CC1-9371-6CC56A9A2A53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3042-AC74-489C-AA3F-EA8DF459F168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137-0313-4BED-8164-6B5ADAE08E76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06F3-AD7B-4DAA-A32C-7BA6D0D9108B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89BB-7B90-4B31-A5DF-71CE8276502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EA8-0742-488E-BEA5-A47C0FC12BE6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E8E-DBC6-4838-AA97-DE513DA76AFB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F3B-FABF-43D7-90B5-FBD8546927E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780-5D6D-41C6-8E5A-9C42CC8ED9F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A21-63DD-4A19-834D-BF0ECBD43836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025-92CD-4B21-95BE-9E0DFA670556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D272-DA60-44D8-A1D6-792E5ECCD21B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8C9-3B44-4AD6-97F0-F68DA05BD35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811F-4091-4FAB-B9A2-C700A855B189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690-324E-4C32-A42F-7DE5F0488266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B41A-E037-4917-91CD-B84FB4CEF83C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72C-B6DD-4AB7-998C-C097EDEBF65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DB1-EB76-4636-A1FC-EC42D3904862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2802-FC34-4F87-B47C-57EA40CC0A9A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252A-F4FD-4B8C-9998-30CDC4F9750E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3DD1-734E-4642-86C7-792EDBD2DDBA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0323-9A19-403C-9817-88A202CD0BDC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1572-FD22-42E7-A9BA-1FBAC67DD04D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7427-857D-4504-8EC3-7C61C1D09E4E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24E-A0E8-4E92-A2A0-3557DDD9FC0C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91F-E755-45F4-9B7C-FDEF50234B0E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905-8EFD-4875-9EFA-E26DA76968EA}" type="slidenum">
              <a:rPr b="1" lang="zh-CN" sz="1200" spc="-1" strike="noStrike">
                <a:solidFill>
                  <a:srgbClr val="111111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57C-833B-4493-9DC9-9030FA8E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D4E-9AE6-4B0D-AA64-C700AED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D269E-39E0-4FDA-88BB-2FBB45CA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3EE20-BE90-4514-A771-FB39467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85DDC-3481-40E9-90BB-95A9C8E5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DC6D5-0A38-46B6-8A15-86ACFB7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10D2A-3DFD-488F-BF0A-08260CE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322F5-96F6-4A55-AD75-34E2F62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6502-1555-47DB-8A60-8A41D7BA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9D05A-7B29-4EB1-AB47-9E051B24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5871E-A0F2-46E6-80F3-9D817F6E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D9D72-97E4-4ABC-81C1-22C4D00F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9EE-EEC7-4DDB-90F0-B6A58D6B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F0A93-C0C0-4900-837F-29FC9B5C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48F3A-312A-439C-9ED3-D05EC62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491E7-EC2C-449D-AE3D-B049E9BF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56257-EED5-446D-85DC-29D939A6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1E332-33B9-4267-88A0-34583CD5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8BD6-4378-42FF-AD71-8FB1F5F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D6DED-1BDD-4166-8C3A-E504321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ACED0-AE1B-4392-BBE8-32CF46F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50215-9CF6-4FB2-A3C0-B655956B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2DD12-0EC8-4C91-8555-837A683C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7EB-009E-4E9F-A401-B36479F2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33E37-859E-4554-8E04-1C8BF6D5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5A2F6-7F83-4570-B61C-913C417D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9836F-CC43-4C46-96D4-E064D71A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50E00-786C-417C-8CAF-8121029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C86F-216D-450A-AD9E-98D2AA5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9E3C-4044-4C0D-A1AC-2B78716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71B41-F228-48D7-B821-B3811C2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F9CA-F8B9-4CD9-8F51-8552D98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94F5A-ADCA-4AEF-ADC2-9C23334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2A91-F2BC-4F22-B71D-0B10C35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76FB-913F-4E18-8124-D68C241A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035DC-73C1-446F-9AE4-F06E9E3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2FD7-B14F-47C0-A3AE-576F371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E400-AF72-44F8-9904-3B914451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7C9BC-55AF-4BE8-A4FA-B4E6910D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71C8F-361E-46AC-B5A1-E65349CB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F9FED-B791-4945-B6C8-042E1E4F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72314-46AA-4F23-A536-A257AB84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A0D5D-928E-4AEC-A66B-DF9E77A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F72BD-4426-4559-8AF5-8EEC9560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0B32-76DE-4E1E-A48C-74B6547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37AD-561E-48E3-9712-D3DF071E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C4DA8-6B29-437A-9BB0-22532DC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7984C-C8B9-4771-B9AA-636C653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06941-C453-4D00-BB57-42FB5C7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45637-3E12-41B6-AAD3-47AB410A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C49A3-1C68-4086-9D48-CC76523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5B544-01C3-4CCD-9288-01C8E634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B9BA6-9C17-4837-958C-1CB1E675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D6057-5850-4D6F-9660-32E78EE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42FA7-B279-4E1D-8A44-06BCF39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64953-A2BC-42EC-9267-3847C56B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C52C-3B7C-477A-A8D4-F5820E3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191F8-55B7-42CC-8F78-36422E2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892B5-638A-4FC2-AD76-4B10A1F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F62F2-9F09-4054-B9F9-CAE5B4B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7FC42-67E4-46B8-AD21-4AB7CDA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79643-6166-460A-8499-53906132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3CAAA-A40F-457D-92DF-81C0E22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A2D75-DB1B-4200-BB77-B7A31781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A706A-663D-44C1-B36F-59F035F0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E622A-6D21-4284-8748-528DDA27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BF29A-85B2-4BAA-A129-D370FC3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4BF5-F633-4B16-92A1-D77CF450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7C175-D441-4724-937C-9610EC51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FBE97-8930-4E65-894B-5492D132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C77ED-C87F-402D-A26A-F485C03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F3EFC-F7B6-4B77-9337-A7F23AA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81522-BBF1-4F2D-B3E2-2F5C397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DEE69-0274-4CEA-9AE9-4D03C68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840B1-7A0C-473D-AC03-9681CA15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A2BDE-5873-4F50-A8A4-DC4BA772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7B4F8-17C2-4409-B963-75A76413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821F-B6FB-4C8B-8AE3-AB173EB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A69-9638-4EC9-B710-CC6A987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9B0D-2C74-4FAA-9F13-4B48E32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6BE-FDDC-4F7C-8249-9C7EBF89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02CC-7856-47EB-B1A4-F9D87693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8A5B-902E-4350-9BDD-04578E2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AF3A-F7E9-4582-96A4-CAA4295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0E1-47A1-4276-A1E1-149AEDF9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830-B9BB-4DE1-86E4-6704BCA3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B4FF-CE3B-4B14-9F37-617B447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9DAF-E36D-44FA-8045-BA2C620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C2F4-6A04-4A4F-9784-0D60572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51A6-7D29-4B57-9C24-1B4825E4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8690-077F-4035-AB90-E5FB43D7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6C6-9F5A-411C-9819-280F7E01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E3F1-A672-4421-B519-26CFD19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791F-ACC4-48C3-9DB3-95BD773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D393-0107-4C87-9843-385698B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1C97-9094-4D49-8429-63D6A35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EF8B-5C5C-41C1-9A38-6ED297B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D4B3-0C6F-4E21-B431-27E0711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FFDB-70CC-410C-AD4B-BFE14064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233F-3E5C-4B41-B182-98128852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58AC-E564-43EA-BC08-136B6BB1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068E-26F1-4C8D-B9AB-E54CF11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ADD-6381-4555-BB4B-0F2B130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21ECB-DC13-4FF5-B4BD-E87B05DC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6F99-DD45-42B4-BB5B-AB45169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6E0D-8A22-477C-947E-1F68401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9CCB-581E-4F96-BD1B-E9F543C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F456-C92B-4CA1-A789-871DFED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936C-30AE-4BD4-B922-05CFE36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EA6D-E3D0-415C-8B72-CA9880F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82ED-E268-4F3A-87CB-1D84D44F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3F06-431C-4168-A5AD-282E9019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52A6-7B7F-445A-86FD-2269FEFA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2F7-54DC-4D97-8F0B-C51ECE5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4C9B-BFC2-40B5-A3DB-BC3E69B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BB4F-62B7-4A89-B6A5-4BEF87A7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B295-43AB-424D-B2EC-C7DB522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D5C0-B7F6-48E6-8AA3-DFBB740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96D1-494D-4978-B977-52813A65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FC5A-802E-46E5-B2CE-D64A798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5C1A-30F2-4B8E-AB52-E562252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7002-FAAF-4299-8726-A9BD94DD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C5D52-7004-47DE-AA73-0B7E7BA7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9DDE-9168-444F-BC4A-34F55898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64E-DDCB-4FBC-8BCE-B60B7F9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A21E-6195-4D03-A25C-B6A7952A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9C4A-8712-455C-A67D-63F8F361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60C6-4FC4-45A7-9106-D80FA2E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8047-72AB-4D84-AADD-9FC30F89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5A46-3447-4DAC-B82B-93E760A3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DF396-1B18-460D-9F0F-BAF8087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38F5-3E33-4D01-AA71-E176EED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1B8C-7FE7-493B-9729-613E1AE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AC45-1399-42EA-8539-8E888E7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9C60F-2C72-414C-ADCA-8958F24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E8A-6A45-4E2E-9413-60EA495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64C4-E243-4BD6-BE59-419C59D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7A7D-4E30-4EAF-84AB-40FEC07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2435-F958-4F97-9B16-97EEEF4D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EB68-0FA4-46CE-9E6E-A15E42E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41A6-804E-492E-B7D0-2671E01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6E92-EE73-49B0-8774-49FCA20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3B9A-F9DE-42E7-8CD0-713AAEA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F280-4684-4E37-9023-1C2734F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0A20-9020-4278-B7DB-59D85012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6338-269F-4E1D-9957-4C7DDC7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8E8-C9AF-4914-B504-4905E03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638C-6C4E-4264-86D4-66E3901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15F1-6A69-40FC-82C2-32C5EA7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8833-C492-4FFA-8062-B909ECD4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FFB30-DA1C-48B5-B9FB-AB37B6BF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B9A9-4118-4282-A3B9-96882273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E082-3D47-4140-A432-864DE475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1B279-7181-462A-9D9F-31B7BCD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8A235-BF98-4874-AAD0-C50B171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BD4B0-5DB1-42E9-9589-35348C5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79FC9-8F9B-4011-9056-FFC128A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D51-ED81-45F3-A612-70CB752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CEBC-8C08-4D68-950D-22ED8CF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D37FC-9B4B-4D4A-82B9-662A9A3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EB95-136A-423A-9FBA-465A5B5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7DA11-C561-4116-AA17-0B23B3A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05D89-EE9D-4C3D-8F52-F2687A96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A82D-6379-40BB-B2EF-4AA58C86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A542-CBD0-4D97-9B57-6D887B3B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07646-8547-40E2-BA2A-0F30A47B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E7B44-162C-43A5-9664-E453B48F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03CC5-1DB3-4279-8DD8-A97064A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5C5E-6ECC-4843-9CC7-78E84D94EF0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CEA-FC39-43D0-855C-9E08B6437924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924-67A7-4EC8-AD65-C6D4487941CF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158-07B6-4109-A048-B5B4FC61560A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CB2B-44D5-4779-98D8-F155DCFCC87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01D-232E-4FC8-8EB5-89473BA2B2FF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BBAD-BCB1-400C-BD99-92B6183D1036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DA2-F02E-4D76-BE54-FA434E4D66ED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90B1-9C17-4689-8F9F-190A4219ED5B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E33-31C3-481E-AADB-1626C33A453C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881D-E4A5-47DD-8831-578D881493FD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F44-BDC8-40A9-BA34-DF17206C3AC1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4FB-5E2D-4390-BB58-C1F19CB7CBDD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F272-6370-492E-8F3F-72B26611FBE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684360" y="2421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.4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角平分线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(1)</a:t>
            </a:r>
            <a:endParaRPr b="1" lang="en-US" sz="54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4"/>
          <p:cNvSpPr/>
          <p:nvPr/>
        </p:nvSpPr>
        <p:spPr>
          <a:xfrm>
            <a:off x="503280" y="647640"/>
            <a:ext cx="8031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逆定理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               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82" name="Rectangle 78"/>
          <p:cNvSpPr/>
          <p:nvPr/>
        </p:nvSpPr>
        <p:spPr>
          <a:xfrm>
            <a:off x="762120" y="1579680"/>
            <a:ext cx="5489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, 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,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83" name="Text Box 79"/>
          <p:cNvSpPr/>
          <p:nvPr/>
        </p:nvSpPr>
        <p:spPr>
          <a:xfrm>
            <a:off x="762120" y="4094280"/>
            <a:ext cx="7772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又是经常用来证明点在直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或直线经过某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684" name="Group 105"/>
          <p:cNvGrpSpPr/>
          <p:nvPr/>
        </p:nvGrpSpPr>
        <p:grpSpPr>
          <a:xfrm>
            <a:off x="5770440" y="1386000"/>
            <a:ext cx="2886120" cy="2958840"/>
            <a:chOff x="5770440" y="1386000"/>
            <a:chExt cx="2886120" cy="2958840"/>
          </a:xfrm>
        </p:grpSpPr>
        <p:sp>
          <p:nvSpPr>
            <p:cNvPr id="685" name="Line 106"/>
            <p:cNvSpPr/>
            <p:nvPr/>
          </p:nvSpPr>
          <p:spPr>
            <a:xfrm flipH="1" flipV="1">
              <a:off x="7227360" y="2150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86" name="Line 107"/>
            <p:cNvSpPr/>
            <p:nvPr/>
          </p:nvSpPr>
          <p:spPr>
            <a:xfrm>
              <a:off x="7030800" y="2280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87" name="Line 108"/>
            <p:cNvSpPr/>
            <p:nvPr/>
          </p:nvSpPr>
          <p:spPr>
            <a:xfrm flipV="1">
              <a:off x="7127640" y="2300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88" name="Text Box 109"/>
            <p:cNvSpPr/>
            <p:nvPr/>
          </p:nvSpPr>
          <p:spPr>
            <a:xfrm>
              <a:off x="81993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89" name="Text Box 110"/>
            <p:cNvSpPr/>
            <p:nvPr/>
          </p:nvSpPr>
          <p:spPr>
            <a:xfrm>
              <a:off x="7513560" y="38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0" name="Text Box 111"/>
            <p:cNvSpPr/>
            <p:nvPr/>
          </p:nvSpPr>
          <p:spPr>
            <a:xfrm>
              <a:off x="659916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1" name="Text Box 112"/>
            <p:cNvSpPr/>
            <p:nvPr/>
          </p:nvSpPr>
          <p:spPr>
            <a:xfrm>
              <a:off x="7502400" y="138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2" name="Line 113"/>
            <p:cNvSpPr/>
            <p:nvPr/>
          </p:nvSpPr>
          <p:spPr>
            <a:xfrm>
              <a:off x="6141960" y="2833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3" name="Line 114"/>
            <p:cNvSpPr/>
            <p:nvPr/>
          </p:nvSpPr>
          <p:spPr>
            <a:xfrm flipH="1">
              <a:off x="6141960" y="1842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4" name="Line 115"/>
            <p:cNvSpPr/>
            <p:nvPr/>
          </p:nvSpPr>
          <p:spPr>
            <a:xfrm flipH="1" flipV="1">
              <a:off x="6153120" y="2833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5" name="Arc 116"/>
            <p:cNvSpPr/>
            <p:nvPr/>
          </p:nvSpPr>
          <p:spPr>
            <a:xfrm>
              <a:off x="6522840" y="2604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6" name="Arc 117"/>
            <p:cNvSpPr/>
            <p:nvPr/>
          </p:nvSpPr>
          <p:spPr>
            <a:xfrm>
              <a:off x="6446880" y="2833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7" name="Text Box 118"/>
            <p:cNvSpPr/>
            <p:nvPr/>
          </p:nvSpPr>
          <p:spPr>
            <a:xfrm>
              <a:off x="65991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8" name="Text Box 119"/>
            <p:cNvSpPr/>
            <p:nvPr/>
          </p:nvSpPr>
          <p:spPr>
            <a:xfrm>
              <a:off x="7662600" y="2420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99" name="Line 120"/>
            <p:cNvSpPr/>
            <p:nvPr/>
          </p:nvSpPr>
          <p:spPr>
            <a:xfrm flipH="1">
              <a:off x="7224120" y="2836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00" name="Line 121"/>
            <p:cNvSpPr/>
            <p:nvPr/>
          </p:nvSpPr>
          <p:spPr>
            <a:xfrm flipV="1">
              <a:off x="7041960" y="3245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01" name="Line 122"/>
            <p:cNvSpPr/>
            <p:nvPr/>
          </p:nvSpPr>
          <p:spPr>
            <a:xfrm>
              <a:off x="7138800" y="3222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02" name="Text Box 123"/>
            <p:cNvSpPr/>
            <p:nvPr/>
          </p:nvSpPr>
          <p:spPr>
            <a:xfrm>
              <a:off x="6939000" y="17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03" name="Text Box 124"/>
            <p:cNvSpPr/>
            <p:nvPr/>
          </p:nvSpPr>
          <p:spPr>
            <a:xfrm>
              <a:off x="6941880" y="3443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04" name="Text Box 125"/>
            <p:cNvSpPr/>
            <p:nvPr/>
          </p:nvSpPr>
          <p:spPr>
            <a:xfrm>
              <a:off x="5770440" y="2531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5"/>
          <p:cNvSpPr/>
          <p:nvPr/>
        </p:nvSpPr>
        <p:spPr>
          <a:xfrm>
            <a:off x="971640" y="7128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例题讲析</a:t>
            </a:r>
            <a:endParaRPr b="1" lang="en-US" sz="36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06" name="Rectangle 10"/>
          <p:cNvSpPr/>
          <p:nvPr/>
        </p:nvSpPr>
        <p:spPr>
          <a:xfrm>
            <a:off x="785880" y="7909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如图，在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中，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BAC=60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点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上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AD=1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DE⊥AB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DF⊥A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垂足分别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DE=DF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的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cxnSp>
        <p:nvCxnSpPr>
          <p:cNvPr id="707" name="AutoShape 23"/>
          <p:cNvCxnSpPr/>
          <p:nvPr/>
        </p:nvCxnSpPr>
        <p:spPr>
          <a:xfrm flipH="1" flipV="1">
            <a:off x="7143480" y="3499920"/>
            <a:ext cx="653040" cy="502560"/>
          </a:xfrm>
          <a:prstGeom prst="straightConnector1">
            <a:avLst/>
          </a:prstGeom>
          <a:ln w="25560">
            <a:solidFill>
              <a:srgbClr val="4c453d"/>
            </a:solidFill>
            <a:miter/>
          </a:ln>
        </p:spPr>
      </p:cxnSp>
      <p:grpSp>
        <p:nvGrpSpPr>
          <p:cNvPr id="708" name="组合 41"/>
          <p:cNvGrpSpPr/>
          <p:nvPr/>
        </p:nvGrpSpPr>
        <p:grpSpPr>
          <a:xfrm>
            <a:off x="6429240" y="2000160"/>
            <a:ext cx="2643480" cy="2309760"/>
            <a:chOff x="6429240" y="2000160"/>
            <a:chExt cx="2643480" cy="2309760"/>
          </a:xfrm>
        </p:grpSpPr>
        <p:pic>
          <p:nvPicPr>
            <p:cNvPr id="709" name="Group 11" descr=""/>
            <p:cNvPicPr/>
            <p:nvPr/>
          </p:nvPicPr>
          <p:blipFill>
            <a:blip r:embed="rId1"/>
            <a:stretch/>
          </p:blipFill>
          <p:spPr>
            <a:xfrm>
              <a:off x="6429240" y="2000160"/>
              <a:ext cx="26434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直接连接符 26"/>
            <p:cNvSpPr/>
            <p:nvPr/>
          </p:nvSpPr>
          <p:spPr>
            <a:xfrm flipV="1">
              <a:off x="7251120" y="3427920"/>
              <a:ext cx="114840" cy="14184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11" name="直接连接符 31"/>
            <p:cNvSpPr/>
            <p:nvPr/>
          </p:nvSpPr>
          <p:spPr>
            <a:xfrm>
              <a:off x="7225200" y="3357000"/>
              <a:ext cx="141480" cy="7092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12" name="直接连接符 34"/>
            <p:cNvSpPr/>
            <p:nvPr/>
          </p:nvSpPr>
          <p:spPr>
            <a:xfrm flipV="1">
              <a:off x="8288640" y="3356640"/>
              <a:ext cx="141480" cy="7092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13" name="直接连接符 39"/>
            <p:cNvSpPr/>
            <p:nvPr/>
          </p:nvSpPr>
          <p:spPr>
            <a:xfrm>
              <a:off x="8288640" y="3427920"/>
              <a:ext cx="70560" cy="14184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  <p:sp>
        <p:nvSpPr>
          <p:cNvPr id="714" name="TextBox 42"/>
          <p:cNvSpPr/>
          <p:nvPr/>
        </p:nvSpPr>
        <p:spPr>
          <a:xfrm>
            <a:off x="642960" y="2286000"/>
            <a:ext cx="60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解： ∵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⊥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F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⊥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垂足分别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E=DF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∴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平分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BA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在一个角的内部，到角的两边距离相等的点在这个角的平分线上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又∵ 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BAC=60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∴ 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BAD=30°.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Rt △AD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中， 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ED=90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D=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∴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E=   AD=   ×10=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在直角三角形中，如果一个锐角等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那么它所对的直角边等于斜边的一半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</p:txBody>
      </p:sp>
      <p:graphicFrame>
        <p:nvGraphicFramePr>
          <p:cNvPr id="715" name="Object 24"/>
          <p:cNvGraphicFramePr/>
          <p:nvPr/>
        </p:nvGraphicFramePr>
        <p:xfrm>
          <a:off x="1643040" y="4762440"/>
          <a:ext cx="28584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762440"/>
                    <a:ext cx="285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25"/>
          <p:cNvGraphicFramePr/>
          <p:nvPr/>
        </p:nvGraphicFramePr>
        <p:xfrm>
          <a:off x="2571840" y="4786200"/>
          <a:ext cx="285840" cy="5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71840" y="4786200"/>
                    <a:ext cx="285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二  挑战自我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5"/>
          <p:cNvSpPr/>
          <p:nvPr/>
        </p:nvSpPr>
        <p:spPr>
          <a:xfrm>
            <a:off x="449280" y="692280"/>
            <a:ext cx="7788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AD,AE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分别是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中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内角平  分线和外角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它们有什么关系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770040" y="4581360"/>
            <a:ext cx="7467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你能说出结论并能证明它</a:t>
            </a:r>
            <a:r>
              <a:rPr b="0" lang="en-US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722" name="Group 64"/>
          <p:cNvGrpSpPr/>
          <p:nvPr/>
        </p:nvGrpSpPr>
        <p:grpSpPr>
          <a:xfrm>
            <a:off x="2508120" y="1979640"/>
            <a:ext cx="4132440" cy="2444760"/>
            <a:chOff x="2508120" y="1979640"/>
            <a:chExt cx="4132440" cy="2444760"/>
          </a:xfrm>
        </p:grpSpPr>
        <p:sp>
          <p:nvSpPr>
            <p:cNvPr id="723" name="Text Box 41"/>
            <p:cNvSpPr/>
            <p:nvPr/>
          </p:nvSpPr>
          <p:spPr>
            <a:xfrm>
              <a:off x="6183360" y="2427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4" name="Text Box 43"/>
            <p:cNvSpPr/>
            <p:nvPr/>
          </p:nvSpPr>
          <p:spPr>
            <a:xfrm>
              <a:off x="3287880" y="2685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5" name="Text Box 44"/>
            <p:cNvSpPr/>
            <p:nvPr/>
          </p:nvSpPr>
          <p:spPr>
            <a:xfrm>
              <a:off x="4627440" y="39038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6" name="Text Box 45"/>
            <p:cNvSpPr/>
            <p:nvPr/>
          </p:nvSpPr>
          <p:spPr>
            <a:xfrm>
              <a:off x="2508120" y="39038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7" name="Text Box 46"/>
            <p:cNvSpPr/>
            <p:nvPr/>
          </p:nvSpPr>
          <p:spPr>
            <a:xfrm>
              <a:off x="4035600" y="1979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8" name="Line 49"/>
            <p:cNvSpPr/>
            <p:nvPr/>
          </p:nvSpPr>
          <p:spPr>
            <a:xfrm flipH="1">
              <a:off x="2698560" y="3979800"/>
              <a:ext cx="3408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29" name="Text Box 55"/>
            <p:cNvSpPr/>
            <p:nvPr/>
          </p:nvSpPr>
          <p:spPr>
            <a:xfrm>
              <a:off x="2671920" y="21146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0" name="Line 56"/>
            <p:cNvSpPr/>
            <p:nvPr/>
          </p:nvSpPr>
          <p:spPr>
            <a:xfrm flipV="1">
              <a:off x="4811760" y="2642760"/>
              <a:ext cx="1349280" cy="13366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 flipH="1" flipV="1">
              <a:off x="3622320" y="3127320"/>
              <a:ext cx="1195560" cy="858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2" name="Line 58"/>
            <p:cNvSpPr/>
            <p:nvPr/>
          </p:nvSpPr>
          <p:spPr>
            <a:xfrm flipH="1" flipV="1">
              <a:off x="4451040" y="2276640"/>
              <a:ext cx="336600" cy="1753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3" name="Line 59"/>
            <p:cNvSpPr/>
            <p:nvPr/>
          </p:nvSpPr>
          <p:spPr>
            <a:xfrm flipV="1">
              <a:off x="2700360" y="2304720"/>
              <a:ext cx="1716120" cy="17002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4" name="Text Box 60"/>
            <p:cNvSpPr/>
            <p:nvPr/>
          </p:nvSpPr>
          <p:spPr>
            <a:xfrm>
              <a:off x="5954760" y="39038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4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36" name="Rectangle 34"/>
          <p:cNvSpPr/>
          <p:nvPr/>
        </p:nvSpPr>
        <p:spPr>
          <a:xfrm>
            <a:off x="617400" y="533520"/>
            <a:ext cx="80010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一目标在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区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到公路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铁路距离相等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离公路与铁路的交叉处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500m.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在图上标出它的位置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比例尺 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1:20 000).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737" name="Group 92"/>
          <p:cNvGrpSpPr/>
          <p:nvPr/>
        </p:nvGrpSpPr>
        <p:grpSpPr>
          <a:xfrm>
            <a:off x="1981080" y="2492280"/>
            <a:ext cx="5085000" cy="2930400"/>
            <a:chOff x="1981080" y="2492280"/>
            <a:chExt cx="5085000" cy="2930400"/>
          </a:xfrm>
        </p:grpSpPr>
        <p:sp>
          <p:nvSpPr>
            <p:cNvPr id="738" name="Text Box 82"/>
            <p:cNvSpPr/>
            <p:nvPr/>
          </p:nvSpPr>
          <p:spPr>
            <a:xfrm>
              <a:off x="2819520" y="3557880"/>
              <a:ext cx="9903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A</a:t>
              </a:r>
              <a:r>
                <a:rPr b="0" lang="zh-CN" sz="28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区 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39" name="Line 89"/>
            <p:cNvSpPr/>
            <p:nvPr/>
          </p:nvSpPr>
          <p:spPr>
            <a:xfrm flipV="1">
              <a:off x="1981080" y="3857400"/>
              <a:ext cx="5085000" cy="1564920"/>
            </a:xfrm>
            <a:prstGeom prst="line">
              <a:avLst/>
            </a:prstGeom>
            <a:ln w="127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0" name="Line 91"/>
            <p:cNvSpPr/>
            <p:nvPr/>
          </p:nvSpPr>
          <p:spPr>
            <a:xfrm>
              <a:off x="3200400" y="2492280"/>
              <a:ext cx="3581280" cy="2930400"/>
            </a:xfrm>
            <a:prstGeom prst="line">
              <a:avLst/>
            </a:prstGeom>
            <a:ln w="1396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4"/>
          <p:cNvSpPr/>
          <p:nvPr/>
        </p:nvSpPr>
        <p:spPr>
          <a:xfrm>
            <a:off x="990720" y="83808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求作一点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使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C=PD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并且点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到∠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的两边的距离相等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. 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742" name="Group 64"/>
          <p:cNvGrpSpPr/>
          <p:nvPr/>
        </p:nvGrpSpPr>
        <p:grpSpPr>
          <a:xfrm>
            <a:off x="2362320" y="2057400"/>
            <a:ext cx="4724280" cy="3171240"/>
            <a:chOff x="2362320" y="2057400"/>
            <a:chExt cx="4724280" cy="3171240"/>
          </a:xfrm>
        </p:grpSpPr>
        <p:sp>
          <p:nvSpPr>
            <p:cNvPr id="743" name="Text Box 57"/>
            <p:cNvSpPr/>
            <p:nvPr/>
          </p:nvSpPr>
          <p:spPr>
            <a:xfrm>
              <a:off x="4419720" y="4260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C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●</a:t>
              </a:r>
              <a:endParaRPr b="1" lang="en-US" sz="1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4" name="Text Box 58"/>
            <p:cNvSpPr/>
            <p:nvPr/>
          </p:nvSpPr>
          <p:spPr>
            <a:xfrm>
              <a:off x="54100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D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●</a:t>
              </a:r>
              <a:endParaRPr b="1" lang="en-US" sz="1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5" name="Line 59"/>
            <p:cNvSpPr/>
            <p:nvPr/>
          </p:nvSpPr>
          <p:spPr>
            <a:xfrm>
              <a:off x="2743200" y="4800600"/>
              <a:ext cx="403848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6" name="Line 60"/>
            <p:cNvSpPr/>
            <p:nvPr/>
          </p:nvSpPr>
          <p:spPr>
            <a:xfrm flipV="1">
              <a:off x="2762280" y="2463840"/>
              <a:ext cx="2724120" cy="23320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7" name="Text Box 61"/>
            <p:cNvSpPr/>
            <p:nvPr/>
          </p:nvSpPr>
          <p:spPr>
            <a:xfrm>
              <a:off x="6553080" y="4768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8" name="Text Box 62"/>
            <p:cNvSpPr/>
            <p:nvPr/>
          </p:nvSpPr>
          <p:spPr>
            <a:xfrm>
              <a:off x="533412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49" name="Text Box 63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4"/>
          <p:cNvSpPr/>
          <p:nvPr/>
        </p:nvSpPr>
        <p:spPr>
          <a:xfrm>
            <a:off x="617400" y="571680"/>
            <a:ext cx="79171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4.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: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在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中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A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是它的角平分线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且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BD=CD,DE⊥AB,DF⊥AC,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E,F.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求证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:EB=FC. 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751" name="Group 101"/>
          <p:cNvGrpSpPr/>
          <p:nvPr/>
        </p:nvGrpSpPr>
        <p:grpSpPr>
          <a:xfrm>
            <a:off x="2933640" y="2705040"/>
            <a:ext cx="3581640" cy="3017880"/>
            <a:chOff x="2933640" y="2705040"/>
            <a:chExt cx="3581640" cy="3017880"/>
          </a:xfrm>
        </p:grpSpPr>
        <p:sp>
          <p:nvSpPr>
            <p:cNvPr id="752" name="Text Box 51"/>
            <p:cNvSpPr/>
            <p:nvPr/>
          </p:nvSpPr>
          <p:spPr>
            <a:xfrm>
              <a:off x="5067360" y="5143680"/>
              <a:ext cx="457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3" name="Text Box 50"/>
            <p:cNvSpPr/>
            <p:nvPr/>
          </p:nvSpPr>
          <p:spPr>
            <a:xfrm>
              <a:off x="2933640" y="4915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4" name="Text Box 52"/>
            <p:cNvSpPr/>
            <p:nvPr/>
          </p:nvSpPr>
          <p:spPr>
            <a:xfrm>
              <a:off x="4457880" y="27050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5" name="Text Box 60"/>
            <p:cNvSpPr/>
            <p:nvPr/>
          </p:nvSpPr>
          <p:spPr>
            <a:xfrm>
              <a:off x="3314880" y="415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6" name="Text Box 61"/>
            <p:cNvSpPr/>
            <p:nvPr/>
          </p:nvSpPr>
          <p:spPr>
            <a:xfrm>
              <a:off x="4457880" y="5068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7" name="Text Box 70"/>
            <p:cNvSpPr/>
            <p:nvPr/>
          </p:nvSpPr>
          <p:spPr>
            <a:xfrm>
              <a:off x="5905440" y="4984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8" name="Line 81"/>
            <p:cNvSpPr/>
            <p:nvPr/>
          </p:nvSpPr>
          <p:spPr>
            <a:xfrm>
              <a:off x="3665520" y="4449960"/>
              <a:ext cx="938160" cy="618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59" name="Line 82"/>
            <p:cNvSpPr/>
            <p:nvPr/>
          </p:nvSpPr>
          <p:spPr>
            <a:xfrm flipV="1">
              <a:off x="3198960" y="3136680"/>
              <a:ext cx="1387440" cy="19126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0" name="Line 88"/>
            <p:cNvSpPr/>
            <p:nvPr/>
          </p:nvSpPr>
          <p:spPr>
            <a:xfrm>
              <a:off x="3618000" y="4572000"/>
              <a:ext cx="168120" cy="1126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1" name="Line 89"/>
            <p:cNvSpPr/>
            <p:nvPr/>
          </p:nvSpPr>
          <p:spPr>
            <a:xfrm flipH="1">
              <a:off x="3749400" y="4573800"/>
              <a:ext cx="74520" cy="1126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2" name="Line 91"/>
            <p:cNvSpPr/>
            <p:nvPr/>
          </p:nvSpPr>
          <p:spPr>
            <a:xfrm>
              <a:off x="3238560" y="5058000"/>
              <a:ext cx="274320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3" name="Line 92"/>
            <p:cNvSpPr/>
            <p:nvPr/>
          </p:nvSpPr>
          <p:spPr>
            <a:xfrm>
              <a:off x="4602240" y="3154320"/>
              <a:ext cx="4680" cy="1901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 flipH="1" flipV="1">
              <a:off x="4586040" y="3098880"/>
              <a:ext cx="1392120" cy="1959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5" name="Text Box 95"/>
            <p:cNvSpPr/>
            <p:nvPr/>
          </p:nvSpPr>
          <p:spPr>
            <a:xfrm flipH="1">
              <a:off x="5600160" y="4152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11111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 flipH="1">
              <a:off x="4610160" y="4449960"/>
              <a:ext cx="938160" cy="618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7" name="Line 99"/>
            <p:cNvSpPr/>
            <p:nvPr/>
          </p:nvSpPr>
          <p:spPr>
            <a:xfrm>
              <a:off x="5257800" y="4405320"/>
              <a:ext cx="114480" cy="1684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68" name="Line 100"/>
            <p:cNvSpPr/>
            <p:nvPr/>
          </p:nvSpPr>
          <p:spPr>
            <a:xfrm flipV="1">
              <a:off x="5257800" y="4275000"/>
              <a:ext cx="168480" cy="129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证明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: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A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是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的角平分线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且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DE⊥AB,DF⊥A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DE=D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BD=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BDE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CDF(H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EB=E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533520" y="692280"/>
            <a:ext cx="48765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</a:rPr>
              <a:t>△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</a:rPr>
              <a:t>中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AC=BC,∠C=90</a:t>
            </a:r>
            <a:r>
              <a:rPr b="1" lang="en-US" sz="32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,AD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</a:rPr>
              <a:t>△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的角平线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,DE⊥AB,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垂足为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E.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533520" y="450864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你能正确地解答并规范地写出过程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533520" y="3381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D=4cm,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求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长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533520" y="3989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:AB=AC+CD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5788080" y="471600"/>
            <a:ext cx="2895480" cy="2973240"/>
            <a:chOff x="5788080" y="471600"/>
            <a:chExt cx="2895480" cy="2973240"/>
          </a:xfrm>
        </p:grpSpPr>
        <p:sp>
          <p:nvSpPr>
            <p:cNvPr id="775" name="Text Box 7"/>
            <p:cNvSpPr/>
            <p:nvPr/>
          </p:nvSpPr>
          <p:spPr>
            <a:xfrm>
              <a:off x="7464240" y="17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76" name="Text Box 8"/>
            <p:cNvSpPr/>
            <p:nvPr/>
          </p:nvSpPr>
          <p:spPr>
            <a:xfrm>
              <a:off x="6854760" y="29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77" name="Text Box 9"/>
            <p:cNvSpPr/>
            <p:nvPr/>
          </p:nvSpPr>
          <p:spPr>
            <a:xfrm>
              <a:off x="5788080" y="4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8302680" y="2772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79" name="Text Box 11"/>
            <p:cNvSpPr/>
            <p:nvPr/>
          </p:nvSpPr>
          <p:spPr>
            <a:xfrm>
              <a:off x="5826240" y="2772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0" name="Line 12"/>
            <p:cNvSpPr/>
            <p:nvPr/>
          </p:nvSpPr>
          <p:spPr>
            <a:xfrm>
              <a:off x="6164280" y="795600"/>
              <a:ext cx="839880" cy="2139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1" name="Line 13"/>
            <p:cNvSpPr/>
            <p:nvPr/>
          </p:nvSpPr>
          <p:spPr>
            <a:xfrm flipV="1">
              <a:off x="7007040" y="2214360"/>
              <a:ext cx="559080" cy="7095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2" name="Line 14"/>
            <p:cNvSpPr/>
            <p:nvPr/>
          </p:nvSpPr>
          <p:spPr>
            <a:xfrm>
              <a:off x="6145200" y="2773440"/>
              <a:ext cx="225360" cy="1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3" name="Line 15"/>
            <p:cNvSpPr/>
            <p:nvPr/>
          </p:nvSpPr>
          <p:spPr>
            <a:xfrm>
              <a:off x="6321240" y="2772000"/>
              <a:ext cx="0" cy="18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 flipH="1">
              <a:off x="7311600" y="2075040"/>
              <a:ext cx="112680" cy="1666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5" name="Line 17"/>
            <p:cNvSpPr/>
            <p:nvPr/>
          </p:nvSpPr>
          <p:spPr>
            <a:xfrm>
              <a:off x="7311960" y="2241720"/>
              <a:ext cx="149400" cy="936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786" name="AutoShape 18"/>
            <p:cNvSpPr/>
            <p:nvPr/>
          </p:nvSpPr>
          <p:spPr>
            <a:xfrm>
              <a:off x="6164280" y="795600"/>
              <a:ext cx="2138400" cy="2138400"/>
            </a:xfrm>
            <a:prstGeom prst="rtTriangl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539640" y="685800"/>
            <a:ext cx="79200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解（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） ∵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A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是△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的角平线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, DE⊥AB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DC⊥AC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 ∴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DE=CD=4c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 ∵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AC=BC∴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=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AC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等边对等角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∵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=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90°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∴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= 45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∴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DE=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90°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45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= 45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∴BE=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在等腰直角三角形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3"/>
              <p:cNvSpPr txBox="1"/>
              <p:nvPr/>
            </p:nvSpPr>
            <p:spPr>
              <a:xfrm>
                <a:off x="1692360" y="4005360"/>
                <a:ext cx="64087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 学习新知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）证明：由（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）的求解过程可知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Rt△ACD≌Rt△AED(H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∴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AC=A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∵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BE=DE=CD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∴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AB=AE+BE=AC+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四  深入探索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611280" y="122472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buClr>
                <a:srgbClr val="111111"/>
              </a:buClr>
              <a:buFont typeface="黑体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，如图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中，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C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交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于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E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，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C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补角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CD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为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CG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EG∥B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交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于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EF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会与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FG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相等吗？为什么？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2" name="Line 8"/>
          <p:cNvSpPr/>
          <p:nvPr/>
        </p:nvSpPr>
        <p:spPr>
          <a:xfrm>
            <a:off x="2577960" y="5065560"/>
            <a:ext cx="2454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3" name="Line 9"/>
          <p:cNvSpPr/>
          <p:nvPr/>
        </p:nvSpPr>
        <p:spPr>
          <a:xfrm flipH="1" flipV="1">
            <a:off x="4339800" y="2817720"/>
            <a:ext cx="692280" cy="22478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4" name="Line 10"/>
          <p:cNvSpPr/>
          <p:nvPr/>
        </p:nvSpPr>
        <p:spPr>
          <a:xfrm flipV="1">
            <a:off x="2577960" y="2817720"/>
            <a:ext cx="1762200" cy="22478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5" name="Line 11"/>
          <p:cNvSpPr/>
          <p:nvPr/>
        </p:nvSpPr>
        <p:spPr>
          <a:xfrm>
            <a:off x="5032440" y="5065560"/>
            <a:ext cx="17636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6" name="Line 12"/>
          <p:cNvSpPr/>
          <p:nvPr/>
        </p:nvSpPr>
        <p:spPr>
          <a:xfrm flipH="1" flipV="1">
            <a:off x="3552840" y="3814920"/>
            <a:ext cx="1479600" cy="12506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7" name="Line 13"/>
          <p:cNvSpPr/>
          <p:nvPr/>
        </p:nvSpPr>
        <p:spPr>
          <a:xfrm>
            <a:off x="3552840" y="3814920"/>
            <a:ext cx="23144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3908880" y="26146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2496960" y="5029200"/>
            <a:ext cx="3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B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0" name="Text Box 17"/>
          <p:cNvSpPr/>
          <p:nvPr/>
        </p:nvSpPr>
        <p:spPr>
          <a:xfrm>
            <a:off x="4852440" y="50292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C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1" name="Text Box 18"/>
          <p:cNvSpPr/>
          <p:nvPr/>
        </p:nvSpPr>
        <p:spPr>
          <a:xfrm>
            <a:off x="6553440" y="50292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3070440" y="35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E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3" name="Text Box 20"/>
          <p:cNvSpPr/>
          <p:nvPr/>
        </p:nvSpPr>
        <p:spPr>
          <a:xfrm>
            <a:off x="4719600" y="3757680"/>
            <a:ext cx="3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F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4" name="Text Box 21"/>
          <p:cNvSpPr/>
          <p:nvPr/>
        </p:nvSpPr>
        <p:spPr>
          <a:xfrm>
            <a:off x="5830200" y="38149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G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805" name="Line 23"/>
          <p:cNvSpPr/>
          <p:nvPr/>
        </p:nvSpPr>
        <p:spPr>
          <a:xfrm flipV="1">
            <a:off x="5032440" y="3814920"/>
            <a:ext cx="834840" cy="12506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78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证明：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EG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为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C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∴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BCE= ∠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CG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为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CD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∴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DCG= ∠FC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∵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EG∥B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FEC=∠BCE,  ∠FGC=∠GC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从而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CE=∠FE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，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FGC=∠FC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EF=FC,FC=FG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从而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EF=F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11111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五  回顾与小结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755280" y="838080"/>
            <a:ext cx="48243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定理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上任意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D=P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09" name="Group 75"/>
          <p:cNvGrpSpPr/>
          <p:nvPr/>
        </p:nvGrpSpPr>
        <p:grpSpPr>
          <a:xfrm>
            <a:off x="5581080" y="1425600"/>
            <a:ext cx="2886120" cy="2958840"/>
            <a:chOff x="5581080" y="1425600"/>
            <a:chExt cx="2886120" cy="2958840"/>
          </a:xfrm>
        </p:grpSpPr>
        <p:sp>
          <p:nvSpPr>
            <p:cNvPr id="810" name="Line 76"/>
            <p:cNvSpPr/>
            <p:nvPr/>
          </p:nvSpPr>
          <p:spPr>
            <a:xfrm flipH="1" flipV="1">
              <a:off x="7038720" y="2190600"/>
              <a:ext cx="437760" cy="6825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1" name="Line 77"/>
            <p:cNvSpPr/>
            <p:nvPr/>
          </p:nvSpPr>
          <p:spPr>
            <a:xfrm>
              <a:off x="6841800" y="2320920"/>
              <a:ext cx="11088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2" name="Line 78"/>
            <p:cNvSpPr/>
            <p:nvPr/>
          </p:nvSpPr>
          <p:spPr>
            <a:xfrm flipV="1">
              <a:off x="6938640" y="2340000"/>
              <a:ext cx="20916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3" name="Text Box 79"/>
            <p:cNvSpPr/>
            <p:nvPr/>
          </p:nvSpPr>
          <p:spPr>
            <a:xfrm>
              <a:off x="8010360" y="27972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4" name="Text Box 80"/>
            <p:cNvSpPr/>
            <p:nvPr/>
          </p:nvSpPr>
          <p:spPr>
            <a:xfrm>
              <a:off x="7324560" y="38638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5" name="Text Box 81"/>
            <p:cNvSpPr/>
            <p:nvPr/>
          </p:nvSpPr>
          <p:spPr>
            <a:xfrm>
              <a:off x="6410160" y="24922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6" name="Text Box 82"/>
            <p:cNvSpPr/>
            <p:nvPr/>
          </p:nvSpPr>
          <p:spPr>
            <a:xfrm>
              <a:off x="7313400" y="14256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7" name="Line 83"/>
            <p:cNvSpPr/>
            <p:nvPr/>
          </p:nvSpPr>
          <p:spPr>
            <a:xfrm>
              <a:off x="5952960" y="2873160"/>
              <a:ext cx="213300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8" name="Line 84"/>
            <p:cNvSpPr/>
            <p:nvPr/>
          </p:nvSpPr>
          <p:spPr>
            <a:xfrm flipH="1">
              <a:off x="5952600" y="1882800"/>
              <a:ext cx="158868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19" name="Line 85"/>
            <p:cNvSpPr/>
            <p:nvPr/>
          </p:nvSpPr>
          <p:spPr>
            <a:xfrm flipH="1" flipV="1">
              <a:off x="5963760" y="2873160"/>
              <a:ext cx="1588680" cy="9907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0" name="Arc 86"/>
            <p:cNvSpPr/>
            <p:nvPr/>
          </p:nvSpPr>
          <p:spPr>
            <a:xfrm>
              <a:off x="6333840" y="2644560"/>
              <a:ext cx="150480" cy="22860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1" name="Arc 87"/>
            <p:cNvSpPr/>
            <p:nvPr/>
          </p:nvSpPr>
          <p:spPr>
            <a:xfrm>
              <a:off x="6257520" y="2873160"/>
              <a:ext cx="75960" cy="19692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2" name="Text Box 88"/>
            <p:cNvSpPr/>
            <p:nvPr/>
          </p:nvSpPr>
          <p:spPr>
            <a:xfrm>
              <a:off x="6410160" y="27972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3" name="Text Box 89"/>
            <p:cNvSpPr/>
            <p:nvPr/>
          </p:nvSpPr>
          <p:spPr>
            <a:xfrm>
              <a:off x="7473600" y="24606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4" name="Line 90"/>
            <p:cNvSpPr/>
            <p:nvPr/>
          </p:nvSpPr>
          <p:spPr>
            <a:xfrm flipH="1">
              <a:off x="7035480" y="2876400"/>
              <a:ext cx="437760" cy="6825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5" name="Line 91"/>
            <p:cNvSpPr/>
            <p:nvPr/>
          </p:nvSpPr>
          <p:spPr>
            <a:xfrm flipV="1">
              <a:off x="6852960" y="3285720"/>
              <a:ext cx="11088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6" name="Line 92"/>
            <p:cNvSpPr/>
            <p:nvPr/>
          </p:nvSpPr>
          <p:spPr>
            <a:xfrm>
              <a:off x="6949800" y="3262320"/>
              <a:ext cx="20916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7" name="Text Box 93"/>
            <p:cNvSpPr/>
            <p:nvPr/>
          </p:nvSpPr>
          <p:spPr>
            <a:xfrm>
              <a:off x="6749640" y="18064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8" name="Text Box 94"/>
            <p:cNvSpPr/>
            <p:nvPr/>
          </p:nvSpPr>
          <p:spPr>
            <a:xfrm>
              <a:off x="6752880" y="34830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29" name="Text Box 95"/>
            <p:cNvSpPr/>
            <p:nvPr/>
          </p:nvSpPr>
          <p:spPr>
            <a:xfrm>
              <a:off x="5581080" y="25718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5"/>
          <p:cNvSpPr/>
          <p:nvPr/>
        </p:nvSpPr>
        <p:spPr>
          <a:xfrm>
            <a:off x="539640" y="534960"/>
            <a:ext cx="47275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逆定理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 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, 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,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    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5217840" y="847800"/>
            <a:ext cx="2886480" cy="3359880"/>
            <a:chOff x="5217840" y="847800"/>
            <a:chExt cx="2886480" cy="3359880"/>
          </a:xfrm>
        </p:grpSpPr>
        <p:sp>
          <p:nvSpPr>
            <p:cNvPr id="832" name="Line 7"/>
            <p:cNvSpPr/>
            <p:nvPr/>
          </p:nvSpPr>
          <p:spPr>
            <a:xfrm flipH="1" flipV="1">
              <a:off x="6675120" y="1738440"/>
              <a:ext cx="438120" cy="794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3" name="Line 8"/>
            <p:cNvSpPr/>
            <p:nvPr/>
          </p:nvSpPr>
          <p:spPr>
            <a:xfrm>
              <a:off x="6478560" y="1890360"/>
              <a:ext cx="111240" cy="1954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4" name="Line 9"/>
            <p:cNvSpPr/>
            <p:nvPr/>
          </p:nvSpPr>
          <p:spPr>
            <a:xfrm flipV="1">
              <a:off x="6575400" y="1912680"/>
              <a:ext cx="209520" cy="1735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5" name="Text Box 10"/>
            <p:cNvSpPr/>
            <p:nvPr/>
          </p:nvSpPr>
          <p:spPr>
            <a:xfrm>
              <a:off x="7647120" y="2445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6" name="Text Box 11"/>
            <p:cNvSpPr/>
            <p:nvPr/>
          </p:nvSpPr>
          <p:spPr>
            <a:xfrm>
              <a:off x="6961320" y="3687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7" name="Text Box 12"/>
            <p:cNvSpPr/>
            <p:nvPr/>
          </p:nvSpPr>
          <p:spPr>
            <a:xfrm>
              <a:off x="6046920" y="2089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8" name="Text Box 13"/>
            <p:cNvSpPr/>
            <p:nvPr/>
          </p:nvSpPr>
          <p:spPr>
            <a:xfrm>
              <a:off x="6950160" y="84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39" name="Line 14"/>
            <p:cNvSpPr/>
            <p:nvPr/>
          </p:nvSpPr>
          <p:spPr>
            <a:xfrm>
              <a:off x="5589720" y="2533320"/>
              <a:ext cx="213336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0" name="Line 15"/>
            <p:cNvSpPr/>
            <p:nvPr/>
          </p:nvSpPr>
          <p:spPr>
            <a:xfrm flipH="1">
              <a:off x="5589720" y="1380240"/>
              <a:ext cx="1589040" cy="11530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1" name="Line 16"/>
            <p:cNvSpPr/>
            <p:nvPr/>
          </p:nvSpPr>
          <p:spPr>
            <a:xfrm flipH="1" flipV="1">
              <a:off x="5600880" y="2533320"/>
              <a:ext cx="1589040" cy="11534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2" name="Arc 17"/>
            <p:cNvSpPr/>
            <p:nvPr/>
          </p:nvSpPr>
          <p:spPr>
            <a:xfrm>
              <a:off x="5970600" y="2267280"/>
              <a:ext cx="150840" cy="2660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3" name="Arc 18"/>
            <p:cNvSpPr/>
            <p:nvPr/>
          </p:nvSpPr>
          <p:spPr>
            <a:xfrm>
              <a:off x="5894280" y="2533320"/>
              <a:ext cx="76320" cy="22932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4" name="Text Box 19"/>
            <p:cNvSpPr/>
            <p:nvPr/>
          </p:nvSpPr>
          <p:spPr>
            <a:xfrm>
              <a:off x="6046920" y="2445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5" name="Text Box 20"/>
            <p:cNvSpPr/>
            <p:nvPr/>
          </p:nvSpPr>
          <p:spPr>
            <a:xfrm>
              <a:off x="7110360" y="2053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6" name="Line 21"/>
            <p:cNvSpPr/>
            <p:nvPr/>
          </p:nvSpPr>
          <p:spPr>
            <a:xfrm flipH="1">
              <a:off x="6671880" y="2537280"/>
              <a:ext cx="438120" cy="794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7" name="Line 22"/>
            <p:cNvSpPr/>
            <p:nvPr/>
          </p:nvSpPr>
          <p:spPr>
            <a:xfrm flipV="1">
              <a:off x="6489720" y="3013920"/>
              <a:ext cx="111240" cy="1954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8" name="Line 23"/>
            <p:cNvSpPr/>
            <p:nvPr/>
          </p:nvSpPr>
          <p:spPr>
            <a:xfrm>
              <a:off x="6586560" y="2986560"/>
              <a:ext cx="209520" cy="1735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49" name="Text Box 24"/>
            <p:cNvSpPr/>
            <p:nvPr/>
          </p:nvSpPr>
          <p:spPr>
            <a:xfrm>
              <a:off x="6386400" y="1291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50" name="Text Box 25"/>
            <p:cNvSpPr/>
            <p:nvPr/>
          </p:nvSpPr>
          <p:spPr>
            <a:xfrm>
              <a:off x="6389640" y="3243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851" name="Text Box 26"/>
            <p:cNvSpPr/>
            <p:nvPr/>
          </p:nvSpPr>
          <p:spPr>
            <a:xfrm>
              <a:off x="5217840" y="21826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5"/>
          <p:cNvGrpSpPr/>
          <p:nvPr/>
        </p:nvGrpSpPr>
        <p:grpSpPr>
          <a:xfrm>
            <a:off x="1009800" y="638280"/>
            <a:ext cx="3009240" cy="1523520"/>
            <a:chOff x="1009800" y="638280"/>
            <a:chExt cx="3009240" cy="1523520"/>
          </a:xfrm>
        </p:grpSpPr>
        <p:pic>
          <p:nvPicPr>
            <p:cNvPr id="853" name="Picture 6" descr="AG00029_"/>
            <p:cNvPicPr/>
            <p:nvPr/>
          </p:nvPicPr>
          <p:blipFill>
            <a:blip r:embed="rId1"/>
            <a:stretch/>
          </p:blipFill>
          <p:spPr>
            <a:xfrm>
              <a:off x="2305080" y="725760"/>
              <a:ext cx="171396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4" name="Group 7"/>
            <p:cNvGrpSpPr/>
            <p:nvPr/>
          </p:nvGrpSpPr>
          <p:grpSpPr>
            <a:xfrm>
              <a:off x="1009800" y="638280"/>
              <a:ext cx="1295280" cy="1523520"/>
              <a:chOff x="1009800" y="638280"/>
              <a:chExt cx="1295280" cy="1523520"/>
            </a:xfrm>
          </p:grpSpPr>
          <p:sp>
            <p:nvSpPr>
              <p:cNvPr id="855" name="AutoShape 8"/>
              <p:cNvSpPr/>
              <p:nvPr/>
            </p:nvSpPr>
            <p:spPr>
              <a:xfrm>
                <a:off x="1009800" y="638280"/>
                <a:ext cx="126576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111111"/>
                  </a:solidFill>
                  <a:latin typeface="黑体"/>
                </a:endParaRPr>
              </a:p>
            </p:txBody>
          </p:sp>
          <p:sp>
            <p:nvSpPr>
              <p:cNvPr id="856" name="Text Box 9"/>
              <p:cNvSpPr/>
              <p:nvPr/>
            </p:nvSpPr>
            <p:spPr>
              <a:xfrm>
                <a:off x="1023840" y="695520"/>
                <a:ext cx="1281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111111"/>
                  </a:solidFill>
                  <a:latin typeface="黑体"/>
                </a:endParaRPr>
              </a:p>
            </p:txBody>
          </p:sp>
        </p:grpSp>
        <p:sp>
          <p:nvSpPr>
            <p:cNvPr id="857" name="Text Box 10"/>
            <p:cNvSpPr/>
            <p:nvPr/>
          </p:nvSpPr>
          <p:spPr>
            <a:xfrm>
              <a:off x="1162080" y="820800"/>
              <a:ext cx="1066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1" lang="en-US" sz="32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  <p:sp>
        <p:nvSpPr>
          <p:cNvPr id="858" name="Rectangle 11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11111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习题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1.9   1,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题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.</a:t>
            </a:r>
            <a:endParaRPr b="1" lang="en-US" sz="4800" spc="-1" strike="noStrike">
              <a:solidFill>
                <a:srgbClr val="111111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11111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祝你成功！</a:t>
            </a:r>
            <a:endParaRPr b="1" lang="en-US" sz="48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050920" y="68688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束寄语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42560" y="1884240"/>
            <a:ext cx="777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格性之于数学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犹如道德之于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证明的规范性在于：条理清晰，因果相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言必有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初学证明者谨记和遵循的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762120" y="981000"/>
            <a:ext cx="7770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利用折纸的方法得到角平分线及角平分线上的点的性质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93" name="Rectangle 185"/>
          <p:cNvSpPr/>
          <p:nvPr/>
        </p:nvSpPr>
        <p:spPr>
          <a:xfrm>
            <a:off x="611280" y="2133720"/>
            <a:ext cx="792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还记得角平分线上的点有什么性质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94" name="Rectangle 186"/>
          <p:cNvSpPr/>
          <p:nvPr/>
        </p:nvSpPr>
        <p:spPr>
          <a:xfrm>
            <a:off x="611280" y="2743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95" name="Rectangle 187"/>
          <p:cNvSpPr/>
          <p:nvPr/>
        </p:nvSpPr>
        <p:spPr>
          <a:xfrm>
            <a:off x="611280" y="3200400"/>
            <a:ext cx="79214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证明这一结论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结合我们前面学习的定理的证明方法，你能 写出这个性质的证明过程吗？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61128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上任意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D,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求证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:PD=PE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762120" y="2209680"/>
            <a:ext cx="477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分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要证明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只要证明它们所在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PD≌△OPE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762120" y="3124080"/>
            <a:ext cx="453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而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PD≌△OPE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条件由已知易知它满足公理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(AAS).  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599" name="Rectangle 31"/>
          <p:cNvSpPr/>
          <p:nvPr/>
        </p:nvSpPr>
        <p:spPr>
          <a:xfrm>
            <a:off x="876240" y="4114800"/>
            <a:ext cx="27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故结论可证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00" name="Rectangle 32"/>
          <p:cNvSpPr/>
          <p:nvPr/>
        </p:nvSpPr>
        <p:spPr>
          <a:xfrm>
            <a:off x="800280" y="4724280"/>
            <a:ext cx="624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你能写出规范的证明过程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601" name="Group 35"/>
          <p:cNvGrpSpPr/>
          <p:nvPr/>
        </p:nvGrpSpPr>
        <p:grpSpPr>
          <a:xfrm>
            <a:off x="5599080" y="1413000"/>
            <a:ext cx="2886120" cy="2958840"/>
            <a:chOff x="5599080" y="1413000"/>
            <a:chExt cx="2886120" cy="2958840"/>
          </a:xfrm>
        </p:grpSpPr>
        <p:sp>
          <p:nvSpPr>
            <p:cNvPr id="602" name="Line 36"/>
            <p:cNvSpPr/>
            <p:nvPr/>
          </p:nvSpPr>
          <p:spPr>
            <a:xfrm flipH="1" flipV="1">
              <a:off x="7056000" y="2177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3" name="Line 37"/>
            <p:cNvSpPr/>
            <p:nvPr/>
          </p:nvSpPr>
          <p:spPr>
            <a:xfrm>
              <a:off x="6859440" y="2307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4" name="Line 38"/>
            <p:cNvSpPr/>
            <p:nvPr/>
          </p:nvSpPr>
          <p:spPr>
            <a:xfrm flipV="1">
              <a:off x="6956280" y="2327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5" name="Text Box 39"/>
            <p:cNvSpPr/>
            <p:nvPr/>
          </p:nvSpPr>
          <p:spPr>
            <a:xfrm>
              <a:off x="80280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6" name="Text Box 40"/>
            <p:cNvSpPr/>
            <p:nvPr/>
          </p:nvSpPr>
          <p:spPr>
            <a:xfrm>
              <a:off x="7342200" y="385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7" name="Text Box 41"/>
            <p:cNvSpPr/>
            <p:nvPr/>
          </p:nvSpPr>
          <p:spPr>
            <a:xfrm>
              <a:off x="6427800" y="247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8" name="Text Box 42"/>
            <p:cNvSpPr/>
            <p:nvPr/>
          </p:nvSpPr>
          <p:spPr>
            <a:xfrm>
              <a:off x="7331040" y="141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09" name="Line 43"/>
            <p:cNvSpPr/>
            <p:nvPr/>
          </p:nvSpPr>
          <p:spPr>
            <a:xfrm>
              <a:off x="5970600" y="2860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0" name="Line 44"/>
            <p:cNvSpPr/>
            <p:nvPr/>
          </p:nvSpPr>
          <p:spPr>
            <a:xfrm flipH="1">
              <a:off x="5970600" y="1869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1" name="Line 45"/>
            <p:cNvSpPr/>
            <p:nvPr/>
          </p:nvSpPr>
          <p:spPr>
            <a:xfrm flipH="1" flipV="1">
              <a:off x="5981760" y="2860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2" name="Arc 46"/>
            <p:cNvSpPr/>
            <p:nvPr/>
          </p:nvSpPr>
          <p:spPr>
            <a:xfrm>
              <a:off x="6351480" y="2631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3" name="Arc 47"/>
            <p:cNvSpPr/>
            <p:nvPr/>
          </p:nvSpPr>
          <p:spPr>
            <a:xfrm>
              <a:off x="6275520" y="2860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4" name="Text Box 48"/>
            <p:cNvSpPr/>
            <p:nvPr/>
          </p:nvSpPr>
          <p:spPr>
            <a:xfrm>
              <a:off x="64278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5" name="Text Box 49"/>
            <p:cNvSpPr/>
            <p:nvPr/>
          </p:nvSpPr>
          <p:spPr>
            <a:xfrm>
              <a:off x="7491240" y="2447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6" name="Line 50"/>
            <p:cNvSpPr/>
            <p:nvPr/>
          </p:nvSpPr>
          <p:spPr>
            <a:xfrm flipH="1">
              <a:off x="7052760" y="2863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7" name="Line 51"/>
            <p:cNvSpPr/>
            <p:nvPr/>
          </p:nvSpPr>
          <p:spPr>
            <a:xfrm flipV="1">
              <a:off x="6870600" y="3272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8" name="Line 52"/>
            <p:cNvSpPr/>
            <p:nvPr/>
          </p:nvSpPr>
          <p:spPr>
            <a:xfrm>
              <a:off x="6967440" y="3249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19" name="Text Box 53"/>
            <p:cNvSpPr/>
            <p:nvPr/>
          </p:nvSpPr>
          <p:spPr>
            <a:xfrm>
              <a:off x="6767640" y="179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20" name="Text Box 54"/>
            <p:cNvSpPr/>
            <p:nvPr/>
          </p:nvSpPr>
          <p:spPr>
            <a:xfrm>
              <a:off x="6770520" y="347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21" name="Text Box 55"/>
            <p:cNvSpPr/>
            <p:nvPr/>
          </p:nvSpPr>
          <p:spPr>
            <a:xfrm>
              <a:off x="5599080" y="2558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611280" y="6858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证明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∵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∴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1= ∠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∵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D⊥OA,PE⊥OB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∴ 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DO= ∠P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P=O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∴ 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PD≌△OPE (AA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∴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D=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9"/>
          <p:cNvSpPr/>
          <p:nvPr/>
        </p:nvSpPr>
        <p:spPr>
          <a:xfrm>
            <a:off x="685800" y="69696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几何语言表示：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24" name="Text Box 221"/>
          <p:cNvSpPr/>
          <p:nvPr/>
        </p:nvSpPr>
        <p:spPr>
          <a:xfrm>
            <a:off x="684360" y="4221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是经常用来证明两条线段相等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25" name="Rectangle 241"/>
          <p:cNvSpPr/>
          <p:nvPr/>
        </p:nvSpPr>
        <p:spPr>
          <a:xfrm>
            <a:off x="631800" y="1558800"/>
            <a:ext cx="48769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上任意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626" name="Group 292"/>
          <p:cNvGrpSpPr/>
          <p:nvPr/>
        </p:nvGrpSpPr>
        <p:grpSpPr>
          <a:xfrm>
            <a:off x="5599080" y="1413000"/>
            <a:ext cx="2886120" cy="2958840"/>
            <a:chOff x="5599080" y="1413000"/>
            <a:chExt cx="2886120" cy="2958840"/>
          </a:xfrm>
        </p:grpSpPr>
        <p:sp>
          <p:nvSpPr>
            <p:cNvPr id="627" name="Line 269"/>
            <p:cNvSpPr/>
            <p:nvPr/>
          </p:nvSpPr>
          <p:spPr>
            <a:xfrm flipH="1" flipV="1">
              <a:off x="7056000" y="2177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28" name="Line 270"/>
            <p:cNvSpPr/>
            <p:nvPr/>
          </p:nvSpPr>
          <p:spPr>
            <a:xfrm>
              <a:off x="6859440" y="2307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29" name="Line 271"/>
            <p:cNvSpPr/>
            <p:nvPr/>
          </p:nvSpPr>
          <p:spPr>
            <a:xfrm flipV="1">
              <a:off x="6956280" y="2327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0" name="Text Box 273"/>
            <p:cNvSpPr/>
            <p:nvPr/>
          </p:nvSpPr>
          <p:spPr>
            <a:xfrm>
              <a:off x="80280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1" name="Text Box 274"/>
            <p:cNvSpPr/>
            <p:nvPr/>
          </p:nvSpPr>
          <p:spPr>
            <a:xfrm>
              <a:off x="7342200" y="385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2" name="Text Box 275"/>
            <p:cNvSpPr/>
            <p:nvPr/>
          </p:nvSpPr>
          <p:spPr>
            <a:xfrm>
              <a:off x="6427800" y="247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3" name="Text Box 276"/>
            <p:cNvSpPr/>
            <p:nvPr/>
          </p:nvSpPr>
          <p:spPr>
            <a:xfrm>
              <a:off x="7331040" y="141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4" name="Line 277"/>
            <p:cNvSpPr/>
            <p:nvPr/>
          </p:nvSpPr>
          <p:spPr>
            <a:xfrm>
              <a:off x="5970600" y="2860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5" name="Line 278"/>
            <p:cNvSpPr/>
            <p:nvPr/>
          </p:nvSpPr>
          <p:spPr>
            <a:xfrm flipH="1">
              <a:off x="5970600" y="1869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6" name="Line 279"/>
            <p:cNvSpPr/>
            <p:nvPr/>
          </p:nvSpPr>
          <p:spPr>
            <a:xfrm flipH="1" flipV="1">
              <a:off x="5981760" y="2860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7" name="Arc 280"/>
            <p:cNvSpPr/>
            <p:nvPr/>
          </p:nvSpPr>
          <p:spPr>
            <a:xfrm>
              <a:off x="6351480" y="2631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8" name="Arc 281"/>
            <p:cNvSpPr/>
            <p:nvPr/>
          </p:nvSpPr>
          <p:spPr>
            <a:xfrm>
              <a:off x="6275520" y="2860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39" name="Text Box 282"/>
            <p:cNvSpPr/>
            <p:nvPr/>
          </p:nvSpPr>
          <p:spPr>
            <a:xfrm>
              <a:off x="64278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0" name="Text Box 283"/>
            <p:cNvSpPr/>
            <p:nvPr/>
          </p:nvSpPr>
          <p:spPr>
            <a:xfrm>
              <a:off x="7491240" y="2447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1" name="Line 284"/>
            <p:cNvSpPr/>
            <p:nvPr/>
          </p:nvSpPr>
          <p:spPr>
            <a:xfrm flipH="1">
              <a:off x="7052760" y="2863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2" name="Line 285"/>
            <p:cNvSpPr/>
            <p:nvPr/>
          </p:nvSpPr>
          <p:spPr>
            <a:xfrm flipV="1">
              <a:off x="6870600" y="3272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3" name="Line 286"/>
            <p:cNvSpPr/>
            <p:nvPr/>
          </p:nvSpPr>
          <p:spPr>
            <a:xfrm>
              <a:off x="6967440" y="3249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4" name="Text Box 287"/>
            <p:cNvSpPr/>
            <p:nvPr/>
          </p:nvSpPr>
          <p:spPr>
            <a:xfrm>
              <a:off x="6767640" y="179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5" name="Text Box 288"/>
            <p:cNvSpPr/>
            <p:nvPr/>
          </p:nvSpPr>
          <p:spPr>
            <a:xfrm>
              <a:off x="6770520" y="347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  <p:sp>
          <p:nvSpPr>
            <p:cNvPr id="646" name="Text Box 291"/>
            <p:cNvSpPr/>
            <p:nvPr/>
          </p:nvSpPr>
          <p:spPr>
            <a:xfrm>
              <a:off x="5599080" y="2558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111111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036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′</a:t>
            </a:r>
            <a:endParaRPr b="1" lang="en-US" sz="2400" spc="-1" strike="noStrike">
              <a:solidFill>
                <a:srgbClr val="111111"/>
              </a:solidFill>
              <a:latin typeface="黑体"/>
            </a:endParaRPr>
          </a:p>
        </p:txBody>
      </p:sp>
      <p:grpSp>
        <p:nvGrpSpPr>
          <p:cNvPr id="648" name="Group 1122"/>
          <p:cNvGrpSpPr/>
          <p:nvPr/>
        </p:nvGrpSpPr>
        <p:grpSpPr>
          <a:xfrm>
            <a:off x="5955840" y="689040"/>
            <a:ext cx="2554560" cy="2059920"/>
            <a:chOff x="5955840" y="689040"/>
            <a:chExt cx="2554560" cy="2059920"/>
          </a:xfrm>
        </p:grpSpPr>
        <p:grpSp>
          <p:nvGrpSpPr>
            <p:cNvPr id="649" name="Group 1123"/>
            <p:cNvGrpSpPr/>
            <p:nvPr/>
          </p:nvGrpSpPr>
          <p:grpSpPr>
            <a:xfrm>
              <a:off x="5955840" y="689040"/>
              <a:ext cx="2554560" cy="2059920"/>
              <a:chOff x="5955840" y="689040"/>
              <a:chExt cx="2554560" cy="2059920"/>
            </a:xfrm>
          </p:grpSpPr>
          <p:grpSp>
            <p:nvGrpSpPr>
              <p:cNvPr id="650" name="Group 1124"/>
              <p:cNvGrpSpPr/>
              <p:nvPr/>
            </p:nvGrpSpPr>
            <p:grpSpPr>
              <a:xfrm>
                <a:off x="6168960" y="689040"/>
                <a:ext cx="1078920" cy="2059920"/>
                <a:chOff x="6168960" y="689040"/>
                <a:chExt cx="1078920" cy="2059920"/>
              </a:xfrm>
            </p:grpSpPr>
            <p:sp>
              <p:nvSpPr>
                <p:cNvPr id="651" name="AutoShape 1125"/>
                <p:cNvSpPr/>
                <p:nvPr/>
              </p:nvSpPr>
              <p:spPr>
                <a:xfrm>
                  <a:off x="6357600" y="689040"/>
                  <a:ext cx="86472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111111"/>
                    </a:solidFill>
                    <a:latin typeface="黑体"/>
                  </a:endParaRPr>
                </a:p>
              </p:txBody>
            </p:sp>
            <p:sp>
              <p:nvSpPr>
                <p:cNvPr id="652" name="Text Box 1126"/>
                <p:cNvSpPr/>
                <p:nvPr/>
              </p:nvSpPr>
              <p:spPr>
                <a:xfrm>
                  <a:off x="6168960" y="868680"/>
                  <a:ext cx="1078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111111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53" name="Text Box 1127"/>
              <p:cNvSpPr/>
              <p:nvPr/>
            </p:nvSpPr>
            <p:spPr>
              <a:xfrm>
                <a:off x="5955840" y="84456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1" lang="en-US" sz="3200" spc="-1" strike="noStrike">
                  <a:solidFill>
                    <a:srgbClr val="111111"/>
                  </a:solidFill>
                  <a:latin typeface="黑体"/>
                </a:endParaRPr>
              </a:p>
            </p:txBody>
          </p:sp>
          <p:pic>
            <p:nvPicPr>
              <p:cNvPr id="654" name="Picture 1128" descr="ry03tzf4[1]"/>
              <p:cNvPicPr/>
              <p:nvPr/>
            </p:nvPicPr>
            <p:blipFill>
              <a:blip r:embed="rId2"/>
              <a:stretch/>
            </p:blipFill>
            <p:spPr>
              <a:xfrm>
                <a:off x="7247880" y="768240"/>
                <a:ext cx="126252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5" name="Picture 1129" descr="Q_011"/>
            <p:cNvPicPr/>
            <p:nvPr/>
          </p:nvPicPr>
          <p:blipFill>
            <a:blip r:embed="rId3"/>
            <a:stretch/>
          </p:blipFill>
          <p:spPr>
            <a:xfrm>
              <a:off x="7555320" y="917640"/>
              <a:ext cx="292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Rectangle 1130"/>
          <p:cNvSpPr/>
          <p:nvPr/>
        </p:nvSpPr>
        <p:spPr>
          <a:xfrm>
            <a:off x="685800" y="762120"/>
            <a:ext cx="547056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你能写出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 角平分线上的点到这个角的两边距离相等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逆命题吗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57" name="Rectangle 1131"/>
          <p:cNvSpPr/>
          <p:nvPr/>
        </p:nvSpPr>
        <p:spPr>
          <a:xfrm>
            <a:off x="662040" y="229068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逆命题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58" name="Rectangle 1132"/>
          <p:cNvSpPr/>
          <p:nvPr/>
        </p:nvSpPr>
        <p:spPr>
          <a:xfrm>
            <a:off x="1116000" y="4118040"/>
            <a:ext cx="56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它是真命题吗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59" name="Rectangle 1157"/>
          <p:cNvSpPr/>
          <p:nvPr/>
        </p:nvSpPr>
        <p:spPr>
          <a:xfrm>
            <a:off x="1403280" y="4651200"/>
            <a:ext cx="419112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果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请你证明它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67800" y="822240"/>
            <a:ext cx="55818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如图 所示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D=PE, PD⊥OA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E⊥OB,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垂足分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D,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求证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685800" y="3860640"/>
            <a:ext cx="76312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分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要证明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可以先作出过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射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然后证明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OD=∠POE.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2" name="Line 28"/>
          <p:cNvSpPr/>
          <p:nvPr/>
        </p:nvSpPr>
        <p:spPr>
          <a:xfrm flipH="1" flipV="1">
            <a:off x="6659280" y="1593360"/>
            <a:ext cx="438120" cy="682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6478560" y="1700280"/>
            <a:ext cx="111240" cy="1681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4" name="Line 30"/>
          <p:cNvSpPr/>
          <p:nvPr/>
        </p:nvSpPr>
        <p:spPr>
          <a:xfrm flipV="1">
            <a:off x="6575400" y="1700280"/>
            <a:ext cx="209520" cy="1490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5" name="Text Box 32"/>
          <p:cNvSpPr/>
          <p:nvPr/>
        </p:nvSpPr>
        <p:spPr>
          <a:xfrm>
            <a:off x="6961320" y="3286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B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6" name="Text Box 34"/>
          <p:cNvSpPr/>
          <p:nvPr/>
        </p:nvSpPr>
        <p:spPr>
          <a:xfrm>
            <a:off x="6950160" y="84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7" name="Line 36"/>
          <p:cNvSpPr/>
          <p:nvPr/>
        </p:nvSpPr>
        <p:spPr>
          <a:xfrm flipH="1">
            <a:off x="5521320" y="1305000"/>
            <a:ext cx="1589040" cy="990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8" name="Line 37"/>
          <p:cNvSpPr/>
          <p:nvPr/>
        </p:nvSpPr>
        <p:spPr>
          <a:xfrm flipH="1" flipV="1">
            <a:off x="5508720" y="2276280"/>
            <a:ext cx="1589040" cy="990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69" name="Arc 38"/>
          <p:cNvSpPr/>
          <p:nvPr/>
        </p:nvSpPr>
        <p:spPr>
          <a:xfrm>
            <a:off x="5867280" y="2066760"/>
            <a:ext cx="150840" cy="228600"/>
          </a:xfrm>
          <a:prstGeom prst="pie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7647120" y="2219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C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1" name="Line 35"/>
          <p:cNvSpPr/>
          <p:nvPr/>
        </p:nvSpPr>
        <p:spPr>
          <a:xfrm>
            <a:off x="5508720" y="2295360"/>
            <a:ext cx="213336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2" name="Arc 39"/>
          <p:cNvSpPr/>
          <p:nvPr/>
        </p:nvSpPr>
        <p:spPr>
          <a:xfrm>
            <a:off x="5796000" y="2295360"/>
            <a:ext cx="76320" cy="196920"/>
          </a:xfrm>
          <a:prstGeom prst="pie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3" name="Line 42"/>
          <p:cNvSpPr/>
          <p:nvPr/>
        </p:nvSpPr>
        <p:spPr>
          <a:xfrm flipH="1">
            <a:off x="6672240" y="2295360"/>
            <a:ext cx="425520" cy="682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4" name="Line 43"/>
          <p:cNvSpPr/>
          <p:nvPr/>
        </p:nvSpPr>
        <p:spPr>
          <a:xfrm flipV="1">
            <a:off x="6489720" y="2707920"/>
            <a:ext cx="111240" cy="1681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5" name="Line 44"/>
          <p:cNvSpPr/>
          <p:nvPr/>
        </p:nvSpPr>
        <p:spPr>
          <a:xfrm>
            <a:off x="6586560" y="2684520"/>
            <a:ext cx="209520" cy="1490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6" name="Text Box 45"/>
          <p:cNvSpPr/>
          <p:nvPr/>
        </p:nvSpPr>
        <p:spPr>
          <a:xfrm>
            <a:off x="6386400" y="1228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6249960" y="287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E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8" name="Text Box 47"/>
          <p:cNvSpPr/>
          <p:nvPr/>
        </p:nvSpPr>
        <p:spPr>
          <a:xfrm>
            <a:off x="5217840" y="19940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679" name="Text Box 53"/>
          <p:cNvSpPr/>
          <p:nvPr/>
        </p:nvSpPr>
        <p:spPr>
          <a:xfrm>
            <a:off x="7105680" y="190188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endParaRPr b="1" lang="en-US" sz="28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4"/>
          <p:cNvSpPr/>
          <p:nvPr/>
        </p:nvSpPr>
        <p:spPr>
          <a:xfrm>
            <a:off x="900000" y="1125360"/>
            <a:ext cx="6697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证明：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⊥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OA PE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⊥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OB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∴△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O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和△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B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OE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都是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△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D=PE,OP=OP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O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OE(HL)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∴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∠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POD= ∠POE 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∴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是∠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</a:rPr>
              <a:t>的平分线</a:t>
            </a:r>
            <a:endParaRPr b="1" lang="en-US" sz="3200" spc="-1" strike="noStrike">
              <a:solidFill>
                <a:srgbClr val="11111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1:49:52Z</dcterms:created>
  <dc:creator/>
  <dc:description/>
  <dc:language>en-US</dc:language>
  <cp:lastModifiedBy/>
  <dcterms:modified xsi:type="dcterms:W3CDTF">2014-02-24T01:50:00Z</dcterms:modified>
  <cp:revision>1</cp:revision>
  <dc:subject/>
  <dc:title/>
</cp:coreProperties>
</file>