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12.png" ContentType="image/png"/>
  <Override PartName="/ppt/media/image6.wmf" ContentType="image/x-wmf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type.wav" ContentType="audio/x-wav"/>
  <Override PartName="/ppt/media/chimes.wav" ContentType="audio/x-wav"/>
  <Override PartName="/ppt/media/image7.gif" ContentType="image/gif"/>
  <Override PartName="/ppt/media/image8.wmf" ContentType="image/x-wmf"/>
  <Override PartName="/ppt/media/image9.wmf" ContentType="image/x-wmf"/>
  <Override PartName="/ppt/media/image11.gif" ContentType="image/gi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41F0-83C1-4CDB-8F29-BC027A8EDF2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09D1-F7A8-476B-990C-46170E6CC129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9648-9B05-4C50-890B-D691C55CF5E2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CBA9-D417-413D-AD57-062352B6E7CF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6624-22E7-4935-A6A9-9C5525D53A38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9794-2757-4347-80D6-6F716B325EE2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B41C-035D-4B04-ABAB-286C5E99D6A3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11BF-124B-4CAD-9C38-0C563D49A7EC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298C-8B24-4D45-9B80-D6D641574359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6257-58F1-4F3B-A525-B8645ECB8C25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A9A1-99E4-432B-8FCE-0F04DB02F525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6934-F69E-43D4-BFD2-6632E2D6BB87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3940-8320-4511-B052-393F4F24A2C9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A08F-5E1A-44D1-9879-829646E9871D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C0B7-24CF-4DF2-9605-4E41DFBD5C97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36C4-7A7B-4AD0-9E1E-1826A214ADDB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5100-5478-4460-9E26-250A3F2360EB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726A-237C-445C-9486-42022793CB5E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2A70-A171-4592-BC8A-FFC7255D7A2D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BE17-0A24-4E43-9057-A40602E5EFE4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FD07-7C49-4496-A8F4-3AF0E4057E2E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DCB5-73C9-4D7C-8EB8-8FA00DB27DFD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805A-3F0D-4332-88EF-CD54FA80345F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9529-910E-4D65-8572-5021449E5AAC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178F-4DF1-490C-868A-238D023CDF58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588E-7BC8-4893-8EA9-5A6C0AD51B1B}" type="slidenum">
              <a:rPr b="1" lang="zh-CN" sz="1200" spc="-1" strike="noStrike">
                <a:solidFill>
                  <a:srgbClr val="080808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2B37-41E9-44B4-866D-8C847E61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A242-040D-4B15-952E-B08C849C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73973-958D-4672-8178-F94BDFB3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5A912-0A70-4455-9C51-623DE740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D765A-52E2-47CC-AA77-132916C5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6CB69-1756-42A5-AC61-8C81EE9C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8FA0D-C602-4317-BD32-5CAD3E1F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64029-F92D-4F9F-AD8A-DD2A3315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814B6-44C9-4AB3-8F0A-8C694EE2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0D81B-7DDA-42C5-8852-9B2E40142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9550B-385E-4BC3-97AC-AB2519BE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0B3EB-CA3E-4BC7-8656-945FE02A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FD1B-D294-410A-A061-B9EE68A58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65C3C-A46E-45A4-A445-3806A21E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1F868-D343-4C63-8754-98FEFB48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CDB55-F959-4F33-9D69-D0B4E276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B33C8-E140-44D0-B316-2005AF49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1B5E2-50B3-4C59-97F3-884740CF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9B3D4-D3EE-490B-BDE9-D7E3777E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F2CCC-99A0-4AB3-89F1-D17F00DB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2B4E25-FB41-4FD0-8D44-E1EAA0A8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4502D-666A-4E4B-A5F8-EEDB5F55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B308F-F9E3-421C-B584-0670D2083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37E0-6EF4-40DC-A3F1-D3818D42B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41BDED-CB11-43BE-9A5C-FAA0216BA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C5EF0-B5F8-4252-B0B0-30544EB4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D37F4-D8AF-45E3-BDCA-C8BA07C6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FECCD-B524-45EE-86AB-0F207859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50B15-6225-42AF-B5CE-C15B04FE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C2543-9371-41A5-9A1C-B71923C3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F1A4F-E9B3-438C-8FFD-F57EB20F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A4E4A-5F7F-4883-A1A1-0F21284C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D9618-7BA8-45C9-B715-33886D1D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BBA13-7140-4C94-82F2-CDD0BF9D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CCBE-BE8F-4071-ADF5-CF0757293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E648C-058D-471E-BB6F-5B139B17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7C7AEB-AE22-47CE-A9D8-98FF15D5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6A188-BEB0-4FE9-8961-34CE5CA3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2FE896-4674-4089-9200-F44C27CC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617F47-7223-4327-842D-2ABF7B4D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6D05C9-7244-4174-BF4A-717E5BD1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C3645-C101-4224-A124-5A554CE4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69355E-B821-4C91-A1F0-EE27F0A4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27C34-FF4E-4A6E-B6FF-3AA55B46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9D0D2D-63C4-4013-8E3E-5F3F777D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B887-4ED5-447E-80FB-22230554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37CFC9-0B90-4396-9242-5AA081BD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450865-DAD4-45FD-B898-D7162CE5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9C96B-1908-49CD-A811-DDE571A0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BACE4F-E396-4637-8555-E4BD3FD7E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29674-87B6-44B3-B21E-05C9CE1C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CC857E-56C5-44AB-B304-B8654AE53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E4513D-3FD2-41AC-BF06-0B86D125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9FD7A4-4371-4ED8-8837-6EA7EF4B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F40B2D-84B1-4C90-9B6D-4020A372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BB456C-E815-4850-8F48-7C39FB1B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F917-CEF8-4999-9F9B-A1D55B08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55B773-DCC8-4E6D-AE7A-A592526B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3AAF4E-47F1-40C8-A4CC-96DE99C8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115FCC-DED2-44F5-B2AC-E83AEF7C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06F079-588B-40A3-BC76-54696B5B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21B385-CAFF-45F7-A91E-E598811E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066F63-56CC-49F7-8BE1-422D48D57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8A4B80-02C8-444E-BD78-75000F8B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8042-367E-41A0-9AC3-A81ACC4A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4E66-CE98-4562-A2AA-11896367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9ACC-4692-433D-9DA2-82A1B2EC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C2C6-A68E-4DEB-B53B-7BAA83D2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E6BF-B0C7-4F7D-A461-6AF33B55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8C54-8BD9-4E04-9A82-D44A7647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5A32-604F-4E7E-8762-66DB747B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BD5C-369A-457F-9503-4C26D9DE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1BC9-7590-4466-8B5D-0FBE4C23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468D-9610-4887-B2B7-30EFB7B9F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4373A-1552-4354-884A-F1AE1AE02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C0E59-1ACB-430D-9BE6-998ABA3E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0110B-D0B8-454A-8A76-CF51F7EA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E1DC3-034F-4B5A-9D6F-A7FB537C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5764A-60E5-4EE0-8A29-3753E65E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6D0F-7176-4A12-AD54-724F59B5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EBAA2-8099-416F-85D4-6EC88ECB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C275D-354E-4367-B337-ABB09591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CBC5F-986D-487F-80B5-B3F64576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3EDFA-CFD3-4A3D-8D32-2409B185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E6CA5-97DE-4772-A03E-14196AA5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32005-6093-4F9D-9B50-3D3E05969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88CF9-0DD7-4EC5-8E04-DB666A747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BC9BB-688A-4B2B-958E-4797DDE7A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E0D90-5A4C-4529-82AC-6D23923B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35C39-2760-47C8-AF15-FE36CFBE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4615-AEEE-42C4-AF55-149EE1CC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BFCBF-8F09-44AD-86F2-475E5F55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75726-7EA7-477E-B3F6-2B98E4D7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8DC65-DC9C-47F0-B309-A4EA1AB3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8C621-05F1-4E95-88ED-74C1A3EA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F952B-4958-4FBC-BF29-B10AECDD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DF630-87E2-440D-AADB-FEF23205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BA3BB-AB96-4EA5-9CBA-F5274381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9C8B9-1328-46B2-AF30-7113AB28F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1AEB2-6960-4FC0-8FA6-C97A2C347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FEBA6-2BA5-422E-88CC-A89937B4B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61C9-F29B-474D-BD5C-185E910D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94281-5A06-49E2-91E6-7D9A104E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4C934-9E5A-4517-8648-BD79FEFA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D3263-AF36-4810-A3A2-F05B15A2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5E6F1-965D-4052-995A-E41E6A02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2FFA3-7D12-4E12-955D-8224F59E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FD3C9-A6A6-421C-9747-123484F4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DF03D-C3AB-4A97-8114-C143AEC2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18469-2987-4512-98F6-ADE3C259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2616F-355C-41AC-BFD3-79132F44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5B607-DC8C-48B7-8EA0-ED4028E59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0A0E-0F9E-4B31-9D88-2B08314D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A34AD-6009-4195-82EF-56055C42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5CAB2-62F3-43AB-BEB3-130729676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63A68-5E8A-4D93-A43A-768C3060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95476-D2D7-4A33-BAE1-304B7703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B76CE-CF17-4BB8-934C-CB11873C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42DFA-C8B3-44FC-B4CB-4DAA3E3E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7E85F-6CE7-45DD-984E-876B2610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FD483-1FE7-43ED-B1F8-822DE48C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EC79B-1657-4D40-AAC8-C22978B0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87433-4334-40E4-854C-57A92342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7043-6FC3-4072-8A1A-33AD1F9A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33569-906A-434D-97CE-D580D116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58411-6612-4EB7-B56A-C8499F6C3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917C2-8C11-4AA0-9A60-ADFEEA28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6E1C8-51AA-4C89-9617-3C579DF4E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B9441-EC42-4288-887D-F23BDE39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1563B-D37B-4F86-96B1-550B5DBA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32F49-B90E-4286-BDC8-9319FE42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A3D16-A72D-4166-B8B7-A4C5A0C3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1AFA0-0008-4233-8AF2-46280949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70FC7-0A7F-4BB2-99DD-E4FFFD6F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22AA-324A-4076-844C-B29B672E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5B5B5-9BFF-42DF-8349-23A533CD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11E22-B884-4476-80FA-A01EA34D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1B0CE-AAC8-447C-99C6-100235B8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E049A-D1C7-44B1-9991-BC9548F7A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D0C58-2282-4C5D-A91C-5F17A302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5BEA9-0F9A-4F60-80F8-9B92091A1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0BF07-41FB-4808-8622-67640957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6CB72-62BD-4E88-B18E-3BA7DE74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2F2D9-0758-4B0A-907E-6BE49ACE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45718-2235-4526-855D-1A1427AC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B9A9-B101-4FCF-B9BE-BD31F656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48547-10DB-4A21-A7C8-A77DC4FB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EEF54-8F7E-4433-9505-0D2EA2D8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B5A6E-5F28-4C94-89A6-4F50A353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0A915-0543-44D3-963F-F0F93487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0C620-3211-403E-B5A2-9F756D64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1B725-B7E6-4337-8EA6-3A126E884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A4FFD-E064-4EE4-8B14-6D60C3E4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E93ADC-3E2F-499F-9D07-18F615ED8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B4F76-762B-4361-9953-E0B80DA6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C9A83-DE70-42BC-AFD9-6AF32021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0E77-56BE-44E1-A803-8C1883A636F0}" type="slidenum">
              <a: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6A15-B652-43D4-A95D-326EAE36AB98}" type="slidenum">
              <a: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E3DD-D12C-46FF-BEFE-17FB00F70789}" type="slidenum">
              <a: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4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5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6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848F-F150-435B-B360-0B0350B2F459}" type="slidenum">
              <a: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7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8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9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66DB-752E-4EB4-B8A1-19EACD0E312C}" type="slidenum">
              <a: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0646-9B68-434B-8A77-276B02CAB4F7}" type="slidenum">
              <a:rPr b="0" lang="en-US" sz="1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FE83-9359-40C9-9E05-33B149605474}" type="slidenum">
              <a: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363E-C40B-4356-B9BD-2391C3612E61}" type="slidenum">
              <a: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6680-3446-47DD-80CF-A8B0B57CB02A}" type="slidenum">
              <a: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6D0E-31E3-468F-8B63-606ECBBB21C3}" type="slidenum">
              <a: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1579-DC04-4AFD-BCC9-12F8CFB3F540}" type="slidenum">
              <a: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7933-2ECF-45C5-B01F-3EF0C4FCBD2E}" type="slidenum">
              <a: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6A8C-7E38-4EF7-855E-C00AE69BF518}" type="slidenum">
              <a:rPr b="0" lang="en-US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3"/>
          <p:cNvSpPr/>
          <p:nvPr/>
        </p:nvSpPr>
        <p:spPr>
          <a:xfrm>
            <a:off x="684360" y="242100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1.4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角平分线 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(2)</a:t>
            </a:r>
            <a:endParaRPr b="1" lang="en-US" sz="54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8"/>
          <p:cNvSpPr/>
          <p:nvPr/>
        </p:nvSpPr>
        <p:spPr>
          <a:xfrm>
            <a:off x="468360" y="395280"/>
            <a:ext cx="807732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定理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三角形的三条角平分线相交于一点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并且这一点到三边的距离相等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. 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677" name="Rectangle 9"/>
          <p:cNvSpPr/>
          <p:nvPr/>
        </p:nvSpPr>
        <p:spPr>
          <a:xfrm>
            <a:off x="533520" y="1512720"/>
            <a:ext cx="5268960" cy="14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如图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在△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ABC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中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,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∵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BM,CN,AH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分别是△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ABC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的三条角平分且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PD⊥AB,PE⊥BC,PF⊥AC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678" name="Rectangle 10"/>
          <p:cNvSpPr/>
          <p:nvPr/>
        </p:nvSpPr>
        <p:spPr>
          <a:xfrm>
            <a:off x="755640" y="4508640"/>
            <a:ext cx="80946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老师提示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这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</a:rPr>
              <a:t>又是一个证明三条直线交于一点的根据之一这个交点叫做三角形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内心</a:t>
            </a:r>
            <a:r>
              <a:rPr b="1" lang="en-US" sz="24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1" lang="en-US" sz="2400" spc="-1" strike="noStrike">
              <a:solidFill>
                <a:srgbClr val="080808"/>
              </a:solidFill>
              <a:latin typeface="黑体"/>
            </a:endParaRPr>
          </a:p>
        </p:txBody>
      </p:sp>
      <p:grpSp>
        <p:nvGrpSpPr>
          <p:cNvPr id="679" name="Group 59"/>
          <p:cNvGrpSpPr/>
          <p:nvPr/>
        </p:nvGrpSpPr>
        <p:grpSpPr>
          <a:xfrm>
            <a:off x="5621400" y="735120"/>
            <a:ext cx="3112920" cy="2449440"/>
            <a:chOff x="5621400" y="735120"/>
            <a:chExt cx="3112920" cy="2449440"/>
          </a:xfrm>
        </p:grpSpPr>
        <p:grpSp>
          <p:nvGrpSpPr>
            <p:cNvPr id="680" name="Group 60"/>
            <p:cNvGrpSpPr/>
            <p:nvPr/>
          </p:nvGrpSpPr>
          <p:grpSpPr>
            <a:xfrm>
              <a:off x="5621400" y="735120"/>
              <a:ext cx="3112920" cy="2449440"/>
              <a:chOff x="5621400" y="735120"/>
              <a:chExt cx="3112920" cy="2449440"/>
            </a:xfrm>
          </p:grpSpPr>
          <p:grpSp>
            <p:nvGrpSpPr>
              <p:cNvPr id="681" name="Group 61"/>
              <p:cNvGrpSpPr/>
              <p:nvPr/>
            </p:nvGrpSpPr>
            <p:grpSpPr>
              <a:xfrm>
                <a:off x="6046920" y="1037880"/>
                <a:ext cx="2133360" cy="1537200"/>
                <a:chOff x="6046920" y="1037880"/>
                <a:chExt cx="2133360" cy="1537200"/>
              </a:xfrm>
            </p:grpSpPr>
            <p:sp>
              <p:nvSpPr>
                <p:cNvPr id="682" name="Line 62"/>
                <p:cNvSpPr/>
                <p:nvPr/>
              </p:nvSpPr>
              <p:spPr>
                <a:xfrm>
                  <a:off x="6046920" y="2575080"/>
                  <a:ext cx="2133360" cy="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683" name="Line 63"/>
                <p:cNvSpPr/>
                <p:nvPr/>
              </p:nvSpPr>
              <p:spPr>
                <a:xfrm>
                  <a:off x="7264080" y="1038240"/>
                  <a:ext cx="885600" cy="152388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684" name="Line 64"/>
                <p:cNvSpPr/>
                <p:nvPr/>
              </p:nvSpPr>
              <p:spPr>
                <a:xfrm flipV="1">
                  <a:off x="6046920" y="1037880"/>
                  <a:ext cx="1218960" cy="153684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</p:grpSp>
          <p:sp>
            <p:nvSpPr>
              <p:cNvPr id="685" name="Text Box 65"/>
              <p:cNvSpPr/>
              <p:nvPr/>
            </p:nvSpPr>
            <p:spPr>
              <a:xfrm>
                <a:off x="6905520" y="73512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b5249"/>
                    </a:solidFill>
                    <a:latin typeface="黑体"/>
                  </a:rPr>
                  <a:t>A</a:t>
                </a:r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686" name="Text Box 66"/>
              <p:cNvSpPr/>
              <p:nvPr/>
            </p:nvSpPr>
            <p:spPr>
              <a:xfrm>
                <a:off x="5621400" y="227016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b5249"/>
                    </a:solidFill>
                    <a:latin typeface="黑体"/>
                  </a:rPr>
                  <a:t>B</a:t>
                </a:r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687" name="Text Box 67"/>
              <p:cNvSpPr/>
              <p:nvPr/>
            </p:nvSpPr>
            <p:spPr>
              <a:xfrm>
                <a:off x="8201160" y="234648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b5249"/>
                    </a:solidFill>
                    <a:latin typeface="黑体"/>
                  </a:rPr>
                  <a:t>C</a:t>
                </a:r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688" name="Text Box 68"/>
              <p:cNvSpPr/>
              <p:nvPr/>
            </p:nvSpPr>
            <p:spPr>
              <a:xfrm>
                <a:off x="6905520" y="15433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P</a:t>
                </a:r>
                <a:endParaRPr b="1" lang="en-US" sz="24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grpSp>
            <p:nvGrpSpPr>
              <p:cNvPr id="689" name="Group 69"/>
              <p:cNvGrpSpPr/>
              <p:nvPr/>
            </p:nvGrpSpPr>
            <p:grpSpPr>
              <a:xfrm>
                <a:off x="5861160" y="735120"/>
                <a:ext cx="2568600" cy="2449440"/>
                <a:chOff x="5861160" y="735120"/>
                <a:chExt cx="2568600" cy="2449440"/>
              </a:xfrm>
            </p:grpSpPr>
            <p:sp>
              <p:nvSpPr>
                <p:cNvPr id="690" name="Line 70"/>
                <p:cNvSpPr/>
                <p:nvPr/>
              </p:nvSpPr>
              <p:spPr>
                <a:xfrm flipH="1">
                  <a:off x="7113240" y="735120"/>
                  <a:ext cx="179640" cy="244944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691" name="Line 71"/>
                <p:cNvSpPr/>
                <p:nvPr/>
              </p:nvSpPr>
              <p:spPr>
                <a:xfrm flipV="1">
                  <a:off x="5861160" y="1553760"/>
                  <a:ext cx="2319480" cy="110988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692" name="Line 72"/>
                <p:cNvSpPr/>
                <p:nvPr/>
              </p:nvSpPr>
              <p:spPr>
                <a:xfrm>
                  <a:off x="6058080" y="1432080"/>
                  <a:ext cx="2371680" cy="128088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693" name="Line 73"/>
                <p:cNvSpPr/>
                <p:nvPr/>
              </p:nvSpPr>
              <p:spPr>
                <a:xfrm>
                  <a:off x="6046920" y="2575080"/>
                  <a:ext cx="2133720" cy="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694" name="Line 74"/>
                <p:cNvSpPr/>
                <p:nvPr/>
              </p:nvSpPr>
              <p:spPr>
                <a:xfrm>
                  <a:off x="7264440" y="1038240"/>
                  <a:ext cx="885960" cy="152388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695" name="Line 75"/>
                <p:cNvSpPr/>
                <p:nvPr/>
              </p:nvSpPr>
              <p:spPr>
                <a:xfrm flipV="1">
                  <a:off x="6046920" y="1037880"/>
                  <a:ext cx="1219320" cy="153684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</p:grpSp>
        </p:grpSp>
        <p:sp>
          <p:nvSpPr>
            <p:cNvPr id="696" name="Text Box 76"/>
            <p:cNvSpPr/>
            <p:nvPr/>
          </p:nvSpPr>
          <p:spPr>
            <a:xfrm>
              <a:off x="7667640" y="12682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b5249"/>
                  </a:solidFill>
                  <a:latin typeface="黑体"/>
                </a:rPr>
                <a:t>M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697" name="Text Box 77"/>
            <p:cNvSpPr/>
            <p:nvPr/>
          </p:nvSpPr>
          <p:spPr>
            <a:xfrm>
              <a:off x="6296040" y="12682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b5249"/>
                  </a:solidFill>
                  <a:latin typeface="黑体"/>
                </a:rPr>
                <a:t>N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</p:grpSp>
      <p:grpSp>
        <p:nvGrpSpPr>
          <p:cNvPr id="698" name="Group 78"/>
          <p:cNvGrpSpPr/>
          <p:nvPr/>
        </p:nvGrpSpPr>
        <p:grpSpPr>
          <a:xfrm>
            <a:off x="6516720" y="1185840"/>
            <a:ext cx="1633680" cy="1721880"/>
            <a:chOff x="6516720" y="1185840"/>
            <a:chExt cx="1633680" cy="1721880"/>
          </a:xfrm>
        </p:grpSpPr>
        <p:grpSp>
          <p:nvGrpSpPr>
            <p:cNvPr id="699" name="Group 79"/>
            <p:cNvGrpSpPr/>
            <p:nvPr/>
          </p:nvGrpSpPr>
          <p:grpSpPr>
            <a:xfrm>
              <a:off x="6735960" y="1511280"/>
              <a:ext cx="1025280" cy="1049040"/>
              <a:chOff x="6735960" y="1511280"/>
              <a:chExt cx="1025280" cy="1049040"/>
            </a:xfrm>
          </p:grpSpPr>
          <p:sp>
            <p:nvSpPr>
              <p:cNvPr id="700" name="Line 80"/>
              <p:cNvSpPr/>
              <p:nvPr/>
            </p:nvSpPr>
            <p:spPr>
              <a:xfrm flipH="1" flipV="1">
                <a:off x="7164000" y="1982520"/>
                <a:ext cx="3240" cy="577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701" name="Line 81"/>
              <p:cNvSpPr/>
              <p:nvPr/>
            </p:nvSpPr>
            <p:spPr>
              <a:xfrm flipV="1">
                <a:off x="7164360" y="1721880"/>
                <a:ext cx="447840" cy="279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702" name="Line 82"/>
              <p:cNvSpPr/>
              <p:nvPr/>
            </p:nvSpPr>
            <p:spPr>
              <a:xfrm>
                <a:off x="6735960" y="1647720"/>
                <a:ext cx="428400" cy="335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703" name="Line 83"/>
              <p:cNvSpPr/>
              <p:nvPr/>
            </p:nvSpPr>
            <p:spPr>
              <a:xfrm>
                <a:off x="7164360" y="2309760"/>
                <a:ext cx="22392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704" name="Line 84"/>
              <p:cNvSpPr/>
              <p:nvPr/>
            </p:nvSpPr>
            <p:spPr>
              <a:xfrm>
                <a:off x="7407360" y="2314440"/>
                <a:ext cx="0" cy="2239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705" name="Line 85"/>
              <p:cNvSpPr/>
              <p:nvPr/>
            </p:nvSpPr>
            <p:spPr>
              <a:xfrm>
                <a:off x="6810480" y="1511280"/>
                <a:ext cx="149040" cy="13176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706" name="Line 86"/>
              <p:cNvSpPr/>
              <p:nvPr/>
            </p:nvSpPr>
            <p:spPr>
              <a:xfrm flipH="1">
                <a:off x="6865920" y="1623960"/>
                <a:ext cx="93600" cy="1303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707" name="Line 87"/>
              <p:cNvSpPr/>
              <p:nvPr/>
            </p:nvSpPr>
            <p:spPr>
              <a:xfrm>
                <a:off x="7462800" y="1828800"/>
                <a:ext cx="130320" cy="1681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708" name="Line 88"/>
              <p:cNvSpPr/>
              <p:nvPr/>
            </p:nvSpPr>
            <p:spPr>
              <a:xfrm flipV="1">
                <a:off x="7593120" y="1883880"/>
                <a:ext cx="168120" cy="1177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</p:grpSp>
        <p:sp>
          <p:nvSpPr>
            <p:cNvPr id="709" name="Text Box 89"/>
            <p:cNvSpPr/>
            <p:nvPr/>
          </p:nvSpPr>
          <p:spPr>
            <a:xfrm>
              <a:off x="6516720" y="118584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D</a:t>
              </a:r>
              <a:endParaRPr b="1" lang="en-US" sz="24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10" name="Text Box 90"/>
            <p:cNvSpPr/>
            <p:nvPr/>
          </p:nvSpPr>
          <p:spPr>
            <a:xfrm>
              <a:off x="7062840" y="244800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E</a:t>
              </a:r>
              <a:endParaRPr b="1" lang="en-US" sz="24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11" name="Text Box 91"/>
            <p:cNvSpPr/>
            <p:nvPr/>
          </p:nvSpPr>
          <p:spPr>
            <a:xfrm>
              <a:off x="7713720" y="154476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F</a:t>
              </a:r>
              <a:endParaRPr b="1" lang="en-US" sz="2400" spc="-1" strike="noStrike">
                <a:solidFill>
                  <a:srgbClr val="080808"/>
                </a:solidFill>
                <a:latin typeface="黑体"/>
              </a:endParaRPr>
            </a:p>
          </p:txBody>
        </p:sp>
      </p:grpSp>
      <p:sp>
        <p:nvSpPr>
          <p:cNvPr id="712" name="Rectangle 93"/>
          <p:cNvSpPr/>
          <p:nvPr/>
        </p:nvSpPr>
        <p:spPr>
          <a:xfrm>
            <a:off x="533520" y="3084480"/>
            <a:ext cx="77976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∴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BM,CN,AH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相交于一点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P,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且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PD=PE=PF(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三角形的三条角平分线相交于一点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并且这一点到三边的距离相等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)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713" name="Text Box 94"/>
          <p:cNvSpPr/>
          <p:nvPr/>
        </p:nvSpPr>
        <p:spPr>
          <a:xfrm>
            <a:off x="7127280" y="267192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H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4"/>
          <p:cNvSpPr/>
          <p:nvPr/>
        </p:nvSpPr>
        <p:spPr>
          <a:xfrm>
            <a:off x="468360" y="620640"/>
            <a:ext cx="7388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[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例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3]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如图，在△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中．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AC=BC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，∠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C=90°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AD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是△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的角平分线，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DE⊥AB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，垂足为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E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．</a:t>
            </a:r>
            <a:endParaRPr b="1" lang="en-US" sz="2400" spc="-1" strike="noStrike">
              <a:solidFill>
                <a:srgbClr val="080808"/>
              </a:solidFill>
              <a:latin typeface="黑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已知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CD=4 cm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，求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的长；</a:t>
            </a:r>
            <a:endParaRPr b="1" lang="en-US" sz="2400" spc="-1" strike="noStrike">
              <a:solidFill>
                <a:srgbClr val="080808"/>
              </a:solidFill>
              <a:latin typeface="黑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求证：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AB=AC+CD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Times New Roman"/>
              </a:rPr>
              <a:t>． </a:t>
            </a:r>
            <a:endParaRPr b="1" lang="en-US" sz="24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715" name="Rectangle 5"/>
          <p:cNvSpPr/>
          <p:nvPr/>
        </p:nvSpPr>
        <p:spPr>
          <a:xfrm>
            <a:off x="684360" y="50760"/>
            <a:ext cx="573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练一练</a:t>
            </a:r>
            <a:endParaRPr b="1" lang="en-US" sz="3600" spc="-1" strike="noStrike">
              <a:solidFill>
                <a:srgbClr val="080808"/>
              </a:solidFill>
              <a:latin typeface="黑体"/>
            </a:endParaRPr>
          </a:p>
        </p:txBody>
      </p:sp>
      <p:grpSp>
        <p:nvGrpSpPr>
          <p:cNvPr id="716" name="Group 39"/>
          <p:cNvGrpSpPr/>
          <p:nvPr/>
        </p:nvGrpSpPr>
        <p:grpSpPr>
          <a:xfrm>
            <a:off x="7418160" y="571680"/>
            <a:ext cx="1654920" cy="2233080"/>
            <a:chOff x="7418160" y="571680"/>
            <a:chExt cx="1654920" cy="2233080"/>
          </a:xfrm>
        </p:grpSpPr>
        <p:grpSp>
          <p:nvGrpSpPr>
            <p:cNvPr id="717" name="Group 22"/>
            <p:cNvGrpSpPr/>
            <p:nvPr/>
          </p:nvGrpSpPr>
          <p:grpSpPr>
            <a:xfrm>
              <a:off x="7962480" y="2357280"/>
              <a:ext cx="212400" cy="431280"/>
              <a:chOff x="7962480" y="2357280"/>
              <a:chExt cx="212400" cy="431280"/>
            </a:xfrm>
          </p:grpSpPr>
          <p:sp>
            <p:nvSpPr>
              <p:cNvPr id="718" name="Rectangle 20"/>
              <p:cNvSpPr/>
              <p:nvPr/>
            </p:nvSpPr>
            <p:spPr>
              <a:xfrm>
                <a:off x="7962840" y="2357280"/>
                <a:ext cx="3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719" name="Rectangle 21"/>
              <p:cNvSpPr/>
              <p:nvPr/>
            </p:nvSpPr>
            <p:spPr>
              <a:xfrm>
                <a:off x="7962480" y="2357280"/>
                <a:ext cx="2124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300" spc="-1" strike="noStrike">
                    <a:solidFill>
                      <a:srgbClr val="ff0000"/>
                    </a:solidFill>
                    <a:latin typeface="Times New Roman"/>
                  </a:rPr>
                  <a:t>D</a:t>
                </a:r>
                <a:endParaRPr b="1" lang="en-US" sz="23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</p:grpSp>
        <p:sp>
          <p:nvSpPr>
            <p:cNvPr id="720" name="Line 9"/>
            <p:cNvSpPr/>
            <p:nvPr/>
          </p:nvSpPr>
          <p:spPr>
            <a:xfrm>
              <a:off x="7548840" y="2396880"/>
              <a:ext cx="1319040" cy="0"/>
            </a:xfrm>
            <a:prstGeom prst="line">
              <a:avLst/>
            </a:prstGeom>
            <a:ln w="38160">
              <a:solidFill>
                <a:srgbClr val="4c45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21" name="Line 10"/>
            <p:cNvSpPr/>
            <p:nvPr/>
          </p:nvSpPr>
          <p:spPr>
            <a:xfrm>
              <a:off x="7548840" y="893520"/>
              <a:ext cx="0" cy="1503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22" name="Line 11"/>
            <p:cNvSpPr/>
            <p:nvPr/>
          </p:nvSpPr>
          <p:spPr>
            <a:xfrm>
              <a:off x="7548840" y="893520"/>
              <a:ext cx="0" cy="1503000"/>
            </a:xfrm>
            <a:prstGeom prst="line">
              <a:avLst/>
            </a:prstGeom>
            <a:ln w="38160">
              <a:solidFill>
                <a:srgbClr val="4c45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23" name="Line 12"/>
            <p:cNvSpPr/>
            <p:nvPr/>
          </p:nvSpPr>
          <p:spPr>
            <a:xfrm>
              <a:off x="7548840" y="893520"/>
              <a:ext cx="1319040" cy="1503000"/>
            </a:xfrm>
            <a:prstGeom prst="line">
              <a:avLst/>
            </a:prstGeom>
            <a:ln w="38160">
              <a:solidFill>
                <a:srgbClr val="4c45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24" name="Line 13"/>
            <p:cNvSpPr/>
            <p:nvPr/>
          </p:nvSpPr>
          <p:spPr>
            <a:xfrm>
              <a:off x="7548840" y="893520"/>
              <a:ext cx="529920" cy="1503000"/>
            </a:xfrm>
            <a:prstGeom prst="line">
              <a:avLst/>
            </a:prstGeom>
            <a:ln w="38160">
              <a:solidFill>
                <a:srgbClr val="4c45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25" name="Line 14"/>
            <p:cNvSpPr/>
            <p:nvPr/>
          </p:nvSpPr>
          <p:spPr>
            <a:xfrm flipH="1">
              <a:off x="8078400" y="1941480"/>
              <a:ext cx="398520" cy="455040"/>
            </a:xfrm>
            <a:prstGeom prst="line">
              <a:avLst/>
            </a:prstGeom>
            <a:ln w="38160">
              <a:solidFill>
                <a:srgbClr val="4c45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26" name="Line 15"/>
            <p:cNvSpPr/>
            <p:nvPr/>
          </p:nvSpPr>
          <p:spPr>
            <a:xfrm flipH="1">
              <a:off x="8374320" y="1887480"/>
              <a:ext cx="54000" cy="63000"/>
            </a:xfrm>
            <a:prstGeom prst="line">
              <a:avLst/>
            </a:prstGeom>
            <a:ln w="38160">
              <a:solidFill>
                <a:srgbClr val="4c45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27" name="Line 16"/>
            <p:cNvSpPr/>
            <p:nvPr/>
          </p:nvSpPr>
          <p:spPr>
            <a:xfrm>
              <a:off x="8374320" y="1950840"/>
              <a:ext cx="48960" cy="55080"/>
            </a:xfrm>
            <a:prstGeom prst="line">
              <a:avLst/>
            </a:prstGeom>
            <a:ln w="38160">
              <a:solidFill>
                <a:srgbClr val="4c45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grpSp>
          <p:nvGrpSpPr>
            <p:cNvPr id="728" name="Group 19"/>
            <p:cNvGrpSpPr/>
            <p:nvPr/>
          </p:nvGrpSpPr>
          <p:grpSpPr>
            <a:xfrm>
              <a:off x="7418160" y="571680"/>
              <a:ext cx="195840" cy="431640"/>
              <a:chOff x="7418160" y="571680"/>
              <a:chExt cx="195840" cy="431640"/>
            </a:xfrm>
          </p:grpSpPr>
          <p:sp>
            <p:nvSpPr>
              <p:cNvPr id="729" name="Rectangle 17"/>
              <p:cNvSpPr/>
              <p:nvPr/>
            </p:nvSpPr>
            <p:spPr>
              <a:xfrm>
                <a:off x="7418520" y="571680"/>
                <a:ext cx="36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730" name="Rectangle 18"/>
              <p:cNvSpPr/>
              <p:nvPr/>
            </p:nvSpPr>
            <p:spPr>
              <a:xfrm>
                <a:off x="7418160" y="571680"/>
                <a:ext cx="195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3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1" lang="en-US" sz="23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</p:grpSp>
        <p:grpSp>
          <p:nvGrpSpPr>
            <p:cNvPr id="731" name="Group 25"/>
            <p:cNvGrpSpPr/>
            <p:nvPr/>
          </p:nvGrpSpPr>
          <p:grpSpPr>
            <a:xfrm>
              <a:off x="8877240" y="2355840"/>
              <a:ext cx="195840" cy="431280"/>
              <a:chOff x="8877240" y="2355840"/>
              <a:chExt cx="195840" cy="431280"/>
            </a:xfrm>
          </p:grpSpPr>
          <p:sp>
            <p:nvSpPr>
              <p:cNvPr id="732" name="Rectangle 23"/>
              <p:cNvSpPr/>
              <p:nvPr/>
            </p:nvSpPr>
            <p:spPr>
              <a:xfrm>
                <a:off x="8877240" y="2355840"/>
                <a:ext cx="3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733" name="Rectangle 24"/>
              <p:cNvSpPr/>
              <p:nvPr/>
            </p:nvSpPr>
            <p:spPr>
              <a:xfrm>
                <a:off x="8877240" y="2355840"/>
                <a:ext cx="195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3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1" lang="en-US" sz="23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</p:grpSp>
        <p:grpSp>
          <p:nvGrpSpPr>
            <p:cNvPr id="734" name="Group 28"/>
            <p:cNvGrpSpPr/>
            <p:nvPr/>
          </p:nvGrpSpPr>
          <p:grpSpPr>
            <a:xfrm>
              <a:off x="8504280" y="1557360"/>
              <a:ext cx="196200" cy="435960"/>
              <a:chOff x="8504280" y="1557360"/>
              <a:chExt cx="196200" cy="435960"/>
            </a:xfrm>
          </p:grpSpPr>
          <p:sp>
            <p:nvSpPr>
              <p:cNvPr id="735" name="Rectangle 26"/>
              <p:cNvSpPr/>
              <p:nvPr/>
            </p:nvSpPr>
            <p:spPr>
              <a:xfrm>
                <a:off x="8504280" y="1562400"/>
                <a:ext cx="360" cy="43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736" name="Rectangle 27"/>
              <p:cNvSpPr/>
              <p:nvPr/>
            </p:nvSpPr>
            <p:spPr>
              <a:xfrm>
                <a:off x="8504640" y="1557360"/>
                <a:ext cx="195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3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endParaRPr b="1" lang="en-US" sz="23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</p:grpSp>
        <p:grpSp>
          <p:nvGrpSpPr>
            <p:cNvPr id="737" name="Group 31"/>
            <p:cNvGrpSpPr/>
            <p:nvPr/>
          </p:nvGrpSpPr>
          <p:grpSpPr>
            <a:xfrm>
              <a:off x="7418160" y="2373120"/>
              <a:ext cx="195840" cy="431640"/>
              <a:chOff x="7418160" y="2373120"/>
              <a:chExt cx="195840" cy="431640"/>
            </a:xfrm>
          </p:grpSpPr>
          <p:sp>
            <p:nvSpPr>
              <p:cNvPr id="738" name="Rectangle 29"/>
              <p:cNvSpPr/>
              <p:nvPr/>
            </p:nvSpPr>
            <p:spPr>
              <a:xfrm>
                <a:off x="7418520" y="2373120"/>
                <a:ext cx="36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739" name="Rectangle 30"/>
              <p:cNvSpPr/>
              <p:nvPr/>
            </p:nvSpPr>
            <p:spPr>
              <a:xfrm>
                <a:off x="7418160" y="2373120"/>
                <a:ext cx="195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3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1" lang="en-US" sz="23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</p:grpSp>
      </p:grpSp>
      <p:grpSp>
        <p:nvGrpSpPr>
          <p:cNvPr id="740" name="Group 41"/>
          <p:cNvGrpSpPr/>
          <p:nvPr/>
        </p:nvGrpSpPr>
        <p:grpSpPr>
          <a:xfrm>
            <a:off x="500040" y="2643120"/>
            <a:ext cx="8064360" cy="3970440"/>
            <a:chOff x="500040" y="2643120"/>
            <a:chExt cx="8064360" cy="3970440"/>
          </a:xfrm>
        </p:grpSpPr>
        <p:sp>
          <p:nvSpPr>
            <p:cNvPr id="741" name="Rectangle 33"/>
            <p:cNvSpPr/>
            <p:nvPr/>
          </p:nvSpPr>
          <p:spPr>
            <a:xfrm>
              <a:off x="500040" y="2643120"/>
              <a:ext cx="806436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(1)</a:t>
              </a: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解：∵</a:t>
              </a:r>
              <a:r>
                <a:rPr b="1" lang="en-US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AD</a:t>
              </a: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是△</a:t>
              </a:r>
              <a:r>
                <a:rPr b="1" lang="en-US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ABC</a:t>
              </a: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的角平分线，∠</a:t>
              </a:r>
              <a:r>
                <a:rPr b="1" lang="en-US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C=90°</a:t>
              </a: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，</a:t>
              </a:r>
              <a:r>
                <a:rPr b="1" lang="en-US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DE⊥AB</a:t>
              </a:r>
              <a:endParaRPr b="1" lang="en-US" sz="2400" spc="-1" strike="noStrike">
                <a:solidFill>
                  <a:srgbClr val="080808"/>
                </a:solidFill>
                <a:latin typeface="黑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∴</a:t>
              </a:r>
              <a:r>
                <a:rPr b="1" lang="en-US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DE=CD=4cm</a:t>
              </a:r>
              <a:endParaRPr b="1" lang="en-US" sz="2400" spc="-1" strike="noStrike">
                <a:solidFill>
                  <a:srgbClr val="080808"/>
                </a:solidFill>
                <a:latin typeface="黑体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∵</a:t>
              </a:r>
              <a:r>
                <a:rPr b="1" lang="en-US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AC=BC  ∴∠B=∠BAC(</a:t>
              </a: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等边对等角</a:t>
              </a:r>
              <a:r>
                <a:rPr b="1" lang="en-US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)</a:t>
              </a:r>
              <a:endParaRPr b="1" lang="en-US" sz="2400" spc="-1" strike="noStrike">
                <a:solidFill>
                  <a:srgbClr val="080808"/>
                </a:solidFill>
                <a:latin typeface="黑体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∵∠</a:t>
              </a:r>
              <a:r>
                <a:rPr b="1" lang="en-US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C=90°</a:t>
              </a: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，∴∠</a:t>
              </a:r>
              <a:r>
                <a:rPr b="1" lang="en-US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B=   ×90°=45°</a:t>
              </a: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．</a:t>
              </a:r>
              <a:endParaRPr b="1" lang="en-US" sz="2400" spc="-1" strike="noStrike">
                <a:solidFill>
                  <a:srgbClr val="080808"/>
                </a:solidFill>
                <a:latin typeface="黑体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∴∠</a:t>
              </a:r>
              <a:r>
                <a:rPr b="1" lang="en-US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BDE=90°-45°=45°</a:t>
              </a: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．</a:t>
              </a:r>
              <a:endParaRPr b="1" lang="en-US" sz="2400" spc="-1" strike="noStrike">
                <a:solidFill>
                  <a:srgbClr val="080808"/>
                </a:solidFill>
                <a:latin typeface="黑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∴</a:t>
              </a:r>
              <a:r>
                <a:rPr b="1" lang="en-US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BE=DE(</a:t>
              </a: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等角对等边</a:t>
              </a:r>
              <a:r>
                <a:rPr b="1" lang="en-US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)</a:t>
              </a: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．</a:t>
              </a:r>
              <a:endParaRPr b="1" lang="en-US" sz="2400" spc="-1" strike="noStrike">
                <a:solidFill>
                  <a:srgbClr val="080808"/>
                </a:solidFill>
                <a:latin typeface="黑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在等腰直角三角形</a:t>
              </a:r>
              <a:r>
                <a:rPr b="1" lang="en-US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BDE</a:t>
              </a: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中</a:t>
              </a:r>
              <a:endParaRPr b="1" lang="en-US" sz="2400" spc="-1" strike="noStrike">
                <a:solidFill>
                  <a:srgbClr val="080808"/>
                </a:solidFill>
                <a:latin typeface="黑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                                      </a:t>
              </a:r>
              <a:r>
                <a:rPr b="1" lang="en-US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(</a:t>
              </a: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勾股定理</a:t>
              </a:r>
              <a:r>
                <a:rPr b="1" lang="en-US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)</a:t>
              </a: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，</a:t>
              </a:r>
              <a:endParaRPr b="1" lang="en-US" sz="2400" spc="-1" strike="noStrike">
                <a:solidFill>
                  <a:srgbClr val="080808"/>
                </a:solidFill>
                <a:latin typeface="黑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∴</a:t>
              </a:r>
              <a:r>
                <a:rPr b="1" lang="en-US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AC=BC=CD+BD=(4+     )cm</a:t>
              </a: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Times New Roman"/>
                </a:rPr>
                <a:t>．</a:t>
              </a:r>
              <a:endParaRPr b="1" lang="en-US" sz="24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graphicFrame>
          <p:nvGraphicFramePr>
            <p:cNvPr id="742" name="Object 35"/>
            <p:cNvGraphicFramePr/>
            <p:nvPr/>
          </p:nvGraphicFramePr>
          <p:xfrm>
            <a:off x="3555720" y="3929040"/>
            <a:ext cx="230400" cy="64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43" name="Object 3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55720" y="3929040"/>
                      <a:ext cx="23040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4" name="Object 36"/>
            <p:cNvGraphicFramePr/>
            <p:nvPr/>
          </p:nvGraphicFramePr>
          <p:xfrm>
            <a:off x="3371760" y="5667480"/>
            <a:ext cx="3031920" cy="547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5" name="Object 3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371760" y="5667480"/>
                      <a:ext cx="3031920" cy="54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6" name="Object 40"/>
            <p:cNvGraphicFramePr/>
            <p:nvPr/>
          </p:nvGraphicFramePr>
          <p:xfrm>
            <a:off x="3270240" y="6122880"/>
            <a:ext cx="722160" cy="490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47" name="Object 4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70240" y="6122880"/>
                      <a:ext cx="722160" cy="49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684360" y="907920"/>
            <a:ext cx="73879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[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例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3]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如图，在△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中．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AC=BC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，∠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C=90°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AD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是△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的角平分线，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DE⊥AB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，垂足为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E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．</a:t>
            </a:r>
            <a:endParaRPr b="1" lang="en-US" sz="2400" spc="-1" strike="noStrike">
              <a:solidFill>
                <a:srgbClr val="080808"/>
              </a:solidFill>
              <a:latin typeface="黑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已知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CD=4 cm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，求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的长；</a:t>
            </a:r>
            <a:endParaRPr b="1" lang="en-US" sz="2400" spc="-1" strike="noStrike">
              <a:solidFill>
                <a:srgbClr val="080808"/>
              </a:solidFill>
              <a:latin typeface="黑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求证：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AB=AC+CD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． </a:t>
            </a:r>
            <a:endParaRPr b="1" lang="en-US" sz="24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749" name="Rectangle 3"/>
          <p:cNvSpPr/>
          <p:nvPr/>
        </p:nvSpPr>
        <p:spPr>
          <a:xfrm>
            <a:off x="684360" y="189000"/>
            <a:ext cx="573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练一练</a:t>
            </a:r>
            <a:endParaRPr b="1" lang="en-US" sz="3600" spc="-1" strike="noStrike">
              <a:solidFill>
                <a:srgbClr val="080808"/>
              </a:solidFill>
              <a:latin typeface="黑体"/>
            </a:endParaRPr>
          </a:p>
        </p:txBody>
      </p:sp>
      <p:grpSp>
        <p:nvGrpSpPr>
          <p:cNvPr id="750" name="Group 4"/>
          <p:cNvGrpSpPr/>
          <p:nvPr/>
        </p:nvGrpSpPr>
        <p:grpSpPr>
          <a:xfrm>
            <a:off x="5918040" y="1773360"/>
            <a:ext cx="2757960" cy="2926800"/>
            <a:chOff x="5918040" y="1773360"/>
            <a:chExt cx="2757960" cy="2926800"/>
          </a:xfrm>
        </p:grpSpPr>
        <p:grpSp>
          <p:nvGrpSpPr>
            <p:cNvPr id="751" name="Group 5"/>
            <p:cNvGrpSpPr/>
            <p:nvPr/>
          </p:nvGrpSpPr>
          <p:grpSpPr>
            <a:xfrm>
              <a:off x="6938280" y="4270320"/>
              <a:ext cx="212400" cy="429840"/>
              <a:chOff x="6938280" y="4270320"/>
              <a:chExt cx="212400" cy="429840"/>
            </a:xfrm>
          </p:grpSpPr>
          <p:sp>
            <p:nvSpPr>
              <p:cNvPr id="752" name="Rectangle 6"/>
              <p:cNvSpPr/>
              <p:nvPr/>
            </p:nvSpPr>
            <p:spPr>
              <a:xfrm>
                <a:off x="6939000" y="4270320"/>
                <a:ext cx="360" cy="42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753" name="Rectangle 7"/>
              <p:cNvSpPr/>
              <p:nvPr/>
            </p:nvSpPr>
            <p:spPr>
              <a:xfrm>
                <a:off x="6938280" y="4270320"/>
                <a:ext cx="2124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300" spc="-1" strike="noStrike">
                    <a:solidFill>
                      <a:srgbClr val="ff0000"/>
                    </a:solidFill>
                    <a:latin typeface="Times New Roman"/>
                  </a:rPr>
                  <a:t>D</a:t>
                </a:r>
                <a:endParaRPr b="1" lang="en-US" sz="23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</p:grpSp>
        <p:grpSp>
          <p:nvGrpSpPr>
            <p:cNvPr id="754" name="Group 8"/>
            <p:cNvGrpSpPr/>
            <p:nvPr/>
          </p:nvGrpSpPr>
          <p:grpSpPr>
            <a:xfrm>
              <a:off x="5918040" y="1773360"/>
              <a:ext cx="2757960" cy="2898000"/>
              <a:chOff x="5918040" y="1773360"/>
              <a:chExt cx="2757960" cy="2898000"/>
            </a:xfrm>
          </p:grpSpPr>
          <p:sp>
            <p:nvSpPr>
              <p:cNvPr id="755" name="Line 9"/>
              <p:cNvSpPr/>
              <p:nvPr/>
            </p:nvSpPr>
            <p:spPr>
              <a:xfrm>
                <a:off x="6146640" y="4289400"/>
                <a:ext cx="2320920" cy="1080"/>
              </a:xfrm>
              <a:prstGeom prst="line">
                <a:avLst/>
              </a:prstGeom>
              <a:ln w="38160">
                <a:solidFill>
                  <a:srgbClr val="4c45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756" name="Line 10"/>
              <p:cNvSpPr/>
              <p:nvPr/>
            </p:nvSpPr>
            <p:spPr>
              <a:xfrm>
                <a:off x="6146640" y="1966680"/>
                <a:ext cx="1800" cy="2322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757" name="Line 11"/>
              <p:cNvSpPr/>
              <p:nvPr/>
            </p:nvSpPr>
            <p:spPr>
              <a:xfrm>
                <a:off x="6146640" y="1966680"/>
                <a:ext cx="1800" cy="2322360"/>
              </a:xfrm>
              <a:prstGeom prst="line">
                <a:avLst/>
              </a:prstGeom>
              <a:ln w="38160">
                <a:solidFill>
                  <a:srgbClr val="4c45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758" name="Line 12"/>
              <p:cNvSpPr/>
              <p:nvPr/>
            </p:nvSpPr>
            <p:spPr>
              <a:xfrm>
                <a:off x="6146640" y="1966680"/>
                <a:ext cx="2320920" cy="2322360"/>
              </a:xfrm>
              <a:prstGeom prst="line">
                <a:avLst/>
              </a:prstGeom>
              <a:ln w="38160">
                <a:solidFill>
                  <a:srgbClr val="4c45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759" name="Line 13"/>
              <p:cNvSpPr/>
              <p:nvPr/>
            </p:nvSpPr>
            <p:spPr>
              <a:xfrm>
                <a:off x="6146640" y="1966680"/>
                <a:ext cx="932040" cy="2322360"/>
              </a:xfrm>
              <a:prstGeom prst="line">
                <a:avLst/>
              </a:prstGeom>
              <a:ln w="38160">
                <a:solidFill>
                  <a:srgbClr val="4c45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760" name="Line 14"/>
              <p:cNvSpPr/>
              <p:nvPr/>
            </p:nvSpPr>
            <p:spPr>
              <a:xfrm flipH="1">
                <a:off x="7078320" y="3587400"/>
                <a:ext cx="700200" cy="701640"/>
              </a:xfrm>
              <a:prstGeom prst="line">
                <a:avLst/>
              </a:prstGeom>
              <a:ln w="38160">
                <a:solidFill>
                  <a:srgbClr val="4c45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761" name="Line 15"/>
              <p:cNvSpPr/>
              <p:nvPr/>
            </p:nvSpPr>
            <p:spPr>
              <a:xfrm flipH="1">
                <a:off x="7597440" y="3503520"/>
                <a:ext cx="96840" cy="96480"/>
              </a:xfrm>
              <a:prstGeom prst="line">
                <a:avLst/>
              </a:prstGeom>
              <a:ln w="38160">
                <a:solidFill>
                  <a:srgbClr val="4c45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762" name="Line 16"/>
              <p:cNvSpPr/>
              <p:nvPr/>
            </p:nvSpPr>
            <p:spPr>
              <a:xfrm>
                <a:off x="7597800" y="3600360"/>
                <a:ext cx="84240" cy="83520"/>
              </a:xfrm>
              <a:prstGeom prst="line">
                <a:avLst/>
              </a:prstGeom>
              <a:ln w="38160">
                <a:solidFill>
                  <a:srgbClr val="4c453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grpSp>
            <p:nvGrpSpPr>
              <p:cNvPr id="763" name="Group 17"/>
              <p:cNvGrpSpPr/>
              <p:nvPr/>
            </p:nvGrpSpPr>
            <p:grpSpPr>
              <a:xfrm>
                <a:off x="5918040" y="1773360"/>
                <a:ext cx="195840" cy="429840"/>
                <a:chOff x="5918040" y="1773360"/>
                <a:chExt cx="195840" cy="429840"/>
              </a:xfrm>
            </p:grpSpPr>
            <p:sp>
              <p:nvSpPr>
                <p:cNvPr id="764" name="Rectangle 18"/>
                <p:cNvSpPr/>
                <p:nvPr/>
              </p:nvSpPr>
              <p:spPr>
                <a:xfrm>
                  <a:off x="5918040" y="1773360"/>
                  <a:ext cx="360" cy="42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765" name="Rectangle 19"/>
                <p:cNvSpPr/>
                <p:nvPr/>
              </p:nvSpPr>
              <p:spPr>
                <a:xfrm>
                  <a:off x="5918040" y="1773360"/>
                  <a:ext cx="19584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3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1" lang="en-US" sz="23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766" name="Group 20"/>
              <p:cNvGrpSpPr/>
              <p:nvPr/>
            </p:nvGrpSpPr>
            <p:grpSpPr>
              <a:xfrm>
                <a:off x="8480160" y="4216320"/>
                <a:ext cx="195840" cy="429840"/>
                <a:chOff x="8480160" y="4216320"/>
                <a:chExt cx="195840" cy="429840"/>
              </a:xfrm>
            </p:grpSpPr>
            <p:sp>
              <p:nvSpPr>
                <p:cNvPr id="767" name="Rectangle 21"/>
                <p:cNvSpPr/>
                <p:nvPr/>
              </p:nvSpPr>
              <p:spPr>
                <a:xfrm>
                  <a:off x="8480520" y="4216320"/>
                  <a:ext cx="360" cy="42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768" name="Rectangle 22"/>
                <p:cNvSpPr/>
                <p:nvPr/>
              </p:nvSpPr>
              <p:spPr>
                <a:xfrm>
                  <a:off x="8480160" y="4216320"/>
                  <a:ext cx="19584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3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endParaRPr b="1" lang="en-US" sz="23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769" name="Group 23"/>
              <p:cNvGrpSpPr/>
              <p:nvPr/>
            </p:nvGrpSpPr>
            <p:grpSpPr>
              <a:xfrm>
                <a:off x="7838640" y="3249360"/>
                <a:ext cx="195840" cy="429840"/>
                <a:chOff x="7838640" y="3249360"/>
                <a:chExt cx="195840" cy="429840"/>
              </a:xfrm>
            </p:grpSpPr>
            <p:sp>
              <p:nvSpPr>
                <p:cNvPr id="770" name="Rectangle 24"/>
                <p:cNvSpPr/>
                <p:nvPr/>
              </p:nvSpPr>
              <p:spPr>
                <a:xfrm>
                  <a:off x="7839000" y="3249360"/>
                  <a:ext cx="360" cy="42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771" name="Rectangle 25"/>
                <p:cNvSpPr/>
                <p:nvPr/>
              </p:nvSpPr>
              <p:spPr>
                <a:xfrm>
                  <a:off x="7838640" y="3249360"/>
                  <a:ext cx="19584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300" spc="-1" strike="noStrike">
                      <a:solidFill>
                        <a:srgbClr val="ff0000"/>
                      </a:solidFill>
                      <a:latin typeface="Times New Roman"/>
                    </a:rPr>
                    <a:t>E</a:t>
                  </a:r>
                  <a:endParaRPr b="1" lang="en-US" sz="23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772" name="Group 26"/>
              <p:cNvGrpSpPr/>
              <p:nvPr/>
            </p:nvGrpSpPr>
            <p:grpSpPr>
              <a:xfrm>
                <a:off x="5918040" y="4241520"/>
                <a:ext cx="195840" cy="429840"/>
                <a:chOff x="5918040" y="4241520"/>
                <a:chExt cx="195840" cy="429840"/>
              </a:xfrm>
            </p:grpSpPr>
            <p:sp>
              <p:nvSpPr>
                <p:cNvPr id="773" name="Rectangle 27"/>
                <p:cNvSpPr/>
                <p:nvPr/>
              </p:nvSpPr>
              <p:spPr>
                <a:xfrm>
                  <a:off x="5918040" y="4241520"/>
                  <a:ext cx="360" cy="42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774" name="Rectangle 28"/>
                <p:cNvSpPr/>
                <p:nvPr/>
              </p:nvSpPr>
              <p:spPr>
                <a:xfrm>
                  <a:off x="5918040" y="4241520"/>
                  <a:ext cx="19584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3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endParaRPr b="1" lang="en-US" sz="23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</p:grpSp>
        </p:grpSp>
      </p:grpSp>
      <p:sp>
        <p:nvSpPr>
          <p:cNvPr id="775" name="Rectangle 30"/>
          <p:cNvSpPr/>
          <p:nvPr/>
        </p:nvSpPr>
        <p:spPr>
          <a:xfrm>
            <a:off x="857160" y="3254400"/>
            <a:ext cx="5060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Times New Roman"/>
              </a:rPr>
              <a:t>证明：由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Times New Roman"/>
              </a:rPr>
              <a:t>的求解过程可知，</a:t>
            </a:r>
            <a:endParaRPr b="1" lang="en-US" sz="2400" spc="-1" strike="noStrike">
              <a:solidFill>
                <a:srgbClr val="080808"/>
              </a:solidFill>
              <a:latin typeface="黑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Times New Roman"/>
              </a:rPr>
              <a:t>Rt△ACD≌Rt△AED(HL)</a:t>
            </a:r>
            <a:endParaRPr b="1" lang="en-US" sz="2400" spc="-1" strike="noStrike">
              <a:solidFill>
                <a:srgbClr val="080808"/>
              </a:solidFill>
              <a:latin typeface="黑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Times New Roman"/>
              </a:rPr>
              <a:t>∴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Times New Roman"/>
              </a:rPr>
              <a:t>AC=AE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Times New Roman"/>
              </a:rPr>
              <a:t>（全等三角形的对应边相等）</a:t>
            </a:r>
            <a:endParaRPr b="1" lang="en-US" sz="2400" spc="-1" strike="noStrike">
              <a:solidFill>
                <a:srgbClr val="080808"/>
              </a:solidFill>
              <a:latin typeface="黑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Times New Roman"/>
              </a:rPr>
              <a:t>∵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Times New Roman"/>
              </a:rPr>
              <a:t>BE=DE=CD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Times New Roman"/>
              </a:rPr>
              <a:t>，</a:t>
            </a:r>
            <a:endParaRPr b="1" lang="en-US" sz="2400" spc="-1" strike="noStrike">
              <a:solidFill>
                <a:srgbClr val="080808"/>
              </a:solidFill>
              <a:latin typeface="黑体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Times New Roman"/>
              </a:rPr>
              <a:t>∴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Times New Roman"/>
              </a:rPr>
              <a:t>AB=AE+BE=AC+CD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Times New Roman"/>
              </a:rPr>
              <a:t>．</a:t>
            </a:r>
            <a:endParaRPr b="1" lang="en-US" sz="24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714240" y="13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  <a:ea typeface="黑体"/>
              </a:rPr>
              <a:t>         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三  挑战自我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14"/>
          <p:cNvSpPr/>
          <p:nvPr/>
        </p:nvSpPr>
        <p:spPr>
          <a:xfrm>
            <a:off x="533520" y="642960"/>
            <a:ext cx="807084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   </a:t>
            </a: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1.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</a:rPr>
              <a:t>已知</a:t>
            </a: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: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</a:rPr>
              <a:t>如图</a:t>
            </a: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,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∠C=90</a:t>
            </a:r>
            <a:r>
              <a:rPr b="1" lang="en-US" sz="2800" spc="-1" strike="noStrike" baseline="30000">
                <a:solidFill>
                  <a:srgbClr val="080808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, ∠B=30</a:t>
            </a:r>
            <a:r>
              <a:rPr b="1" lang="en-US" sz="2800" spc="-1" strike="noStrike" baseline="30000">
                <a:solidFill>
                  <a:srgbClr val="080808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, AD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是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Rt</a:t>
            </a: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△ABC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</a:rPr>
              <a:t>的角平分线</a:t>
            </a: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   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</a:rPr>
              <a:t>求证</a:t>
            </a: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:BD=2CD.</a:t>
            </a:r>
            <a:r>
              <a:rPr b="0" lang="en-US" sz="2800" spc="-1" strike="noStrike">
                <a:solidFill>
                  <a:srgbClr val="5b5249"/>
                </a:solidFill>
                <a:latin typeface="隶书"/>
                <a:ea typeface="隶书"/>
              </a:rPr>
              <a:t>  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778" name="Rectangle 49"/>
          <p:cNvSpPr/>
          <p:nvPr/>
        </p:nvSpPr>
        <p:spPr>
          <a:xfrm>
            <a:off x="914400" y="4730760"/>
            <a:ext cx="7323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老师期望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你能写出规范的证明过程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grpSp>
        <p:nvGrpSpPr>
          <p:cNvPr id="779" name="Group 58"/>
          <p:cNvGrpSpPr/>
          <p:nvPr/>
        </p:nvGrpSpPr>
        <p:grpSpPr>
          <a:xfrm>
            <a:off x="2987640" y="2141640"/>
            <a:ext cx="3312720" cy="2281320"/>
            <a:chOff x="2987640" y="2141640"/>
            <a:chExt cx="3312720" cy="2281320"/>
          </a:xfrm>
        </p:grpSpPr>
        <p:sp>
          <p:nvSpPr>
            <p:cNvPr id="780" name="AutoShape 50"/>
            <p:cNvSpPr/>
            <p:nvPr/>
          </p:nvSpPr>
          <p:spPr>
            <a:xfrm flipH="1">
              <a:off x="3401280" y="2656800"/>
              <a:ext cx="2319120" cy="1334160"/>
            </a:xfrm>
            <a:prstGeom prst="rtTriangle">
              <a:avLst/>
            </a:prstGeom>
            <a:noFill/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81" name="Line 51"/>
            <p:cNvSpPr/>
            <p:nvPr/>
          </p:nvSpPr>
          <p:spPr>
            <a:xfrm flipH="1">
              <a:off x="4889160" y="2675160"/>
              <a:ext cx="810720" cy="132876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82" name="Text Box 52"/>
            <p:cNvSpPr/>
            <p:nvPr/>
          </p:nvSpPr>
          <p:spPr>
            <a:xfrm>
              <a:off x="5472000" y="2141640"/>
              <a:ext cx="57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80808"/>
                  </a:solidFill>
                  <a:latin typeface="Times New Roman"/>
                </a:rPr>
                <a:t>A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83" name="Text Box 53"/>
            <p:cNvSpPr/>
            <p:nvPr/>
          </p:nvSpPr>
          <p:spPr>
            <a:xfrm>
              <a:off x="2987640" y="3635640"/>
              <a:ext cx="57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80808"/>
                  </a:solidFill>
                  <a:latin typeface="Times New Roman"/>
                </a:rPr>
                <a:t>B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84" name="Text Box 54"/>
            <p:cNvSpPr/>
            <p:nvPr/>
          </p:nvSpPr>
          <p:spPr>
            <a:xfrm>
              <a:off x="5720760" y="3737160"/>
              <a:ext cx="57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80808"/>
                  </a:solidFill>
                  <a:latin typeface="Times New Roman"/>
                </a:rPr>
                <a:t>C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85" name="Text Box 55"/>
            <p:cNvSpPr/>
            <p:nvPr/>
          </p:nvSpPr>
          <p:spPr>
            <a:xfrm>
              <a:off x="4726800" y="3902400"/>
              <a:ext cx="57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80808"/>
                  </a:solidFill>
                  <a:latin typeface="Times New Roman"/>
                </a:rPr>
                <a:t>D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86" name="Line 56"/>
            <p:cNvSpPr/>
            <p:nvPr/>
          </p:nvSpPr>
          <p:spPr>
            <a:xfrm>
              <a:off x="5578920" y="3807720"/>
              <a:ext cx="0" cy="17388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87" name="Line 57"/>
            <p:cNvSpPr/>
            <p:nvPr/>
          </p:nvSpPr>
          <p:spPr>
            <a:xfrm>
              <a:off x="5578920" y="3830040"/>
              <a:ext cx="182880" cy="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755640" y="692280"/>
            <a:ext cx="7772400" cy="51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证明 ∵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  <a:ea typeface="黑体"/>
              </a:rPr>
              <a:t> ∠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  <a:ea typeface="黑体"/>
              </a:rPr>
              <a:t>C=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90°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∴ 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∠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  <a:ea typeface="黑体"/>
              </a:rPr>
              <a:t>B= 30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∴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Rt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△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中，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AB=2BC, 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∠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  <a:ea typeface="黑体"/>
              </a:rPr>
              <a:t>BAC= 60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∵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AD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是△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的角平分线       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∴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 ∠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  <a:ea typeface="黑体"/>
              </a:rPr>
              <a:t>BAD= 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∠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  <a:ea typeface="黑体"/>
              </a:rPr>
              <a:t>DAC= 30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°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  <a:ea typeface="黑体"/>
              </a:rPr>
              <a:t>,AD=B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∴ 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Rt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△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ACD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中，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AD=2C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∴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BD=2C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14"/>
          <p:cNvSpPr/>
          <p:nvPr/>
        </p:nvSpPr>
        <p:spPr>
          <a:xfrm>
            <a:off x="455760" y="376200"/>
            <a:ext cx="792612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已知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如图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,△ABC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的外角∠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CBD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和∠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BCE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的角平分线相交于点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F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求证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点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F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在∠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DAE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的平分线上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. 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grpSp>
        <p:nvGrpSpPr>
          <p:cNvPr id="790" name="Group 72"/>
          <p:cNvGrpSpPr/>
          <p:nvPr/>
        </p:nvGrpSpPr>
        <p:grpSpPr>
          <a:xfrm>
            <a:off x="2212920" y="1893960"/>
            <a:ext cx="4622760" cy="3375000"/>
            <a:chOff x="2212920" y="1893960"/>
            <a:chExt cx="4622760" cy="3375000"/>
          </a:xfrm>
        </p:grpSpPr>
        <p:sp>
          <p:nvSpPr>
            <p:cNvPr id="791" name="Text Box 60"/>
            <p:cNvSpPr/>
            <p:nvPr/>
          </p:nvSpPr>
          <p:spPr>
            <a:xfrm>
              <a:off x="4778280" y="1893960"/>
              <a:ext cx="38124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80808"/>
                  </a:solidFill>
                  <a:latin typeface="隶书"/>
                </a:rPr>
                <a:t>A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92" name="Line 61"/>
            <p:cNvSpPr/>
            <p:nvPr/>
          </p:nvSpPr>
          <p:spPr>
            <a:xfrm>
              <a:off x="3637080" y="3664080"/>
              <a:ext cx="1839960" cy="180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93" name="Line 62"/>
            <p:cNvSpPr/>
            <p:nvPr/>
          </p:nvSpPr>
          <p:spPr>
            <a:xfrm flipH="1">
              <a:off x="2479320" y="2233800"/>
              <a:ext cx="2373480" cy="277344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94" name="Line 63"/>
            <p:cNvSpPr/>
            <p:nvPr/>
          </p:nvSpPr>
          <p:spPr>
            <a:xfrm>
              <a:off x="4853160" y="2233800"/>
              <a:ext cx="1322280" cy="290340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95" name="Text Box 64"/>
            <p:cNvSpPr/>
            <p:nvPr/>
          </p:nvSpPr>
          <p:spPr>
            <a:xfrm>
              <a:off x="3102120" y="3567240"/>
              <a:ext cx="38088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80808"/>
                  </a:solidFill>
                  <a:latin typeface="隶书"/>
                </a:rPr>
                <a:t>B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96" name="Text Box 65"/>
            <p:cNvSpPr/>
            <p:nvPr/>
          </p:nvSpPr>
          <p:spPr>
            <a:xfrm>
              <a:off x="5540400" y="3418200"/>
              <a:ext cx="38088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80808"/>
                  </a:solidFill>
                  <a:latin typeface="隶书"/>
                </a:rPr>
                <a:t>C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97" name="Line 66"/>
            <p:cNvSpPr/>
            <p:nvPr/>
          </p:nvSpPr>
          <p:spPr>
            <a:xfrm>
              <a:off x="3637080" y="3664080"/>
              <a:ext cx="914400" cy="160488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98" name="Line 67"/>
            <p:cNvSpPr/>
            <p:nvPr/>
          </p:nvSpPr>
          <p:spPr>
            <a:xfrm flipH="1">
              <a:off x="4122720" y="3664080"/>
              <a:ext cx="1354320" cy="156708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799" name="Text Box 69"/>
            <p:cNvSpPr/>
            <p:nvPr/>
          </p:nvSpPr>
          <p:spPr>
            <a:xfrm>
              <a:off x="4473720" y="47134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80808"/>
                  </a:solidFill>
                  <a:latin typeface="Times New Roman"/>
                </a:rPr>
                <a:t>F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800" name="Text Box 70"/>
            <p:cNvSpPr/>
            <p:nvPr/>
          </p:nvSpPr>
          <p:spPr>
            <a:xfrm>
              <a:off x="2212920" y="46818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80808"/>
                  </a:solidFill>
                  <a:latin typeface="Times New Roman"/>
                </a:rPr>
                <a:t>D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801" name="Text Box 71"/>
            <p:cNvSpPr/>
            <p:nvPr/>
          </p:nvSpPr>
          <p:spPr>
            <a:xfrm>
              <a:off x="6302520" y="4681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80808"/>
                  </a:solidFill>
                  <a:latin typeface="Times New Roman"/>
                </a:rPr>
                <a:t>E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75564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证明： ∵ 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  <a:ea typeface="黑体"/>
              </a:rPr>
              <a:t>BF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是∠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  <a:ea typeface="黑体"/>
              </a:rPr>
              <a:t>CBD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的角平分线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       ∴ 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  <a:ea typeface="黑体"/>
              </a:rPr>
              <a:t>F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到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  <a:ea typeface="黑体"/>
              </a:rPr>
              <a:t>BC,AD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的距离相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       ∵ 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  <a:ea typeface="黑体"/>
              </a:rPr>
              <a:t>BF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是∠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  <a:ea typeface="黑体"/>
              </a:rPr>
              <a:t>CBD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的角平分线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       ∴ 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  <a:ea typeface="黑体"/>
              </a:rPr>
              <a:t>F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到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  <a:ea typeface="黑体"/>
              </a:rPr>
              <a:t>BC,AE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的距离相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       ∴ 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  <a:ea typeface="黑体"/>
              </a:rPr>
              <a:t>F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到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  <a:ea typeface="黑体"/>
              </a:rPr>
              <a:t>AD,AE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的距离相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从而点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  <a:ea typeface="黑体"/>
              </a:rPr>
              <a:t>F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在∠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  <a:ea typeface="黑体"/>
              </a:rPr>
              <a:t>DAE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的平分线上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14"/>
          <p:cNvSpPr/>
          <p:nvPr/>
        </p:nvSpPr>
        <p:spPr>
          <a:xfrm>
            <a:off x="838080" y="765000"/>
            <a:ext cx="452772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已知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如图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,P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是∠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AOB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平分线上的一个点，并且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PC⊥OA,PD⊥OB,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垂足分别是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C,D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求证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: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(1)OC=OD;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(2)OP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是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CD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的垂直平分线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. 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804" name="Text Box 51"/>
          <p:cNvSpPr/>
          <p:nvPr/>
        </p:nvSpPr>
        <p:spPr>
          <a:xfrm>
            <a:off x="7086600" y="4191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805" name="Text Box 50"/>
          <p:cNvSpPr/>
          <p:nvPr/>
        </p:nvSpPr>
        <p:spPr>
          <a:xfrm>
            <a:off x="7831080" y="39290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B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806" name="Text Box 52"/>
          <p:cNvSpPr/>
          <p:nvPr/>
        </p:nvSpPr>
        <p:spPr>
          <a:xfrm>
            <a:off x="7831080" y="14144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807" name="Text Box 60"/>
          <p:cNvSpPr/>
          <p:nvPr/>
        </p:nvSpPr>
        <p:spPr>
          <a:xfrm>
            <a:off x="7754760" y="2843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P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808" name="Text Box 61"/>
          <p:cNvSpPr/>
          <p:nvPr/>
        </p:nvSpPr>
        <p:spPr>
          <a:xfrm>
            <a:off x="7068960" y="36241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D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809" name="Text Box 70"/>
          <p:cNvSpPr/>
          <p:nvPr/>
        </p:nvSpPr>
        <p:spPr>
          <a:xfrm>
            <a:off x="7145280" y="1700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C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810" name="Line 81"/>
          <p:cNvSpPr/>
          <p:nvPr/>
        </p:nvSpPr>
        <p:spPr>
          <a:xfrm>
            <a:off x="5711760" y="2933640"/>
            <a:ext cx="2692440" cy="468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811" name="Line 82"/>
          <p:cNvSpPr/>
          <p:nvPr/>
        </p:nvSpPr>
        <p:spPr>
          <a:xfrm flipV="1">
            <a:off x="5730840" y="1717200"/>
            <a:ext cx="2543040" cy="121932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812" name="Line 84"/>
          <p:cNvSpPr/>
          <p:nvPr/>
        </p:nvSpPr>
        <p:spPr>
          <a:xfrm>
            <a:off x="5692680" y="2925720"/>
            <a:ext cx="2208240" cy="107964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813" name="Line 86"/>
          <p:cNvSpPr/>
          <p:nvPr/>
        </p:nvSpPr>
        <p:spPr>
          <a:xfrm>
            <a:off x="7453440" y="2127240"/>
            <a:ext cx="344520" cy="83520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814" name="Line 87"/>
          <p:cNvSpPr/>
          <p:nvPr/>
        </p:nvSpPr>
        <p:spPr>
          <a:xfrm flipV="1">
            <a:off x="7377120" y="2937960"/>
            <a:ext cx="420840" cy="80028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815" name="Text Box 91"/>
          <p:cNvSpPr/>
          <p:nvPr/>
        </p:nvSpPr>
        <p:spPr>
          <a:xfrm>
            <a:off x="5330880" y="2697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O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816" name="Line 100"/>
          <p:cNvSpPr/>
          <p:nvPr/>
        </p:nvSpPr>
        <p:spPr>
          <a:xfrm flipH="1">
            <a:off x="7373880" y="2127240"/>
            <a:ext cx="76320" cy="16113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42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证明</a:t>
            </a:r>
            <a:r>
              <a:rPr b="1" lang="en-US" sz="2800" spc="-1" strike="noStrike">
                <a:solidFill>
                  <a:srgbClr val="5b5249"/>
                </a:solidFill>
                <a:latin typeface="黑体"/>
                <a:ea typeface="黑体"/>
              </a:rPr>
              <a:t>(1)  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∵P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为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P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是∠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AOB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平分线上的一个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PC⊥OA,PD⊥OB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          ∴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PC=P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          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Rt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△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POC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和 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Rt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△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PO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          ∵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OP=OP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          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Rt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△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POC 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≌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 Rt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△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POD  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∴OC=O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(2)   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由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PC=PD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得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P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CD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的垂直平分线上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  <a:ea typeface="黑体"/>
              </a:rPr>
              <a:t>由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  <a:ea typeface="黑体"/>
              </a:rPr>
              <a:t>O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C=OD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得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O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CD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的垂直平分线上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          ∴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OP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是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CD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的垂直平分线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78588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  <a:ea typeface="黑体"/>
              </a:rPr>
              <a:t>         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一  回顾与思考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2"/>
          <p:cNvSpPr/>
          <p:nvPr/>
        </p:nvSpPr>
        <p:spPr>
          <a:xfrm>
            <a:off x="990720" y="2549520"/>
            <a:ext cx="7627680" cy="19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819" name="Rectangle 3"/>
          <p:cNvSpPr/>
          <p:nvPr/>
        </p:nvSpPr>
        <p:spPr>
          <a:xfrm>
            <a:off x="533520" y="692280"/>
            <a:ext cx="8084880" cy="28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</a:rPr>
              <a:t>拓展探索：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</a:rPr>
              <a:t>如图</a:t>
            </a: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</a:rPr>
              <a:t>已知△</a:t>
            </a: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ABC,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</a:rPr>
              <a:t>作△</a:t>
            </a: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ABC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</a:rPr>
              <a:t>一个内角和与它不相邻的两个外角的平分线</a:t>
            </a: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</a:rPr>
              <a:t>看它们是否交于一点</a:t>
            </a: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?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</a:rPr>
              <a:t>这样的点有几个</a:t>
            </a: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?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</a:rPr>
              <a:t>如果以这个点为圆心</a:t>
            </a: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</a:rPr>
              <a:t>这一点到三角形一边的距离为半径作圆</a:t>
            </a: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</a:rPr>
              <a:t>你能作出这个图形吗</a:t>
            </a: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?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grpSp>
        <p:nvGrpSpPr>
          <p:cNvPr id="820" name="Group 11"/>
          <p:cNvGrpSpPr/>
          <p:nvPr/>
        </p:nvGrpSpPr>
        <p:grpSpPr>
          <a:xfrm>
            <a:off x="3053880" y="3560760"/>
            <a:ext cx="3102480" cy="1944720"/>
            <a:chOff x="3053880" y="3560760"/>
            <a:chExt cx="3102480" cy="1944720"/>
          </a:xfrm>
        </p:grpSpPr>
        <p:sp>
          <p:nvSpPr>
            <p:cNvPr id="821" name="Text Box 5"/>
            <p:cNvSpPr/>
            <p:nvPr/>
          </p:nvSpPr>
          <p:spPr>
            <a:xfrm>
              <a:off x="4410000" y="3560760"/>
              <a:ext cx="38124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80808"/>
                  </a:solidFill>
                  <a:latin typeface="黑体"/>
                </a:rPr>
                <a:t>A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822" name="Line 6"/>
            <p:cNvSpPr/>
            <p:nvPr/>
          </p:nvSpPr>
          <p:spPr>
            <a:xfrm>
              <a:off x="3054240" y="4809960"/>
              <a:ext cx="3102120" cy="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823" name="Line 7"/>
            <p:cNvSpPr/>
            <p:nvPr/>
          </p:nvSpPr>
          <p:spPr>
            <a:xfrm flipH="1">
              <a:off x="3053880" y="3560760"/>
              <a:ext cx="2156040" cy="168264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824" name="Line 8"/>
            <p:cNvSpPr/>
            <p:nvPr/>
          </p:nvSpPr>
          <p:spPr>
            <a:xfrm>
              <a:off x="4140360" y="3560760"/>
              <a:ext cx="1641240" cy="19447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825" name="Text Box 9"/>
            <p:cNvSpPr/>
            <p:nvPr/>
          </p:nvSpPr>
          <p:spPr>
            <a:xfrm>
              <a:off x="3533760" y="4809960"/>
              <a:ext cx="38088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80808"/>
                  </a:solidFill>
                  <a:latin typeface="隶书"/>
                </a:rPr>
                <a:t>B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826" name="Text Box 10"/>
            <p:cNvSpPr/>
            <p:nvPr/>
          </p:nvSpPr>
          <p:spPr>
            <a:xfrm>
              <a:off x="5210280" y="4771800"/>
              <a:ext cx="38088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80808"/>
                  </a:solidFill>
                  <a:latin typeface="黑体"/>
                </a:rPr>
                <a:t>C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/>
          </p:nvPr>
        </p:nvSpPr>
        <p:spPr>
          <a:xfrm>
            <a:off x="785880" y="1500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  <a:ea typeface="黑体"/>
              </a:rPr>
              <a:t>         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四    回顾与小结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77724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黑体"/>
              </a:rPr>
              <a:t>定理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黑体"/>
              </a:rPr>
              <a:t>:</a:t>
            </a:r>
            <a:r>
              <a:rPr b="1" lang="zh-CN" sz="3200" spc="-1" strike="noStrike">
                <a:solidFill>
                  <a:srgbClr val="080808"/>
                </a:solidFill>
                <a:latin typeface="隶书"/>
                <a:ea typeface="黑体"/>
              </a:rPr>
              <a:t>三角形的三条角平分线相交于一点</a:t>
            </a:r>
            <a:r>
              <a:rPr b="1" lang="en-US" sz="3200" spc="-1" strike="noStrike">
                <a:solidFill>
                  <a:srgbClr val="080808"/>
                </a:solidFill>
                <a:latin typeface="隶书"/>
                <a:ea typeface="黑体"/>
              </a:rPr>
              <a:t>,</a:t>
            </a:r>
            <a:r>
              <a:rPr b="1" lang="zh-CN" sz="3200" spc="-1" strike="noStrike">
                <a:solidFill>
                  <a:srgbClr val="080808"/>
                </a:solidFill>
                <a:latin typeface="隶书"/>
                <a:ea typeface="黑体"/>
              </a:rPr>
              <a:t>并且这一点到三边的距离相等</a:t>
            </a:r>
            <a:r>
              <a:rPr b="1" lang="en-US" sz="3200" spc="-1" strike="noStrike">
                <a:solidFill>
                  <a:srgbClr val="080808"/>
                </a:solidFill>
                <a:latin typeface="隶书"/>
                <a:ea typeface="黑体"/>
              </a:rPr>
              <a:t>(</a:t>
            </a:r>
            <a:r>
              <a:rPr b="1" lang="zh-CN" sz="3200" spc="-1" strike="noStrike">
                <a:solidFill>
                  <a:srgbClr val="080808"/>
                </a:solidFill>
                <a:latin typeface="隶书"/>
                <a:ea typeface="黑体"/>
              </a:rPr>
              <a:t>这个交点叫做三角形的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内心</a:t>
            </a:r>
            <a:r>
              <a:rPr b="1" lang="en-US" sz="3200" spc="-1" strike="noStrike">
                <a:solidFill>
                  <a:srgbClr val="080808"/>
                </a:solidFill>
                <a:latin typeface="隶书"/>
                <a:ea typeface="黑体"/>
              </a:rPr>
              <a:t>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829" name="Group 4"/>
          <p:cNvGrpSpPr/>
          <p:nvPr/>
        </p:nvGrpSpPr>
        <p:grpSpPr>
          <a:xfrm>
            <a:off x="3322800" y="2924280"/>
            <a:ext cx="2567880" cy="2449440"/>
            <a:chOff x="3322800" y="2924280"/>
            <a:chExt cx="2567880" cy="2449440"/>
          </a:xfrm>
        </p:grpSpPr>
        <p:sp>
          <p:nvSpPr>
            <p:cNvPr id="830" name="Line 5"/>
            <p:cNvSpPr/>
            <p:nvPr/>
          </p:nvSpPr>
          <p:spPr>
            <a:xfrm flipH="1">
              <a:off x="4574880" y="2924280"/>
              <a:ext cx="179280" cy="2449440"/>
            </a:xfrm>
            <a:prstGeom prst="line">
              <a:avLst/>
            </a:prstGeom>
            <a:ln w="2844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831" name="Line 6"/>
            <p:cNvSpPr/>
            <p:nvPr/>
          </p:nvSpPr>
          <p:spPr>
            <a:xfrm flipV="1">
              <a:off x="3322800" y="3742920"/>
              <a:ext cx="2319120" cy="1109880"/>
            </a:xfrm>
            <a:prstGeom prst="line">
              <a:avLst/>
            </a:prstGeom>
            <a:ln w="2844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832" name="Line 7"/>
            <p:cNvSpPr/>
            <p:nvPr/>
          </p:nvSpPr>
          <p:spPr>
            <a:xfrm>
              <a:off x="3519360" y="3621240"/>
              <a:ext cx="2371320" cy="1280880"/>
            </a:xfrm>
            <a:prstGeom prst="line">
              <a:avLst/>
            </a:prstGeom>
            <a:ln w="2844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833" name="Line 8"/>
            <p:cNvSpPr/>
            <p:nvPr/>
          </p:nvSpPr>
          <p:spPr>
            <a:xfrm>
              <a:off x="3508200" y="4764240"/>
              <a:ext cx="2133360" cy="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834" name="Line 9"/>
            <p:cNvSpPr/>
            <p:nvPr/>
          </p:nvSpPr>
          <p:spPr>
            <a:xfrm>
              <a:off x="4725720" y="3227400"/>
              <a:ext cx="885600" cy="152388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835" name="Line 10"/>
            <p:cNvSpPr/>
            <p:nvPr/>
          </p:nvSpPr>
          <p:spPr>
            <a:xfrm flipV="1">
              <a:off x="3508200" y="3227040"/>
              <a:ext cx="1218960" cy="153684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3"/>
          <p:cNvSpPr/>
          <p:nvPr/>
        </p:nvSpPr>
        <p:spPr>
          <a:xfrm>
            <a:off x="533520" y="912960"/>
            <a:ext cx="526896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如图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在△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ABC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中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,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∵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BM,CN,AH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分别是△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ABC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的三条角平分且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PD⊥AB,PE⊥BC,PF⊥AC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837" name="Rectangle 4"/>
          <p:cNvSpPr/>
          <p:nvPr/>
        </p:nvSpPr>
        <p:spPr>
          <a:xfrm>
            <a:off x="755640" y="4508640"/>
            <a:ext cx="80946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老师提示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这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</a:rPr>
              <a:t>又是一个证明三条直线交于一点的根据之一这个交点叫做三角形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内心</a:t>
            </a:r>
            <a:r>
              <a:rPr b="1" lang="en-US" sz="24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1" lang="en-US" sz="2400" spc="-1" strike="noStrike">
              <a:solidFill>
                <a:srgbClr val="080808"/>
              </a:solidFill>
              <a:latin typeface="黑体"/>
            </a:endParaRPr>
          </a:p>
        </p:txBody>
      </p:sp>
      <p:grpSp>
        <p:nvGrpSpPr>
          <p:cNvPr id="838" name="Group 5"/>
          <p:cNvGrpSpPr/>
          <p:nvPr/>
        </p:nvGrpSpPr>
        <p:grpSpPr>
          <a:xfrm>
            <a:off x="5556240" y="198360"/>
            <a:ext cx="3112920" cy="2449440"/>
            <a:chOff x="5556240" y="198360"/>
            <a:chExt cx="3112920" cy="2449440"/>
          </a:xfrm>
        </p:grpSpPr>
        <p:grpSp>
          <p:nvGrpSpPr>
            <p:cNvPr id="839" name="Group 6"/>
            <p:cNvGrpSpPr/>
            <p:nvPr/>
          </p:nvGrpSpPr>
          <p:grpSpPr>
            <a:xfrm>
              <a:off x="5556240" y="198360"/>
              <a:ext cx="3112920" cy="2449440"/>
              <a:chOff x="5556240" y="198360"/>
              <a:chExt cx="3112920" cy="2449440"/>
            </a:xfrm>
          </p:grpSpPr>
          <p:grpSp>
            <p:nvGrpSpPr>
              <p:cNvPr id="840" name="Group 7"/>
              <p:cNvGrpSpPr/>
              <p:nvPr/>
            </p:nvGrpSpPr>
            <p:grpSpPr>
              <a:xfrm>
                <a:off x="5981760" y="501120"/>
                <a:ext cx="2133360" cy="1537200"/>
                <a:chOff x="5981760" y="501120"/>
                <a:chExt cx="2133360" cy="1537200"/>
              </a:xfrm>
            </p:grpSpPr>
            <p:sp>
              <p:nvSpPr>
                <p:cNvPr id="841" name="Line 8"/>
                <p:cNvSpPr/>
                <p:nvPr/>
              </p:nvSpPr>
              <p:spPr>
                <a:xfrm>
                  <a:off x="5981760" y="2038320"/>
                  <a:ext cx="2133360" cy="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842" name="Line 9"/>
                <p:cNvSpPr/>
                <p:nvPr/>
              </p:nvSpPr>
              <p:spPr>
                <a:xfrm>
                  <a:off x="7198920" y="501480"/>
                  <a:ext cx="885600" cy="152388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843" name="Line 10"/>
                <p:cNvSpPr/>
                <p:nvPr/>
              </p:nvSpPr>
              <p:spPr>
                <a:xfrm flipV="1">
                  <a:off x="5981760" y="501120"/>
                  <a:ext cx="1218960" cy="153684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</p:grpSp>
          <p:sp>
            <p:nvSpPr>
              <p:cNvPr id="844" name="Text Box 11"/>
              <p:cNvSpPr/>
              <p:nvPr/>
            </p:nvSpPr>
            <p:spPr>
              <a:xfrm>
                <a:off x="6840360" y="19836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b5249"/>
                    </a:solidFill>
                    <a:latin typeface="黑体"/>
                  </a:rPr>
                  <a:t>A</a:t>
                </a:r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845" name="Text Box 12"/>
              <p:cNvSpPr/>
              <p:nvPr/>
            </p:nvSpPr>
            <p:spPr>
              <a:xfrm>
                <a:off x="5556240" y="173340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b5249"/>
                    </a:solidFill>
                    <a:latin typeface="黑体"/>
                  </a:rPr>
                  <a:t>B</a:t>
                </a:r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846" name="Text Box 13"/>
              <p:cNvSpPr/>
              <p:nvPr/>
            </p:nvSpPr>
            <p:spPr>
              <a:xfrm>
                <a:off x="8136000" y="180972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b5249"/>
                    </a:solidFill>
                    <a:latin typeface="黑体"/>
                  </a:rPr>
                  <a:t>C</a:t>
                </a:r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847" name="Text Box 14"/>
              <p:cNvSpPr/>
              <p:nvPr/>
            </p:nvSpPr>
            <p:spPr>
              <a:xfrm>
                <a:off x="6840360" y="100656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P</a:t>
                </a:r>
                <a:endParaRPr b="1" lang="en-US" sz="24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grpSp>
            <p:nvGrpSpPr>
              <p:cNvPr id="848" name="Group 15"/>
              <p:cNvGrpSpPr/>
              <p:nvPr/>
            </p:nvGrpSpPr>
            <p:grpSpPr>
              <a:xfrm>
                <a:off x="5796000" y="198360"/>
                <a:ext cx="2568600" cy="2449440"/>
                <a:chOff x="5796000" y="198360"/>
                <a:chExt cx="2568600" cy="2449440"/>
              </a:xfrm>
            </p:grpSpPr>
            <p:sp>
              <p:nvSpPr>
                <p:cNvPr id="849" name="Line 16"/>
                <p:cNvSpPr/>
                <p:nvPr/>
              </p:nvSpPr>
              <p:spPr>
                <a:xfrm flipH="1">
                  <a:off x="7048080" y="198360"/>
                  <a:ext cx="179640" cy="244944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850" name="Line 17"/>
                <p:cNvSpPr/>
                <p:nvPr/>
              </p:nvSpPr>
              <p:spPr>
                <a:xfrm flipV="1">
                  <a:off x="5796000" y="1017000"/>
                  <a:ext cx="2319480" cy="110988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851" name="Line 18"/>
                <p:cNvSpPr/>
                <p:nvPr/>
              </p:nvSpPr>
              <p:spPr>
                <a:xfrm>
                  <a:off x="5992920" y="895320"/>
                  <a:ext cx="2371680" cy="128088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852" name="Line 19"/>
                <p:cNvSpPr/>
                <p:nvPr/>
              </p:nvSpPr>
              <p:spPr>
                <a:xfrm>
                  <a:off x="5981760" y="2038320"/>
                  <a:ext cx="2133720" cy="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853" name="Line 20"/>
                <p:cNvSpPr/>
                <p:nvPr/>
              </p:nvSpPr>
              <p:spPr>
                <a:xfrm>
                  <a:off x="7199280" y="501480"/>
                  <a:ext cx="885960" cy="152388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854" name="Line 21"/>
                <p:cNvSpPr/>
                <p:nvPr/>
              </p:nvSpPr>
              <p:spPr>
                <a:xfrm flipV="1">
                  <a:off x="5981760" y="501120"/>
                  <a:ext cx="1219320" cy="153684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</p:grpSp>
        </p:grpSp>
        <p:sp>
          <p:nvSpPr>
            <p:cNvPr id="855" name="Text Box 22"/>
            <p:cNvSpPr/>
            <p:nvPr/>
          </p:nvSpPr>
          <p:spPr>
            <a:xfrm>
              <a:off x="7602480" y="731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黑体"/>
                </a:rPr>
                <a:t>M</a:t>
              </a:r>
              <a:endParaRPr b="1" lang="en-US" sz="24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856" name="Text Box 23"/>
            <p:cNvSpPr/>
            <p:nvPr/>
          </p:nvSpPr>
          <p:spPr>
            <a:xfrm>
              <a:off x="6230880" y="7315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b5249"/>
                  </a:solidFill>
                  <a:latin typeface="黑体"/>
                </a:rPr>
                <a:t>N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</p:grpSp>
      <p:grpSp>
        <p:nvGrpSpPr>
          <p:cNvPr id="857" name="Group 24"/>
          <p:cNvGrpSpPr/>
          <p:nvPr/>
        </p:nvGrpSpPr>
        <p:grpSpPr>
          <a:xfrm>
            <a:off x="6451560" y="671400"/>
            <a:ext cx="1633680" cy="1721880"/>
            <a:chOff x="6451560" y="671400"/>
            <a:chExt cx="1633680" cy="1721880"/>
          </a:xfrm>
        </p:grpSpPr>
        <p:grpSp>
          <p:nvGrpSpPr>
            <p:cNvPr id="858" name="Group 25"/>
            <p:cNvGrpSpPr/>
            <p:nvPr/>
          </p:nvGrpSpPr>
          <p:grpSpPr>
            <a:xfrm>
              <a:off x="6670800" y="996840"/>
              <a:ext cx="1025280" cy="1049040"/>
              <a:chOff x="6670800" y="996840"/>
              <a:chExt cx="1025280" cy="1049040"/>
            </a:xfrm>
          </p:grpSpPr>
          <p:sp>
            <p:nvSpPr>
              <p:cNvPr id="859" name="Line 26"/>
              <p:cNvSpPr/>
              <p:nvPr/>
            </p:nvSpPr>
            <p:spPr>
              <a:xfrm flipH="1" flipV="1">
                <a:off x="7098840" y="1468080"/>
                <a:ext cx="3240" cy="577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860" name="Line 27"/>
              <p:cNvSpPr/>
              <p:nvPr/>
            </p:nvSpPr>
            <p:spPr>
              <a:xfrm flipV="1">
                <a:off x="7099200" y="1207440"/>
                <a:ext cx="447840" cy="279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861" name="Line 28"/>
              <p:cNvSpPr/>
              <p:nvPr/>
            </p:nvSpPr>
            <p:spPr>
              <a:xfrm>
                <a:off x="6670800" y="1133280"/>
                <a:ext cx="428400" cy="335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862" name="Line 29"/>
              <p:cNvSpPr/>
              <p:nvPr/>
            </p:nvSpPr>
            <p:spPr>
              <a:xfrm>
                <a:off x="7099200" y="1795320"/>
                <a:ext cx="22392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863" name="Line 30"/>
              <p:cNvSpPr/>
              <p:nvPr/>
            </p:nvSpPr>
            <p:spPr>
              <a:xfrm>
                <a:off x="7342200" y="1800000"/>
                <a:ext cx="0" cy="2239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864" name="Line 31"/>
              <p:cNvSpPr/>
              <p:nvPr/>
            </p:nvSpPr>
            <p:spPr>
              <a:xfrm>
                <a:off x="6745320" y="996840"/>
                <a:ext cx="149040" cy="13176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865" name="Line 32"/>
              <p:cNvSpPr/>
              <p:nvPr/>
            </p:nvSpPr>
            <p:spPr>
              <a:xfrm flipH="1">
                <a:off x="6800760" y="1109520"/>
                <a:ext cx="93600" cy="1303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866" name="Line 33"/>
              <p:cNvSpPr/>
              <p:nvPr/>
            </p:nvSpPr>
            <p:spPr>
              <a:xfrm>
                <a:off x="7397640" y="1314360"/>
                <a:ext cx="130320" cy="1681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867" name="Line 34"/>
              <p:cNvSpPr/>
              <p:nvPr/>
            </p:nvSpPr>
            <p:spPr>
              <a:xfrm flipV="1">
                <a:off x="7527960" y="1369440"/>
                <a:ext cx="168120" cy="1177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</p:grpSp>
        <p:sp>
          <p:nvSpPr>
            <p:cNvPr id="868" name="Text Box 35"/>
            <p:cNvSpPr/>
            <p:nvPr/>
          </p:nvSpPr>
          <p:spPr>
            <a:xfrm>
              <a:off x="6451560" y="67140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D</a:t>
              </a:r>
              <a:endParaRPr b="1" lang="en-US" sz="24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869" name="Text Box 36"/>
            <p:cNvSpPr/>
            <p:nvPr/>
          </p:nvSpPr>
          <p:spPr>
            <a:xfrm>
              <a:off x="6997680" y="193356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E</a:t>
              </a:r>
              <a:endParaRPr b="1" lang="en-US" sz="24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870" name="Text Box 37"/>
            <p:cNvSpPr/>
            <p:nvPr/>
          </p:nvSpPr>
          <p:spPr>
            <a:xfrm>
              <a:off x="7648560" y="103032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F</a:t>
              </a:r>
              <a:endParaRPr b="1" lang="en-US" sz="2400" spc="-1" strike="noStrike">
                <a:solidFill>
                  <a:srgbClr val="080808"/>
                </a:solidFill>
                <a:latin typeface="黑体"/>
              </a:endParaRPr>
            </a:p>
          </p:txBody>
        </p:sp>
      </p:grpSp>
      <p:sp>
        <p:nvSpPr>
          <p:cNvPr id="871" name="Rectangle 38"/>
          <p:cNvSpPr/>
          <p:nvPr/>
        </p:nvSpPr>
        <p:spPr>
          <a:xfrm>
            <a:off x="533520" y="2712960"/>
            <a:ext cx="77976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∴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BM,CN,AH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相交于一点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P,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且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PD=PE=PF(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三角形的三条角平分线相交于一点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并且这一点到三边的距离相等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)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872" name="Text Box 39"/>
          <p:cNvSpPr/>
          <p:nvPr/>
        </p:nvSpPr>
        <p:spPr>
          <a:xfrm>
            <a:off x="7173360" y="2484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H</a:t>
            </a:r>
            <a:endParaRPr b="1" lang="en-US" sz="24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3" name="Group 5"/>
          <p:cNvGrpSpPr/>
          <p:nvPr/>
        </p:nvGrpSpPr>
        <p:grpSpPr>
          <a:xfrm>
            <a:off x="1295280" y="0"/>
            <a:ext cx="3009960" cy="1523520"/>
            <a:chOff x="1295280" y="0"/>
            <a:chExt cx="3009960" cy="1523520"/>
          </a:xfrm>
        </p:grpSpPr>
        <p:pic>
          <p:nvPicPr>
            <p:cNvPr id="874" name="Picture 6" descr="AG00029_"/>
            <p:cNvPicPr/>
            <p:nvPr/>
          </p:nvPicPr>
          <p:blipFill>
            <a:blip r:embed="rId1"/>
            <a:stretch/>
          </p:blipFill>
          <p:spPr>
            <a:xfrm>
              <a:off x="2590920" y="87480"/>
              <a:ext cx="1714320" cy="136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5" name="Group 7"/>
            <p:cNvGrpSpPr/>
            <p:nvPr/>
          </p:nvGrpSpPr>
          <p:grpSpPr>
            <a:xfrm>
              <a:off x="1295280" y="0"/>
              <a:ext cx="1295640" cy="1523520"/>
              <a:chOff x="1295280" y="0"/>
              <a:chExt cx="1295640" cy="1523520"/>
            </a:xfrm>
          </p:grpSpPr>
          <p:sp>
            <p:nvSpPr>
              <p:cNvPr id="876" name="AutoShape 8"/>
              <p:cNvSpPr/>
              <p:nvPr/>
            </p:nvSpPr>
            <p:spPr>
              <a:xfrm>
                <a:off x="1295280" y="0"/>
                <a:ext cx="1266120" cy="152352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877" name="Text Box 9"/>
              <p:cNvSpPr/>
              <p:nvPr/>
            </p:nvSpPr>
            <p:spPr>
              <a:xfrm>
                <a:off x="1309320" y="57240"/>
                <a:ext cx="1281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</p:grpSp>
        <p:sp>
          <p:nvSpPr>
            <p:cNvPr id="878" name="Text Box 10"/>
            <p:cNvSpPr/>
            <p:nvPr/>
          </p:nvSpPr>
          <p:spPr>
            <a:xfrm>
              <a:off x="1447920" y="182520"/>
              <a:ext cx="10666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独立</a:t>
              </a:r>
              <a:endParaRPr b="1" lang="en-US" sz="3200" spc="-1" strike="noStrike">
                <a:solidFill>
                  <a:srgbClr val="080808"/>
                </a:solidFill>
                <a:latin typeface="黑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作业</a:t>
              </a:r>
              <a:endParaRPr b="1" lang="en-US" sz="3200" spc="-1" strike="noStrike">
                <a:solidFill>
                  <a:srgbClr val="080808"/>
                </a:solidFill>
                <a:latin typeface="黑体"/>
              </a:endParaRPr>
            </a:p>
          </p:txBody>
        </p:sp>
      </p:grpSp>
      <p:sp>
        <p:nvSpPr>
          <p:cNvPr id="879" name="Rectangle 11"/>
          <p:cNvSpPr/>
          <p:nvPr/>
        </p:nvSpPr>
        <p:spPr>
          <a:xfrm>
            <a:off x="1295280" y="18288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复习题 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4,6,7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题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.</a:t>
            </a:r>
            <a:endParaRPr b="1" lang="en-US" sz="4800" spc="-1" strike="noStrike">
              <a:solidFill>
                <a:srgbClr val="080808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80808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祝你成功！</a:t>
            </a:r>
            <a:endParaRPr b="1" lang="en-US" sz="60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2050920" y="686880"/>
            <a:ext cx="502920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结束寄语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1042560" y="1884240"/>
            <a:ext cx="7777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严格性之于数学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犹如道德之于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证明的规范性在于：条理清晰，因果相应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言必有据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是初学证明者谨记和遵循的原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685800" y="696960"/>
            <a:ext cx="7848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定理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角平分线上的点到这个角的两边距离相等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  <a:p>
            <a:pPr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684360" y="42210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老师提示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这个结论是经常用来证明两条线段相等的根据之一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631800" y="1558800"/>
            <a:ext cx="487692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如图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,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∵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OC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是∠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AOB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的平分线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,P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是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OC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上任意一点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,PD⊥OA,PE⊥OB,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垂足分别是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D,E(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已知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∴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PD=PE(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角平分线上的点到这个角的两边距离相等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)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grpSp>
        <p:nvGrpSpPr>
          <p:cNvPr id="554" name="Group 5"/>
          <p:cNvGrpSpPr/>
          <p:nvPr/>
        </p:nvGrpSpPr>
        <p:grpSpPr>
          <a:xfrm>
            <a:off x="5599080" y="1413000"/>
            <a:ext cx="2886120" cy="2958840"/>
            <a:chOff x="5599080" y="1413000"/>
            <a:chExt cx="2886120" cy="2958840"/>
          </a:xfrm>
        </p:grpSpPr>
        <p:sp>
          <p:nvSpPr>
            <p:cNvPr id="555" name="Line 6"/>
            <p:cNvSpPr/>
            <p:nvPr/>
          </p:nvSpPr>
          <p:spPr>
            <a:xfrm flipH="1" flipV="1">
              <a:off x="7056000" y="2177640"/>
              <a:ext cx="438120" cy="68220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56" name="Line 7"/>
            <p:cNvSpPr/>
            <p:nvPr/>
          </p:nvSpPr>
          <p:spPr>
            <a:xfrm>
              <a:off x="6859440" y="2307960"/>
              <a:ext cx="111240" cy="1681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57" name="Line 8"/>
            <p:cNvSpPr/>
            <p:nvPr/>
          </p:nvSpPr>
          <p:spPr>
            <a:xfrm flipV="1">
              <a:off x="6956280" y="2327040"/>
              <a:ext cx="209520" cy="14904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58" name="Text Box 9"/>
            <p:cNvSpPr/>
            <p:nvPr/>
          </p:nvSpPr>
          <p:spPr>
            <a:xfrm>
              <a:off x="8028000" y="27842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C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59" name="Text Box 10"/>
            <p:cNvSpPr/>
            <p:nvPr/>
          </p:nvSpPr>
          <p:spPr>
            <a:xfrm>
              <a:off x="7342200" y="3851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B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60" name="Text Box 11"/>
            <p:cNvSpPr/>
            <p:nvPr/>
          </p:nvSpPr>
          <p:spPr>
            <a:xfrm>
              <a:off x="6427800" y="2479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1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61" name="Text Box 12"/>
            <p:cNvSpPr/>
            <p:nvPr/>
          </p:nvSpPr>
          <p:spPr>
            <a:xfrm>
              <a:off x="7331040" y="14130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A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62" name="Line 13"/>
            <p:cNvSpPr/>
            <p:nvPr/>
          </p:nvSpPr>
          <p:spPr>
            <a:xfrm>
              <a:off x="5970600" y="2860560"/>
              <a:ext cx="2133720" cy="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63" name="Line 14"/>
            <p:cNvSpPr/>
            <p:nvPr/>
          </p:nvSpPr>
          <p:spPr>
            <a:xfrm flipH="1">
              <a:off x="5970600" y="1869840"/>
              <a:ext cx="1589040" cy="99036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64" name="Line 15"/>
            <p:cNvSpPr/>
            <p:nvPr/>
          </p:nvSpPr>
          <p:spPr>
            <a:xfrm flipH="1" flipV="1">
              <a:off x="5981760" y="2860200"/>
              <a:ext cx="1589040" cy="99036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65" name="Arc 16"/>
            <p:cNvSpPr/>
            <p:nvPr/>
          </p:nvSpPr>
          <p:spPr>
            <a:xfrm>
              <a:off x="6351480" y="2631960"/>
              <a:ext cx="150840" cy="228240"/>
            </a:xfrm>
            <a:prstGeom prst="pie">
              <a:avLst/>
            </a:prstGeom>
            <a:noFill/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66" name="Arc 17"/>
            <p:cNvSpPr/>
            <p:nvPr/>
          </p:nvSpPr>
          <p:spPr>
            <a:xfrm>
              <a:off x="6275520" y="2860560"/>
              <a:ext cx="75960" cy="196560"/>
            </a:xfrm>
            <a:prstGeom prst="pie">
              <a:avLst/>
            </a:prstGeom>
            <a:noFill/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67" name="Text Box 18"/>
            <p:cNvSpPr/>
            <p:nvPr/>
          </p:nvSpPr>
          <p:spPr>
            <a:xfrm>
              <a:off x="6427800" y="27842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2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68" name="Text Box 19"/>
            <p:cNvSpPr/>
            <p:nvPr/>
          </p:nvSpPr>
          <p:spPr>
            <a:xfrm>
              <a:off x="7491240" y="24476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P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69" name="Line 20"/>
            <p:cNvSpPr/>
            <p:nvPr/>
          </p:nvSpPr>
          <p:spPr>
            <a:xfrm flipH="1">
              <a:off x="7052760" y="2863800"/>
              <a:ext cx="438120" cy="68220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70" name="Line 21"/>
            <p:cNvSpPr/>
            <p:nvPr/>
          </p:nvSpPr>
          <p:spPr>
            <a:xfrm flipV="1">
              <a:off x="6870600" y="3272760"/>
              <a:ext cx="111240" cy="1681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71" name="Line 22"/>
            <p:cNvSpPr/>
            <p:nvPr/>
          </p:nvSpPr>
          <p:spPr>
            <a:xfrm>
              <a:off x="6967440" y="3249360"/>
              <a:ext cx="209520" cy="14904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72" name="Text Box 23"/>
            <p:cNvSpPr/>
            <p:nvPr/>
          </p:nvSpPr>
          <p:spPr>
            <a:xfrm>
              <a:off x="6767640" y="1793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D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73" name="Text Box 24"/>
            <p:cNvSpPr/>
            <p:nvPr/>
          </p:nvSpPr>
          <p:spPr>
            <a:xfrm>
              <a:off x="6770520" y="34700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E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74" name="Text Box 25"/>
            <p:cNvSpPr/>
            <p:nvPr/>
          </p:nvSpPr>
          <p:spPr>
            <a:xfrm>
              <a:off x="5599080" y="255888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O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2"/>
          <p:cNvSpPr/>
          <p:nvPr/>
        </p:nvSpPr>
        <p:spPr>
          <a:xfrm>
            <a:off x="503280" y="647640"/>
            <a:ext cx="8031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逆定理 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在一个角的内部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且到角的两边距离               相等的点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在这个角的平分线上</a:t>
            </a:r>
            <a:r>
              <a:rPr b="1" lang="en-US" sz="2800" spc="-1" strike="noStrike">
                <a:solidFill>
                  <a:srgbClr val="5b5249"/>
                </a:solidFill>
                <a:latin typeface="黑体"/>
              </a:rPr>
              <a:t>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762120" y="1579680"/>
            <a:ext cx="54892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如图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,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∵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PD=PE, PD⊥OA,PE⊥OB,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垂足分别是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D,E(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已知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),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∴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点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P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在∠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AOB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的平分线上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.(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在一个角的内部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且到角的两边距离相等的点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在这个角的平分线上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)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762120" y="4094280"/>
            <a:ext cx="77724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老师提示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这个结论又是经常用来证明点在直线上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或直线经过某一点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111111"/>
                </a:solidFill>
                <a:latin typeface="黑体"/>
              </a:rPr>
              <a:t>的根据之一</a:t>
            </a:r>
            <a:r>
              <a:rPr b="1" lang="en-US" sz="2800" spc="-1" strike="noStrike">
                <a:solidFill>
                  <a:srgbClr val="111111"/>
                </a:solidFill>
                <a:latin typeface="黑体"/>
              </a:rPr>
              <a:t>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grpSp>
        <p:nvGrpSpPr>
          <p:cNvPr id="578" name="Group 5"/>
          <p:cNvGrpSpPr/>
          <p:nvPr/>
        </p:nvGrpSpPr>
        <p:grpSpPr>
          <a:xfrm>
            <a:off x="5770440" y="1386000"/>
            <a:ext cx="2886120" cy="2958840"/>
            <a:chOff x="5770440" y="1386000"/>
            <a:chExt cx="2886120" cy="2958840"/>
          </a:xfrm>
        </p:grpSpPr>
        <p:sp>
          <p:nvSpPr>
            <p:cNvPr id="579" name="Line 6"/>
            <p:cNvSpPr/>
            <p:nvPr/>
          </p:nvSpPr>
          <p:spPr>
            <a:xfrm flipH="1" flipV="1">
              <a:off x="7227360" y="2150640"/>
              <a:ext cx="438120" cy="68220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80" name="Line 7"/>
            <p:cNvSpPr/>
            <p:nvPr/>
          </p:nvSpPr>
          <p:spPr>
            <a:xfrm>
              <a:off x="7030800" y="2280960"/>
              <a:ext cx="111240" cy="1681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81" name="Line 8"/>
            <p:cNvSpPr/>
            <p:nvPr/>
          </p:nvSpPr>
          <p:spPr>
            <a:xfrm flipV="1">
              <a:off x="7127640" y="2300040"/>
              <a:ext cx="209520" cy="14904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82" name="Text Box 9"/>
            <p:cNvSpPr/>
            <p:nvPr/>
          </p:nvSpPr>
          <p:spPr>
            <a:xfrm>
              <a:off x="8199360" y="27572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C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83" name="Text Box 10"/>
            <p:cNvSpPr/>
            <p:nvPr/>
          </p:nvSpPr>
          <p:spPr>
            <a:xfrm>
              <a:off x="7513560" y="38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B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84" name="Text Box 11"/>
            <p:cNvSpPr/>
            <p:nvPr/>
          </p:nvSpPr>
          <p:spPr>
            <a:xfrm>
              <a:off x="6599160" y="2452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1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85" name="Text Box 12"/>
            <p:cNvSpPr/>
            <p:nvPr/>
          </p:nvSpPr>
          <p:spPr>
            <a:xfrm>
              <a:off x="7502400" y="13860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A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86" name="Line 13"/>
            <p:cNvSpPr/>
            <p:nvPr/>
          </p:nvSpPr>
          <p:spPr>
            <a:xfrm>
              <a:off x="6141960" y="2833560"/>
              <a:ext cx="2133720" cy="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87" name="Line 14"/>
            <p:cNvSpPr/>
            <p:nvPr/>
          </p:nvSpPr>
          <p:spPr>
            <a:xfrm flipH="1">
              <a:off x="6141960" y="1842840"/>
              <a:ext cx="1589040" cy="99036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88" name="Line 15"/>
            <p:cNvSpPr/>
            <p:nvPr/>
          </p:nvSpPr>
          <p:spPr>
            <a:xfrm flipH="1" flipV="1">
              <a:off x="6153120" y="2833200"/>
              <a:ext cx="1589040" cy="99036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89" name="Arc 16"/>
            <p:cNvSpPr/>
            <p:nvPr/>
          </p:nvSpPr>
          <p:spPr>
            <a:xfrm>
              <a:off x="6522840" y="2604960"/>
              <a:ext cx="150840" cy="228240"/>
            </a:xfrm>
            <a:prstGeom prst="pie">
              <a:avLst/>
            </a:prstGeom>
            <a:noFill/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90" name="Arc 17"/>
            <p:cNvSpPr/>
            <p:nvPr/>
          </p:nvSpPr>
          <p:spPr>
            <a:xfrm>
              <a:off x="6446880" y="2833560"/>
              <a:ext cx="75960" cy="196560"/>
            </a:xfrm>
            <a:prstGeom prst="pie">
              <a:avLst/>
            </a:prstGeom>
            <a:noFill/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91" name="Text Box 18"/>
            <p:cNvSpPr/>
            <p:nvPr/>
          </p:nvSpPr>
          <p:spPr>
            <a:xfrm>
              <a:off x="6599160" y="27572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2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92" name="Text Box 19"/>
            <p:cNvSpPr/>
            <p:nvPr/>
          </p:nvSpPr>
          <p:spPr>
            <a:xfrm>
              <a:off x="7662600" y="24206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P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93" name="Line 20"/>
            <p:cNvSpPr/>
            <p:nvPr/>
          </p:nvSpPr>
          <p:spPr>
            <a:xfrm flipH="1">
              <a:off x="7224120" y="2836800"/>
              <a:ext cx="438120" cy="68220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94" name="Line 21"/>
            <p:cNvSpPr/>
            <p:nvPr/>
          </p:nvSpPr>
          <p:spPr>
            <a:xfrm flipV="1">
              <a:off x="7041960" y="3245760"/>
              <a:ext cx="111240" cy="1681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95" name="Line 22"/>
            <p:cNvSpPr/>
            <p:nvPr/>
          </p:nvSpPr>
          <p:spPr>
            <a:xfrm>
              <a:off x="7138800" y="3222360"/>
              <a:ext cx="209520" cy="14904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96" name="Text Box 23"/>
            <p:cNvSpPr/>
            <p:nvPr/>
          </p:nvSpPr>
          <p:spPr>
            <a:xfrm>
              <a:off x="6939000" y="1766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D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97" name="Text Box 24"/>
            <p:cNvSpPr/>
            <p:nvPr/>
          </p:nvSpPr>
          <p:spPr>
            <a:xfrm>
              <a:off x="6941880" y="34430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E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598" name="Text Box 25"/>
            <p:cNvSpPr/>
            <p:nvPr/>
          </p:nvSpPr>
          <p:spPr>
            <a:xfrm>
              <a:off x="5770440" y="253188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1111"/>
                  </a:solidFill>
                  <a:latin typeface="黑体"/>
                </a:rPr>
                <a:t>O</a:t>
              </a:r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857160" y="1500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  <a:ea typeface="黑体"/>
              </a:rPr>
              <a:t>         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二  探究新知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6"/>
          <p:cNvSpPr/>
          <p:nvPr/>
        </p:nvSpPr>
        <p:spPr>
          <a:xfrm>
            <a:off x="652320" y="901800"/>
            <a:ext cx="52279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剪一个三角形纸片通过折叠找出每个角的平分线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601" name="Rectangle 179"/>
          <p:cNvSpPr/>
          <p:nvPr/>
        </p:nvSpPr>
        <p:spPr>
          <a:xfrm>
            <a:off x="762120" y="3254400"/>
            <a:ext cx="77706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结论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三角形三个角的平分线相交于一点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602" name="Rectangle 182"/>
          <p:cNvSpPr/>
          <p:nvPr/>
        </p:nvSpPr>
        <p:spPr>
          <a:xfrm>
            <a:off x="652320" y="4657680"/>
            <a:ext cx="77709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  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603" name="Rectangle 184"/>
          <p:cNvSpPr/>
          <p:nvPr/>
        </p:nvSpPr>
        <p:spPr>
          <a:xfrm>
            <a:off x="401760" y="4005360"/>
            <a:ext cx="5292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你想证明这个命题吗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?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604" name="Rectangle 190"/>
          <p:cNvSpPr/>
          <p:nvPr/>
        </p:nvSpPr>
        <p:spPr>
          <a:xfrm>
            <a:off x="652320" y="2108160"/>
            <a:ext cx="504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观察这三条角平分线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你发现了什么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?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grpSp>
        <p:nvGrpSpPr>
          <p:cNvPr id="605" name="Group 212"/>
          <p:cNvGrpSpPr/>
          <p:nvPr/>
        </p:nvGrpSpPr>
        <p:grpSpPr>
          <a:xfrm>
            <a:off x="5694480" y="638280"/>
            <a:ext cx="2568600" cy="2449440"/>
            <a:chOff x="5694480" y="638280"/>
            <a:chExt cx="2568600" cy="2449440"/>
          </a:xfrm>
        </p:grpSpPr>
        <p:sp>
          <p:nvSpPr>
            <p:cNvPr id="606" name="Line 213"/>
            <p:cNvSpPr/>
            <p:nvPr/>
          </p:nvSpPr>
          <p:spPr>
            <a:xfrm flipH="1">
              <a:off x="6946560" y="638280"/>
              <a:ext cx="179640" cy="2449440"/>
            </a:xfrm>
            <a:prstGeom prst="line">
              <a:avLst/>
            </a:prstGeom>
            <a:ln w="2844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607" name="Line 214"/>
            <p:cNvSpPr/>
            <p:nvPr/>
          </p:nvSpPr>
          <p:spPr>
            <a:xfrm flipV="1">
              <a:off x="5694480" y="1456920"/>
              <a:ext cx="2319480" cy="1109880"/>
            </a:xfrm>
            <a:prstGeom prst="line">
              <a:avLst/>
            </a:prstGeom>
            <a:ln w="2844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608" name="Line 215"/>
            <p:cNvSpPr/>
            <p:nvPr/>
          </p:nvSpPr>
          <p:spPr>
            <a:xfrm>
              <a:off x="5891400" y="1335240"/>
              <a:ext cx="2371680" cy="1280880"/>
            </a:xfrm>
            <a:prstGeom prst="line">
              <a:avLst/>
            </a:prstGeom>
            <a:ln w="2844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609" name="Line 216"/>
            <p:cNvSpPr/>
            <p:nvPr/>
          </p:nvSpPr>
          <p:spPr>
            <a:xfrm>
              <a:off x="5880240" y="2478240"/>
              <a:ext cx="2133720" cy="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610" name="Line 217"/>
            <p:cNvSpPr/>
            <p:nvPr/>
          </p:nvSpPr>
          <p:spPr>
            <a:xfrm>
              <a:off x="7097760" y="941400"/>
              <a:ext cx="885960" cy="152388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611" name="Line 218"/>
            <p:cNvSpPr/>
            <p:nvPr/>
          </p:nvSpPr>
          <p:spPr>
            <a:xfrm flipV="1">
              <a:off x="5880240" y="941040"/>
              <a:ext cx="1219320" cy="153684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</p:grpSp>
      <p:sp>
        <p:nvSpPr>
          <p:cNvPr id="612" name="Rectangle 220"/>
          <p:cNvSpPr/>
          <p:nvPr/>
        </p:nvSpPr>
        <p:spPr>
          <a:xfrm>
            <a:off x="1861920" y="4657680"/>
            <a:ext cx="25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你能证明这个命题吗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?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10"/>
          <p:cNvSpPr/>
          <p:nvPr/>
        </p:nvSpPr>
        <p:spPr>
          <a:xfrm>
            <a:off x="539640" y="730080"/>
            <a:ext cx="468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利用尺规作出三角形三个角的角平分线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614" name="Rectangle 11"/>
          <p:cNvSpPr/>
          <p:nvPr/>
        </p:nvSpPr>
        <p:spPr>
          <a:xfrm>
            <a:off x="652320" y="3179880"/>
            <a:ext cx="756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结论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三角形三个角的角平分线相交于一点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615" name="Rectangle 12"/>
          <p:cNvSpPr/>
          <p:nvPr/>
        </p:nvSpPr>
        <p:spPr>
          <a:xfrm>
            <a:off x="971640" y="4653000"/>
            <a:ext cx="75042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老师期望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你能写出规范的证明过程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616" name="Rectangle 13"/>
          <p:cNvSpPr/>
          <p:nvPr/>
        </p:nvSpPr>
        <p:spPr>
          <a:xfrm>
            <a:off x="652320" y="4022640"/>
            <a:ext cx="76978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你想证明这个命题吗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?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你能证明这个命题吗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?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617" name="Rectangle 20"/>
          <p:cNvSpPr/>
          <p:nvPr/>
        </p:nvSpPr>
        <p:spPr>
          <a:xfrm>
            <a:off x="539640" y="1978200"/>
            <a:ext cx="48769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再观察这三条角平分线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你又发现了什么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?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与同伴交流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grpSp>
        <p:nvGrpSpPr>
          <p:cNvPr id="618" name="Group 39"/>
          <p:cNvGrpSpPr/>
          <p:nvPr/>
        </p:nvGrpSpPr>
        <p:grpSpPr>
          <a:xfrm>
            <a:off x="5648400" y="730080"/>
            <a:ext cx="2568600" cy="2449440"/>
            <a:chOff x="5648400" y="730080"/>
            <a:chExt cx="2568600" cy="2449440"/>
          </a:xfrm>
        </p:grpSpPr>
        <p:sp>
          <p:nvSpPr>
            <p:cNvPr id="619" name="Line 40"/>
            <p:cNvSpPr/>
            <p:nvPr/>
          </p:nvSpPr>
          <p:spPr>
            <a:xfrm flipH="1">
              <a:off x="6900480" y="730080"/>
              <a:ext cx="179640" cy="2449440"/>
            </a:xfrm>
            <a:prstGeom prst="line">
              <a:avLst/>
            </a:prstGeom>
            <a:ln w="2844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620" name="Line 41"/>
            <p:cNvSpPr/>
            <p:nvPr/>
          </p:nvSpPr>
          <p:spPr>
            <a:xfrm flipV="1">
              <a:off x="5648400" y="1548720"/>
              <a:ext cx="2319480" cy="1109880"/>
            </a:xfrm>
            <a:prstGeom prst="line">
              <a:avLst/>
            </a:prstGeom>
            <a:ln w="2844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621" name="Line 42"/>
            <p:cNvSpPr/>
            <p:nvPr/>
          </p:nvSpPr>
          <p:spPr>
            <a:xfrm>
              <a:off x="5845320" y="1427040"/>
              <a:ext cx="2371680" cy="1280880"/>
            </a:xfrm>
            <a:prstGeom prst="line">
              <a:avLst/>
            </a:prstGeom>
            <a:ln w="2844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622" name="Line 43"/>
            <p:cNvSpPr/>
            <p:nvPr/>
          </p:nvSpPr>
          <p:spPr>
            <a:xfrm>
              <a:off x="5834160" y="2570040"/>
              <a:ext cx="2133720" cy="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623" name="Line 44"/>
            <p:cNvSpPr/>
            <p:nvPr/>
          </p:nvSpPr>
          <p:spPr>
            <a:xfrm>
              <a:off x="7051680" y="1033200"/>
              <a:ext cx="885960" cy="152388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624" name="Line 45"/>
            <p:cNvSpPr/>
            <p:nvPr/>
          </p:nvSpPr>
          <p:spPr>
            <a:xfrm flipV="1">
              <a:off x="5834160" y="1032840"/>
              <a:ext cx="1219320" cy="153684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80808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Group 1122"/>
          <p:cNvGrpSpPr/>
          <p:nvPr/>
        </p:nvGrpSpPr>
        <p:grpSpPr>
          <a:xfrm>
            <a:off x="634680" y="431640"/>
            <a:ext cx="2717640" cy="2059920"/>
            <a:chOff x="634680" y="431640"/>
            <a:chExt cx="2717640" cy="2059920"/>
          </a:xfrm>
        </p:grpSpPr>
        <p:grpSp>
          <p:nvGrpSpPr>
            <p:cNvPr id="626" name="Group 1123"/>
            <p:cNvGrpSpPr/>
            <p:nvPr/>
          </p:nvGrpSpPr>
          <p:grpSpPr>
            <a:xfrm>
              <a:off x="634680" y="431640"/>
              <a:ext cx="2717640" cy="2059920"/>
              <a:chOff x="634680" y="431640"/>
              <a:chExt cx="2717640" cy="2059920"/>
            </a:xfrm>
          </p:grpSpPr>
          <p:grpSp>
            <p:nvGrpSpPr>
              <p:cNvPr id="627" name="Group 1124"/>
              <p:cNvGrpSpPr/>
              <p:nvPr/>
            </p:nvGrpSpPr>
            <p:grpSpPr>
              <a:xfrm>
                <a:off x="723960" y="431640"/>
                <a:ext cx="1218960" cy="2059920"/>
                <a:chOff x="723960" y="431640"/>
                <a:chExt cx="1218960" cy="2059920"/>
              </a:xfrm>
            </p:grpSpPr>
            <p:sp>
              <p:nvSpPr>
                <p:cNvPr id="628" name="AutoShape 1125"/>
                <p:cNvSpPr/>
                <p:nvPr/>
              </p:nvSpPr>
              <p:spPr>
                <a:xfrm>
                  <a:off x="723960" y="431640"/>
                  <a:ext cx="1191240" cy="2059920"/>
                </a:xfrm>
                <a:prstGeom prst="horizontalScroll">
                  <a:avLst>
                    <a:gd name="adj" fmla="val 12500"/>
                  </a:avLst>
                </a:prstGeom>
                <a:blipFill rotWithShape="0">
                  <a:blip r:embed="rId1"/>
                  <a:srcRect/>
                  <a:stretch/>
                </a:blip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629" name="Text Box 1126"/>
                <p:cNvSpPr/>
                <p:nvPr/>
              </p:nvSpPr>
              <p:spPr>
                <a:xfrm>
                  <a:off x="738000" y="611280"/>
                  <a:ext cx="1204920" cy="58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</p:grpSp>
          <p:sp>
            <p:nvSpPr>
              <p:cNvPr id="630" name="Text Box 1127"/>
              <p:cNvSpPr/>
              <p:nvPr/>
            </p:nvSpPr>
            <p:spPr>
              <a:xfrm>
                <a:off x="634680" y="587160"/>
                <a:ext cx="1155240" cy="175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思考分析</a:t>
                </a:r>
                <a:endParaRPr b="1" lang="en-US" sz="32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pic>
            <p:nvPicPr>
              <p:cNvPr id="631" name="Picture 1128" descr="ry03tzf4[1]"/>
              <p:cNvPicPr/>
              <p:nvPr/>
            </p:nvPicPr>
            <p:blipFill>
              <a:blip r:embed="rId2"/>
              <a:stretch/>
            </p:blipFill>
            <p:spPr>
              <a:xfrm>
                <a:off x="1942920" y="510840"/>
                <a:ext cx="1409400" cy="1809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32" name="Picture 1129" descr="Q_011"/>
            <p:cNvPicPr/>
            <p:nvPr/>
          </p:nvPicPr>
          <p:blipFill>
            <a:blip r:embed="rId3"/>
            <a:stretch/>
          </p:blipFill>
          <p:spPr>
            <a:xfrm>
              <a:off x="2286000" y="660240"/>
              <a:ext cx="326880" cy="3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Rectangle 1130"/>
          <p:cNvSpPr/>
          <p:nvPr/>
        </p:nvSpPr>
        <p:spPr>
          <a:xfrm>
            <a:off x="876240" y="2492280"/>
            <a:ext cx="751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命题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三角形三个角的平分线相交于一点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634" name="Rectangle 1131"/>
          <p:cNvSpPr/>
          <p:nvPr/>
        </p:nvSpPr>
        <p:spPr>
          <a:xfrm>
            <a:off x="723960" y="3213000"/>
            <a:ext cx="78804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基本思路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我们知道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两条直线相交只有一个交点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.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要想证明三条直线相交于一点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只要能证明两条直线的交点在第三条直线上即可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.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这时可以考   虑前面刚刚学到的逆定理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635" name="Rectangle 1236"/>
          <p:cNvSpPr/>
          <p:nvPr/>
        </p:nvSpPr>
        <p:spPr>
          <a:xfrm>
            <a:off x="3352680" y="925560"/>
            <a:ext cx="467532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636" name="Rectangle 1237"/>
          <p:cNvSpPr/>
          <p:nvPr/>
        </p:nvSpPr>
        <p:spPr>
          <a:xfrm>
            <a:off x="3352680" y="932040"/>
            <a:ext cx="525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如何证三条直线交于一点？</a:t>
            </a:r>
            <a:endParaRPr b="1" lang="en-US" sz="32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4"/>
          <p:cNvGrpSpPr/>
          <p:nvPr/>
        </p:nvGrpSpPr>
        <p:grpSpPr>
          <a:xfrm>
            <a:off x="5722920" y="1509840"/>
            <a:ext cx="3112920" cy="2449440"/>
            <a:chOff x="5722920" y="1509840"/>
            <a:chExt cx="3112920" cy="2449440"/>
          </a:xfrm>
        </p:grpSpPr>
        <p:grpSp>
          <p:nvGrpSpPr>
            <p:cNvPr id="638" name="Group 5"/>
            <p:cNvGrpSpPr/>
            <p:nvPr/>
          </p:nvGrpSpPr>
          <p:grpSpPr>
            <a:xfrm>
              <a:off x="5722920" y="1509840"/>
              <a:ext cx="3112920" cy="2449440"/>
              <a:chOff x="5722920" y="1509840"/>
              <a:chExt cx="3112920" cy="2449440"/>
            </a:xfrm>
          </p:grpSpPr>
          <p:grpSp>
            <p:nvGrpSpPr>
              <p:cNvPr id="639" name="Group 6"/>
              <p:cNvGrpSpPr/>
              <p:nvPr/>
            </p:nvGrpSpPr>
            <p:grpSpPr>
              <a:xfrm>
                <a:off x="6148440" y="1812600"/>
                <a:ext cx="2133360" cy="1537200"/>
                <a:chOff x="6148440" y="1812600"/>
                <a:chExt cx="2133360" cy="1537200"/>
              </a:xfrm>
            </p:grpSpPr>
            <p:sp>
              <p:nvSpPr>
                <p:cNvPr id="640" name="Line 7"/>
                <p:cNvSpPr/>
                <p:nvPr/>
              </p:nvSpPr>
              <p:spPr>
                <a:xfrm>
                  <a:off x="6148440" y="3349800"/>
                  <a:ext cx="2133360" cy="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641" name="Line 8"/>
                <p:cNvSpPr/>
                <p:nvPr/>
              </p:nvSpPr>
              <p:spPr>
                <a:xfrm>
                  <a:off x="7365600" y="1812960"/>
                  <a:ext cx="885600" cy="152388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642" name="Line 9"/>
                <p:cNvSpPr/>
                <p:nvPr/>
              </p:nvSpPr>
              <p:spPr>
                <a:xfrm flipV="1">
                  <a:off x="6148440" y="1812600"/>
                  <a:ext cx="1218960" cy="153684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</p:grpSp>
          <p:sp>
            <p:nvSpPr>
              <p:cNvPr id="643" name="Text Box 10"/>
              <p:cNvSpPr/>
              <p:nvPr/>
            </p:nvSpPr>
            <p:spPr>
              <a:xfrm>
                <a:off x="7007040" y="150984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644" name="Text Box 11"/>
              <p:cNvSpPr/>
              <p:nvPr/>
            </p:nvSpPr>
            <p:spPr>
              <a:xfrm>
                <a:off x="5722920" y="3044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645" name="Text Box 12"/>
              <p:cNvSpPr/>
              <p:nvPr/>
            </p:nvSpPr>
            <p:spPr>
              <a:xfrm>
                <a:off x="8302680" y="31212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646" name="Text Box 13"/>
              <p:cNvSpPr/>
              <p:nvPr/>
            </p:nvSpPr>
            <p:spPr>
              <a:xfrm>
                <a:off x="7007040" y="231804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  <a:ea typeface="宋体"/>
                  </a:rPr>
                  <a:t>P</a:t>
                </a:r>
                <a:endParaRPr b="1" lang="en-US" sz="24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grpSp>
            <p:nvGrpSpPr>
              <p:cNvPr id="647" name="Group 14"/>
              <p:cNvGrpSpPr/>
              <p:nvPr/>
            </p:nvGrpSpPr>
            <p:grpSpPr>
              <a:xfrm>
                <a:off x="5962680" y="1509840"/>
                <a:ext cx="2568600" cy="2449440"/>
                <a:chOff x="5962680" y="1509840"/>
                <a:chExt cx="2568600" cy="2449440"/>
              </a:xfrm>
            </p:grpSpPr>
            <p:sp>
              <p:nvSpPr>
                <p:cNvPr id="648" name="Line 15"/>
                <p:cNvSpPr/>
                <p:nvPr/>
              </p:nvSpPr>
              <p:spPr>
                <a:xfrm flipH="1">
                  <a:off x="7214760" y="1509840"/>
                  <a:ext cx="179640" cy="244944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649" name="Line 16"/>
                <p:cNvSpPr/>
                <p:nvPr/>
              </p:nvSpPr>
              <p:spPr>
                <a:xfrm flipV="1">
                  <a:off x="5962680" y="2328480"/>
                  <a:ext cx="2319480" cy="110988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650" name="Line 17"/>
                <p:cNvSpPr/>
                <p:nvPr/>
              </p:nvSpPr>
              <p:spPr>
                <a:xfrm>
                  <a:off x="6159600" y="2206800"/>
                  <a:ext cx="2371680" cy="128088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651" name="Line 18"/>
                <p:cNvSpPr/>
                <p:nvPr/>
              </p:nvSpPr>
              <p:spPr>
                <a:xfrm>
                  <a:off x="6148440" y="3349800"/>
                  <a:ext cx="2133720" cy="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652" name="Line 19"/>
                <p:cNvSpPr/>
                <p:nvPr/>
              </p:nvSpPr>
              <p:spPr>
                <a:xfrm>
                  <a:off x="7365960" y="1812960"/>
                  <a:ext cx="885960" cy="152388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  <p:sp>
              <p:nvSpPr>
                <p:cNvPr id="653" name="Line 20"/>
                <p:cNvSpPr/>
                <p:nvPr/>
              </p:nvSpPr>
              <p:spPr>
                <a:xfrm flipV="1">
                  <a:off x="6148440" y="1812600"/>
                  <a:ext cx="1219320" cy="153684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80808"/>
                    </a:solidFill>
                    <a:latin typeface="黑体"/>
                  </a:endParaRPr>
                </a:p>
              </p:txBody>
            </p:sp>
          </p:grpSp>
        </p:grpSp>
        <p:sp>
          <p:nvSpPr>
            <p:cNvPr id="654" name="Text Box 21"/>
            <p:cNvSpPr/>
            <p:nvPr/>
          </p:nvSpPr>
          <p:spPr>
            <a:xfrm>
              <a:off x="7769160" y="20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Times New Roman"/>
                  <a:ea typeface="宋体"/>
                </a:rPr>
                <a:t>M</a:t>
              </a:r>
              <a:endParaRPr b="1" lang="en-US" sz="24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655" name="Text Box 22"/>
            <p:cNvSpPr/>
            <p:nvPr/>
          </p:nvSpPr>
          <p:spPr>
            <a:xfrm>
              <a:off x="6397560" y="20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Times New Roman"/>
                  <a:ea typeface="宋体"/>
                </a:rPr>
                <a:t>N</a:t>
              </a:r>
              <a:endParaRPr b="1" lang="en-US" sz="2400" spc="-1" strike="noStrike">
                <a:solidFill>
                  <a:srgbClr val="080808"/>
                </a:solidFill>
                <a:latin typeface="黑体"/>
              </a:endParaRPr>
            </a:p>
          </p:txBody>
        </p:sp>
      </p:grpSp>
      <p:grpSp>
        <p:nvGrpSpPr>
          <p:cNvPr id="656" name="Group 23"/>
          <p:cNvGrpSpPr/>
          <p:nvPr/>
        </p:nvGrpSpPr>
        <p:grpSpPr>
          <a:xfrm>
            <a:off x="6629400" y="1967040"/>
            <a:ext cx="1633680" cy="1721520"/>
            <a:chOff x="6629400" y="1967040"/>
            <a:chExt cx="1633680" cy="1721520"/>
          </a:xfrm>
        </p:grpSpPr>
        <p:grpSp>
          <p:nvGrpSpPr>
            <p:cNvPr id="657" name="Group 24"/>
            <p:cNvGrpSpPr/>
            <p:nvPr/>
          </p:nvGrpSpPr>
          <p:grpSpPr>
            <a:xfrm>
              <a:off x="6848640" y="2292120"/>
              <a:ext cx="1025280" cy="1048680"/>
              <a:chOff x="6848640" y="2292120"/>
              <a:chExt cx="1025280" cy="1048680"/>
            </a:xfrm>
          </p:grpSpPr>
          <p:sp>
            <p:nvSpPr>
              <p:cNvPr id="658" name="Line 25"/>
              <p:cNvSpPr/>
              <p:nvPr/>
            </p:nvSpPr>
            <p:spPr>
              <a:xfrm flipH="1" flipV="1">
                <a:off x="7276680" y="2763360"/>
                <a:ext cx="3240" cy="577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659" name="Line 26"/>
              <p:cNvSpPr/>
              <p:nvPr/>
            </p:nvSpPr>
            <p:spPr>
              <a:xfrm flipV="1">
                <a:off x="7277040" y="2502720"/>
                <a:ext cx="447840" cy="279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660" name="Line 27"/>
              <p:cNvSpPr/>
              <p:nvPr/>
            </p:nvSpPr>
            <p:spPr>
              <a:xfrm>
                <a:off x="6848640" y="2428200"/>
                <a:ext cx="428400" cy="334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661" name="Line 28"/>
              <p:cNvSpPr/>
              <p:nvPr/>
            </p:nvSpPr>
            <p:spPr>
              <a:xfrm>
                <a:off x="7277040" y="3090240"/>
                <a:ext cx="223920" cy="4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662" name="Line 29"/>
              <p:cNvSpPr/>
              <p:nvPr/>
            </p:nvSpPr>
            <p:spPr>
              <a:xfrm>
                <a:off x="7520040" y="3094920"/>
                <a:ext cx="0" cy="22356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663" name="Line 30"/>
              <p:cNvSpPr/>
              <p:nvPr/>
            </p:nvSpPr>
            <p:spPr>
              <a:xfrm>
                <a:off x="6923160" y="2292120"/>
                <a:ext cx="149040" cy="13140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664" name="Line 31"/>
              <p:cNvSpPr/>
              <p:nvPr/>
            </p:nvSpPr>
            <p:spPr>
              <a:xfrm flipH="1">
                <a:off x="6978600" y="2404440"/>
                <a:ext cx="93600" cy="12996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665" name="Line 32"/>
              <p:cNvSpPr/>
              <p:nvPr/>
            </p:nvSpPr>
            <p:spPr>
              <a:xfrm>
                <a:off x="7575480" y="2609280"/>
                <a:ext cx="130320" cy="16776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  <p:sp>
            <p:nvSpPr>
              <p:cNvPr id="666" name="Line 33"/>
              <p:cNvSpPr/>
              <p:nvPr/>
            </p:nvSpPr>
            <p:spPr>
              <a:xfrm flipV="1">
                <a:off x="7705800" y="2664720"/>
                <a:ext cx="168120" cy="11736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80808"/>
                  </a:solidFill>
                  <a:latin typeface="黑体"/>
                </a:endParaRPr>
              </a:p>
            </p:txBody>
          </p:sp>
        </p:grpSp>
        <p:sp>
          <p:nvSpPr>
            <p:cNvPr id="667" name="Text Box 34"/>
            <p:cNvSpPr/>
            <p:nvPr/>
          </p:nvSpPr>
          <p:spPr>
            <a:xfrm>
              <a:off x="6629400" y="196704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D</a:t>
              </a:r>
              <a:endParaRPr b="1" lang="en-US" sz="24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668" name="Text Box 35"/>
            <p:cNvSpPr/>
            <p:nvPr/>
          </p:nvSpPr>
          <p:spPr>
            <a:xfrm>
              <a:off x="7175520" y="322884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E</a:t>
              </a:r>
              <a:endParaRPr b="1" lang="en-US" sz="2400" spc="-1" strike="noStrike">
                <a:solidFill>
                  <a:srgbClr val="080808"/>
                </a:solidFill>
                <a:latin typeface="黑体"/>
              </a:endParaRPr>
            </a:p>
          </p:txBody>
        </p:sp>
        <p:sp>
          <p:nvSpPr>
            <p:cNvPr id="669" name="Text Box 36"/>
            <p:cNvSpPr/>
            <p:nvPr/>
          </p:nvSpPr>
          <p:spPr>
            <a:xfrm>
              <a:off x="7826400" y="232560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F</a:t>
              </a:r>
              <a:endParaRPr b="1" lang="en-US" sz="2400" spc="-1" strike="noStrike">
                <a:solidFill>
                  <a:srgbClr val="080808"/>
                </a:solidFill>
                <a:latin typeface="黑体"/>
              </a:endParaRPr>
            </a:p>
          </p:txBody>
        </p:sp>
      </p:grpSp>
      <p:sp>
        <p:nvSpPr>
          <p:cNvPr id="670" name="PlaceHolder 1"/>
          <p:cNvSpPr>
            <a:spLocks noGrp="1"/>
          </p:cNvSpPr>
          <p:nvPr>
            <p:ph/>
          </p:nvPr>
        </p:nvSpPr>
        <p:spPr>
          <a:xfrm>
            <a:off x="457200" y="655200"/>
            <a:ext cx="8026560" cy="16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如图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设△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ABC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的角平分线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BM,CN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相交于点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P,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过点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P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分别作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BC,AC,AB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的垂线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垂足分别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E,F,D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1" name="Rectangle 38"/>
          <p:cNvSpPr/>
          <p:nvPr/>
        </p:nvSpPr>
        <p:spPr>
          <a:xfrm>
            <a:off x="671400" y="1708200"/>
            <a:ext cx="59500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∵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BM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是△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ABC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的角平分线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点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P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在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BM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上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672" name="Rectangle 39"/>
          <p:cNvSpPr/>
          <p:nvPr/>
        </p:nvSpPr>
        <p:spPr>
          <a:xfrm>
            <a:off x="817560" y="2246400"/>
            <a:ext cx="53769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∴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PD=PE(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角平分线上的点到这个角的两边距离相等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)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673" name="Rectangle 40"/>
          <p:cNvSpPr/>
          <p:nvPr/>
        </p:nvSpPr>
        <p:spPr>
          <a:xfrm>
            <a:off x="817560" y="3252960"/>
            <a:ext cx="556272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隶书"/>
              </a:rPr>
              <a:t>同理</a:t>
            </a: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,PE=PF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∴PD=PF</a:t>
            </a:r>
            <a:r>
              <a:rPr b="0" lang="en-US" sz="2800" spc="-1" strike="noStrike">
                <a:solidFill>
                  <a:srgbClr val="5b5249"/>
                </a:solidFill>
                <a:latin typeface="黑体"/>
              </a:rPr>
              <a:t>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1" lang="en-US" sz="24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674" name="Rectangle 42"/>
          <p:cNvSpPr/>
          <p:nvPr/>
        </p:nvSpPr>
        <p:spPr>
          <a:xfrm>
            <a:off x="671400" y="3686040"/>
            <a:ext cx="781236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 ∴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点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P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在∠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BAC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的平分线上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在一个角的内部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且    到角两边距离相等的点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</a:rPr>
              <a:t>在这个角的平分线上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</a:rPr>
              <a:t>)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  <p:sp>
        <p:nvSpPr>
          <p:cNvPr id="675" name="Rectangle 43"/>
          <p:cNvSpPr/>
          <p:nvPr/>
        </p:nvSpPr>
        <p:spPr>
          <a:xfrm>
            <a:off x="1079640" y="4809960"/>
            <a:ext cx="60958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∴△</a:t>
            </a: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ABC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</a:rPr>
              <a:t>的三条角平分线相交于一点</a:t>
            </a:r>
            <a:r>
              <a:rPr b="1" lang="en-US" sz="2800" spc="-1" strike="noStrike">
                <a:solidFill>
                  <a:srgbClr val="080808"/>
                </a:solidFill>
                <a:latin typeface="隶书"/>
              </a:rPr>
              <a:t>P.</a:t>
            </a:r>
            <a:endParaRPr b="1" lang="en-US" sz="2800" spc="-1" strike="noStrike">
              <a:solidFill>
                <a:srgbClr val="080808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4T01:52:34Z</dcterms:created>
  <dc:creator/>
  <dc:description/>
  <dc:language>en-US</dc:language>
  <cp:lastModifiedBy/>
  <dcterms:modified xsi:type="dcterms:W3CDTF">2014-02-24T01:52:41Z</dcterms:modified>
  <cp:revision>1</cp:revision>
  <dc:subject/>
  <dc:title/>
</cp:coreProperties>
</file>