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CA09-F3C0-4C6E-B138-229F585CC6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C38-2E1E-43AB-8FFF-A8CB54C9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853-D632-415C-8C26-85B177B9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D8B-25BA-4FBB-BA22-8AFEEA67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EA8-DA83-4352-A24A-F4E9B317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E09-227A-4602-B51B-1AD6EBDF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C58-038D-44A0-A069-AFCB5275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ECD-38FC-4DDC-A28D-39FE89FC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8D4-B182-44F2-A528-699C0F13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EF7-63E2-444E-82F4-7137B893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D6A-CDCB-456F-B485-4A8356BD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1BB-16B8-4345-BD7D-496E01C8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540-7421-4D42-BC51-953FE2B2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1671-431E-4A0D-B622-365B75880E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753480" cy="70293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379600" y="1353960"/>
            <a:ext cx="4859280" cy="4514040"/>
            <a:chOff x="2379600" y="1353960"/>
            <a:chExt cx="4859280" cy="4514040"/>
          </a:xfrm>
        </p:grpSpPr>
        <p:sp>
          <p:nvSpPr>
            <p:cNvPr id="50" name=""/>
            <p:cNvSpPr/>
            <p:nvPr/>
          </p:nvSpPr>
          <p:spPr>
            <a:xfrm>
              <a:off x="5006880" y="344160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79600" y="3514320"/>
              <a:ext cx="48592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10160" y="344160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14880" y="34416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18160" y="34416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30520" y="286524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30520" y="351432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30520" y="13539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30520" y="185724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30520" y="243324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52680" y="344160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55960" y="3441600"/>
              <a:ext cx="50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7600" y="3946320"/>
              <a:ext cx="50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87600" y="4522680"/>
              <a:ext cx="4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89400" y="502560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87600" y="5530680"/>
              <a:ext cx="4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9760" y="344160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79600" y="3441600"/>
              <a:ext cx="4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flipV="1">
            <a:off x="4684680" y="1139400"/>
            <a:ext cx="0" cy="4535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49960" y="327672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295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51280" y="5300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东关中学： 李小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74640" y="189000"/>
            <a:ext cx="413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平 面 直 角 坐 标 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539640" y="378936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348000" y="115920"/>
            <a:ext cx="5402160" cy="3944880"/>
            <a:chOff x="3348000" y="115920"/>
            <a:chExt cx="5402160" cy="3944880"/>
          </a:xfrm>
        </p:grpSpPr>
        <p:grpSp>
          <p:nvGrpSpPr>
            <p:cNvPr id="527" name=""/>
            <p:cNvGrpSpPr/>
            <p:nvPr/>
          </p:nvGrpSpPr>
          <p:grpSpPr>
            <a:xfrm>
              <a:off x="3348000" y="115920"/>
              <a:ext cx="5402160" cy="3944880"/>
              <a:chOff x="3348000" y="115920"/>
              <a:chExt cx="5402160" cy="394488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3348000" y="115920"/>
                <a:ext cx="5402160" cy="3944880"/>
                <a:chOff x="3348000" y="115920"/>
                <a:chExt cx="5402160" cy="39448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859280" y="1136520"/>
                  <a:ext cx="338472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0" name=""/>
                <p:cNvGrpSpPr/>
                <p:nvPr/>
              </p:nvGrpSpPr>
              <p:grpSpPr>
                <a:xfrm>
                  <a:off x="3348000" y="115920"/>
                  <a:ext cx="5402160" cy="3944880"/>
                  <a:chOff x="3348000" y="115920"/>
                  <a:chExt cx="5402160" cy="3944880"/>
                </a:xfrm>
              </p:grpSpPr>
              <p:graphicFrame>
                <p:nvGraphicFramePr>
                  <p:cNvPr id="531" name=""/>
                  <p:cNvGraphicFramePr/>
                  <p:nvPr/>
                </p:nvGraphicFramePr>
                <p:xfrm>
                  <a:off x="3348000" y="115920"/>
                  <a:ext cx="5402160" cy="3944880"/>
                </p:xfrm>
                <a:graphic>
                  <a:graphicData uri="http://schemas.openxmlformats.org/presentationml/2006/ole">
                    <p:oleObj r:id="rId2" spid="">
                      <p:embed/>
                      <p:pic>
                        <p:nvPicPr>
                          <p:cNvPr id="532" name="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3348000" y="115920"/>
                            <a:ext cx="5402160" cy="3944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33" name=""/>
                  <p:cNvSpPr/>
                  <p:nvPr/>
                </p:nvSpPr>
                <p:spPr>
                  <a:xfrm>
                    <a:off x="3492360" y="2089080"/>
                    <a:ext cx="49690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V="1">
                    <a:off x="5797440" y="404640"/>
                    <a:ext cx="0" cy="3528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3852360" y="1123920"/>
                    <a:ext cx="1008360" cy="194400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>
                    <a:off x="7237440" y="1123920"/>
                    <a:ext cx="1008000" cy="194400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852720" y="3068280"/>
                    <a:ext cx="3384720" cy="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8" name=""/>
              <p:cNvSpPr/>
              <p:nvPr/>
            </p:nvSpPr>
            <p:spPr>
              <a:xfrm>
                <a:off x="4481640" y="711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545280" y="2869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90360" y="2943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8172360" y="83628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 txBox="1"/>
          <p:nvPr/>
        </p:nvSpPr>
        <p:spPr>
          <a:xfrm>
            <a:off x="324000" y="260280"/>
            <a:ext cx="273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5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>
                    <a:alphaModFix amt="22000"/>
                  </a:blip>
                  <a:srcRect/>
                  <a:stretch/>
                </a:blipFill>
                <a:latin typeface="隶书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>
                  <a:alphaModFix amt="22000"/>
                </a:blip>
                <a:srcRect/>
                <a:stretch/>
              </a:blipFill>
              <a:latin typeface="隶书"/>
              <a:ea typeface="隶书"/>
            </a:endParaRPr>
          </a:p>
        </p:txBody>
      </p:sp>
      <p:sp>
        <p:nvSpPr>
          <p:cNvPr id="543" name=""/>
          <p:cNvSpPr/>
          <p:nvPr/>
        </p:nvSpPr>
        <p:spPr>
          <a:xfrm>
            <a:off x="324000" y="1773360"/>
            <a:ext cx="2879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写出右图中的平行四边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各个顶点的坐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纵坐标相同吗？为什么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,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横坐标相同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6084720" y="6858000"/>
          <a:ext cx="6626160" cy="1824120"/>
        </p:xfrm>
        <a:graphic>
          <a:graphicData uri="http://schemas.openxmlformats.org/drawingml/2006/table">
            <a:tbl>
              <a:tblPr/>
              <a:tblGrid>
                <a:gridCol w="2208240"/>
                <a:gridCol w="2209680"/>
                <a:gridCol w="2208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8245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50360" y="20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2980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9780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3789360"/>
            <a:ext cx="8915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判断下列说法是否正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坐标轴上的点的横坐标和纵坐标至少有一个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如图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是第一象限的点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如图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6320" y="14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4920" y="609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5640" y="69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" y="106668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249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若点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第四象限内，则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2924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是正数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是负数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正数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负数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负数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132000" y="620640"/>
            <a:ext cx="38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64000" y="234936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019920" y="4723920"/>
            <a:ext cx="2514600" cy="1816560"/>
            <a:chOff x="6019920" y="4723920"/>
            <a:chExt cx="2514600" cy="1816560"/>
          </a:xfrm>
        </p:grpSpPr>
        <p:sp>
          <p:nvSpPr>
            <p:cNvPr id="559" name=""/>
            <p:cNvSpPr/>
            <p:nvPr/>
          </p:nvSpPr>
          <p:spPr>
            <a:xfrm>
              <a:off x="6934320" y="6172200"/>
              <a:ext cx="152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6019920" y="4723920"/>
              <a:ext cx="2514600" cy="1816560"/>
              <a:chOff x="6019920" y="4723920"/>
              <a:chExt cx="2514600" cy="1816560"/>
            </a:xfrm>
          </p:grpSpPr>
          <p:sp>
            <p:nvSpPr>
              <p:cNvPr id="561" name=""/>
              <p:cNvSpPr/>
              <p:nvPr/>
            </p:nvSpPr>
            <p:spPr>
              <a:xfrm>
                <a:off x="7543800" y="601992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95880" y="5562720"/>
                <a:ext cx="23623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6934320" y="4723920"/>
                <a:ext cx="0" cy="1752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848720" y="5410080"/>
                <a:ext cx="0" cy="152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91520" y="48769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19920" y="586728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-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15200" y="59436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 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48720" y="5562720"/>
                <a:ext cx="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934320" y="6172200"/>
                <a:ext cx="9903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248520" y="5486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001000" y="55627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248520" y="47242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395280" y="260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685440" y="4076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972720" y="2852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695160" y="62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148428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(x, y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第一象限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正数还是负数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正数还是负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4000" y="0"/>
            <a:ext cx="3429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看谁学会了！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9" name=""/>
          <p:cNvSpPr/>
          <p:nvPr/>
        </p:nvSpPr>
        <p:spPr>
          <a:xfrm>
            <a:off x="10019160" y="4941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925200" y="517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06776 L -0.25885 0.06776 E">
                                      <p:cBhvr>
                                        <p:cTn id="315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-0.00439 L -0.23142 -0.00439 E">
                                      <p:cBhvr>
                                        <p:cTn id="319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3145 L -0.25069 0.03145 E">
                                      <p:cBhvr>
                                        <p:cTn id="323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37 0.29371 L -0.41337 0.29371 E">
                                      <p:cBhvr>
                                        <p:cTn id="32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7 -0.13205 L -0.5757 -0.13205 E">
                                      <p:cBhvr>
                                        <p:cTn id="331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900000" y="2133720"/>
            <a:ext cx="698508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0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这节课的学习你有何收获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平面直角坐标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3068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仿宋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4572000" y="1557360"/>
            <a:ext cx="4073760" cy="2807640"/>
            <a:chOff x="4572000" y="1557360"/>
            <a:chExt cx="4073760" cy="2807640"/>
          </a:xfrm>
        </p:grpSpPr>
        <p:grpSp>
          <p:nvGrpSpPr>
            <p:cNvPr id="585" name=""/>
            <p:cNvGrpSpPr/>
            <p:nvPr/>
          </p:nvGrpSpPr>
          <p:grpSpPr>
            <a:xfrm>
              <a:off x="4716360" y="2905200"/>
              <a:ext cx="3929400" cy="555840"/>
              <a:chOff x="4716360" y="2905200"/>
              <a:chExt cx="3929400" cy="555840"/>
            </a:xfrm>
          </p:grpSpPr>
          <p:sp>
            <p:nvSpPr>
              <p:cNvPr id="586" name=""/>
              <p:cNvSpPr/>
              <p:nvPr/>
            </p:nvSpPr>
            <p:spPr>
              <a:xfrm>
                <a:off x="7861680" y="3001320"/>
                <a:ext cx="3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4716360" y="2905200"/>
                <a:ext cx="3929400" cy="371520"/>
                <a:chOff x="4716360" y="2905200"/>
                <a:chExt cx="3929400" cy="37152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4716360" y="2905200"/>
                  <a:ext cx="3863520" cy="276480"/>
                  <a:chOff x="4716360" y="2905200"/>
                  <a:chExt cx="3863520" cy="27648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4716360" y="3064680"/>
                    <a:ext cx="334080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351760" y="2905200"/>
                    <a:ext cx="32281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|        |        |        |        |        |        |        |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" name=""/>
                <p:cNvSpPr/>
                <p:nvPr/>
              </p:nvSpPr>
              <p:spPr>
                <a:xfrm>
                  <a:off x="8190720" y="290844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横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" name=""/>
            <p:cNvGrpSpPr/>
            <p:nvPr/>
          </p:nvGrpSpPr>
          <p:grpSpPr>
            <a:xfrm>
              <a:off x="6050880" y="1557360"/>
              <a:ext cx="954000" cy="2807640"/>
              <a:chOff x="6050880" y="1557360"/>
              <a:chExt cx="954000" cy="280764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6050880" y="1662840"/>
                <a:ext cx="585000" cy="2702160"/>
                <a:chOff x="6050880" y="1662840"/>
                <a:chExt cx="585000" cy="27021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6298920" y="1806840"/>
                  <a:ext cx="336960" cy="2558160"/>
                  <a:chOff x="6298920" y="1806840"/>
                  <a:chExt cx="336960" cy="25581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6359040" y="1806840"/>
                    <a:ext cx="0" cy="255816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6298920" y="2127240"/>
                    <a:ext cx="336960" cy="1927800"/>
                    <a:chOff x="6298920" y="2127240"/>
                    <a:chExt cx="336960" cy="192780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6298920" y="270144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6302880" y="239220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6302880" y="212724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6302880" y="322416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6302880" y="351180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6302880" y="377856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3" name=""/>
                <p:cNvSpPr/>
                <p:nvPr/>
              </p:nvSpPr>
              <p:spPr>
                <a:xfrm>
                  <a:off x="6050880" y="16628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6549840" y="15573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纵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6796080" y="2021040"/>
              <a:ext cx="12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第一象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72000" y="2036880"/>
              <a:ext cx="15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第二象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43280" y="32083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第三象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13360" y="3208320"/>
              <a:ext cx="135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第四象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68360" y="1700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一、平面直角坐标系的概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6200" y="2997360"/>
            <a:ext cx="31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二、点的坐标的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6200" y="37162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三、坐标轴上点的坐标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" y="4653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四、各象限内点的坐标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25840" y="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节主要内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1280" y="5445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五、平行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轴或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轴的线段上的点的坐标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 flipV="1">
            <a:off x="6156360" y="270828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708360" y="270828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88600" y="227664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22980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278160" y="549000"/>
            <a:ext cx="686520" cy="5638680"/>
            <a:chOff x="3278160" y="549000"/>
            <a:chExt cx="686520" cy="5638680"/>
          </a:xfrm>
        </p:grpSpPr>
        <p:sp>
          <p:nvSpPr>
            <p:cNvPr id="620" name=""/>
            <p:cNvSpPr/>
            <p:nvPr/>
          </p:nvSpPr>
          <p:spPr>
            <a:xfrm flipV="1">
              <a:off x="3733920" y="549000"/>
              <a:ext cx="0" cy="563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354840" y="1997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54840" y="3063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54840" y="146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54840" y="245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4840" y="93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3693240" y="1157760"/>
              <a:ext cx="271440" cy="497880"/>
              <a:chOff x="3693240" y="1157760"/>
              <a:chExt cx="271440" cy="497880"/>
            </a:xfrm>
          </p:grpSpPr>
          <p:sp>
            <p:nvSpPr>
              <p:cNvPr id="627" name=""/>
              <p:cNvSpPr/>
              <p:nvPr/>
            </p:nvSpPr>
            <p:spPr>
              <a:xfrm>
                <a:off x="3693240" y="16527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698280" y="11577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3693240" y="2224800"/>
              <a:ext cx="271440" cy="497880"/>
              <a:chOff x="3693240" y="2224800"/>
              <a:chExt cx="271440" cy="497880"/>
            </a:xfrm>
          </p:grpSpPr>
          <p:sp>
            <p:nvSpPr>
              <p:cNvPr id="630" name=""/>
              <p:cNvSpPr/>
              <p:nvPr/>
            </p:nvSpPr>
            <p:spPr>
              <a:xfrm>
                <a:off x="3693240" y="27198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98280" y="22248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693240" y="3253320"/>
              <a:ext cx="271440" cy="497880"/>
              <a:chOff x="3693240" y="3253320"/>
              <a:chExt cx="271440" cy="497880"/>
            </a:xfrm>
          </p:grpSpPr>
          <p:sp>
            <p:nvSpPr>
              <p:cNvPr id="633" name=""/>
              <p:cNvSpPr/>
              <p:nvPr/>
            </p:nvSpPr>
            <p:spPr>
              <a:xfrm>
                <a:off x="3693240" y="37483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698280" y="32533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3278160" y="4587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78160" y="5654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78160" y="4054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78160" y="5045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3693240" y="4282200"/>
              <a:ext cx="271440" cy="497880"/>
              <a:chOff x="3693240" y="4282200"/>
              <a:chExt cx="271440" cy="497880"/>
            </a:xfrm>
          </p:grpSpPr>
          <p:sp>
            <p:nvSpPr>
              <p:cNvPr id="640" name=""/>
              <p:cNvSpPr/>
              <p:nvPr/>
            </p:nvSpPr>
            <p:spPr>
              <a:xfrm>
                <a:off x="3693240" y="47772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698280" y="42822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3693240" y="5348880"/>
              <a:ext cx="271440" cy="497880"/>
              <a:chOff x="3693240" y="5348880"/>
              <a:chExt cx="271440" cy="497880"/>
            </a:xfrm>
          </p:grpSpPr>
          <p:sp>
            <p:nvSpPr>
              <p:cNvPr id="643" name=""/>
              <p:cNvSpPr/>
              <p:nvPr/>
            </p:nvSpPr>
            <p:spPr>
              <a:xfrm>
                <a:off x="3693240" y="58438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98280" y="53488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"/>
          <p:cNvGrpSpPr/>
          <p:nvPr/>
        </p:nvGrpSpPr>
        <p:grpSpPr>
          <a:xfrm>
            <a:off x="755640" y="3500280"/>
            <a:ext cx="6858000" cy="764640"/>
            <a:chOff x="755640" y="3500280"/>
            <a:chExt cx="6858000" cy="764640"/>
          </a:xfrm>
        </p:grpSpPr>
        <p:sp>
          <p:nvSpPr>
            <p:cNvPr id="646" name=""/>
            <p:cNvSpPr/>
            <p:nvPr/>
          </p:nvSpPr>
          <p:spPr>
            <a:xfrm>
              <a:off x="3424320" y="365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755640" y="3500280"/>
              <a:ext cx="6858000" cy="764640"/>
              <a:chOff x="755640" y="3500280"/>
              <a:chExt cx="6858000" cy="764640"/>
            </a:xfrm>
          </p:grpSpPr>
          <p:sp>
            <p:nvSpPr>
              <p:cNvPr id="648" name=""/>
              <p:cNvSpPr/>
              <p:nvPr/>
            </p:nvSpPr>
            <p:spPr>
              <a:xfrm>
                <a:off x="755640" y="372888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727440" y="3500280"/>
                <a:ext cx="609120" cy="228240"/>
                <a:chOff x="3727440" y="3500280"/>
                <a:chExt cx="609120" cy="22824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72744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33656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946760" y="3500280"/>
                <a:ext cx="609120" cy="228240"/>
                <a:chOff x="4946760" y="3500280"/>
                <a:chExt cx="609120" cy="2282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94676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55588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6165720" y="3500280"/>
                <a:ext cx="609480" cy="228240"/>
                <a:chOff x="6165720" y="3500280"/>
                <a:chExt cx="609480" cy="228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616572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77520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4186440" y="38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95920" y="38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05760" y="38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15240" y="38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624720" y="38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1212840" y="3500280"/>
                <a:ext cx="609120" cy="228240"/>
                <a:chOff x="1212840" y="3500280"/>
                <a:chExt cx="609120" cy="22824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121284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82196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2432160" y="3500280"/>
                <a:ext cx="609120" cy="228240"/>
                <a:chOff x="2432160" y="3500280"/>
                <a:chExt cx="609120" cy="2282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43216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04128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909360" y="3805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519200" y="3805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128680" y="3805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38160" y="3805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7164360" y="3213000"/>
            <a:ext cx="3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020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横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968560" y="476280"/>
            <a:ext cx="1162080" cy="536040"/>
            <a:chOff x="2968560" y="476280"/>
            <a:chExt cx="1162080" cy="536040"/>
          </a:xfrm>
        </p:grpSpPr>
        <p:sp>
          <p:nvSpPr>
            <p:cNvPr id="676" name=""/>
            <p:cNvSpPr/>
            <p:nvPr/>
          </p:nvSpPr>
          <p:spPr>
            <a:xfrm>
              <a:off x="379764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68560" y="552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3203640" y="4046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86160" y="69228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7120" y="119232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-827280" y="2781360"/>
            <a:ext cx="2829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-2700360" y="692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坐标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4176720" y="2133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你能找出 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轴的对称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吗？它的坐标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-3565440" y="443700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你能找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轴的对称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吗？你知道它 的坐标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-3924360" y="3357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能找出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于原点的对称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吗？它的坐标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 rot="7685400">
            <a:off x="-1440" y="946080"/>
            <a:ext cx="20192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课外扩充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108 -0.09135 L 0.98108 -0.09135 E">
                                      <p:cBhvr>
                                        <p:cTn id="337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132 -0.14963 L 1.04132 -0.14963 E">
                                      <p:cBhvr>
                                        <p:cTn id="341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219 -0.05018 L 0.99219 -0.05018 E">
                                      <p:cBhvr>
                                        <p:cTn id="345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59 0.28053 L 1.0059 0.28053 E">
                                      <p:cBhvr>
                                        <p:cTn id="349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421080" y="907560"/>
            <a:ext cx="686520" cy="5638680"/>
            <a:chOff x="3421080" y="907560"/>
            <a:chExt cx="686520" cy="5638680"/>
          </a:xfrm>
        </p:grpSpPr>
        <p:sp>
          <p:nvSpPr>
            <p:cNvPr id="76" name=""/>
            <p:cNvSpPr/>
            <p:nvPr/>
          </p:nvSpPr>
          <p:spPr>
            <a:xfrm flipV="1">
              <a:off x="3876840" y="907560"/>
              <a:ext cx="0" cy="563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7760" y="235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7760" y="342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7760" y="182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7760" y="281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97760" y="128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836160" y="1516320"/>
              <a:ext cx="271440" cy="497880"/>
              <a:chOff x="3836160" y="1516320"/>
              <a:chExt cx="271440" cy="497880"/>
            </a:xfrm>
          </p:grpSpPr>
          <p:sp>
            <p:nvSpPr>
              <p:cNvPr id="83" name=""/>
              <p:cNvSpPr/>
              <p:nvPr/>
            </p:nvSpPr>
            <p:spPr>
              <a:xfrm>
                <a:off x="3836160" y="201132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841200" y="151632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836160" y="2583360"/>
              <a:ext cx="271440" cy="497880"/>
              <a:chOff x="3836160" y="2583360"/>
              <a:chExt cx="271440" cy="497880"/>
            </a:xfrm>
          </p:grpSpPr>
          <p:sp>
            <p:nvSpPr>
              <p:cNvPr id="86" name=""/>
              <p:cNvSpPr/>
              <p:nvPr/>
            </p:nvSpPr>
            <p:spPr>
              <a:xfrm>
                <a:off x="3836160" y="307836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41200" y="258336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836160" y="3611880"/>
              <a:ext cx="271440" cy="497880"/>
              <a:chOff x="3836160" y="3611880"/>
              <a:chExt cx="271440" cy="497880"/>
            </a:xfrm>
          </p:grpSpPr>
          <p:sp>
            <p:nvSpPr>
              <p:cNvPr id="89" name=""/>
              <p:cNvSpPr/>
              <p:nvPr/>
            </p:nvSpPr>
            <p:spPr>
              <a:xfrm>
                <a:off x="3836160" y="410688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0" y="361188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421080" y="494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1080" y="6013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21080" y="4413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1080" y="540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836160" y="4640760"/>
              <a:ext cx="271440" cy="497880"/>
              <a:chOff x="3836160" y="4640760"/>
              <a:chExt cx="271440" cy="497880"/>
            </a:xfrm>
          </p:grpSpPr>
          <p:sp>
            <p:nvSpPr>
              <p:cNvPr id="96" name=""/>
              <p:cNvSpPr/>
              <p:nvPr/>
            </p:nvSpPr>
            <p:spPr>
              <a:xfrm>
                <a:off x="3836160" y="513576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41200" y="464076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836160" y="5707440"/>
              <a:ext cx="271440" cy="497880"/>
              <a:chOff x="3836160" y="5707440"/>
              <a:chExt cx="271440" cy="497880"/>
            </a:xfrm>
          </p:grpSpPr>
          <p:sp>
            <p:nvSpPr>
              <p:cNvPr id="99" name=""/>
              <p:cNvSpPr/>
              <p:nvPr/>
            </p:nvSpPr>
            <p:spPr>
              <a:xfrm>
                <a:off x="3836160" y="620244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41200" y="570744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900000" y="3860640"/>
            <a:ext cx="6858000" cy="764640"/>
            <a:chOff x="900000" y="3860640"/>
            <a:chExt cx="6858000" cy="764640"/>
          </a:xfrm>
        </p:grpSpPr>
        <p:sp>
          <p:nvSpPr>
            <p:cNvPr id="102" name=""/>
            <p:cNvSpPr/>
            <p:nvPr/>
          </p:nvSpPr>
          <p:spPr>
            <a:xfrm>
              <a:off x="3568680" y="4012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900000" y="3860640"/>
              <a:ext cx="6858000" cy="764640"/>
              <a:chOff x="900000" y="3860640"/>
              <a:chExt cx="6858000" cy="764640"/>
            </a:xfrm>
          </p:grpSpPr>
          <p:sp>
            <p:nvSpPr>
              <p:cNvPr id="104" name=""/>
              <p:cNvSpPr/>
              <p:nvPr/>
            </p:nvSpPr>
            <p:spPr>
              <a:xfrm>
                <a:off x="900000" y="4089240"/>
                <a:ext cx="6858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3871800" y="3860640"/>
                <a:ext cx="609120" cy="228240"/>
                <a:chOff x="3871800" y="3860640"/>
                <a:chExt cx="609120" cy="2282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87180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48092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091120" y="3860640"/>
                <a:ext cx="609120" cy="228240"/>
                <a:chOff x="5091120" y="3860640"/>
                <a:chExt cx="609120" cy="228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09112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0024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310080" y="3860640"/>
                <a:ext cx="609480" cy="228240"/>
                <a:chOff x="6310080" y="3860640"/>
                <a:chExt cx="609480" cy="228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31008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91956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433080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4028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5012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5960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6908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357200" y="3860640"/>
                <a:ext cx="609120" cy="228240"/>
                <a:chOff x="1357200" y="3860640"/>
                <a:chExt cx="609120" cy="228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35720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96632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576520" y="3860640"/>
                <a:ext cx="609120" cy="228240"/>
                <a:chOff x="2576520" y="3860640"/>
                <a:chExt cx="609120" cy="228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57652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18564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1053720" y="41655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63560" y="41655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73040" y="41655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82520" y="41655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7382160" y="4076640"/>
            <a:ext cx="1241280" cy="459720"/>
            <a:chOff x="7382160" y="4076640"/>
            <a:chExt cx="1241280" cy="459720"/>
          </a:xfrm>
        </p:grpSpPr>
        <p:sp>
          <p:nvSpPr>
            <p:cNvPr id="130" name=""/>
            <p:cNvSpPr/>
            <p:nvPr/>
          </p:nvSpPr>
          <p:spPr>
            <a:xfrm>
              <a:off x="73821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6960" y="407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184200" y="692280"/>
            <a:ext cx="1109160" cy="535680"/>
            <a:chOff x="3184200" y="692280"/>
            <a:chExt cx="1109160" cy="535680"/>
          </a:xfrm>
        </p:grpSpPr>
        <p:sp>
          <p:nvSpPr>
            <p:cNvPr id="133" name=""/>
            <p:cNvSpPr/>
            <p:nvPr/>
          </p:nvSpPr>
          <p:spPr>
            <a:xfrm>
              <a:off x="396036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4200" y="7682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563640" y="3573000"/>
            <a:ext cx="1227600" cy="1001880"/>
            <a:chOff x="3563640" y="3573000"/>
            <a:chExt cx="1227600" cy="1001880"/>
          </a:xfrm>
        </p:grpSpPr>
        <p:sp>
          <p:nvSpPr>
            <p:cNvPr id="136" name=""/>
            <p:cNvSpPr/>
            <p:nvPr/>
          </p:nvSpPr>
          <p:spPr>
            <a:xfrm>
              <a:off x="3563640" y="4054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原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181400" y="3573000"/>
              <a:ext cx="60984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15000" y="1219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第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567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三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30400" y="1214280"/>
            <a:ext cx="22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9166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87138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定义：在平面内，两条互相垂直且有公共原点的数轴组成平面直角坐标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flipV="1">
            <a:off x="5715000" y="266688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5909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39320" y="21477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3120" y="2147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30440" y="456840"/>
            <a:ext cx="686520" cy="5638680"/>
            <a:chOff x="3430440" y="456840"/>
            <a:chExt cx="686520" cy="5638680"/>
          </a:xfrm>
        </p:grpSpPr>
        <p:sp>
          <p:nvSpPr>
            <p:cNvPr id="149" name=""/>
            <p:cNvSpPr/>
            <p:nvPr/>
          </p:nvSpPr>
          <p:spPr>
            <a:xfrm flipV="1">
              <a:off x="3886200" y="456840"/>
              <a:ext cx="0" cy="563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712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712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0712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712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7120" y="838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845520" y="1065600"/>
              <a:ext cx="271440" cy="497880"/>
              <a:chOff x="3845520" y="1065600"/>
              <a:chExt cx="271440" cy="497880"/>
            </a:xfrm>
          </p:grpSpPr>
          <p:sp>
            <p:nvSpPr>
              <p:cNvPr id="156" name=""/>
              <p:cNvSpPr/>
              <p:nvPr/>
            </p:nvSpPr>
            <p:spPr>
              <a:xfrm>
                <a:off x="3845520" y="1560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50560" y="1065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845520" y="2132640"/>
              <a:ext cx="271440" cy="497880"/>
              <a:chOff x="3845520" y="2132640"/>
              <a:chExt cx="271440" cy="497880"/>
            </a:xfrm>
          </p:grpSpPr>
          <p:sp>
            <p:nvSpPr>
              <p:cNvPr id="159" name=""/>
              <p:cNvSpPr/>
              <p:nvPr/>
            </p:nvSpPr>
            <p:spPr>
              <a:xfrm>
                <a:off x="3845520" y="26276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0560" y="21326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845520" y="3161160"/>
              <a:ext cx="271440" cy="497880"/>
              <a:chOff x="3845520" y="3161160"/>
              <a:chExt cx="271440" cy="497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845520" y="36561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50560" y="31611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430440" y="4495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0440" y="55627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30440" y="3962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0440" y="4952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845520" y="4190040"/>
              <a:ext cx="271440" cy="497880"/>
              <a:chOff x="3845520" y="4190040"/>
              <a:chExt cx="271440" cy="497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845520" y="46850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50560" y="41900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845520" y="5256720"/>
              <a:ext cx="271440" cy="497880"/>
              <a:chOff x="3845520" y="5256720"/>
              <a:chExt cx="271440" cy="497880"/>
            </a:xfrm>
          </p:grpSpPr>
          <p:sp>
            <p:nvSpPr>
              <p:cNvPr id="172" name=""/>
              <p:cNvSpPr/>
              <p:nvPr/>
            </p:nvSpPr>
            <p:spPr>
              <a:xfrm>
                <a:off x="3845520" y="57517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50560" y="52567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914400" y="3429000"/>
            <a:ext cx="6858000" cy="764640"/>
            <a:chOff x="914400" y="3429000"/>
            <a:chExt cx="6858000" cy="764640"/>
          </a:xfrm>
        </p:grpSpPr>
        <p:sp>
          <p:nvSpPr>
            <p:cNvPr id="175" name=""/>
            <p:cNvSpPr/>
            <p:nvPr/>
          </p:nvSpPr>
          <p:spPr>
            <a:xfrm>
              <a:off x="358308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914400" y="3429000"/>
              <a:ext cx="6858000" cy="764640"/>
              <a:chOff x="914400" y="3429000"/>
              <a:chExt cx="6858000" cy="764640"/>
            </a:xfrm>
          </p:grpSpPr>
          <p:sp>
            <p:nvSpPr>
              <p:cNvPr id="177" name=""/>
              <p:cNvSpPr/>
              <p:nvPr/>
            </p:nvSpPr>
            <p:spPr>
              <a:xfrm>
                <a:off x="914400" y="365760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886200" y="3429000"/>
                <a:ext cx="609120" cy="228240"/>
                <a:chOff x="3886200" y="3429000"/>
                <a:chExt cx="609120" cy="2282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88620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4953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05520" y="3429000"/>
                <a:ext cx="609120" cy="228240"/>
                <a:chOff x="5105520" y="3429000"/>
                <a:chExt cx="609120" cy="2282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1055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71464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6324480" y="3429000"/>
                <a:ext cx="609480" cy="228240"/>
                <a:chOff x="6324480" y="3429000"/>
                <a:chExt cx="609480" cy="2282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32448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93396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434520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5468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452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7400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8348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371600" y="3429000"/>
                <a:ext cx="609120" cy="228240"/>
                <a:chOff x="1371600" y="3429000"/>
                <a:chExt cx="609120" cy="228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37160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9807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590920" y="3429000"/>
                <a:ext cx="609120" cy="228240"/>
                <a:chOff x="2590920" y="3429000"/>
                <a:chExt cx="609120" cy="228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5909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20004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106812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7796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8744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9692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7237800" y="3645000"/>
            <a:ext cx="1241280" cy="459720"/>
            <a:chOff x="7237800" y="3645000"/>
            <a:chExt cx="1241280" cy="459720"/>
          </a:xfrm>
        </p:grpSpPr>
        <p:sp>
          <p:nvSpPr>
            <p:cNvPr id="203" name=""/>
            <p:cNvSpPr/>
            <p:nvPr/>
          </p:nvSpPr>
          <p:spPr>
            <a:xfrm>
              <a:off x="723780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32600" y="3645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112920" y="189000"/>
            <a:ext cx="1144800" cy="535680"/>
            <a:chOff x="3112920" y="189000"/>
            <a:chExt cx="1144800" cy="535680"/>
          </a:xfrm>
        </p:grpSpPr>
        <p:sp>
          <p:nvSpPr>
            <p:cNvPr id="206" name=""/>
            <p:cNvSpPr/>
            <p:nvPr/>
          </p:nvSpPr>
          <p:spPr>
            <a:xfrm>
              <a:off x="394128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12920" y="2649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506840" y="277920"/>
            <a:ext cx="31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轴上的坐标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22680" y="69228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轴上的坐标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45120" y="1192320"/>
            <a:ext cx="316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在平面直角坐标系中的坐标为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(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记作：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03640" y="1729800"/>
            <a:ext cx="2407320" cy="1830240"/>
            <a:chOff x="6803640" y="1729800"/>
            <a:chExt cx="2407320" cy="1830240"/>
          </a:xfrm>
        </p:grpSpPr>
        <p:sp>
          <p:nvSpPr>
            <p:cNvPr id="212" name=""/>
            <p:cNvSpPr/>
            <p:nvPr/>
          </p:nvSpPr>
          <p:spPr>
            <a:xfrm rot="5766600">
              <a:off x="7207200" y="1519560"/>
              <a:ext cx="1600200" cy="2250000"/>
            </a:xfrm>
            <a:prstGeom prst="wedgeEllipseCallout">
              <a:avLst>
                <a:gd name="adj1" fmla="val -36379"/>
                <a:gd name="adj2" fmla="val 76986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77080" y="2252520"/>
              <a:ext cx="226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轴上的坐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写在前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757080" y="6021360"/>
            <a:ext cx="43308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715000" y="30477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2971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32480" y="24224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3120" y="25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430440" y="837720"/>
            <a:ext cx="686520" cy="5638680"/>
            <a:chOff x="3430440" y="837720"/>
            <a:chExt cx="686520" cy="5638680"/>
          </a:xfrm>
        </p:grpSpPr>
        <p:sp>
          <p:nvSpPr>
            <p:cNvPr id="220" name=""/>
            <p:cNvSpPr/>
            <p:nvPr/>
          </p:nvSpPr>
          <p:spPr>
            <a:xfrm flipV="1">
              <a:off x="3886200" y="837720"/>
              <a:ext cx="0" cy="563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0712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071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0712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712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7120" y="121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845520" y="1446480"/>
              <a:ext cx="271440" cy="497880"/>
              <a:chOff x="3845520" y="1446480"/>
              <a:chExt cx="271440" cy="497880"/>
            </a:xfrm>
          </p:grpSpPr>
          <p:sp>
            <p:nvSpPr>
              <p:cNvPr id="227" name=""/>
              <p:cNvSpPr/>
              <p:nvPr/>
            </p:nvSpPr>
            <p:spPr>
              <a:xfrm>
                <a:off x="3845520" y="19414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50560" y="14464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845520" y="2513520"/>
              <a:ext cx="271440" cy="497880"/>
              <a:chOff x="3845520" y="2513520"/>
              <a:chExt cx="271440" cy="497880"/>
            </a:xfrm>
          </p:grpSpPr>
          <p:sp>
            <p:nvSpPr>
              <p:cNvPr id="230" name=""/>
              <p:cNvSpPr/>
              <p:nvPr/>
            </p:nvSpPr>
            <p:spPr>
              <a:xfrm>
                <a:off x="3845520" y="30085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50560" y="25135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3845520" y="3542040"/>
              <a:ext cx="271440" cy="497880"/>
              <a:chOff x="3845520" y="3542040"/>
              <a:chExt cx="271440" cy="497880"/>
            </a:xfrm>
          </p:grpSpPr>
          <p:sp>
            <p:nvSpPr>
              <p:cNvPr id="233" name=""/>
              <p:cNvSpPr/>
              <p:nvPr/>
            </p:nvSpPr>
            <p:spPr>
              <a:xfrm>
                <a:off x="3845520" y="40370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50560" y="35420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430440" y="4876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3044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30440" y="4343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0440" y="5333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45520" y="4570920"/>
              <a:ext cx="271440" cy="497880"/>
              <a:chOff x="3845520" y="4570920"/>
              <a:chExt cx="271440" cy="497880"/>
            </a:xfrm>
          </p:grpSpPr>
          <p:sp>
            <p:nvSpPr>
              <p:cNvPr id="240" name=""/>
              <p:cNvSpPr/>
              <p:nvPr/>
            </p:nvSpPr>
            <p:spPr>
              <a:xfrm>
                <a:off x="3845520" y="50659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50560" y="45709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845520" y="5637600"/>
              <a:ext cx="271440" cy="497880"/>
              <a:chOff x="3845520" y="5637600"/>
              <a:chExt cx="271440" cy="497880"/>
            </a:xfrm>
          </p:grpSpPr>
          <p:sp>
            <p:nvSpPr>
              <p:cNvPr id="243" name=""/>
              <p:cNvSpPr/>
              <p:nvPr/>
            </p:nvSpPr>
            <p:spPr>
              <a:xfrm>
                <a:off x="3845520" y="6132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50560" y="5637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914400" y="3809880"/>
            <a:ext cx="6858000" cy="764640"/>
            <a:chOff x="914400" y="3809880"/>
            <a:chExt cx="6858000" cy="764640"/>
          </a:xfrm>
        </p:grpSpPr>
        <p:sp>
          <p:nvSpPr>
            <p:cNvPr id="246" name=""/>
            <p:cNvSpPr/>
            <p:nvPr/>
          </p:nvSpPr>
          <p:spPr>
            <a:xfrm>
              <a:off x="3583080" y="396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14400" y="3809880"/>
              <a:ext cx="6858000" cy="764640"/>
              <a:chOff x="914400" y="3809880"/>
              <a:chExt cx="6858000" cy="764640"/>
            </a:xfrm>
          </p:grpSpPr>
          <p:sp>
            <p:nvSpPr>
              <p:cNvPr id="248" name=""/>
              <p:cNvSpPr/>
              <p:nvPr/>
            </p:nvSpPr>
            <p:spPr>
              <a:xfrm>
                <a:off x="914400" y="403848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3886200" y="3809880"/>
                <a:ext cx="609120" cy="228240"/>
                <a:chOff x="3886200" y="3809880"/>
                <a:chExt cx="609120" cy="2282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88620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49532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105520" y="3809880"/>
                <a:ext cx="609120" cy="228240"/>
                <a:chOff x="5105520" y="3809880"/>
                <a:chExt cx="609120" cy="228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10552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1464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324480" y="3809880"/>
                <a:ext cx="609480" cy="228240"/>
                <a:chOff x="6324480" y="3809880"/>
                <a:chExt cx="609480" cy="2282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32448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93396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434520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468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6452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400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8348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1371600" y="3809880"/>
                <a:ext cx="609120" cy="228240"/>
                <a:chOff x="1371600" y="3809880"/>
                <a:chExt cx="609120" cy="228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37160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98072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2590920" y="3809880"/>
                <a:ext cx="609120" cy="228240"/>
                <a:chOff x="2590920" y="3809880"/>
                <a:chExt cx="609120" cy="2282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59092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20004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1068120" y="4114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77960" y="4114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287440" y="4114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896920" y="4114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165800" y="4076640"/>
            <a:ext cx="1604880" cy="459720"/>
            <a:chOff x="7165800" y="4076640"/>
            <a:chExt cx="1604880" cy="459720"/>
          </a:xfrm>
        </p:grpSpPr>
        <p:sp>
          <p:nvSpPr>
            <p:cNvPr id="274" name=""/>
            <p:cNvSpPr/>
            <p:nvPr/>
          </p:nvSpPr>
          <p:spPr>
            <a:xfrm>
              <a:off x="716580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33960" y="4076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112920" y="692280"/>
            <a:ext cx="1144800" cy="535680"/>
            <a:chOff x="3112920" y="692280"/>
            <a:chExt cx="1144800" cy="535680"/>
          </a:xfrm>
        </p:grpSpPr>
        <p:sp>
          <p:nvSpPr>
            <p:cNvPr id="277" name=""/>
            <p:cNvSpPr/>
            <p:nvPr/>
          </p:nvSpPr>
          <p:spPr>
            <a:xfrm>
              <a:off x="394128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12920" y="7682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 flipV="1">
            <a:off x="2590920" y="350496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352116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08040" y="29718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9200" y="297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105520" y="251424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25146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29120" y="19652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5468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403848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50292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13160" y="44798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7480" y="502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371600" y="4038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5638680"/>
            <a:ext cx="2514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5200" y="51055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61000" y="5638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1676520"/>
            <a:ext cx="114300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2590920"/>
            <a:ext cx="1295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2514600"/>
            <a:ext cx="1295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-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5791320"/>
            <a:ext cx="15238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-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- 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5105520"/>
            <a:ext cx="1447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- 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588000" y="836640"/>
            <a:ext cx="2109600" cy="1066680"/>
            <a:chOff x="6588000" y="836640"/>
            <a:chExt cx="2109600" cy="1066680"/>
          </a:xfrm>
        </p:grpSpPr>
        <p:sp>
          <p:nvSpPr>
            <p:cNvPr id="301" name=""/>
            <p:cNvSpPr/>
            <p:nvPr/>
          </p:nvSpPr>
          <p:spPr>
            <a:xfrm>
              <a:off x="6588000" y="836640"/>
              <a:ext cx="2037600" cy="1066680"/>
            </a:xfrm>
            <a:prstGeom prst="wedgeRectCallout">
              <a:avLst>
                <a:gd name="adj1" fmla="val -44791"/>
                <a:gd name="adj2" fmla="val 69939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72600" y="912600"/>
              <a:ext cx="20250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坐标是</a:t>
              </a:r>
              <a:r>
                <a:rPr b="1" lang="zh-CN" sz="2800" spc="-1" strike="noStrike" u="sng">
                  <a:solidFill>
                    <a:srgbClr val="ffffff"/>
                  </a:solidFill>
                  <a:uFillTx/>
                  <a:latin typeface="Times New Roman"/>
                  <a:ea typeface="楷体_GB2312"/>
                </a:rPr>
                <a:t>有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的数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364840" y="95400"/>
            <a:ext cx="43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写出图中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点的坐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564120" y="189000"/>
            <a:ext cx="8602560" cy="5218560"/>
            <a:chOff x="564120" y="189000"/>
            <a:chExt cx="8602560" cy="5218560"/>
          </a:xfrm>
        </p:grpSpPr>
        <p:sp>
          <p:nvSpPr>
            <p:cNvPr id="305" name=""/>
            <p:cNvSpPr/>
            <p:nvPr/>
          </p:nvSpPr>
          <p:spPr>
            <a:xfrm>
              <a:off x="564120" y="3424320"/>
              <a:ext cx="2819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858960" y="189000"/>
              <a:ext cx="8307720" cy="5218560"/>
              <a:chOff x="858960" y="189000"/>
              <a:chExt cx="8307720" cy="5218560"/>
            </a:xfrm>
          </p:grpSpPr>
          <p:sp>
            <p:nvSpPr>
              <p:cNvPr id="307" name=""/>
              <p:cNvSpPr/>
              <p:nvPr/>
            </p:nvSpPr>
            <p:spPr>
              <a:xfrm>
                <a:off x="7655760" y="24336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527520" y="113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858960" y="189000"/>
                <a:ext cx="8307720" cy="5218560"/>
                <a:chOff x="858960" y="189000"/>
                <a:chExt cx="8307720" cy="521856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7655760" y="833400"/>
                  <a:ext cx="591840" cy="764280"/>
                  <a:chOff x="7655760" y="833400"/>
                  <a:chExt cx="591840" cy="76428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7655760" y="833400"/>
                    <a:ext cx="32076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897680" y="9860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858960" y="189000"/>
                  <a:ext cx="8307720" cy="5218560"/>
                  <a:chOff x="858960" y="189000"/>
                  <a:chExt cx="8307720" cy="521856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6848640" y="1366920"/>
                    <a:ext cx="8859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7815240" y="1443240"/>
                    <a:ext cx="0" cy="10666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858960" y="189000"/>
                    <a:ext cx="8307720" cy="5218560"/>
                    <a:chOff x="858960" y="189000"/>
                    <a:chExt cx="8307720" cy="52185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063800" y="300240"/>
                      <a:ext cx="26190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平面上点的坐标的确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1164240" y="1197000"/>
                      <a:ext cx="3806280" cy="222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面内任意一点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过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点分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向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轴作垂线，垂足在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轴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轴上对应的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别叫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点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横坐标、纵坐标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则有序数对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叫做点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坐标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858960" y="3424320"/>
                      <a:ext cx="29710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记为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，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5397840" y="189000"/>
                      <a:ext cx="3768840" cy="3235320"/>
                      <a:chOff x="5397840" y="189000"/>
                      <a:chExt cx="3768840" cy="3235320"/>
                    </a:xfrm>
                  </p:grpSpPr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5397840" y="2509920"/>
                        <a:ext cx="3463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 flipV="1">
                        <a:off x="6847920" y="681120"/>
                        <a:ext cx="0" cy="27432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6429600" y="24750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8766360" y="24750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X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6510600" y="1890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Y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1389600" y="4338720"/>
                      <a:ext cx="4420800" cy="1068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注意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: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横坐标写在前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纵坐标写在后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中间用逗号隔开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859280" y="3645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11640" y="15573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6028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请你写出点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G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M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在的象限及各点的坐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72200" y="22096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5640" y="22766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00000" y="4869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814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16560" y="1218960"/>
            <a:ext cx="7689240" cy="5638680"/>
            <a:chOff x="916560" y="1218960"/>
            <a:chExt cx="7689240" cy="5638680"/>
          </a:xfrm>
        </p:grpSpPr>
        <p:grpSp>
          <p:nvGrpSpPr>
            <p:cNvPr id="335" name=""/>
            <p:cNvGrpSpPr/>
            <p:nvPr/>
          </p:nvGrpSpPr>
          <p:grpSpPr>
            <a:xfrm>
              <a:off x="1146240" y="1218960"/>
              <a:ext cx="7459560" cy="5638680"/>
              <a:chOff x="1146240" y="1218960"/>
              <a:chExt cx="7459560" cy="563868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1146240" y="1218960"/>
                <a:ext cx="7459560" cy="5638680"/>
                <a:chOff x="1146240" y="1218960"/>
                <a:chExt cx="7459560" cy="563868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1146240" y="4191120"/>
                  <a:ext cx="6858000" cy="764280"/>
                  <a:chOff x="1146240" y="4191120"/>
                  <a:chExt cx="6858000" cy="76428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3814920" y="43430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1146240" y="4191120"/>
                    <a:ext cx="6858000" cy="764280"/>
                    <a:chOff x="1146240" y="4191120"/>
                    <a:chExt cx="6858000" cy="76428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1146240" y="4419360"/>
                      <a:ext cx="685800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4118040" y="4191120"/>
                      <a:ext cx="609120" cy="227880"/>
                      <a:chOff x="4118040" y="4191120"/>
                      <a:chExt cx="609120" cy="22788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11804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472716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5337360" y="4191120"/>
                      <a:ext cx="609120" cy="227880"/>
                      <a:chOff x="5337360" y="4191120"/>
                      <a:chExt cx="609120" cy="227880"/>
                    </a:xfrm>
                  </p:grpSpPr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533736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594648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6556320" y="4191120"/>
                      <a:ext cx="609480" cy="227880"/>
                      <a:chOff x="6556320" y="4191120"/>
                      <a:chExt cx="609480" cy="227880"/>
                    </a:xfrm>
                  </p:grpSpPr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655632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716580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4577040" y="449568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186520" y="449568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796360" y="449568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405840" y="449568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7015320" y="449568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1603440" y="4191120"/>
                      <a:ext cx="609120" cy="227880"/>
                      <a:chOff x="1603440" y="4191120"/>
                      <a:chExt cx="609120" cy="227880"/>
                    </a:xfrm>
                  </p:grpSpPr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160344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221256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2822760" y="4191120"/>
                      <a:ext cx="609120" cy="227880"/>
                      <a:chOff x="2822760" y="4191120"/>
                      <a:chExt cx="609120" cy="227880"/>
                    </a:xfrm>
                  </p:grpSpPr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282276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343188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1299960" y="4495680"/>
                      <a:ext cx="435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1909800" y="4495680"/>
                      <a:ext cx="435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2519280" y="4495680"/>
                      <a:ext cx="435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3128760" y="4495680"/>
                      <a:ext cx="435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3662280" y="1218960"/>
                  <a:ext cx="686520" cy="5638680"/>
                  <a:chOff x="3662280" y="1218960"/>
                  <a:chExt cx="686520" cy="56386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V="1">
                    <a:off x="4118040" y="1218960"/>
                    <a:ext cx="0" cy="5638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738960" y="26672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738960" y="37339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738960" y="21337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738960" y="31244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738960" y="16002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077360" y="1827720"/>
                    <a:ext cx="271440" cy="497880"/>
                    <a:chOff x="4077360" y="1827720"/>
                    <a:chExt cx="271440" cy="49788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077360" y="232272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4082400" y="182772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4077360" y="2894760"/>
                    <a:ext cx="271440" cy="497880"/>
                    <a:chOff x="4077360" y="2894760"/>
                    <a:chExt cx="271440" cy="49788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077360" y="338976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4082400" y="289476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4077360" y="3923280"/>
                    <a:ext cx="271440" cy="497880"/>
                    <a:chOff x="4077360" y="3923280"/>
                    <a:chExt cx="271440" cy="49788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077360" y="441828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082400" y="392328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3662280" y="525780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662280" y="632484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662280" y="472464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62280" y="571500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4077360" y="4952160"/>
                    <a:ext cx="271440" cy="497880"/>
                    <a:chOff x="4077360" y="4952160"/>
                    <a:chExt cx="271440" cy="49788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077360" y="544716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4082400" y="495216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4077360" y="6018840"/>
                    <a:ext cx="271440" cy="497880"/>
                    <a:chOff x="4077360" y="6018840"/>
                    <a:chExt cx="271440" cy="49788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077360" y="651384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4082400" y="601884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7777440" y="4495680"/>
                  <a:ext cx="828360" cy="480240"/>
                  <a:chOff x="7777440" y="4495680"/>
                  <a:chExt cx="828360" cy="4802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7777440" y="44956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348760" y="451620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"/>
              <p:cNvGrpSpPr/>
              <p:nvPr/>
            </p:nvGrpSpPr>
            <p:grpSpPr>
              <a:xfrm>
                <a:off x="2709720" y="1219320"/>
                <a:ext cx="1285920" cy="556560"/>
                <a:chOff x="2709720" y="1219320"/>
                <a:chExt cx="1285920" cy="5565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662640" y="1219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709720" y="131616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"/>
            <p:cNvGrpSpPr/>
            <p:nvPr/>
          </p:nvGrpSpPr>
          <p:grpSpPr>
            <a:xfrm>
              <a:off x="916560" y="4343040"/>
              <a:ext cx="3274200" cy="1084680"/>
              <a:chOff x="916560" y="4343040"/>
              <a:chExt cx="3274200" cy="108468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600200" y="4343040"/>
                <a:ext cx="2590560" cy="669960"/>
                <a:chOff x="1600200" y="4343040"/>
                <a:chExt cx="2590560" cy="669960"/>
              </a:xfrm>
            </p:grpSpPr>
            <p:sp>
              <p:nvSpPr>
                <p:cNvPr id="399" name=""/>
                <p:cNvSpPr/>
                <p:nvPr/>
              </p:nvSpPr>
              <p:spPr>
                <a:xfrm flipV="1">
                  <a:off x="1600200" y="4343040"/>
                  <a:ext cx="0" cy="5173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600200" y="5013000"/>
                  <a:ext cx="25905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916560" y="4419360"/>
                <a:ext cx="866520" cy="1008360"/>
                <a:chOff x="916560" y="4419360"/>
                <a:chExt cx="866520" cy="10083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347840" y="4419360"/>
                  <a:ext cx="4352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00ff"/>
                      </a:solidFill>
                      <a:latin typeface="Times New Roman"/>
                    </a:rPr>
                    <a:t>·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916560" y="4799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"/>
            <p:cNvGrpSpPr/>
            <p:nvPr/>
          </p:nvGrpSpPr>
          <p:grpSpPr>
            <a:xfrm>
              <a:off x="4114800" y="2209680"/>
              <a:ext cx="2691000" cy="2210040"/>
              <a:chOff x="4114800" y="2209680"/>
              <a:chExt cx="2691000" cy="2210040"/>
            </a:xfrm>
          </p:grpSpPr>
          <p:sp>
            <p:nvSpPr>
              <p:cNvPr id="405" name=""/>
              <p:cNvSpPr/>
              <p:nvPr/>
            </p:nvSpPr>
            <p:spPr>
              <a:xfrm flipV="1">
                <a:off x="6553080" y="297180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4114800" y="2209680"/>
                <a:ext cx="2691000" cy="1145160"/>
                <a:chOff x="4114800" y="2209680"/>
                <a:chExt cx="2691000" cy="1145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370560" y="2346480"/>
                  <a:ext cx="4352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00ff"/>
                      </a:solidFill>
                      <a:latin typeface="Times New Roman"/>
                    </a:rPr>
                    <a:t>·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326640" y="22096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114800" y="2895480"/>
                  <a:ext cx="24382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2364120" y="2286000"/>
              <a:ext cx="1747080" cy="2174040"/>
              <a:chOff x="2364120" y="2286000"/>
              <a:chExt cx="1747080" cy="2174040"/>
            </a:xfrm>
          </p:grpSpPr>
          <p:sp>
            <p:nvSpPr>
              <p:cNvPr id="411" name=""/>
              <p:cNvSpPr/>
              <p:nvPr/>
            </p:nvSpPr>
            <p:spPr>
              <a:xfrm>
                <a:off x="2639880" y="2362320"/>
                <a:ext cx="43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ff"/>
                    </a:solidFill>
                    <a:latin typeface="Times New Roman"/>
                  </a:rPr>
                  <a:t>·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2819520" y="2895120"/>
                <a:ext cx="1291680" cy="1564920"/>
                <a:chOff x="2819520" y="2895120"/>
                <a:chExt cx="1291680" cy="156492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2819520" y="2895120"/>
                  <a:ext cx="0" cy="1564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92240" y="2895480"/>
                  <a:ext cx="12189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2364120" y="22860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114800" y="4419720"/>
              <a:ext cx="1965240" cy="1416240"/>
              <a:chOff x="4114800" y="4419720"/>
              <a:chExt cx="1965240" cy="1416240"/>
            </a:xfrm>
          </p:grpSpPr>
          <p:sp>
            <p:nvSpPr>
              <p:cNvPr id="417" name=""/>
              <p:cNvSpPr/>
              <p:nvPr/>
            </p:nvSpPr>
            <p:spPr>
              <a:xfrm>
                <a:off x="5562720" y="5181480"/>
                <a:ext cx="51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4114800" y="4419720"/>
                <a:ext cx="1514520" cy="1416240"/>
                <a:chOff x="4114800" y="4419720"/>
                <a:chExt cx="1514520" cy="1416240"/>
              </a:xfrm>
            </p:grpSpPr>
            <p:sp>
              <p:nvSpPr>
                <p:cNvPr id="419" name=""/>
                <p:cNvSpPr/>
                <p:nvPr/>
              </p:nvSpPr>
              <p:spPr>
                <a:xfrm flipV="1">
                  <a:off x="5396040" y="4419720"/>
                  <a:ext cx="1440" cy="1017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114800" y="5437080"/>
                  <a:ext cx="12812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194080" y="4827600"/>
                  <a:ext cx="4352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00ff"/>
                      </a:solidFill>
                      <a:latin typeface="Times New Roman"/>
                    </a:rPr>
                    <a:t>·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3564000" y="1484280"/>
            <a:ext cx="1600200" cy="642600"/>
            <a:chOff x="3564000" y="1484280"/>
            <a:chExt cx="1600200" cy="642600"/>
          </a:xfrm>
        </p:grpSpPr>
        <p:sp>
          <p:nvSpPr>
            <p:cNvPr id="423" name=""/>
            <p:cNvSpPr/>
            <p:nvPr/>
          </p:nvSpPr>
          <p:spPr>
            <a:xfrm>
              <a:off x="3944880" y="15159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64000" y="14842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宋体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292720" y="4076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19640" y="39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2720" y="2276640"/>
            <a:ext cx="71280" cy="727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64000" y="2349360"/>
            <a:ext cx="0" cy="1943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276640"/>
            <a:ext cx="12967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195640" y="1844280"/>
            <a:ext cx="0" cy="2592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24000" y="184464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19640" y="4365720"/>
            <a:ext cx="0" cy="1655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19640" y="602136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64360" y="4365720"/>
            <a:ext cx="0" cy="2160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066920" y="6524640"/>
            <a:ext cx="30970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097720" y="1700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48360" y="213372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132000" y="5803200"/>
            <a:ext cx="5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995160" y="6308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08280" y="2060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63640" y="155736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89080" y="5877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93080" y="6237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-1211760" y="2008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-1841760" y="2995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2126520" y="45277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2070720" y="4940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4213080" y="64468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注  意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坐标轴上的点不属于任何象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70800" y="5805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50080" y="4221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56000" y="580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17080" y="39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2147040" y="53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-4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-2291400" y="5680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0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43960" y="102924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纵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46712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横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69565E-007 L -2.77778E-007 -0.02082 E">
                                      <p:cBhvr>
                                        <p:cTn id="187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142 -0.1235 L 0.48142 -0.1235 E">
                                      <p:cBhvr>
                                        <p:cTn id="19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83 -0.12742 L 0.8283 -0.12742 E">
                                      <p:cBhvr>
                                        <p:cTn id="195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26 -0.06753 L 0.35226 -0.06753 E">
                                      <p:cBhvr>
                                        <p:cTn id="199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54 0.20536 L 0.58854 0.20536 E">
                                      <p:cBhvr>
                                        <p:cTn id="203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68 0.18709 L 1.0368 0.18709 E">
                                      <p:cBhvr>
                                        <p:cTn id="207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163 0.02682 L 0.76163 0.02682 E">
                                      <p:cBhvr>
                                        <p:cTn id="21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48 -0.21439 L 0.39948 -0.21439 E">
                                      <p:cBhvr>
                                        <p:cTn id="215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思考与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各个象限内的点的坐标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轴上的点的坐标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776160" y="3002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4859280" y="1628640"/>
          <a:ext cx="4038480" cy="4525560"/>
        </p:xfrm>
        <a:graphic>
          <a:graphicData uri="http://schemas.openxmlformats.org/drawingml/2006/table">
            <a:tbl>
              <a:tblPr/>
              <a:tblGrid>
                <a:gridCol w="1345680"/>
                <a:gridCol w="1346760"/>
                <a:gridCol w="1346040"/>
              </a:tblGrid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横坐标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纵坐标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-3349800" y="472428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坐标轴上的点的坐标中至少有一个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横轴上点的纵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标为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；纵轴上的点的横坐标为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-1347120" y="1778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-1490040" y="271476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-1347120" y="285912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-1347120" y="365112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-1490040" y="12240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-1418760" y="625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-1563120" y="1201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-1563120" y="4083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86 0.15101 L 0.87986 0.15101 E">
                                      <p:cBhvr>
                                        <p:cTn id="221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32 0.23496 L 1.03732 0.23496 E">
                                      <p:cBhvr>
                                        <p:cTn id="225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86 -0.00555 L 0.87986 -0.00555 E">
                                      <p:cBhvr>
                                        <p:cTn id="229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7152 0.45536 L 1.02152 0.45536 E">
                                      <p:cBhvr>
                                        <p:cTn id="233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406 0.23566 L 0.86406 0.23566 E">
                                      <p:cBhvr>
                                        <p:cTn id="237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16 0.25671 L 1.03716 0.25671 E">
                                      <p:cBhvr>
                                        <p:cTn id="241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767 0.22432 L 0.88767 0.22432 E">
                                      <p:cBhvr>
                                        <p:cTn id="245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16 0.78122 L 1.03716 0.78122 E">
                                      <p:cBhvr>
                                        <p:cTn id="249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3469 L 0.45885 -0.03469 E">
                                      <p:cBhvr>
                                        <p:cTn id="253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-36360" y="620640"/>
            <a:ext cx="91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写出下图中的多边形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CDEF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各个顶点的坐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03080" y="389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564000" y="2004840"/>
            <a:ext cx="5402160" cy="3945240"/>
            <a:chOff x="3564000" y="2004840"/>
            <a:chExt cx="5402160" cy="3945240"/>
          </a:xfrm>
        </p:grpSpPr>
        <p:graphicFrame>
          <p:nvGraphicFramePr>
            <p:cNvPr id="473" name=""/>
            <p:cNvGraphicFramePr/>
            <p:nvPr/>
          </p:nvGraphicFramePr>
          <p:xfrm>
            <a:off x="3564000" y="2004840"/>
            <a:ext cx="5402160" cy="394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64000" y="2004840"/>
                      <a:ext cx="5402160" cy="39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5" name=""/>
            <p:cNvSpPr/>
            <p:nvPr/>
          </p:nvSpPr>
          <p:spPr>
            <a:xfrm>
              <a:off x="3564000" y="3963960"/>
              <a:ext cx="496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062680" y="2277720"/>
              <a:ext cx="0" cy="352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067280" y="2508120"/>
              <a:ext cx="1009440" cy="1441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67280" y="3949560"/>
              <a:ext cx="1009440" cy="1511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76720" y="2522520"/>
              <a:ext cx="1440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16720" y="2508120"/>
              <a:ext cx="503280" cy="1441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516720" y="3949560"/>
              <a:ext cx="503280" cy="1511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03640" y="5432400"/>
              <a:ext cx="15130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81800" y="3978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91160" y="5275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03040" y="5273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98000" y="2178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08440" y="2251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58760" y="2008080"/>
            <a:ext cx="3117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解：如图，各个顶点的坐标分别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A(-2,0)    B(0,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C(3,-3)    D(4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E(3,3)     F(0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461800" y="393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58000" y="200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1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0788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3348000" y="44280"/>
            <a:ext cx="5402160" cy="3945240"/>
            <a:chOff x="3348000" y="44280"/>
            <a:chExt cx="5402160" cy="3945240"/>
          </a:xfrm>
        </p:grpSpPr>
        <p:graphicFrame>
          <p:nvGraphicFramePr>
            <p:cNvPr id="494" name=""/>
            <p:cNvGraphicFramePr/>
            <p:nvPr/>
          </p:nvGraphicFramePr>
          <p:xfrm>
            <a:off x="3348000" y="44280"/>
            <a:ext cx="5402160" cy="394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44280"/>
                      <a:ext cx="5402160" cy="39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6" name=""/>
            <p:cNvSpPr/>
            <p:nvPr/>
          </p:nvSpPr>
          <p:spPr>
            <a:xfrm>
              <a:off x="3348000" y="2003400"/>
              <a:ext cx="496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846680" y="317160"/>
              <a:ext cx="0" cy="352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851280" y="547560"/>
              <a:ext cx="1009440" cy="1441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51280" y="1989000"/>
              <a:ext cx="1009440" cy="1511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60720" y="561960"/>
              <a:ext cx="1440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00720" y="547560"/>
              <a:ext cx="503280" cy="1441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300720" y="1989000"/>
              <a:ext cx="503280" cy="1511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87640" y="3471840"/>
              <a:ext cx="15130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65800" y="201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75160" y="331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87040" y="33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82000" y="217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92440" y="290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277440" y="234936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-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12480" y="30686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0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39760" y="32846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3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10400" y="20350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4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17800" y="260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89080" y="9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0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9280" y="189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8760" y="3319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8760" y="907920"/>
            <a:ext cx="304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位置有什么特点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,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的坐标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位置有什么特点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,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的坐标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4000" y="407664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行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轴，垂直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轴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,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的纵坐标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" y="4653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行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轴，垂直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轴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,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的横坐标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6720" y="5229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17452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53280" y="-8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836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789800" y="126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2:40:20Z</dcterms:created>
  <dc:creator>lenovo</dc:creator>
  <dc:description/>
  <dc:language>en-US</dc:language>
  <cp:lastModifiedBy> </cp:lastModifiedBy>
  <dcterms:modified xsi:type="dcterms:W3CDTF">2009-10-28T13:50:02Z</dcterms:modified>
  <cp:revision>41</cp:revision>
  <dc:subject/>
  <dc:title>幻灯片 1</dc:title>
</cp:coreProperties>
</file>