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A5D-5F84-4E07-9B33-9EC2B406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C22-A116-41E5-97EF-ECC3EA78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48F-1D6C-4142-9F44-1F8AB009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C67-47C4-4130-9618-64F6DD4E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3517-4AD6-45D2-920D-6F9429F5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C064-BB53-4DEA-A020-C4036256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B566-80C1-4727-AC4C-F633A557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55A2-EB0F-4814-A3D3-8A589D1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B756-D1C3-41AD-BC3B-11508FC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85D-B361-4CE1-A507-50756F66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3CBD-964E-46AF-B9EF-E4B62B9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0DD-EAE2-4A9D-A7CB-2042D608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0433-5C1D-4D47-8971-47985D2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9142-1A55-4CC5-9C37-339F879D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E17D-9C12-42DB-8A5A-845D1647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3AE-1795-4B5F-8BB9-E30DC92A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29ED-758C-452E-B41E-5FBFD763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98F-405C-4075-9549-59829CD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1D1-114B-43DE-B3E1-20E3595B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E2D-E728-4273-A7E1-4FFE3B9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532-E806-4275-8B04-622367E4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EEF-E237-4E06-964A-076A8F2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85A-96A1-4994-B9A4-439DED2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51A-551C-42F4-8F9A-BDD5401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B3B0-12F2-44CD-8518-A9C01E1661A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3DFC-FA7F-41C2-8627-0F9D4F53103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4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立方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ctr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 实数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5493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立方根的表示方法</a:t>
            </a: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5500800" y="3500280"/>
            <a:ext cx="3352680" cy="1419480"/>
            <a:chOff x="5500800" y="3500280"/>
            <a:chExt cx="3352680" cy="1419480"/>
          </a:xfrm>
        </p:grpSpPr>
        <p:sp>
          <p:nvSpPr>
            <p:cNvPr id="147" name="Text Box 4"/>
            <p:cNvSpPr/>
            <p:nvPr/>
          </p:nvSpPr>
          <p:spPr>
            <a:xfrm>
              <a:off x="5500800" y="43383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叫做被开方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 flipH="1" flipV="1">
              <a:off x="5881680" y="3500280"/>
              <a:ext cx="91440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6"/>
          <p:cNvGrpSpPr/>
          <p:nvPr/>
        </p:nvGrpSpPr>
        <p:grpSpPr>
          <a:xfrm>
            <a:off x="1285920" y="3357360"/>
            <a:ext cx="3095280" cy="1463400"/>
            <a:chOff x="1285920" y="3357360"/>
            <a:chExt cx="3095280" cy="1463400"/>
          </a:xfrm>
        </p:grpSpPr>
        <p:sp>
          <p:nvSpPr>
            <p:cNvPr id="150" name="Text Box 7"/>
            <p:cNvSpPr/>
            <p:nvPr/>
          </p:nvSpPr>
          <p:spPr>
            <a:xfrm>
              <a:off x="1285920" y="4178160"/>
              <a:ext cx="30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叫做根指数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 flipV="1">
              <a:off x="2930040" y="3357360"/>
              <a:ext cx="1354320" cy="710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Text Box 9"/>
          <p:cNvSpPr/>
          <p:nvPr/>
        </p:nvSpPr>
        <p:spPr>
          <a:xfrm>
            <a:off x="539640" y="1773360"/>
            <a:ext cx="38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注意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这个根指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绝对不可省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4068720" y="2421000"/>
          <a:ext cx="2016000" cy="19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8720" y="2421000"/>
                    <a:ext cx="20160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尝试反馈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5867280" y="2133720"/>
          <a:ext cx="105264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133720"/>
                    <a:ext cx="10526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7667640" y="2205000"/>
          <a:ext cx="6080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2205000"/>
                    <a:ext cx="6080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1332000" y="2133720"/>
          <a:ext cx="9316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133720"/>
                    <a:ext cx="9316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2997360" y="1844640"/>
          <a:ext cx="76356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7360" y="1844640"/>
                    <a:ext cx="7635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8"/>
          <p:cNvGraphicFramePr/>
          <p:nvPr/>
        </p:nvGraphicFramePr>
        <p:xfrm>
          <a:off x="4356000" y="1916280"/>
          <a:ext cx="596880" cy="112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1916280"/>
                    <a:ext cx="59688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9"/>
          <p:cNvSpPr/>
          <p:nvPr/>
        </p:nvSpPr>
        <p:spPr>
          <a:xfrm>
            <a:off x="684720" y="20494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351160" y="205596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484720" y="2133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738960" y="2151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258160" y="20494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7074360" y="2068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071720" y="1000080"/>
            <a:ext cx="52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求下列各数的立方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500040" y="3214800"/>
          <a:ext cx="4479840" cy="19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3214800"/>
                    <a:ext cx="447984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7"/>
          <p:cNvGraphicFramePr/>
          <p:nvPr/>
        </p:nvGraphicFramePr>
        <p:xfrm>
          <a:off x="5280120" y="2781360"/>
          <a:ext cx="3863880" cy="319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80120" y="2781360"/>
                    <a:ext cx="386388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357120" y="857160"/>
          <a:ext cx="426096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857160"/>
                    <a:ext cx="426096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4730760" y="1071720"/>
          <a:ext cx="3830760" cy="26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1071720"/>
                    <a:ext cx="38307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642960" y="49291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(5)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立方根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4071960" y="5000760"/>
          <a:ext cx="10000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5000760"/>
                    <a:ext cx="1000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9640" y="404640"/>
            <a:ext cx="6810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例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求下列各式的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426960" y="1000080"/>
          <a:ext cx="78580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000080"/>
                    <a:ext cx="78580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4"/>
          <p:cNvGraphicFramePr/>
          <p:nvPr/>
        </p:nvGraphicFramePr>
        <p:xfrm>
          <a:off x="1928880" y="2143080"/>
          <a:ext cx="44812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43080"/>
                    <a:ext cx="44812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519280" y="3745080"/>
          <a:ext cx="42879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3745080"/>
                    <a:ext cx="42879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2517840" y="3000240"/>
          <a:ext cx="400032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7840" y="3000240"/>
                    <a:ext cx="40003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7"/>
          <p:cNvGraphicFramePr/>
          <p:nvPr/>
        </p:nvGraphicFramePr>
        <p:xfrm>
          <a:off x="2522520" y="4927680"/>
          <a:ext cx="233532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2520" y="4927680"/>
                    <a:ext cx="23353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自我测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928800" y="1187280"/>
          <a:ext cx="642924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187280"/>
                    <a:ext cx="6429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0"/>
          <p:cNvSpPr/>
          <p:nvPr/>
        </p:nvSpPr>
        <p:spPr>
          <a:xfrm>
            <a:off x="714240" y="3571920"/>
            <a:ext cx="8820360" cy="11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5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857160" y="4857840"/>
            <a:ext cx="727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通过以上计算，你发现了什么规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探究发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1" name="Object 9"/>
          <p:cNvGraphicFramePr/>
          <p:nvPr/>
        </p:nvGraphicFramePr>
        <p:xfrm>
          <a:off x="847800" y="1349280"/>
          <a:ext cx="823428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349280"/>
                    <a:ext cx="823428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"/>
          <p:cNvGraphicFramePr/>
          <p:nvPr/>
        </p:nvGraphicFramePr>
        <p:xfrm>
          <a:off x="500040" y="3286080"/>
          <a:ext cx="621828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286080"/>
                    <a:ext cx="62182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"/>
          <p:cNvGraphicFramePr/>
          <p:nvPr/>
        </p:nvGraphicFramePr>
        <p:xfrm>
          <a:off x="785880" y="4143240"/>
          <a:ext cx="7184880" cy="16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143240"/>
                    <a:ext cx="718488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00000" y="2276640"/>
            <a:ext cx="68407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节课你学到了哪些数学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解决问题的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285920" y="642960"/>
            <a:ext cx="69832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了解立方根的概念，会用三次根号表示一个数的立方根，能用立方运算求一个数的立方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在学习中应注意以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符号    中根指数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不能省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正数、零、负数都有一个立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根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19"/>
          <p:cNvGraphicFramePr/>
          <p:nvPr/>
        </p:nvGraphicFramePr>
        <p:xfrm>
          <a:off x="3357720" y="3643200"/>
          <a:ext cx="6030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3643200"/>
                    <a:ext cx="60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79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平方根和立方根的区别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数有两个平方根，但只有一个立方根，负数没有平方根，但却有立方根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灵活运用公式：　　　　　　　　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方与开立方互为逆运算．我们可以用立方运算求一个数的立方根，或检验一个数是不是另一个数的立方根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130640" y="2928960"/>
          <a:ext cx="45403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928960"/>
                    <a:ext cx="45403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901800" y="1197000"/>
            <a:ext cx="56862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某化工厂使用半径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米的一种球形储气罐储藏气体，现在要造一个新的球形储气罐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如果要求它的体积必须是原来体积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ebw_chamber"/>
          <p:cNvPicPr/>
          <p:nvPr/>
        </p:nvPicPr>
        <p:blipFill>
          <a:blip r:embed="rId1"/>
          <a:stretch/>
        </p:blipFill>
        <p:spPr>
          <a:xfrm>
            <a:off x="7093080" y="1413000"/>
            <a:ext cx="1152360" cy="1154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ebw_chamber"/>
          <p:cNvPicPr/>
          <p:nvPr/>
        </p:nvPicPr>
        <p:blipFill>
          <a:blip r:embed="rId2"/>
          <a:stretch/>
        </p:blipFill>
        <p:spPr>
          <a:xfrm>
            <a:off x="6877080" y="3860640"/>
            <a:ext cx="2016000" cy="2017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189800" y="466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引例解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bw_chamber"/>
          <p:cNvPicPr/>
          <p:nvPr/>
        </p:nvPicPr>
        <p:blipFill>
          <a:blip r:embed="rId1"/>
          <a:stretch/>
        </p:blipFill>
        <p:spPr>
          <a:xfrm>
            <a:off x="6786720" y="1000080"/>
            <a:ext cx="1500120" cy="170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bw_chamber"/>
          <p:cNvPicPr/>
          <p:nvPr/>
        </p:nvPicPr>
        <p:blipFill>
          <a:blip r:embed="rId2"/>
          <a:stretch/>
        </p:blipFill>
        <p:spPr>
          <a:xfrm>
            <a:off x="6357960" y="3214800"/>
            <a:ext cx="2428920" cy="2757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4"/>
          <p:cNvSpPr/>
          <p:nvPr/>
        </p:nvSpPr>
        <p:spPr>
          <a:xfrm>
            <a:off x="324000" y="981000"/>
            <a:ext cx="61768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某化工厂使用半径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米的一种球形储气罐储藏气体，现在要造一个新的球形储气罐，如果要求它的体积必须是原来体积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多少倍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WordArt 22"/>
          <p:cNvSpPr txBox="1"/>
          <p:nvPr/>
        </p:nvSpPr>
        <p:spPr>
          <a:xfrm>
            <a:off x="324000" y="549360"/>
            <a:ext cx="12585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 </a:t>
            </a:r>
            <a:endParaRPr b="0" lang="en-US" sz="40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60588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引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12682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果新储气罐的体积是原来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2428920" y="2643120"/>
          <a:ext cx="79848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643120"/>
                    <a:ext cx="7984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探究与思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857160" y="2357280"/>
          <a:ext cx="77392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357280"/>
                    <a:ext cx="7739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4"/>
          <p:cNvSpPr/>
          <p:nvPr/>
        </p:nvSpPr>
        <p:spPr>
          <a:xfrm>
            <a:off x="900000" y="14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例  解下列方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680120" y="4500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类比开平方与开立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11280" y="620640"/>
            <a:ext cx="43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437200" y="2357280"/>
            <a:ext cx="35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习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书面总结平方根与立方根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区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1071360"/>
            <a:ext cx="514368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若新储气罐的体积是原来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倍，那么它的半径又是原来储气罐半径的多少倍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85880" y="407196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怎样求出半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ebw_chamber"/>
          <p:cNvPicPr/>
          <p:nvPr/>
        </p:nvPicPr>
        <p:blipFill>
          <a:blip r:embed="rId1"/>
          <a:stretch/>
        </p:blipFill>
        <p:spPr>
          <a:xfrm>
            <a:off x="6786720" y="1000080"/>
            <a:ext cx="1500120" cy="170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bw_chamber"/>
          <p:cNvPicPr/>
          <p:nvPr/>
        </p:nvPicPr>
        <p:blipFill>
          <a:blip r:embed="rId2"/>
          <a:stretch/>
        </p:blipFill>
        <p:spPr>
          <a:xfrm>
            <a:off x="6357960" y="3214800"/>
            <a:ext cx="2428920" cy="275724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60588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引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127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什么叫一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平方根？如何用符号表示数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的平方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数的平方根有几个？它们之间的关系是什么？负数有没有平方根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平方根是什么？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平方和开平方运算有何关系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算术平方根和平方根有何区别和联系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042920" y="1563480"/>
            <a:ext cx="6408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一般地，如果一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等于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=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那么这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就叫做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（也叫做二次方根）．如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58920" y="3645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试一试，你能给出立方根定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760" y="3722760"/>
            <a:ext cx="80010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 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580000" y="3789360"/>
            <a:ext cx="9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268360" y="4508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71680" y="3571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</a:rPr>
              <a:t>立方根定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003040" y="3714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组合 8"/>
          <p:cNvGrpSpPr/>
          <p:nvPr/>
        </p:nvGrpSpPr>
        <p:grpSpPr>
          <a:xfrm>
            <a:off x="500040" y="1914480"/>
            <a:ext cx="7858080" cy="1585800"/>
            <a:chOff x="500040" y="1914480"/>
            <a:chExt cx="7858080" cy="1585800"/>
          </a:xfrm>
        </p:grpSpPr>
        <p:sp>
          <p:nvSpPr>
            <p:cNvPr id="106" name="Rectangle 5"/>
            <p:cNvSpPr/>
            <p:nvPr/>
          </p:nvSpPr>
          <p:spPr>
            <a:xfrm>
              <a:off x="500040" y="1914480"/>
              <a:ext cx="78580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一般地，如果一个数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等于</a:t>
              </a:r>
              <a:r>
                <a:rPr b="0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，即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=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,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那么这个数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就叫做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根（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cube root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,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也叫做三次方根）记作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7" name="Object 10"/>
            <p:cNvGraphicFramePr/>
            <p:nvPr/>
          </p:nvGraphicFramePr>
          <p:xfrm>
            <a:off x="7072200" y="2786400"/>
            <a:ext cx="753840" cy="71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72200" y="2786400"/>
                      <a:ext cx="753840" cy="71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785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55640" y="1052640"/>
            <a:ext cx="67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怎样求下列括号内的数？各题中已知什么数？求什么数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622520" y="2039760"/>
          <a:ext cx="33811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39760"/>
                    <a:ext cx="3381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1619280" y="2565360"/>
          <a:ext cx="304956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565360"/>
                    <a:ext cx="30495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619280" y="3645000"/>
          <a:ext cx="256680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645000"/>
                    <a:ext cx="25668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2050920" y="2060640"/>
          <a:ext cx="720720" cy="56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2060640"/>
                    <a:ext cx="720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1662120" y="2565360"/>
          <a:ext cx="1285920" cy="110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2120" y="2565360"/>
                    <a:ext cx="1285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214720" y="3714840"/>
          <a:ext cx="44748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14720" y="3714840"/>
                    <a:ext cx="4474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10"/>
          <p:cNvSpPr/>
          <p:nvPr/>
        </p:nvSpPr>
        <p:spPr>
          <a:xfrm>
            <a:off x="1357200" y="4714920"/>
            <a:ext cx="7058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正数有几个立方根？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有几个立方根？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负数呢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192320" y="260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192320" y="414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议一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类比平方根与立方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-682560" y="1484280"/>
            <a:ext cx="5463720" cy="3711600"/>
            <a:chOff x="-682560" y="1484280"/>
            <a:chExt cx="5463720" cy="3711600"/>
          </a:xfrm>
        </p:grpSpPr>
        <p:grpSp>
          <p:nvGrpSpPr>
            <p:cNvPr id="128" name="Group 4"/>
            <p:cNvGrpSpPr/>
            <p:nvPr/>
          </p:nvGrpSpPr>
          <p:grpSpPr>
            <a:xfrm>
              <a:off x="-682560" y="1484280"/>
              <a:ext cx="5463720" cy="2024280"/>
              <a:chOff x="-682560" y="1484280"/>
              <a:chExt cx="5463720" cy="202428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-682560" y="1484280"/>
                <a:ext cx="46364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3" marL="1676520" indent="-304920">
                  <a:lnSpc>
                    <a:spcPct val="80000"/>
                  </a:lnSpc>
                  <a:spcBef>
                    <a:spcPts val="79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．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开平方的定义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Text Box 6"/>
              <p:cNvSpPr/>
              <p:nvPr/>
            </p:nvSpPr>
            <p:spPr>
              <a:xfrm>
                <a:off x="466560" y="1952280"/>
                <a:ext cx="431460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求一个数</a:t>
                </a:r>
                <a:r>
                  <a:rPr b="0" i="1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的平方根的运算，叫做开平方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其中</a:t>
                </a:r>
                <a:r>
                  <a:rPr b="0" i="1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叫做被开方数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如：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1" name="Object 7"/>
            <p:cNvGraphicFramePr/>
            <p:nvPr/>
          </p:nvGraphicFramePr>
          <p:xfrm>
            <a:off x="1260000" y="3754440"/>
            <a:ext cx="2876040" cy="144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00" y="3754440"/>
                      <a:ext cx="287604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" name="Text Box 8"/>
          <p:cNvSpPr/>
          <p:nvPr/>
        </p:nvSpPr>
        <p:spPr>
          <a:xfrm>
            <a:off x="4930920" y="191448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求一个数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的运算，叫做开立方，其中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叫做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80000" y="1413000"/>
            <a:ext cx="4643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765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开立方的定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10"/>
          <p:cNvGraphicFramePr/>
          <p:nvPr/>
        </p:nvGraphicFramePr>
        <p:xfrm>
          <a:off x="5497560" y="3753000"/>
          <a:ext cx="303372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7560" y="3753000"/>
                    <a:ext cx="30337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1"/>
          <p:cNvSpPr/>
          <p:nvPr/>
        </p:nvSpPr>
        <p:spPr>
          <a:xfrm flipH="1">
            <a:off x="4645080" y="1197000"/>
            <a:ext cx="69840" cy="5688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538200" y="1268280"/>
            <a:ext cx="4465440" cy="3079440"/>
            <a:chOff x="538200" y="1268280"/>
            <a:chExt cx="4465440" cy="3079440"/>
          </a:xfrm>
        </p:grpSpPr>
        <p:sp>
          <p:nvSpPr>
            <p:cNvPr id="139" name="Text Box 3"/>
            <p:cNvSpPr/>
            <p:nvPr/>
          </p:nvSpPr>
          <p:spPr>
            <a:xfrm>
              <a:off x="885240" y="1268280"/>
              <a:ext cx="236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</a:rPr>
                <a:t>平方根的性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538200" y="2060280"/>
              <a:ext cx="4465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一个正数有两个平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根；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平方根是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负数没有平方根．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Group 5"/>
          <p:cNvGrpSpPr/>
          <p:nvPr/>
        </p:nvGrpSpPr>
        <p:grpSpPr>
          <a:xfrm>
            <a:off x="5533920" y="1197000"/>
            <a:ext cx="2911320" cy="3079440"/>
            <a:chOff x="5533920" y="1197000"/>
            <a:chExt cx="2911320" cy="3079440"/>
          </a:xfrm>
        </p:grpSpPr>
        <p:sp>
          <p:nvSpPr>
            <p:cNvPr id="142" name="Text Box 6"/>
            <p:cNvSpPr/>
            <p:nvPr/>
          </p:nvSpPr>
          <p:spPr>
            <a:xfrm>
              <a:off x="5533920" y="1197000"/>
              <a:ext cx="226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</a:rPr>
                <a:t>立方根的性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5826240" y="1989000"/>
              <a:ext cx="26190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正数的立方根是正数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负数的立方根是负数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根是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．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Line 8"/>
          <p:cNvSpPr/>
          <p:nvPr/>
        </p:nvSpPr>
        <p:spPr>
          <a:xfrm flipH="1">
            <a:off x="4572000" y="549360"/>
            <a:ext cx="71280" cy="5688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cp:keywords/>
  <dc:language>en-US</dc:language>
  <cp:lastModifiedBy>微软用户</cp:lastModifiedBy>
  <dcterms:modified xsi:type="dcterms:W3CDTF">2013-05-08T06:46:02Z</dcterms:modified>
  <cp:revision>31</cp:revision>
  <dc:subject/>
  <dc:title>第一章    物态及其变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