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CFD1-FB35-4534-9325-7EE3A768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A08C-EBED-48B6-8D79-E0F927D4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C0E0-30E4-4196-8F4E-158B2166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362A-4DE9-4C38-98D0-4FE21552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A014-C2C3-4F0F-BEB1-E0F5A0AB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23F0-E298-42C4-9B80-3FEC5027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0633-6DD4-4453-8C93-36662829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415D-1E0D-4ADD-8722-E9B9238A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977E-1ED3-4C22-B075-8E167C1E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6ACE-C232-4025-A997-1408F03B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EBA7-B5C0-4DEA-A49E-B4F085C4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5337-E1BE-450A-8692-A8B63109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9F01-A2F8-4883-9B4F-1F3742F79236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一章    整式的乘除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31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6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完全平方公式（第</a:t>
            </a: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课时）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9280" y="475920"/>
            <a:ext cx="224316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课堂小结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Rectangle 18"/>
          <p:cNvSpPr/>
          <p:nvPr/>
        </p:nvSpPr>
        <p:spPr>
          <a:xfrm>
            <a:off x="755640" y="2257920"/>
            <a:ext cx="720108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完全平方公式的使用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在做题过程中一定要注意符号问题和正确认识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a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表示的意义，它们可以是数、也可以是单项式，还可以是多项式，所以要记得添括号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解题技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在解题之前应注意观察思考，选择不同的方法会有不同的效果，要学会优化选择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87280" y="907560"/>
            <a:ext cx="168768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作业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826920" y="1989000"/>
            <a:ext cx="7705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教材习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1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联系拓广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533160" y="150840"/>
            <a:ext cx="20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联系拓广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58920" y="826920"/>
            <a:ext cx="83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如果把完全平方公式中的字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换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+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公式中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换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那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变成怎样的式子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68360" y="251316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  <a:ea typeface="楷体_GB2312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变成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m+n+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681120" y="1773360"/>
            <a:ext cx="3962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怎样计算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m+n+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)</a:t>
            </a:r>
            <a:r>
              <a:rPr b="1" lang="en-US" sz="2900" spc="-1" strike="noStrike" baseline="30000">
                <a:solidFill>
                  <a:srgbClr val="ffffff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66560" y="3032280"/>
            <a:ext cx="47898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+n+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29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隶书"/>
              </a:rPr>
              <a:t>=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[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+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+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en-US" sz="29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897360" y="24987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逐步计算得到：</a:t>
            </a:r>
            <a:r>
              <a:rPr b="1" lang="zh-CN" sz="2800" spc="-1" strike="noStrike">
                <a:solidFill>
                  <a:srgbClr val="0033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696960" y="3503520"/>
            <a:ext cx="3886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隶书"/>
              </a:rPr>
              <a:t>=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m+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r>
              <a:rPr b="1" lang="en-US" sz="2900" spc="-1" strike="noStrike" baseline="30000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2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m+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p</a:t>
            </a:r>
            <a:r>
              <a:rPr b="1" lang="en-US" sz="2900" spc="-1" strike="noStrike" baseline="30000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696960" y="3960720"/>
            <a:ext cx="5181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隶书"/>
              </a:rPr>
              <a:t>=</a:t>
            </a:r>
            <a:r>
              <a:rPr b="1" i="1" lang="en-US" sz="29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m</a:t>
            </a:r>
            <a:r>
              <a:rPr b="1" lang="en-US" sz="2900" spc="-1" strike="noStrike" baseline="30000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i="1" lang="en-US" sz="29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</a:t>
            </a: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i="1" lang="en-US" sz="29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mn+n</a:t>
            </a:r>
            <a:r>
              <a:rPr b="1" lang="en-US" sz="2900" spc="-1" strike="noStrike" baseline="30000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i="1" lang="en-US" sz="29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</a:t>
            </a: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i="1" lang="en-US" sz="29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mp+</a:t>
            </a: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i="1" lang="en-US" sz="29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np+p</a:t>
            </a:r>
            <a:r>
              <a:rPr b="1" lang="en-US" sz="2900" spc="-1" strike="noStrike" baseline="30000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696960" y="4479840"/>
            <a:ext cx="5181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隶书"/>
              </a:rPr>
              <a:t>=</a:t>
            </a:r>
            <a:r>
              <a:rPr b="1" i="1" lang="en-US" sz="29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m</a:t>
            </a:r>
            <a:r>
              <a:rPr b="1" lang="en-US" sz="2900" spc="-1" strike="noStrike" baseline="30000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i="1" lang="en-US" sz="29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 n</a:t>
            </a:r>
            <a:r>
              <a:rPr b="1" lang="en-US" sz="2900" spc="-1" strike="noStrike" baseline="30000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i="1" lang="en-US" sz="29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+p</a:t>
            </a:r>
            <a:r>
              <a:rPr b="1" lang="en-US" sz="2900" spc="-1" strike="noStrike" baseline="30000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i="1" lang="en-US" sz="29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</a:t>
            </a: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i="1" lang="en-US" sz="29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mn+</a:t>
            </a: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i="1" lang="en-US" sz="29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mp+</a:t>
            </a: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i="1" lang="en-US" sz="29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np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358920" y="5146560"/>
            <a:ext cx="81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把所得结果作为推广了的完全平方公式，试用语言叙述这一公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33160" y="473040"/>
            <a:ext cx="20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联系拓广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1396800" y="1563840"/>
            <a:ext cx="54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已知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+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=5,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=-6,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求下列各式的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626480" y="244800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(1)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+b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en-US" sz="32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         (2)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+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826920" y="386064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若条件换成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=5,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=-6,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你能求出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+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值吗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6440" y="333000"/>
            <a:ext cx="251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知识回顾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50920" y="2997360"/>
            <a:ext cx="76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想一想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两个公式中的字母都能表示什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完全平方公式在计算化简中有些什么作用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根据两数和或差的完全平方公式，能够计算多个数的和或差的平方吗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15600" y="1411920"/>
            <a:ext cx="6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内容占位符 2"/>
          <p:cNvSpPr/>
          <p:nvPr/>
        </p:nvSpPr>
        <p:spPr>
          <a:xfrm>
            <a:off x="1295280" y="1989000"/>
            <a:ext cx="748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a+b)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=a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+2ab+b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内容占位符 2"/>
          <p:cNvSpPr/>
          <p:nvPr/>
        </p:nvSpPr>
        <p:spPr>
          <a:xfrm>
            <a:off x="1366920" y="2494080"/>
            <a:ext cx="748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a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－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b)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=a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0" i="1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－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ab+b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副标题 2"/>
          <p:cNvSpPr/>
          <p:nvPr/>
        </p:nvSpPr>
        <p:spPr>
          <a:xfrm>
            <a:off x="611280" y="1413000"/>
            <a:ext cx="4140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完全平方公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000" y="431640"/>
            <a:ext cx="298764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做一做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35"/>
          <p:cNvSpPr/>
          <p:nvPr/>
        </p:nvSpPr>
        <p:spPr>
          <a:xfrm>
            <a:off x="971640" y="1197000"/>
            <a:ext cx="7272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有一位老人非常喜欢孩子，每当有孩子到他家做客时，老人都要拿出糖果招待他们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来一个孩子，老人就给这个孩子一块糖，来两个孩子，老人就给每个孩子两块糖，来三个，就给每人三块糖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6"/>
          <p:cNvSpPr/>
          <p:nvPr/>
        </p:nvSpPr>
        <p:spPr>
          <a:xfrm>
            <a:off x="900000" y="4653000"/>
            <a:ext cx="7417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1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天有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a</a:t>
            </a:r>
            <a:r>
              <a:rPr b="1" i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男孩一起去了老人家，老人一共给了这些孩子多少块糖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4000" y="431640"/>
            <a:ext cx="298764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做一做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971640" y="1197000"/>
            <a:ext cx="7272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有一位老人非常喜欢孩子，每当有孩子到他家做客时，老人都要拿出糖果招待他们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来一个孩子，老人就给这个孩子一块糖，来两个孩子，老人就给每个孩子两块糖，来三个，就给每人三块糖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826920" y="4653000"/>
            <a:ext cx="7632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天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b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女孩一起去了老人家，老人一共给了这些孩子多少块糖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195640" y="5873760"/>
            <a:ext cx="7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b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华文中宋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4000" y="431640"/>
            <a:ext cx="298764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做一做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71640" y="1197000"/>
            <a:ext cx="7272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有一位老人非常喜欢孩子，每当有孩子到他家做客时，老人都要拿出糖果招待他们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来一个孩子，老人就给这个孩子一块糖，来两个孩子，老人就给每个孩子两块糖，来三个，就给每人三块糖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26920" y="4508640"/>
            <a:ext cx="784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天这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a + b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孩子一起去看老人，老人一共给了这些孩子多少块糖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2484360" y="5877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(a+b)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imes New Roman"/>
                <a:ea typeface="华文中宋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000" y="431640"/>
            <a:ext cx="298764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做一做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971640" y="1197000"/>
            <a:ext cx="7272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有一位老人非常喜欢孩子，每当有孩子到他家做客时，老人都要拿出糖果招待他们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来一个孩子，老人就给这个孩子一块糖，来两个孩子，老人就给每个孩子两块糖，来三个，就给每人三块糖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971640" y="4395960"/>
            <a:ext cx="73454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4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这些孩子第三天得到的糖果数与前两天他们得到的糖果总数哪个多？多多少？为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189080" y="5445000"/>
            <a:ext cx="6551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(a+b)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-(a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+b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)=a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+2ab+b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-a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-b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=2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副标题 2"/>
          <p:cNvSpPr/>
          <p:nvPr/>
        </p:nvSpPr>
        <p:spPr>
          <a:xfrm>
            <a:off x="431640" y="476280"/>
            <a:ext cx="6516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简单应用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1028880" y="1413000"/>
            <a:ext cx="6422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利用完全平方公式计算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1) 10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黑体"/>
              </a:rPr>
              <a:t>2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; 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黑体"/>
              </a:rPr>
              <a:t>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2) 197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.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468360" y="443700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ce1"/>
                </a:solidFill>
                <a:latin typeface="Times New Roman"/>
                <a:ea typeface="华文中宋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1) 96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；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2) 20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900000" y="371304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巩固练习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副标题 2"/>
          <p:cNvSpPr/>
          <p:nvPr/>
        </p:nvSpPr>
        <p:spPr>
          <a:xfrm>
            <a:off x="611280" y="549360"/>
            <a:ext cx="3456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综合应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417600" y="1785960"/>
            <a:ext cx="876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算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1)  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+3)</a:t>
            </a:r>
            <a:r>
              <a:rPr b="1" lang="en-US" sz="3200" spc="-1" strike="noStrike" baseline="30000">
                <a:solidFill>
                  <a:srgbClr val="ffffff"/>
                </a:solidFill>
                <a:latin typeface="黑体"/>
                <a:ea typeface="黑体"/>
              </a:rPr>
              <a:t>2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17600" y="306864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(2)  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+5)</a:t>
            </a:r>
            <a:r>
              <a:rPr b="1" lang="en-US" sz="32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–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2)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380880" y="37861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(3)  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+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+3)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+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副标题 2"/>
          <p:cNvSpPr/>
          <p:nvPr/>
        </p:nvSpPr>
        <p:spPr>
          <a:xfrm>
            <a:off x="611280" y="549360"/>
            <a:ext cx="3456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综合应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17600" y="17859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巩固练习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474920" y="2421000"/>
            <a:ext cx="6337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b+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)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2)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1)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1)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2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2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7:39:33Z</dcterms:created>
  <dc:creator/>
  <dc:description/>
  <dc:language>en-US</dc:language>
  <cp:lastModifiedBy>User</cp:lastModifiedBy>
  <dcterms:modified xsi:type="dcterms:W3CDTF">2014-02-08T02:00:05Z</dcterms:modified>
  <cp:revision>24</cp:revision>
  <dc:subject/>
  <dc:title>第一章    整式的乘除</dc:title>
</cp:coreProperties>
</file>