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242-2666-4FB5-BF6D-4F5F4D8B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BE5-8C6F-407C-96E0-CE324F68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6EE-553B-4117-9AB8-7794A774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AC4-C67A-4058-82C7-C8CCBCCE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A7F5-1A52-4D89-AD42-604D6B7B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328-7724-4D3A-A4A7-A3361B37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F85-8648-4B59-B981-D2A7DE5C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0DF-4CD6-426B-83C5-8E01FDD3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2C7-5248-4DEA-8649-4EA34CB0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9F3-5D34-47BA-B76C-A44F2026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62B-59E5-42E8-8D19-EB47A7DF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893-A445-4E8B-964B-011D0A73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0EBC-BEDE-4165-9C72-EAD894575114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2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标题 1"/>
          <p:cNvSpPr/>
          <p:nvPr/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三章    三角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副标题 2"/>
          <p:cNvSpPr/>
          <p:nvPr/>
        </p:nvSpPr>
        <p:spPr>
          <a:xfrm>
            <a:off x="324000" y="2781360"/>
            <a:ext cx="845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探索三角形全等的条件（第</a:t>
            </a: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课时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32000" y="4581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辽宁省沈阳市第九十九中学   刘思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50920" y="260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练一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50920" y="1413000"/>
            <a:ext cx="92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如图，已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=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 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 =∠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∠B=∠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则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C  ≌△DEF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理由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50920" y="26370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如图，已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=DE ,∠A=∠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∠C=∠F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则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C  ≌△DEF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理由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250920" y="4005360"/>
            <a:ext cx="6696720" cy="2320560"/>
            <a:chOff x="250920" y="4005360"/>
            <a:chExt cx="6696720" cy="2320560"/>
          </a:xfrm>
        </p:grpSpPr>
        <p:grpSp>
          <p:nvGrpSpPr>
            <p:cNvPr id="133" name="Group 6"/>
            <p:cNvGrpSpPr/>
            <p:nvPr/>
          </p:nvGrpSpPr>
          <p:grpSpPr>
            <a:xfrm>
              <a:off x="250920" y="4005360"/>
              <a:ext cx="3168000" cy="2320560"/>
              <a:chOff x="250920" y="4005360"/>
              <a:chExt cx="3168000" cy="2320560"/>
            </a:xfrm>
          </p:grpSpPr>
          <p:grpSp>
            <p:nvGrpSpPr>
              <p:cNvPr id="134" name="Group 7"/>
              <p:cNvGrpSpPr/>
              <p:nvPr/>
            </p:nvGrpSpPr>
            <p:grpSpPr>
              <a:xfrm>
                <a:off x="610920" y="4365360"/>
                <a:ext cx="2087280" cy="1510920"/>
                <a:chOff x="610920" y="4365360"/>
                <a:chExt cx="2087280" cy="1510920"/>
              </a:xfrm>
            </p:grpSpPr>
            <p:sp>
              <p:nvSpPr>
                <p:cNvPr id="135" name="Line 8"/>
                <p:cNvSpPr/>
                <p:nvPr/>
              </p:nvSpPr>
              <p:spPr>
                <a:xfrm flipH="1">
                  <a:off x="610920" y="4365360"/>
                  <a:ext cx="1439280" cy="151092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Line 9"/>
                <p:cNvSpPr/>
                <p:nvPr/>
              </p:nvSpPr>
              <p:spPr>
                <a:xfrm>
                  <a:off x="610920" y="5876280"/>
                  <a:ext cx="2087280" cy="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10"/>
                <p:cNvSpPr/>
                <p:nvPr/>
              </p:nvSpPr>
              <p:spPr>
                <a:xfrm>
                  <a:off x="2050200" y="4365360"/>
                  <a:ext cx="647640" cy="151092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Text Box 11"/>
              <p:cNvSpPr/>
              <p:nvPr/>
            </p:nvSpPr>
            <p:spPr>
              <a:xfrm>
                <a:off x="250920" y="5805360"/>
                <a:ext cx="57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2"/>
              <p:cNvSpPr/>
              <p:nvPr/>
            </p:nvSpPr>
            <p:spPr>
              <a:xfrm>
                <a:off x="2771640" y="5732280"/>
                <a:ext cx="64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3"/>
              <p:cNvSpPr/>
              <p:nvPr/>
            </p:nvSpPr>
            <p:spPr>
              <a:xfrm>
                <a:off x="2124000" y="400536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14"/>
            <p:cNvGrpSpPr/>
            <p:nvPr/>
          </p:nvGrpSpPr>
          <p:grpSpPr>
            <a:xfrm>
              <a:off x="3779640" y="4005360"/>
              <a:ext cx="3168000" cy="2320560"/>
              <a:chOff x="3779640" y="4005360"/>
              <a:chExt cx="3168000" cy="2320560"/>
            </a:xfrm>
          </p:grpSpPr>
          <p:grpSp>
            <p:nvGrpSpPr>
              <p:cNvPr id="142" name="Group 15"/>
              <p:cNvGrpSpPr/>
              <p:nvPr/>
            </p:nvGrpSpPr>
            <p:grpSpPr>
              <a:xfrm>
                <a:off x="4139640" y="4365360"/>
                <a:ext cx="2087280" cy="1510920"/>
                <a:chOff x="4139640" y="4365360"/>
                <a:chExt cx="2087280" cy="1510920"/>
              </a:xfrm>
            </p:grpSpPr>
            <p:sp>
              <p:nvSpPr>
                <p:cNvPr id="143" name="Line 16"/>
                <p:cNvSpPr/>
                <p:nvPr/>
              </p:nvSpPr>
              <p:spPr>
                <a:xfrm flipH="1">
                  <a:off x="4139640" y="4365360"/>
                  <a:ext cx="1439280" cy="151092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Line 17"/>
                <p:cNvSpPr/>
                <p:nvPr/>
              </p:nvSpPr>
              <p:spPr>
                <a:xfrm>
                  <a:off x="4139640" y="5876280"/>
                  <a:ext cx="2087280" cy="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8"/>
                <p:cNvSpPr/>
                <p:nvPr/>
              </p:nvSpPr>
              <p:spPr>
                <a:xfrm>
                  <a:off x="5578920" y="4365360"/>
                  <a:ext cx="647640" cy="151092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Text Box 19"/>
              <p:cNvSpPr/>
              <p:nvPr/>
            </p:nvSpPr>
            <p:spPr>
              <a:xfrm>
                <a:off x="3779640" y="5805360"/>
                <a:ext cx="57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20"/>
              <p:cNvSpPr/>
              <p:nvPr/>
            </p:nvSpPr>
            <p:spPr>
              <a:xfrm>
                <a:off x="6300360" y="5732280"/>
                <a:ext cx="64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Text Box 21"/>
              <p:cNvSpPr/>
              <p:nvPr/>
            </p:nvSpPr>
            <p:spPr>
              <a:xfrm>
                <a:off x="5652720" y="400536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Rectangle 22"/>
          <p:cNvSpPr/>
          <p:nvPr/>
        </p:nvSpPr>
        <p:spPr>
          <a:xfrm>
            <a:off x="6181560" y="1941480"/>
            <a:ext cx="24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角边角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S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5819040" y="3357720"/>
            <a:ext cx="24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角角边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AS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applause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5"/>
          <p:cNvSpPr/>
          <p:nvPr/>
        </p:nvSpPr>
        <p:spPr>
          <a:xfrm>
            <a:off x="179280" y="260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巩固提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-36360" y="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巩固提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250920" y="876240"/>
            <a:ext cx="71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完成下列推理过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0920" y="18748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C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中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250920" y="3070080"/>
            <a:ext cx="4464000" cy="1654200"/>
            <a:chOff x="250920" y="3070080"/>
            <a:chExt cx="4464000" cy="1654200"/>
          </a:xfrm>
        </p:grpSpPr>
        <mc:AlternateContent>
          <mc:Choice xmlns:a14="http://schemas.microsoft.com/office/drawing/2010/main" Requires="a14">
            <p:sp>
              <p:nvSpPr>
                <p:cNvPr id="156" name="Object 6"/>
                <p:cNvSpPr txBox="1"/>
                <p:nvPr/>
              </p:nvSpPr>
              <p:spPr>
                <a:xfrm>
                  <a:off x="888120" y="3209760"/>
                  <a:ext cx="1101240" cy="15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Rectangle 7"/>
            <p:cNvSpPr/>
            <p:nvPr/>
          </p:nvSpPr>
          <p:spPr>
            <a:xfrm>
              <a:off x="1428120" y="3070080"/>
              <a:ext cx="291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∠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ABC=∠DC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250920" y="3498840"/>
              <a:ext cx="446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∵   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BC=C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9"/>
            <p:cNvSpPr/>
            <p:nvPr/>
          </p:nvSpPr>
          <p:spPr>
            <a:xfrm>
              <a:off x="1455480" y="4651200"/>
              <a:ext cx="3188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Text Box 10"/>
          <p:cNvSpPr/>
          <p:nvPr/>
        </p:nvSpPr>
        <p:spPr>
          <a:xfrm>
            <a:off x="395280" y="51148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∴△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C≌△DC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211640" y="5157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5689440" y="4587840"/>
            <a:ext cx="295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 flipV="1">
            <a:off x="5689440" y="2715840"/>
            <a:ext cx="432000" cy="18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 flipH="1" flipV="1">
            <a:off x="8100360" y="2725200"/>
            <a:ext cx="506160" cy="185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 flipV="1">
            <a:off x="5689440" y="2715840"/>
            <a:ext cx="2448000" cy="18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 flipH="1" flipV="1">
            <a:off x="6121440" y="2715840"/>
            <a:ext cx="2519280" cy="18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5689440" y="22114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184720" y="43005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8640720" y="43005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8064360" y="22114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6912000" y="3508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2"/>
          <p:cNvGrpSpPr/>
          <p:nvPr/>
        </p:nvGrpSpPr>
        <p:grpSpPr>
          <a:xfrm>
            <a:off x="5940360" y="2868840"/>
            <a:ext cx="2376360" cy="1801440"/>
            <a:chOff x="5940360" y="2868840"/>
            <a:chExt cx="2376360" cy="1801440"/>
          </a:xfrm>
        </p:grpSpPr>
        <p:sp>
          <p:nvSpPr>
            <p:cNvPr id="173" name="Arc 23"/>
            <p:cNvSpPr/>
            <p:nvPr/>
          </p:nvSpPr>
          <p:spPr>
            <a:xfrm>
              <a:off x="5940360" y="4365720"/>
              <a:ext cx="71640" cy="215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rc 24"/>
            <p:cNvSpPr/>
            <p:nvPr/>
          </p:nvSpPr>
          <p:spPr>
            <a:xfrm flipH="1">
              <a:off x="8243280" y="4365720"/>
              <a:ext cx="73080" cy="215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rc 25"/>
            <p:cNvSpPr/>
            <p:nvPr/>
          </p:nvSpPr>
          <p:spPr>
            <a:xfrm rot="3849000">
              <a:off x="6155280" y="2853360"/>
              <a:ext cx="144360" cy="2858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Arc 26"/>
            <p:cNvSpPr/>
            <p:nvPr/>
          </p:nvSpPr>
          <p:spPr>
            <a:xfrm rot="6969600">
              <a:off x="7955640" y="2853360"/>
              <a:ext cx="144360" cy="2858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7"/>
            <p:cNvSpPr/>
            <p:nvPr/>
          </p:nvSpPr>
          <p:spPr>
            <a:xfrm>
              <a:off x="6012000" y="41497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28"/>
            <p:cNvSpPr/>
            <p:nvPr/>
          </p:nvSpPr>
          <p:spPr>
            <a:xfrm>
              <a:off x="7885080" y="414972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29"/>
            <p:cNvSpPr/>
            <p:nvPr/>
          </p:nvSpPr>
          <p:spPr>
            <a:xfrm>
              <a:off x="6012000" y="29811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30"/>
            <p:cNvSpPr/>
            <p:nvPr/>
          </p:nvSpPr>
          <p:spPr>
            <a:xfrm>
              <a:off x="7812000" y="29973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31"/>
          <p:cNvSpPr/>
          <p:nvPr/>
        </p:nvSpPr>
        <p:spPr>
          <a:xfrm>
            <a:off x="3060720" y="35002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        ）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3564000" y="357012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公共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1403280" y="393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=∠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4140360" y="508464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35"/>
          <p:cNvSpPr/>
          <p:nvPr/>
        </p:nvSpPr>
        <p:spPr>
          <a:xfrm>
            <a:off x="1403280" y="2924280"/>
            <a:ext cx="3600360" cy="1944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＝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＝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-36360" y="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巩固练习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765000"/>
            <a:ext cx="8352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图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中点，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=∠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O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与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O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全等吗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4427640" y="2924280"/>
            <a:ext cx="4464000" cy="2883240"/>
            <a:chOff x="4427640" y="2924280"/>
            <a:chExt cx="4464000" cy="2883240"/>
          </a:xfrm>
        </p:grpSpPr>
        <p:sp>
          <p:nvSpPr>
            <p:cNvPr id="189" name="Line 5"/>
            <p:cNvSpPr/>
            <p:nvPr/>
          </p:nvSpPr>
          <p:spPr>
            <a:xfrm>
              <a:off x="4714920" y="4437000"/>
              <a:ext cx="3960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>
              <a:off x="5075280" y="3429000"/>
              <a:ext cx="3240000" cy="2015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V="1">
              <a:off x="4714920" y="3428640"/>
              <a:ext cx="360360" cy="100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V="1">
              <a:off x="8315280" y="4436640"/>
              <a:ext cx="360360" cy="100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9"/>
            <p:cNvSpPr/>
            <p:nvPr/>
          </p:nvSpPr>
          <p:spPr>
            <a:xfrm>
              <a:off x="4427640" y="436392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0"/>
            <p:cNvSpPr/>
            <p:nvPr/>
          </p:nvSpPr>
          <p:spPr>
            <a:xfrm>
              <a:off x="8386560" y="39322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4930560" y="2924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8315280" y="52261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6514920" y="385740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Text Box 14"/>
          <p:cNvSpPr/>
          <p:nvPr/>
        </p:nvSpPr>
        <p:spPr>
          <a:xfrm>
            <a:off x="395280" y="285264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我的思考过程如下：两角与夹边对应相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250920" y="494172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∴△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OC≌△B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rc 16"/>
          <p:cNvSpPr/>
          <p:nvPr/>
        </p:nvSpPr>
        <p:spPr>
          <a:xfrm flipH="1">
            <a:off x="6300000" y="4221000"/>
            <a:ext cx="71640" cy="21600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rc 17"/>
          <p:cNvSpPr/>
          <p:nvPr/>
        </p:nvSpPr>
        <p:spPr>
          <a:xfrm flipV="1">
            <a:off x="7020000" y="4437000"/>
            <a:ext cx="73080" cy="21600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18"/>
          <p:cNvGrpSpPr/>
          <p:nvPr/>
        </p:nvGrpSpPr>
        <p:grpSpPr>
          <a:xfrm>
            <a:off x="8459640" y="4436640"/>
            <a:ext cx="144720" cy="216360"/>
            <a:chOff x="8459640" y="4436640"/>
            <a:chExt cx="144720" cy="216360"/>
          </a:xfrm>
        </p:grpSpPr>
        <p:sp>
          <p:nvSpPr>
            <p:cNvPr id="203" name="Arc 19"/>
            <p:cNvSpPr/>
            <p:nvPr/>
          </p:nvSpPr>
          <p:spPr>
            <a:xfrm flipH="1" flipV="1">
              <a:off x="8459640" y="4437000"/>
              <a:ext cx="144720" cy="2160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Arc 20"/>
            <p:cNvSpPr/>
            <p:nvPr/>
          </p:nvSpPr>
          <p:spPr>
            <a:xfrm flipH="1" flipV="1">
              <a:off x="8532000" y="4436280"/>
              <a:ext cx="71640" cy="144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Group 21"/>
          <p:cNvGrpSpPr/>
          <p:nvPr/>
        </p:nvGrpSpPr>
        <p:grpSpPr>
          <a:xfrm>
            <a:off x="4788000" y="4221000"/>
            <a:ext cx="215640" cy="216000"/>
            <a:chOff x="4788000" y="4221000"/>
            <a:chExt cx="215640" cy="216000"/>
          </a:xfrm>
        </p:grpSpPr>
        <p:sp>
          <p:nvSpPr>
            <p:cNvPr id="206" name="Arc 22"/>
            <p:cNvSpPr/>
            <p:nvPr/>
          </p:nvSpPr>
          <p:spPr>
            <a:xfrm>
              <a:off x="4788000" y="4292640"/>
              <a:ext cx="144360" cy="144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Arc 23"/>
            <p:cNvSpPr/>
            <p:nvPr/>
          </p:nvSpPr>
          <p:spPr>
            <a:xfrm>
              <a:off x="4788000" y="4221000"/>
              <a:ext cx="215640" cy="2160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Line 24"/>
          <p:cNvSpPr/>
          <p:nvPr/>
        </p:nvSpPr>
        <p:spPr>
          <a:xfrm>
            <a:off x="5580000" y="43657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7740720" y="43657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611280" y="836640"/>
            <a:ext cx="71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﹑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请在下列空格中填上适当的条件，使△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C≌△DEF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611280" y="1773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△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△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34920" y="3138480"/>
            <a:ext cx="3887280" cy="1658880"/>
            <a:chOff x="34920" y="3138480"/>
            <a:chExt cx="3887280" cy="1658880"/>
          </a:xfrm>
        </p:grpSpPr>
        <mc:AlternateContent>
          <mc:Choice xmlns:a14="http://schemas.microsoft.com/office/drawing/2010/main" Requires="a14">
            <p:sp>
              <p:nvSpPr>
                <p:cNvPr id="213" name="Object 5"/>
                <p:cNvSpPr txBox="1"/>
                <p:nvPr/>
              </p:nvSpPr>
              <p:spPr>
                <a:xfrm>
                  <a:off x="755280" y="3138480"/>
                  <a:ext cx="431640" cy="16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Text Box 6"/>
            <p:cNvSpPr/>
            <p:nvPr/>
          </p:nvSpPr>
          <p:spPr>
            <a:xfrm>
              <a:off x="34920" y="342720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</a:rPr>
                <a:t>∵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042920" y="3498480"/>
              <a:ext cx="287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8"/>
            <p:cNvSpPr/>
            <p:nvPr/>
          </p:nvSpPr>
          <p:spPr>
            <a:xfrm>
              <a:off x="1042920" y="4146480"/>
              <a:ext cx="287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1042920" y="4795560"/>
              <a:ext cx="287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 Box 10"/>
          <p:cNvSpPr/>
          <p:nvPr/>
        </p:nvSpPr>
        <p:spPr>
          <a:xfrm>
            <a:off x="0" y="5229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∴△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C ≌△DEF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      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Group 11"/>
          <p:cNvGrpSpPr/>
          <p:nvPr/>
        </p:nvGrpSpPr>
        <p:grpSpPr>
          <a:xfrm>
            <a:off x="4751280" y="2276640"/>
            <a:ext cx="4392720" cy="2740320"/>
            <a:chOff x="4751280" y="2276640"/>
            <a:chExt cx="4392720" cy="2740320"/>
          </a:xfrm>
        </p:grpSpPr>
        <p:grpSp>
          <p:nvGrpSpPr>
            <p:cNvPr id="220" name="Group 12"/>
            <p:cNvGrpSpPr/>
            <p:nvPr/>
          </p:nvGrpSpPr>
          <p:grpSpPr>
            <a:xfrm>
              <a:off x="4751280" y="2276640"/>
              <a:ext cx="4106880" cy="2740320"/>
              <a:chOff x="4751280" y="2276640"/>
              <a:chExt cx="4106880" cy="2740320"/>
            </a:xfrm>
          </p:grpSpPr>
          <p:sp>
            <p:nvSpPr>
              <p:cNvPr id="221" name="Line 13"/>
              <p:cNvSpPr/>
              <p:nvPr/>
            </p:nvSpPr>
            <p:spPr>
              <a:xfrm>
                <a:off x="4968720" y="4435560"/>
                <a:ext cx="3888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14"/>
              <p:cNvSpPr/>
              <p:nvPr/>
            </p:nvSpPr>
            <p:spPr>
              <a:xfrm flipV="1">
                <a:off x="4968720" y="2707920"/>
                <a:ext cx="790560" cy="1726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15"/>
              <p:cNvSpPr/>
              <p:nvPr/>
            </p:nvSpPr>
            <p:spPr>
              <a:xfrm flipV="1">
                <a:off x="6408720" y="2707920"/>
                <a:ext cx="790560" cy="1726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16"/>
              <p:cNvSpPr/>
              <p:nvPr/>
            </p:nvSpPr>
            <p:spPr>
              <a:xfrm>
                <a:off x="5759280" y="2708280"/>
                <a:ext cx="1657440" cy="1726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17"/>
              <p:cNvSpPr/>
              <p:nvPr/>
            </p:nvSpPr>
            <p:spPr>
              <a:xfrm>
                <a:off x="7200720" y="2708280"/>
                <a:ext cx="1657440" cy="1726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Text Box 18"/>
              <p:cNvSpPr/>
              <p:nvPr/>
            </p:nvSpPr>
            <p:spPr>
              <a:xfrm>
                <a:off x="5830920" y="2276640"/>
                <a:ext cx="504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19"/>
              <p:cNvSpPr/>
              <p:nvPr/>
            </p:nvSpPr>
            <p:spPr>
              <a:xfrm>
                <a:off x="4751280" y="443556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20"/>
              <p:cNvSpPr/>
              <p:nvPr/>
            </p:nvSpPr>
            <p:spPr>
              <a:xfrm>
                <a:off x="7128000" y="44355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21"/>
              <p:cNvSpPr/>
              <p:nvPr/>
            </p:nvSpPr>
            <p:spPr>
              <a:xfrm>
                <a:off x="7272360" y="22766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22"/>
              <p:cNvSpPr/>
              <p:nvPr/>
            </p:nvSpPr>
            <p:spPr>
              <a:xfrm>
                <a:off x="6121440" y="44355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Text Box 23"/>
            <p:cNvSpPr/>
            <p:nvPr/>
          </p:nvSpPr>
          <p:spPr>
            <a:xfrm>
              <a:off x="8639280" y="443376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Text Box 24"/>
          <p:cNvSpPr/>
          <p:nvPr/>
        </p:nvSpPr>
        <p:spPr>
          <a:xfrm>
            <a:off x="3708360" y="5157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1187280" y="28116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=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1116000" y="34592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C=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7"/>
          <p:cNvSpPr/>
          <p:nvPr/>
        </p:nvSpPr>
        <p:spPr>
          <a:xfrm>
            <a:off x="1114560" y="41068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=D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8"/>
          <p:cNvSpPr/>
          <p:nvPr/>
        </p:nvSpPr>
        <p:spPr>
          <a:xfrm>
            <a:off x="3780000" y="522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1116000" y="2852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=∠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0"/>
          <p:cNvSpPr/>
          <p:nvPr/>
        </p:nvSpPr>
        <p:spPr>
          <a:xfrm>
            <a:off x="104292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=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31"/>
          <p:cNvSpPr/>
          <p:nvPr/>
        </p:nvSpPr>
        <p:spPr>
          <a:xfrm>
            <a:off x="1042920" y="4149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=∠D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1042920" y="3429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=D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1187280" y="4221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B=∠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3851280" y="5229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5"/>
          <p:cNvSpPr/>
          <p:nvPr/>
        </p:nvSpPr>
        <p:spPr>
          <a:xfrm>
            <a:off x="1116000" y="3500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=∠D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1187280" y="41497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C=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37"/>
          <p:cNvSpPr/>
          <p:nvPr/>
        </p:nvSpPr>
        <p:spPr>
          <a:xfrm>
            <a:off x="971640" y="3573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B=∠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1116000" y="422100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C=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9"/>
          <p:cNvSpPr/>
          <p:nvPr/>
        </p:nvSpPr>
        <p:spPr>
          <a:xfrm>
            <a:off x="0" y="115920"/>
            <a:ext cx="24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补充练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4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7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7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8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8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283680" y="227160"/>
            <a:ext cx="3276720" cy="1676160"/>
            <a:chOff x="283680" y="227160"/>
            <a:chExt cx="3276720" cy="1676160"/>
          </a:xfrm>
        </p:grpSpPr>
        <p:sp>
          <p:nvSpPr>
            <p:cNvPr id="249" name="Line 3"/>
            <p:cNvSpPr/>
            <p:nvPr/>
          </p:nvSpPr>
          <p:spPr>
            <a:xfrm>
              <a:off x="800280" y="250920"/>
              <a:ext cx="27601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4"/>
            <p:cNvSpPr/>
            <p:nvPr/>
          </p:nvSpPr>
          <p:spPr>
            <a:xfrm>
              <a:off x="284040" y="1903320"/>
              <a:ext cx="27601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5"/>
            <p:cNvSpPr/>
            <p:nvPr/>
          </p:nvSpPr>
          <p:spPr>
            <a:xfrm flipH="1">
              <a:off x="283680" y="227160"/>
              <a:ext cx="551880" cy="1652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6"/>
            <p:cNvSpPr/>
            <p:nvPr/>
          </p:nvSpPr>
          <p:spPr>
            <a:xfrm>
              <a:off x="788400" y="250920"/>
              <a:ext cx="551880" cy="1652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835920" y="250920"/>
              <a:ext cx="2207880" cy="1652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8"/>
            <p:cNvSpPr/>
            <p:nvPr/>
          </p:nvSpPr>
          <p:spPr>
            <a:xfrm flipV="1">
              <a:off x="1340640" y="250560"/>
              <a:ext cx="2208240" cy="1652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Text Box 9"/>
          <p:cNvSpPr/>
          <p:nvPr/>
        </p:nvSpPr>
        <p:spPr>
          <a:xfrm>
            <a:off x="361800" y="-1033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-55800" y="1758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989080" y="1697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1188720" y="184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3635280" y="17640"/>
            <a:ext cx="3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612720" y="549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1260360" y="185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3492360" y="47628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图，已知，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全等吗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0" y="2492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： 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全等。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∵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已知）　　　　　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∴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＋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A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＋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A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即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A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＝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A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在△</a:t>
            </a:r>
            <a:r>
              <a:rPr b="1" lang="en-US" sz="3200" spc="-1" strike="noStrike">
                <a:solidFill>
                  <a:srgbClr val="ff66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和△</a:t>
            </a:r>
            <a:r>
              <a:rPr b="1" lang="en-US" sz="3200" spc="-1" strike="noStrike">
                <a:solidFill>
                  <a:srgbClr val="ff6600"/>
                </a:solidFill>
                <a:latin typeface="黑体"/>
                <a:ea typeface="黑体"/>
              </a:rPr>
              <a:t>ADC 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中　　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8"/>
              <p:cNvSpPr txBox="1"/>
              <p:nvPr/>
            </p:nvSpPr>
            <p:spPr>
              <a:xfrm>
                <a:off x="4427640" y="2349360"/>
                <a:ext cx="4997520" cy="21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∠</m:t>
                            </m:r>
                            <m:r>
                              <m:t xml:space="preserve">C</m:t>
                            </m:r>
                            <m:r>
                              <m:t xml:space="preserve">＝</m:t>
                            </m:r>
                            <m:r>
                              <m:t xml:space="preserve">∠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（已知）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C</m:t>
                            </m:r>
                            <m:r>
                              <m:t xml:space="preserve">＝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（已证）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Text Box 19"/>
          <p:cNvSpPr/>
          <p:nvPr/>
        </p:nvSpPr>
        <p:spPr>
          <a:xfrm>
            <a:off x="5003640" y="48690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∴ △</a:t>
            </a:r>
            <a:r>
              <a:rPr b="1" lang="en-US" sz="3200" spc="-1" strike="noStrike">
                <a:solidFill>
                  <a:srgbClr val="ff6600"/>
                </a:solidFill>
                <a:latin typeface="黑体"/>
                <a:ea typeface="黑体"/>
              </a:rPr>
              <a:t>ABC≌△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6264360" y="558972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AAS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6616800" y="1130400"/>
            <a:ext cx="1904400" cy="2133360"/>
            <a:chOff x="6616800" y="1130400"/>
            <a:chExt cx="1904400" cy="2133360"/>
          </a:xfrm>
        </p:grpSpPr>
        <p:sp>
          <p:nvSpPr>
            <p:cNvPr id="268" name="Line 3"/>
            <p:cNvSpPr/>
            <p:nvPr/>
          </p:nvSpPr>
          <p:spPr>
            <a:xfrm>
              <a:off x="7487280" y="1130400"/>
              <a:ext cx="1033920" cy="2133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4"/>
            <p:cNvSpPr/>
            <p:nvPr/>
          </p:nvSpPr>
          <p:spPr>
            <a:xfrm flipH="1">
              <a:off x="6625080" y="1130400"/>
              <a:ext cx="861480" cy="2133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5"/>
            <p:cNvSpPr/>
            <p:nvPr/>
          </p:nvSpPr>
          <p:spPr>
            <a:xfrm flipV="1">
              <a:off x="6616800" y="2166480"/>
              <a:ext cx="1378440" cy="10666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6"/>
            <p:cNvSpPr/>
            <p:nvPr/>
          </p:nvSpPr>
          <p:spPr>
            <a:xfrm flipH="1" flipV="1">
              <a:off x="7056000" y="2166480"/>
              <a:ext cx="1464840" cy="10666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Text Box 7"/>
          <p:cNvSpPr/>
          <p:nvPr/>
        </p:nvSpPr>
        <p:spPr>
          <a:xfrm>
            <a:off x="6313680" y="3013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8583480" y="2901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8142120" y="1946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618240" y="1870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7237440" y="6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0" y="0"/>
            <a:ext cx="74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﹑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图：已知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＝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△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与△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全等吗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3"/>
              <p:cNvSpPr txBox="1"/>
              <p:nvPr/>
            </p:nvSpPr>
            <p:spPr>
              <a:xfrm>
                <a:off x="571680" y="1449360"/>
                <a:ext cx="4652640" cy="364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全等。</m:t>
                        </m:r>
                      </m:e>
                      <m:e>
                        <m:r>
                          <m:t xml:space="preserve">在Δ</m:t>
                        </m:r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  <m:r>
                          <m:t xml:space="preserve">和Δ</m:t>
                        </m:r>
                        <m:r>
                          <m:rPr>
                            <m:lit/>
                            <m:nor/>
                          </m:rPr>
                          <m:t xml:space="preserve">ACE</m:t>
                        </m:r>
                        <m:r>
                          <m:t xml:space="preserve">中</m:t>
                        </m:r>
                      </m:e>
                      <m:e>
                        <m:r>
                          <m:t xml:space="preserve">∵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∠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＝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（已知）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  <m:r>
                                  <m:t xml:space="preserve">＝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（已知）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Text Box 14"/>
          <p:cNvSpPr/>
          <p:nvPr/>
        </p:nvSpPr>
        <p:spPr>
          <a:xfrm>
            <a:off x="395280" y="53737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∴△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D≌△AC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403280" y="0"/>
            <a:ext cx="6048360" cy="549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＝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1260360" y="2924280"/>
            <a:ext cx="4032360" cy="237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＝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＝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4067280" y="5445000"/>
            <a:ext cx="1296720" cy="64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407880" y="18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实践探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24000" y="1628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如图，小明不慎将一块三角形模具打碎为两块，他是否可以只带其中一块碎片到商店去，就能配一块与原来一样的三角形模具呢？如果可以，带哪块去合适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4696560" y="1679760"/>
            <a:ext cx="3566880" cy="3281760"/>
            <a:chOff x="4696560" y="1679760"/>
            <a:chExt cx="3566880" cy="3281760"/>
          </a:xfrm>
        </p:grpSpPr>
        <p:sp>
          <p:nvSpPr>
            <p:cNvPr id="286" name="AutoShape 7"/>
            <p:cNvSpPr/>
            <p:nvPr/>
          </p:nvSpPr>
          <p:spPr>
            <a:xfrm rot="15166200">
              <a:off x="5219640" y="1843920"/>
              <a:ext cx="2520360" cy="295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8"/>
            <p:cNvSpPr/>
            <p:nvPr/>
          </p:nvSpPr>
          <p:spPr>
            <a:xfrm>
              <a:off x="6539760" y="2282760"/>
              <a:ext cx="843480" cy="1638000"/>
            </a:xfrm>
            <a:prstGeom prst="pie">
              <a:avLst/>
            </a:prstGeom>
            <a:noFill/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250920" y="33336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课堂小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Oval 5"/>
          <p:cNvSpPr/>
          <p:nvPr/>
        </p:nvSpPr>
        <p:spPr>
          <a:xfrm>
            <a:off x="539640" y="2205000"/>
            <a:ext cx="7620120" cy="2278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979640" y="256536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通过这堂课的学习你有什么收获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道了哪些新知识？学会了做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4"/>
          <p:cNvSpPr/>
          <p:nvPr/>
        </p:nvSpPr>
        <p:spPr>
          <a:xfrm>
            <a:off x="250920" y="333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布置作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241360" y="2564280"/>
            <a:ext cx="319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85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技能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解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79280" y="189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情境导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826920" y="148428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我们已学过识别两个三角形全等的简便方法是什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识别三角形全等是不是还有其它方法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4"/>
          <p:cNvSpPr/>
          <p:nvPr/>
        </p:nvSpPr>
        <p:spPr>
          <a:xfrm>
            <a:off x="324000" y="404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生活链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612720" y="1341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课间，小明和小聪在操场上突然争论起来。他们都说自己比对方长得高，这时数学老师走过来，笑着对他们说：“你们不用争了，其实你们一样高，瞧瞧地上，你俩的影子一样长！”，你知道数学老师为什么能从他们的影长相等就断定它们的身高相同？你能运用全等三角形的有关知识说明一下其中的道理吗？（假定太阳光线是平行的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79280" y="189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情境导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50920" y="1700280"/>
            <a:ext cx="59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有一块三角形纸片撕去了一个角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要去剪一块新的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果你手头没有测量的仪器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能保证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剪的纸片形状、大小和原来的一样吗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5003640" y="2637000"/>
            <a:ext cx="3887280" cy="2232000"/>
            <a:chOff x="5003640" y="2637000"/>
            <a:chExt cx="3887280" cy="2232000"/>
          </a:xfrm>
        </p:grpSpPr>
        <p:grpSp>
          <p:nvGrpSpPr>
            <p:cNvPr id="50" name="Group 9"/>
            <p:cNvGrpSpPr/>
            <p:nvPr/>
          </p:nvGrpSpPr>
          <p:grpSpPr>
            <a:xfrm>
              <a:off x="5003640" y="3357720"/>
              <a:ext cx="2390760" cy="1451160"/>
              <a:chOff x="5003640" y="3357720"/>
              <a:chExt cx="2390760" cy="1451160"/>
            </a:xfrm>
          </p:grpSpPr>
          <p:sp>
            <p:nvSpPr>
              <p:cNvPr id="51" name="Freeform 10"/>
              <p:cNvSpPr/>
              <p:nvPr/>
            </p:nvSpPr>
            <p:spPr>
              <a:xfrm>
                <a:off x="6551280" y="3357720"/>
                <a:ext cx="843120" cy="1451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Line 11"/>
              <p:cNvSpPr/>
              <p:nvPr/>
            </p:nvSpPr>
            <p:spPr>
              <a:xfrm flipV="1">
                <a:off x="5003640" y="3368520"/>
                <a:ext cx="1763640" cy="1366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Line 12"/>
              <p:cNvSpPr/>
              <p:nvPr/>
            </p:nvSpPr>
            <p:spPr>
              <a:xfrm>
                <a:off x="5003640" y="4735800"/>
                <a:ext cx="1835280" cy="73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13"/>
            <p:cNvGrpSpPr/>
            <p:nvPr/>
          </p:nvGrpSpPr>
          <p:grpSpPr>
            <a:xfrm>
              <a:off x="7235640" y="2637000"/>
              <a:ext cx="1655280" cy="2092320"/>
              <a:chOff x="7235640" y="2637000"/>
              <a:chExt cx="1655280" cy="2092320"/>
            </a:xfrm>
          </p:grpSpPr>
          <p:sp>
            <p:nvSpPr>
              <p:cNvPr id="55" name="Freeform 14"/>
              <p:cNvSpPr/>
              <p:nvPr/>
            </p:nvSpPr>
            <p:spPr>
              <a:xfrm>
                <a:off x="7235640" y="3213360"/>
                <a:ext cx="842760" cy="14508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Line 15"/>
              <p:cNvSpPr/>
              <p:nvPr/>
            </p:nvSpPr>
            <p:spPr>
              <a:xfrm flipV="1">
                <a:off x="7462440" y="2637000"/>
                <a:ext cx="779040" cy="598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16"/>
              <p:cNvSpPr/>
              <p:nvPr/>
            </p:nvSpPr>
            <p:spPr>
              <a:xfrm>
                <a:off x="8243640" y="2637000"/>
                <a:ext cx="647280" cy="2089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17"/>
              <p:cNvSpPr/>
              <p:nvPr/>
            </p:nvSpPr>
            <p:spPr>
              <a:xfrm>
                <a:off x="7524360" y="4653000"/>
                <a:ext cx="1364760" cy="76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8"/>
            <p:cNvGrpSpPr/>
            <p:nvPr/>
          </p:nvGrpSpPr>
          <p:grpSpPr>
            <a:xfrm>
              <a:off x="6586200" y="2776680"/>
              <a:ext cx="1656000" cy="2092320"/>
              <a:chOff x="6586200" y="2776680"/>
              <a:chExt cx="1656000" cy="2092320"/>
            </a:xfrm>
          </p:grpSpPr>
          <p:sp>
            <p:nvSpPr>
              <p:cNvPr id="60" name="Freeform 19"/>
              <p:cNvSpPr/>
              <p:nvPr/>
            </p:nvSpPr>
            <p:spPr>
              <a:xfrm>
                <a:off x="6586200" y="3353040"/>
                <a:ext cx="843120" cy="14508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Line 20"/>
              <p:cNvSpPr/>
              <p:nvPr/>
            </p:nvSpPr>
            <p:spPr>
              <a:xfrm flipV="1">
                <a:off x="6813360" y="2776680"/>
                <a:ext cx="779400" cy="598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Line 21"/>
              <p:cNvSpPr/>
              <p:nvPr/>
            </p:nvSpPr>
            <p:spPr>
              <a:xfrm>
                <a:off x="7594560" y="2776680"/>
                <a:ext cx="647640" cy="2089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Line 22"/>
              <p:cNvSpPr/>
              <p:nvPr/>
            </p:nvSpPr>
            <p:spPr>
              <a:xfrm>
                <a:off x="6875280" y="4792680"/>
                <a:ext cx="1365120" cy="76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50920" y="26028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实践探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900000" y="126828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我们知道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果给出一个三角形三条边的长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那么因此得到的三角形都是全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果已知一个三角形的两角及一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那么有几种可能的情况呢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351440" y="3860640"/>
            <a:ext cx="20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角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角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4740120" y="3952800"/>
            <a:ext cx="18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角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角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900000" y="501336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每种情况下得到的三角形都全等吗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115920"/>
            <a:ext cx="29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做一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864520" y="434880"/>
            <a:ext cx="20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角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角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50920" y="1052640"/>
            <a:ext cx="8532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若三角形的两个内角分别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60°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80°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它们所夹的边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cm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能画出这个三角形吗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5580000" y="2997360"/>
            <a:ext cx="3024000" cy="642600"/>
            <a:chOff x="5580000" y="2997360"/>
            <a:chExt cx="3024000" cy="642600"/>
          </a:xfrm>
        </p:grpSpPr>
        <p:sp>
          <p:nvSpPr>
            <p:cNvPr id="73" name="Line 6"/>
            <p:cNvSpPr/>
            <p:nvPr/>
          </p:nvSpPr>
          <p:spPr>
            <a:xfrm>
              <a:off x="5580000" y="3565440"/>
              <a:ext cx="302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7"/>
            <p:cNvSpPr/>
            <p:nvPr/>
          </p:nvSpPr>
          <p:spPr>
            <a:xfrm>
              <a:off x="6372000" y="299736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2cm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395280" y="3060720"/>
            <a:ext cx="2952720" cy="2736720"/>
            <a:chOff x="395280" y="3060720"/>
            <a:chExt cx="2952720" cy="2736720"/>
          </a:xfrm>
        </p:grpSpPr>
        <p:sp>
          <p:nvSpPr>
            <p:cNvPr id="76" name="Line 9"/>
            <p:cNvSpPr/>
            <p:nvPr/>
          </p:nvSpPr>
          <p:spPr>
            <a:xfrm>
              <a:off x="395280" y="5795640"/>
              <a:ext cx="29527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V="1">
              <a:off x="397080" y="3060720"/>
              <a:ext cx="1869840" cy="27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Arc 11"/>
            <p:cNvSpPr/>
            <p:nvPr/>
          </p:nvSpPr>
          <p:spPr>
            <a:xfrm>
              <a:off x="684360" y="5364000"/>
              <a:ext cx="215640" cy="433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Text Box 12"/>
            <p:cNvSpPr/>
            <p:nvPr/>
          </p:nvSpPr>
          <p:spPr>
            <a:xfrm>
              <a:off x="900000" y="514800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60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3780000" y="3061800"/>
            <a:ext cx="3097080" cy="2742480"/>
            <a:chOff x="3780000" y="3061800"/>
            <a:chExt cx="3097080" cy="2742480"/>
          </a:xfrm>
        </p:grpSpPr>
        <p:sp>
          <p:nvSpPr>
            <p:cNvPr id="81" name="Line 14"/>
            <p:cNvSpPr/>
            <p:nvPr/>
          </p:nvSpPr>
          <p:spPr>
            <a:xfrm flipV="1">
              <a:off x="3780000" y="5797080"/>
              <a:ext cx="30970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V="1">
              <a:off x="3780000" y="3061800"/>
              <a:ext cx="1297080" cy="2737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rc 16"/>
            <p:cNvSpPr/>
            <p:nvPr/>
          </p:nvSpPr>
          <p:spPr>
            <a:xfrm>
              <a:off x="3924000" y="5367240"/>
              <a:ext cx="216000" cy="4320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 Box 17"/>
            <p:cNvSpPr/>
            <p:nvPr/>
          </p:nvSpPr>
          <p:spPr>
            <a:xfrm>
              <a:off x="4069080" y="5222880"/>
              <a:ext cx="122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80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24000" y="443700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画的三角形与同伴画的一定全等吗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539640" y="907560"/>
            <a:ext cx="2952720" cy="2737440"/>
            <a:chOff x="539640" y="907560"/>
            <a:chExt cx="2952720" cy="2737440"/>
          </a:xfrm>
        </p:grpSpPr>
        <p:sp>
          <p:nvSpPr>
            <p:cNvPr id="87" name="Line 4"/>
            <p:cNvSpPr/>
            <p:nvPr/>
          </p:nvSpPr>
          <p:spPr>
            <a:xfrm>
              <a:off x="539640" y="3643200"/>
              <a:ext cx="29527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5"/>
            <p:cNvSpPr/>
            <p:nvPr/>
          </p:nvSpPr>
          <p:spPr>
            <a:xfrm flipV="1">
              <a:off x="541440" y="907560"/>
              <a:ext cx="1869840" cy="2737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Arc 6"/>
            <p:cNvSpPr/>
            <p:nvPr/>
          </p:nvSpPr>
          <p:spPr>
            <a:xfrm>
              <a:off x="828720" y="3211560"/>
              <a:ext cx="215640" cy="433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7"/>
            <p:cNvSpPr/>
            <p:nvPr/>
          </p:nvSpPr>
          <p:spPr>
            <a:xfrm>
              <a:off x="1044360" y="299556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60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8"/>
          <p:cNvGrpSpPr/>
          <p:nvPr/>
        </p:nvGrpSpPr>
        <p:grpSpPr>
          <a:xfrm>
            <a:off x="5148000" y="905040"/>
            <a:ext cx="3239640" cy="2741760"/>
            <a:chOff x="5148000" y="905040"/>
            <a:chExt cx="3239640" cy="2741760"/>
          </a:xfrm>
        </p:grpSpPr>
        <p:sp>
          <p:nvSpPr>
            <p:cNvPr id="92" name="Line 9"/>
            <p:cNvSpPr/>
            <p:nvPr/>
          </p:nvSpPr>
          <p:spPr>
            <a:xfrm flipH="1" flipV="1">
              <a:off x="5148000" y="3640320"/>
              <a:ext cx="30970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H="1" flipV="1">
              <a:off x="6948360" y="905040"/>
              <a:ext cx="1296720" cy="27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rc 11"/>
            <p:cNvSpPr/>
            <p:nvPr/>
          </p:nvSpPr>
          <p:spPr>
            <a:xfrm flipH="1">
              <a:off x="7884360" y="3210120"/>
              <a:ext cx="215640" cy="431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 flipH="1">
              <a:off x="7163640" y="3065400"/>
              <a:ext cx="122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80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Line 13"/>
          <p:cNvSpPr/>
          <p:nvPr/>
        </p:nvSpPr>
        <p:spPr>
          <a:xfrm>
            <a:off x="4788000" y="1484280"/>
            <a:ext cx="316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71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700360" y="4046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角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角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8000" y="1197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若三角形的两个内角分别是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0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5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且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5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所对的边为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cm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你能画出这个三角形吗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674640" y="2923920"/>
            <a:ext cx="2952720" cy="2808720"/>
            <a:chOff x="674640" y="2923920"/>
            <a:chExt cx="2952720" cy="2808720"/>
          </a:xfrm>
        </p:grpSpPr>
        <p:sp>
          <p:nvSpPr>
            <p:cNvPr id="100" name="Line 5"/>
            <p:cNvSpPr/>
            <p:nvPr/>
          </p:nvSpPr>
          <p:spPr>
            <a:xfrm>
              <a:off x="674640" y="5731200"/>
              <a:ext cx="29527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6"/>
            <p:cNvSpPr/>
            <p:nvPr/>
          </p:nvSpPr>
          <p:spPr>
            <a:xfrm flipV="1">
              <a:off x="676080" y="2923920"/>
              <a:ext cx="1582920" cy="2808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rc 7"/>
            <p:cNvSpPr/>
            <p:nvPr/>
          </p:nvSpPr>
          <p:spPr>
            <a:xfrm>
              <a:off x="963720" y="5299200"/>
              <a:ext cx="215640" cy="433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8"/>
            <p:cNvSpPr/>
            <p:nvPr/>
          </p:nvSpPr>
          <p:spPr>
            <a:xfrm>
              <a:off x="1179360" y="50835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60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Line 9"/>
          <p:cNvSpPr/>
          <p:nvPr/>
        </p:nvSpPr>
        <p:spPr>
          <a:xfrm>
            <a:off x="2403360" y="3213000"/>
            <a:ext cx="2882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0"/>
          <p:cNvGrpSpPr/>
          <p:nvPr/>
        </p:nvGrpSpPr>
        <p:grpSpPr>
          <a:xfrm>
            <a:off x="4185720" y="3511800"/>
            <a:ext cx="3994920" cy="2286360"/>
            <a:chOff x="4185720" y="3511800"/>
            <a:chExt cx="3994920" cy="2286360"/>
          </a:xfrm>
        </p:grpSpPr>
        <p:grpSp>
          <p:nvGrpSpPr>
            <p:cNvPr id="106" name="Group 11"/>
            <p:cNvGrpSpPr/>
            <p:nvPr/>
          </p:nvGrpSpPr>
          <p:grpSpPr>
            <a:xfrm>
              <a:off x="4185720" y="3511800"/>
              <a:ext cx="3994920" cy="2233800"/>
              <a:chOff x="4185720" y="3511800"/>
              <a:chExt cx="3994920" cy="2233800"/>
            </a:xfrm>
          </p:grpSpPr>
          <p:sp>
            <p:nvSpPr>
              <p:cNvPr id="107" name="Line 12"/>
              <p:cNvSpPr/>
              <p:nvPr/>
            </p:nvSpPr>
            <p:spPr>
              <a:xfrm flipV="1">
                <a:off x="4187160" y="5649480"/>
                <a:ext cx="3993480" cy="96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13"/>
              <p:cNvSpPr/>
              <p:nvPr/>
            </p:nvSpPr>
            <p:spPr>
              <a:xfrm flipV="1">
                <a:off x="4185720" y="3511800"/>
                <a:ext cx="2079000" cy="222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4673520" y="5216760"/>
              <a:ext cx="122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45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rc 15"/>
            <p:cNvSpPr/>
            <p:nvPr/>
          </p:nvSpPr>
          <p:spPr>
            <a:xfrm>
              <a:off x="4457520" y="5507280"/>
              <a:ext cx="144360" cy="215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539640" y="2852640"/>
            <a:ext cx="2448000" cy="2820600"/>
            <a:chOff x="539640" y="2852640"/>
            <a:chExt cx="2448000" cy="2820600"/>
          </a:xfrm>
        </p:grpSpPr>
        <p:sp>
          <p:nvSpPr>
            <p:cNvPr id="112" name="Line 3"/>
            <p:cNvSpPr/>
            <p:nvPr/>
          </p:nvSpPr>
          <p:spPr>
            <a:xfrm>
              <a:off x="539640" y="5659200"/>
              <a:ext cx="2448000" cy="1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4"/>
            <p:cNvSpPr/>
            <p:nvPr/>
          </p:nvSpPr>
          <p:spPr>
            <a:xfrm flipV="1">
              <a:off x="541080" y="2852640"/>
              <a:ext cx="1336680" cy="28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rc 5"/>
            <p:cNvSpPr/>
            <p:nvPr/>
          </p:nvSpPr>
          <p:spPr>
            <a:xfrm>
              <a:off x="799920" y="5227200"/>
              <a:ext cx="182520" cy="433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995400" y="5011560"/>
              <a:ext cx="105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60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Group 7"/>
          <p:cNvGrpSpPr/>
          <p:nvPr/>
        </p:nvGrpSpPr>
        <p:grpSpPr>
          <a:xfrm>
            <a:off x="5096160" y="2715480"/>
            <a:ext cx="2495880" cy="3006720"/>
            <a:chOff x="5096160" y="2715480"/>
            <a:chExt cx="2495880" cy="3006720"/>
          </a:xfrm>
        </p:grpSpPr>
        <p:sp>
          <p:nvSpPr>
            <p:cNvPr id="117" name="Line 8"/>
            <p:cNvSpPr/>
            <p:nvPr/>
          </p:nvSpPr>
          <p:spPr>
            <a:xfrm flipH="1">
              <a:off x="5096160" y="2715840"/>
              <a:ext cx="1414800" cy="294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6514560" y="2715480"/>
              <a:ext cx="1077480" cy="300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 rot="7036200">
              <a:off x="5606280" y="3494160"/>
              <a:ext cx="122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45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Arc 11"/>
            <p:cNvSpPr/>
            <p:nvPr/>
          </p:nvSpPr>
          <p:spPr>
            <a:xfrm rot="7036200">
              <a:off x="6397920" y="2956680"/>
              <a:ext cx="144720" cy="215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Line 12"/>
          <p:cNvSpPr/>
          <p:nvPr/>
        </p:nvSpPr>
        <p:spPr>
          <a:xfrm>
            <a:off x="2843280" y="3355920"/>
            <a:ext cx="244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08000" y="6336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分析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95280" y="9079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里的条件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中的条件有什么相同点与不同点？你能将它转化为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中的条件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4500720" y="5229360"/>
            <a:ext cx="1081080" cy="520560"/>
            <a:chOff x="4500720" y="5229360"/>
            <a:chExt cx="1081080" cy="520560"/>
          </a:xfrm>
        </p:grpSpPr>
        <p:sp>
          <p:nvSpPr>
            <p:cNvPr id="125" name="Text Box 16"/>
            <p:cNvSpPr/>
            <p:nvPr/>
          </p:nvSpPr>
          <p:spPr>
            <a:xfrm>
              <a:off x="4500720" y="522936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5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rc 17"/>
            <p:cNvSpPr/>
            <p:nvPr/>
          </p:nvSpPr>
          <p:spPr>
            <a:xfrm flipH="1">
              <a:off x="5076000" y="5445000"/>
              <a:ext cx="142920" cy="2160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72 E">
                                      <p:cBhvr>
                                        <p:cTn id="14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2" dur="1" fill="hold"/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1341360"/>
            <a:ext cx="7632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两角和它们的夹边对应相等的两个三角形全等，简写成“角边角”或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95280" y="3429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两角和其中一角的对边对应相等的两个三角形全等，简写成“角角边”或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/>
  <dc:description/>
  <dc:language>en-US</dc:language>
  <cp:lastModifiedBy>User</cp:lastModifiedBy>
  <dcterms:modified xsi:type="dcterms:W3CDTF">2014-03-06T02:24:42Z</dcterms:modified>
  <cp:revision>18</cp:revision>
  <dc:subject/>
  <dc:title>幻灯片 1</dc:title>
</cp:coreProperties>
</file>