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coin.wav" ContentType="audio/x-wav"/>
  <Override PartName="/ppt/media/arrow.wav" ContentType="audio/x-wav"/>
  <Override PartName="/ppt/media/image7.gif" ContentType="image/gif"/>
  <Override PartName="/ppt/media/image6.wmf" ContentType="image/x-wmf"/>
  <Override PartName="/ppt/media/wind.wav" ContentType="audio/x-wav"/>
  <Override PartName="/ppt/media/chimes.wav" ContentType="audio/x-wav"/>
  <Override PartName="/ppt/media/image8.png" ContentType="image/png"/>
  <Override PartName="/ppt/media/image16.gif" ContentType="image/gif"/>
  <Override PartName="/ppt/media/image14.wmf" ContentType="image/x-wmf"/>
  <Override PartName="/ppt/media/image12.wmf" ContentType="image/x-wmf"/>
  <Override PartName="/ppt/media/image11.wmf" ContentType="image/x-wmf"/>
  <Override PartName="/ppt/media/image9.png" ContentType="image/png"/>
  <Override PartName="/ppt/media/image15.wmf" ContentType="image/x-wmf"/>
  <Override PartName="/ppt/media/image1.jpeg" ContentType="image/jpeg"/>
  <Override PartName="/ppt/media/image13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suction.wav" ContentType="audio/x-wav"/>
  <Override PartName="/ppt/media/image10.wmf" ContentType="image/x-wmf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446-8FB2-4DD9-AE74-A4B0CAB9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219-2BD3-4CA0-BAA1-82CB7AF3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58A-7026-45A9-A47D-34FEFBE0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89D-440C-43CC-AD51-0FFB0AB9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0129-AF95-41D0-8B15-29DC7BDF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4A56-8DC1-4383-8C86-D6B9CC9E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5B59-195E-4FD7-8909-045513E1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16BB-3650-4BEC-8D86-2D36EB82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6A8B-E0E3-4A31-9B71-28678B54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C2AB-D136-4782-8472-C77A100A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12F8-9EE0-4CDE-8741-36B8F855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561-A568-4AAD-A1FC-06B7B334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541D-43D1-4598-B59E-9E7F568C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C17E-B760-4749-9883-0381A326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CED0-185C-4E98-8648-101BAA23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2C91-BC41-43D2-82AE-2446FAF5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B2D7-6E1E-4D03-A52A-3DDE8E8C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B3E32-C657-489E-9013-22F996B6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3D2D2-0F31-4DAB-BD49-EFDF594F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8E8B-CB97-4727-BA52-17C3C3B4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4AB22-A621-4889-ABED-96B68C69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A7868-80D5-4D9E-AA22-FE1827D7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773-D5CF-496F-ABBB-B107B4A0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6B2DE-0F0D-4CFF-B236-FFA3E737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E660D-996C-4A35-AC3A-6790E2C8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21B4F-280F-4BC9-9D34-865B2389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9622-8E4E-4A52-8FBB-4ADE670F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AB695-09E2-4147-8004-FBDCAA91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A099-650A-4534-BA62-A1100F2A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87C62-8305-4BC5-9442-0901FED0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EAA3B-8E0B-4BBB-9F38-CA16EB27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3B82C-00B4-4F9F-953F-6BC14FA0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37934-784A-4780-99F1-BF1EC60E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CFD-4FE6-47CE-B264-752ACACB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29186-DB3E-4A58-8B6A-05F6ADE7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765A0-4918-4605-B0D6-C780EECB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5425E-3E73-4020-B065-F1CF2999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7377-0D55-4326-859E-4A945EDE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ED490-6404-4AF8-BBEA-6563A6C9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F4478-C6F9-4B82-BB0E-63432A7B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AC5F3-102F-4EA0-846B-07296867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DBA3B-F9DB-4D79-8B3D-F51B2DB8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9634F-EFB7-4F8B-947D-A6CAC8FE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B03-90FC-48DF-BC89-B02BC116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E63-2431-4835-B352-E81EEEBD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2BA-9F3F-4E71-BC2B-A33A1D35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BDC-19D1-4AEB-8D01-9AE1AF16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0B1-8334-4DF9-AE1E-D60E4409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F52B-7092-4062-8E50-7CD82A5B2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55C8-0530-477C-B600-6F21940E0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AABA-BBBC-4E5B-9951-3F6F63ECD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3AD4-A7A6-4790-A44D-236AD78D53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audio" Target="../media/arrow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281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尺规作图（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（画垂线）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Picture 1028" descr="xtz"/>
          <p:cNvPicPr/>
          <p:nvPr/>
        </p:nvPicPr>
        <p:blipFill>
          <a:blip r:embed="rId1"/>
          <a:stretch/>
        </p:blipFill>
        <p:spPr>
          <a:xfrm>
            <a:off x="1187280" y="2997360"/>
            <a:ext cx="69138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33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动手实践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AC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分别是菱形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ABCD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的一条边和对角线，请你用尺规把这个菱形补充完整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2268360" y="3978360"/>
            <a:ext cx="5257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356000" y="-360"/>
            <a:ext cx="450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生活离不开数学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336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是两个村庄，要从灌溉总渠引两条水渠便于灌溉，请你选择最佳方案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58323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940428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教学反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本节课你掌握了哪些知识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还有哪些疑惑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1" name="Picture 4" descr="j047"/>
          <p:cNvPicPr/>
          <p:nvPr/>
        </p:nvPicPr>
        <p:blipFill>
          <a:blip r:embed="rId1"/>
          <a:stretch/>
        </p:blipFill>
        <p:spPr>
          <a:xfrm>
            <a:off x="4067280" y="4076640"/>
            <a:ext cx="24494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00000" y="549360"/>
            <a:ext cx="7848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复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什么叫做尺规作图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限定用直尺和圆规来画图，称为尺规作图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用尺规作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GB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作线段，使它等于已知线段的长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GB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作角，使它等于已知角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什么垂直平分线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过线段的中点，垂直这条线段的直线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线段垂直平分线有哪些特征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线段的垂直平分线上的点到线段两端点的距离相等；反过来，到线段两端点距离相等的点在线段的垂直平分线上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已知线段</a:t>
            </a:r>
            <a:r>
              <a:rPr b="1" i="1" lang="en-GB" sz="400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，画出它的垂直平分线</a:t>
            </a:r>
            <a:r>
              <a:rPr b="1" lang="en-GB" sz="4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611280" y="0"/>
            <a:ext cx="216036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9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华文行楷"/>
              </a:rPr>
              <a:t>做一做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华文行楷"/>
              <a:ea typeface="华文行楷"/>
            </a:endParaRPr>
          </a:p>
        </p:txBody>
      </p:sp>
      <p:pic>
        <p:nvPicPr>
          <p:cNvPr id="170" name="Object 0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3671640" cy="76356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1"/>
          <p:cNvSpPr/>
          <p:nvPr/>
        </p:nvSpPr>
        <p:spPr>
          <a:xfrm>
            <a:off x="1403280" y="3933720"/>
            <a:ext cx="3168720" cy="2016360"/>
          </a:xfrm>
          <a:prstGeom prst="cloudCallout">
            <a:avLst>
              <a:gd name="adj1" fmla="val 63925"/>
              <a:gd name="adj2" fmla="val -6243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说出你的作图思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AutoShape 12"/>
          <p:cNvSpPr/>
          <p:nvPr/>
        </p:nvSpPr>
        <p:spPr>
          <a:xfrm>
            <a:off x="5364000" y="4437000"/>
            <a:ext cx="3780000" cy="1513080"/>
          </a:xfrm>
          <a:prstGeom prst="wedgeRoundRectCallout">
            <a:avLst>
              <a:gd name="adj1" fmla="val -25009"/>
              <a:gd name="adj2" fmla="val -108342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议一议；能否说出这种画法的依据，小组讨论交流一下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3" name="Picture 13" descr="j014"/>
          <p:cNvPicPr/>
          <p:nvPr/>
        </p:nvPicPr>
        <p:blipFill>
          <a:blip r:embed="rId2"/>
          <a:stretch/>
        </p:blipFill>
        <p:spPr>
          <a:xfrm>
            <a:off x="4140360" y="260280"/>
            <a:ext cx="1523880" cy="552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5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试一试你的能力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5905800" cy="681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755640" y="98100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如图，点</a:t>
            </a:r>
            <a:r>
              <a:rPr b="1" lang="en-GB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在直线上，试过点</a:t>
            </a:r>
            <a:r>
              <a:rPr b="1" lang="en-GB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画出直线的垂线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468360" y="3213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如图，如果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不在直线上，试和同学讨论，应采取怎样的步骤，过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画出直线的垂线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9" name="Picture 13" descr=""/>
          <p:cNvPicPr/>
          <p:nvPr/>
        </p:nvPicPr>
        <p:blipFill>
          <a:blip r:embed="rId2"/>
          <a:stretch/>
        </p:blipFill>
        <p:spPr>
          <a:xfrm>
            <a:off x="2484360" y="4292640"/>
            <a:ext cx="60483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216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作法：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任取一点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使点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和点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在的两侧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以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点为圆心，以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M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长为半径画弧，交于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两点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分别以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两点为圆心，以大于                    长为半径画弧，两弧相交于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点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过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两点作直线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D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所以，直线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D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就是所求作的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3" name="Object 4" descr=""/>
          <p:cNvPicPr/>
          <p:nvPr/>
        </p:nvPicPr>
        <p:blipFill>
          <a:blip r:embed="rId1"/>
          <a:stretch/>
        </p:blipFill>
        <p:spPr>
          <a:xfrm>
            <a:off x="8048520" y="2565360"/>
            <a:ext cx="1095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练　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如图，过点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画∠</a:t>
            </a: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两边的垂线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7" name="Object 4" descr=""/>
          <p:cNvPicPr/>
          <p:nvPr/>
        </p:nvPicPr>
        <p:blipFill>
          <a:blip r:embed="rId1"/>
          <a:stretch/>
        </p:blipFill>
        <p:spPr>
          <a:xfrm>
            <a:off x="2771640" y="2997360"/>
            <a:ext cx="324036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如图，画△</a:t>
            </a:r>
            <a:r>
              <a:rPr b="1" i="1" lang="en-GB" sz="6000" spc="-1" strike="noStrike">
                <a:solidFill>
                  <a:srgbClr val="ff0000"/>
                </a:solidFill>
                <a:latin typeface="黑体"/>
                <a:ea typeface="黑体"/>
              </a:rPr>
              <a:t>ABC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边</a:t>
            </a:r>
            <a:r>
              <a:rPr b="1" i="1" lang="en-GB" sz="6000" spc="-1" strike="noStrike">
                <a:solidFill>
                  <a:srgbClr val="ff0000"/>
                </a:solidFill>
                <a:latin typeface="黑体"/>
                <a:ea typeface="黑体"/>
              </a:rPr>
              <a:t>BC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上的高</a:t>
            </a:r>
            <a:r>
              <a:rPr b="1" lang="en-GB" sz="6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0" name="Object 4" descr=""/>
          <p:cNvPicPr/>
          <p:nvPr/>
        </p:nvPicPr>
        <p:blipFill>
          <a:blip r:embed="rId1"/>
          <a:stretch/>
        </p:blipFill>
        <p:spPr>
          <a:xfrm>
            <a:off x="3419640" y="3068640"/>
            <a:ext cx="35287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3672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挑战自我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如图，已知线段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求作：△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ABC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，使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AB=AC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，且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BC=a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，高为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2195640" y="4076640"/>
            <a:ext cx="43923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06:18:49Z</dcterms:created>
  <dc:creator/>
  <dc:description/>
  <dc:language>en-US</dc:language>
  <cp:lastModifiedBy>微软用户</cp:lastModifiedBy>
  <dcterms:modified xsi:type="dcterms:W3CDTF">1999-12-31T20:21:12Z</dcterms:modified>
  <cp:revision>7</cp:revision>
  <dc:subject/>
  <dc:title/>
</cp:coreProperties>
</file>