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20.png" ContentType="image/png"/>
  <Override PartName="/ppt/media/image17.gif" ContentType="image/gif"/>
  <Override PartName="/ppt/media/image19.png" ContentType="image/png"/>
  <Override PartName="/ppt/media/image18.gif" ContentType="image/gif"/>
  <Override PartName="/ppt/media/image3.wmf" ContentType="image/x-wmf"/>
  <Override PartName="/ppt/media/image10.jpeg" ContentType="image/jpeg"/>
  <Override PartName="/ppt/media/image8.jpeg" ContentType="image/jpeg"/>
  <Override PartName="/ppt/media/wind.wav" ContentType="audio/x-wav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C51-2D55-437C-B367-B38E74AE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CBC-365C-4D97-A4A7-BE42C9F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019-1710-44FD-982F-781C89FB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5A8-B98B-4990-9630-36860BDB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291-6566-4E1E-87EC-8619BFD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BE5-9C20-458D-8A4C-DC77384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D86-4E31-4796-8851-D8C2C25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E97-5D8F-4F6E-8E3B-FFB51E5E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9FD-D5EB-4FA8-A7B7-0E094F4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672-D71F-428A-BA9B-853C68D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6A5-7ED0-45B5-8B69-0A9371D6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3CA-4125-4BAE-89C3-9828372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5E2-6D46-4BD3-BAA1-0366A68BE928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11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17.xml"/><Relationship Id="rId8" Type="http://schemas.openxmlformats.org/officeDocument/2006/relationships/slide" Target="slide5.xml"/><Relationship Id="rId9" Type="http://schemas.openxmlformats.org/officeDocument/2006/relationships/slide" Target="slide13.xml"/><Relationship Id="rId10" Type="http://schemas.openxmlformats.org/officeDocument/2006/relationships/slide" Target="slide6.xml"/><Relationship Id="rId11" Type="http://schemas.openxmlformats.org/officeDocument/2006/relationships/slide" Target="slide22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9tour.cn/photo/53/214601.html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6778.com/02tk/kt01.htm" TargetMode="External"/><Relationship Id="rId8" Type="http://schemas.openxmlformats.org/officeDocument/2006/relationships/image" Target="../media/image7.png"/><Relationship Id="rId9" Type="http://schemas.openxmlformats.org/officeDocument/2006/relationships/hyperlink" Target="http://www.6778.com/wan.ben/002.htm" TargetMode="External"/><Relationship Id="rId10" Type="http://schemas.openxmlformats.org/officeDocument/2006/relationships/image" Target="../media/image8.jpeg"/><Relationship Id="rId11" Type="http://schemas.openxmlformats.org/officeDocument/2006/relationships/slide" Target="slide2.xm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8"/>
          <p:cNvSpPr/>
          <p:nvPr/>
        </p:nvSpPr>
        <p:spPr>
          <a:xfrm>
            <a:off x="250920" y="1773360"/>
            <a:ext cx="857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五章   生活中的轴对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714240" y="378612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简单的轴对称图形 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8760" y="28584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北师大版 七年级数学下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547640" y="544500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辽宁省沈阳市杏坛中学  郑小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70"/>
          <p:cNvGrpSpPr/>
          <p:nvPr/>
        </p:nvGrpSpPr>
        <p:grpSpPr>
          <a:xfrm>
            <a:off x="4714920" y="4890960"/>
            <a:ext cx="4030560" cy="368280"/>
            <a:chOff x="4714920" y="4890960"/>
            <a:chExt cx="4030560" cy="368280"/>
          </a:xfrm>
        </p:grpSpPr>
        <p:sp>
          <p:nvSpPr>
            <p:cNvPr id="434" name="Line 167"/>
            <p:cNvSpPr/>
            <p:nvPr/>
          </p:nvSpPr>
          <p:spPr>
            <a:xfrm>
              <a:off x="5013000" y="4890960"/>
              <a:ext cx="335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8"/>
            <p:cNvSpPr/>
            <p:nvPr/>
          </p:nvSpPr>
          <p:spPr>
            <a:xfrm>
              <a:off x="4714920" y="4890960"/>
              <a:ext cx="6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69"/>
            <p:cNvSpPr/>
            <p:nvPr/>
          </p:nvSpPr>
          <p:spPr>
            <a:xfrm>
              <a:off x="8073720" y="4890960"/>
              <a:ext cx="6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Rectangle 172"/>
          <p:cNvSpPr/>
          <p:nvPr/>
        </p:nvSpPr>
        <p:spPr>
          <a:xfrm>
            <a:off x="285840" y="10000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段的对称轴是这条线段的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垂直平分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73"/>
          <p:cNvSpPr/>
          <p:nvPr/>
        </p:nvSpPr>
        <p:spPr>
          <a:xfrm>
            <a:off x="6696000" y="3052800"/>
            <a:ext cx="0" cy="259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178"/>
          <p:cNvGrpSpPr/>
          <p:nvPr/>
        </p:nvGrpSpPr>
        <p:grpSpPr>
          <a:xfrm>
            <a:off x="6437880" y="4357800"/>
            <a:ext cx="614880" cy="547200"/>
            <a:chOff x="6437880" y="4357800"/>
            <a:chExt cx="614880" cy="547200"/>
          </a:xfrm>
        </p:grpSpPr>
        <p:sp>
          <p:nvSpPr>
            <p:cNvPr id="440" name="Oval 179"/>
            <p:cNvSpPr/>
            <p:nvPr/>
          </p:nvSpPr>
          <p:spPr>
            <a:xfrm>
              <a:off x="6702120" y="4814640"/>
              <a:ext cx="90360" cy="9036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437880" y="4357800"/>
              <a:ext cx="6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Line 183"/>
          <p:cNvSpPr/>
          <p:nvPr/>
        </p:nvSpPr>
        <p:spPr>
          <a:xfrm flipH="1" flipV="1">
            <a:off x="5033520" y="4587840"/>
            <a:ext cx="1656720" cy="3031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84"/>
          <p:cNvSpPr/>
          <p:nvPr/>
        </p:nvSpPr>
        <p:spPr>
          <a:xfrm flipH="1" flipV="1">
            <a:off x="6057720" y="3355560"/>
            <a:ext cx="649440" cy="15541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185"/>
          <p:cNvSpPr/>
          <p:nvPr/>
        </p:nvSpPr>
        <p:spPr>
          <a:xfrm flipV="1">
            <a:off x="6695280" y="3337200"/>
            <a:ext cx="596880" cy="1575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86"/>
          <p:cNvSpPr/>
          <p:nvPr/>
        </p:nvSpPr>
        <p:spPr>
          <a:xfrm flipV="1">
            <a:off x="6706800" y="4449960"/>
            <a:ext cx="1629720" cy="4255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188"/>
          <p:cNvSpPr/>
          <p:nvPr/>
        </p:nvSpPr>
        <p:spPr>
          <a:xfrm>
            <a:off x="6688080" y="4890960"/>
            <a:ext cx="167652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96"/>
          <p:cNvSpPr/>
          <p:nvPr/>
        </p:nvSpPr>
        <p:spPr>
          <a:xfrm>
            <a:off x="285840" y="20718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MS UI Gothic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MS UI Gothic"/>
              </a:rPr>
              <a:t>垂直平分线是垂直且平分线段的一条直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98"/>
          <p:cNvSpPr/>
          <p:nvPr/>
        </p:nvSpPr>
        <p:spPr>
          <a:xfrm>
            <a:off x="0" y="28584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</a:rPr>
              <a:t>线段的垂直平分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06"/>
          <p:cNvSpPr/>
          <p:nvPr/>
        </p:nvSpPr>
        <p:spPr>
          <a:xfrm>
            <a:off x="142920" y="30002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垂直平分线的性质：垂直平分线上的点到这条线段两个端点的距离相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207"/>
          <p:cNvSpPr/>
          <p:nvPr/>
        </p:nvSpPr>
        <p:spPr>
          <a:xfrm flipH="1">
            <a:off x="6466680" y="466236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动作按钮: 第一张 33"/>
          <p:cNvGrpSpPr/>
          <p:nvPr/>
        </p:nvGrpSpPr>
        <p:grpSpPr>
          <a:xfrm>
            <a:off x="8186760" y="328680"/>
            <a:ext cx="622440" cy="555480"/>
            <a:chOff x="8186760" y="328680"/>
            <a:chExt cx="622440" cy="555480"/>
          </a:xfrm>
        </p:grpSpPr>
        <p:pic>
          <p:nvPicPr>
            <p:cNvPr id="452" name="动作按钮: 第一张 3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186760" y="328680"/>
              <a:ext cx="6224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8215200" y="35712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1"/>
          <p:cNvGrpSpPr/>
          <p:nvPr/>
        </p:nvGrpSpPr>
        <p:grpSpPr>
          <a:xfrm>
            <a:off x="380160" y="309240"/>
            <a:ext cx="1245240" cy="1244880"/>
            <a:chOff x="380160" y="309240"/>
            <a:chExt cx="1245240" cy="1244880"/>
          </a:xfrm>
        </p:grpSpPr>
        <p:sp>
          <p:nvSpPr>
            <p:cNvPr id="455" name="AutoShape 12"/>
            <p:cNvSpPr/>
            <p:nvPr/>
          </p:nvSpPr>
          <p:spPr>
            <a:xfrm rot="2700000">
              <a:off x="570960" y="482760"/>
              <a:ext cx="863280" cy="897480"/>
            </a:xfrm>
            <a:custGeom>
              <a:avLst/>
              <a:gdLst>
                <a:gd name="textAreaLeft" fmla="*/ 55800 w 863280"/>
                <a:gd name="textAreaRight" fmla="*/ 807480 w 863280"/>
                <a:gd name="textAreaTop" fmla="*/ 55800 h 897480"/>
                <a:gd name="textAreaBottom" fmla="*/ 841680 h 897480"/>
              </a:gdLst>
              <a:ahLst/>
              <a:rect l="textAreaLeft" t="textAreaTop" r="textAreaRight" b="textAreaBottom"/>
              <a:pathLst>
                <a:path w="21600" h="22455">
                  <a:moveTo>
                    <a:pt x="0" y="0"/>
                  </a:moveTo>
                  <a:lnTo>
                    <a:pt x="21600" y="0"/>
                  </a:lnTo>
                  <a:lnTo>
                    <a:pt x="21600" y="22455"/>
                  </a:lnTo>
                  <a:lnTo>
                    <a:pt x="0" y="22455"/>
                  </a:lnTo>
                  <a:close/>
                </a:path>
                <a:path fill="lightenLess" w="21600" h="2245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55">
                  <a:moveTo>
                    <a:pt x="21600" y="0"/>
                  </a:moveTo>
                  <a:lnTo>
                    <a:pt x="21600" y="22455"/>
                  </a:lnTo>
                  <a:lnTo>
                    <a:pt x="20200" y="21055"/>
                  </a:lnTo>
                  <a:lnTo>
                    <a:pt x="20200" y="1400"/>
                  </a:lnTo>
                  <a:close/>
                </a:path>
                <a:path fill="darkenLess" w="21600" h="22455">
                  <a:moveTo>
                    <a:pt x="21600" y="22455"/>
                  </a:moveTo>
                  <a:lnTo>
                    <a:pt x="0" y="22455"/>
                  </a:lnTo>
                  <a:lnTo>
                    <a:pt x="1400" y="21055"/>
                  </a:lnTo>
                  <a:lnTo>
                    <a:pt x="20200" y="21055"/>
                  </a:lnTo>
                  <a:close/>
                </a:path>
                <a:path fill="lighten" w="21600" h="22455">
                  <a:moveTo>
                    <a:pt x="0" y="2245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55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3">
              <a:hlinkClick r:id="rId2" action="ppaction://hlinksldjump"/>
            </p:cNvPr>
            <p:cNvSpPr/>
            <p:nvPr/>
          </p:nvSpPr>
          <p:spPr>
            <a:xfrm>
              <a:off x="428760" y="681840"/>
              <a:ext cx="1115640" cy="408600"/>
            </a:xfrm>
            <a:custGeom>
              <a:avLst/>
              <a:gdLst>
                <a:gd name="textAreaLeft" fmla="*/ 26280 w 1115640"/>
                <a:gd name="textAreaRight" fmla="*/ 1089360 w 1115640"/>
                <a:gd name="textAreaTop" fmla="*/ 26280 h 408600"/>
                <a:gd name="textAreaBottom" fmla="*/ 382320 h 408600"/>
              </a:gdLst>
              <a:ahLst/>
              <a:rect l="textAreaLeft" t="textAreaTop" r="textAreaRight" b="textAreaBottom"/>
              <a:pathLst>
                <a:path w="58944" h="21600">
                  <a:moveTo>
                    <a:pt x="0" y="0"/>
                  </a:moveTo>
                  <a:lnTo>
                    <a:pt x="58944" y="0"/>
                  </a:lnTo>
                  <a:lnTo>
                    <a:pt x="58944" y="21600"/>
                  </a:lnTo>
                  <a:lnTo>
                    <a:pt x="0" y="21600"/>
                  </a:lnTo>
                  <a:close/>
                </a:path>
                <a:path fill="lightenLess" w="58944" h="21600">
                  <a:moveTo>
                    <a:pt x="0" y="0"/>
                  </a:moveTo>
                  <a:lnTo>
                    <a:pt x="58944" y="0"/>
                  </a:lnTo>
                  <a:lnTo>
                    <a:pt x="57544" y="1400"/>
                  </a:lnTo>
                  <a:lnTo>
                    <a:pt x="1400" y="1400"/>
                  </a:lnTo>
                  <a:close/>
                </a:path>
                <a:path fill="darken" w="58944" h="21600">
                  <a:moveTo>
                    <a:pt x="58944" y="0"/>
                  </a:moveTo>
                  <a:lnTo>
                    <a:pt x="58944" y="21600"/>
                  </a:lnTo>
                  <a:lnTo>
                    <a:pt x="57544" y="20200"/>
                  </a:lnTo>
                  <a:lnTo>
                    <a:pt x="57544" y="1400"/>
                  </a:lnTo>
                  <a:close/>
                </a:path>
                <a:path fill="darkenLess" w="58944" h="21600">
                  <a:moveTo>
                    <a:pt x="589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544" y="20200"/>
                  </a:lnTo>
                  <a:close/>
                </a:path>
                <a:path fill="lighten" w="589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探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7" name="Object 2"/>
          <p:cNvGraphicFramePr/>
          <p:nvPr/>
        </p:nvGraphicFramePr>
        <p:xfrm>
          <a:off x="1857240" y="3429000"/>
          <a:ext cx="48006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3429000"/>
                    <a:ext cx="4800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5"/>
          <p:cNvSpPr/>
          <p:nvPr/>
        </p:nvSpPr>
        <p:spPr>
          <a:xfrm>
            <a:off x="214200" y="18572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已知线段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画出它的垂直平分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000160" y="71424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468360" y="187200"/>
            <a:ext cx="180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95280" y="90792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已知线段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画出它的垂直平分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269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32194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95280" y="2765520"/>
            <a:ext cx="72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法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以大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半的长为半径画弧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285840" y="3929040"/>
            <a:ext cx="74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以同样的长为半径画弧，两弧的交点记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357120" y="51436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过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00040" y="59292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即为所求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1643040" y="1785960"/>
          <a:ext cx="480060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1785960"/>
                    <a:ext cx="4800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4" name="动作按钮: 第一张 12"/>
          <p:cNvGrpSpPr/>
          <p:nvPr/>
        </p:nvGrpSpPr>
        <p:grpSpPr>
          <a:xfrm>
            <a:off x="8186760" y="469800"/>
            <a:ext cx="622440" cy="554040"/>
            <a:chOff x="8186760" y="469800"/>
            <a:chExt cx="622440" cy="554040"/>
          </a:xfrm>
        </p:grpSpPr>
        <p:pic>
          <p:nvPicPr>
            <p:cNvPr id="475" name="动作按钮: 第一张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86760" y="469800"/>
              <a:ext cx="622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215200" y="50004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7"/>
          <p:cNvGrpSpPr/>
          <p:nvPr/>
        </p:nvGrpSpPr>
        <p:grpSpPr>
          <a:xfrm>
            <a:off x="431640" y="335160"/>
            <a:ext cx="1302480" cy="1302480"/>
            <a:chOff x="431640" y="335160"/>
            <a:chExt cx="1302480" cy="1302480"/>
          </a:xfrm>
        </p:grpSpPr>
        <p:sp>
          <p:nvSpPr>
            <p:cNvPr id="478" name="AutoShape 18"/>
            <p:cNvSpPr/>
            <p:nvPr/>
          </p:nvSpPr>
          <p:spPr>
            <a:xfrm rot="2700000">
              <a:off x="596160" y="551520"/>
              <a:ext cx="972720" cy="869040"/>
            </a:xfrm>
            <a:custGeom>
              <a:avLst/>
              <a:gdLst>
                <a:gd name="textAreaLeft" fmla="*/ 56160 w 972720"/>
                <a:gd name="textAreaRight" fmla="*/ 916560 w 972720"/>
                <a:gd name="textAreaTop" fmla="*/ 56160 h 869040"/>
                <a:gd name="textAreaBottom" fmla="*/ 812880 h 869040"/>
              </a:gdLst>
              <a:ahLst/>
              <a:rect l="textAreaLeft" t="textAreaTop" r="textAreaRight" b="textAreaBottom"/>
              <a:pathLst>
                <a:path w="24176" h="21600">
                  <a:moveTo>
                    <a:pt x="0" y="0"/>
                  </a:moveTo>
                  <a:lnTo>
                    <a:pt x="24176" y="0"/>
                  </a:lnTo>
                  <a:lnTo>
                    <a:pt x="24176" y="21600"/>
                  </a:lnTo>
                  <a:lnTo>
                    <a:pt x="0" y="21600"/>
                  </a:lnTo>
                  <a:close/>
                </a:path>
                <a:path fill="lightenLess" w="24176" h="21600">
                  <a:moveTo>
                    <a:pt x="0" y="0"/>
                  </a:moveTo>
                  <a:lnTo>
                    <a:pt x="24176" y="0"/>
                  </a:lnTo>
                  <a:lnTo>
                    <a:pt x="22776" y="1400"/>
                  </a:lnTo>
                  <a:lnTo>
                    <a:pt x="1400" y="1400"/>
                  </a:lnTo>
                  <a:close/>
                </a:path>
                <a:path fill="darken" w="24176" h="21600">
                  <a:moveTo>
                    <a:pt x="24176" y="0"/>
                  </a:moveTo>
                  <a:lnTo>
                    <a:pt x="24176" y="21600"/>
                  </a:lnTo>
                  <a:lnTo>
                    <a:pt x="22776" y="20200"/>
                  </a:lnTo>
                  <a:lnTo>
                    <a:pt x="22776" y="1400"/>
                  </a:lnTo>
                  <a:close/>
                </a:path>
                <a:path fill="darkenLess" w="24176" h="21600">
                  <a:moveTo>
                    <a:pt x="241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776" y="20200"/>
                  </a:lnTo>
                  <a:close/>
                </a:path>
                <a:path fill="lighten" w="241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9"/>
            <p:cNvSpPr/>
            <p:nvPr/>
          </p:nvSpPr>
          <p:spPr>
            <a:xfrm>
              <a:off x="501480" y="714240"/>
              <a:ext cx="1080720" cy="460080"/>
            </a:xfrm>
            <a:custGeom>
              <a:avLst/>
              <a:gdLst>
                <a:gd name="textAreaLeft" fmla="*/ 29520 w 1080720"/>
                <a:gd name="textAreaRight" fmla="*/ 1051200 w 1080720"/>
                <a:gd name="textAreaTop" fmla="*/ 29520 h 460080"/>
                <a:gd name="textAreaBottom" fmla="*/ 430560 h 460080"/>
              </a:gdLst>
              <a:ahLst/>
              <a:rect l="textAreaLeft" t="textAreaTop" r="textAreaRight" b="textAreaBottom"/>
              <a:pathLst>
                <a:path w="50715" h="21600">
                  <a:moveTo>
                    <a:pt x="0" y="0"/>
                  </a:moveTo>
                  <a:lnTo>
                    <a:pt x="50715" y="0"/>
                  </a:lnTo>
                  <a:lnTo>
                    <a:pt x="50715" y="21600"/>
                  </a:lnTo>
                  <a:lnTo>
                    <a:pt x="0" y="21600"/>
                  </a:lnTo>
                  <a:close/>
                </a:path>
                <a:path fill="lightenLess" w="50715" h="21600">
                  <a:moveTo>
                    <a:pt x="0" y="0"/>
                  </a:moveTo>
                  <a:lnTo>
                    <a:pt x="50715" y="0"/>
                  </a:lnTo>
                  <a:lnTo>
                    <a:pt x="49315" y="1400"/>
                  </a:lnTo>
                  <a:lnTo>
                    <a:pt x="1400" y="1400"/>
                  </a:lnTo>
                  <a:close/>
                </a:path>
                <a:path fill="darken" w="50715" h="21600">
                  <a:moveTo>
                    <a:pt x="50715" y="0"/>
                  </a:moveTo>
                  <a:lnTo>
                    <a:pt x="50715" y="21600"/>
                  </a:lnTo>
                  <a:lnTo>
                    <a:pt x="49315" y="20200"/>
                  </a:lnTo>
                  <a:lnTo>
                    <a:pt x="49315" y="1400"/>
                  </a:lnTo>
                  <a:close/>
                </a:path>
                <a:path fill="darkenLess" w="50715" h="21600">
                  <a:moveTo>
                    <a:pt x="5071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315" y="20200"/>
                  </a:lnTo>
                  <a:close/>
                </a:path>
                <a:path fill="lighten" w="5071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拓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Text Box 5"/>
          <p:cNvSpPr/>
          <p:nvPr/>
        </p:nvSpPr>
        <p:spPr>
          <a:xfrm>
            <a:off x="357120" y="16430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直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，试过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画出直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线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1547640" y="2997360"/>
          <a:ext cx="6066000" cy="71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997360"/>
                    <a:ext cx="6066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9"/>
          <p:cNvSpPr/>
          <p:nvPr/>
        </p:nvSpPr>
        <p:spPr>
          <a:xfrm>
            <a:off x="539640" y="4005360"/>
            <a:ext cx="80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能否利用画线段垂直平分线的方法解决呢？试试看，完成整个作图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11"/>
          <p:cNvSpPr/>
          <p:nvPr/>
        </p:nvSpPr>
        <p:spPr>
          <a:xfrm>
            <a:off x="2143080" y="500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试一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Object 2"/>
          <p:cNvGraphicFramePr/>
          <p:nvPr/>
        </p:nvGraphicFramePr>
        <p:xfrm>
          <a:off x="1476360" y="1413000"/>
          <a:ext cx="6048360" cy="10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413000"/>
                    <a:ext cx="604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7"/>
          <p:cNvSpPr/>
          <p:nvPr/>
        </p:nvSpPr>
        <p:spPr>
          <a:xfrm>
            <a:off x="611280" y="3068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任一线段的长为半径画弧，交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两点，则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中点．因此，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画直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线转化为画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直平分线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Object 2"/>
          <p:cNvGraphicFramePr/>
          <p:nvPr/>
        </p:nvGraphicFramePr>
        <p:xfrm>
          <a:off x="1643040" y="4143240"/>
          <a:ext cx="502452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143240"/>
                    <a:ext cx="50245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3"/>
          <p:cNvSpPr/>
          <p:nvPr/>
        </p:nvSpPr>
        <p:spPr>
          <a:xfrm>
            <a:off x="357120" y="13572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如果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在直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，试和同学讨论，应采取怎样的步骤，过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画出直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线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386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357120" y="500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试一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324000" y="3645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以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为半径在直线另一侧画弧，交前一条弧于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324000" y="9079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法：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以适当长为半径画弧，交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于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85840" y="20718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圆心，以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B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为半径在直线另一侧画弧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395280" y="48546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过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357120" y="564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则直线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即为所求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动作按钮: 第一张 10"/>
          <p:cNvGrpSpPr/>
          <p:nvPr/>
        </p:nvGrpSpPr>
        <p:grpSpPr>
          <a:xfrm>
            <a:off x="8186760" y="469800"/>
            <a:ext cx="622440" cy="554040"/>
            <a:chOff x="8186760" y="469800"/>
            <a:chExt cx="622440" cy="554040"/>
          </a:xfrm>
        </p:grpSpPr>
        <p:pic>
          <p:nvPicPr>
            <p:cNvPr id="501" name="动作按钮: 第一张 10" descr=""/>
            <p:cNvPicPr/>
            <p:nvPr/>
          </p:nvPicPr>
          <p:blipFill>
            <a:blip r:embed="rId2"/>
            <a:stretch/>
          </p:blipFill>
          <p:spPr>
            <a:xfrm>
              <a:off x="8186760" y="469800"/>
              <a:ext cx="622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8215200" y="50004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5"/>
          <p:cNvSpPr/>
          <p:nvPr/>
        </p:nvSpPr>
        <p:spPr>
          <a:xfrm rot="2700000">
            <a:off x="552600" y="419040"/>
            <a:ext cx="973080" cy="954000"/>
          </a:xfrm>
          <a:custGeom>
            <a:avLst/>
            <a:gdLst>
              <a:gd name="textAreaLeft" fmla="*/ 61560 w 973080"/>
              <a:gd name="textAreaRight" fmla="*/ 911520 w 973080"/>
              <a:gd name="textAreaTop" fmla="*/ 61560 h 954000"/>
              <a:gd name="textAreaBottom" fmla="*/ 892440 h 954000"/>
            </a:gdLst>
            <a:ahLst/>
            <a:rect l="textAreaLeft" t="textAreaTop" r="textAreaRight" b="textAreaBottom"/>
            <a:pathLst>
              <a:path w="22032" h="21600">
                <a:moveTo>
                  <a:pt x="0" y="0"/>
                </a:moveTo>
                <a:lnTo>
                  <a:pt x="22032" y="0"/>
                </a:lnTo>
                <a:lnTo>
                  <a:pt x="22032" y="21600"/>
                </a:lnTo>
                <a:lnTo>
                  <a:pt x="0" y="21600"/>
                </a:lnTo>
                <a:close/>
              </a:path>
              <a:path fill="lightenLess" w="22032" h="21600">
                <a:moveTo>
                  <a:pt x="0" y="0"/>
                </a:moveTo>
                <a:lnTo>
                  <a:pt x="22032" y="0"/>
                </a:lnTo>
                <a:lnTo>
                  <a:pt x="20632" y="1400"/>
                </a:lnTo>
                <a:lnTo>
                  <a:pt x="1400" y="1400"/>
                </a:lnTo>
                <a:close/>
              </a:path>
              <a:path fill="darken" w="22032" h="21600">
                <a:moveTo>
                  <a:pt x="22032" y="0"/>
                </a:moveTo>
                <a:lnTo>
                  <a:pt x="22032" y="21600"/>
                </a:lnTo>
                <a:lnTo>
                  <a:pt x="20632" y="20200"/>
                </a:lnTo>
                <a:lnTo>
                  <a:pt x="20632" y="1400"/>
                </a:lnTo>
                <a:close/>
              </a:path>
              <a:path fill="darkenLess" w="22032" h="21600">
                <a:moveTo>
                  <a:pt x="22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32" y="20200"/>
                </a:lnTo>
                <a:close/>
              </a:path>
              <a:path fill="lighten" w="22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6"/>
          <p:cNvSpPr/>
          <p:nvPr/>
        </p:nvSpPr>
        <p:spPr>
          <a:xfrm>
            <a:off x="428760" y="642960"/>
            <a:ext cx="1187280" cy="460440"/>
          </a:xfrm>
          <a:custGeom>
            <a:avLst/>
            <a:gdLst>
              <a:gd name="textAreaLeft" fmla="*/ 29520 w 1187280"/>
              <a:gd name="textAreaRight" fmla="*/ 1157760 w 118728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55671" h="21600">
                <a:moveTo>
                  <a:pt x="0" y="0"/>
                </a:moveTo>
                <a:lnTo>
                  <a:pt x="55671" y="0"/>
                </a:lnTo>
                <a:lnTo>
                  <a:pt x="55671" y="21600"/>
                </a:lnTo>
                <a:lnTo>
                  <a:pt x="0" y="21600"/>
                </a:lnTo>
                <a:close/>
              </a:path>
              <a:path fill="lightenLess" w="55671" h="21600">
                <a:moveTo>
                  <a:pt x="0" y="0"/>
                </a:moveTo>
                <a:lnTo>
                  <a:pt x="55671" y="0"/>
                </a:lnTo>
                <a:lnTo>
                  <a:pt x="54271" y="1400"/>
                </a:lnTo>
                <a:lnTo>
                  <a:pt x="1400" y="1400"/>
                </a:lnTo>
                <a:close/>
              </a:path>
              <a:path fill="darken" w="55671" h="21600">
                <a:moveTo>
                  <a:pt x="55671" y="0"/>
                </a:moveTo>
                <a:lnTo>
                  <a:pt x="55671" y="21600"/>
                </a:lnTo>
                <a:lnTo>
                  <a:pt x="54271" y="20200"/>
                </a:lnTo>
                <a:lnTo>
                  <a:pt x="54271" y="1400"/>
                </a:lnTo>
                <a:close/>
              </a:path>
              <a:path fill="darkenLess" w="55671" h="21600">
                <a:moveTo>
                  <a:pt x="5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71" y="20200"/>
                </a:lnTo>
                <a:close/>
              </a:path>
              <a:path fill="lighten" w="5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57120" y="130680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在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C=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，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的垂直平分线分别交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于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E=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，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的周长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924360" cy="32324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4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1424160" y="3373200"/>
            <a:ext cx="49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因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直平分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1051200" y="407340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C=EB=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1239120" y="4859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C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周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EB+EC+BC=6+6+10=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WordArt 21"/>
          <p:cNvSpPr txBox="1"/>
          <p:nvPr/>
        </p:nvSpPr>
        <p:spPr>
          <a:xfrm>
            <a:off x="2214720" y="42876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50920" y="134136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一条边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直平分线，垂足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并交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于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已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=8cm,BD=6cm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EA=________, DA=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555480" y="3452400"/>
            <a:ext cx="2895480" cy="2426040"/>
            <a:chOff x="555480" y="3452400"/>
            <a:chExt cx="2895480" cy="2426040"/>
          </a:xfrm>
        </p:grpSpPr>
        <p:grpSp>
          <p:nvGrpSpPr>
            <p:cNvPr id="514" name="Group 4"/>
            <p:cNvGrpSpPr/>
            <p:nvPr/>
          </p:nvGrpSpPr>
          <p:grpSpPr>
            <a:xfrm>
              <a:off x="860040" y="3452400"/>
              <a:ext cx="2210040" cy="2057400"/>
              <a:chOff x="860040" y="3452400"/>
              <a:chExt cx="2210040" cy="2057400"/>
            </a:xfrm>
          </p:grpSpPr>
          <p:sp>
            <p:nvSpPr>
              <p:cNvPr id="515" name="Line 5"/>
              <p:cNvSpPr/>
              <p:nvPr/>
            </p:nvSpPr>
            <p:spPr>
              <a:xfrm flipH="1">
                <a:off x="860040" y="3757680"/>
                <a:ext cx="762120" cy="1143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6"/>
              <p:cNvSpPr/>
              <p:nvPr/>
            </p:nvSpPr>
            <p:spPr>
              <a:xfrm>
                <a:off x="1622520" y="3757680"/>
                <a:ext cx="1447560" cy="1143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7"/>
              <p:cNvSpPr/>
              <p:nvPr/>
            </p:nvSpPr>
            <p:spPr>
              <a:xfrm flipV="1">
                <a:off x="1927080" y="3452400"/>
                <a:ext cx="0" cy="2057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8"/>
              <p:cNvSpPr/>
              <p:nvPr/>
            </p:nvSpPr>
            <p:spPr>
              <a:xfrm flipV="1">
                <a:off x="860400" y="3986280"/>
                <a:ext cx="106668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9"/>
              <p:cNvSpPr/>
              <p:nvPr/>
            </p:nvSpPr>
            <p:spPr>
              <a:xfrm>
                <a:off x="1927080" y="4748040"/>
                <a:ext cx="152640" cy="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10"/>
              <p:cNvSpPr/>
              <p:nvPr/>
            </p:nvSpPr>
            <p:spPr>
              <a:xfrm>
                <a:off x="2079720" y="4748040"/>
                <a:ext cx="0" cy="1526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1"/>
            <p:cNvGrpSpPr/>
            <p:nvPr/>
          </p:nvGrpSpPr>
          <p:grpSpPr>
            <a:xfrm>
              <a:off x="555480" y="3529080"/>
              <a:ext cx="2895480" cy="2349360"/>
              <a:chOff x="555480" y="3529080"/>
              <a:chExt cx="2895480" cy="2349360"/>
            </a:xfrm>
          </p:grpSpPr>
          <p:sp>
            <p:nvSpPr>
              <p:cNvPr id="522" name="Line 12"/>
              <p:cNvSpPr/>
              <p:nvPr/>
            </p:nvSpPr>
            <p:spPr>
              <a:xfrm>
                <a:off x="860400" y="4900680"/>
                <a:ext cx="2209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13"/>
              <p:cNvSpPr/>
              <p:nvPr/>
            </p:nvSpPr>
            <p:spPr>
              <a:xfrm>
                <a:off x="555480" y="49006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14"/>
              <p:cNvSpPr/>
              <p:nvPr/>
            </p:nvSpPr>
            <p:spPr>
              <a:xfrm>
                <a:off x="2917800" y="49006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15"/>
              <p:cNvSpPr/>
              <p:nvPr/>
            </p:nvSpPr>
            <p:spPr>
              <a:xfrm>
                <a:off x="1927080" y="49006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6"/>
              <p:cNvSpPr/>
              <p:nvPr/>
            </p:nvSpPr>
            <p:spPr>
              <a:xfrm>
                <a:off x="2003400" y="37576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7"/>
              <p:cNvSpPr/>
              <p:nvPr/>
            </p:nvSpPr>
            <p:spPr>
              <a:xfrm>
                <a:off x="1164960" y="3529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18"/>
              <p:cNvSpPr/>
              <p:nvPr/>
            </p:nvSpPr>
            <p:spPr>
              <a:xfrm>
                <a:off x="1393560" y="551016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34637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a34637"/>
                    </a:solidFill>
                    <a:latin typeface="Arial"/>
                  </a:rPr>
                  <a:t>1</a:t>
                </a:r>
                <a:r>
                  <a:rPr b="1" lang="zh-CN" sz="1800" spc="-1" strike="noStrike">
                    <a:solidFill>
                      <a:srgbClr val="a34637"/>
                    </a:solidFill>
                    <a:latin typeface="Arial"/>
                  </a:rPr>
                  <a:t>）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9"/>
          <p:cNvSpPr/>
          <p:nvPr/>
        </p:nvSpPr>
        <p:spPr>
          <a:xfrm>
            <a:off x="5357880" y="2214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0"/>
          <p:cNvSpPr/>
          <p:nvPr/>
        </p:nvSpPr>
        <p:spPr>
          <a:xfrm>
            <a:off x="7429680" y="2214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WordArt 21"/>
          <p:cNvSpPr txBox="1"/>
          <p:nvPr/>
        </p:nvSpPr>
        <p:spPr>
          <a:xfrm>
            <a:off x="539640" y="4762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95280" y="981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图，在△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，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B=AC=16cm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垂直平分线交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于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如果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C=10cm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那么△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CD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周长是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_______c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3"/>
          <p:cNvGrpSpPr/>
          <p:nvPr/>
        </p:nvGrpSpPr>
        <p:grpSpPr>
          <a:xfrm>
            <a:off x="5292720" y="2205000"/>
            <a:ext cx="2681280" cy="3046320"/>
            <a:chOff x="5292720" y="2205000"/>
            <a:chExt cx="2681280" cy="3046320"/>
          </a:xfrm>
        </p:grpSpPr>
        <p:sp>
          <p:nvSpPr>
            <p:cNvPr id="534" name="Text Box 4"/>
            <p:cNvSpPr/>
            <p:nvPr/>
          </p:nvSpPr>
          <p:spPr>
            <a:xfrm>
              <a:off x="6227640" y="220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5"/>
            <p:cNvSpPr/>
            <p:nvPr/>
          </p:nvSpPr>
          <p:spPr>
            <a:xfrm>
              <a:off x="5364000" y="4869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7135920" y="48830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7"/>
            <p:cNvSpPr/>
            <p:nvPr/>
          </p:nvSpPr>
          <p:spPr>
            <a:xfrm>
              <a:off x="7020000" y="3716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810400" y="3314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9"/>
            <p:cNvSpPr/>
            <p:nvPr/>
          </p:nvSpPr>
          <p:spPr>
            <a:xfrm flipH="1">
              <a:off x="5668920" y="2687760"/>
              <a:ext cx="838080" cy="220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10"/>
            <p:cNvSpPr/>
            <p:nvPr/>
          </p:nvSpPr>
          <p:spPr>
            <a:xfrm>
              <a:off x="6507000" y="2687760"/>
              <a:ext cx="762120" cy="220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1"/>
            <p:cNvSpPr/>
            <p:nvPr/>
          </p:nvSpPr>
          <p:spPr>
            <a:xfrm>
              <a:off x="5668920" y="4897440"/>
              <a:ext cx="1600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 flipH="1" flipV="1">
              <a:off x="5292720" y="3515760"/>
              <a:ext cx="2448000" cy="86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 flipV="1">
              <a:off x="5654520" y="4090680"/>
              <a:ext cx="1351080" cy="81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Text Box 14"/>
          <p:cNvSpPr/>
          <p:nvPr/>
        </p:nvSpPr>
        <p:spPr>
          <a:xfrm>
            <a:off x="6049800" y="5375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34637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34637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2143080" y="1785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WordArt 16"/>
          <p:cNvSpPr txBox="1"/>
          <p:nvPr/>
        </p:nvSpPr>
        <p:spPr>
          <a:xfrm>
            <a:off x="539640" y="404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47" name="Picture 17" descr="1584"/>
          <p:cNvPicPr/>
          <p:nvPr/>
        </p:nvPicPr>
        <p:blipFill>
          <a:blip r:embed="rId2"/>
          <a:stretch/>
        </p:blipFill>
        <p:spPr>
          <a:xfrm>
            <a:off x="324000" y="54421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 rot="18883200">
            <a:off x="3850920" y="3705120"/>
            <a:ext cx="587520" cy="587520"/>
          </a:xfrm>
          <a:custGeom>
            <a:avLst/>
            <a:gdLst>
              <a:gd name="textAreaLeft" fmla="*/ 86040 w 587520"/>
              <a:gd name="textAreaRight" fmla="*/ 501480 w 587520"/>
              <a:gd name="textAreaTop" fmla="*/ 86040 h 587520"/>
              <a:gd name="textAreaBottom" fmla="*/ 5014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 rot="11701200">
            <a:off x="4066920" y="3128400"/>
            <a:ext cx="587160" cy="587160"/>
          </a:xfrm>
          <a:custGeom>
            <a:avLst/>
            <a:gdLst>
              <a:gd name="textAreaLeft" fmla="*/ 85680 w 587160"/>
              <a:gd name="textAreaRight" fmla="*/ 501480 w 587160"/>
              <a:gd name="textAreaTop" fmla="*/ 85680 h 587160"/>
              <a:gd name="textAreaBottom" fmla="*/ 50148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 rot="15312600">
            <a:off x="4140000" y="4281480"/>
            <a:ext cx="587520" cy="587160"/>
          </a:xfrm>
          <a:custGeom>
            <a:avLst/>
            <a:gdLst>
              <a:gd name="textAreaLeft" fmla="*/ 86040 w 587520"/>
              <a:gd name="textAreaRight" fmla="*/ 501480 w 587520"/>
              <a:gd name="textAreaTop" fmla="*/ 85680 h 587160"/>
              <a:gd name="textAreaBottom" fmla="*/ 50148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866400">
            <a:off x="4920840" y="4281120"/>
            <a:ext cx="587520" cy="587520"/>
          </a:xfrm>
          <a:custGeom>
            <a:avLst/>
            <a:gdLst>
              <a:gd name="textAreaLeft" fmla="*/ 86040 w 587520"/>
              <a:gd name="textAreaRight" fmla="*/ 501480 w 587520"/>
              <a:gd name="textAreaTop" fmla="*/ 86040 h 587520"/>
              <a:gd name="textAreaBottom" fmla="*/ 5014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 rot="15423000">
            <a:off x="4632120" y="2697120"/>
            <a:ext cx="587520" cy="587160"/>
          </a:xfrm>
          <a:custGeom>
            <a:avLst/>
            <a:gdLst>
              <a:gd name="textAreaLeft" fmla="*/ 86040 w 587520"/>
              <a:gd name="textAreaRight" fmla="*/ 501480 w 587520"/>
              <a:gd name="textAreaTop" fmla="*/ 85680 h 587160"/>
              <a:gd name="textAreaBottom" fmla="*/ 50148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8883200">
            <a:off x="5424120" y="3778200"/>
            <a:ext cx="587520" cy="587520"/>
          </a:xfrm>
          <a:custGeom>
            <a:avLst/>
            <a:gdLst>
              <a:gd name="textAreaLeft" fmla="*/ 86040 w 587520"/>
              <a:gd name="textAreaRight" fmla="*/ 501480 w 587520"/>
              <a:gd name="textAreaTop" fmla="*/ 86040 h 587520"/>
              <a:gd name="textAreaBottom" fmla="*/ 5014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3006720" y="2316960"/>
            <a:ext cx="1179000" cy="1179000"/>
            <a:chOff x="3006720" y="2316960"/>
            <a:chExt cx="1179000" cy="1179000"/>
          </a:xfrm>
        </p:grpSpPr>
        <p:sp>
          <p:nvSpPr>
            <p:cNvPr id="53" name="AutoShape 9"/>
            <p:cNvSpPr/>
            <p:nvPr/>
          </p:nvSpPr>
          <p:spPr>
            <a:xfrm rot="2700000">
              <a:off x="3182040" y="2486880"/>
              <a:ext cx="828360" cy="838800"/>
            </a:xfrm>
            <a:custGeom>
              <a:avLst/>
              <a:gdLst>
                <a:gd name="textAreaLeft" fmla="*/ 53640 w 828360"/>
                <a:gd name="textAreaRight" fmla="*/ 774720 w 828360"/>
                <a:gd name="textAreaTop" fmla="*/ 53640 h 838800"/>
                <a:gd name="textAreaBottom" fmla="*/ 785160 h 838800"/>
              </a:gdLst>
              <a:ahLst/>
              <a:rect l="textAreaLeft" t="textAreaTop" r="textAreaRight" b="textAreaBottom"/>
              <a:pathLst>
                <a:path w="21600" h="21872">
                  <a:moveTo>
                    <a:pt x="0" y="0"/>
                  </a:moveTo>
                  <a:lnTo>
                    <a:pt x="21600" y="0"/>
                  </a:lnTo>
                  <a:lnTo>
                    <a:pt x="21600" y="21872"/>
                  </a:lnTo>
                  <a:lnTo>
                    <a:pt x="0" y="21872"/>
                  </a:lnTo>
                  <a:close/>
                </a:path>
                <a:path fill="lightenLess" w="21600" h="2187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872">
                  <a:moveTo>
                    <a:pt x="21600" y="0"/>
                  </a:moveTo>
                  <a:lnTo>
                    <a:pt x="21600" y="21872"/>
                  </a:lnTo>
                  <a:lnTo>
                    <a:pt x="20200" y="20472"/>
                  </a:lnTo>
                  <a:lnTo>
                    <a:pt x="20200" y="1400"/>
                  </a:lnTo>
                  <a:close/>
                </a:path>
                <a:path fill="darkenLess" w="21600" h="21872">
                  <a:moveTo>
                    <a:pt x="21600" y="21872"/>
                  </a:moveTo>
                  <a:lnTo>
                    <a:pt x="0" y="21872"/>
                  </a:lnTo>
                  <a:lnTo>
                    <a:pt x="1400" y="20472"/>
                  </a:lnTo>
                  <a:lnTo>
                    <a:pt x="20200" y="20472"/>
                  </a:lnTo>
                  <a:close/>
                </a:path>
                <a:path fill="lighten" w="21600" h="21872">
                  <a:moveTo>
                    <a:pt x="0" y="2187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472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10">
              <a:hlinkClick r:id="" action="ppaction://hlinkshowjump?jump=nextslide"/>
            </p:cNvPr>
            <p:cNvSpPr/>
            <p:nvPr/>
          </p:nvSpPr>
          <p:spPr>
            <a:xfrm>
              <a:off x="3059280" y="2622960"/>
              <a:ext cx="1042560" cy="391680"/>
            </a:xfrm>
            <a:custGeom>
              <a:avLst/>
              <a:gdLst>
                <a:gd name="textAreaLeft" fmla="*/ 25200 w 1042560"/>
                <a:gd name="textAreaRight" fmla="*/ 1017360 w 1042560"/>
                <a:gd name="textAreaTop" fmla="*/ 25200 h 391680"/>
                <a:gd name="textAreaBottom" fmla="*/ 366480 h 391680"/>
              </a:gdLst>
              <a:ahLst/>
              <a:rect l="textAreaLeft" t="textAreaTop" r="textAreaRight" b="textAreaBottom"/>
              <a:pathLst>
                <a:path w="57461" h="21600">
                  <a:moveTo>
                    <a:pt x="0" y="0"/>
                  </a:moveTo>
                  <a:lnTo>
                    <a:pt x="57461" y="0"/>
                  </a:lnTo>
                  <a:lnTo>
                    <a:pt x="57461" y="21600"/>
                  </a:lnTo>
                  <a:lnTo>
                    <a:pt x="0" y="21600"/>
                  </a:lnTo>
                  <a:close/>
                </a:path>
                <a:path fill="lightenLess" w="57461" h="21600">
                  <a:moveTo>
                    <a:pt x="0" y="0"/>
                  </a:moveTo>
                  <a:lnTo>
                    <a:pt x="57461" y="0"/>
                  </a:lnTo>
                  <a:lnTo>
                    <a:pt x="56061" y="1400"/>
                  </a:lnTo>
                  <a:lnTo>
                    <a:pt x="1400" y="1400"/>
                  </a:lnTo>
                  <a:close/>
                </a:path>
                <a:path fill="darken" w="57461" h="21600">
                  <a:moveTo>
                    <a:pt x="57461" y="0"/>
                  </a:moveTo>
                  <a:lnTo>
                    <a:pt x="57461" y="21600"/>
                  </a:lnTo>
                  <a:lnTo>
                    <a:pt x="56061" y="20200"/>
                  </a:lnTo>
                  <a:lnTo>
                    <a:pt x="56061" y="1400"/>
                  </a:lnTo>
                  <a:close/>
                </a:path>
                <a:path fill="darkenLess" w="57461" h="21600">
                  <a:moveTo>
                    <a:pt x="574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061" y="20200"/>
                  </a:lnTo>
                  <a:close/>
                </a:path>
                <a:path fill="lighten" w="574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2" action="ppaction://hlinksldjump"/>
                </a:rPr>
                <a:t>探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2435760" y="3454200"/>
            <a:ext cx="1245240" cy="1244880"/>
            <a:chOff x="2435760" y="3454200"/>
            <a:chExt cx="1245240" cy="1244880"/>
          </a:xfrm>
        </p:grpSpPr>
        <p:sp>
          <p:nvSpPr>
            <p:cNvPr id="56" name="AutoShape 12"/>
            <p:cNvSpPr/>
            <p:nvPr/>
          </p:nvSpPr>
          <p:spPr>
            <a:xfrm rot="2700000">
              <a:off x="2626560" y="3627720"/>
              <a:ext cx="863280" cy="897480"/>
            </a:xfrm>
            <a:custGeom>
              <a:avLst/>
              <a:gdLst>
                <a:gd name="textAreaLeft" fmla="*/ 55800 w 863280"/>
                <a:gd name="textAreaRight" fmla="*/ 807480 w 863280"/>
                <a:gd name="textAreaTop" fmla="*/ 55800 h 897480"/>
                <a:gd name="textAreaBottom" fmla="*/ 841680 h 897480"/>
              </a:gdLst>
              <a:ahLst/>
              <a:rect l="textAreaLeft" t="textAreaTop" r="textAreaRight" b="textAreaBottom"/>
              <a:pathLst>
                <a:path w="21600" h="22455">
                  <a:moveTo>
                    <a:pt x="0" y="0"/>
                  </a:moveTo>
                  <a:lnTo>
                    <a:pt x="21600" y="0"/>
                  </a:lnTo>
                  <a:lnTo>
                    <a:pt x="21600" y="22455"/>
                  </a:lnTo>
                  <a:lnTo>
                    <a:pt x="0" y="22455"/>
                  </a:lnTo>
                  <a:close/>
                </a:path>
                <a:path fill="lightenLess" w="21600" h="2245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55">
                  <a:moveTo>
                    <a:pt x="21600" y="0"/>
                  </a:moveTo>
                  <a:lnTo>
                    <a:pt x="21600" y="22455"/>
                  </a:lnTo>
                  <a:lnTo>
                    <a:pt x="20200" y="21055"/>
                  </a:lnTo>
                  <a:lnTo>
                    <a:pt x="20200" y="1400"/>
                  </a:lnTo>
                  <a:close/>
                </a:path>
                <a:path fill="darkenLess" w="21600" h="22455">
                  <a:moveTo>
                    <a:pt x="21600" y="22455"/>
                  </a:moveTo>
                  <a:lnTo>
                    <a:pt x="0" y="22455"/>
                  </a:lnTo>
                  <a:lnTo>
                    <a:pt x="1400" y="21055"/>
                  </a:lnTo>
                  <a:lnTo>
                    <a:pt x="20200" y="21055"/>
                  </a:lnTo>
                  <a:close/>
                </a:path>
                <a:path fill="lighten" w="21600" h="22455">
                  <a:moveTo>
                    <a:pt x="0" y="2245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55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AutoShape 13">
              <a:hlinkClick r:id="rId3" action="ppaction://hlinksldjump"/>
            </p:cNvPr>
            <p:cNvSpPr/>
            <p:nvPr/>
          </p:nvSpPr>
          <p:spPr>
            <a:xfrm>
              <a:off x="2484360" y="3826800"/>
              <a:ext cx="1115640" cy="408600"/>
            </a:xfrm>
            <a:custGeom>
              <a:avLst/>
              <a:gdLst>
                <a:gd name="textAreaLeft" fmla="*/ 26280 w 1115640"/>
                <a:gd name="textAreaRight" fmla="*/ 1089360 w 1115640"/>
                <a:gd name="textAreaTop" fmla="*/ 26280 h 408600"/>
                <a:gd name="textAreaBottom" fmla="*/ 382320 h 408600"/>
              </a:gdLst>
              <a:ahLst/>
              <a:rect l="textAreaLeft" t="textAreaTop" r="textAreaRight" b="textAreaBottom"/>
              <a:pathLst>
                <a:path w="58944" h="21600">
                  <a:moveTo>
                    <a:pt x="0" y="0"/>
                  </a:moveTo>
                  <a:lnTo>
                    <a:pt x="58944" y="0"/>
                  </a:lnTo>
                  <a:lnTo>
                    <a:pt x="58944" y="21600"/>
                  </a:lnTo>
                  <a:lnTo>
                    <a:pt x="0" y="21600"/>
                  </a:lnTo>
                  <a:close/>
                </a:path>
                <a:path fill="lightenLess" w="58944" h="21600">
                  <a:moveTo>
                    <a:pt x="0" y="0"/>
                  </a:moveTo>
                  <a:lnTo>
                    <a:pt x="58944" y="0"/>
                  </a:lnTo>
                  <a:lnTo>
                    <a:pt x="57544" y="1400"/>
                  </a:lnTo>
                  <a:lnTo>
                    <a:pt x="1400" y="1400"/>
                  </a:lnTo>
                  <a:close/>
                </a:path>
                <a:path fill="darken" w="58944" h="21600">
                  <a:moveTo>
                    <a:pt x="58944" y="0"/>
                  </a:moveTo>
                  <a:lnTo>
                    <a:pt x="58944" y="21600"/>
                  </a:lnTo>
                  <a:lnTo>
                    <a:pt x="57544" y="20200"/>
                  </a:lnTo>
                  <a:lnTo>
                    <a:pt x="57544" y="1400"/>
                  </a:lnTo>
                  <a:close/>
                </a:path>
                <a:path fill="darkenLess" w="58944" h="21600">
                  <a:moveTo>
                    <a:pt x="589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7544" y="20200"/>
                  </a:lnTo>
                  <a:close/>
                </a:path>
                <a:path fill="lighten" w="589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4" action="ppaction://hlinksldjump"/>
                </a:rPr>
                <a:t>探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06680" y="4592160"/>
            <a:ext cx="1406880" cy="1407240"/>
            <a:chOff x="5206680" y="4592160"/>
            <a:chExt cx="1406880" cy="1407240"/>
          </a:xfrm>
        </p:grpSpPr>
        <p:sp>
          <p:nvSpPr>
            <p:cNvPr id="59" name="AutoShape 15">
              <a:hlinkClick r:id="rId5" action="ppaction://hlinksldjump"/>
            </p:cNvPr>
            <p:cNvSpPr/>
            <p:nvPr/>
          </p:nvSpPr>
          <p:spPr>
            <a:xfrm rot="2700000">
              <a:off x="5398920" y="4811400"/>
              <a:ext cx="1022040" cy="968040"/>
            </a:xfrm>
            <a:custGeom>
              <a:avLst/>
              <a:gdLst>
                <a:gd name="textAreaLeft" fmla="*/ 62640 w 1022040"/>
                <a:gd name="textAreaRight" fmla="*/ 959400 w 1022040"/>
                <a:gd name="textAreaTop" fmla="*/ 62640 h 968040"/>
                <a:gd name="textAreaBottom" fmla="*/ 905400 h 968040"/>
              </a:gdLst>
              <a:ahLst/>
              <a:rect l="textAreaLeft" t="textAreaTop" r="textAreaRight" b="textAreaBottom"/>
              <a:pathLst>
                <a:path w="22804" h="21600">
                  <a:moveTo>
                    <a:pt x="0" y="0"/>
                  </a:moveTo>
                  <a:lnTo>
                    <a:pt x="22804" y="0"/>
                  </a:lnTo>
                  <a:lnTo>
                    <a:pt x="22804" y="21600"/>
                  </a:lnTo>
                  <a:lnTo>
                    <a:pt x="0" y="21600"/>
                  </a:lnTo>
                  <a:close/>
                </a:path>
                <a:path fill="lightenLess" w="22804" h="21600">
                  <a:moveTo>
                    <a:pt x="0" y="0"/>
                  </a:moveTo>
                  <a:lnTo>
                    <a:pt x="22804" y="0"/>
                  </a:lnTo>
                  <a:lnTo>
                    <a:pt x="21405" y="1400"/>
                  </a:lnTo>
                  <a:lnTo>
                    <a:pt x="1400" y="1400"/>
                  </a:lnTo>
                  <a:close/>
                </a:path>
                <a:path fill="darken" w="22804" h="21600">
                  <a:moveTo>
                    <a:pt x="22804" y="0"/>
                  </a:moveTo>
                  <a:lnTo>
                    <a:pt x="22804" y="21600"/>
                  </a:lnTo>
                  <a:lnTo>
                    <a:pt x="21405" y="20200"/>
                  </a:lnTo>
                  <a:lnTo>
                    <a:pt x="21405" y="1400"/>
                  </a:lnTo>
                  <a:close/>
                </a:path>
                <a:path fill="darkenLess" w="22804" h="21600">
                  <a:moveTo>
                    <a:pt x="228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05" y="20200"/>
                  </a:lnTo>
                  <a:close/>
                </a:path>
                <a:path fill="lighten" w="228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AutoShape 16">
              <a:hlinkClick r:id="rId6" action="ppaction://hlinksldjump"/>
            </p:cNvPr>
            <p:cNvSpPr/>
            <p:nvPr/>
          </p:nvSpPr>
          <p:spPr>
            <a:xfrm>
              <a:off x="5286240" y="5041440"/>
              <a:ext cx="1187280" cy="460440"/>
            </a:xfrm>
            <a:custGeom>
              <a:avLst/>
              <a:gdLst>
                <a:gd name="textAreaLeft" fmla="*/ 29520 w 1187280"/>
                <a:gd name="textAreaRight" fmla="*/ 1157760 w 1187280"/>
                <a:gd name="textAreaTop" fmla="*/ 29520 h 460440"/>
                <a:gd name="textAreaBottom" fmla="*/ 430920 h 460440"/>
              </a:gdLst>
              <a:ahLst/>
              <a:rect l="textAreaLeft" t="textAreaTop" r="textAreaRight" b="textAreaBottom"/>
              <a:pathLst>
                <a:path w="55671" h="21600">
                  <a:moveTo>
                    <a:pt x="0" y="0"/>
                  </a:moveTo>
                  <a:lnTo>
                    <a:pt x="55671" y="0"/>
                  </a:lnTo>
                  <a:lnTo>
                    <a:pt x="55671" y="21600"/>
                  </a:lnTo>
                  <a:lnTo>
                    <a:pt x="0" y="21600"/>
                  </a:lnTo>
                  <a:close/>
                </a:path>
                <a:path fill="lightenLess" w="55671" h="21600">
                  <a:moveTo>
                    <a:pt x="0" y="0"/>
                  </a:moveTo>
                  <a:lnTo>
                    <a:pt x="55671" y="0"/>
                  </a:lnTo>
                  <a:lnTo>
                    <a:pt x="54271" y="1400"/>
                  </a:lnTo>
                  <a:lnTo>
                    <a:pt x="1400" y="1400"/>
                  </a:lnTo>
                  <a:close/>
                </a:path>
                <a:path fill="darken" w="55671" h="21600">
                  <a:moveTo>
                    <a:pt x="55671" y="0"/>
                  </a:moveTo>
                  <a:lnTo>
                    <a:pt x="55671" y="21600"/>
                  </a:lnTo>
                  <a:lnTo>
                    <a:pt x="54271" y="20200"/>
                  </a:lnTo>
                  <a:lnTo>
                    <a:pt x="54271" y="1400"/>
                  </a:lnTo>
                  <a:close/>
                </a:path>
                <a:path fill="darkenLess" w="55671" h="21600">
                  <a:moveTo>
                    <a:pt x="556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4271" y="20200"/>
                  </a:lnTo>
                  <a:close/>
                </a:path>
                <a:path fill="lighten" w="556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7" action="ppaction://hlinksldjump"/>
                </a:rPr>
                <a:t>练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7"/>
          <p:cNvGrpSpPr/>
          <p:nvPr/>
        </p:nvGrpSpPr>
        <p:grpSpPr>
          <a:xfrm>
            <a:off x="3287160" y="4713480"/>
            <a:ext cx="1302480" cy="1302480"/>
            <a:chOff x="3287160" y="4713480"/>
            <a:chExt cx="1302480" cy="1302480"/>
          </a:xfrm>
        </p:grpSpPr>
        <p:sp>
          <p:nvSpPr>
            <p:cNvPr id="62" name="AutoShape 18"/>
            <p:cNvSpPr/>
            <p:nvPr/>
          </p:nvSpPr>
          <p:spPr>
            <a:xfrm rot="2700000">
              <a:off x="3451680" y="4929840"/>
              <a:ext cx="972720" cy="869040"/>
            </a:xfrm>
            <a:custGeom>
              <a:avLst/>
              <a:gdLst>
                <a:gd name="textAreaLeft" fmla="*/ 56160 w 972720"/>
                <a:gd name="textAreaRight" fmla="*/ 916560 w 972720"/>
                <a:gd name="textAreaTop" fmla="*/ 56160 h 869040"/>
                <a:gd name="textAreaBottom" fmla="*/ 812880 h 869040"/>
              </a:gdLst>
              <a:ahLst/>
              <a:rect l="textAreaLeft" t="textAreaTop" r="textAreaRight" b="textAreaBottom"/>
              <a:pathLst>
                <a:path w="24176" h="21600">
                  <a:moveTo>
                    <a:pt x="0" y="0"/>
                  </a:moveTo>
                  <a:lnTo>
                    <a:pt x="24176" y="0"/>
                  </a:lnTo>
                  <a:lnTo>
                    <a:pt x="24176" y="21600"/>
                  </a:lnTo>
                  <a:lnTo>
                    <a:pt x="0" y="21600"/>
                  </a:lnTo>
                  <a:close/>
                </a:path>
                <a:path fill="lightenLess" w="24176" h="21600">
                  <a:moveTo>
                    <a:pt x="0" y="0"/>
                  </a:moveTo>
                  <a:lnTo>
                    <a:pt x="24176" y="0"/>
                  </a:lnTo>
                  <a:lnTo>
                    <a:pt x="22776" y="1400"/>
                  </a:lnTo>
                  <a:lnTo>
                    <a:pt x="1400" y="1400"/>
                  </a:lnTo>
                  <a:close/>
                </a:path>
                <a:path fill="darken" w="24176" h="21600">
                  <a:moveTo>
                    <a:pt x="24176" y="0"/>
                  </a:moveTo>
                  <a:lnTo>
                    <a:pt x="24176" y="21600"/>
                  </a:lnTo>
                  <a:lnTo>
                    <a:pt x="22776" y="20200"/>
                  </a:lnTo>
                  <a:lnTo>
                    <a:pt x="22776" y="1400"/>
                  </a:lnTo>
                  <a:close/>
                </a:path>
                <a:path fill="darkenLess" w="24176" h="21600">
                  <a:moveTo>
                    <a:pt x="241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776" y="20200"/>
                  </a:lnTo>
                  <a:close/>
                </a:path>
                <a:path fill="lighten" w="241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9">
              <a:hlinkClick r:id="rId8" action="ppaction://hlinksldjump"/>
            </p:cNvPr>
            <p:cNvSpPr/>
            <p:nvPr/>
          </p:nvSpPr>
          <p:spPr>
            <a:xfrm>
              <a:off x="3427560" y="5144400"/>
              <a:ext cx="1080720" cy="460800"/>
            </a:xfrm>
            <a:custGeom>
              <a:avLst/>
              <a:gdLst>
                <a:gd name="textAreaLeft" fmla="*/ 29880 w 1080720"/>
                <a:gd name="textAreaRight" fmla="*/ 1050840 w 1080720"/>
                <a:gd name="textAreaTop" fmla="*/ 29880 h 460800"/>
                <a:gd name="textAreaBottom" fmla="*/ 430920 h 460800"/>
              </a:gdLst>
              <a:ahLst/>
              <a:rect l="textAreaLeft" t="textAreaTop" r="textAreaRight" b="textAreaBottom"/>
              <a:pathLst>
                <a:path w="50636" h="21600">
                  <a:moveTo>
                    <a:pt x="0" y="0"/>
                  </a:moveTo>
                  <a:lnTo>
                    <a:pt x="50636" y="0"/>
                  </a:lnTo>
                  <a:lnTo>
                    <a:pt x="50636" y="21600"/>
                  </a:lnTo>
                  <a:lnTo>
                    <a:pt x="0" y="21600"/>
                  </a:lnTo>
                  <a:close/>
                </a:path>
                <a:path fill="lightenLess" w="50636" h="21600">
                  <a:moveTo>
                    <a:pt x="0" y="0"/>
                  </a:moveTo>
                  <a:lnTo>
                    <a:pt x="50636" y="0"/>
                  </a:lnTo>
                  <a:lnTo>
                    <a:pt x="49236" y="1400"/>
                  </a:lnTo>
                  <a:lnTo>
                    <a:pt x="1400" y="1400"/>
                  </a:lnTo>
                  <a:close/>
                </a:path>
                <a:path fill="darken" w="50636" h="21600">
                  <a:moveTo>
                    <a:pt x="50636" y="0"/>
                  </a:moveTo>
                  <a:lnTo>
                    <a:pt x="50636" y="21600"/>
                  </a:lnTo>
                  <a:lnTo>
                    <a:pt x="49236" y="20200"/>
                  </a:lnTo>
                  <a:lnTo>
                    <a:pt x="49236" y="1400"/>
                  </a:lnTo>
                  <a:close/>
                </a:path>
                <a:path fill="darkenLess" w="50636" h="21600">
                  <a:moveTo>
                    <a:pt x="5063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9236" y="20200"/>
                  </a:lnTo>
                  <a:close/>
                </a:path>
                <a:path fill="lighten" w="5063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9" action="ppaction://hlinksldjump"/>
                </a:rPr>
                <a:t>拓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6219000" y="3547800"/>
            <a:ext cx="1275120" cy="1274760"/>
            <a:chOff x="6219000" y="3547800"/>
            <a:chExt cx="1275120" cy="1274760"/>
          </a:xfrm>
        </p:grpSpPr>
        <p:sp>
          <p:nvSpPr>
            <p:cNvPr id="65" name="AutoShape 21"/>
            <p:cNvSpPr/>
            <p:nvPr/>
          </p:nvSpPr>
          <p:spPr>
            <a:xfrm rot="2700000">
              <a:off x="6389280" y="3750840"/>
              <a:ext cx="934560" cy="868320"/>
            </a:xfrm>
            <a:custGeom>
              <a:avLst/>
              <a:gdLst>
                <a:gd name="textAreaLeft" fmla="*/ 56160 w 934560"/>
                <a:gd name="textAreaRight" fmla="*/ 878400 w 934560"/>
                <a:gd name="textAreaTop" fmla="*/ 56160 h 868320"/>
                <a:gd name="textAreaBottom" fmla="*/ 812160 h 868320"/>
              </a:gdLst>
              <a:ahLst/>
              <a:rect l="textAreaLeft" t="textAreaTop" r="textAreaRight" b="textAreaBottom"/>
              <a:pathLst>
                <a:path w="23247" h="21600">
                  <a:moveTo>
                    <a:pt x="0" y="0"/>
                  </a:moveTo>
                  <a:lnTo>
                    <a:pt x="23247" y="0"/>
                  </a:lnTo>
                  <a:lnTo>
                    <a:pt x="23247" y="21600"/>
                  </a:lnTo>
                  <a:lnTo>
                    <a:pt x="0" y="21600"/>
                  </a:lnTo>
                  <a:close/>
                </a:path>
                <a:path fill="lightenLess" w="23247" h="21600">
                  <a:moveTo>
                    <a:pt x="0" y="0"/>
                  </a:moveTo>
                  <a:lnTo>
                    <a:pt x="23247" y="0"/>
                  </a:lnTo>
                  <a:lnTo>
                    <a:pt x="21847" y="1400"/>
                  </a:lnTo>
                  <a:lnTo>
                    <a:pt x="1400" y="1400"/>
                  </a:lnTo>
                  <a:close/>
                </a:path>
                <a:path fill="darken" w="23247" h="21600">
                  <a:moveTo>
                    <a:pt x="23247" y="0"/>
                  </a:moveTo>
                  <a:lnTo>
                    <a:pt x="23247" y="21600"/>
                  </a:lnTo>
                  <a:lnTo>
                    <a:pt x="21847" y="20200"/>
                  </a:lnTo>
                  <a:lnTo>
                    <a:pt x="21847" y="1400"/>
                  </a:lnTo>
                  <a:close/>
                </a:path>
                <a:path fill="darkenLess" w="23247" h="21600">
                  <a:moveTo>
                    <a:pt x="232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847" y="20200"/>
                  </a:lnTo>
                  <a:close/>
                </a:path>
                <a:path fill="lighten" w="232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22">
              <a:hlinkClick r:id="rId10" action="ppaction://hlinksldjump"/>
            </p:cNvPr>
            <p:cNvSpPr/>
            <p:nvPr/>
          </p:nvSpPr>
          <p:spPr>
            <a:xfrm>
              <a:off x="6300720" y="4012920"/>
              <a:ext cx="1079280" cy="441720"/>
            </a:xfrm>
            <a:custGeom>
              <a:avLst/>
              <a:gdLst>
                <a:gd name="textAreaLeft" fmla="*/ 28440 w 1079280"/>
                <a:gd name="textAreaRight" fmla="*/ 1050840 w 1079280"/>
                <a:gd name="textAreaTop" fmla="*/ 28440 h 441720"/>
                <a:gd name="textAreaBottom" fmla="*/ 413280 h 441720"/>
              </a:gdLst>
              <a:ahLst/>
              <a:rect l="textAreaLeft" t="textAreaTop" r="textAreaRight" b="textAreaBottom"/>
              <a:pathLst>
                <a:path w="52751" h="21600">
                  <a:moveTo>
                    <a:pt x="0" y="0"/>
                  </a:moveTo>
                  <a:lnTo>
                    <a:pt x="52751" y="0"/>
                  </a:lnTo>
                  <a:lnTo>
                    <a:pt x="52751" y="21600"/>
                  </a:lnTo>
                  <a:lnTo>
                    <a:pt x="0" y="21600"/>
                  </a:lnTo>
                  <a:close/>
                </a:path>
                <a:path fill="lightenLess" w="52751" h="21600">
                  <a:moveTo>
                    <a:pt x="0" y="0"/>
                  </a:moveTo>
                  <a:lnTo>
                    <a:pt x="52751" y="0"/>
                  </a:lnTo>
                  <a:lnTo>
                    <a:pt x="51351" y="1400"/>
                  </a:lnTo>
                  <a:lnTo>
                    <a:pt x="1400" y="1400"/>
                  </a:lnTo>
                  <a:close/>
                </a:path>
                <a:path fill="darken" w="52751" h="21600">
                  <a:moveTo>
                    <a:pt x="52751" y="0"/>
                  </a:moveTo>
                  <a:lnTo>
                    <a:pt x="52751" y="21600"/>
                  </a:lnTo>
                  <a:lnTo>
                    <a:pt x="51351" y="20200"/>
                  </a:lnTo>
                  <a:lnTo>
                    <a:pt x="51351" y="1400"/>
                  </a:lnTo>
                  <a:close/>
                </a:path>
                <a:path fill="darkenLess" w="52751" h="21600">
                  <a:moveTo>
                    <a:pt x="52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351" y="20200"/>
                  </a:lnTo>
                  <a:close/>
                </a:path>
                <a:path fill="lighten" w="52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11" action="ppaction://hlinksldjump"/>
                </a:rPr>
                <a:t>小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23"/>
          <p:cNvGrpSpPr/>
          <p:nvPr/>
        </p:nvGrpSpPr>
        <p:grpSpPr>
          <a:xfrm>
            <a:off x="5588640" y="2241000"/>
            <a:ext cx="1296360" cy="1296360"/>
            <a:chOff x="5588640" y="2241000"/>
            <a:chExt cx="1296360" cy="1296360"/>
          </a:xfrm>
        </p:grpSpPr>
        <p:sp>
          <p:nvSpPr>
            <p:cNvPr id="68" name="AutoShape 24"/>
            <p:cNvSpPr/>
            <p:nvPr/>
          </p:nvSpPr>
          <p:spPr>
            <a:xfrm rot="2700000">
              <a:off x="5768640" y="2440440"/>
              <a:ext cx="936360" cy="897120"/>
            </a:xfrm>
            <a:custGeom>
              <a:avLst/>
              <a:gdLst>
                <a:gd name="textAreaLeft" fmla="*/ 57960 w 936360"/>
                <a:gd name="textAreaRight" fmla="*/ 878400 w 936360"/>
                <a:gd name="textAreaTop" fmla="*/ 57960 h 897120"/>
                <a:gd name="textAreaBottom" fmla="*/ 839160 h 897120"/>
              </a:gdLst>
              <a:ahLst/>
              <a:rect l="textAreaLeft" t="textAreaTop" r="textAreaRight" b="textAreaBottom"/>
              <a:pathLst>
                <a:path w="22544" h="21600">
                  <a:moveTo>
                    <a:pt x="0" y="0"/>
                  </a:moveTo>
                  <a:lnTo>
                    <a:pt x="22544" y="0"/>
                  </a:lnTo>
                  <a:lnTo>
                    <a:pt x="22544" y="21600"/>
                  </a:lnTo>
                  <a:lnTo>
                    <a:pt x="0" y="21600"/>
                  </a:lnTo>
                  <a:close/>
                </a:path>
                <a:path fill="lightenLess" w="22544" h="21600">
                  <a:moveTo>
                    <a:pt x="0" y="0"/>
                  </a:moveTo>
                  <a:lnTo>
                    <a:pt x="22544" y="0"/>
                  </a:lnTo>
                  <a:lnTo>
                    <a:pt x="21144" y="1400"/>
                  </a:lnTo>
                  <a:lnTo>
                    <a:pt x="1400" y="1400"/>
                  </a:lnTo>
                  <a:close/>
                </a:path>
                <a:path fill="darken" w="22544" h="21600">
                  <a:moveTo>
                    <a:pt x="22544" y="0"/>
                  </a:moveTo>
                  <a:lnTo>
                    <a:pt x="22544" y="21600"/>
                  </a:lnTo>
                  <a:lnTo>
                    <a:pt x="21144" y="20200"/>
                  </a:lnTo>
                  <a:lnTo>
                    <a:pt x="21144" y="1400"/>
                  </a:lnTo>
                  <a:close/>
                </a:path>
                <a:path fill="darkenLess" w="22544" h="21600">
                  <a:moveTo>
                    <a:pt x="225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44" y="20200"/>
                  </a:lnTo>
                  <a:close/>
                </a:path>
                <a:path fill="lighten" w="225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25">
              <a:hlinkClick r:id="rId12" action="ppaction://hlinksldjump"/>
            </p:cNvPr>
            <p:cNvSpPr/>
            <p:nvPr/>
          </p:nvSpPr>
          <p:spPr>
            <a:xfrm>
              <a:off x="5616720" y="2666160"/>
              <a:ext cx="1115640" cy="443160"/>
            </a:xfrm>
            <a:custGeom>
              <a:avLst/>
              <a:gdLst>
                <a:gd name="textAreaLeft" fmla="*/ 28440 w 1115640"/>
                <a:gd name="textAreaRight" fmla="*/ 1087200 w 1115640"/>
                <a:gd name="textAreaTop" fmla="*/ 28440 h 443160"/>
                <a:gd name="textAreaBottom" fmla="*/ 414720 h 443160"/>
              </a:gdLst>
              <a:ahLst/>
              <a:rect l="textAreaLeft" t="textAreaTop" r="textAreaRight" b="textAreaBottom"/>
              <a:pathLst>
                <a:path w="54351" h="21600">
                  <a:moveTo>
                    <a:pt x="0" y="0"/>
                  </a:moveTo>
                  <a:lnTo>
                    <a:pt x="54351" y="0"/>
                  </a:lnTo>
                  <a:lnTo>
                    <a:pt x="54351" y="21600"/>
                  </a:lnTo>
                  <a:lnTo>
                    <a:pt x="0" y="21600"/>
                  </a:lnTo>
                  <a:close/>
                </a:path>
                <a:path fill="lightenLess" w="54351" h="21600">
                  <a:moveTo>
                    <a:pt x="0" y="0"/>
                  </a:moveTo>
                  <a:lnTo>
                    <a:pt x="54351" y="0"/>
                  </a:lnTo>
                  <a:lnTo>
                    <a:pt x="52951" y="1400"/>
                  </a:lnTo>
                  <a:lnTo>
                    <a:pt x="1400" y="1400"/>
                  </a:lnTo>
                  <a:close/>
                </a:path>
                <a:path fill="darken" w="54351" h="21600">
                  <a:moveTo>
                    <a:pt x="54351" y="0"/>
                  </a:moveTo>
                  <a:lnTo>
                    <a:pt x="54351" y="21600"/>
                  </a:lnTo>
                  <a:lnTo>
                    <a:pt x="52951" y="20200"/>
                  </a:lnTo>
                  <a:lnTo>
                    <a:pt x="52951" y="1400"/>
                  </a:lnTo>
                  <a:close/>
                </a:path>
                <a:path fill="darkenLess" w="54351" h="21600">
                  <a:moveTo>
                    <a:pt x="543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951" y="20200"/>
                  </a:lnTo>
                  <a:close/>
                </a:path>
                <a:path fill="lighten" w="543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13" action="ppaction://hlinksldjump"/>
                </a:rPr>
                <a:t>作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48"/>
          <p:cNvGrpSpPr/>
          <p:nvPr/>
        </p:nvGrpSpPr>
        <p:grpSpPr>
          <a:xfrm>
            <a:off x="4354560" y="1468440"/>
            <a:ext cx="1183680" cy="1183680"/>
            <a:chOff x="4354560" y="1468440"/>
            <a:chExt cx="1183680" cy="1183680"/>
          </a:xfrm>
        </p:grpSpPr>
        <p:sp>
          <p:nvSpPr>
            <p:cNvPr id="71" name="AutoShape 49"/>
            <p:cNvSpPr/>
            <p:nvPr/>
          </p:nvSpPr>
          <p:spPr>
            <a:xfrm rot="2700000">
              <a:off x="4514400" y="1654920"/>
              <a:ext cx="863280" cy="810720"/>
            </a:xfrm>
            <a:custGeom>
              <a:avLst/>
              <a:gdLst>
                <a:gd name="textAreaLeft" fmla="*/ 52560 w 863280"/>
                <a:gd name="textAreaRight" fmla="*/ 810720 w 863280"/>
                <a:gd name="textAreaTop" fmla="*/ 52560 h 810720"/>
                <a:gd name="textAreaBottom" fmla="*/ 758160 h 810720"/>
              </a:gdLst>
              <a:ahLst/>
              <a:rect l="textAreaLeft" t="textAreaTop" r="textAreaRight" b="textAreaBottom"/>
              <a:pathLst>
                <a:path w="23000" h="21600">
                  <a:moveTo>
                    <a:pt x="0" y="0"/>
                  </a:moveTo>
                  <a:lnTo>
                    <a:pt x="23000" y="0"/>
                  </a:lnTo>
                  <a:lnTo>
                    <a:pt x="23000" y="21600"/>
                  </a:lnTo>
                  <a:lnTo>
                    <a:pt x="0" y="21600"/>
                  </a:lnTo>
                  <a:close/>
                </a:path>
                <a:path fill="lightenLess" w="23000" h="21600">
                  <a:moveTo>
                    <a:pt x="0" y="0"/>
                  </a:moveTo>
                  <a:lnTo>
                    <a:pt x="23000" y="0"/>
                  </a:lnTo>
                  <a:lnTo>
                    <a:pt x="21600" y="1400"/>
                  </a:lnTo>
                  <a:lnTo>
                    <a:pt x="1400" y="1400"/>
                  </a:lnTo>
                  <a:close/>
                </a:path>
                <a:path fill="darken" w="23000" h="21600">
                  <a:moveTo>
                    <a:pt x="23000" y="0"/>
                  </a:moveTo>
                  <a:lnTo>
                    <a:pt x="23000" y="21600"/>
                  </a:lnTo>
                  <a:lnTo>
                    <a:pt x="21600" y="20200"/>
                  </a:lnTo>
                  <a:lnTo>
                    <a:pt x="21600" y="1400"/>
                  </a:lnTo>
                  <a:close/>
                </a:path>
                <a:path fill="darkenLess" w="23000" h="21600">
                  <a:moveTo>
                    <a:pt x="23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00" y="20200"/>
                  </a:lnTo>
                  <a:close/>
                </a:path>
                <a:path fill="lighten" w="23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50">
              <a:hlinkClick r:id="" action="ppaction://hlinkshowjump?jump=nextslide"/>
            </p:cNvPr>
            <p:cNvSpPr/>
            <p:nvPr/>
          </p:nvSpPr>
          <p:spPr>
            <a:xfrm>
              <a:off x="4427640" y="1764720"/>
              <a:ext cx="1007640" cy="408240"/>
            </a:xfrm>
            <a:custGeom>
              <a:avLst/>
              <a:gdLst>
                <a:gd name="textAreaLeft" fmla="*/ 26280 w 1007640"/>
                <a:gd name="textAreaRight" fmla="*/ 981360 w 1007640"/>
                <a:gd name="textAreaTop" fmla="*/ 26280 h 408240"/>
                <a:gd name="textAreaBottom" fmla="*/ 381960 h 408240"/>
              </a:gdLst>
              <a:ahLst/>
              <a:rect l="textAreaLeft" t="textAreaTop" r="textAreaRight" b="textAreaBottom"/>
              <a:pathLst>
                <a:path w="53286" h="21600">
                  <a:moveTo>
                    <a:pt x="0" y="0"/>
                  </a:moveTo>
                  <a:lnTo>
                    <a:pt x="53286" y="0"/>
                  </a:lnTo>
                  <a:lnTo>
                    <a:pt x="53286" y="21600"/>
                  </a:lnTo>
                  <a:lnTo>
                    <a:pt x="0" y="21600"/>
                  </a:lnTo>
                  <a:close/>
                </a:path>
                <a:path fill="lightenLess" w="53286" h="21600">
                  <a:moveTo>
                    <a:pt x="0" y="0"/>
                  </a:moveTo>
                  <a:lnTo>
                    <a:pt x="53286" y="0"/>
                  </a:lnTo>
                  <a:lnTo>
                    <a:pt x="51886" y="1400"/>
                  </a:lnTo>
                  <a:lnTo>
                    <a:pt x="1400" y="1400"/>
                  </a:lnTo>
                  <a:close/>
                </a:path>
                <a:path fill="darken" w="53286" h="21600">
                  <a:moveTo>
                    <a:pt x="53286" y="0"/>
                  </a:moveTo>
                  <a:lnTo>
                    <a:pt x="53286" y="21600"/>
                  </a:lnTo>
                  <a:lnTo>
                    <a:pt x="51886" y="20200"/>
                  </a:lnTo>
                  <a:lnTo>
                    <a:pt x="51886" y="1400"/>
                  </a:lnTo>
                  <a:close/>
                </a:path>
                <a:path fill="darkenLess" w="53286" h="21600">
                  <a:moveTo>
                    <a:pt x="532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886" y="20200"/>
                  </a:lnTo>
                  <a:close/>
                </a:path>
                <a:path fill="lighten" w="532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Arial"/>
                  <a:ea typeface="华文隶书"/>
                  <a:hlinkClick r:id="rId14" action="ppaction://hlinksldjump"/>
                </a:rPr>
                <a:t>复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AutoShape 51"/>
          <p:cNvSpPr/>
          <p:nvPr/>
        </p:nvSpPr>
        <p:spPr>
          <a:xfrm rot="15423000">
            <a:off x="5208120" y="3141000"/>
            <a:ext cx="587160" cy="587520"/>
          </a:xfrm>
          <a:custGeom>
            <a:avLst/>
            <a:gdLst>
              <a:gd name="textAreaLeft" fmla="*/ 85680 w 587160"/>
              <a:gd name="textAreaRight" fmla="*/ 501480 w 587160"/>
              <a:gd name="textAreaTop" fmla="*/ 86040 h 587520"/>
              <a:gd name="textAreaBottom" fmla="*/ 5014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2920" y="11145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，已知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垂直平分线上，如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C=5cm,BC=4cm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么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D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周长是（ 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430920" y="2495520"/>
            <a:ext cx="4667760" cy="3886200"/>
            <a:chOff x="430920" y="2495520"/>
            <a:chExt cx="4667760" cy="3886200"/>
          </a:xfrm>
        </p:grpSpPr>
        <p:sp>
          <p:nvSpPr>
            <p:cNvPr id="550" name="Line 4"/>
            <p:cNvSpPr/>
            <p:nvPr/>
          </p:nvSpPr>
          <p:spPr>
            <a:xfrm>
              <a:off x="700200" y="4781520"/>
              <a:ext cx="403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5"/>
            <p:cNvSpPr/>
            <p:nvPr/>
          </p:nvSpPr>
          <p:spPr>
            <a:xfrm>
              <a:off x="2681280" y="2571840"/>
              <a:ext cx="0" cy="3809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700200" y="2723760"/>
              <a:ext cx="297180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7"/>
            <p:cNvSpPr/>
            <p:nvPr/>
          </p:nvSpPr>
          <p:spPr>
            <a:xfrm>
              <a:off x="3672000" y="2724120"/>
              <a:ext cx="1066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8"/>
            <p:cNvSpPr/>
            <p:nvPr/>
          </p:nvSpPr>
          <p:spPr>
            <a:xfrm>
              <a:off x="2681280" y="3409920"/>
              <a:ext cx="205740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5400000">
              <a:off x="2446920" y="450504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10"/>
            <p:cNvSpPr/>
            <p:nvPr/>
          </p:nvSpPr>
          <p:spPr>
            <a:xfrm>
              <a:off x="430920" y="470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 Box 11"/>
            <p:cNvSpPr/>
            <p:nvPr/>
          </p:nvSpPr>
          <p:spPr>
            <a:xfrm>
              <a:off x="2329920" y="310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12"/>
            <p:cNvSpPr/>
            <p:nvPr/>
          </p:nvSpPr>
          <p:spPr>
            <a:xfrm>
              <a:off x="2318760" y="478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13"/>
            <p:cNvSpPr/>
            <p:nvPr/>
          </p:nvSpPr>
          <p:spPr>
            <a:xfrm>
              <a:off x="4765680" y="4629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4"/>
            <p:cNvSpPr/>
            <p:nvPr/>
          </p:nvSpPr>
          <p:spPr>
            <a:xfrm>
              <a:off x="3768840" y="2495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15"/>
            <p:cNvSpPr/>
            <p:nvPr/>
          </p:nvSpPr>
          <p:spPr>
            <a:xfrm>
              <a:off x="2342520" y="2495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16"/>
            <p:cNvSpPr/>
            <p:nvPr/>
          </p:nvSpPr>
          <p:spPr>
            <a:xfrm>
              <a:off x="2253600" y="5772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Text Box 17"/>
          <p:cNvSpPr/>
          <p:nvPr/>
        </p:nvSpPr>
        <p:spPr>
          <a:xfrm>
            <a:off x="5943600" y="2666880"/>
            <a:ext cx="149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.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7003080" y="1571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WordArt 19"/>
          <p:cNvSpPr txBox="1"/>
          <p:nvPr/>
        </p:nvSpPr>
        <p:spPr>
          <a:xfrm>
            <a:off x="539640" y="2602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6" name="Picture 20" descr="1581"/>
          <p:cNvPicPr/>
          <p:nvPr/>
        </p:nvPicPr>
        <p:blipFill>
          <a:blip r:embed="rId2"/>
          <a:stretch/>
        </p:blipFill>
        <p:spPr>
          <a:xfrm>
            <a:off x="304920" y="51055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0" y="765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外探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图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点表示三个工厂，现要建一供水站，使它到这三个工厂的距离相等，请在图中标出供水站的位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请给予说明理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3857760" y="292896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857680" y="4500720"/>
            <a:ext cx="35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WordArt 5"/>
          <p:cNvSpPr txBox="1"/>
          <p:nvPr/>
        </p:nvSpPr>
        <p:spPr>
          <a:xfrm>
            <a:off x="684360" y="92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链接生活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173200" y="4286160"/>
            <a:ext cx="5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动作按钮: 第一张 6"/>
          <p:cNvGrpSpPr/>
          <p:nvPr/>
        </p:nvGrpSpPr>
        <p:grpSpPr>
          <a:xfrm>
            <a:off x="8186760" y="469800"/>
            <a:ext cx="622440" cy="554040"/>
            <a:chOff x="8186760" y="469800"/>
            <a:chExt cx="622440" cy="554040"/>
          </a:xfrm>
        </p:grpSpPr>
        <p:pic>
          <p:nvPicPr>
            <p:cNvPr id="573" name="动作按钮: 第一张 6" descr=""/>
            <p:cNvPicPr/>
            <p:nvPr/>
          </p:nvPicPr>
          <p:blipFill>
            <a:blip r:embed="rId2"/>
            <a:stretch/>
          </p:blipFill>
          <p:spPr>
            <a:xfrm>
              <a:off x="8186760" y="469800"/>
              <a:ext cx="622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8215200" y="50004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360" y="-3240"/>
            <a:ext cx="995760" cy="995760"/>
            <a:chOff x="360" y="-3240"/>
            <a:chExt cx="995760" cy="995760"/>
          </a:xfrm>
        </p:grpSpPr>
        <p:sp>
          <p:nvSpPr>
            <p:cNvPr id="576" name="AutoShape 3"/>
            <p:cNvSpPr/>
            <p:nvPr/>
          </p:nvSpPr>
          <p:spPr>
            <a:xfrm rot="2700000">
              <a:off x="155880" y="132480"/>
              <a:ext cx="684360" cy="723960"/>
            </a:xfrm>
            <a:custGeom>
              <a:avLst/>
              <a:gdLst>
                <a:gd name="textAreaLeft" fmla="*/ 44280 w 684360"/>
                <a:gd name="textAreaRight" fmla="*/ 640080 w 684360"/>
                <a:gd name="textAreaTop" fmla="*/ 44280 h 723960"/>
                <a:gd name="textAreaBottom" fmla="*/ 679680 h 723960"/>
              </a:gdLst>
              <a:ahLst/>
              <a:rect l="textAreaLeft" t="textAreaTop" r="textAreaRight" b="textAreaBottom"/>
              <a:pathLst>
                <a:path w="21600" h="22849">
                  <a:moveTo>
                    <a:pt x="0" y="0"/>
                  </a:moveTo>
                  <a:lnTo>
                    <a:pt x="21600" y="0"/>
                  </a:lnTo>
                  <a:lnTo>
                    <a:pt x="21600" y="22849"/>
                  </a:lnTo>
                  <a:lnTo>
                    <a:pt x="0" y="22849"/>
                  </a:lnTo>
                  <a:close/>
                </a:path>
                <a:path fill="lightenLess" w="21600" h="2284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49">
                  <a:moveTo>
                    <a:pt x="21600" y="0"/>
                  </a:moveTo>
                  <a:lnTo>
                    <a:pt x="21600" y="22849"/>
                  </a:lnTo>
                  <a:lnTo>
                    <a:pt x="20200" y="21449"/>
                  </a:lnTo>
                  <a:lnTo>
                    <a:pt x="20200" y="1400"/>
                  </a:lnTo>
                  <a:close/>
                </a:path>
                <a:path fill="darkenLess" w="21600" h="22849">
                  <a:moveTo>
                    <a:pt x="21600" y="22849"/>
                  </a:moveTo>
                  <a:lnTo>
                    <a:pt x="0" y="22849"/>
                  </a:lnTo>
                  <a:lnTo>
                    <a:pt x="1400" y="21449"/>
                  </a:lnTo>
                  <a:lnTo>
                    <a:pt x="20200" y="21449"/>
                  </a:lnTo>
                  <a:close/>
                </a:path>
                <a:path fill="lighten" w="21600" h="22849">
                  <a:moveTo>
                    <a:pt x="0" y="2284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49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4"/>
            <p:cNvSpPr/>
            <p:nvPr/>
          </p:nvSpPr>
          <p:spPr>
            <a:xfrm>
              <a:off x="34920" y="368280"/>
              <a:ext cx="900000" cy="323640"/>
            </a:xfrm>
            <a:custGeom>
              <a:avLst/>
              <a:gdLst>
                <a:gd name="textAreaLeft" fmla="*/ 20880 w 900000"/>
                <a:gd name="textAreaRight" fmla="*/ 879120 w 900000"/>
                <a:gd name="textAreaTop" fmla="*/ 20880 h 323640"/>
                <a:gd name="textAreaBottom" fmla="*/ 302760 h 323640"/>
              </a:gdLst>
              <a:ahLst/>
              <a:rect l="textAreaLeft" t="textAreaTop" r="textAreaRight" b="textAreaBottom"/>
              <a:pathLst>
                <a:path w="60024" h="21600">
                  <a:moveTo>
                    <a:pt x="0" y="0"/>
                  </a:moveTo>
                  <a:lnTo>
                    <a:pt x="60024" y="0"/>
                  </a:lnTo>
                  <a:lnTo>
                    <a:pt x="60024" y="21600"/>
                  </a:lnTo>
                  <a:lnTo>
                    <a:pt x="0" y="21600"/>
                  </a:lnTo>
                  <a:close/>
                </a:path>
                <a:path fill="lightenLess" w="60024" h="21600">
                  <a:moveTo>
                    <a:pt x="0" y="0"/>
                  </a:moveTo>
                  <a:lnTo>
                    <a:pt x="60024" y="0"/>
                  </a:lnTo>
                  <a:lnTo>
                    <a:pt x="58624" y="1400"/>
                  </a:lnTo>
                  <a:lnTo>
                    <a:pt x="1400" y="1400"/>
                  </a:lnTo>
                  <a:close/>
                </a:path>
                <a:path fill="darken" w="60024" h="21600">
                  <a:moveTo>
                    <a:pt x="60024" y="0"/>
                  </a:moveTo>
                  <a:lnTo>
                    <a:pt x="60024" y="21600"/>
                  </a:lnTo>
                  <a:lnTo>
                    <a:pt x="58624" y="20200"/>
                  </a:lnTo>
                  <a:lnTo>
                    <a:pt x="58624" y="1400"/>
                  </a:lnTo>
                  <a:close/>
                </a:path>
                <a:path fill="darkenLess" w="60024" h="21600">
                  <a:moveTo>
                    <a:pt x="600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8624" y="20200"/>
                  </a:lnTo>
                  <a:close/>
                </a:path>
                <a:path fill="lighten" w="600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小结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Text Box 7"/>
          <p:cNvSpPr/>
          <p:nvPr/>
        </p:nvSpPr>
        <p:spPr>
          <a:xfrm>
            <a:off x="324000" y="1214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垂直于一条线段并且平分它的直线叫这条   线段的垂直平分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395280" y="2637000"/>
            <a:ext cx="78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线段是轴对称图形，它的垂直平分线是它的一条对称轴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468360" y="4000680"/>
            <a:ext cx="79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段垂直平分线上的点到这条线段两个端点的距离相等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动作按钮: 第一张 9"/>
          <p:cNvGrpSpPr/>
          <p:nvPr/>
        </p:nvGrpSpPr>
        <p:grpSpPr>
          <a:xfrm>
            <a:off x="8186760" y="469800"/>
            <a:ext cx="622440" cy="554040"/>
            <a:chOff x="8186760" y="469800"/>
            <a:chExt cx="622440" cy="554040"/>
          </a:xfrm>
        </p:grpSpPr>
        <p:pic>
          <p:nvPicPr>
            <p:cNvPr id="582" name="动作按钮: 第一张 9" descr=""/>
            <p:cNvPicPr/>
            <p:nvPr/>
          </p:nvPicPr>
          <p:blipFill>
            <a:blip r:embed="rId2"/>
            <a:stretch/>
          </p:blipFill>
          <p:spPr>
            <a:xfrm>
              <a:off x="8186760" y="469800"/>
              <a:ext cx="622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215200" y="50004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042920" y="184464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业本：简单的轴对称图形（一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课一练：简单的轴对称图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WordArt 3" descr=""/>
          <p:cNvPicPr/>
          <p:nvPr/>
        </p:nvPicPr>
        <p:blipFill>
          <a:blip r:embed="rId2"/>
          <a:stretch/>
        </p:blipFill>
        <p:spPr>
          <a:xfrm>
            <a:off x="1895400" y="469800"/>
            <a:ext cx="5091120" cy="71280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4"/>
          <p:cNvGrpSpPr/>
          <p:nvPr/>
        </p:nvGrpSpPr>
        <p:grpSpPr>
          <a:xfrm>
            <a:off x="114840" y="224640"/>
            <a:ext cx="1296360" cy="1296360"/>
            <a:chOff x="114840" y="224640"/>
            <a:chExt cx="1296360" cy="1296360"/>
          </a:xfrm>
        </p:grpSpPr>
        <p:sp>
          <p:nvSpPr>
            <p:cNvPr id="587" name="AutoShape 5"/>
            <p:cNvSpPr/>
            <p:nvPr/>
          </p:nvSpPr>
          <p:spPr>
            <a:xfrm rot="2700000">
              <a:off x="294840" y="424080"/>
              <a:ext cx="936360" cy="897120"/>
            </a:xfrm>
            <a:custGeom>
              <a:avLst/>
              <a:gdLst>
                <a:gd name="textAreaLeft" fmla="*/ 57960 w 936360"/>
                <a:gd name="textAreaRight" fmla="*/ 878400 w 936360"/>
                <a:gd name="textAreaTop" fmla="*/ 57960 h 897120"/>
                <a:gd name="textAreaBottom" fmla="*/ 839160 h 897120"/>
              </a:gdLst>
              <a:ahLst/>
              <a:rect l="textAreaLeft" t="textAreaTop" r="textAreaRight" b="textAreaBottom"/>
              <a:pathLst>
                <a:path w="22544" h="21600">
                  <a:moveTo>
                    <a:pt x="0" y="0"/>
                  </a:moveTo>
                  <a:lnTo>
                    <a:pt x="22544" y="0"/>
                  </a:lnTo>
                  <a:lnTo>
                    <a:pt x="22544" y="21600"/>
                  </a:lnTo>
                  <a:lnTo>
                    <a:pt x="0" y="21600"/>
                  </a:lnTo>
                  <a:close/>
                </a:path>
                <a:path fill="lightenLess" w="22544" h="21600">
                  <a:moveTo>
                    <a:pt x="0" y="0"/>
                  </a:moveTo>
                  <a:lnTo>
                    <a:pt x="22544" y="0"/>
                  </a:lnTo>
                  <a:lnTo>
                    <a:pt x="21144" y="1400"/>
                  </a:lnTo>
                  <a:lnTo>
                    <a:pt x="1400" y="1400"/>
                  </a:lnTo>
                  <a:close/>
                </a:path>
                <a:path fill="darken" w="22544" h="21600">
                  <a:moveTo>
                    <a:pt x="22544" y="0"/>
                  </a:moveTo>
                  <a:lnTo>
                    <a:pt x="22544" y="21600"/>
                  </a:lnTo>
                  <a:lnTo>
                    <a:pt x="21144" y="20200"/>
                  </a:lnTo>
                  <a:lnTo>
                    <a:pt x="21144" y="1400"/>
                  </a:lnTo>
                  <a:close/>
                </a:path>
                <a:path fill="darkenLess" w="22544" h="21600">
                  <a:moveTo>
                    <a:pt x="225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44" y="20200"/>
                  </a:lnTo>
                  <a:close/>
                </a:path>
                <a:path fill="lighten" w="225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AutoShape 6"/>
            <p:cNvSpPr/>
            <p:nvPr/>
          </p:nvSpPr>
          <p:spPr>
            <a:xfrm>
              <a:off x="142920" y="649800"/>
              <a:ext cx="1115640" cy="443160"/>
            </a:xfrm>
            <a:custGeom>
              <a:avLst/>
              <a:gdLst>
                <a:gd name="textAreaLeft" fmla="*/ 28440 w 1115640"/>
                <a:gd name="textAreaRight" fmla="*/ 1087200 w 1115640"/>
                <a:gd name="textAreaTop" fmla="*/ 28440 h 443160"/>
                <a:gd name="textAreaBottom" fmla="*/ 414720 h 443160"/>
              </a:gdLst>
              <a:ahLst/>
              <a:rect l="textAreaLeft" t="textAreaTop" r="textAreaRight" b="textAreaBottom"/>
              <a:pathLst>
                <a:path w="54351" h="21600">
                  <a:moveTo>
                    <a:pt x="0" y="0"/>
                  </a:moveTo>
                  <a:lnTo>
                    <a:pt x="54351" y="0"/>
                  </a:lnTo>
                  <a:lnTo>
                    <a:pt x="54351" y="21600"/>
                  </a:lnTo>
                  <a:lnTo>
                    <a:pt x="0" y="21600"/>
                  </a:lnTo>
                  <a:close/>
                </a:path>
                <a:path fill="lightenLess" w="54351" h="21600">
                  <a:moveTo>
                    <a:pt x="0" y="0"/>
                  </a:moveTo>
                  <a:lnTo>
                    <a:pt x="54351" y="0"/>
                  </a:lnTo>
                  <a:lnTo>
                    <a:pt x="52951" y="1400"/>
                  </a:lnTo>
                  <a:lnTo>
                    <a:pt x="1400" y="1400"/>
                  </a:lnTo>
                  <a:close/>
                </a:path>
                <a:path fill="darken" w="54351" h="21600">
                  <a:moveTo>
                    <a:pt x="54351" y="0"/>
                  </a:moveTo>
                  <a:lnTo>
                    <a:pt x="54351" y="21600"/>
                  </a:lnTo>
                  <a:lnTo>
                    <a:pt x="52951" y="20200"/>
                  </a:lnTo>
                  <a:lnTo>
                    <a:pt x="52951" y="1400"/>
                  </a:lnTo>
                  <a:close/>
                </a:path>
                <a:path fill="darkenLess" w="54351" h="21600">
                  <a:moveTo>
                    <a:pt x="543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951" y="20200"/>
                  </a:lnTo>
                  <a:close/>
                </a:path>
                <a:path fill="lighten" w="543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作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WordArt 2" descr=""/>
          <p:cNvPicPr/>
          <p:nvPr/>
        </p:nvPicPr>
        <p:blipFill>
          <a:blip r:embed="rId2"/>
          <a:stretch/>
        </p:blipFill>
        <p:spPr>
          <a:xfrm>
            <a:off x="1060560" y="1438200"/>
            <a:ext cx="7407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26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400" bIns="41400"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复习提问</a:t>
            </a:r>
            <a:r>
              <a:rPr b="1" i="1" lang="zh-CN" sz="36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785880" y="1428840"/>
            <a:ext cx="714384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什么样的图形叫做轴对称图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42960" y="28576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答：把一个图形沿着某条直线对折，如果对折的两部分是完全重合的，我们就称这样的图形为轴对称图形，这条直线叫做这个图形的对称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48"/>
          <p:cNvGrpSpPr/>
          <p:nvPr/>
        </p:nvGrpSpPr>
        <p:grpSpPr>
          <a:xfrm>
            <a:off x="355680" y="125640"/>
            <a:ext cx="1183680" cy="1183680"/>
            <a:chOff x="355680" y="125640"/>
            <a:chExt cx="1183680" cy="1183680"/>
          </a:xfrm>
        </p:grpSpPr>
        <p:sp>
          <p:nvSpPr>
            <p:cNvPr id="78" name="AutoShape 49"/>
            <p:cNvSpPr/>
            <p:nvPr/>
          </p:nvSpPr>
          <p:spPr>
            <a:xfrm rot="2700000">
              <a:off x="515520" y="312120"/>
              <a:ext cx="863280" cy="810720"/>
            </a:xfrm>
            <a:custGeom>
              <a:avLst/>
              <a:gdLst>
                <a:gd name="textAreaLeft" fmla="*/ 52560 w 863280"/>
                <a:gd name="textAreaRight" fmla="*/ 810720 w 863280"/>
                <a:gd name="textAreaTop" fmla="*/ 52560 h 810720"/>
                <a:gd name="textAreaBottom" fmla="*/ 758160 h 810720"/>
              </a:gdLst>
              <a:ahLst/>
              <a:rect l="textAreaLeft" t="textAreaTop" r="textAreaRight" b="textAreaBottom"/>
              <a:pathLst>
                <a:path w="23000" h="21600">
                  <a:moveTo>
                    <a:pt x="0" y="0"/>
                  </a:moveTo>
                  <a:lnTo>
                    <a:pt x="23000" y="0"/>
                  </a:lnTo>
                  <a:lnTo>
                    <a:pt x="23000" y="21600"/>
                  </a:lnTo>
                  <a:lnTo>
                    <a:pt x="0" y="21600"/>
                  </a:lnTo>
                  <a:close/>
                </a:path>
                <a:path fill="lightenLess" w="23000" h="21600">
                  <a:moveTo>
                    <a:pt x="0" y="0"/>
                  </a:moveTo>
                  <a:lnTo>
                    <a:pt x="23000" y="0"/>
                  </a:lnTo>
                  <a:lnTo>
                    <a:pt x="21600" y="1400"/>
                  </a:lnTo>
                  <a:lnTo>
                    <a:pt x="1400" y="1400"/>
                  </a:lnTo>
                  <a:close/>
                </a:path>
                <a:path fill="darken" w="23000" h="21600">
                  <a:moveTo>
                    <a:pt x="23000" y="0"/>
                  </a:moveTo>
                  <a:lnTo>
                    <a:pt x="23000" y="21600"/>
                  </a:lnTo>
                  <a:lnTo>
                    <a:pt x="21600" y="20200"/>
                  </a:lnTo>
                  <a:lnTo>
                    <a:pt x="21600" y="1400"/>
                  </a:lnTo>
                  <a:close/>
                </a:path>
                <a:path fill="darkenLess" w="23000" h="21600">
                  <a:moveTo>
                    <a:pt x="23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600" y="20200"/>
                  </a:lnTo>
                  <a:close/>
                </a:path>
                <a:path fill="lighten" w="23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50">
              <a:hlinkClick r:id="" action="ppaction://hlinkshowjump?jump=nextslide"/>
            </p:cNvPr>
            <p:cNvSpPr/>
            <p:nvPr/>
          </p:nvSpPr>
          <p:spPr>
            <a:xfrm>
              <a:off x="428760" y="421920"/>
              <a:ext cx="1007640" cy="408240"/>
            </a:xfrm>
            <a:custGeom>
              <a:avLst/>
              <a:gdLst>
                <a:gd name="textAreaLeft" fmla="*/ 26280 w 1007640"/>
                <a:gd name="textAreaRight" fmla="*/ 981360 w 1007640"/>
                <a:gd name="textAreaTop" fmla="*/ 26280 h 408240"/>
                <a:gd name="textAreaBottom" fmla="*/ 381960 h 408240"/>
              </a:gdLst>
              <a:ahLst/>
              <a:rect l="textAreaLeft" t="textAreaTop" r="textAreaRight" b="textAreaBottom"/>
              <a:pathLst>
                <a:path w="53286" h="21600">
                  <a:moveTo>
                    <a:pt x="0" y="0"/>
                  </a:moveTo>
                  <a:lnTo>
                    <a:pt x="53286" y="0"/>
                  </a:lnTo>
                  <a:lnTo>
                    <a:pt x="53286" y="21600"/>
                  </a:lnTo>
                  <a:lnTo>
                    <a:pt x="0" y="21600"/>
                  </a:lnTo>
                  <a:close/>
                </a:path>
                <a:path fill="lightenLess" w="53286" h="21600">
                  <a:moveTo>
                    <a:pt x="0" y="0"/>
                  </a:moveTo>
                  <a:lnTo>
                    <a:pt x="53286" y="0"/>
                  </a:lnTo>
                  <a:lnTo>
                    <a:pt x="51886" y="1400"/>
                  </a:lnTo>
                  <a:lnTo>
                    <a:pt x="1400" y="1400"/>
                  </a:lnTo>
                  <a:close/>
                </a:path>
                <a:path fill="darken" w="53286" h="21600">
                  <a:moveTo>
                    <a:pt x="53286" y="0"/>
                  </a:moveTo>
                  <a:lnTo>
                    <a:pt x="53286" y="21600"/>
                  </a:lnTo>
                  <a:lnTo>
                    <a:pt x="51886" y="20200"/>
                  </a:lnTo>
                  <a:lnTo>
                    <a:pt x="51886" y="1400"/>
                  </a:lnTo>
                  <a:close/>
                </a:path>
                <a:path fill="darkenLess" w="53286" h="21600">
                  <a:moveTo>
                    <a:pt x="532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886" y="20200"/>
                  </a:lnTo>
                  <a:close/>
                </a:path>
                <a:path fill="lighten" w="532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复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857160" y="10000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下列图形哪些是轴对称图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7" descr="j0299587"/>
          <p:cNvPicPr/>
          <p:nvPr/>
        </p:nvPicPr>
        <p:blipFill>
          <a:blip r:embed="rId2"/>
          <a:stretch/>
        </p:blipFill>
        <p:spPr>
          <a:xfrm>
            <a:off x="6012000" y="4508640"/>
            <a:ext cx="1441440" cy="136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0061222084323366"/>
          <p:cNvPicPr/>
          <p:nvPr/>
        </p:nvPicPr>
        <p:blipFill>
          <a:blip r:embed="rId3"/>
          <a:stretch/>
        </p:blipFill>
        <p:spPr>
          <a:xfrm>
            <a:off x="1116000" y="24922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脸谱3"/>
          <p:cNvPicPr/>
          <p:nvPr/>
        </p:nvPicPr>
        <p:blipFill>
          <a:blip r:embed="rId4"/>
          <a:stretch/>
        </p:blipFill>
        <p:spPr>
          <a:xfrm>
            <a:off x="6012000" y="213372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国家体育场（鸟巢）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45100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卡通图片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35280" y="4508640"/>
            <a:ext cx="1366920" cy="129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墙纸桌面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64000" y="2421000"/>
            <a:ext cx="1439640" cy="1297080"/>
          </a:xfrm>
          <a:prstGeom prst="rect">
            <a:avLst/>
          </a:prstGeom>
          <a:ln w="0">
            <a:noFill/>
          </a:ln>
        </p:spPr>
      </p:pic>
      <p:sp>
        <p:nvSpPr>
          <p:cNvPr id="87" name="Line 13"/>
          <p:cNvSpPr/>
          <p:nvPr/>
        </p:nvSpPr>
        <p:spPr>
          <a:xfrm>
            <a:off x="1835280" y="2060640"/>
            <a:ext cx="0" cy="216036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6732720" y="1989000"/>
            <a:ext cx="0" cy="2160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755640" y="5157720"/>
            <a:ext cx="201600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5866920" y="4797360"/>
            <a:ext cx="1584360" cy="936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012000" y="4724280"/>
            <a:ext cx="1584360" cy="100836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732720" y="4221000"/>
            <a:ext cx="0" cy="2160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6227280" y="4508640"/>
            <a:ext cx="1008360" cy="144144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5796000" y="5157720"/>
            <a:ext cx="1942920" cy="7164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6300720" y="4221000"/>
            <a:ext cx="863640" cy="180036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动作按钮: 第一张 19"/>
          <p:cNvGrpSpPr/>
          <p:nvPr/>
        </p:nvGrpSpPr>
        <p:grpSpPr>
          <a:xfrm>
            <a:off x="8186760" y="469800"/>
            <a:ext cx="622440" cy="554040"/>
            <a:chOff x="8186760" y="469800"/>
            <a:chExt cx="622440" cy="554040"/>
          </a:xfrm>
        </p:grpSpPr>
        <p:pic>
          <p:nvPicPr>
            <p:cNvPr id="97" name="动作按钮: 第一张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8186760" y="469800"/>
              <a:ext cx="622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215200" y="50004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1680" y="1285920"/>
            <a:ext cx="73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段是轴对称图形吗？如果是，你能找出它的一条对称轴吗？这条对称轴与线段存在着什么关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2987640" y="4437000"/>
            <a:ext cx="252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878920" y="3875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35640" y="3875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5508720" y="4332240"/>
            <a:ext cx="0" cy="142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59200" y="4332240"/>
            <a:ext cx="0" cy="142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23400" y="59040"/>
            <a:ext cx="1194840" cy="1194480"/>
            <a:chOff x="-23400" y="59040"/>
            <a:chExt cx="1194840" cy="1194480"/>
          </a:xfrm>
        </p:grpSpPr>
        <p:sp>
          <p:nvSpPr>
            <p:cNvPr id="106" name="AutoShape 9">
              <a:hlinkClick r:id="rId2" action="ppaction://hlinksldjump"/>
            </p:cNvPr>
            <p:cNvSpPr/>
            <p:nvPr/>
          </p:nvSpPr>
          <p:spPr>
            <a:xfrm rot="2700000">
              <a:off x="177840" y="207360"/>
              <a:ext cx="792000" cy="897480"/>
            </a:xfrm>
            <a:custGeom>
              <a:avLst/>
              <a:gdLst>
                <a:gd name="textAreaLeft" fmla="*/ 51120 w 792000"/>
                <a:gd name="textAreaRight" fmla="*/ 740880 w 792000"/>
                <a:gd name="textAreaTop" fmla="*/ 51120 h 897480"/>
                <a:gd name="textAreaBottom" fmla="*/ 846360 h 897480"/>
              </a:gdLst>
              <a:ahLst/>
              <a:rect l="textAreaLeft" t="textAreaTop" r="textAreaRight" b="textAreaBottom"/>
              <a:pathLst>
                <a:path w="21600" h="24475">
                  <a:moveTo>
                    <a:pt x="0" y="0"/>
                  </a:moveTo>
                  <a:lnTo>
                    <a:pt x="21600" y="0"/>
                  </a:lnTo>
                  <a:lnTo>
                    <a:pt x="21600" y="24475"/>
                  </a:lnTo>
                  <a:lnTo>
                    <a:pt x="0" y="24475"/>
                  </a:lnTo>
                  <a:close/>
                </a:path>
                <a:path fill="lightenLess" w="21600" h="244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475">
                  <a:moveTo>
                    <a:pt x="21600" y="0"/>
                  </a:moveTo>
                  <a:lnTo>
                    <a:pt x="21600" y="24475"/>
                  </a:lnTo>
                  <a:lnTo>
                    <a:pt x="20200" y="23075"/>
                  </a:lnTo>
                  <a:lnTo>
                    <a:pt x="20200" y="1400"/>
                  </a:lnTo>
                  <a:close/>
                </a:path>
                <a:path fill="darkenLess" w="21600" h="24475">
                  <a:moveTo>
                    <a:pt x="21600" y="24475"/>
                  </a:moveTo>
                  <a:lnTo>
                    <a:pt x="0" y="24475"/>
                  </a:lnTo>
                  <a:lnTo>
                    <a:pt x="1400" y="23075"/>
                  </a:lnTo>
                  <a:lnTo>
                    <a:pt x="20200" y="23075"/>
                  </a:lnTo>
                  <a:close/>
                </a:path>
                <a:path fill="lighten" w="21600" h="24475">
                  <a:moveTo>
                    <a:pt x="0" y="244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075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">
              <a:hlinkClick r:id="rId3" action="ppaction://hlinksldjump"/>
            </p:cNvPr>
            <p:cNvSpPr/>
            <p:nvPr/>
          </p:nvSpPr>
          <p:spPr>
            <a:xfrm>
              <a:off x="0" y="429480"/>
              <a:ext cx="1115640" cy="374400"/>
            </a:xfrm>
            <a:custGeom>
              <a:avLst/>
              <a:gdLst>
                <a:gd name="textAreaLeft" fmla="*/ 24120 w 1115640"/>
                <a:gd name="textAreaRight" fmla="*/ 1091520 w 1115640"/>
                <a:gd name="textAreaTop" fmla="*/ 24120 h 374400"/>
                <a:gd name="textAreaBottom" fmla="*/ 350280 h 374400"/>
              </a:gdLst>
              <a:ahLst/>
              <a:rect l="textAreaLeft" t="textAreaTop" r="textAreaRight" b="textAreaBottom"/>
              <a:pathLst>
                <a:path w="64323" h="21600">
                  <a:moveTo>
                    <a:pt x="0" y="0"/>
                  </a:moveTo>
                  <a:lnTo>
                    <a:pt x="64323" y="0"/>
                  </a:lnTo>
                  <a:lnTo>
                    <a:pt x="64323" y="21600"/>
                  </a:lnTo>
                  <a:lnTo>
                    <a:pt x="0" y="21600"/>
                  </a:lnTo>
                  <a:close/>
                </a:path>
                <a:path fill="lightenLess" w="64323" h="21600">
                  <a:moveTo>
                    <a:pt x="0" y="0"/>
                  </a:moveTo>
                  <a:lnTo>
                    <a:pt x="64323" y="0"/>
                  </a:lnTo>
                  <a:lnTo>
                    <a:pt x="62923" y="1400"/>
                  </a:lnTo>
                  <a:lnTo>
                    <a:pt x="1400" y="1400"/>
                  </a:lnTo>
                  <a:close/>
                </a:path>
                <a:path fill="darken" w="64323" h="21600">
                  <a:moveTo>
                    <a:pt x="64323" y="0"/>
                  </a:moveTo>
                  <a:lnTo>
                    <a:pt x="64323" y="21600"/>
                  </a:lnTo>
                  <a:lnTo>
                    <a:pt x="62923" y="20200"/>
                  </a:lnTo>
                  <a:lnTo>
                    <a:pt x="62923" y="1400"/>
                  </a:lnTo>
                  <a:close/>
                </a:path>
                <a:path fill="darkenLess" w="64323" h="21600">
                  <a:moveTo>
                    <a:pt x="64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2923" y="20200"/>
                  </a:lnTo>
                  <a:close/>
                </a:path>
                <a:path fill="lighten" w="64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探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24000" y="134136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照下面的步骤做一做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2143080"/>
            <a:ext cx="585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在纸片上画一条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943600" y="2766960"/>
            <a:ext cx="266688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5905800" y="5129280"/>
            <a:ext cx="2742480" cy="534600"/>
            <a:chOff x="5905800" y="5129280"/>
            <a:chExt cx="2742480" cy="534600"/>
          </a:xfrm>
        </p:grpSpPr>
        <p:sp>
          <p:nvSpPr>
            <p:cNvPr id="112" name="Line 6"/>
            <p:cNvSpPr/>
            <p:nvPr/>
          </p:nvSpPr>
          <p:spPr>
            <a:xfrm>
              <a:off x="6096240" y="512928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905800" y="5143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8231400" y="5129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385640" y="278604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使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重合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7315200" y="276696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505320" y="5792760"/>
            <a:ext cx="26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119" name="Group 13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sp>
            <p:nvSpPr>
              <p:cNvPr id="120" name="未知"/>
              <p:cNvSpPr/>
              <p:nvPr/>
            </p:nvSpPr>
            <p:spPr>
              <a:xfrm>
                <a:off x="7315200" y="2386080"/>
                <a:ext cx="914400" cy="35049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4960"/>
                  <a:gd name="textAreaBottom" fmla="*/ 3505320 h 350496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15"/>
              <p:cNvSpPr/>
              <p:nvPr/>
            </p:nvSpPr>
            <p:spPr>
              <a:xfrm flipV="1">
                <a:off x="7287120" y="4802760"/>
                <a:ext cx="818280" cy="3466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6"/>
            <p:cNvGrpSpPr/>
            <p:nvPr/>
          </p:nvGrpSpPr>
          <p:grpSpPr>
            <a:xfrm>
              <a:off x="7864560" y="4976640"/>
              <a:ext cx="241200" cy="228240"/>
              <a:chOff x="7864560" y="4976640"/>
              <a:chExt cx="241200" cy="228240"/>
            </a:xfrm>
          </p:grpSpPr>
          <p:sp>
            <p:nvSpPr>
              <p:cNvPr id="123" name="Line 17"/>
              <p:cNvSpPr/>
              <p:nvPr/>
            </p:nvSpPr>
            <p:spPr>
              <a:xfrm>
                <a:off x="7877160" y="4976640"/>
                <a:ext cx="0" cy="22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flipH="1">
                <a:off x="7864560" y="4976640"/>
                <a:ext cx="241200" cy="22824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9"/>
          <p:cNvGrpSpPr/>
          <p:nvPr/>
        </p:nvGrpSpPr>
        <p:grpSpPr>
          <a:xfrm>
            <a:off x="7314840" y="2233440"/>
            <a:ext cx="304920" cy="3657600"/>
            <a:chOff x="7314840" y="2233440"/>
            <a:chExt cx="304920" cy="3657600"/>
          </a:xfrm>
        </p:grpSpPr>
        <p:grpSp>
          <p:nvGrpSpPr>
            <p:cNvPr id="126" name="Group 20"/>
            <p:cNvGrpSpPr/>
            <p:nvPr/>
          </p:nvGrpSpPr>
          <p:grpSpPr>
            <a:xfrm>
              <a:off x="7327080" y="2233440"/>
              <a:ext cx="292680" cy="3657600"/>
              <a:chOff x="7327080" y="2233440"/>
              <a:chExt cx="292680" cy="3657600"/>
            </a:xfrm>
          </p:grpSpPr>
          <p:sp>
            <p:nvSpPr>
              <p:cNvPr id="127" name="未知"/>
              <p:cNvSpPr/>
              <p:nvPr/>
            </p:nvSpPr>
            <p:spPr>
              <a:xfrm>
                <a:off x="7327080" y="2233440"/>
                <a:ext cx="292680" cy="36576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2"/>
              <p:cNvSpPr/>
              <p:nvPr/>
            </p:nvSpPr>
            <p:spPr>
              <a:xfrm flipV="1">
                <a:off x="7327080" y="4824360"/>
                <a:ext cx="146160" cy="30456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3"/>
            <p:cNvGrpSpPr/>
            <p:nvPr/>
          </p:nvGrpSpPr>
          <p:grpSpPr>
            <a:xfrm>
              <a:off x="7314840" y="4976640"/>
              <a:ext cx="231480" cy="228600"/>
              <a:chOff x="7314840" y="4976640"/>
              <a:chExt cx="231480" cy="228600"/>
            </a:xfrm>
          </p:grpSpPr>
          <p:sp>
            <p:nvSpPr>
              <p:cNvPr id="130" name="Line 24"/>
              <p:cNvSpPr/>
              <p:nvPr/>
            </p:nvSpPr>
            <p:spPr>
              <a:xfrm>
                <a:off x="7327080" y="497664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H="1">
                <a:off x="7314480" y="4976640"/>
                <a:ext cx="231480" cy="228600"/>
              </a:xfrm>
              <a:custGeom>
                <a:avLst/>
                <a:gdLst>
                  <a:gd name="textAreaLeft" fmla="*/ -360 w 231480"/>
                  <a:gd name="textAreaRight" fmla="*/ 231480 w 231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26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133" name="Group 27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sp>
            <p:nvSpPr>
              <p:cNvPr id="134" name="未知"/>
              <p:cNvSpPr/>
              <p:nvPr/>
            </p:nvSpPr>
            <p:spPr>
              <a:xfrm>
                <a:off x="6934320" y="2233440"/>
                <a:ext cx="380880" cy="3657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29"/>
              <p:cNvSpPr/>
              <p:nvPr/>
            </p:nvSpPr>
            <p:spPr>
              <a:xfrm flipH="1" flipV="1">
                <a:off x="7037280" y="4725720"/>
                <a:ext cx="27756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0"/>
            <p:cNvGrpSpPr/>
            <p:nvPr/>
          </p:nvGrpSpPr>
          <p:grpSpPr>
            <a:xfrm>
              <a:off x="6978600" y="4852800"/>
              <a:ext cx="241200" cy="276120"/>
              <a:chOff x="6978600" y="4852800"/>
              <a:chExt cx="241200" cy="276120"/>
            </a:xfrm>
          </p:grpSpPr>
          <p:sp>
            <p:nvSpPr>
              <p:cNvPr id="137" name="Line 31"/>
              <p:cNvSpPr/>
              <p:nvPr/>
            </p:nvSpPr>
            <p:spPr>
              <a:xfrm>
                <a:off x="7207200" y="485280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978600" y="4852800"/>
                <a:ext cx="241200" cy="276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33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140" name="Group 34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sp>
            <p:nvSpPr>
              <p:cNvPr id="141" name="未知"/>
              <p:cNvSpPr/>
              <p:nvPr/>
            </p:nvSpPr>
            <p:spPr>
              <a:xfrm>
                <a:off x="6248520" y="223344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36"/>
              <p:cNvSpPr/>
              <p:nvPr/>
            </p:nvSpPr>
            <p:spPr>
              <a:xfrm flipH="1" flipV="1">
                <a:off x="6400800" y="450360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37"/>
            <p:cNvGrpSpPr/>
            <p:nvPr/>
          </p:nvGrpSpPr>
          <p:grpSpPr>
            <a:xfrm>
              <a:off x="6369120" y="4671720"/>
              <a:ext cx="241200" cy="276480"/>
              <a:chOff x="6369120" y="4671720"/>
              <a:chExt cx="241200" cy="276480"/>
            </a:xfrm>
          </p:grpSpPr>
          <p:sp>
            <p:nvSpPr>
              <p:cNvPr id="144" name="Line 38"/>
              <p:cNvSpPr/>
              <p:nvPr/>
            </p:nvSpPr>
            <p:spPr>
              <a:xfrm>
                <a:off x="6597720" y="4671720"/>
                <a:ext cx="0" cy="276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6369120" y="4671720"/>
                <a:ext cx="241200" cy="276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40"/>
          <p:cNvGrpSpPr/>
          <p:nvPr/>
        </p:nvGrpSpPr>
        <p:grpSpPr>
          <a:xfrm>
            <a:off x="5943600" y="2766960"/>
            <a:ext cx="1371600" cy="3124080"/>
            <a:chOff x="5943600" y="2766960"/>
            <a:chExt cx="1371600" cy="3124080"/>
          </a:xfrm>
        </p:grpSpPr>
        <p:grpSp>
          <p:nvGrpSpPr>
            <p:cNvPr id="147" name="Group 41"/>
            <p:cNvGrpSpPr/>
            <p:nvPr/>
          </p:nvGrpSpPr>
          <p:grpSpPr>
            <a:xfrm>
              <a:off x="5943600" y="2766960"/>
              <a:ext cx="1371600" cy="3124080"/>
              <a:chOff x="5943600" y="2766960"/>
              <a:chExt cx="1371600" cy="3124080"/>
            </a:xfrm>
          </p:grpSpPr>
          <p:sp>
            <p:nvSpPr>
              <p:cNvPr id="148" name="未知"/>
              <p:cNvSpPr/>
              <p:nvPr/>
            </p:nvSpPr>
            <p:spPr>
              <a:xfrm>
                <a:off x="5943600" y="276696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3"/>
              <p:cNvSpPr/>
              <p:nvPr/>
            </p:nvSpPr>
            <p:spPr>
              <a:xfrm flipH="1">
                <a:off x="6095520" y="512928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44"/>
            <p:cNvGrpSpPr/>
            <p:nvPr/>
          </p:nvGrpSpPr>
          <p:grpSpPr>
            <a:xfrm>
              <a:off x="6019920" y="5310000"/>
              <a:ext cx="241200" cy="276480"/>
              <a:chOff x="6019920" y="5310000"/>
              <a:chExt cx="241200" cy="276480"/>
            </a:xfrm>
          </p:grpSpPr>
          <p:sp>
            <p:nvSpPr>
              <p:cNvPr id="151" name="Line 45"/>
              <p:cNvSpPr/>
              <p:nvPr/>
            </p:nvSpPr>
            <p:spPr>
              <a:xfrm>
                <a:off x="6248520" y="5310000"/>
                <a:ext cx="0" cy="276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6019920" y="5310000"/>
                <a:ext cx="241200" cy="276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Rectangle 47"/>
          <p:cNvSpPr/>
          <p:nvPr/>
        </p:nvSpPr>
        <p:spPr>
          <a:xfrm>
            <a:off x="1565640" y="3429000"/>
            <a:ext cx="33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折痕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交点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8"/>
          <p:cNvSpPr/>
          <p:nvPr/>
        </p:nvSpPr>
        <p:spPr>
          <a:xfrm>
            <a:off x="6858000" y="5129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Gothic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9"/>
          <p:cNvSpPr/>
          <p:nvPr/>
        </p:nvSpPr>
        <p:spPr>
          <a:xfrm>
            <a:off x="1621440" y="407664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在折痕上任取一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50"/>
          <p:cNvGrpSpPr/>
          <p:nvPr/>
        </p:nvGrpSpPr>
        <p:grpSpPr>
          <a:xfrm>
            <a:off x="7241040" y="2933640"/>
            <a:ext cx="436680" cy="533520"/>
            <a:chOff x="7241040" y="2933640"/>
            <a:chExt cx="436680" cy="533520"/>
          </a:xfrm>
        </p:grpSpPr>
        <p:sp>
          <p:nvSpPr>
            <p:cNvPr id="157" name="Oval 51"/>
            <p:cNvSpPr/>
            <p:nvPr/>
          </p:nvSpPr>
          <p:spPr>
            <a:xfrm>
              <a:off x="7300800" y="3376440"/>
              <a:ext cx="9036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2"/>
            <p:cNvSpPr/>
            <p:nvPr/>
          </p:nvSpPr>
          <p:spPr>
            <a:xfrm>
              <a:off x="7241040" y="2933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Rectangle 53"/>
          <p:cNvSpPr/>
          <p:nvPr/>
        </p:nvSpPr>
        <p:spPr>
          <a:xfrm>
            <a:off x="1488960" y="47149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沿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纸折叠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87480" y="5335560"/>
            <a:ext cx="34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把纸展开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5943600" y="276696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864" y="432"/>
                </a:lnTo>
                <a:lnTo>
                  <a:pt x="86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5943600" y="2614680"/>
            <a:ext cx="1523880" cy="2819160"/>
            <a:chOff x="5943600" y="2614680"/>
            <a:chExt cx="1523880" cy="2819160"/>
          </a:xfrm>
        </p:grpSpPr>
        <p:sp>
          <p:nvSpPr>
            <p:cNvPr id="163" name="未知"/>
            <p:cNvSpPr/>
            <p:nvPr/>
          </p:nvSpPr>
          <p:spPr>
            <a:xfrm>
              <a:off x="5943600" y="261468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58"/>
            <p:cNvSpPr/>
            <p:nvPr/>
          </p:nvSpPr>
          <p:spPr>
            <a:xfrm>
              <a:off x="6019920" y="5052600"/>
              <a:ext cx="139680" cy="10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59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66" name="未知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84" h="1344">
                  <a:moveTo>
                    <a:pt x="0" y="1344"/>
                  </a:moveTo>
                  <a:lnTo>
                    <a:pt x="912" y="144"/>
                  </a:lnTo>
                  <a:lnTo>
                    <a:pt x="1152" y="0"/>
                  </a:lnTo>
                  <a:lnTo>
                    <a:pt x="1584" y="96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1"/>
            <p:cNvSpPr/>
            <p:nvPr/>
          </p:nvSpPr>
          <p:spPr>
            <a:xfrm flipV="1">
              <a:off x="6111360" y="5052960"/>
              <a:ext cx="201240" cy="68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62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69" name="未知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64"/>
            <p:cNvSpPr/>
            <p:nvPr/>
          </p:nvSpPr>
          <p:spPr>
            <a:xfrm>
              <a:off x="6095880" y="5091120"/>
              <a:ext cx="76320" cy="19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65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72" name="未知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 flipV="1">
              <a:off x="7315200" y="3376440"/>
              <a:ext cx="0" cy="152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 flipH="1">
              <a:off x="6095880" y="512928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69"/>
          <p:cNvGrpSpPr/>
          <p:nvPr/>
        </p:nvGrpSpPr>
        <p:grpSpPr>
          <a:xfrm>
            <a:off x="5943600" y="2538360"/>
            <a:ext cx="1523880" cy="2819520"/>
            <a:chOff x="5943600" y="2538360"/>
            <a:chExt cx="1523880" cy="2819520"/>
          </a:xfrm>
        </p:grpSpPr>
        <p:sp>
          <p:nvSpPr>
            <p:cNvPr id="176" name="未知"/>
            <p:cNvSpPr/>
            <p:nvPr/>
          </p:nvSpPr>
          <p:spPr>
            <a:xfrm>
              <a:off x="5943600" y="2538360"/>
              <a:ext cx="1523880" cy="28195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6019920" y="4976640"/>
              <a:ext cx="139680" cy="104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72"/>
          <p:cNvGrpSpPr/>
          <p:nvPr/>
        </p:nvGrpSpPr>
        <p:grpSpPr>
          <a:xfrm>
            <a:off x="5943240" y="2766960"/>
            <a:ext cx="1371960" cy="3200400"/>
            <a:chOff x="5943240" y="2766960"/>
            <a:chExt cx="1371960" cy="3200400"/>
          </a:xfrm>
        </p:grpSpPr>
        <p:grpSp>
          <p:nvGrpSpPr>
            <p:cNvPr id="179" name="Group 73"/>
            <p:cNvGrpSpPr/>
            <p:nvPr/>
          </p:nvGrpSpPr>
          <p:grpSpPr>
            <a:xfrm>
              <a:off x="5943600" y="2766960"/>
              <a:ext cx="1371600" cy="3124080"/>
              <a:chOff x="5943600" y="2766960"/>
              <a:chExt cx="1371600" cy="3124080"/>
            </a:xfrm>
          </p:grpSpPr>
          <p:grpSp>
            <p:nvGrpSpPr>
              <p:cNvPr id="180" name="Group 74"/>
              <p:cNvGrpSpPr/>
              <p:nvPr/>
            </p:nvGrpSpPr>
            <p:grpSpPr>
              <a:xfrm>
                <a:off x="5943600" y="2766960"/>
                <a:ext cx="1371600" cy="3124080"/>
                <a:chOff x="5943600" y="2766960"/>
                <a:chExt cx="1371600" cy="3124080"/>
              </a:xfrm>
            </p:grpSpPr>
            <p:sp>
              <p:nvSpPr>
                <p:cNvPr id="181" name="未知"/>
                <p:cNvSpPr/>
                <p:nvPr/>
              </p:nvSpPr>
              <p:spPr>
                <a:xfrm>
                  <a:off x="5943600" y="2766960"/>
                  <a:ext cx="1371600" cy="3124080"/>
                </a:xfrm>
                <a:custGeom>
                  <a:avLst/>
                  <a:gdLst>
                    <a:gd name="textAreaLeft" fmla="*/ 0 w 1371600"/>
                    <a:gd name="textAreaRight" fmla="*/ 1371960 w 1371600"/>
                    <a:gd name="textAreaTop" fmla="*/ 0 h 3124080"/>
                    <a:gd name="textAreaBottom" fmla="*/ 3124440 h 3124080"/>
                  </a:gdLst>
                  <a:ahLst/>
                  <a:rect l="textAreaLeft" t="textAreaTop" r="textAreaRight" b="textAreaBottom"/>
                  <a:pathLst>
                    <a:path w="864" h="1968">
                      <a:moveTo>
                        <a:pt x="864" y="1968"/>
                      </a:moveTo>
                      <a:lnTo>
                        <a:pt x="864" y="0"/>
                      </a:lnTo>
                      <a:lnTo>
                        <a:pt x="0" y="0"/>
                      </a:lnTo>
                      <a:lnTo>
                        <a:pt x="0" y="1968"/>
                      </a:lnTo>
                      <a:lnTo>
                        <a:pt x="864" y="1968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6"/>
                <p:cNvSpPr/>
                <p:nvPr/>
              </p:nvSpPr>
              <p:spPr>
                <a:xfrm flipH="1">
                  <a:off x="6095520" y="5129280"/>
                  <a:ext cx="12193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7"/>
              <p:cNvGrpSpPr/>
              <p:nvPr/>
            </p:nvGrpSpPr>
            <p:grpSpPr>
              <a:xfrm>
                <a:off x="6019920" y="5310000"/>
                <a:ext cx="241200" cy="276480"/>
                <a:chOff x="6019920" y="5310000"/>
                <a:chExt cx="241200" cy="276480"/>
              </a:xfrm>
            </p:grpSpPr>
            <p:sp>
              <p:nvSpPr>
                <p:cNvPr id="184" name="Line 78"/>
                <p:cNvSpPr/>
                <p:nvPr/>
              </p:nvSpPr>
              <p:spPr>
                <a:xfrm>
                  <a:off x="6248520" y="5310000"/>
                  <a:ext cx="0" cy="276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>
                  <a:off x="6019920" y="5310000"/>
                  <a:ext cx="241200" cy="27648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" name="Line 80"/>
            <p:cNvSpPr/>
            <p:nvPr/>
          </p:nvSpPr>
          <p:spPr>
            <a:xfrm flipH="1">
              <a:off x="5943240" y="5129280"/>
              <a:ext cx="152280" cy="15228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81"/>
            <p:cNvSpPr/>
            <p:nvPr/>
          </p:nvSpPr>
          <p:spPr>
            <a:xfrm flipV="1">
              <a:off x="6095880" y="3452400"/>
              <a:ext cx="121932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82"/>
            <p:cNvSpPr/>
            <p:nvPr/>
          </p:nvSpPr>
          <p:spPr>
            <a:xfrm>
              <a:off x="7315200" y="3529080"/>
              <a:ext cx="0" cy="243828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83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190" name="Group 84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grpSp>
            <p:nvGrpSpPr>
              <p:cNvPr id="191" name="Group 85"/>
              <p:cNvGrpSpPr/>
              <p:nvPr/>
            </p:nvGrpSpPr>
            <p:grpSpPr>
              <a:xfrm>
                <a:off x="6934320" y="2233440"/>
                <a:ext cx="380880" cy="3657600"/>
                <a:chOff x="6934320" y="2233440"/>
                <a:chExt cx="380880" cy="3657600"/>
              </a:xfrm>
            </p:grpSpPr>
            <p:sp>
              <p:nvSpPr>
                <p:cNvPr id="192" name="未知"/>
                <p:cNvSpPr/>
                <p:nvPr/>
              </p:nvSpPr>
              <p:spPr>
                <a:xfrm>
                  <a:off x="6934320" y="2233440"/>
                  <a:ext cx="380880" cy="36576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240" h="2304">
                      <a:moveTo>
                        <a:pt x="240" y="2304"/>
                      </a:moveTo>
                      <a:lnTo>
                        <a:pt x="240" y="336"/>
                      </a:lnTo>
                      <a:lnTo>
                        <a:pt x="0" y="0"/>
                      </a:lnTo>
                      <a:lnTo>
                        <a:pt x="0" y="2064"/>
                      </a:lnTo>
                      <a:lnTo>
                        <a:pt x="240" y="2304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87"/>
                <p:cNvSpPr/>
                <p:nvPr/>
              </p:nvSpPr>
              <p:spPr>
                <a:xfrm flipH="1" flipV="1">
                  <a:off x="7037280" y="4725720"/>
                  <a:ext cx="277560" cy="4032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88"/>
              <p:cNvGrpSpPr/>
              <p:nvPr/>
            </p:nvGrpSpPr>
            <p:grpSpPr>
              <a:xfrm>
                <a:off x="6978600" y="4852800"/>
                <a:ext cx="241200" cy="276120"/>
                <a:chOff x="6978600" y="4852800"/>
                <a:chExt cx="241200" cy="276120"/>
              </a:xfrm>
            </p:grpSpPr>
            <p:sp>
              <p:nvSpPr>
                <p:cNvPr id="195" name="Line 89"/>
                <p:cNvSpPr/>
                <p:nvPr/>
              </p:nvSpPr>
              <p:spPr>
                <a:xfrm>
                  <a:off x="7207200" y="4852800"/>
                  <a:ext cx="0" cy="276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>
                  <a:off x="6978600" y="4852800"/>
                  <a:ext cx="241200" cy="27612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" name="Line 91"/>
            <p:cNvSpPr/>
            <p:nvPr/>
          </p:nvSpPr>
          <p:spPr>
            <a:xfrm flipV="1">
              <a:off x="7010640" y="3452760"/>
              <a:ext cx="304560" cy="129528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Rectangle 92"/>
          <p:cNvSpPr/>
          <p:nvPr/>
        </p:nvSpPr>
        <p:spPr>
          <a:xfrm>
            <a:off x="6037920" y="5207040"/>
            <a:ext cx="436680" cy="45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93"/>
          <p:cNvSpPr/>
          <p:nvPr/>
        </p:nvSpPr>
        <p:spPr>
          <a:xfrm>
            <a:off x="7085160" y="5205240"/>
            <a:ext cx="456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94"/>
          <p:cNvSpPr/>
          <p:nvPr/>
        </p:nvSpPr>
        <p:spPr>
          <a:xfrm>
            <a:off x="3189960" y="5357880"/>
            <a:ext cx="31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得到折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95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202" name="Group 96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grpSp>
            <p:nvGrpSpPr>
              <p:cNvPr id="203" name="Group 97"/>
              <p:cNvGrpSpPr/>
              <p:nvPr/>
            </p:nvGrpSpPr>
            <p:grpSpPr>
              <a:xfrm>
                <a:off x="6248520" y="2233440"/>
                <a:ext cx="1066680" cy="3657600"/>
                <a:chOff x="6248520" y="2233440"/>
                <a:chExt cx="1066680" cy="3657600"/>
              </a:xfrm>
            </p:grpSpPr>
            <p:sp>
              <p:nvSpPr>
                <p:cNvPr id="204" name="未知"/>
                <p:cNvSpPr/>
                <p:nvPr/>
              </p:nvSpPr>
              <p:spPr>
                <a:xfrm>
                  <a:off x="6248520" y="2233440"/>
                  <a:ext cx="1066680" cy="36576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672" h="2304">
                      <a:moveTo>
                        <a:pt x="672" y="2304"/>
                      </a:moveTo>
                      <a:lnTo>
                        <a:pt x="672" y="336"/>
                      </a:lnTo>
                      <a:lnTo>
                        <a:pt x="0" y="0"/>
                      </a:lnTo>
                      <a:lnTo>
                        <a:pt x="0" y="1920"/>
                      </a:lnTo>
                      <a:lnTo>
                        <a:pt x="672" y="2304"/>
                      </a:lnTo>
                      <a:close/>
                    </a:path>
                  </a:pathLst>
                </a:cu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9"/>
                <p:cNvSpPr/>
                <p:nvPr/>
              </p:nvSpPr>
              <p:spPr>
                <a:xfrm flipH="1" flipV="1">
                  <a:off x="6400800" y="4503600"/>
                  <a:ext cx="914400" cy="582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00"/>
              <p:cNvGrpSpPr/>
              <p:nvPr/>
            </p:nvGrpSpPr>
            <p:grpSpPr>
              <a:xfrm>
                <a:off x="6369120" y="4671720"/>
                <a:ext cx="241200" cy="276480"/>
                <a:chOff x="6369120" y="4671720"/>
                <a:chExt cx="241200" cy="276480"/>
              </a:xfrm>
            </p:grpSpPr>
            <p:sp>
              <p:nvSpPr>
                <p:cNvPr id="207" name="Line 101"/>
                <p:cNvSpPr/>
                <p:nvPr/>
              </p:nvSpPr>
              <p:spPr>
                <a:xfrm>
                  <a:off x="6597720" y="4671720"/>
                  <a:ext cx="0" cy="276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>
                  <a:off x="6369120" y="4671720"/>
                  <a:ext cx="241200" cy="27648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Line 103"/>
            <p:cNvSpPr/>
            <p:nvPr/>
          </p:nvSpPr>
          <p:spPr>
            <a:xfrm flipH="1">
              <a:off x="6400800" y="3452760"/>
              <a:ext cx="914400" cy="106668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7314840" y="2233440"/>
            <a:ext cx="304920" cy="3657600"/>
            <a:chOff x="7314840" y="2233440"/>
            <a:chExt cx="304920" cy="3657600"/>
          </a:xfrm>
        </p:grpSpPr>
        <p:grpSp>
          <p:nvGrpSpPr>
            <p:cNvPr id="211" name="Group 105"/>
            <p:cNvGrpSpPr/>
            <p:nvPr/>
          </p:nvGrpSpPr>
          <p:grpSpPr>
            <a:xfrm>
              <a:off x="7314840" y="2233440"/>
              <a:ext cx="304920" cy="3657600"/>
              <a:chOff x="7314840" y="2233440"/>
              <a:chExt cx="304920" cy="3657600"/>
            </a:xfrm>
          </p:grpSpPr>
          <p:grpSp>
            <p:nvGrpSpPr>
              <p:cNvPr id="212" name="Group 106"/>
              <p:cNvGrpSpPr/>
              <p:nvPr/>
            </p:nvGrpSpPr>
            <p:grpSpPr>
              <a:xfrm>
                <a:off x="7327080" y="2233440"/>
                <a:ext cx="292680" cy="3657600"/>
                <a:chOff x="7327080" y="2233440"/>
                <a:chExt cx="292680" cy="3657600"/>
              </a:xfrm>
            </p:grpSpPr>
            <p:sp>
              <p:nvSpPr>
                <p:cNvPr id="213" name="未知"/>
                <p:cNvSpPr/>
                <p:nvPr/>
              </p:nvSpPr>
              <p:spPr>
                <a:xfrm>
                  <a:off x="7327080" y="2233440"/>
                  <a:ext cx="292680" cy="3657600"/>
                </a:xfrm>
                <a:custGeom>
                  <a:avLst/>
                  <a:gdLst>
                    <a:gd name="textAreaLeft" fmla="*/ 0 w 292680"/>
                    <a:gd name="textAreaRight" fmla="*/ 293040 w 2926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192" h="2304">
                      <a:moveTo>
                        <a:pt x="0" y="2304"/>
                      </a:moveTo>
                      <a:lnTo>
                        <a:pt x="0" y="336"/>
                      </a:lnTo>
                      <a:lnTo>
                        <a:pt x="192" y="0"/>
                      </a:lnTo>
                      <a:lnTo>
                        <a:pt x="192" y="2016"/>
                      </a:lnTo>
                      <a:lnTo>
                        <a:pt x="0" y="23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3ff"/>
                    </a:gs>
                    <a:gs pos="100000">
                      <a:srgbClr val="edf9ff"/>
                    </a:gs>
                  </a:gsLst>
                  <a:lin ang="5400000"/>
                </a:gra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08"/>
                <p:cNvSpPr/>
                <p:nvPr/>
              </p:nvSpPr>
              <p:spPr>
                <a:xfrm flipV="1">
                  <a:off x="7327080" y="4824360"/>
                  <a:ext cx="146160" cy="30456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09"/>
              <p:cNvGrpSpPr/>
              <p:nvPr/>
            </p:nvGrpSpPr>
            <p:grpSpPr>
              <a:xfrm>
                <a:off x="7314840" y="4976640"/>
                <a:ext cx="231480" cy="228600"/>
                <a:chOff x="7314840" y="4976640"/>
                <a:chExt cx="231480" cy="228600"/>
              </a:xfrm>
            </p:grpSpPr>
            <p:sp>
              <p:nvSpPr>
                <p:cNvPr id="216" name="Line 110"/>
                <p:cNvSpPr/>
                <p:nvPr/>
              </p:nvSpPr>
              <p:spPr>
                <a:xfrm>
                  <a:off x="7327080" y="4976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flipH="1">
                  <a:off x="7314480" y="4976640"/>
                  <a:ext cx="231480" cy="228600"/>
                </a:xfrm>
                <a:custGeom>
                  <a:avLst/>
                  <a:gdLst>
                    <a:gd name="textAreaLeft" fmla="*/ -360 w 231480"/>
                    <a:gd name="textAreaRight" fmla="*/ 231480 w 2314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" name="Line 112"/>
            <p:cNvSpPr/>
            <p:nvPr/>
          </p:nvSpPr>
          <p:spPr>
            <a:xfrm flipH="1" flipV="1">
              <a:off x="7327080" y="3376440"/>
              <a:ext cx="146160" cy="144792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113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220" name="Group 114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grpSp>
            <p:nvGrpSpPr>
              <p:cNvPr id="221" name="Group 115"/>
              <p:cNvGrpSpPr/>
              <p:nvPr/>
            </p:nvGrpSpPr>
            <p:grpSpPr>
              <a:xfrm>
                <a:off x="7287120" y="2386080"/>
                <a:ext cx="942480" cy="3504960"/>
                <a:chOff x="7287120" y="2386080"/>
                <a:chExt cx="942480" cy="3504960"/>
              </a:xfrm>
            </p:grpSpPr>
            <p:sp>
              <p:nvSpPr>
                <p:cNvPr id="222" name="未知"/>
                <p:cNvSpPr/>
                <p:nvPr/>
              </p:nvSpPr>
              <p:spPr>
                <a:xfrm>
                  <a:off x="7315200" y="2386080"/>
                  <a:ext cx="914400" cy="350496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3504960"/>
                    <a:gd name="textAreaBottom" fmla="*/ 3505320 h 3504960"/>
                  </a:gdLst>
                  <a:ahLst/>
                  <a:rect l="textAreaLeft" t="textAreaTop" r="textAreaRight" b="textAreaBottom"/>
                  <a:pathLst>
                    <a:path w="576" h="2208">
                      <a:moveTo>
                        <a:pt x="0" y="2208"/>
                      </a:moveTo>
                      <a:lnTo>
                        <a:pt x="0" y="240"/>
                      </a:lnTo>
                      <a:lnTo>
                        <a:pt x="576" y="0"/>
                      </a:lnTo>
                      <a:lnTo>
                        <a:pt x="576" y="2016"/>
                      </a:lnTo>
                      <a:lnTo>
                        <a:pt x="0" y="22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f1ff"/>
                    </a:gs>
                    <a:gs pos="100000">
                      <a:srgbClr val="00000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17"/>
                <p:cNvSpPr/>
                <p:nvPr/>
              </p:nvSpPr>
              <p:spPr>
                <a:xfrm flipV="1">
                  <a:off x="7287120" y="4802760"/>
                  <a:ext cx="818280" cy="3466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8"/>
              <p:cNvGrpSpPr/>
              <p:nvPr/>
            </p:nvGrpSpPr>
            <p:grpSpPr>
              <a:xfrm>
                <a:off x="7864560" y="4976640"/>
                <a:ext cx="241200" cy="228240"/>
                <a:chOff x="7864560" y="4976640"/>
                <a:chExt cx="241200" cy="228240"/>
              </a:xfrm>
            </p:grpSpPr>
            <p:sp>
              <p:nvSpPr>
                <p:cNvPr id="225" name="Line 119"/>
                <p:cNvSpPr/>
                <p:nvPr/>
              </p:nvSpPr>
              <p:spPr>
                <a:xfrm>
                  <a:off x="7877160" y="4976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 flipH="1">
                  <a:off x="7864560" y="4976640"/>
                  <a:ext cx="241200" cy="228240"/>
                </a:xfrm>
                <a:custGeom>
                  <a:avLst/>
                  <a:gdLst>
                    <a:gd name="textAreaLeft" fmla="*/ 360 w 241200"/>
                    <a:gd name="textAreaRight" fmla="*/ 241920 w 24120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Line 121"/>
            <p:cNvSpPr/>
            <p:nvPr/>
          </p:nvSpPr>
          <p:spPr>
            <a:xfrm flipH="1" flipV="1">
              <a:off x="7315200" y="3452040"/>
              <a:ext cx="838080" cy="13712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2"/>
          <p:cNvGrpSpPr/>
          <p:nvPr/>
        </p:nvGrpSpPr>
        <p:grpSpPr>
          <a:xfrm>
            <a:off x="7241040" y="2766960"/>
            <a:ext cx="1443600" cy="3124080"/>
            <a:chOff x="7241040" y="2766960"/>
            <a:chExt cx="1443600" cy="3124080"/>
          </a:xfrm>
        </p:grpSpPr>
        <p:grpSp>
          <p:nvGrpSpPr>
            <p:cNvPr id="229" name="Group 123"/>
            <p:cNvGrpSpPr/>
            <p:nvPr/>
          </p:nvGrpSpPr>
          <p:grpSpPr>
            <a:xfrm>
              <a:off x="7315200" y="2766960"/>
              <a:ext cx="1369440" cy="3124080"/>
              <a:chOff x="7315200" y="2766960"/>
              <a:chExt cx="1369440" cy="3124080"/>
            </a:xfrm>
          </p:grpSpPr>
          <p:sp>
            <p:nvSpPr>
              <p:cNvPr id="230" name="Rectangle 124"/>
              <p:cNvSpPr/>
              <p:nvPr/>
            </p:nvSpPr>
            <p:spPr>
              <a:xfrm>
                <a:off x="7315200" y="2766960"/>
                <a:ext cx="1295280" cy="3124080"/>
              </a:xfrm>
              <a:prstGeom prst="rect">
                <a:avLst/>
              </a:prstGeom>
              <a:gradFill rotWithShape="0">
                <a:gsLst>
                  <a:gs pos="0">
                    <a:srgbClr val="e9f7ff"/>
                  </a:gs>
                  <a:gs pos="100000">
                    <a:srgbClr val="e9f7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25"/>
              <p:cNvSpPr/>
              <p:nvPr/>
            </p:nvSpPr>
            <p:spPr>
              <a:xfrm>
                <a:off x="7315200" y="5129280"/>
                <a:ext cx="11430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126"/>
              <p:cNvSpPr/>
              <p:nvPr/>
            </p:nvSpPr>
            <p:spPr>
              <a:xfrm>
                <a:off x="8267760" y="51292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Line 127"/>
            <p:cNvSpPr/>
            <p:nvPr/>
          </p:nvSpPr>
          <p:spPr>
            <a:xfrm flipH="1" flipV="1">
              <a:off x="7314840" y="3452400"/>
              <a:ext cx="114300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28"/>
            <p:cNvSpPr/>
            <p:nvPr/>
          </p:nvSpPr>
          <p:spPr>
            <a:xfrm>
              <a:off x="7241040" y="3085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TextBox 254"/>
          <p:cNvSpPr/>
          <p:nvPr/>
        </p:nvSpPr>
        <p:spPr>
          <a:xfrm>
            <a:off x="285840" y="28584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6230880" y="404640"/>
            <a:ext cx="1371600" cy="3124080"/>
            <a:chOff x="6230880" y="404640"/>
            <a:chExt cx="1371600" cy="3124080"/>
          </a:xfrm>
        </p:grpSpPr>
        <p:sp>
          <p:nvSpPr>
            <p:cNvPr id="237" name="未知"/>
            <p:cNvSpPr/>
            <p:nvPr/>
          </p:nvSpPr>
          <p:spPr>
            <a:xfrm>
              <a:off x="6230880" y="404640"/>
              <a:ext cx="1371600" cy="31240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864" h="1968">
                  <a:moveTo>
                    <a:pt x="864" y="1968"/>
                  </a:moveTo>
                  <a:lnTo>
                    <a:pt x="864" y="0"/>
                  </a:lnTo>
                  <a:lnTo>
                    <a:pt x="0" y="0"/>
                  </a:lnTo>
                  <a:lnTo>
                    <a:pt x="0" y="1968"/>
                  </a:lnTo>
                  <a:lnTo>
                    <a:pt x="864" y="1968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"/>
            <p:cNvSpPr/>
            <p:nvPr/>
          </p:nvSpPr>
          <p:spPr>
            <a:xfrm flipH="1">
              <a:off x="6382800" y="2766960"/>
              <a:ext cx="12193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Line 5"/>
          <p:cNvSpPr/>
          <p:nvPr/>
        </p:nvSpPr>
        <p:spPr>
          <a:xfrm flipH="1">
            <a:off x="6230520" y="2766960"/>
            <a:ext cx="152280" cy="15228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V="1">
            <a:off x="6383160" y="1090080"/>
            <a:ext cx="1219320" cy="167652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7602480" y="1166760"/>
            <a:ext cx="0" cy="243828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7602480" y="40464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505320" y="6783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7528320" y="571680"/>
            <a:ext cx="436680" cy="532800"/>
            <a:chOff x="7528320" y="571680"/>
            <a:chExt cx="436680" cy="532800"/>
          </a:xfrm>
        </p:grpSpPr>
        <p:sp>
          <p:nvSpPr>
            <p:cNvPr id="245" name="Oval 11"/>
            <p:cNvSpPr/>
            <p:nvPr/>
          </p:nvSpPr>
          <p:spPr>
            <a:xfrm>
              <a:off x="7588080" y="1014120"/>
              <a:ext cx="9036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7528320" y="571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Rectangle 13"/>
          <p:cNvSpPr/>
          <p:nvPr/>
        </p:nvSpPr>
        <p:spPr>
          <a:xfrm>
            <a:off x="6229800" y="2867040"/>
            <a:ext cx="4366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7021800" y="2867040"/>
            <a:ext cx="456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15"/>
          <p:cNvGrpSpPr/>
          <p:nvPr/>
        </p:nvGrpSpPr>
        <p:grpSpPr>
          <a:xfrm>
            <a:off x="7528320" y="404640"/>
            <a:ext cx="1454400" cy="3124080"/>
            <a:chOff x="7528320" y="404640"/>
            <a:chExt cx="1454400" cy="3124080"/>
          </a:xfrm>
        </p:grpSpPr>
        <p:grpSp>
          <p:nvGrpSpPr>
            <p:cNvPr id="250" name="Group 16"/>
            <p:cNvGrpSpPr/>
            <p:nvPr/>
          </p:nvGrpSpPr>
          <p:grpSpPr>
            <a:xfrm>
              <a:off x="7602480" y="404640"/>
              <a:ext cx="1380240" cy="3124080"/>
              <a:chOff x="7602480" y="404640"/>
              <a:chExt cx="1380240" cy="3124080"/>
            </a:xfrm>
          </p:grpSpPr>
          <p:sp>
            <p:nvSpPr>
              <p:cNvPr id="251" name="Rectangle 17"/>
              <p:cNvSpPr/>
              <p:nvPr/>
            </p:nvSpPr>
            <p:spPr>
              <a:xfrm>
                <a:off x="7602480" y="404640"/>
                <a:ext cx="1295280" cy="3124080"/>
              </a:xfrm>
              <a:prstGeom prst="rect">
                <a:avLst/>
              </a:prstGeom>
              <a:gradFill rotWithShape="0">
                <a:gsLst>
                  <a:gs pos="0">
                    <a:srgbClr val="e9f7ff"/>
                  </a:gs>
                  <a:gs pos="100000">
                    <a:srgbClr val="e9f7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7602480" y="2766960"/>
                <a:ext cx="11430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8546040" y="2766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Line 20"/>
            <p:cNvSpPr/>
            <p:nvPr/>
          </p:nvSpPr>
          <p:spPr>
            <a:xfrm flipH="1" flipV="1">
              <a:off x="7602120" y="1090080"/>
              <a:ext cx="114300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7528320" y="723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22"/>
          <p:cNvSpPr/>
          <p:nvPr/>
        </p:nvSpPr>
        <p:spPr>
          <a:xfrm>
            <a:off x="694080" y="1428840"/>
            <a:ext cx="50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怎样的位置关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214200" y="278604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相等吗？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呢？能说明你的理由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203904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垂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1479960" y="39895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O=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3504600" y="39862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=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27"/>
          <p:cNvSpPr/>
          <p:nvPr/>
        </p:nvSpPr>
        <p:spPr>
          <a:xfrm>
            <a:off x="785880" y="5716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49"/>
          <p:cNvSpPr/>
          <p:nvPr/>
        </p:nvSpPr>
        <p:spPr>
          <a:xfrm>
            <a:off x="2745360" y="4786200"/>
            <a:ext cx="20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在折痕上另取一点，再试一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895480" y="3049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214200" y="78588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线段是轴对称图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5200560" y="3462480"/>
            <a:ext cx="266724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5204520" y="5824440"/>
            <a:ext cx="2658960" cy="382680"/>
            <a:chOff x="5204520" y="5824440"/>
            <a:chExt cx="2658960" cy="382680"/>
          </a:xfrm>
        </p:grpSpPr>
        <p:sp>
          <p:nvSpPr>
            <p:cNvPr id="267" name="Line 18"/>
            <p:cNvSpPr/>
            <p:nvPr/>
          </p:nvSpPr>
          <p:spPr>
            <a:xfrm>
              <a:off x="5352840" y="582444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5204520" y="5838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7530480" y="5824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Rectangle 22"/>
          <p:cNvSpPr/>
          <p:nvPr/>
        </p:nvSpPr>
        <p:spPr>
          <a:xfrm>
            <a:off x="6572160" y="346248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3505320" y="5105520"/>
            <a:ext cx="26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8"/>
          <p:cNvSpPr/>
          <p:nvPr/>
        </p:nvSpPr>
        <p:spPr>
          <a:xfrm flipH="1">
            <a:off x="5200560" y="5824440"/>
            <a:ext cx="152640" cy="15264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38"/>
          <p:cNvGrpSpPr/>
          <p:nvPr/>
        </p:nvGrpSpPr>
        <p:grpSpPr>
          <a:xfrm>
            <a:off x="6565680" y="3081240"/>
            <a:ext cx="920520" cy="3505320"/>
            <a:chOff x="6565680" y="3081240"/>
            <a:chExt cx="920520" cy="3505320"/>
          </a:xfrm>
        </p:grpSpPr>
        <p:grpSp>
          <p:nvGrpSpPr>
            <p:cNvPr id="274" name="Group 239"/>
            <p:cNvGrpSpPr/>
            <p:nvPr/>
          </p:nvGrpSpPr>
          <p:grpSpPr>
            <a:xfrm>
              <a:off x="6565680" y="3081240"/>
              <a:ext cx="920520" cy="3505320"/>
              <a:chOff x="6565680" y="3081240"/>
              <a:chExt cx="920520" cy="3505320"/>
            </a:xfrm>
          </p:grpSpPr>
          <p:sp>
            <p:nvSpPr>
              <p:cNvPr id="275" name="Freeform 240"/>
              <p:cNvSpPr/>
              <p:nvPr/>
            </p:nvSpPr>
            <p:spPr>
              <a:xfrm>
                <a:off x="6593760" y="3081240"/>
                <a:ext cx="892440" cy="3505320"/>
              </a:xfrm>
              <a:custGeom>
                <a:avLst/>
                <a:gdLst>
                  <a:gd name="textAreaLeft" fmla="*/ 0 w 892440"/>
                  <a:gd name="textAreaRight" fmla="*/ 892800 w 89244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241"/>
              <p:cNvSpPr/>
              <p:nvPr/>
            </p:nvSpPr>
            <p:spPr>
              <a:xfrm flipV="1">
                <a:off x="6565680" y="5497560"/>
                <a:ext cx="799920" cy="349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42"/>
            <p:cNvGrpSpPr/>
            <p:nvPr/>
          </p:nvGrpSpPr>
          <p:grpSpPr>
            <a:xfrm>
              <a:off x="6571800" y="5672160"/>
              <a:ext cx="235800" cy="228600"/>
              <a:chOff x="6571800" y="5672160"/>
              <a:chExt cx="235800" cy="228600"/>
            </a:xfrm>
          </p:grpSpPr>
          <p:sp>
            <p:nvSpPr>
              <p:cNvPr id="278" name="Line 243"/>
              <p:cNvSpPr/>
              <p:nvPr/>
            </p:nvSpPr>
            <p:spPr>
              <a:xfrm>
                <a:off x="6584400" y="567216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44"/>
              <p:cNvSpPr/>
              <p:nvPr/>
            </p:nvSpPr>
            <p:spPr>
              <a:xfrm flipH="1">
                <a:off x="6571440" y="5672160"/>
                <a:ext cx="235800" cy="22860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245"/>
          <p:cNvGrpSpPr/>
          <p:nvPr/>
        </p:nvGrpSpPr>
        <p:grpSpPr>
          <a:xfrm>
            <a:off x="6571800" y="2928960"/>
            <a:ext cx="305280" cy="3657600"/>
            <a:chOff x="6571800" y="2928960"/>
            <a:chExt cx="305280" cy="3657600"/>
          </a:xfrm>
        </p:grpSpPr>
        <p:grpSp>
          <p:nvGrpSpPr>
            <p:cNvPr id="281" name="Group 246"/>
            <p:cNvGrpSpPr/>
            <p:nvPr/>
          </p:nvGrpSpPr>
          <p:grpSpPr>
            <a:xfrm>
              <a:off x="6813000" y="2928960"/>
              <a:ext cx="64080" cy="3657600"/>
              <a:chOff x="6813000" y="2928960"/>
              <a:chExt cx="64080" cy="3657600"/>
            </a:xfrm>
          </p:grpSpPr>
          <p:sp>
            <p:nvSpPr>
              <p:cNvPr id="282" name="Freeform 247"/>
              <p:cNvSpPr/>
              <p:nvPr/>
            </p:nvSpPr>
            <p:spPr>
              <a:xfrm>
                <a:off x="6813000" y="2928960"/>
                <a:ext cx="64080" cy="36576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 flipV="1">
                <a:off x="6813000" y="5519160"/>
                <a:ext cx="3204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49"/>
            <p:cNvGrpSpPr/>
            <p:nvPr/>
          </p:nvGrpSpPr>
          <p:grpSpPr>
            <a:xfrm>
              <a:off x="6571800" y="5672160"/>
              <a:ext cx="50760" cy="228600"/>
              <a:chOff x="6571800" y="5672160"/>
              <a:chExt cx="50760" cy="228600"/>
            </a:xfrm>
          </p:grpSpPr>
          <p:sp>
            <p:nvSpPr>
              <p:cNvPr id="285" name="Line 250"/>
              <p:cNvSpPr/>
              <p:nvPr/>
            </p:nvSpPr>
            <p:spPr>
              <a:xfrm>
                <a:off x="6574320" y="567216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51"/>
              <p:cNvSpPr/>
              <p:nvPr/>
            </p:nvSpPr>
            <p:spPr>
              <a:xfrm flipH="1">
                <a:off x="6571440" y="5672160"/>
                <a:ext cx="50760" cy="22860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257"/>
          <p:cNvGrpSpPr/>
          <p:nvPr/>
        </p:nvGrpSpPr>
        <p:grpSpPr>
          <a:xfrm>
            <a:off x="5505480" y="2928960"/>
            <a:ext cx="1066680" cy="3657600"/>
            <a:chOff x="5505480" y="2928960"/>
            <a:chExt cx="1066680" cy="3657600"/>
          </a:xfrm>
        </p:grpSpPr>
        <p:grpSp>
          <p:nvGrpSpPr>
            <p:cNvPr id="288" name="Group 258"/>
            <p:cNvGrpSpPr/>
            <p:nvPr/>
          </p:nvGrpSpPr>
          <p:grpSpPr>
            <a:xfrm>
              <a:off x="5505480" y="2928960"/>
              <a:ext cx="1066680" cy="3657600"/>
              <a:chOff x="5505480" y="2928960"/>
              <a:chExt cx="1066680" cy="3657600"/>
            </a:xfrm>
          </p:grpSpPr>
          <p:sp>
            <p:nvSpPr>
              <p:cNvPr id="289" name="Freeform 259"/>
              <p:cNvSpPr/>
              <p:nvPr/>
            </p:nvSpPr>
            <p:spPr>
              <a:xfrm>
                <a:off x="5505480" y="292896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260"/>
              <p:cNvSpPr/>
              <p:nvPr/>
            </p:nvSpPr>
            <p:spPr>
              <a:xfrm flipH="1" flipV="1">
                <a:off x="5657760" y="519912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61"/>
            <p:cNvGrpSpPr/>
            <p:nvPr/>
          </p:nvGrpSpPr>
          <p:grpSpPr>
            <a:xfrm>
              <a:off x="6167520" y="5367240"/>
              <a:ext cx="241200" cy="276120"/>
              <a:chOff x="6167520" y="5367240"/>
              <a:chExt cx="241200" cy="276120"/>
            </a:xfrm>
          </p:grpSpPr>
          <p:sp>
            <p:nvSpPr>
              <p:cNvPr id="292" name="Line 262"/>
              <p:cNvSpPr/>
              <p:nvPr/>
            </p:nvSpPr>
            <p:spPr>
              <a:xfrm>
                <a:off x="6396120" y="536724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263"/>
              <p:cNvSpPr/>
              <p:nvPr/>
            </p:nvSpPr>
            <p:spPr>
              <a:xfrm>
                <a:off x="6167520" y="5367240"/>
                <a:ext cx="241200" cy="276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322"/>
          <p:cNvGrpSpPr/>
          <p:nvPr/>
        </p:nvGrpSpPr>
        <p:grpSpPr>
          <a:xfrm>
            <a:off x="5200560" y="3462480"/>
            <a:ext cx="1371600" cy="3124080"/>
            <a:chOff x="5200560" y="3462480"/>
            <a:chExt cx="1371600" cy="3124080"/>
          </a:xfrm>
        </p:grpSpPr>
        <p:grpSp>
          <p:nvGrpSpPr>
            <p:cNvPr id="295" name="Group 323"/>
            <p:cNvGrpSpPr/>
            <p:nvPr/>
          </p:nvGrpSpPr>
          <p:grpSpPr>
            <a:xfrm>
              <a:off x="5200560" y="3462480"/>
              <a:ext cx="1371600" cy="3124080"/>
              <a:chOff x="5200560" y="3462480"/>
              <a:chExt cx="1371600" cy="3124080"/>
            </a:xfrm>
          </p:grpSpPr>
          <p:sp>
            <p:nvSpPr>
              <p:cNvPr id="296" name="Freeform 324"/>
              <p:cNvSpPr/>
              <p:nvPr/>
            </p:nvSpPr>
            <p:spPr>
              <a:xfrm>
                <a:off x="5200560" y="346248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325"/>
              <p:cNvSpPr/>
              <p:nvPr/>
            </p:nvSpPr>
            <p:spPr>
              <a:xfrm flipH="1">
                <a:off x="5352480" y="582444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26"/>
            <p:cNvGrpSpPr/>
            <p:nvPr/>
          </p:nvGrpSpPr>
          <p:grpSpPr>
            <a:xfrm>
              <a:off x="5817960" y="6005520"/>
              <a:ext cx="241200" cy="275760"/>
              <a:chOff x="5817960" y="6005520"/>
              <a:chExt cx="241200" cy="275760"/>
            </a:xfrm>
          </p:grpSpPr>
          <p:sp>
            <p:nvSpPr>
              <p:cNvPr id="299" name="Line 327"/>
              <p:cNvSpPr/>
              <p:nvPr/>
            </p:nvSpPr>
            <p:spPr>
              <a:xfrm>
                <a:off x="6046560" y="6005520"/>
                <a:ext cx="0" cy="275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328"/>
              <p:cNvSpPr/>
              <p:nvPr/>
            </p:nvSpPr>
            <p:spPr>
              <a:xfrm>
                <a:off x="5817960" y="6005520"/>
                <a:ext cx="241200" cy="2757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Line 373"/>
          <p:cNvSpPr/>
          <p:nvPr/>
        </p:nvSpPr>
        <p:spPr>
          <a:xfrm flipH="1">
            <a:off x="3504960" y="4800600"/>
            <a:ext cx="152280" cy="15228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14"/>
          <p:cNvGrpSpPr/>
          <p:nvPr/>
        </p:nvGrpSpPr>
        <p:grpSpPr>
          <a:xfrm>
            <a:off x="4971960" y="3462480"/>
            <a:ext cx="1600200" cy="3124080"/>
            <a:chOff x="4971960" y="3462480"/>
            <a:chExt cx="1600200" cy="3124080"/>
          </a:xfrm>
        </p:grpSpPr>
        <p:grpSp>
          <p:nvGrpSpPr>
            <p:cNvPr id="303" name="Group 367"/>
            <p:cNvGrpSpPr/>
            <p:nvPr/>
          </p:nvGrpSpPr>
          <p:grpSpPr>
            <a:xfrm>
              <a:off x="5200560" y="3462480"/>
              <a:ext cx="1371600" cy="3124080"/>
              <a:chOff x="5200560" y="3462480"/>
              <a:chExt cx="1371600" cy="3124080"/>
            </a:xfrm>
          </p:grpSpPr>
          <p:sp>
            <p:nvSpPr>
              <p:cNvPr id="304" name="Freeform 368"/>
              <p:cNvSpPr/>
              <p:nvPr/>
            </p:nvSpPr>
            <p:spPr>
              <a:xfrm>
                <a:off x="5200560" y="346248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>
                      <a:alpha val="50196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369"/>
              <p:cNvSpPr/>
              <p:nvPr/>
            </p:nvSpPr>
            <p:spPr>
              <a:xfrm flipH="1">
                <a:off x="5352480" y="582444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Text Box 434"/>
            <p:cNvSpPr/>
            <p:nvPr/>
          </p:nvSpPr>
          <p:spPr>
            <a:xfrm>
              <a:off x="4971960" y="58244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72"/>
          <p:cNvGrpSpPr/>
          <p:nvPr/>
        </p:nvGrpSpPr>
        <p:grpSpPr>
          <a:xfrm>
            <a:off x="5505480" y="2928960"/>
            <a:ext cx="1066680" cy="3657600"/>
            <a:chOff x="5505480" y="2928960"/>
            <a:chExt cx="1066680" cy="3657600"/>
          </a:xfrm>
        </p:grpSpPr>
        <p:grpSp>
          <p:nvGrpSpPr>
            <p:cNvPr id="308" name="Group 473"/>
            <p:cNvGrpSpPr/>
            <p:nvPr/>
          </p:nvGrpSpPr>
          <p:grpSpPr>
            <a:xfrm>
              <a:off x="5505480" y="2928960"/>
              <a:ext cx="1066680" cy="3657600"/>
              <a:chOff x="5505480" y="2928960"/>
              <a:chExt cx="1066680" cy="3657600"/>
            </a:xfrm>
          </p:grpSpPr>
          <p:sp>
            <p:nvSpPr>
              <p:cNvPr id="309" name="Freeform 474"/>
              <p:cNvSpPr/>
              <p:nvPr/>
            </p:nvSpPr>
            <p:spPr>
              <a:xfrm>
                <a:off x="5505480" y="292896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75"/>
              <p:cNvSpPr/>
              <p:nvPr/>
            </p:nvSpPr>
            <p:spPr>
              <a:xfrm flipH="1" flipV="1">
                <a:off x="5657760" y="519912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476"/>
            <p:cNvGrpSpPr/>
            <p:nvPr/>
          </p:nvGrpSpPr>
          <p:grpSpPr>
            <a:xfrm>
              <a:off x="6167520" y="5367240"/>
              <a:ext cx="241200" cy="276120"/>
              <a:chOff x="6167520" y="5367240"/>
              <a:chExt cx="241200" cy="276120"/>
            </a:xfrm>
          </p:grpSpPr>
          <p:sp>
            <p:nvSpPr>
              <p:cNvPr id="312" name="Line 477"/>
              <p:cNvSpPr/>
              <p:nvPr/>
            </p:nvSpPr>
            <p:spPr>
              <a:xfrm>
                <a:off x="6396120" y="536724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478"/>
              <p:cNvSpPr/>
              <p:nvPr/>
            </p:nvSpPr>
            <p:spPr>
              <a:xfrm>
                <a:off x="6167520" y="5367240"/>
                <a:ext cx="241200" cy="276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481"/>
          <p:cNvGrpSpPr/>
          <p:nvPr/>
        </p:nvGrpSpPr>
        <p:grpSpPr>
          <a:xfrm>
            <a:off x="6191280" y="2928960"/>
            <a:ext cx="380520" cy="3657600"/>
            <a:chOff x="6191280" y="2928960"/>
            <a:chExt cx="380520" cy="3657600"/>
          </a:xfrm>
        </p:grpSpPr>
        <p:grpSp>
          <p:nvGrpSpPr>
            <p:cNvPr id="315" name="Group 482"/>
            <p:cNvGrpSpPr/>
            <p:nvPr/>
          </p:nvGrpSpPr>
          <p:grpSpPr>
            <a:xfrm>
              <a:off x="6191280" y="2928960"/>
              <a:ext cx="126720" cy="3657600"/>
              <a:chOff x="6191280" y="2928960"/>
              <a:chExt cx="126720" cy="3657600"/>
            </a:xfrm>
          </p:grpSpPr>
          <p:sp>
            <p:nvSpPr>
              <p:cNvPr id="316" name="Freeform 483"/>
              <p:cNvSpPr/>
              <p:nvPr/>
            </p:nvSpPr>
            <p:spPr>
              <a:xfrm>
                <a:off x="6191280" y="2928960"/>
                <a:ext cx="126720" cy="3657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484"/>
              <p:cNvSpPr/>
              <p:nvPr/>
            </p:nvSpPr>
            <p:spPr>
              <a:xfrm flipH="1" flipV="1">
                <a:off x="6225120" y="5421240"/>
                <a:ext cx="925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485"/>
            <p:cNvGrpSpPr/>
            <p:nvPr/>
          </p:nvGrpSpPr>
          <p:grpSpPr>
            <a:xfrm>
              <a:off x="6491520" y="5548320"/>
              <a:ext cx="80280" cy="276120"/>
              <a:chOff x="6491520" y="5548320"/>
              <a:chExt cx="80280" cy="276120"/>
            </a:xfrm>
          </p:grpSpPr>
          <p:sp>
            <p:nvSpPr>
              <p:cNvPr id="319" name="Line 486"/>
              <p:cNvSpPr/>
              <p:nvPr/>
            </p:nvSpPr>
            <p:spPr>
              <a:xfrm>
                <a:off x="6567480" y="554832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87"/>
              <p:cNvSpPr/>
              <p:nvPr/>
            </p:nvSpPr>
            <p:spPr>
              <a:xfrm>
                <a:off x="6491520" y="5548320"/>
                <a:ext cx="80280" cy="2761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499"/>
          <p:cNvGrpSpPr/>
          <p:nvPr/>
        </p:nvGrpSpPr>
        <p:grpSpPr>
          <a:xfrm>
            <a:off x="6565680" y="3081240"/>
            <a:ext cx="920520" cy="3505320"/>
            <a:chOff x="6565680" y="3081240"/>
            <a:chExt cx="920520" cy="3505320"/>
          </a:xfrm>
        </p:grpSpPr>
        <p:grpSp>
          <p:nvGrpSpPr>
            <p:cNvPr id="322" name="Group 500"/>
            <p:cNvGrpSpPr/>
            <p:nvPr/>
          </p:nvGrpSpPr>
          <p:grpSpPr>
            <a:xfrm>
              <a:off x="6565680" y="3081240"/>
              <a:ext cx="920520" cy="3505320"/>
              <a:chOff x="6565680" y="3081240"/>
              <a:chExt cx="920520" cy="3505320"/>
            </a:xfrm>
          </p:grpSpPr>
          <p:sp>
            <p:nvSpPr>
              <p:cNvPr id="323" name="Freeform 501"/>
              <p:cNvSpPr/>
              <p:nvPr/>
            </p:nvSpPr>
            <p:spPr>
              <a:xfrm>
                <a:off x="6593760" y="3081240"/>
                <a:ext cx="892440" cy="3505320"/>
              </a:xfrm>
              <a:custGeom>
                <a:avLst/>
                <a:gdLst>
                  <a:gd name="textAreaLeft" fmla="*/ 0 w 892440"/>
                  <a:gd name="textAreaRight" fmla="*/ 892800 w 89244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502"/>
              <p:cNvSpPr/>
              <p:nvPr/>
            </p:nvSpPr>
            <p:spPr>
              <a:xfrm flipV="1">
                <a:off x="6565680" y="5497560"/>
                <a:ext cx="799920" cy="349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03"/>
            <p:cNvGrpSpPr/>
            <p:nvPr/>
          </p:nvGrpSpPr>
          <p:grpSpPr>
            <a:xfrm>
              <a:off x="6571800" y="5672160"/>
              <a:ext cx="235800" cy="228600"/>
              <a:chOff x="6571800" y="5672160"/>
              <a:chExt cx="235800" cy="228600"/>
            </a:xfrm>
          </p:grpSpPr>
          <p:sp>
            <p:nvSpPr>
              <p:cNvPr id="326" name="Line 504"/>
              <p:cNvSpPr/>
              <p:nvPr/>
            </p:nvSpPr>
            <p:spPr>
              <a:xfrm>
                <a:off x="6584400" y="567216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505"/>
              <p:cNvSpPr/>
              <p:nvPr/>
            </p:nvSpPr>
            <p:spPr>
              <a:xfrm flipH="1">
                <a:off x="6571440" y="5672160"/>
                <a:ext cx="235800" cy="22860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508"/>
          <p:cNvGrpSpPr/>
          <p:nvPr/>
        </p:nvGrpSpPr>
        <p:grpSpPr>
          <a:xfrm>
            <a:off x="6572160" y="3462480"/>
            <a:ext cx="1327680" cy="3124080"/>
            <a:chOff x="6572160" y="3462480"/>
            <a:chExt cx="1327680" cy="3124080"/>
          </a:xfrm>
        </p:grpSpPr>
        <p:sp>
          <p:nvSpPr>
            <p:cNvPr id="329" name="Rectangle 509"/>
            <p:cNvSpPr/>
            <p:nvPr/>
          </p:nvSpPr>
          <p:spPr>
            <a:xfrm>
              <a:off x="6572160" y="3462480"/>
              <a:ext cx="1295280" cy="3124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510"/>
            <p:cNvSpPr/>
            <p:nvPr/>
          </p:nvSpPr>
          <p:spPr>
            <a:xfrm>
              <a:off x="6572160" y="5824440"/>
              <a:ext cx="1143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511"/>
            <p:cNvSpPr/>
            <p:nvPr/>
          </p:nvSpPr>
          <p:spPr>
            <a:xfrm>
              <a:off x="7566840" y="5824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Line 516"/>
          <p:cNvSpPr/>
          <p:nvPr/>
        </p:nvSpPr>
        <p:spPr>
          <a:xfrm>
            <a:off x="6572160" y="3462480"/>
            <a:ext cx="0" cy="3200400"/>
          </a:xfrm>
          <a:prstGeom prst="line">
            <a:avLst/>
          </a:prstGeom>
          <a:ln w="5724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518"/>
          <p:cNvGrpSpPr/>
          <p:nvPr/>
        </p:nvGrpSpPr>
        <p:grpSpPr>
          <a:xfrm>
            <a:off x="609480" y="857160"/>
            <a:ext cx="8177040" cy="1142640"/>
            <a:chOff x="609480" y="857160"/>
            <a:chExt cx="8177040" cy="1142640"/>
          </a:xfrm>
        </p:grpSpPr>
        <p:sp>
          <p:nvSpPr>
            <p:cNvPr id="334" name="Rectangle 515"/>
            <p:cNvSpPr/>
            <p:nvPr/>
          </p:nvSpPr>
          <p:spPr>
            <a:xfrm>
              <a:off x="4317480" y="857160"/>
              <a:ext cx="446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MS UI Gothic"/>
                  <a:ea typeface="MS UI Gothic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MS UI Gothic"/>
                  <a:ea typeface="MS UI Gothic"/>
                </a:rPr>
                <a:t>它的一条对称轴就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517"/>
            <p:cNvSpPr/>
            <p:nvPr/>
          </p:nvSpPr>
          <p:spPr>
            <a:xfrm>
              <a:off x="609480" y="1999800"/>
              <a:ext cx="5991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Rectangle 519"/>
          <p:cNvSpPr/>
          <p:nvPr/>
        </p:nvSpPr>
        <p:spPr>
          <a:xfrm>
            <a:off x="714240" y="1285920"/>
            <a:ext cx="74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对折后能使之完全重合的那条折痕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20"/>
          <p:cNvSpPr/>
          <p:nvPr/>
        </p:nvSpPr>
        <p:spPr>
          <a:xfrm>
            <a:off x="214200" y="221472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MS UI Gothic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MS UI Gothic"/>
              </a:rPr>
              <a:t>、线段的对称轴过线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MS UI Gothic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MS UI Gothic"/>
              </a:rPr>
              <a:t>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MS UI Gothic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MS UI Gothic"/>
              </a:rPr>
              <a:t>点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21"/>
          <p:cNvSpPr/>
          <p:nvPr/>
        </p:nvSpPr>
        <p:spPr>
          <a:xfrm>
            <a:off x="5715000" y="2143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522"/>
          <p:cNvSpPr/>
          <p:nvPr/>
        </p:nvSpPr>
        <p:spPr>
          <a:xfrm>
            <a:off x="6558120" y="5748480"/>
            <a:ext cx="90360" cy="9036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523"/>
          <p:cNvSpPr/>
          <p:nvPr/>
        </p:nvSpPr>
        <p:spPr>
          <a:xfrm>
            <a:off x="6467400" y="5824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24"/>
          <p:cNvSpPr/>
          <p:nvPr/>
        </p:nvSpPr>
        <p:spPr>
          <a:xfrm>
            <a:off x="214200" y="292896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eeece1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段的对称轴与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（位置关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525"/>
          <p:cNvSpPr/>
          <p:nvPr/>
        </p:nvSpPr>
        <p:spPr>
          <a:xfrm>
            <a:off x="92880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垂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527"/>
          <p:cNvSpPr/>
          <p:nvPr/>
        </p:nvSpPr>
        <p:spPr>
          <a:xfrm>
            <a:off x="6572160" y="567216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6" h="96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32"/>
          <p:cNvSpPr/>
          <p:nvPr/>
        </p:nvSpPr>
        <p:spPr>
          <a:xfrm>
            <a:off x="214200" y="421488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eeece1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段的对称轴上的任意一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到线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两端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,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距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535"/>
          <p:cNvGrpSpPr/>
          <p:nvPr/>
        </p:nvGrpSpPr>
        <p:grpSpPr>
          <a:xfrm>
            <a:off x="6306480" y="3691080"/>
            <a:ext cx="601200" cy="547200"/>
            <a:chOff x="6306480" y="3691080"/>
            <a:chExt cx="601200" cy="547200"/>
          </a:xfrm>
        </p:grpSpPr>
        <p:sp>
          <p:nvSpPr>
            <p:cNvPr id="346" name="Oval 533"/>
            <p:cNvSpPr/>
            <p:nvPr/>
          </p:nvSpPr>
          <p:spPr>
            <a:xfrm>
              <a:off x="6573600" y="4147920"/>
              <a:ext cx="90360" cy="9036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534"/>
            <p:cNvSpPr/>
            <p:nvPr/>
          </p:nvSpPr>
          <p:spPr>
            <a:xfrm>
              <a:off x="6306480" y="369108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Rectangle 539"/>
          <p:cNvSpPr/>
          <p:nvPr/>
        </p:nvSpPr>
        <p:spPr>
          <a:xfrm>
            <a:off x="142920" y="5072040"/>
            <a:ext cx="595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UI Gothic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40"/>
          <p:cNvSpPr/>
          <p:nvPr/>
        </p:nvSpPr>
        <p:spPr>
          <a:xfrm>
            <a:off x="5353200" y="4224240"/>
            <a:ext cx="2361960" cy="16002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88" h="1008">
                <a:moveTo>
                  <a:pt x="0" y="1008"/>
                </a:moveTo>
                <a:lnTo>
                  <a:pt x="768" y="0"/>
                </a:lnTo>
                <a:lnTo>
                  <a:pt x="1488" y="100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541"/>
          <p:cNvSpPr/>
          <p:nvPr/>
        </p:nvSpPr>
        <p:spPr>
          <a:xfrm>
            <a:off x="1547640" y="522936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MS UI Gothic"/>
              </a:rPr>
              <a:t>相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6"/>
          <p:cNvSpPr/>
          <p:nvPr/>
        </p:nvSpPr>
        <p:spPr>
          <a:xfrm>
            <a:off x="6010200" y="676440"/>
            <a:ext cx="266724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6014160" y="3038400"/>
            <a:ext cx="2658960" cy="382680"/>
            <a:chOff x="6014160" y="3038400"/>
            <a:chExt cx="2658960" cy="382680"/>
          </a:xfrm>
        </p:grpSpPr>
        <p:sp>
          <p:nvSpPr>
            <p:cNvPr id="353" name="Line 18"/>
            <p:cNvSpPr/>
            <p:nvPr/>
          </p:nvSpPr>
          <p:spPr>
            <a:xfrm>
              <a:off x="6162480" y="303840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9"/>
            <p:cNvSpPr/>
            <p:nvPr/>
          </p:nvSpPr>
          <p:spPr>
            <a:xfrm>
              <a:off x="6014160" y="3052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8340120" y="303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22"/>
          <p:cNvSpPr/>
          <p:nvPr/>
        </p:nvSpPr>
        <p:spPr>
          <a:xfrm>
            <a:off x="7381800" y="67644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505320" y="5105520"/>
            <a:ext cx="26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58"/>
          <p:cNvSpPr/>
          <p:nvPr/>
        </p:nvSpPr>
        <p:spPr>
          <a:xfrm flipH="1">
            <a:off x="6010200" y="3038400"/>
            <a:ext cx="152640" cy="15264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238"/>
          <p:cNvGrpSpPr/>
          <p:nvPr/>
        </p:nvGrpSpPr>
        <p:grpSpPr>
          <a:xfrm>
            <a:off x="7375320" y="295200"/>
            <a:ext cx="920520" cy="3505320"/>
            <a:chOff x="7375320" y="295200"/>
            <a:chExt cx="920520" cy="3505320"/>
          </a:xfrm>
        </p:grpSpPr>
        <p:grpSp>
          <p:nvGrpSpPr>
            <p:cNvPr id="360" name="Group 239"/>
            <p:cNvGrpSpPr/>
            <p:nvPr/>
          </p:nvGrpSpPr>
          <p:grpSpPr>
            <a:xfrm>
              <a:off x="7375320" y="295200"/>
              <a:ext cx="920520" cy="3505320"/>
              <a:chOff x="7375320" y="295200"/>
              <a:chExt cx="920520" cy="3505320"/>
            </a:xfrm>
          </p:grpSpPr>
          <p:sp>
            <p:nvSpPr>
              <p:cNvPr id="361" name="Freeform 240"/>
              <p:cNvSpPr/>
              <p:nvPr/>
            </p:nvSpPr>
            <p:spPr>
              <a:xfrm>
                <a:off x="7403400" y="295200"/>
                <a:ext cx="892440" cy="3505320"/>
              </a:xfrm>
              <a:custGeom>
                <a:avLst/>
                <a:gdLst>
                  <a:gd name="textAreaLeft" fmla="*/ 0 w 892440"/>
                  <a:gd name="textAreaRight" fmla="*/ 892800 w 89244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41"/>
              <p:cNvSpPr/>
              <p:nvPr/>
            </p:nvSpPr>
            <p:spPr>
              <a:xfrm flipV="1">
                <a:off x="7375320" y="2711520"/>
                <a:ext cx="799920" cy="349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42"/>
            <p:cNvGrpSpPr/>
            <p:nvPr/>
          </p:nvGrpSpPr>
          <p:grpSpPr>
            <a:xfrm>
              <a:off x="7381440" y="2886120"/>
              <a:ext cx="235800" cy="228600"/>
              <a:chOff x="7381440" y="2886120"/>
              <a:chExt cx="235800" cy="228600"/>
            </a:xfrm>
          </p:grpSpPr>
          <p:sp>
            <p:nvSpPr>
              <p:cNvPr id="364" name="Line 243"/>
              <p:cNvSpPr/>
              <p:nvPr/>
            </p:nvSpPr>
            <p:spPr>
              <a:xfrm>
                <a:off x="7394040" y="288612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44"/>
              <p:cNvSpPr/>
              <p:nvPr/>
            </p:nvSpPr>
            <p:spPr>
              <a:xfrm flipH="1">
                <a:off x="7381080" y="2886120"/>
                <a:ext cx="235800" cy="22860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245"/>
          <p:cNvGrpSpPr/>
          <p:nvPr/>
        </p:nvGrpSpPr>
        <p:grpSpPr>
          <a:xfrm>
            <a:off x="7381440" y="142920"/>
            <a:ext cx="305280" cy="3657600"/>
            <a:chOff x="7381440" y="142920"/>
            <a:chExt cx="305280" cy="3657600"/>
          </a:xfrm>
        </p:grpSpPr>
        <p:grpSp>
          <p:nvGrpSpPr>
            <p:cNvPr id="367" name="Group 246"/>
            <p:cNvGrpSpPr/>
            <p:nvPr/>
          </p:nvGrpSpPr>
          <p:grpSpPr>
            <a:xfrm>
              <a:off x="7622640" y="142920"/>
              <a:ext cx="64080" cy="3657600"/>
              <a:chOff x="7622640" y="142920"/>
              <a:chExt cx="64080" cy="3657600"/>
            </a:xfrm>
          </p:grpSpPr>
          <p:sp>
            <p:nvSpPr>
              <p:cNvPr id="368" name="Freeform 247"/>
              <p:cNvSpPr/>
              <p:nvPr/>
            </p:nvSpPr>
            <p:spPr>
              <a:xfrm>
                <a:off x="7622640" y="142920"/>
                <a:ext cx="64080" cy="36576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48"/>
              <p:cNvSpPr/>
              <p:nvPr/>
            </p:nvSpPr>
            <p:spPr>
              <a:xfrm flipV="1">
                <a:off x="7622640" y="2733120"/>
                <a:ext cx="3204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49"/>
            <p:cNvGrpSpPr/>
            <p:nvPr/>
          </p:nvGrpSpPr>
          <p:grpSpPr>
            <a:xfrm>
              <a:off x="7381440" y="2886120"/>
              <a:ext cx="50760" cy="228600"/>
              <a:chOff x="7381440" y="2886120"/>
              <a:chExt cx="50760" cy="228600"/>
            </a:xfrm>
          </p:grpSpPr>
          <p:sp>
            <p:nvSpPr>
              <p:cNvPr id="371" name="Line 250"/>
              <p:cNvSpPr/>
              <p:nvPr/>
            </p:nvSpPr>
            <p:spPr>
              <a:xfrm>
                <a:off x="7383960" y="288612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1"/>
              <p:cNvSpPr/>
              <p:nvPr/>
            </p:nvSpPr>
            <p:spPr>
              <a:xfrm flipH="1">
                <a:off x="7381080" y="2886120"/>
                <a:ext cx="50760" cy="22860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Group 257"/>
          <p:cNvGrpSpPr/>
          <p:nvPr/>
        </p:nvGrpSpPr>
        <p:grpSpPr>
          <a:xfrm>
            <a:off x="6315120" y="142920"/>
            <a:ext cx="1066680" cy="3657600"/>
            <a:chOff x="6315120" y="142920"/>
            <a:chExt cx="1066680" cy="3657600"/>
          </a:xfrm>
        </p:grpSpPr>
        <p:grpSp>
          <p:nvGrpSpPr>
            <p:cNvPr id="374" name="Group 258"/>
            <p:cNvGrpSpPr/>
            <p:nvPr/>
          </p:nvGrpSpPr>
          <p:grpSpPr>
            <a:xfrm>
              <a:off x="6315120" y="142920"/>
              <a:ext cx="1066680" cy="3657600"/>
              <a:chOff x="6315120" y="142920"/>
              <a:chExt cx="1066680" cy="3657600"/>
            </a:xfrm>
          </p:grpSpPr>
          <p:sp>
            <p:nvSpPr>
              <p:cNvPr id="375" name="Freeform 259"/>
              <p:cNvSpPr/>
              <p:nvPr/>
            </p:nvSpPr>
            <p:spPr>
              <a:xfrm>
                <a:off x="6315120" y="14292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60"/>
              <p:cNvSpPr/>
              <p:nvPr/>
            </p:nvSpPr>
            <p:spPr>
              <a:xfrm flipH="1" flipV="1">
                <a:off x="6467400" y="241308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61"/>
            <p:cNvGrpSpPr/>
            <p:nvPr/>
          </p:nvGrpSpPr>
          <p:grpSpPr>
            <a:xfrm>
              <a:off x="6977160" y="2581200"/>
              <a:ext cx="241200" cy="276120"/>
              <a:chOff x="6977160" y="2581200"/>
              <a:chExt cx="241200" cy="276120"/>
            </a:xfrm>
          </p:grpSpPr>
          <p:sp>
            <p:nvSpPr>
              <p:cNvPr id="378" name="Line 262"/>
              <p:cNvSpPr/>
              <p:nvPr/>
            </p:nvSpPr>
            <p:spPr>
              <a:xfrm>
                <a:off x="7205760" y="258120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3"/>
              <p:cNvSpPr/>
              <p:nvPr/>
            </p:nvSpPr>
            <p:spPr>
              <a:xfrm>
                <a:off x="6977160" y="2581200"/>
                <a:ext cx="241200" cy="276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322"/>
          <p:cNvGrpSpPr/>
          <p:nvPr/>
        </p:nvGrpSpPr>
        <p:grpSpPr>
          <a:xfrm>
            <a:off x="6010200" y="676440"/>
            <a:ext cx="1371600" cy="3124080"/>
            <a:chOff x="6010200" y="676440"/>
            <a:chExt cx="1371600" cy="3124080"/>
          </a:xfrm>
        </p:grpSpPr>
        <p:grpSp>
          <p:nvGrpSpPr>
            <p:cNvPr id="381" name="Group 323"/>
            <p:cNvGrpSpPr/>
            <p:nvPr/>
          </p:nvGrpSpPr>
          <p:grpSpPr>
            <a:xfrm>
              <a:off x="6010200" y="676440"/>
              <a:ext cx="1371600" cy="3124080"/>
              <a:chOff x="6010200" y="676440"/>
              <a:chExt cx="1371600" cy="3124080"/>
            </a:xfrm>
          </p:grpSpPr>
          <p:sp>
            <p:nvSpPr>
              <p:cNvPr id="382" name="Freeform 324"/>
              <p:cNvSpPr/>
              <p:nvPr/>
            </p:nvSpPr>
            <p:spPr>
              <a:xfrm>
                <a:off x="6010200" y="67644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325"/>
              <p:cNvSpPr/>
              <p:nvPr/>
            </p:nvSpPr>
            <p:spPr>
              <a:xfrm flipH="1">
                <a:off x="6162120" y="303840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326"/>
            <p:cNvGrpSpPr/>
            <p:nvPr/>
          </p:nvGrpSpPr>
          <p:grpSpPr>
            <a:xfrm>
              <a:off x="6627600" y="3219480"/>
              <a:ext cx="241200" cy="275760"/>
              <a:chOff x="6627600" y="3219480"/>
              <a:chExt cx="241200" cy="275760"/>
            </a:xfrm>
          </p:grpSpPr>
          <p:sp>
            <p:nvSpPr>
              <p:cNvPr id="385" name="Line 327"/>
              <p:cNvSpPr/>
              <p:nvPr/>
            </p:nvSpPr>
            <p:spPr>
              <a:xfrm>
                <a:off x="6856200" y="3219480"/>
                <a:ext cx="0" cy="275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328"/>
              <p:cNvSpPr/>
              <p:nvPr/>
            </p:nvSpPr>
            <p:spPr>
              <a:xfrm>
                <a:off x="6627600" y="3219480"/>
                <a:ext cx="241200" cy="2757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Line 373"/>
          <p:cNvSpPr/>
          <p:nvPr/>
        </p:nvSpPr>
        <p:spPr>
          <a:xfrm flipH="1">
            <a:off x="3504960" y="4800600"/>
            <a:ext cx="152280" cy="152280"/>
          </a:xfrm>
          <a:prstGeom prst="line">
            <a:avLst/>
          </a:prstGeom>
          <a:ln w="93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14"/>
          <p:cNvGrpSpPr/>
          <p:nvPr/>
        </p:nvGrpSpPr>
        <p:grpSpPr>
          <a:xfrm>
            <a:off x="5781600" y="676440"/>
            <a:ext cx="1600200" cy="3124080"/>
            <a:chOff x="5781600" y="676440"/>
            <a:chExt cx="1600200" cy="3124080"/>
          </a:xfrm>
        </p:grpSpPr>
        <p:grpSp>
          <p:nvGrpSpPr>
            <p:cNvPr id="389" name="Group 367"/>
            <p:cNvGrpSpPr/>
            <p:nvPr/>
          </p:nvGrpSpPr>
          <p:grpSpPr>
            <a:xfrm>
              <a:off x="6010200" y="676440"/>
              <a:ext cx="1371600" cy="3124080"/>
              <a:chOff x="6010200" y="676440"/>
              <a:chExt cx="1371600" cy="3124080"/>
            </a:xfrm>
          </p:grpSpPr>
          <p:sp>
            <p:nvSpPr>
              <p:cNvPr id="390" name="Freeform 368"/>
              <p:cNvSpPr/>
              <p:nvPr/>
            </p:nvSpPr>
            <p:spPr>
              <a:xfrm>
                <a:off x="6010200" y="67644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>
                      <a:alpha val="50196"/>
                    </a:srgbClr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69"/>
              <p:cNvSpPr/>
              <p:nvPr/>
            </p:nvSpPr>
            <p:spPr>
              <a:xfrm flipH="1">
                <a:off x="6162120" y="303840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Text Box 434"/>
            <p:cNvSpPr/>
            <p:nvPr/>
          </p:nvSpPr>
          <p:spPr>
            <a:xfrm>
              <a:off x="5781600" y="3038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472"/>
          <p:cNvGrpSpPr/>
          <p:nvPr/>
        </p:nvGrpSpPr>
        <p:grpSpPr>
          <a:xfrm>
            <a:off x="6315120" y="142920"/>
            <a:ext cx="1066680" cy="3657600"/>
            <a:chOff x="6315120" y="142920"/>
            <a:chExt cx="1066680" cy="3657600"/>
          </a:xfrm>
        </p:grpSpPr>
        <p:grpSp>
          <p:nvGrpSpPr>
            <p:cNvPr id="394" name="Group 473"/>
            <p:cNvGrpSpPr/>
            <p:nvPr/>
          </p:nvGrpSpPr>
          <p:grpSpPr>
            <a:xfrm>
              <a:off x="6315120" y="142920"/>
              <a:ext cx="1066680" cy="3657600"/>
              <a:chOff x="6315120" y="142920"/>
              <a:chExt cx="1066680" cy="3657600"/>
            </a:xfrm>
          </p:grpSpPr>
          <p:sp>
            <p:nvSpPr>
              <p:cNvPr id="395" name="Freeform 474"/>
              <p:cNvSpPr/>
              <p:nvPr/>
            </p:nvSpPr>
            <p:spPr>
              <a:xfrm>
                <a:off x="6315120" y="14292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475"/>
              <p:cNvSpPr/>
              <p:nvPr/>
            </p:nvSpPr>
            <p:spPr>
              <a:xfrm flipH="1" flipV="1">
                <a:off x="6467400" y="241308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476"/>
            <p:cNvGrpSpPr/>
            <p:nvPr/>
          </p:nvGrpSpPr>
          <p:grpSpPr>
            <a:xfrm>
              <a:off x="6977160" y="2581200"/>
              <a:ext cx="241200" cy="276120"/>
              <a:chOff x="6977160" y="2581200"/>
              <a:chExt cx="241200" cy="276120"/>
            </a:xfrm>
          </p:grpSpPr>
          <p:sp>
            <p:nvSpPr>
              <p:cNvPr id="398" name="Line 477"/>
              <p:cNvSpPr/>
              <p:nvPr/>
            </p:nvSpPr>
            <p:spPr>
              <a:xfrm>
                <a:off x="7205760" y="258120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478"/>
              <p:cNvSpPr/>
              <p:nvPr/>
            </p:nvSpPr>
            <p:spPr>
              <a:xfrm>
                <a:off x="6977160" y="2581200"/>
                <a:ext cx="241200" cy="276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481"/>
          <p:cNvGrpSpPr/>
          <p:nvPr/>
        </p:nvGrpSpPr>
        <p:grpSpPr>
          <a:xfrm>
            <a:off x="7000920" y="142920"/>
            <a:ext cx="380520" cy="3657600"/>
            <a:chOff x="7000920" y="142920"/>
            <a:chExt cx="380520" cy="3657600"/>
          </a:xfrm>
        </p:grpSpPr>
        <p:grpSp>
          <p:nvGrpSpPr>
            <p:cNvPr id="401" name="Group 482"/>
            <p:cNvGrpSpPr/>
            <p:nvPr/>
          </p:nvGrpSpPr>
          <p:grpSpPr>
            <a:xfrm>
              <a:off x="7000920" y="142920"/>
              <a:ext cx="126720" cy="3657600"/>
              <a:chOff x="7000920" y="142920"/>
              <a:chExt cx="126720" cy="3657600"/>
            </a:xfrm>
          </p:grpSpPr>
          <p:sp>
            <p:nvSpPr>
              <p:cNvPr id="402" name="Freeform 483"/>
              <p:cNvSpPr/>
              <p:nvPr/>
            </p:nvSpPr>
            <p:spPr>
              <a:xfrm>
                <a:off x="7000920" y="142920"/>
                <a:ext cx="126720" cy="3657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484"/>
              <p:cNvSpPr/>
              <p:nvPr/>
            </p:nvSpPr>
            <p:spPr>
              <a:xfrm flipH="1" flipV="1">
                <a:off x="7034760" y="2635200"/>
                <a:ext cx="925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485"/>
            <p:cNvGrpSpPr/>
            <p:nvPr/>
          </p:nvGrpSpPr>
          <p:grpSpPr>
            <a:xfrm>
              <a:off x="7301160" y="2762280"/>
              <a:ext cx="80280" cy="276120"/>
              <a:chOff x="7301160" y="2762280"/>
              <a:chExt cx="80280" cy="276120"/>
            </a:xfrm>
          </p:grpSpPr>
          <p:sp>
            <p:nvSpPr>
              <p:cNvPr id="405" name="Line 486"/>
              <p:cNvSpPr/>
              <p:nvPr/>
            </p:nvSpPr>
            <p:spPr>
              <a:xfrm>
                <a:off x="7377120" y="2762280"/>
                <a:ext cx="0" cy="276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487"/>
              <p:cNvSpPr/>
              <p:nvPr/>
            </p:nvSpPr>
            <p:spPr>
              <a:xfrm>
                <a:off x="7301160" y="2762280"/>
                <a:ext cx="80280" cy="2761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499"/>
          <p:cNvGrpSpPr/>
          <p:nvPr/>
        </p:nvGrpSpPr>
        <p:grpSpPr>
          <a:xfrm>
            <a:off x="7375320" y="295200"/>
            <a:ext cx="920520" cy="3505320"/>
            <a:chOff x="7375320" y="295200"/>
            <a:chExt cx="920520" cy="3505320"/>
          </a:xfrm>
        </p:grpSpPr>
        <p:grpSp>
          <p:nvGrpSpPr>
            <p:cNvPr id="408" name="Group 500"/>
            <p:cNvGrpSpPr/>
            <p:nvPr/>
          </p:nvGrpSpPr>
          <p:grpSpPr>
            <a:xfrm>
              <a:off x="7375320" y="295200"/>
              <a:ext cx="920520" cy="3505320"/>
              <a:chOff x="7375320" y="295200"/>
              <a:chExt cx="920520" cy="3505320"/>
            </a:xfrm>
          </p:grpSpPr>
          <p:sp>
            <p:nvSpPr>
              <p:cNvPr id="409" name="Freeform 501"/>
              <p:cNvSpPr/>
              <p:nvPr/>
            </p:nvSpPr>
            <p:spPr>
              <a:xfrm>
                <a:off x="7403400" y="295200"/>
                <a:ext cx="892440" cy="3505320"/>
              </a:xfrm>
              <a:custGeom>
                <a:avLst/>
                <a:gdLst>
                  <a:gd name="textAreaLeft" fmla="*/ 0 w 892440"/>
                  <a:gd name="textAreaRight" fmla="*/ 892800 w 892440"/>
                  <a:gd name="textAreaTop" fmla="*/ 0 h 3505320"/>
                  <a:gd name="textAreaBottom" fmla="*/ 3505680 h 350532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502"/>
              <p:cNvSpPr/>
              <p:nvPr/>
            </p:nvSpPr>
            <p:spPr>
              <a:xfrm flipV="1">
                <a:off x="7375320" y="2711520"/>
                <a:ext cx="799920" cy="349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503"/>
            <p:cNvGrpSpPr/>
            <p:nvPr/>
          </p:nvGrpSpPr>
          <p:grpSpPr>
            <a:xfrm>
              <a:off x="7381440" y="2886120"/>
              <a:ext cx="235800" cy="228600"/>
              <a:chOff x="7381440" y="2886120"/>
              <a:chExt cx="235800" cy="228600"/>
            </a:xfrm>
          </p:grpSpPr>
          <p:sp>
            <p:nvSpPr>
              <p:cNvPr id="412" name="Line 504"/>
              <p:cNvSpPr/>
              <p:nvPr/>
            </p:nvSpPr>
            <p:spPr>
              <a:xfrm>
                <a:off x="7394040" y="2886120"/>
                <a:ext cx="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505"/>
              <p:cNvSpPr/>
              <p:nvPr/>
            </p:nvSpPr>
            <p:spPr>
              <a:xfrm flipH="1">
                <a:off x="7381080" y="2886120"/>
                <a:ext cx="235800" cy="228600"/>
              </a:xfrm>
              <a:custGeom>
                <a:avLst/>
                <a:gdLst>
                  <a:gd name="textAreaLeft" fmla="*/ -360 w 235800"/>
                  <a:gd name="textAreaRight" fmla="*/ 235800 w 235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508"/>
          <p:cNvGrpSpPr/>
          <p:nvPr/>
        </p:nvGrpSpPr>
        <p:grpSpPr>
          <a:xfrm>
            <a:off x="7381800" y="676440"/>
            <a:ext cx="1327680" cy="3124080"/>
            <a:chOff x="7381800" y="676440"/>
            <a:chExt cx="1327680" cy="3124080"/>
          </a:xfrm>
        </p:grpSpPr>
        <p:sp>
          <p:nvSpPr>
            <p:cNvPr id="415" name="Rectangle 509"/>
            <p:cNvSpPr/>
            <p:nvPr/>
          </p:nvSpPr>
          <p:spPr>
            <a:xfrm>
              <a:off x="7381800" y="676440"/>
              <a:ext cx="1295280" cy="3124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510"/>
            <p:cNvSpPr/>
            <p:nvPr/>
          </p:nvSpPr>
          <p:spPr>
            <a:xfrm>
              <a:off x="7381800" y="3038400"/>
              <a:ext cx="1143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511"/>
            <p:cNvSpPr/>
            <p:nvPr/>
          </p:nvSpPr>
          <p:spPr>
            <a:xfrm>
              <a:off x="8376480" y="303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UI Gothic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Line 516"/>
          <p:cNvSpPr/>
          <p:nvPr/>
        </p:nvSpPr>
        <p:spPr>
          <a:xfrm>
            <a:off x="7381800" y="676440"/>
            <a:ext cx="0" cy="3200400"/>
          </a:xfrm>
          <a:prstGeom prst="line">
            <a:avLst/>
          </a:prstGeom>
          <a:ln w="5724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522"/>
          <p:cNvSpPr/>
          <p:nvPr/>
        </p:nvSpPr>
        <p:spPr>
          <a:xfrm>
            <a:off x="7367760" y="2962440"/>
            <a:ext cx="90360" cy="9036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523"/>
          <p:cNvSpPr/>
          <p:nvPr/>
        </p:nvSpPr>
        <p:spPr>
          <a:xfrm>
            <a:off x="7277040" y="3038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527"/>
          <p:cNvSpPr/>
          <p:nvPr/>
        </p:nvSpPr>
        <p:spPr>
          <a:xfrm>
            <a:off x="7381800" y="2886120"/>
            <a:ext cx="152640" cy="152280"/>
          </a:xfrm>
          <a:custGeom>
            <a:avLst/>
            <a:gdLst>
              <a:gd name="textAreaLeft" fmla="*/ 0 w 152640"/>
              <a:gd name="textAreaRight" fmla="*/ 153000 w 152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6" h="96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545"/>
          <p:cNvGrpSpPr/>
          <p:nvPr/>
        </p:nvGrpSpPr>
        <p:grpSpPr>
          <a:xfrm>
            <a:off x="142920" y="642960"/>
            <a:ext cx="5557680" cy="1084320"/>
            <a:chOff x="142920" y="642960"/>
            <a:chExt cx="5557680" cy="1084320"/>
          </a:xfrm>
        </p:grpSpPr>
        <p:sp>
          <p:nvSpPr>
            <p:cNvPr id="423" name="Freeform 529"/>
            <p:cNvSpPr/>
            <p:nvPr/>
          </p:nvSpPr>
          <p:spPr>
            <a:xfrm>
              <a:off x="142920" y="660600"/>
              <a:ext cx="5557680" cy="1066680"/>
            </a:xfrm>
            <a:custGeom>
              <a:avLst/>
              <a:gdLst>
                <a:gd name="textAreaLeft" fmla="*/ 0 w 5557680"/>
                <a:gd name="textAreaRight" fmla="*/ 5557680 w 5557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3501" h="864">
                  <a:moveTo>
                    <a:pt x="3501" y="448"/>
                  </a:moveTo>
                  <a:lnTo>
                    <a:pt x="3360" y="205"/>
                  </a:lnTo>
                  <a:lnTo>
                    <a:pt x="3363" y="358"/>
                  </a:lnTo>
                  <a:lnTo>
                    <a:pt x="3117" y="358"/>
                  </a:lnTo>
                  <a:lnTo>
                    <a:pt x="3120" y="0"/>
                  </a:lnTo>
                  <a:lnTo>
                    <a:pt x="0" y="0"/>
                  </a:lnTo>
                  <a:lnTo>
                    <a:pt x="0" y="864"/>
                  </a:lnTo>
                  <a:lnTo>
                    <a:pt x="3120" y="864"/>
                  </a:lnTo>
                  <a:lnTo>
                    <a:pt x="3117" y="525"/>
                  </a:lnTo>
                  <a:lnTo>
                    <a:pt x="3360" y="525"/>
                  </a:lnTo>
                  <a:lnTo>
                    <a:pt x="3363" y="666"/>
                  </a:lnTo>
                  <a:lnTo>
                    <a:pt x="3501" y="448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530"/>
            <p:cNvSpPr/>
            <p:nvPr/>
          </p:nvSpPr>
          <p:spPr>
            <a:xfrm>
              <a:off x="290160" y="642960"/>
              <a:ext cx="480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线段的对称轴经过线段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中点且垂直于这条线段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535"/>
          <p:cNvGrpSpPr/>
          <p:nvPr/>
        </p:nvGrpSpPr>
        <p:grpSpPr>
          <a:xfrm>
            <a:off x="7116120" y="905040"/>
            <a:ext cx="601200" cy="547200"/>
            <a:chOff x="7116120" y="905040"/>
            <a:chExt cx="601200" cy="547200"/>
          </a:xfrm>
        </p:grpSpPr>
        <p:sp>
          <p:nvSpPr>
            <p:cNvPr id="426" name="Oval 533"/>
            <p:cNvSpPr/>
            <p:nvPr/>
          </p:nvSpPr>
          <p:spPr>
            <a:xfrm>
              <a:off x="7383240" y="1361880"/>
              <a:ext cx="90720" cy="9036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534"/>
            <p:cNvSpPr/>
            <p:nvPr/>
          </p:nvSpPr>
          <p:spPr>
            <a:xfrm>
              <a:off x="7116120" y="90504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Freeform 540"/>
          <p:cNvSpPr/>
          <p:nvPr/>
        </p:nvSpPr>
        <p:spPr>
          <a:xfrm>
            <a:off x="6162840" y="1438200"/>
            <a:ext cx="2361960" cy="16002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88" h="1008">
                <a:moveTo>
                  <a:pt x="0" y="1008"/>
                </a:moveTo>
                <a:lnTo>
                  <a:pt x="768" y="0"/>
                </a:lnTo>
                <a:lnTo>
                  <a:pt x="1488" y="100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549"/>
          <p:cNvGrpSpPr/>
          <p:nvPr/>
        </p:nvGrpSpPr>
        <p:grpSpPr>
          <a:xfrm>
            <a:off x="214200" y="2428920"/>
            <a:ext cx="5557680" cy="1517040"/>
            <a:chOff x="214200" y="2428920"/>
            <a:chExt cx="5557680" cy="1517040"/>
          </a:xfrm>
        </p:grpSpPr>
        <p:sp>
          <p:nvSpPr>
            <p:cNvPr id="430" name="Text Box 23"/>
            <p:cNvSpPr/>
            <p:nvPr/>
          </p:nvSpPr>
          <p:spPr>
            <a:xfrm>
              <a:off x="2971800" y="3180240"/>
              <a:ext cx="457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547"/>
            <p:cNvSpPr/>
            <p:nvPr/>
          </p:nvSpPr>
          <p:spPr>
            <a:xfrm>
              <a:off x="214200" y="2428920"/>
              <a:ext cx="5557680" cy="1517040"/>
            </a:xfrm>
            <a:custGeom>
              <a:avLst/>
              <a:gdLst>
                <a:gd name="textAreaLeft" fmla="*/ 0 w 5557680"/>
                <a:gd name="textAreaRight" fmla="*/ 5557680 w 5557680"/>
                <a:gd name="textAreaTop" fmla="*/ 0 h 1517040"/>
                <a:gd name="textAreaBottom" fmla="*/ 1517400 h 1517040"/>
              </a:gdLst>
              <a:ahLst/>
              <a:rect l="textAreaLeft" t="textAreaTop" r="textAreaRight" b="textAreaBottom"/>
              <a:pathLst>
                <a:path w="3501" h="864">
                  <a:moveTo>
                    <a:pt x="3501" y="448"/>
                  </a:moveTo>
                  <a:lnTo>
                    <a:pt x="3360" y="205"/>
                  </a:lnTo>
                  <a:lnTo>
                    <a:pt x="3363" y="358"/>
                  </a:lnTo>
                  <a:lnTo>
                    <a:pt x="3117" y="358"/>
                  </a:lnTo>
                  <a:lnTo>
                    <a:pt x="3120" y="0"/>
                  </a:lnTo>
                  <a:lnTo>
                    <a:pt x="0" y="0"/>
                  </a:lnTo>
                  <a:lnTo>
                    <a:pt x="0" y="864"/>
                  </a:lnTo>
                  <a:lnTo>
                    <a:pt x="3120" y="864"/>
                  </a:lnTo>
                  <a:lnTo>
                    <a:pt x="3117" y="525"/>
                  </a:lnTo>
                  <a:lnTo>
                    <a:pt x="3360" y="525"/>
                  </a:lnTo>
                  <a:lnTo>
                    <a:pt x="3363" y="666"/>
                  </a:lnTo>
                  <a:lnTo>
                    <a:pt x="3501" y="44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548"/>
            <p:cNvSpPr/>
            <p:nvPr/>
          </p:nvSpPr>
          <p:spPr>
            <a:xfrm>
              <a:off x="214200" y="2428920"/>
              <a:ext cx="54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线段的对称轴上任意一点到这条线段的两端点的距离相等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8:57Z</dcterms:modified>
  <cp:revision>28</cp:revision>
  <dc:subject/>
  <dc:title>幻灯片 1</dc:title>
</cp:coreProperties>
</file>