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5.jpeg" ContentType="image/jpeg"/>
  <Override PartName="/ppt/media/image14.gif" ContentType="image/gif"/>
  <Override PartName="/ppt/media/image9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16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32E-B588-40D1-983A-4A52594CB8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2B4-494E-4A79-A9ED-65A7F0F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2DA-AA94-4B3B-917D-882746BA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7AE-7C81-4598-BD0F-6CB7AE39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CEF-BC92-4B06-A2AC-CBCAA631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59F-4476-4010-AC26-59B4F95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4BB-C478-4B26-8B27-6B5E292F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079-0162-43F7-8F38-84387939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103-C5CE-4DF6-8804-95B46B9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1BC-3F20-4C26-94FD-0D5A479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2B4-3D99-46E6-A1FD-7A08E2E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F0B-1F7F-4446-9974-C33D8530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40F-B08A-483B-8AFF-0D893F6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47F5-17E1-4C61-8F17-A9FBC2AABD12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五章  生活中的轴对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6370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简单的轴对称图形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16040" y="4292640"/>
            <a:ext cx="66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山东省青岛市第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中学    刘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6594480" y="260280"/>
            <a:ext cx="2547720" cy="3895560"/>
            <a:chOff x="6594480" y="260280"/>
            <a:chExt cx="2547720" cy="3895560"/>
          </a:xfrm>
        </p:grpSpPr>
        <p:grpSp>
          <p:nvGrpSpPr>
            <p:cNvPr id="53" name="Group 9"/>
            <p:cNvGrpSpPr/>
            <p:nvPr/>
          </p:nvGrpSpPr>
          <p:grpSpPr>
            <a:xfrm>
              <a:off x="6594480" y="260280"/>
              <a:ext cx="2547720" cy="3843360"/>
              <a:chOff x="6594480" y="260280"/>
              <a:chExt cx="2547720" cy="3843360"/>
            </a:xfrm>
          </p:grpSpPr>
          <p:sp>
            <p:nvSpPr>
              <p:cNvPr id="54" name="Freeform 10"/>
              <p:cNvSpPr/>
              <p:nvPr/>
            </p:nvSpPr>
            <p:spPr>
              <a:xfrm>
                <a:off x="7074720" y="616320"/>
                <a:ext cx="1681200" cy="1726560"/>
              </a:xfrm>
              <a:prstGeom prst="pie">
                <a:avLst/>
              </a:pr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>
                <a:off x="7074720" y="2324160"/>
                <a:ext cx="1621440" cy="996480"/>
              </a:xfrm>
              <a:prstGeom prst="pie">
                <a:avLst/>
              </a:pr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7854840" y="686880"/>
                <a:ext cx="118800" cy="3416760"/>
              </a:xfrm>
              <a:prstGeom prst="pie">
                <a:avLst/>
              </a:prstGeom>
              <a:solidFill>
                <a:srgbClr val="ff33cc"/>
              </a:solidFill>
              <a:ln w="22320">
                <a:solidFill>
                  <a:srgbClr val="ff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13"/>
              <p:cNvSpPr/>
              <p:nvPr/>
            </p:nvSpPr>
            <p:spPr>
              <a:xfrm>
                <a:off x="7916760" y="260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14"/>
              <p:cNvSpPr/>
              <p:nvPr/>
            </p:nvSpPr>
            <p:spPr>
              <a:xfrm>
                <a:off x="6594480" y="225324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15"/>
              <p:cNvSpPr/>
              <p:nvPr/>
            </p:nvSpPr>
            <p:spPr>
              <a:xfrm>
                <a:off x="8758800" y="2324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16"/>
              <p:cNvSpPr/>
              <p:nvPr/>
            </p:nvSpPr>
            <p:spPr>
              <a:xfrm>
                <a:off x="7917480" y="3320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" name="Text Box 17"/>
            <p:cNvSpPr/>
            <p:nvPr/>
          </p:nvSpPr>
          <p:spPr>
            <a:xfrm>
              <a:off x="8139240" y="3696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20"/>
          <p:cNvGrpSpPr/>
          <p:nvPr/>
        </p:nvGrpSpPr>
        <p:grpSpPr>
          <a:xfrm>
            <a:off x="108000" y="3357720"/>
            <a:ext cx="2489040" cy="2646360"/>
            <a:chOff x="108000" y="3357720"/>
            <a:chExt cx="2489040" cy="2646360"/>
          </a:xfrm>
        </p:grpSpPr>
        <p:sp>
          <p:nvSpPr>
            <p:cNvPr id="63" name="AutoShape 19"/>
            <p:cNvSpPr/>
            <p:nvPr/>
          </p:nvSpPr>
          <p:spPr>
            <a:xfrm>
              <a:off x="108000" y="3357720"/>
              <a:ext cx="2489040" cy="26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 flipH="1">
              <a:off x="144360" y="3419640"/>
              <a:ext cx="2219040" cy="142056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2363760" y="3419640"/>
              <a:ext cx="0" cy="220500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 flipH="1">
              <a:off x="855000" y="3419640"/>
              <a:ext cx="1508040" cy="254772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1309680" y="4092480"/>
              <a:ext cx="342360" cy="527040"/>
            </a:xfrm>
            <a:prstGeom prst="line">
              <a:avLst/>
            </a:prstGeom>
            <a:ln w="2376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 flipH="1">
              <a:off x="1652040" y="4619520"/>
              <a:ext cx="711000" cy="0"/>
            </a:xfrm>
            <a:prstGeom prst="line">
              <a:avLst/>
            </a:prstGeom>
            <a:ln w="2376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 flipV="1">
              <a:off x="1382400" y="4141800"/>
              <a:ext cx="110880" cy="6192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 flipH="1" flipV="1">
              <a:off x="1419120" y="4019400"/>
              <a:ext cx="74160" cy="1220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 flipH="1">
              <a:off x="2241000" y="4497480"/>
              <a:ext cx="122040" cy="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2241360" y="4497480"/>
              <a:ext cx="0" cy="1220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2340000" y="3394080"/>
              <a:ext cx="5976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31"/>
            <p:cNvSpPr/>
            <p:nvPr/>
          </p:nvSpPr>
          <p:spPr>
            <a:xfrm>
              <a:off x="2411640" y="33940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1628640" y="4594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1679400" y="465624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2340000" y="4594320"/>
              <a:ext cx="5976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2436480" y="454680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1285560" y="406872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37"/>
            <p:cNvSpPr/>
            <p:nvPr/>
          </p:nvSpPr>
          <p:spPr>
            <a:xfrm>
              <a:off x="1209240" y="388476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0880" y="7794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知：如图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平分线，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⊥O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⊥O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垂足分别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47640" y="170028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=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24000" y="21337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证明：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⊥O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⊥O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=∠PEO=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3429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609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=P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全等三角形的对应边相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116000" y="407664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DO= ∠ PEO ∠ AOC= ∠ BOC OP=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84360" y="5445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 △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≌ △ PE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A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1042920" y="429264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5076720" y="3068640"/>
            <a:ext cx="3571200" cy="2593080"/>
            <a:chOff x="5076720" y="3068640"/>
            <a:chExt cx="3571200" cy="2593080"/>
          </a:xfrm>
        </p:grpSpPr>
        <p:sp>
          <p:nvSpPr>
            <p:cNvPr id="200" name="Text Box 12"/>
            <p:cNvSpPr/>
            <p:nvPr/>
          </p:nvSpPr>
          <p:spPr>
            <a:xfrm>
              <a:off x="6445080" y="3355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7381800" y="4363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14"/>
            <p:cNvGrpSpPr/>
            <p:nvPr/>
          </p:nvGrpSpPr>
          <p:grpSpPr>
            <a:xfrm>
              <a:off x="7021080" y="4435560"/>
              <a:ext cx="762120" cy="1189080"/>
              <a:chOff x="7021080" y="4435560"/>
              <a:chExt cx="762120" cy="1189080"/>
            </a:xfrm>
          </p:grpSpPr>
          <p:sp>
            <p:nvSpPr>
              <p:cNvPr id="203" name="Line 15"/>
              <p:cNvSpPr/>
              <p:nvPr/>
            </p:nvSpPr>
            <p:spPr>
              <a:xfrm>
                <a:off x="7250040" y="4435560"/>
                <a:ext cx="0" cy="729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Text Box 16"/>
              <p:cNvSpPr/>
              <p:nvPr/>
            </p:nvSpPr>
            <p:spPr>
              <a:xfrm>
                <a:off x="7173720" y="5164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17"/>
              <p:cNvSpPr/>
              <p:nvPr/>
            </p:nvSpPr>
            <p:spPr>
              <a:xfrm flipH="1">
                <a:off x="7021080" y="4921920"/>
                <a:ext cx="228600" cy="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18"/>
              <p:cNvSpPr/>
              <p:nvPr/>
            </p:nvSpPr>
            <p:spPr>
              <a:xfrm>
                <a:off x="7021440" y="4921920"/>
                <a:ext cx="0" cy="2430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9"/>
            <p:cNvGrpSpPr/>
            <p:nvPr/>
          </p:nvGrpSpPr>
          <p:grpSpPr>
            <a:xfrm>
              <a:off x="5076720" y="3068640"/>
              <a:ext cx="3429000" cy="2593080"/>
              <a:chOff x="5076720" y="3068640"/>
              <a:chExt cx="3429000" cy="2593080"/>
            </a:xfrm>
          </p:grpSpPr>
          <p:sp>
            <p:nvSpPr>
              <p:cNvPr id="208" name="Line 20"/>
              <p:cNvSpPr/>
              <p:nvPr/>
            </p:nvSpPr>
            <p:spPr>
              <a:xfrm flipH="1">
                <a:off x="5381280" y="3297240"/>
                <a:ext cx="1904760" cy="190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21"/>
              <p:cNvSpPr/>
              <p:nvPr/>
            </p:nvSpPr>
            <p:spPr>
              <a:xfrm>
                <a:off x="5381640" y="5202000"/>
                <a:ext cx="2666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Text Box 22"/>
              <p:cNvSpPr/>
              <p:nvPr/>
            </p:nvSpPr>
            <p:spPr>
              <a:xfrm>
                <a:off x="7286400" y="3068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Text Box 23"/>
              <p:cNvSpPr/>
              <p:nvPr/>
            </p:nvSpPr>
            <p:spPr>
              <a:xfrm>
                <a:off x="5076720" y="5126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Text Box 24"/>
              <p:cNvSpPr/>
              <p:nvPr/>
            </p:nvSpPr>
            <p:spPr>
              <a:xfrm>
                <a:off x="7972200" y="520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25"/>
            <p:cNvSpPr/>
            <p:nvPr/>
          </p:nvSpPr>
          <p:spPr>
            <a:xfrm flipH="1" flipV="1">
              <a:off x="6733800" y="3858840"/>
              <a:ext cx="503280" cy="576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>
              <a:off x="6588000" y="4003560"/>
              <a:ext cx="14292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 flipV="1">
              <a:off x="6732360" y="4003560"/>
              <a:ext cx="14436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 flipV="1">
              <a:off x="5365440" y="4076280"/>
              <a:ext cx="280836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29"/>
            <p:cNvSpPr/>
            <p:nvPr/>
          </p:nvSpPr>
          <p:spPr>
            <a:xfrm>
              <a:off x="8247600" y="385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Arc 30"/>
            <p:cNvSpPr/>
            <p:nvPr/>
          </p:nvSpPr>
          <p:spPr>
            <a:xfrm>
              <a:off x="5868720" y="4724280"/>
              <a:ext cx="144360" cy="216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Arc 31"/>
            <p:cNvSpPr/>
            <p:nvPr/>
          </p:nvSpPr>
          <p:spPr>
            <a:xfrm>
              <a:off x="6013080" y="5011560"/>
              <a:ext cx="71640" cy="216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Rectangle 32"/>
          <p:cNvSpPr/>
          <p:nvPr/>
        </p:nvSpPr>
        <p:spPr>
          <a:xfrm>
            <a:off x="507960" y="18900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验证猜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3695040" y="18900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角的平分线上的点到角的两边的距离相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427640" y="189000"/>
            <a:ext cx="4464000" cy="2303280"/>
          </a:xfrm>
          <a:prstGeom prst="cloudCallout">
            <a:avLst>
              <a:gd name="adj1" fmla="val -24393"/>
              <a:gd name="adj2" fmla="val 76879"/>
            </a:avLst>
          </a:prstGeom>
          <a:solidFill>
            <a:srgbClr val="876a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角平分线上的点到角两边的距离相等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3" descr="j0285636"/>
          <p:cNvPicPr/>
          <p:nvPr/>
        </p:nvPicPr>
        <p:blipFill>
          <a:blip r:embed="rId2"/>
          <a:stretch/>
        </p:blipFill>
        <p:spPr>
          <a:xfrm>
            <a:off x="3708360" y="3213000"/>
            <a:ext cx="1814400" cy="1605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 flipH="1" rot="21575400">
            <a:off x="-360" y="620640"/>
            <a:ext cx="3772080" cy="2160720"/>
          </a:xfrm>
          <a:prstGeom prst="cloudCallout">
            <a:avLst>
              <a:gd name="adj1" fmla="val -45143"/>
              <a:gd name="adj2" fmla="val 84125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得到角平分线的性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268360" y="4869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此性质怎样书写推理过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角平分线的性质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黑体"/>
              </a:rPr>
              <a:t>定理：角的平分线上的点到角的两边的距离相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198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符号语言表示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33520" y="3048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5024520" y="3720960"/>
            <a:ext cx="350496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723420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5024520" y="2577960"/>
            <a:ext cx="3733560" cy="2133720"/>
            <a:chOff x="5024520" y="2577960"/>
            <a:chExt cx="3733560" cy="2133720"/>
          </a:xfrm>
        </p:grpSpPr>
        <p:sp>
          <p:nvSpPr>
            <p:cNvPr id="233" name="Line 9"/>
            <p:cNvSpPr/>
            <p:nvPr/>
          </p:nvSpPr>
          <p:spPr>
            <a:xfrm flipH="1">
              <a:off x="5024520" y="2577960"/>
              <a:ext cx="304776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5024520" y="4711680"/>
              <a:ext cx="3733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Text Box 11"/>
          <p:cNvSpPr/>
          <p:nvPr/>
        </p:nvSpPr>
        <p:spPr>
          <a:xfrm>
            <a:off x="7767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643280" y="4483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8459640" y="4700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7310520" y="364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15"/>
          <p:cNvGrpSpPr/>
          <p:nvPr/>
        </p:nvGrpSpPr>
        <p:grpSpPr>
          <a:xfrm>
            <a:off x="7077240" y="4025880"/>
            <a:ext cx="461520" cy="1145520"/>
            <a:chOff x="7077240" y="4025880"/>
            <a:chExt cx="461520" cy="1145520"/>
          </a:xfrm>
        </p:grpSpPr>
        <p:sp>
          <p:nvSpPr>
            <p:cNvPr id="240" name="Text Box 16"/>
            <p:cNvSpPr/>
            <p:nvPr/>
          </p:nvSpPr>
          <p:spPr>
            <a:xfrm>
              <a:off x="7081920" y="4711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077240" y="4025880"/>
              <a:ext cx="233280" cy="685800"/>
              <a:chOff x="7077240" y="4025880"/>
              <a:chExt cx="233280" cy="685800"/>
            </a:xfrm>
          </p:grpSpPr>
          <p:sp>
            <p:nvSpPr>
              <p:cNvPr id="242" name="Line 18"/>
              <p:cNvSpPr/>
              <p:nvPr/>
            </p:nvSpPr>
            <p:spPr>
              <a:xfrm>
                <a:off x="7310520" y="4025880"/>
                <a:ext cx="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Group 19"/>
              <p:cNvGrpSpPr/>
              <p:nvPr/>
            </p:nvGrpSpPr>
            <p:grpSpPr>
              <a:xfrm>
                <a:off x="7077240" y="4454640"/>
                <a:ext cx="199800" cy="242640"/>
                <a:chOff x="7077240" y="4454640"/>
                <a:chExt cx="199800" cy="242640"/>
              </a:xfrm>
            </p:grpSpPr>
            <p:sp>
              <p:nvSpPr>
                <p:cNvPr id="244" name="Freeform 20"/>
                <p:cNvSpPr/>
                <p:nvPr/>
              </p:nvSpPr>
              <p:spPr>
                <a:xfrm>
                  <a:off x="7077240" y="4454640"/>
                  <a:ext cx="199800" cy="29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21"/>
                <p:cNvSpPr/>
                <p:nvPr/>
              </p:nvSpPr>
              <p:spPr>
                <a:xfrm>
                  <a:off x="7081920" y="4483080"/>
                  <a:ext cx="13680" cy="214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6" name="Group 22"/>
          <p:cNvGrpSpPr/>
          <p:nvPr/>
        </p:nvGrpSpPr>
        <p:grpSpPr>
          <a:xfrm>
            <a:off x="6624720" y="3035160"/>
            <a:ext cx="685440" cy="990360"/>
            <a:chOff x="6624720" y="3035160"/>
            <a:chExt cx="685440" cy="990360"/>
          </a:xfrm>
        </p:grpSpPr>
        <p:grpSp>
          <p:nvGrpSpPr>
            <p:cNvPr id="247" name="Group 23"/>
            <p:cNvGrpSpPr/>
            <p:nvPr/>
          </p:nvGrpSpPr>
          <p:grpSpPr>
            <a:xfrm>
              <a:off x="6624720" y="3035160"/>
              <a:ext cx="685440" cy="990360"/>
              <a:chOff x="6624720" y="3035160"/>
              <a:chExt cx="685440" cy="990360"/>
            </a:xfrm>
          </p:grpSpPr>
          <p:sp>
            <p:nvSpPr>
              <p:cNvPr id="248" name="Line 24"/>
              <p:cNvSpPr/>
              <p:nvPr/>
            </p:nvSpPr>
            <p:spPr>
              <a:xfrm flipH="1" flipV="1">
                <a:off x="6928920" y="3339720"/>
                <a:ext cx="38124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25"/>
              <p:cNvSpPr/>
              <p:nvPr/>
            </p:nvSpPr>
            <p:spPr>
              <a:xfrm>
                <a:off x="6624720" y="30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6"/>
            <p:cNvGrpSpPr/>
            <p:nvPr/>
          </p:nvGrpSpPr>
          <p:grpSpPr>
            <a:xfrm>
              <a:off x="6748560" y="3568320"/>
              <a:ext cx="333360" cy="152280"/>
              <a:chOff x="6748560" y="3568320"/>
              <a:chExt cx="333360" cy="152280"/>
            </a:xfrm>
          </p:grpSpPr>
          <p:sp>
            <p:nvSpPr>
              <p:cNvPr id="251" name="Freeform 27"/>
              <p:cNvSpPr/>
              <p:nvPr/>
            </p:nvSpPr>
            <p:spPr>
              <a:xfrm>
                <a:off x="6748560" y="3568680"/>
                <a:ext cx="85680" cy="14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Line 28"/>
              <p:cNvSpPr/>
              <p:nvPr/>
            </p:nvSpPr>
            <p:spPr>
              <a:xfrm flipV="1">
                <a:off x="6853320" y="3568320"/>
                <a:ext cx="228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Freeform 29"/>
          <p:cNvSpPr/>
          <p:nvPr/>
        </p:nvSpPr>
        <p:spPr>
          <a:xfrm>
            <a:off x="5481720" y="4330800"/>
            <a:ext cx="266760" cy="3808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0"/>
          <p:cNvSpPr/>
          <p:nvPr/>
        </p:nvSpPr>
        <p:spPr>
          <a:xfrm>
            <a:off x="5710320" y="4102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786280" y="433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2"/>
          <p:cNvSpPr/>
          <p:nvPr/>
        </p:nvSpPr>
        <p:spPr>
          <a:xfrm>
            <a:off x="324000" y="2637000"/>
            <a:ext cx="4608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∵  ∠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= ∠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D ⊥OA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E ⊥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D=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角的平分线上的点到角的两边的距离相等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33"/>
          <p:cNvSpPr/>
          <p:nvPr/>
        </p:nvSpPr>
        <p:spPr>
          <a:xfrm>
            <a:off x="3564000" y="1989000"/>
            <a:ext cx="3456000" cy="1143000"/>
          </a:xfrm>
          <a:prstGeom prst="wedgeEllipseCallout">
            <a:avLst>
              <a:gd name="adj1" fmla="val -87574"/>
              <a:gd name="adj2" fmla="val 81944"/>
            </a:avLst>
          </a:prstGeom>
          <a:solidFill>
            <a:srgbClr val="ccffcc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推理的理由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三个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必须写完全，不能少了任何一个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34"/>
          <p:cNvSpPr/>
          <p:nvPr/>
        </p:nvSpPr>
        <p:spPr>
          <a:xfrm>
            <a:off x="826920" y="270828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979640" y="33336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角平分线的性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4360" y="1125360"/>
            <a:ext cx="7092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方正隶书简体"/>
              </a:rPr>
              <a:t>角的平分线上的点到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427640" y="1897200"/>
            <a:ext cx="4190400" cy="2974320"/>
            <a:chOff x="4427640" y="1897200"/>
            <a:chExt cx="4190400" cy="2974320"/>
          </a:xfrm>
        </p:grpSpPr>
        <p:sp>
          <p:nvSpPr>
            <p:cNvPr id="262" name="Line 5"/>
            <p:cNvSpPr/>
            <p:nvPr/>
          </p:nvSpPr>
          <p:spPr>
            <a:xfrm>
              <a:off x="6865560" y="2506680"/>
              <a:ext cx="7596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 flipV="1">
              <a:off x="6941880" y="2582640"/>
              <a:ext cx="15192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7"/>
            <p:cNvGrpSpPr/>
            <p:nvPr/>
          </p:nvGrpSpPr>
          <p:grpSpPr>
            <a:xfrm>
              <a:off x="4427640" y="1897200"/>
              <a:ext cx="4190400" cy="2974320"/>
              <a:chOff x="4427640" y="1897200"/>
              <a:chExt cx="4190400" cy="2974320"/>
            </a:xfrm>
          </p:grpSpPr>
          <p:sp>
            <p:nvSpPr>
              <p:cNvPr id="265" name="Line 8"/>
              <p:cNvSpPr/>
              <p:nvPr/>
            </p:nvSpPr>
            <p:spPr>
              <a:xfrm flipV="1">
                <a:off x="4808160" y="2049120"/>
                <a:ext cx="2971440" cy="1523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9"/>
              <p:cNvSpPr/>
              <p:nvPr/>
            </p:nvSpPr>
            <p:spPr>
              <a:xfrm>
                <a:off x="4808160" y="3573360"/>
                <a:ext cx="335268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10"/>
              <p:cNvSpPr/>
              <p:nvPr/>
            </p:nvSpPr>
            <p:spPr>
              <a:xfrm flipV="1">
                <a:off x="4808160" y="3192480"/>
                <a:ext cx="327636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11"/>
              <p:cNvSpPr/>
              <p:nvPr/>
            </p:nvSpPr>
            <p:spPr>
              <a:xfrm flipH="1">
                <a:off x="7183080" y="3243240"/>
                <a:ext cx="304560" cy="9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 flipH="1" flipV="1">
                <a:off x="7017840" y="2430000"/>
                <a:ext cx="45684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 flipV="1">
                <a:off x="7013520" y="4023360"/>
                <a:ext cx="34200" cy="167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7074720" y="4027320"/>
                <a:ext cx="14040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15"/>
              <p:cNvGrpSpPr/>
              <p:nvPr/>
            </p:nvGrpSpPr>
            <p:grpSpPr>
              <a:xfrm>
                <a:off x="4427640" y="1897200"/>
                <a:ext cx="4190400" cy="2974320"/>
                <a:chOff x="4427640" y="1897200"/>
                <a:chExt cx="4190400" cy="2974320"/>
              </a:xfrm>
            </p:grpSpPr>
            <p:sp>
              <p:nvSpPr>
                <p:cNvPr id="273" name="Text Box 16"/>
                <p:cNvSpPr/>
                <p:nvPr/>
              </p:nvSpPr>
              <p:spPr>
                <a:xfrm>
                  <a:off x="7932600" y="44118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Text Box 17"/>
                <p:cNvSpPr/>
                <p:nvPr/>
              </p:nvSpPr>
              <p:spPr>
                <a:xfrm>
                  <a:off x="7704000" y="18972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Text Box 18"/>
                <p:cNvSpPr/>
                <p:nvPr/>
              </p:nvSpPr>
              <p:spPr>
                <a:xfrm>
                  <a:off x="6561000" y="20494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19"/>
                <p:cNvSpPr/>
                <p:nvPr/>
              </p:nvSpPr>
              <p:spPr>
                <a:xfrm>
                  <a:off x="4427640" y="334476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"/>
                <p:cNvSpPr/>
                <p:nvPr/>
              </p:nvSpPr>
              <p:spPr>
                <a:xfrm>
                  <a:off x="7399080" y="319248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1"/>
                <p:cNvSpPr/>
                <p:nvPr/>
              </p:nvSpPr>
              <p:spPr>
                <a:xfrm>
                  <a:off x="6865560" y="41832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22"/>
                <p:cNvSpPr/>
                <p:nvPr/>
              </p:nvSpPr>
              <p:spPr>
                <a:xfrm>
                  <a:off x="8008560" y="29638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Group 23"/>
                <p:cNvGrpSpPr/>
                <p:nvPr/>
              </p:nvGrpSpPr>
              <p:grpSpPr>
                <a:xfrm>
                  <a:off x="4751280" y="3192480"/>
                  <a:ext cx="970560" cy="609480"/>
                  <a:chOff x="4751280" y="3192480"/>
                  <a:chExt cx="970560" cy="609480"/>
                </a:xfrm>
              </p:grpSpPr>
              <p:pic>
                <p:nvPicPr>
                  <p:cNvPr id="28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1280" y="32367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Text Box 25"/>
                  <p:cNvSpPr/>
                  <p:nvPr/>
                </p:nvSpPr>
                <p:spPr>
                  <a:xfrm>
                    <a:off x="5265000" y="3192480"/>
                    <a:ext cx="45684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Text Box 26"/>
                  <p:cNvSpPr/>
                  <p:nvPr/>
                </p:nvSpPr>
                <p:spPr>
                  <a:xfrm>
                    <a:off x="5265000" y="3497040"/>
                    <a:ext cx="3045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84" name="Text Box 27"/>
          <p:cNvSpPr/>
          <p:nvPr/>
        </p:nvSpPr>
        <p:spPr>
          <a:xfrm>
            <a:off x="395280" y="190188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定理应用所具备的条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28"/>
          <p:cNvGrpSpPr/>
          <p:nvPr/>
        </p:nvGrpSpPr>
        <p:grpSpPr>
          <a:xfrm>
            <a:off x="395280" y="2557440"/>
            <a:ext cx="3947760" cy="1902960"/>
            <a:chOff x="395280" y="2557440"/>
            <a:chExt cx="3947760" cy="1902960"/>
          </a:xfrm>
        </p:grpSpPr>
        <p:sp>
          <p:nvSpPr>
            <p:cNvPr id="286" name="Text Box 29"/>
            <p:cNvSpPr/>
            <p:nvPr/>
          </p:nvSpPr>
          <p:spPr>
            <a:xfrm>
              <a:off x="478800" y="2557440"/>
              <a:ext cx="34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角的平分线；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30"/>
            <p:cNvSpPr/>
            <p:nvPr/>
          </p:nvSpPr>
          <p:spPr>
            <a:xfrm>
              <a:off x="395280" y="3223440"/>
              <a:ext cx="39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点在该平分线上；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1"/>
            <p:cNvSpPr/>
            <p:nvPr/>
          </p:nvSpPr>
          <p:spPr>
            <a:xfrm>
              <a:off x="478800" y="4000680"/>
              <a:ext cx="31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垂直距离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Text Box 32"/>
          <p:cNvSpPr/>
          <p:nvPr/>
        </p:nvSpPr>
        <p:spPr>
          <a:xfrm>
            <a:off x="468360" y="482904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定理的作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2700360" y="4797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证明线段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828720" y="2495160"/>
            <a:ext cx="3688920" cy="2090880"/>
            <a:chOff x="828720" y="2495160"/>
            <a:chExt cx="3688920" cy="2090880"/>
          </a:xfrm>
        </p:grpSpPr>
        <p:sp>
          <p:nvSpPr>
            <p:cNvPr id="292" name="Line 3"/>
            <p:cNvSpPr/>
            <p:nvPr/>
          </p:nvSpPr>
          <p:spPr>
            <a:xfrm>
              <a:off x="828720" y="4586040"/>
              <a:ext cx="368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 flipV="1">
              <a:off x="828720" y="2495160"/>
              <a:ext cx="2704680" cy="20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Text Box 5"/>
          <p:cNvSpPr/>
          <p:nvPr/>
        </p:nvSpPr>
        <p:spPr>
          <a:xfrm>
            <a:off x="410760" y="393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 flipH="1">
            <a:off x="3144240" y="19162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 flipH="1">
            <a:off x="4439520" y="438480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826920" y="3409920"/>
            <a:ext cx="3592800" cy="117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 flipH="1">
            <a:off x="4223520" y="32320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3378240" y="3683160"/>
            <a:ext cx="90360" cy="90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H="1" flipV="1">
            <a:off x="2410920" y="3357720"/>
            <a:ext cx="1008360" cy="358560"/>
          </a:xfrm>
          <a:prstGeom prst="line">
            <a:avLst/>
          </a:prstGeom>
          <a:ln w="316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3432240" y="3716280"/>
            <a:ext cx="0" cy="865080"/>
          </a:xfrm>
          <a:prstGeom prst="line">
            <a:avLst/>
          </a:prstGeom>
          <a:ln w="316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 flipH="1">
            <a:off x="3276000" y="45086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 flipH="1">
            <a:off x="1691640" y="28526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364000" y="2205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 flipH="1">
            <a:off x="3491640" y="357336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547640" y="981000"/>
            <a:ext cx="1800360" cy="7034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辨一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148360" y="1844640"/>
            <a:ext cx="3313080" cy="1739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图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OC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平分∠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D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E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相等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1628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如图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" y="2421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                              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114800" y="234936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2971800" y="314172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1042920" y="234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D      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68360" y="314172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WordArt 8"/>
          <p:cNvSpPr txBox="1"/>
          <p:nvPr/>
        </p:nvSpPr>
        <p:spPr>
          <a:xfrm>
            <a:off x="0" y="981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判断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52280" y="944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如图，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C⊥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B⊥AB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228600" y="1676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                                  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4114800" y="152244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2760840" y="2421000"/>
            <a:ext cx="3682800" cy="39146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6"/>
          <p:cNvSpPr/>
          <p:nvPr/>
        </p:nvSpPr>
        <p:spPr>
          <a:xfrm>
            <a:off x="106668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D      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20640" y="2565360"/>
            <a:ext cx="323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52280" y="6206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, DC⊥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B⊥AB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72880" y="17733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（                                             ）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066680" y="1700280"/>
            <a:ext cx="2133720" cy="611280"/>
            <a:chOff x="1066680" y="1700280"/>
            <a:chExt cx="2133720" cy="611280"/>
          </a:xfrm>
        </p:grpSpPr>
        <p:sp>
          <p:nvSpPr>
            <p:cNvPr id="324" name="Text Box 5"/>
            <p:cNvSpPr/>
            <p:nvPr/>
          </p:nvSpPr>
          <p:spPr>
            <a:xfrm>
              <a:off x="1066680" y="17301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2209680" y="170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Text Box 7"/>
          <p:cNvSpPr/>
          <p:nvPr/>
        </p:nvSpPr>
        <p:spPr>
          <a:xfrm>
            <a:off x="4284720" y="170028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5715000" cy="3556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1476360" y="2421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68360" y="4797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不必再证全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9640" y="1413000"/>
            <a:ext cx="8353440" cy="50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3" descr="pic-2"/>
          <p:cNvPicPr/>
          <p:nvPr/>
        </p:nvPicPr>
        <p:blipFill>
          <a:blip r:embed="rId2"/>
          <a:stretch/>
        </p:blipFill>
        <p:spPr>
          <a:xfrm>
            <a:off x="611280" y="18900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054080" y="169056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、如图，                                         ∵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OC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的平分线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又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PD=PE  (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587600" y="2863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D⊥O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⊥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5219280" y="3500280"/>
            <a:ext cx="3429000" cy="2882880"/>
            <a:chOff x="5219280" y="3500280"/>
            <a:chExt cx="3429000" cy="2882880"/>
          </a:xfrm>
        </p:grpSpPr>
        <p:sp>
          <p:nvSpPr>
            <p:cNvPr id="335" name="Freeform 8"/>
            <p:cNvSpPr/>
            <p:nvPr/>
          </p:nvSpPr>
          <p:spPr>
            <a:xfrm flipH="1" rot="21228600">
              <a:off x="5447520" y="4033800"/>
              <a:ext cx="2743200" cy="167580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 flipH="1">
              <a:off x="5600520" y="5862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 flipH="1">
              <a:off x="8191080" y="4948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 flipH="1">
              <a:off x="5752800" y="350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 flipH="1" flipV="1">
              <a:off x="5352480" y="4950720"/>
              <a:ext cx="2883240" cy="2743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 flipH="1">
              <a:off x="5219280" y="456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 flipH="1">
              <a:off x="6476760" y="4617720"/>
              <a:ext cx="380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 flipV="1">
              <a:off x="6660000" y="4569840"/>
              <a:ext cx="268920" cy="55260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6"/>
            <p:cNvSpPr/>
            <p:nvPr/>
          </p:nvSpPr>
          <p:spPr>
            <a:xfrm flipH="1" flipV="1">
              <a:off x="6661440" y="5045400"/>
              <a:ext cx="154080" cy="53568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17"/>
            <p:cNvSpPr/>
            <p:nvPr/>
          </p:nvSpPr>
          <p:spPr>
            <a:xfrm flipH="1">
              <a:off x="6819480" y="4109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 flipH="1">
              <a:off x="6286320" y="487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19"/>
            <p:cNvSpPr/>
            <p:nvPr/>
          </p:nvSpPr>
          <p:spPr>
            <a:xfrm flipH="1">
              <a:off x="6667200" y="557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Text Box 20"/>
          <p:cNvSpPr/>
          <p:nvPr/>
        </p:nvSpPr>
        <p:spPr>
          <a:xfrm>
            <a:off x="-2084400" y="373680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的平分线上的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角的两边的距离相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2340000" y="333360"/>
            <a:ext cx="1746360" cy="642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一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116000" y="83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Rt△ABC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角平分线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E⊥AB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垂足为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E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C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相等吗？为什么？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2771640" y="2349360"/>
            <a:ext cx="2971800" cy="2288520"/>
            <a:chOff x="2771640" y="2349360"/>
            <a:chExt cx="2971800" cy="2288520"/>
          </a:xfrm>
        </p:grpSpPr>
        <p:sp>
          <p:nvSpPr>
            <p:cNvPr id="351" name="Line 6"/>
            <p:cNvSpPr/>
            <p:nvPr/>
          </p:nvSpPr>
          <p:spPr>
            <a:xfrm flipH="1">
              <a:off x="3076200" y="2577960"/>
              <a:ext cx="1905120" cy="16002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3152520" y="4178160"/>
              <a:ext cx="1828800" cy="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4981320" y="2577960"/>
              <a:ext cx="0" cy="16002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V="1">
              <a:off x="3076200" y="3492000"/>
              <a:ext cx="1905120" cy="6858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 flipH="1" flipV="1">
              <a:off x="4524120" y="2958840"/>
              <a:ext cx="457200" cy="53352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 flipH="1">
              <a:off x="4828680" y="4025520"/>
              <a:ext cx="152280" cy="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4829040" y="4025520"/>
              <a:ext cx="0" cy="15264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447800" y="3035160"/>
              <a:ext cx="76320" cy="7596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 flipV="1">
              <a:off x="4524120" y="3034800"/>
              <a:ext cx="76320" cy="7596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4981320" y="2349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2771640" y="4178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7"/>
            <p:cNvSpPr/>
            <p:nvPr/>
          </p:nvSpPr>
          <p:spPr>
            <a:xfrm>
              <a:off x="4752720" y="417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4981320" y="326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4066920" y="2577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7273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Calibri"/>
              </a:rPr>
              <a:t>不利用工具，请你将一张用纸片做的角分成两个相等的角。你有什么办法？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684360" y="3789360"/>
            <a:ext cx="2648880" cy="2176200"/>
            <a:chOff x="684360" y="3789360"/>
            <a:chExt cx="2648880" cy="2176200"/>
          </a:xfrm>
        </p:grpSpPr>
        <p:grpSp>
          <p:nvGrpSpPr>
            <p:cNvPr id="83" name="Group 4"/>
            <p:cNvGrpSpPr/>
            <p:nvPr/>
          </p:nvGrpSpPr>
          <p:grpSpPr>
            <a:xfrm>
              <a:off x="684360" y="3789360"/>
              <a:ext cx="2648880" cy="2068200"/>
              <a:chOff x="684360" y="3789360"/>
              <a:chExt cx="2648880" cy="2068200"/>
            </a:xfrm>
          </p:grpSpPr>
          <p:sp>
            <p:nvSpPr>
              <p:cNvPr id="84" name="Line 5"/>
              <p:cNvSpPr/>
              <p:nvPr/>
            </p:nvSpPr>
            <p:spPr>
              <a:xfrm flipV="1">
                <a:off x="1029960" y="3933360"/>
                <a:ext cx="1223640" cy="1583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6"/>
              <p:cNvSpPr/>
              <p:nvPr/>
            </p:nvSpPr>
            <p:spPr>
              <a:xfrm>
                <a:off x="1044360" y="5517720"/>
                <a:ext cx="2288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Text Box 7"/>
              <p:cNvSpPr/>
              <p:nvPr/>
            </p:nvSpPr>
            <p:spPr>
              <a:xfrm>
                <a:off x="1749240" y="378936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Text Box 8"/>
              <p:cNvSpPr/>
              <p:nvPr/>
            </p:nvSpPr>
            <p:spPr>
              <a:xfrm>
                <a:off x="684360" y="533700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Text Box 9"/>
            <p:cNvSpPr/>
            <p:nvPr/>
          </p:nvSpPr>
          <p:spPr>
            <a:xfrm>
              <a:off x="2842920" y="544500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10"/>
          <p:cNvGrpSpPr/>
          <p:nvPr/>
        </p:nvGrpSpPr>
        <p:grpSpPr>
          <a:xfrm>
            <a:off x="1116000" y="4581000"/>
            <a:ext cx="2089080" cy="936360"/>
            <a:chOff x="1116000" y="4581000"/>
            <a:chExt cx="2089080" cy="936360"/>
          </a:xfrm>
        </p:grpSpPr>
        <p:sp>
          <p:nvSpPr>
            <p:cNvPr id="90" name="Line 11"/>
            <p:cNvSpPr/>
            <p:nvPr/>
          </p:nvSpPr>
          <p:spPr>
            <a:xfrm flipV="1">
              <a:off x="1116000" y="4581000"/>
              <a:ext cx="2016000" cy="936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2844720" y="45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3924360" y="407664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eeece1"/>
                </a:solidFill>
                <a:latin typeface="Times New Roman"/>
              </a:rPr>
              <a:t>再打开纸片 ，看看折痕与这个角有何关系？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724360" y="3213000"/>
            <a:ext cx="16574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20"/>
          <p:cNvSpPr txBox="1"/>
          <p:nvPr/>
        </p:nvSpPr>
        <p:spPr>
          <a:xfrm>
            <a:off x="684360" y="47628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一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0"/>
          <p:cNvGrpSpPr/>
          <p:nvPr/>
        </p:nvGrpSpPr>
        <p:grpSpPr>
          <a:xfrm>
            <a:off x="250920" y="1125360"/>
            <a:ext cx="8458200" cy="3812760"/>
            <a:chOff x="250920" y="1125360"/>
            <a:chExt cx="8458200" cy="3812760"/>
          </a:xfrm>
        </p:grpSpPr>
        <p:sp>
          <p:nvSpPr>
            <p:cNvPr id="366" name="Rectangle 21"/>
            <p:cNvSpPr/>
            <p:nvPr/>
          </p:nvSpPr>
          <p:spPr>
            <a:xfrm>
              <a:off x="250920" y="112536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、如图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OC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是∠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AOB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的平分线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点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在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OC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上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PD⊥OA,PE⊥OB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垂足分别是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E,PD=4cm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则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PE=__________cm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22"/>
            <p:cNvGrpSpPr/>
            <p:nvPr/>
          </p:nvGrpSpPr>
          <p:grpSpPr>
            <a:xfrm>
              <a:off x="5203800" y="2573280"/>
              <a:ext cx="3048120" cy="2364840"/>
              <a:chOff x="5203800" y="2573280"/>
              <a:chExt cx="3048120" cy="2364840"/>
            </a:xfrm>
          </p:grpSpPr>
          <p:grpSp>
            <p:nvGrpSpPr>
              <p:cNvPr id="368" name="Group 23"/>
              <p:cNvGrpSpPr/>
              <p:nvPr/>
            </p:nvGrpSpPr>
            <p:grpSpPr>
              <a:xfrm>
                <a:off x="5813640" y="2877840"/>
                <a:ext cx="1676160" cy="1600560"/>
                <a:chOff x="5813640" y="2877840"/>
                <a:chExt cx="1676160" cy="1600560"/>
              </a:xfrm>
            </p:grpSpPr>
            <p:sp>
              <p:nvSpPr>
                <p:cNvPr id="369" name="Line 24"/>
                <p:cNvSpPr/>
                <p:nvPr/>
              </p:nvSpPr>
              <p:spPr>
                <a:xfrm>
                  <a:off x="5813640" y="2878200"/>
                  <a:ext cx="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 flipV="1">
                  <a:off x="5813640" y="3487680"/>
                  <a:ext cx="1676160" cy="9907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 flipV="1">
                  <a:off x="5813640" y="2877840"/>
                  <a:ext cx="91440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5813640" y="3335400"/>
                  <a:ext cx="68580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6499440" y="3335400"/>
                  <a:ext cx="380880" cy="53316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 flipV="1">
                  <a:off x="6804000" y="3639960"/>
                  <a:ext cx="152640" cy="763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6956640" y="3639960"/>
                  <a:ext cx="7596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31"/>
                <p:cNvSpPr/>
                <p:nvPr/>
              </p:nvSpPr>
              <p:spPr>
                <a:xfrm>
                  <a:off x="5813640" y="3182760"/>
                  <a:ext cx="15228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5965920" y="3182760"/>
                  <a:ext cx="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Text Box 33"/>
              <p:cNvSpPr/>
              <p:nvPr/>
            </p:nvSpPr>
            <p:spPr>
              <a:xfrm>
                <a:off x="5203800" y="2725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Text Box 34"/>
              <p:cNvSpPr/>
              <p:nvPr/>
            </p:nvSpPr>
            <p:spPr>
              <a:xfrm>
                <a:off x="5356440" y="325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Text Box 35"/>
              <p:cNvSpPr/>
              <p:nvPr/>
            </p:nvSpPr>
            <p:spPr>
              <a:xfrm>
                <a:off x="5432400" y="4478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Text Box 36"/>
              <p:cNvSpPr/>
              <p:nvPr/>
            </p:nvSpPr>
            <p:spPr>
              <a:xfrm>
                <a:off x="7489800" y="3487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Text Box 37"/>
              <p:cNvSpPr/>
              <p:nvPr/>
            </p:nvSpPr>
            <p:spPr>
              <a:xfrm>
                <a:off x="6728040" y="3944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Text Box 38"/>
              <p:cNvSpPr/>
              <p:nvPr/>
            </p:nvSpPr>
            <p:spPr>
              <a:xfrm>
                <a:off x="6270840" y="2954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Text Box 39"/>
              <p:cNvSpPr/>
              <p:nvPr/>
            </p:nvSpPr>
            <p:spPr>
              <a:xfrm>
                <a:off x="6804000" y="2573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Text Box 22"/>
          <p:cNvSpPr/>
          <p:nvPr/>
        </p:nvSpPr>
        <p:spPr>
          <a:xfrm>
            <a:off x="1836720" y="1916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248840" y="1125360"/>
            <a:ext cx="678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已知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∠C=9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B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C=8,BD=5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求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6735600" y="1866960"/>
            <a:ext cx="516240" cy="517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3786120" y="4819680"/>
            <a:ext cx="4915080" cy="252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 flipH="1">
            <a:off x="3779640" y="2529000"/>
            <a:ext cx="3244680" cy="23400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6"/>
          <p:cNvSpPr/>
          <p:nvPr/>
        </p:nvSpPr>
        <p:spPr>
          <a:xfrm flipH="1" flipV="1">
            <a:off x="7030800" y="2514240"/>
            <a:ext cx="1647720" cy="228276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7"/>
          <p:cNvSpPr/>
          <p:nvPr/>
        </p:nvSpPr>
        <p:spPr>
          <a:xfrm flipH="1">
            <a:off x="3780000" y="3562200"/>
            <a:ext cx="4006800" cy="13068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3736800" y="477684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c1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3909600" y="49928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8651880" y="4780080"/>
            <a:ext cx="1238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8532360" y="494172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Oval 12"/>
          <p:cNvSpPr/>
          <p:nvPr/>
        </p:nvSpPr>
        <p:spPr>
          <a:xfrm>
            <a:off x="6981840" y="2500200"/>
            <a:ext cx="122400" cy="1224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7103880" y="220500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14"/>
          <p:cNvSpPr/>
          <p:nvPr/>
        </p:nvSpPr>
        <p:spPr>
          <a:xfrm>
            <a:off x="7743960" y="349884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7938720" y="31622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7202520" y="2795760"/>
            <a:ext cx="1220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686640" y="272088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6907320" y="301788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7620120" y="47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Group 20"/>
          <p:cNvGrpSpPr/>
          <p:nvPr/>
        </p:nvGrpSpPr>
        <p:grpSpPr>
          <a:xfrm>
            <a:off x="7772400" y="3578400"/>
            <a:ext cx="228600" cy="1218960"/>
            <a:chOff x="7772400" y="3578400"/>
            <a:chExt cx="228600" cy="1218960"/>
          </a:xfrm>
        </p:grpSpPr>
        <p:sp>
          <p:nvSpPr>
            <p:cNvPr id="405" name="Line 21"/>
            <p:cNvSpPr/>
            <p:nvPr/>
          </p:nvSpPr>
          <p:spPr>
            <a:xfrm>
              <a:off x="7772400" y="357840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7772400" y="4568760"/>
              <a:ext cx="228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8001000" y="4568760"/>
              <a:ext cx="0" cy="228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Line 24"/>
          <p:cNvSpPr/>
          <p:nvPr/>
        </p:nvSpPr>
        <p:spPr>
          <a:xfrm>
            <a:off x="6781680" y="278136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 flipH="1">
            <a:off x="6934320" y="278136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26"/>
          <p:cNvSpPr/>
          <p:nvPr/>
        </p:nvSpPr>
        <p:spPr>
          <a:xfrm>
            <a:off x="900000" y="3284640"/>
            <a:ext cx="2952720" cy="113004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你会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7"/>
          <p:cNvSpPr/>
          <p:nvPr/>
        </p:nvSpPr>
        <p:spPr>
          <a:xfrm>
            <a:off x="324000" y="4762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468360" y="1268280"/>
            <a:ext cx="8353440" cy="50616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539640" y="14796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这节课我们学习了哪些知识？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539640" y="2060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“作已知角的平分线”的尺规作图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539640" y="270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角的平分线的性质：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的平分线上的点到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39640" y="386064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∵ 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是∠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的平分线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又 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PD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A,PE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   ∴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PD=PE                 (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角的平分线上的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到角的两边距离相等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5979960" y="3860640"/>
            <a:ext cx="2479680" cy="1872720"/>
            <a:chOff x="5979960" y="3860640"/>
            <a:chExt cx="2479680" cy="1872720"/>
          </a:xfrm>
        </p:grpSpPr>
        <p:sp>
          <p:nvSpPr>
            <p:cNvPr id="418" name="AutoShape 9"/>
            <p:cNvSpPr/>
            <p:nvPr/>
          </p:nvSpPr>
          <p:spPr>
            <a:xfrm>
              <a:off x="5979960" y="3860640"/>
              <a:ext cx="247968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0"/>
            <p:cNvSpPr/>
            <p:nvPr/>
          </p:nvSpPr>
          <p:spPr>
            <a:xfrm flipH="1">
              <a:off x="7696440" y="481356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>
              <a:off x="7696800" y="430704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7645320" y="5220000"/>
              <a:ext cx="810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3"/>
            <p:cNvSpPr/>
            <p:nvPr/>
          </p:nvSpPr>
          <p:spPr>
            <a:xfrm flipH="1">
              <a:off x="7615800" y="5220000"/>
              <a:ext cx="295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7682040" y="530676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7682040" y="429372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622116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89624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Group 18"/>
            <p:cNvGrpSpPr/>
            <p:nvPr/>
          </p:nvGrpSpPr>
          <p:grpSpPr>
            <a:xfrm>
              <a:off x="6043680" y="3911760"/>
              <a:ext cx="2393640" cy="1821600"/>
              <a:chOff x="6043680" y="3911760"/>
              <a:chExt cx="2393640" cy="1821600"/>
            </a:xfrm>
          </p:grpSpPr>
          <p:sp>
            <p:nvSpPr>
              <p:cNvPr id="428" name="Line 19"/>
              <p:cNvSpPr/>
              <p:nvPr/>
            </p:nvSpPr>
            <p:spPr>
              <a:xfrm flipH="1">
                <a:off x="6235200" y="4100400"/>
                <a:ext cx="2051640" cy="712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20"/>
              <p:cNvSpPr/>
              <p:nvPr/>
            </p:nvSpPr>
            <p:spPr>
              <a:xfrm>
                <a:off x="6235560" y="4813560"/>
                <a:ext cx="1947960" cy="672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1"/>
              <p:cNvSpPr/>
              <p:nvPr/>
            </p:nvSpPr>
            <p:spPr>
              <a:xfrm>
                <a:off x="6235560" y="4813560"/>
                <a:ext cx="2176920" cy="7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22"/>
              <p:cNvSpPr/>
              <p:nvPr/>
            </p:nvSpPr>
            <p:spPr>
              <a:xfrm>
                <a:off x="7563600" y="5320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7570080" y="4113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24"/>
              <p:cNvSpPr/>
              <p:nvPr/>
            </p:nvSpPr>
            <p:spPr>
              <a:xfrm>
                <a:off x="6043680" y="4708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25"/>
              <p:cNvSpPr/>
              <p:nvPr/>
            </p:nvSpPr>
            <p:spPr>
              <a:xfrm>
                <a:off x="8100000" y="3911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26"/>
              <p:cNvSpPr/>
              <p:nvPr/>
            </p:nvSpPr>
            <p:spPr>
              <a:xfrm>
                <a:off x="8243280" y="54586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27"/>
              <p:cNvSpPr/>
              <p:nvPr/>
            </p:nvSpPr>
            <p:spPr>
              <a:xfrm>
                <a:off x="7958880" y="4861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28"/>
              <p:cNvSpPr/>
              <p:nvPr/>
            </p:nvSpPr>
            <p:spPr>
              <a:xfrm>
                <a:off x="8284320" y="4616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8" name="Line 29"/>
            <p:cNvSpPr/>
            <p:nvPr/>
          </p:nvSpPr>
          <p:spPr>
            <a:xfrm>
              <a:off x="7621920" y="4347000"/>
              <a:ext cx="56520" cy="9972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 flipH="1">
              <a:off x="7678440" y="4397040"/>
              <a:ext cx="55440" cy="5004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Rectangle 31"/>
          <p:cNvSpPr/>
          <p:nvPr/>
        </p:nvSpPr>
        <p:spPr>
          <a:xfrm>
            <a:off x="985320" y="37162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何语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32"/>
          <p:cNvGrpSpPr/>
          <p:nvPr/>
        </p:nvGrpSpPr>
        <p:grpSpPr>
          <a:xfrm>
            <a:off x="1187280" y="0"/>
            <a:ext cx="3132000" cy="1278720"/>
            <a:chOff x="1187280" y="0"/>
            <a:chExt cx="3132000" cy="1278720"/>
          </a:xfrm>
        </p:grpSpPr>
        <p:grpSp>
          <p:nvGrpSpPr>
            <p:cNvPr id="442" name="Group 33"/>
            <p:cNvGrpSpPr/>
            <p:nvPr/>
          </p:nvGrpSpPr>
          <p:grpSpPr>
            <a:xfrm>
              <a:off x="1187280" y="0"/>
              <a:ext cx="2962440" cy="1112040"/>
              <a:chOff x="1187280" y="0"/>
              <a:chExt cx="2962440" cy="1112040"/>
            </a:xfrm>
          </p:grpSpPr>
          <p:sp>
            <p:nvSpPr>
              <p:cNvPr id="443" name="AutoShape 34"/>
              <p:cNvSpPr/>
              <p:nvPr/>
            </p:nvSpPr>
            <p:spPr>
              <a:xfrm>
                <a:off x="1187280" y="48240"/>
                <a:ext cx="2895480" cy="10638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Text Box 35"/>
              <p:cNvSpPr/>
              <p:nvPr/>
            </p:nvSpPr>
            <p:spPr>
              <a:xfrm>
                <a:off x="1220400" y="0"/>
                <a:ext cx="292932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45" name="Picture 36" descr="打开书"/>
            <p:cNvPicPr/>
            <p:nvPr/>
          </p:nvPicPr>
          <p:blipFill>
            <a:blip r:embed="rId3"/>
            <a:stretch/>
          </p:blipFill>
          <p:spPr>
            <a:xfrm>
              <a:off x="2372400" y="209880"/>
              <a:ext cx="6980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37"/>
            <p:cNvSpPr/>
            <p:nvPr/>
          </p:nvSpPr>
          <p:spPr>
            <a:xfrm>
              <a:off x="1271520" y="209880"/>
              <a:ext cx="304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拓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11280" y="-36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回味无穷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0166D3EB"/>
          <p:cNvPicPr/>
          <p:nvPr/>
        </p:nvPicPr>
        <p:blipFill>
          <a:blip r:embed="rId2"/>
          <a:stretch/>
        </p:blipFill>
        <p:spPr>
          <a:xfrm>
            <a:off x="0" y="0"/>
            <a:ext cx="894096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WordArt 3"/>
          <p:cNvSpPr txBox="1"/>
          <p:nvPr/>
        </p:nvSpPr>
        <p:spPr>
          <a:xfrm>
            <a:off x="4648320" y="2590920"/>
            <a:ext cx="25905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771640" y="1341360"/>
            <a:ext cx="4524120" cy="1565280"/>
            <a:chOff x="2771640" y="1341360"/>
            <a:chExt cx="4524120" cy="1565280"/>
          </a:xfrm>
        </p:grpSpPr>
        <p:sp>
          <p:nvSpPr>
            <p:cNvPr id="96" name="Freeform 3"/>
            <p:cNvSpPr/>
            <p:nvPr/>
          </p:nvSpPr>
          <p:spPr>
            <a:xfrm>
              <a:off x="2771640" y="1519200"/>
              <a:ext cx="4227480" cy="138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 flipH="1">
              <a:off x="6803280" y="1341360"/>
              <a:ext cx="49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2687760" y="839880"/>
            <a:ext cx="3688920" cy="2090160"/>
            <a:chOff x="2687760" y="839880"/>
            <a:chExt cx="3688920" cy="2090160"/>
          </a:xfrm>
        </p:grpSpPr>
        <p:sp>
          <p:nvSpPr>
            <p:cNvPr id="99" name="Line 6"/>
            <p:cNvSpPr/>
            <p:nvPr/>
          </p:nvSpPr>
          <p:spPr>
            <a:xfrm>
              <a:off x="2687760" y="2930040"/>
              <a:ext cx="368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 flipV="1">
              <a:off x="2687760" y="839880"/>
              <a:ext cx="2704680" cy="20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Text Box 8"/>
          <p:cNvSpPr/>
          <p:nvPr/>
        </p:nvSpPr>
        <p:spPr>
          <a:xfrm>
            <a:off x="971640" y="9079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结论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280" y="41832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角是轴对称图形，对称轴是角平分线所在的直线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 flipH="1">
            <a:off x="5002920" y="2602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 flipH="1">
            <a:off x="6298560" y="272880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69440" y="22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22050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一个简易平分角的仪器（如图），其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=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C=D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点放角的顶点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画一条射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E,A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就是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平分线，为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203640" y="40464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这种可以折叠的角可以用折叠方法的角平分线，对不能折叠的角怎样得到其角平分线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7451640" y="2133720"/>
            <a:ext cx="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8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2155680" cy="2736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9"/>
          <p:cNvSpPr txBox="1"/>
          <p:nvPr/>
        </p:nvSpPr>
        <p:spPr>
          <a:xfrm>
            <a:off x="395280" y="404640"/>
            <a:ext cx="2857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二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证明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在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D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=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已知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C=BC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已知）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A=CA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公共边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 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D≌ △AC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SS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AD=∠C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全等三角形的                                    对应边相等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角平分线的定义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6156360" y="209520"/>
            <a:ext cx="2715120" cy="4268520"/>
            <a:chOff x="6156360" y="209520"/>
            <a:chExt cx="2715120" cy="4268520"/>
          </a:xfrm>
        </p:grpSpPr>
        <p:grpSp>
          <p:nvGrpSpPr>
            <p:cNvPr id="113" name="Group 4"/>
            <p:cNvGrpSpPr/>
            <p:nvPr/>
          </p:nvGrpSpPr>
          <p:grpSpPr>
            <a:xfrm>
              <a:off x="6156360" y="209520"/>
              <a:ext cx="2715120" cy="4039560"/>
              <a:chOff x="6156360" y="209520"/>
              <a:chExt cx="2715120" cy="4039560"/>
            </a:xfrm>
          </p:grpSpPr>
          <p:sp>
            <p:nvSpPr>
              <p:cNvPr id="114" name="Freeform 5"/>
              <p:cNvSpPr/>
              <p:nvPr/>
            </p:nvSpPr>
            <p:spPr>
              <a:xfrm>
                <a:off x="6603840" y="720360"/>
                <a:ext cx="1800360" cy="1728360"/>
              </a:xfrm>
              <a:prstGeom prst="pie">
                <a:avLst/>
              </a:pr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6"/>
              <p:cNvSpPr/>
              <p:nvPr/>
            </p:nvSpPr>
            <p:spPr>
              <a:xfrm>
                <a:off x="6603840" y="2449080"/>
                <a:ext cx="1800360" cy="948960"/>
              </a:xfrm>
              <a:prstGeom prst="pie">
                <a:avLst/>
              </a:pr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7424640" y="792000"/>
                <a:ext cx="171360" cy="3457080"/>
              </a:xfrm>
              <a:prstGeom prst="pie">
                <a:avLst/>
              </a:prstGeom>
              <a:solidFill>
                <a:srgbClr val="ffff00"/>
              </a:solidFill>
              <a:ln w="22320">
                <a:solidFill>
                  <a:srgbClr val="00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7253640" y="209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6156360" y="223344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8434800" y="2182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7498080" y="3261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12"/>
            <p:cNvSpPr/>
            <p:nvPr/>
          </p:nvSpPr>
          <p:spPr>
            <a:xfrm>
              <a:off x="7570800" y="3957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AutoShape 13"/>
          <p:cNvSpPr/>
          <p:nvPr/>
        </p:nvSpPr>
        <p:spPr>
          <a:xfrm>
            <a:off x="1547640" y="242100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6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根据角平分仪的制作原理怎样用尺规作一个角的平分线？（不用角平分仪或量角器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24360" y="537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4286160" y="3247920"/>
            <a:ext cx="2805120" cy="2451600"/>
            <a:chOff x="4286160" y="3247920"/>
            <a:chExt cx="2805120" cy="2451600"/>
          </a:xfrm>
        </p:grpSpPr>
        <p:sp>
          <p:nvSpPr>
            <p:cNvPr id="126" name="Line 5"/>
            <p:cNvSpPr/>
            <p:nvPr/>
          </p:nvSpPr>
          <p:spPr>
            <a:xfrm flipV="1">
              <a:off x="4286160" y="3609720"/>
              <a:ext cx="1440000" cy="1942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4286160" y="5553000"/>
              <a:ext cx="2376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5651640" y="3247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6659640" y="530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6659640" y="3753000"/>
            <a:ext cx="504720" cy="900000"/>
            <a:chOff x="6659640" y="3753000"/>
            <a:chExt cx="504720" cy="900000"/>
          </a:xfrm>
        </p:grpSpPr>
        <p:sp>
          <p:nvSpPr>
            <p:cNvPr id="131" name="Freeform 10"/>
            <p:cNvSpPr/>
            <p:nvPr/>
          </p:nvSpPr>
          <p:spPr>
            <a:xfrm>
              <a:off x="6659640" y="4221000"/>
              <a:ext cx="504720" cy="273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6877080" y="4148280"/>
              <a:ext cx="96840" cy="5047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6659640" y="375300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4313160" y="3949560"/>
            <a:ext cx="3930840" cy="1581120"/>
            <a:chOff x="4313160" y="3949560"/>
            <a:chExt cx="3930840" cy="1581120"/>
          </a:xfrm>
        </p:grpSpPr>
        <p:sp>
          <p:nvSpPr>
            <p:cNvPr id="135" name="Line 14"/>
            <p:cNvSpPr/>
            <p:nvPr/>
          </p:nvSpPr>
          <p:spPr>
            <a:xfrm flipV="1">
              <a:off x="4313160" y="3949560"/>
              <a:ext cx="3457800" cy="158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7667640" y="3968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21"/>
          <p:cNvSpPr/>
          <p:nvPr/>
        </p:nvSpPr>
        <p:spPr>
          <a:xfrm rot="14762400">
            <a:off x="1414080" y="4438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 rot="14762400">
            <a:off x="3892680" y="445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reeform 23"/>
          <p:cNvSpPr/>
          <p:nvPr/>
        </p:nvSpPr>
        <p:spPr>
          <a:xfrm rot="14762400">
            <a:off x="533880" y="4149000"/>
            <a:ext cx="1800000" cy="1728720"/>
          </a:xfrm>
          <a:prstGeom prst="pie">
            <a:avLst/>
          </a:pr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24"/>
          <p:cNvSpPr/>
          <p:nvPr/>
        </p:nvSpPr>
        <p:spPr>
          <a:xfrm rot="14762400">
            <a:off x="1756800" y="3993840"/>
            <a:ext cx="1800360" cy="949320"/>
          </a:xfrm>
          <a:prstGeom prst="pie">
            <a:avLst/>
          </a:pr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reeform 25"/>
          <p:cNvSpPr/>
          <p:nvPr/>
        </p:nvSpPr>
        <p:spPr>
          <a:xfrm rot="14762400">
            <a:off x="2199960" y="2898720"/>
            <a:ext cx="171360" cy="3457440"/>
          </a:xfrm>
          <a:prstGeom prst="pie">
            <a:avLst/>
          </a:prstGeom>
          <a:solidFill>
            <a:srgbClr val="ffff00"/>
          </a:solidFill>
          <a:ln w="22320">
            <a:solidFill>
              <a:srgbClr val="00ff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154764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250920" y="522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625840" y="537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3059280" y="4148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0692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31"/>
          <p:cNvGrpSpPr/>
          <p:nvPr/>
        </p:nvGrpSpPr>
        <p:grpSpPr>
          <a:xfrm>
            <a:off x="5076720" y="3716280"/>
            <a:ext cx="1295640" cy="2394000"/>
            <a:chOff x="5076720" y="3716280"/>
            <a:chExt cx="1295640" cy="2394000"/>
          </a:xfrm>
        </p:grpSpPr>
        <p:sp>
          <p:nvSpPr>
            <p:cNvPr id="148" name="Freeform 32"/>
            <p:cNvSpPr/>
            <p:nvPr/>
          </p:nvSpPr>
          <p:spPr>
            <a:xfrm>
              <a:off x="5435640" y="3976560"/>
              <a:ext cx="770040" cy="15843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076720" y="3716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940360" y="55897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2781360"/>
            <a:ext cx="3743280" cy="1739880"/>
            <a:chOff x="0" y="2781360"/>
            <a:chExt cx="3743280" cy="1739880"/>
          </a:xfrm>
        </p:grpSpPr>
        <p:sp>
          <p:nvSpPr>
            <p:cNvPr id="152" name="Rectangle 3"/>
            <p:cNvSpPr/>
            <p:nvPr/>
          </p:nvSpPr>
          <p:spPr>
            <a:xfrm>
              <a:off x="0" y="2781360"/>
              <a:ext cx="3743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　　</a:t>
              </a: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２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．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分别以Ｍ，Ｎ为圆心．大于     ＭＮ的长为半径作弧．两弧在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O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内部交于Ｃ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4"/>
                <p:cNvSpPr txBox="1"/>
                <p:nvPr/>
              </p:nvSpPr>
              <p:spPr>
                <a:xfrm>
                  <a:off x="1720800" y="3224160"/>
                  <a:ext cx="32544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" name="Rectangle 5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89000"/>
            <a:ext cx="59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MS UI Gothic"/>
              </a:rPr>
              <a:t>用尺规作角的平分线的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确定0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8"/>
          <p:cNvSpPr/>
          <p:nvPr/>
        </p:nvSpPr>
        <p:spPr>
          <a:xfrm>
            <a:off x="4987800" y="2363760"/>
            <a:ext cx="3733920" cy="24382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MS Gothic"/>
              </a:rPr>
              <a:t>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8647200" y="4552920"/>
            <a:ext cx="569160" cy="520560"/>
            <a:chOff x="8647200" y="4552920"/>
            <a:chExt cx="569160" cy="520560"/>
          </a:xfrm>
        </p:grpSpPr>
        <p:sp>
          <p:nvSpPr>
            <p:cNvPr id="161" name="Oval 12"/>
            <p:cNvSpPr/>
            <p:nvPr/>
          </p:nvSpPr>
          <p:spPr>
            <a:xfrm>
              <a:off x="8647200" y="471168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8822160" y="455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eece1"/>
                  </a:solidFill>
                  <a:latin typeface="Arial"/>
                  <a:ea typeface="MS Gothic"/>
                </a:rPr>
                <a:t>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Arc 14"/>
          <p:cNvSpPr/>
          <p:nvPr/>
        </p:nvSpPr>
        <p:spPr>
          <a:xfrm>
            <a:off x="5905440" y="2743200"/>
            <a:ext cx="2819520" cy="2473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5"/>
          <p:cNvGrpSpPr/>
          <p:nvPr/>
        </p:nvGrpSpPr>
        <p:grpSpPr>
          <a:xfrm>
            <a:off x="6397920" y="2571840"/>
            <a:ext cx="394200" cy="554040"/>
            <a:chOff x="6397920" y="2571840"/>
            <a:chExt cx="394200" cy="554040"/>
          </a:xfrm>
        </p:grpSpPr>
        <p:sp>
          <p:nvSpPr>
            <p:cNvPr id="165" name="Oval 16"/>
            <p:cNvSpPr/>
            <p:nvPr/>
          </p:nvSpPr>
          <p:spPr>
            <a:xfrm>
              <a:off x="6437160" y="303552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6397920" y="2571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S Gothic"/>
                </a:rPr>
                <a:t>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Group 18"/>
          <p:cNvGrpSpPr/>
          <p:nvPr/>
        </p:nvGrpSpPr>
        <p:grpSpPr>
          <a:xfrm>
            <a:off x="5869080" y="4743360"/>
            <a:ext cx="411840" cy="520560"/>
            <a:chOff x="5869080" y="4743360"/>
            <a:chExt cx="411840" cy="520560"/>
          </a:xfrm>
        </p:grpSpPr>
        <p:sp>
          <p:nvSpPr>
            <p:cNvPr id="168" name="Oval 19"/>
            <p:cNvSpPr/>
            <p:nvPr/>
          </p:nvSpPr>
          <p:spPr>
            <a:xfrm>
              <a:off x="5869080" y="474984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5886720" y="47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S Gothic"/>
                </a:rPr>
                <a:t>Ｎ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Arc 21"/>
          <p:cNvSpPr/>
          <p:nvPr/>
        </p:nvSpPr>
        <p:spPr>
          <a:xfrm>
            <a:off x="4764240" y="2941560"/>
            <a:ext cx="1752480" cy="952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rc 22"/>
          <p:cNvSpPr/>
          <p:nvPr/>
        </p:nvSpPr>
        <p:spPr>
          <a:xfrm>
            <a:off x="4510080" y="3179880"/>
            <a:ext cx="1471680" cy="1625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 flipH="1" flipV="1">
            <a:off x="4343040" y="3352680"/>
            <a:ext cx="4343400" cy="1447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24"/>
          <p:cNvGrpSpPr/>
          <p:nvPr/>
        </p:nvGrpSpPr>
        <p:grpSpPr>
          <a:xfrm>
            <a:off x="4722480" y="2997360"/>
            <a:ext cx="394200" cy="528480"/>
            <a:chOff x="4722480" y="2997360"/>
            <a:chExt cx="394200" cy="528480"/>
          </a:xfrm>
        </p:grpSpPr>
        <p:sp>
          <p:nvSpPr>
            <p:cNvPr id="174" name="Oval 25"/>
            <p:cNvSpPr/>
            <p:nvPr/>
          </p:nvSpPr>
          <p:spPr>
            <a:xfrm>
              <a:off x="4760640" y="3435480"/>
              <a:ext cx="9000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26"/>
            <p:cNvSpPr/>
            <p:nvPr/>
          </p:nvSpPr>
          <p:spPr>
            <a:xfrm>
              <a:off x="4722480" y="299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ingLiU"/>
                </a:rPr>
                <a:t>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27"/>
          <p:cNvSpPr/>
          <p:nvPr/>
        </p:nvSpPr>
        <p:spPr>
          <a:xfrm>
            <a:off x="179280" y="9079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0" y="1557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以Ｏ为圆心，适当长为半径作弧，交ＯＡ于Ｍ，交ＯＢ于Ｎ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983520" y="501336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射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620720" y="566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则射线ＯＣ即为所求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1763640" y="42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1116000" y="4076640"/>
            <a:ext cx="216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1447560" y="14749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195280" y="836280"/>
            <a:ext cx="6732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将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O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对折，再折出一个直角三角形（使第一条折痕为斜边），然后展开，观察两次折叠形成的三条折痕，你能得出什么结论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9" descr="角平分线"/>
          <p:cNvPicPr/>
          <p:nvPr/>
        </p:nvPicPr>
        <p:blipFill>
          <a:blip r:embed="rId2"/>
          <a:stretch/>
        </p:blipFill>
        <p:spPr>
          <a:xfrm>
            <a:off x="34920" y="3500280"/>
            <a:ext cx="9109080" cy="15368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12"/>
          <p:cNvSpPr txBox="1"/>
          <p:nvPr/>
        </p:nvSpPr>
        <p:spPr>
          <a:xfrm>
            <a:off x="250920" y="54936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三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0" y="414972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猜想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50920" y="2852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可以看一看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折痕是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平分线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OC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次折叠形成的两条折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D,PE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是角的平分线上一点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边的距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两个距离相等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3" descr="角平分线"/>
          <p:cNvPicPr/>
          <p:nvPr/>
        </p:nvPicPr>
        <p:blipFill>
          <a:blip r:embed="rId2"/>
          <a:stretch/>
        </p:blipFill>
        <p:spPr>
          <a:xfrm>
            <a:off x="34920" y="1125360"/>
            <a:ext cx="9109080" cy="15368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4"/>
          <p:cNvSpPr/>
          <p:nvPr/>
        </p:nvSpPr>
        <p:spPr>
          <a:xfrm>
            <a:off x="250920" y="5013360"/>
            <a:ext cx="889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</a:rPr>
              <a:t>角的平分线上的点到这个角的两边的距离相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alibri"/>
              </a:rPr>
              <a:t>探究角平分线的性质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9:28Z</dcterms:modified>
  <cp:revision>38</cp:revision>
  <dc:subject/>
  <dc:title>第五章  生活中的轴对称</dc:title>
</cp:coreProperties>
</file>