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CD3-009B-405B-90C3-305CE7A8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1C6-1BDA-4924-A74E-98531302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CF2-6FF5-4700-9ED0-F355B196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53A-B5DF-4106-87C0-71324FE1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60E-EB06-4B08-8DD3-8DE62649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79F-A867-436C-A918-617F2E3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6BC-E420-4533-A777-76BA30B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032-6DBF-444F-A0A2-855EC953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CDB-844C-4C16-9E09-421BF1D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BCE-8F7C-4E09-89A9-DE915A5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42E-3BCE-490D-A846-06C89FD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DF1-5214-4BD6-ADEF-35BB463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5080-D0B2-4EC4-A471-86D40F9FE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24.ex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90720" y="982800"/>
            <a:ext cx="1839960" cy="388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828800"/>
            <a:ext cx="5638680" cy="422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006560"/>
            <a:ext cx="1736640" cy="36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1752480"/>
            <a:ext cx="2514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：（口答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830960" y="2498760"/>
            <a:ext cx="3033000" cy="3401280"/>
            <a:chOff x="1830960" y="2498760"/>
            <a:chExt cx="3033000" cy="3401280"/>
          </a:xfrm>
        </p:grpSpPr>
        <p:grpSp>
          <p:nvGrpSpPr>
            <p:cNvPr id="46" name=""/>
            <p:cNvGrpSpPr/>
            <p:nvPr/>
          </p:nvGrpSpPr>
          <p:grpSpPr>
            <a:xfrm>
              <a:off x="1830960" y="2498760"/>
              <a:ext cx="1472760" cy="626760"/>
              <a:chOff x="1830960" y="2498760"/>
              <a:chExt cx="1472760" cy="626760"/>
            </a:xfrm>
          </p:grpSpPr>
          <p:sp>
            <p:nvSpPr>
              <p:cNvPr id="47" name=""/>
              <p:cNvSpPr/>
              <p:nvPr/>
            </p:nvSpPr>
            <p:spPr>
              <a:xfrm>
                <a:off x="1830960" y="2604960"/>
                <a:ext cx="139536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1)   –2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994840" y="2498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1906920" y="4281480"/>
              <a:ext cx="1832040" cy="596880"/>
              <a:chOff x="1906920" y="4281480"/>
              <a:chExt cx="1832040" cy="596880"/>
            </a:xfrm>
          </p:grpSpPr>
          <p:sp>
            <p:nvSpPr>
              <p:cNvPr id="50" name=""/>
              <p:cNvSpPr/>
              <p:nvPr/>
            </p:nvSpPr>
            <p:spPr>
              <a:xfrm>
                <a:off x="3430080" y="4281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06920" y="4357800"/>
                <a:ext cx="1570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3)  (2×3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906920" y="3276720"/>
              <a:ext cx="1613160" cy="609480"/>
              <a:chOff x="1906920" y="3276720"/>
              <a:chExt cx="1613160" cy="609480"/>
            </a:xfrm>
          </p:grpSpPr>
          <p:sp>
            <p:nvSpPr>
              <p:cNvPr id="53" name=""/>
              <p:cNvSpPr/>
              <p:nvPr/>
            </p:nvSpPr>
            <p:spPr>
              <a:xfrm>
                <a:off x="3211200" y="3276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06920" y="3365640"/>
                <a:ext cx="13327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2)  2×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9440" y="4952880"/>
              <a:ext cx="2954520" cy="947160"/>
              <a:chOff x="1909440" y="4952880"/>
              <a:chExt cx="2954520" cy="9471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411360" y="4952880"/>
                <a:ext cx="457200" cy="947160"/>
                <a:chOff x="3411360" y="4952880"/>
                <a:chExt cx="457200" cy="9471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489120" y="495288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411360" y="54324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909440" y="5175360"/>
                <a:ext cx="29545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(4)    –1+      ×(-3)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3354840" y="2604960"/>
            <a:ext cx="857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3080" y="3352680"/>
            <a:ext cx="82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=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1680" y="4343400"/>
            <a:ext cx="82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=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8720" y="5234040"/>
            <a:ext cx="916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1006560"/>
            <a:ext cx="1736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031120" y="1295280"/>
            <a:ext cx="4517280" cy="977760"/>
            <a:chOff x="2031120" y="1295280"/>
            <a:chExt cx="4517280" cy="977760"/>
          </a:xfrm>
        </p:grpSpPr>
        <p:sp>
          <p:nvSpPr>
            <p:cNvPr id="66" name=""/>
            <p:cNvSpPr/>
            <p:nvPr/>
          </p:nvSpPr>
          <p:spPr>
            <a:xfrm>
              <a:off x="2031120" y="1568520"/>
              <a:ext cx="820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算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836440" y="1295280"/>
              <a:ext cx="3711960" cy="977760"/>
              <a:chOff x="2836440" y="1295280"/>
              <a:chExt cx="3711960" cy="977760"/>
            </a:xfrm>
          </p:grpSpPr>
          <p:sp>
            <p:nvSpPr>
              <p:cNvPr id="68" name=""/>
              <p:cNvSpPr/>
              <p:nvPr/>
            </p:nvSpPr>
            <p:spPr>
              <a:xfrm>
                <a:off x="2836440" y="12952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31840" y="1752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44560" y="17524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6440" y="1306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46240" y="13255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32040" y="13255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189480" y="13255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02040" y="18144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87840" y="18144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08760" y="15098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637080" y="1538280"/>
                <a:ext cx="147924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          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88040" y="18144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25920" y="18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11320" y="18144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39640" y="1509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63480" y="1523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85280" y="1563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219320" y="2209680"/>
            <a:ext cx="6492600" cy="30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交换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结合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交换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结合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ab)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(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分配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(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68520" y="4875120"/>
            <a:ext cx="5943240" cy="1373760"/>
            <a:chOff x="1568520" y="4875120"/>
            <a:chExt cx="5943240" cy="1373760"/>
          </a:xfrm>
        </p:grpSpPr>
        <p:sp>
          <p:nvSpPr>
            <p:cNvPr id="87" name=""/>
            <p:cNvSpPr/>
            <p:nvPr/>
          </p:nvSpPr>
          <p:spPr>
            <a:xfrm>
              <a:off x="1568520" y="4875120"/>
              <a:ext cx="5943240" cy="1371600"/>
            </a:xfrm>
            <a:prstGeom prst="flowChartAlternateProcess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42320" y="4875120"/>
              <a:ext cx="2277720" cy="1373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           </a:t>
              </a: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运算顺序</a:t>
              </a: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先算乘方，再算乘除，最后算加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如有括号，就先算括号里面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703560" y="1295280"/>
            <a:ext cx="1110240" cy="947160"/>
            <a:chOff x="6703560" y="1295280"/>
            <a:chExt cx="1110240" cy="947160"/>
          </a:xfrm>
        </p:grpSpPr>
        <p:sp>
          <p:nvSpPr>
            <p:cNvPr id="90" name=""/>
            <p:cNvSpPr/>
            <p:nvPr/>
          </p:nvSpPr>
          <p:spPr>
            <a:xfrm>
              <a:off x="6703560" y="1491840"/>
              <a:ext cx="693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=</a:t>
              </a:r>
              <a:r>
                <a:rPr b="1" lang="zh-CN" sz="28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16640" y="1295280"/>
              <a:ext cx="3589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80280" y="1769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90720" y="960480"/>
            <a:ext cx="1806480" cy="41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12560" y="1447920"/>
            <a:ext cx="736488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×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7÷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)×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×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7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)×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5)×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7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)×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乘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乘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相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3080" y="5105520"/>
            <a:ext cx="5783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　　　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　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960480"/>
            <a:ext cx="1806480" cy="41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3480" y="2155680"/>
            <a:ext cx="388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10-8÷(-2)-(-4)×(-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6560" y="3016080"/>
            <a:ext cx="3772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10-8÷(-2)-(-4)×(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-10+8÷4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-10+2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971640"/>
            <a:ext cx="1828800" cy="399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45560" y="1600200"/>
            <a:ext cx="1887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装上阵走捷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12560" y="2286000"/>
            <a:ext cx="3883320" cy="947160"/>
            <a:chOff x="2212560" y="2286000"/>
            <a:chExt cx="3883320" cy="947160"/>
          </a:xfrm>
        </p:grpSpPr>
        <p:sp>
          <p:nvSpPr>
            <p:cNvPr id="102" name=""/>
            <p:cNvSpPr/>
            <p:nvPr/>
          </p:nvSpPr>
          <p:spPr>
            <a:xfrm>
              <a:off x="2212560" y="2540160"/>
              <a:ext cx="2451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计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9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800600" y="2286000"/>
              <a:ext cx="1295280" cy="947160"/>
              <a:chOff x="4800600" y="2286000"/>
              <a:chExt cx="1295280" cy="94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4800600" y="2286000"/>
                <a:ext cx="125064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6464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8787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0600" y="277488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335680" y="3473280"/>
            <a:ext cx="4258800" cy="1785600"/>
            <a:chOff x="2335680" y="3473280"/>
            <a:chExt cx="4258800" cy="1785600"/>
          </a:xfrm>
        </p:grpSpPr>
        <p:sp>
          <p:nvSpPr>
            <p:cNvPr id="107" name=""/>
            <p:cNvSpPr/>
            <p:nvPr/>
          </p:nvSpPr>
          <p:spPr>
            <a:xfrm>
              <a:off x="2335680" y="3692520"/>
              <a:ext cx="2446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原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39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842000" y="3473280"/>
              <a:ext cx="1752480" cy="947160"/>
              <a:chOff x="4842000" y="3473280"/>
              <a:chExt cx="1752480" cy="947160"/>
            </a:xfrm>
          </p:grpSpPr>
          <p:sp>
            <p:nvSpPr>
              <p:cNvPr id="109" name=""/>
              <p:cNvSpPr/>
              <p:nvPr/>
            </p:nvSpPr>
            <p:spPr>
              <a:xfrm>
                <a:off x="4919040" y="3473280"/>
                <a:ext cx="163152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6×101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8×101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42000" y="39625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839400" y="4530600"/>
              <a:ext cx="21207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39×       =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766760" y="4311720"/>
              <a:ext cx="548280" cy="947160"/>
              <a:chOff x="4766760" y="4311720"/>
              <a:chExt cx="548280" cy="94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766760" y="43117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81520" y="4800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971640"/>
            <a:ext cx="182880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58840" y="1676520"/>
            <a:ext cx="7456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98×1999199919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99×19981998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2160" y="2689200"/>
            <a:ext cx="4812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1998×1999×100010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99×1998×1000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78120" y="4495680"/>
            <a:ext cx="5473440" cy="587520"/>
            <a:chOff x="1878120" y="4495680"/>
            <a:chExt cx="5473440" cy="587520"/>
          </a:xfrm>
        </p:grpSpPr>
        <p:sp>
          <p:nvSpPr>
            <p:cNvPr id="119" name=""/>
            <p:cNvSpPr/>
            <p:nvPr/>
          </p:nvSpPr>
          <p:spPr>
            <a:xfrm>
              <a:off x="1878120" y="4562640"/>
              <a:ext cx="5473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(-1)       +(-1)       =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+1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4160" y="4510080"/>
              <a:ext cx="637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5760" y="4495680"/>
              <a:ext cx="637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6-10-10T23:26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