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gif" ContentType="image/gif"/>
  <Override PartName="/ppt/media/image6.jpeg" ContentType="image/jpeg"/>
  <Override PartName="/ppt/media/image5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96960" y="54900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68360" y="1981080"/>
            <a:ext cx="8523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360" y="4130640"/>
            <a:ext cx="8523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96960" y="54900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68360" y="1981080"/>
            <a:ext cx="4159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5880" y="1981080"/>
            <a:ext cx="4159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8360" y="4130640"/>
            <a:ext cx="4159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5880" y="4130640"/>
            <a:ext cx="4159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96960" y="54900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68360" y="1981080"/>
            <a:ext cx="2744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50160" y="1981080"/>
            <a:ext cx="2744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31960" y="1981080"/>
            <a:ext cx="2744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8360" y="4130640"/>
            <a:ext cx="2744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50160" y="4130640"/>
            <a:ext cx="2744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31960" y="4130640"/>
            <a:ext cx="2744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96960" y="54900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68360" y="1981080"/>
            <a:ext cx="85233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6960" y="54900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8360" y="1981080"/>
            <a:ext cx="8523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6960" y="54900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360" y="1981080"/>
            <a:ext cx="415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5880" y="1981080"/>
            <a:ext cx="415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96960" y="54900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96960" y="549000"/>
            <a:ext cx="8447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96960" y="54900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8360" y="1981080"/>
            <a:ext cx="4159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5880" y="1981080"/>
            <a:ext cx="415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8360" y="4130640"/>
            <a:ext cx="4159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6960" y="54900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68360" y="1981080"/>
            <a:ext cx="85233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96960" y="54900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8360" y="1981080"/>
            <a:ext cx="415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5880" y="1981080"/>
            <a:ext cx="4159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5880" y="4130640"/>
            <a:ext cx="4159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96960" y="54900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8360" y="1981080"/>
            <a:ext cx="4159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5880" y="1981080"/>
            <a:ext cx="4159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360" y="4130640"/>
            <a:ext cx="8523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96960" y="54900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8360" y="1981080"/>
            <a:ext cx="8523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360" y="4130640"/>
            <a:ext cx="8523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6960" y="54900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8360" y="1981080"/>
            <a:ext cx="4159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5880" y="1981080"/>
            <a:ext cx="4159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8360" y="4130640"/>
            <a:ext cx="4159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5880" y="4130640"/>
            <a:ext cx="4159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96960" y="54900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68360" y="1981080"/>
            <a:ext cx="2744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50160" y="1981080"/>
            <a:ext cx="2744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31960" y="1981080"/>
            <a:ext cx="2744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8360" y="4130640"/>
            <a:ext cx="2744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50160" y="4130640"/>
            <a:ext cx="2744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31960" y="4130640"/>
            <a:ext cx="2744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6960" y="54900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68360" y="1981080"/>
            <a:ext cx="8523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96960" y="54900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68360" y="1981080"/>
            <a:ext cx="415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5880" y="1981080"/>
            <a:ext cx="415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6960" y="54900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96960" y="549000"/>
            <a:ext cx="8447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96960" y="54900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68360" y="1981080"/>
            <a:ext cx="4159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5880" y="1981080"/>
            <a:ext cx="415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8360" y="4130640"/>
            <a:ext cx="4159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96960" y="54900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68360" y="1981080"/>
            <a:ext cx="415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5880" y="1981080"/>
            <a:ext cx="4159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5880" y="4130640"/>
            <a:ext cx="4159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96960" y="54900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68360" y="1981080"/>
            <a:ext cx="4159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5880" y="1981080"/>
            <a:ext cx="4159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360" y="4130640"/>
            <a:ext cx="8523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7d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6960" y="54900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5508720" y="6248520"/>
            <a:ext cx="345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http://www.bnup.com.c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468360" y="1981080"/>
            <a:ext cx="8523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5292720" y="6675480"/>
            <a:ext cx="3209760" cy="0"/>
          </a:xfrm>
          <a:prstGeom prst="line">
            <a:avLst/>
          </a:prstGeom>
          <a:ln cap="sq"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8459640" y="6105600"/>
            <a:ext cx="532080" cy="708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7d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59280" y="2420640"/>
            <a:ext cx="6083280" cy="1617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2"/>
          </p:nvPr>
        </p:nvSpPr>
        <p:spPr>
          <a:xfrm>
            <a:off x="5508720" y="6248520"/>
            <a:ext cx="345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http://www.bnup.com.c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292720" y="6675480"/>
            <a:ext cx="3209760" cy="0"/>
          </a:xfrm>
          <a:prstGeom prst="line">
            <a:avLst/>
          </a:prstGeom>
          <a:ln cap="sq"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8459640" y="6105600"/>
            <a:ext cx="532080" cy="708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727d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755640" y="1197000"/>
            <a:ext cx="7772400" cy="19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66"/>
                </a:solidFill>
                <a:latin typeface="隶书"/>
                <a:ea typeface="隶书"/>
              </a:rPr>
              <a:t>第二章  有理数及其运算</a:t>
            </a:r>
            <a:endParaRPr b="0" lang="en-US" sz="5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1979640" y="3213000"/>
            <a:ext cx="525636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0">
                  <a:noFill/>
                </a:ln>
                <a:solidFill>
                  <a:srgbClr val="ffffff"/>
                </a:solidFill>
                <a:latin typeface="宋体"/>
              </a:rPr>
              <a:t>第八节  有理数的乘法</a:t>
            </a:r>
            <a:r>
              <a:rPr b="1" lang="en-US" sz="4000" spc="1" strike="noStrike">
                <a:ln w="0">
                  <a:noFill/>
                </a:ln>
                <a:solidFill>
                  <a:srgbClr val="ffffff"/>
                </a:solidFill>
                <a:latin typeface="宋体"/>
              </a:rPr>
              <a:t>(</a:t>
            </a:r>
            <a:r>
              <a:rPr b="1" lang="zh-CN" sz="4000" spc="1" strike="noStrike">
                <a:ln w="0">
                  <a:noFill/>
                </a:ln>
                <a:solidFill>
                  <a:srgbClr val="ffffff"/>
                </a:solidFill>
                <a:latin typeface="宋体"/>
              </a:rPr>
              <a:t>二）</a:t>
            </a:r>
            <a:endParaRPr b="1" lang="en-US" sz="4000" spc="1" strike="noStrike">
              <a:ln w="0">
                <a:noFill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727d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68360" y="1981080"/>
            <a:ext cx="8523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200000"/>
              </a:lnSpc>
              <a:spcBef>
                <a:spcPts val="799"/>
              </a:spcBef>
              <a:buClr>
                <a:srgbClr val="ffcc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⑴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运算律的语言表述；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200000"/>
              </a:lnSpc>
              <a:spcBef>
                <a:spcPts val="799"/>
              </a:spcBef>
              <a:buClr>
                <a:srgbClr val="ffcc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⑵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运算律的符号表示；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200000"/>
              </a:lnSpc>
              <a:spcBef>
                <a:spcPts val="799"/>
              </a:spcBef>
              <a:buClr>
                <a:srgbClr val="ffcc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⑶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运算律的作用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187280" y="692280"/>
            <a:ext cx="1905120" cy="795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21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华文行楷"/>
              </a:rPr>
              <a:t>小结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727d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68360" y="1981080"/>
            <a:ext cx="8523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教科书习题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2.1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知识技能１，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联系拓广１、２。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826920" y="1052640"/>
            <a:ext cx="1400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黑体"/>
              </a:rPr>
              <a:t>作业：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727d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447040" cy="64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计算下列各题，并比较它们的结果：</a:t>
            </a:r>
            <a:br>
              <a:rPr sz="4000"/>
            </a:b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714240" y="727200"/>
            <a:ext cx="6810480" cy="55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727d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324000" y="189000"/>
            <a:ext cx="4800600" cy="140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cap="sq"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比较结果</a:t>
            </a:r>
            <a:r>
              <a:rPr b="0" lang="en-US" sz="1800" spc="1" strike="noStrike">
                <a:ln cap="sq"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,</a:t>
            </a:r>
            <a:r>
              <a:rPr b="0" lang="zh-CN" sz="1800" spc="1" strike="noStrike">
                <a:ln cap="sq"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你发现了什么</a:t>
            </a:r>
            <a:endParaRPr b="0" lang="en-US" sz="1800" spc="1" strike="noStrike">
              <a:ln cap="sq"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385920" y="1731960"/>
            <a:ext cx="8372160" cy="450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727d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250920" y="1052280"/>
            <a:ext cx="8523360" cy="52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cc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乘法的交换律：两个数相乘，交换因数的位置，积不变；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cc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乘法的结合律：三个数相乘，先把前两个数相乘，或者先把后两个数相乘，积不变；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乘法对加法的结合律：一个数同两个数的和相乘，等于把这个数分别同这两个数相乘，再把积相加。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727d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96960" y="54900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下列等式成立吗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?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为什么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5084640"/>
            <a:ext cx="712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你能用字母表示乘法运算律吗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90" name="" descr="点击看清晰大图"/>
          <p:cNvPicPr/>
          <p:nvPr/>
        </p:nvPicPr>
        <p:blipFill>
          <a:blip r:embed="rId1"/>
          <a:stretch/>
        </p:blipFill>
        <p:spPr>
          <a:xfrm>
            <a:off x="6300720" y="1484280"/>
            <a:ext cx="2376720" cy="141300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68360" y="2773080"/>
            <a:ext cx="8523360" cy="21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1) (-765)×4=4×(-765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2) [7×(-8)] 3=7 ×[(-8) ×3]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3) (-5) ×[1/2+(-1/3)]= (-5) ×1/2+(-5 )×(-1/3) 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727d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365120" y="620640"/>
            <a:ext cx="290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隶书"/>
              </a:rPr>
              <a:t>有理数乘法运算律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隶书"/>
              </a:rPr>
              <a:t>: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634760" y="1628640"/>
            <a:ext cx="4446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加法交换律  　 </a:t>
            </a:r>
            <a:r>
              <a:rPr b="1" lang="zh-CN" sz="30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a</a:t>
            </a:r>
            <a:r>
              <a:rPr b="1" lang="zh-CN" sz="30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＋</a:t>
            </a:r>
            <a:r>
              <a:rPr b="1" lang="zh-CN" sz="30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b=b</a:t>
            </a:r>
            <a:r>
              <a:rPr b="1" lang="zh-CN" sz="30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＋</a:t>
            </a:r>
            <a:r>
              <a:rPr b="1" lang="zh-CN" sz="30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a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488240" y="2374920"/>
            <a:ext cx="6867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加法结合律    　</a:t>
            </a:r>
            <a:r>
              <a:rPr b="1" lang="zh-CN" sz="30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(a</a:t>
            </a:r>
            <a:r>
              <a:rPr b="1" lang="zh-CN" sz="30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＋</a:t>
            </a:r>
            <a:r>
              <a:rPr b="1" lang="zh-CN" sz="30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b)</a:t>
            </a:r>
            <a:r>
              <a:rPr b="1" lang="zh-CN" sz="30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＋</a:t>
            </a:r>
            <a:r>
              <a:rPr b="1" lang="zh-CN" sz="30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c=a</a:t>
            </a:r>
            <a:r>
              <a:rPr b="1" lang="zh-CN" sz="30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＋</a:t>
            </a:r>
            <a:r>
              <a:rPr b="1" lang="zh-CN" sz="30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(b</a:t>
            </a:r>
            <a:r>
              <a:rPr b="1" lang="zh-CN" sz="30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＋</a:t>
            </a:r>
            <a:r>
              <a:rPr b="1" lang="zh-CN" sz="30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c)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112400" y="4653000"/>
            <a:ext cx="5986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乘法对加法的分配律    </a:t>
            </a:r>
            <a:r>
              <a:rPr b="1" lang="zh-CN" sz="30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a(b+c)=ab+ac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653840" y="3141720"/>
            <a:ext cx="3853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乘法交换律   　 </a:t>
            </a:r>
            <a:r>
              <a:rPr b="1" lang="zh-CN" sz="30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ab=ba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544400" y="3860640"/>
            <a:ext cx="5224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乘法结合律   　 </a:t>
            </a:r>
            <a:r>
              <a:rPr b="1" lang="zh-CN" sz="30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(ab)c=a(bc)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727d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68360" y="1981080"/>
            <a:ext cx="8523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例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计算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你是怎样算的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3357720"/>
            <a:ext cx="741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148360" y="4653000"/>
            <a:ext cx="3384360" cy="13683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727de0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恰当使用运算律可简化计算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116000" y="549360"/>
            <a:ext cx="287964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cap="sq"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熟悉运算律</a:t>
            </a:r>
            <a:endParaRPr b="0" lang="en-US" sz="1800" spc="1" strike="noStrike">
              <a:ln cap="sq"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611280" y="2746440"/>
            <a:ext cx="6924600" cy="16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727d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68360" y="1981080"/>
            <a:ext cx="8523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计算：　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　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611280" y="549360"/>
            <a:ext cx="287964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cap="sq"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熟悉运算律</a:t>
            </a:r>
            <a:endParaRPr b="0" lang="en-US" sz="1800" spc="1" strike="noStrike">
              <a:ln cap="sq"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755640" y="2800440"/>
            <a:ext cx="6553080" cy="29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727d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68360" y="1981080"/>
            <a:ext cx="8523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3.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计算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11280" y="549360"/>
            <a:ext cx="287964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cap="sq"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熟悉运算律</a:t>
            </a:r>
            <a:endParaRPr b="0" lang="en-US" sz="1800" spc="1" strike="noStrike">
              <a:ln cap="sq"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838080" y="2708280"/>
            <a:ext cx="7467840" cy="28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11:22:18Z</dcterms:created>
  <dc:creator>贾燕军</dc:creator>
  <dc:description/>
  <dc:language>en-US</dc:language>
  <cp:lastModifiedBy>微软用户</cp:lastModifiedBy>
  <dcterms:modified xsi:type="dcterms:W3CDTF">2011-08-09T12:57:56Z</dcterms:modified>
  <cp:revision>16</cp:revision>
  <dc:subject/>
  <dc:title>幻灯片 1</dc:title>
</cp:coreProperties>
</file>