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chimes.wav" ContentType="audio/x-wav"/>
  <Override PartName="/ppt/media/drumroll.wav" ContentType="audio/x-wav"/>
  <Override PartName="/ppt/media/applause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707-670D-4234-BC57-E2725B33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416-F844-4BE4-B47E-09B462D5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DEF-45F0-4C34-ACFB-B7021052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8E8-2B3C-4F66-9826-9E39C5C1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E509-D8DF-441D-8CE8-BDC9D000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C8B0-01E2-4540-939B-0EA663E2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CE7E-8B78-4852-8DE5-B9F29E2E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F9E3-2B47-4702-B66D-2C729EEC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9713-BF72-464E-8D75-44470970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1EA2-2764-401B-B3E1-2BEC682A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9365-F0DD-4D5E-A455-26545B53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952-6260-46DD-81F8-ABA27DA2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BCBA-A55D-44FE-A252-E491883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1E41-DF1A-426E-9540-C18CEFD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0EB9-825E-432B-8D8C-1BBC9883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E5A8-7C3F-4D4D-9EBE-3D9D9679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D3DA-257E-4047-97F5-616CC0C8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EE7-E076-492C-A926-4FBEA0D0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2D8-5383-404E-98C7-B7DC9D28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EE0-D0C9-4FBD-8710-C2C7BE3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4C5-FDD9-49BB-9C10-551427D4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F30-E090-4A9A-B68C-AC510DB7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114-6878-461F-BF7F-13DB6547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62E-99E0-4FD2-BF09-7FB8B10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F241-76A2-4DFD-A900-4D7EF564103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86A5-BB18-4CFE-A59C-6DAB711452F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&#25105;&#30340;&#25991;&#26723;\qqq.exe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6600"/>
                </a:solidFill>
                <a:latin typeface="Arial"/>
                <a:ea typeface="华文中宋"/>
              </a:rPr>
              <a:t>课题：去括号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604360" y="115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/>
          </p:cNvPr>
          <p:cNvSpPr/>
          <p:nvPr/>
        </p:nvSpPr>
        <p:spPr>
          <a:xfrm>
            <a:off x="4067280" y="4221000"/>
            <a:ext cx="1081080" cy="107964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3808" y="7301"/>
                </a:moveTo>
                <a:lnTo>
                  <a:pt x="4722" y="7301"/>
                </a:lnTo>
                <a:lnTo>
                  <a:pt x="5105" y="7667"/>
                </a:lnTo>
                <a:lnTo>
                  <a:pt x="14313" y="7667"/>
                </a:lnTo>
                <a:lnTo>
                  <a:pt x="14870" y="8224"/>
                </a:lnTo>
                <a:lnTo>
                  <a:pt x="14870" y="8772"/>
                </a:lnTo>
                <a:lnTo>
                  <a:pt x="16716" y="8772"/>
                </a:lnTo>
                <a:lnTo>
                  <a:pt x="17081" y="8224"/>
                </a:lnTo>
                <a:lnTo>
                  <a:pt x="17821" y="8224"/>
                </a:lnTo>
                <a:lnTo>
                  <a:pt x="17821" y="13376"/>
                </a:lnTo>
                <a:lnTo>
                  <a:pt x="17081" y="13376"/>
                </a:lnTo>
                <a:lnTo>
                  <a:pt x="16716" y="12828"/>
                </a:lnTo>
                <a:lnTo>
                  <a:pt x="14870" y="12828"/>
                </a:lnTo>
                <a:lnTo>
                  <a:pt x="14870" y="14107"/>
                </a:lnTo>
                <a:lnTo>
                  <a:pt x="5288" y="14107"/>
                </a:lnTo>
                <a:lnTo>
                  <a:pt x="5288" y="9877"/>
                </a:lnTo>
                <a:lnTo>
                  <a:pt x="5105" y="9877"/>
                </a:lnTo>
                <a:lnTo>
                  <a:pt x="4722" y="10243"/>
                </a:lnTo>
                <a:lnTo>
                  <a:pt x="3808" y="1024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52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022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89080"/>
            <a:ext cx="91440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Times New Roman"/>
              </a:rPr>
              <a:t>练习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1) ( a – b ) + ( - c – d ) =</a:t>
            </a:r>
            <a:r>
              <a:rPr b="1" lang="zh-CN" sz="5400" spc="-1" strike="noStrike" u="sng">
                <a:solidFill>
                  <a:srgbClr val="001414"/>
                </a:solidFill>
                <a:uFillTx/>
                <a:latin typeface="Times New Roman"/>
              </a:rPr>
              <a:t>	</a:t>
            </a:r>
            <a:r>
              <a:rPr b="1" lang="zh-CN" sz="5400" spc="-1" strike="noStrike" u="sng">
                <a:solidFill>
                  <a:srgbClr val="001414"/>
                </a:solidFill>
                <a:uFillTx/>
                <a:latin typeface="Times New Roman"/>
              </a:rPr>
              <a:t>	</a:t>
            </a:r>
            <a:r>
              <a:rPr b="1" lang="zh-CN" sz="5400" spc="-1" strike="noStrike" u="sng">
                <a:solidFill>
                  <a:srgbClr val="001414"/>
                </a:solidFill>
                <a:uFillTx/>
                <a:latin typeface="Times New Roman"/>
              </a:rPr>
              <a:t>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2)( a – b ) - ( - c – d ) =</a:t>
            </a:r>
            <a:r>
              <a:rPr b="1" lang="zh-CN" sz="5400" spc="-1" strike="noStrike" u="sng">
                <a:solidFill>
                  <a:srgbClr val="001414"/>
                </a:solidFill>
                <a:uFillTx/>
                <a:latin typeface="Times New Roman"/>
              </a:rPr>
              <a:t>	</a:t>
            </a:r>
            <a:r>
              <a:rPr b="1" lang="zh-CN" sz="5400" spc="-1" strike="noStrike" u="sng">
                <a:solidFill>
                  <a:srgbClr val="001414"/>
                </a:solidFill>
                <a:uFillTx/>
                <a:latin typeface="Times New Roman"/>
              </a:rPr>
              <a:t>	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3)- ( a – b ) + ( - c – d ) = </a:t>
            </a:r>
            <a:r>
              <a:rPr b="1" lang="zh-CN" sz="5400" spc="-1" strike="noStrike" u="sng">
                <a:solidFill>
                  <a:srgbClr val="001414"/>
                </a:solidFill>
                <a:uFillTx/>
                <a:latin typeface="Times New Roman"/>
              </a:rPr>
              <a:t>	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4)- ( a – b ) - ( - c – d ) =</a:t>
            </a:r>
            <a:r>
              <a:rPr b="1" lang="zh-CN" sz="5400" spc="-1" strike="noStrike" u="sng">
                <a:solidFill>
                  <a:srgbClr val="001414"/>
                </a:solidFill>
                <a:uFillTx/>
                <a:latin typeface="Times New Roman"/>
              </a:rPr>
              <a:t>	</a:t>
            </a:r>
            <a:r>
              <a:rPr b="1" lang="zh-CN" sz="5400" spc="-1" strike="noStrike" u="sng">
                <a:solidFill>
                  <a:srgbClr val="001414"/>
                </a:solidFill>
                <a:uFillTx/>
                <a:latin typeface="Times New Roman"/>
              </a:rPr>
              <a:t>	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1414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1414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42480" y="479736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5373720"/>
            <a:ext cx="541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98840" y="609300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0"/>
            <a:ext cx="86756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2.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判断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1)a - ( b – c ) = a – b - c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2) - ( a – b + c ) = - a + b - c 3)c + 2 ( a – b ) = c + 2 a - b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第二组去括号合并同类项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1.  3x+(5y-2x)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2.  8y-(-2x+3y)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3.  8a+2b+4(5a-b)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4.  5a-3c-2(a-c)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解：原式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=3x+5y-2x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227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=X+5y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328464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解：原式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=8y+2x-3y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357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=2x+5y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解：原式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=8a+2b+20a-4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5445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=28a-2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300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解：原式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=5a-3c-2a+2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4221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=3a-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20640"/>
            <a:ext cx="8459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14"/>
                </a:solidFill>
                <a:latin typeface="Arial"/>
              </a:rPr>
              <a:t>练习</a:t>
            </a:r>
            <a:r>
              <a:rPr b="1" lang="zh-CN" sz="3600" spc="-1" strike="noStrike">
                <a:solidFill>
                  <a:srgbClr val="001414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1414"/>
                </a:solidFill>
                <a:latin typeface="Arial"/>
              </a:rPr>
              <a:t>先去括号，再合并同类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14"/>
                </a:solidFill>
                <a:latin typeface="Arial"/>
              </a:rPr>
              <a:t>（</a:t>
            </a:r>
            <a:r>
              <a:rPr b="1" lang="zh-CN" sz="7200" spc="-1" strike="noStrike">
                <a:solidFill>
                  <a:srgbClr val="001414"/>
                </a:solidFill>
                <a:latin typeface="Arial"/>
              </a:rPr>
              <a:t>1</a:t>
            </a:r>
            <a:r>
              <a:rPr b="1" lang="zh-CN" sz="7200" spc="-1" strike="noStrike">
                <a:solidFill>
                  <a:srgbClr val="001414"/>
                </a:solidFill>
                <a:latin typeface="Arial"/>
              </a:rPr>
              <a:t>）</a:t>
            </a:r>
            <a:r>
              <a:rPr b="1" lang="zh-CN" sz="7200" spc="-1" strike="noStrike">
                <a:solidFill>
                  <a:srgbClr val="001414"/>
                </a:solidFill>
                <a:latin typeface="Arial"/>
              </a:rPr>
              <a:t>4a-(a-3b)  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1414"/>
                </a:solidFill>
                <a:latin typeface="Arial"/>
              </a:rPr>
              <a:t>(2) a+(5a-3b)-(a-2b)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1414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1414"/>
                </a:solidFill>
                <a:latin typeface="Arial"/>
              </a:rPr>
              <a:t>(3)3(2xy-y)-2xy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1414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第三组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1.  </a:t>
            </a:r>
            <a:r>
              <a:rPr b="1" lang="zh-CN" sz="4800" spc="-1" strike="noStrike">
                <a:solidFill>
                  <a:srgbClr val="001414"/>
                </a:solidFill>
                <a:latin typeface="Arial"/>
              </a:rPr>
              <a:t>(5a-3b) – 3(a</a:t>
            </a:r>
            <a:r>
              <a:rPr b="1" lang="zh-CN" sz="4800" spc="-1" strike="noStrike" baseline="30000">
                <a:solidFill>
                  <a:srgbClr val="001414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Arial"/>
              </a:rPr>
              <a:t> -2b)+7(3b+2a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414"/>
                </a:solidFill>
                <a:latin typeface="Arial"/>
              </a:rPr>
              <a:t>2.  </a:t>
            </a:r>
            <a:r>
              <a:rPr b="1" lang="zh-CN" sz="5400" spc="-1" strike="noStrike">
                <a:solidFill>
                  <a:srgbClr val="001414"/>
                </a:solidFill>
                <a:latin typeface="Arial"/>
              </a:rPr>
              <a:t>3b -2c - [ - 4a+(c+3b)]+c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35686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解：原式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=3b-2c-[-4a+c+3b]+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2163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=3b-2c+4a-c-3b+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01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= - 2c+4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333360"/>
            <a:ext cx="914400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dc5900"/>
                </a:solidFill>
                <a:latin typeface="Times New Roman"/>
              </a:rPr>
              <a:t>先</a:t>
            </a:r>
            <a:r>
              <a:rPr b="1" lang="zh-CN" sz="3200" spc="-1" strike="noStrike">
                <a:solidFill>
                  <a:srgbClr val="001414"/>
                </a:solidFill>
                <a:latin typeface="Times New Roman"/>
              </a:rPr>
              <a:t>去括号，</a:t>
            </a:r>
            <a:r>
              <a:rPr b="1" lang="zh-CN" sz="3200" spc="-1" strike="noStrike">
                <a:solidFill>
                  <a:srgbClr val="dc5900"/>
                </a:solidFill>
                <a:latin typeface="Times New Roman"/>
              </a:rPr>
              <a:t>再合并</a:t>
            </a:r>
            <a:r>
              <a:rPr b="1" lang="zh-CN" sz="3200" spc="-1" strike="noStrike">
                <a:solidFill>
                  <a:srgbClr val="001414"/>
                </a:solidFill>
                <a:latin typeface="Times New Roman"/>
              </a:rPr>
              <a:t>同类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(x + y – z )+( x + y + z )-( x – y – z 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(a </a:t>
            </a:r>
            <a:r>
              <a:rPr b="1" lang="zh-CN" sz="54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+2ab +b</a:t>
            </a:r>
            <a:r>
              <a:rPr b="1" lang="zh-CN" sz="54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) - (a </a:t>
            </a:r>
            <a:r>
              <a:rPr b="1" lang="zh-CN" sz="54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 – 2ab + b</a:t>
            </a:r>
            <a:r>
              <a:rPr b="1" lang="zh-CN" sz="54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3( 2x 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– y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) – 2 ( 3y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 – 2x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76280"/>
            <a:ext cx="914400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华文隶书"/>
                <a:ea typeface="华文隶书"/>
              </a:rPr>
              <a:t>练习 </a:t>
            </a:r>
            <a:r>
              <a:rPr b="1" lang="zh-CN" sz="2800" spc="-1" strike="noStrike">
                <a:solidFill>
                  <a:srgbClr val="001414"/>
                </a:solidFill>
                <a:latin typeface="华文隶书"/>
                <a:ea typeface="华文隶书"/>
              </a:rPr>
              <a:t>2 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化简</a:t>
            </a:r>
            <a:r>
              <a:rPr b="1" lang="zh-CN" sz="2800" spc="-1" strike="noStrike">
                <a:solidFill>
                  <a:srgbClr val="001414"/>
                </a:solidFill>
                <a:latin typeface="华文隶书"/>
                <a:ea typeface="华文隶书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a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 - 2(a b – b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 ) – b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(x  -  y  )-3 ( 2 x  - 3 y  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– 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(- 4a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 b +5ab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) –2( 2a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 b – 3ab</a:t>
            </a:r>
            <a:r>
              <a:rPr b="1" lang="zh-CN" sz="4800" spc="-1" strike="noStrike" baseline="30000">
                <a:solidFill>
                  <a:srgbClr val="001414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1414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4440" y="123840"/>
            <a:ext cx="700884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           </a:t>
            </a:r>
            <a:r>
              <a:rPr b="0" lang="zh-CN" sz="4000" spc="-1" strike="noStrike">
                <a:solidFill>
                  <a:srgbClr val="007a77"/>
                </a:solidFill>
                <a:latin typeface="华文隶书"/>
                <a:ea typeface="华文隶书"/>
              </a:rPr>
              <a:t>小        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960" y="770040"/>
            <a:ext cx="81536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  <a:ea typeface="隶书"/>
              </a:rPr>
              <a:t>去括号法则：</a:t>
            </a:r>
            <a:endParaRPr b="0" lang="en-US" sz="4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14"/>
                </a:solidFill>
                <a:latin typeface="Times New Roman"/>
              </a:rPr>
              <a:t>括号前面是正号，把括号和他前面的正号一起去掉括号内各项都不改变符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14"/>
                </a:solidFill>
                <a:latin typeface="Times New Roman"/>
              </a:rPr>
              <a:t>括号前面是负号，把括号和他前面的负号一起去掉括号内各项都改变符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6600"/>
                </a:solidFill>
                <a:latin typeface="Arial"/>
                <a:ea typeface="隶书"/>
              </a:rPr>
              <a:t>小结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本节课我们学习了哪些知识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去括号法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本节课我们用了哪些数学方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 ⑴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从特殊到一般的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 ⑵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对比法、归纳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本节课我们用了哪些相关的知识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分配率、相反数、合并同类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76280"/>
            <a:ext cx="91440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</a:rPr>
              <a:t>1.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a+b=4      -a-b=     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4 -a-b=</a:t>
            </a:r>
            <a:r>
              <a:rPr b="0" lang="zh-CN" sz="6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5900"/>
                </a:solidFill>
                <a:latin typeface="Arial"/>
              </a:rPr>
              <a:t>2.  </a:t>
            </a:r>
            <a:r>
              <a:rPr b="1" lang="zh-CN" sz="6000" spc="-1" strike="noStrike">
                <a:solidFill>
                  <a:srgbClr val="001414"/>
                </a:solidFill>
                <a:latin typeface="Arial"/>
              </a:rPr>
              <a:t>48 -a - [ - 4a+(2a+3)],</a:t>
            </a:r>
            <a:r>
              <a:rPr b="1" lang="zh-CN" sz="6000" spc="-1" strike="noStrike">
                <a:solidFill>
                  <a:srgbClr val="001414"/>
                </a:solidFill>
                <a:latin typeface="Arial"/>
              </a:rPr>
              <a:t>其中</a:t>
            </a:r>
            <a:r>
              <a:rPr b="1" lang="zh-CN" sz="6000" spc="-1" strike="noStrike">
                <a:solidFill>
                  <a:srgbClr val="001414"/>
                </a:solidFill>
                <a:latin typeface="Arial"/>
              </a:rPr>
              <a:t>= -1</a:t>
            </a:r>
            <a:r>
              <a:rPr b="1" lang="zh-CN" sz="6000" spc="-1" strike="noStrike">
                <a:solidFill>
                  <a:srgbClr val="001414"/>
                </a:solidFill>
                <a:latin typeface="Arial"/>
              </a:rPr>
              <a:t>，先化简，再求值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</a:rPr>
              <a:t>学法指导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、学会推导去括号法则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ff"/>
                </a:solidFill>
                <a:latin typeface="Arial"/>
              </a:rPr>
              <a:t>重点是去括号法则的</a:t>
            </a:r>
            <a:r>
              <a:rPr b="0" lang="zh-CN" sz="4800" spc="-1" strike="noStrike">
                <a:solidFill>
                  <a:srgbClr val="dc5900"/>
                </a:solidFill>
                <a:latin typeface="Arial"/>
              </a:rPr>
              <a:t>推导</a:t>
            </a:r>
            <a:r>
              <a:rPr b="0" lang="zh-CN" sz="4800" spc="-1" strike="noStrike">
                <a:solidFill>
                  <a:srgbClr val="3366ff"/>
                </a:solidFill>
                <a:latin typeface="Arial"/>
              </a:rPr>
              <a:t>和运用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ff"/>
                </a:solidFill>
                <a:latin typeface="Arial"/>
              </a:rPr>
              <a:t>难点是括号前面是“</a:t>
            </a:r>
            <a:r>
              <a:rPr b="0" lang="zh-CN" sz="6000" spc="-1" strike="noStrike">
                <a:solidFill>
                  <a:srgbClr val="dc5900"/>
                </a:solidFill>
                <a:latin typeface="Arial"/>
              </a:rPr>
              <a:t>一</a:t>
            </a:r>
            <a:r>
              <a:rPr b="0" lang="zh-CN" sz="4800" spc="-1" strike="noStrike">
                <a:solidFill>
                  <a:srgbClr val="3366ff"/>
                </a:solidFill>
                <a:latin typeface="Arial"/>
              </a:rPr>
              <a:t>”号时的去括号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、学会用去括号法则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化简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代数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59800" y="10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1280" y="3357720"/>
            <a:ext cx="7891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c5900"/>
                </a:solidFill>
                <a:latin typeface="华文行楷"/>
                <a:ea typeface="华文行楷"/>
              </a:rPr>
              <a:t>祝同学们学习进步      学业有成！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0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5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50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20522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9022"/>
                            </p:stCondLst>
                            <p:childTnLst>
                              <p:par>
                                <p:cTn id="4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1022"/>
                            </p:stCondLst>
                            <p:childTnLst>
                              <p:par>
                                <p:cTn id="4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2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3022"/>
                            </p:stCondLst>
                            <p:childTnLst>
                              <p:par>
                                <p:cTn id="484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5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9520" y="3459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琥珀"/>
              </a:rPr>
              <a:t>自主学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8446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掌握去括号法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能进行去括号的运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学会利用去括号解决问题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自主解决例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试着完成随堂练习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57200" y="1300320"/>
            <a:ext cx="655164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引例一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:     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教室里原有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名同学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体育课                       后同学们陆续回到教室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第一批回来了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名同学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第二批回来了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名同学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则教室里共有                名同学 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我们可以这样理解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后来两批一共回来了          名同学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因而教室里共有                 名同学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由于      </a:t>
            </a:r>
            <a:r>
              <a:rPr b="1" lang="zh-CN" sz="1800" spc="-1" strike="noStrike">
                <a:solidFill>
                  <a:srgbClr val="0014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　　　　和                均表示同一个量，于是得到（１）式：                                      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3143160"/>
            <a:ext cx="1511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6400" y="3430440"/>
            <a:ext cx="935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1120" y="4076640"/>
            <a:ext cx="1656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4653000"/>
            <a:ext cx="1440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4653000"/>
            <a:ext cx="1512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4076640"/>
            <a:ext cx="158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79640" y="2708280"/>
                <a:ext cx="1438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43280" y="3068640"/>
                <a:ext cx="10796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76720" y="3573360"/>
                <a:ext cx="1798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32000" y="4076640"/>
                <a:ext cx="15858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203640" y="4076640"/>
                <a:ext cx="1655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463840" y="5357880"/>
                <a:ext cx="40291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40464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问题二：教室内原有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名同学，第一批走了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名同学，第二批又走了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名同学。两批一共走了</a:t>
            </a:r>
            <a:r>
              <a:rPr b="0" lang="zh-CN" sz="3200" spc="-1" strike="noStrike" u="sng">
                <a:solidFill>
                  <a:srgbClr val="001414"/>
                </a:solidFill>
                <a:uFillTx/>
                <a:latin typeface="Times New Roman"/>
              </a:rPr>
              <a:t>　　　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名同学，教室内还剩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_______</a:t>
            </a:r>
            <a:r>
              <a:rPr b="0" lang="zh-CN" sz="3200" spc="-1" strike="noStrike" u="sng">
                <a:solidFill>
                  <a:srgbClr val="001414"/>
                </a:solidFill>
                <a:uFillTx/>
                <a:latin typeface="Times New Roman"/>
              </a:rPr>
              <a:t>　      　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名同学；第一批走后教室内剩</a:t>
            </a:r>
            <a:r>
              <a:rPr b="0" lang="zh-CN" sz="3200" spc="-1" strike="noStrike" u="sng">
                <a:solidFill>
                  <a:srgbClr val="001414"/>
                </a:solidFill>
                <a:uFillTx/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名同学，第二批走后教室内剩</a:t>
            </a:r>
            <a:r>
              <a:rPr b="0" lang="zh-CN" sz="3200" spc="-1" strike="noStrike" u="sng">
                <a:solidFill>
                  <a:srgbClr val="001414"/>
                </a:solidFill>
                <a:uFillTx/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001414"/>
                </a:solidFill>
                <a:latin typeface="Times New Roman"/>
              </a:rPr>
              <a:t>名同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1197000"/>
            <a:ext cx="109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dc2e"/>
                </a:solidFill>
                <a:latin typeface="Times New Roman"/>
              </a:rPr>
              <a:t>b+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6200" y="3062160"/>
            <a:ext cx="6248160" cy="64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见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-(b+c)=a-b-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084640"/>
            <a:ext cx="708660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1414"/>
                </a:solidFill>
                <a:latin typeface="Times New Roman"/>
              </a:rPr>
              <a:t>又如：</a:t>
            </a:r>
            <a:r>
              <a:rPr b="1" lang="zh-CN" sz="2600" spc="-1" strike="noStrike">
                <a:solidFill>
                  <a:srgbClr val="001414"/>
                </a:solidFill>
                <a:latin typeface="Times New Roman"/>
              </a:rPr>
              <a:t>a+(b+c)     a+b+c          12+(8+5)   12+8+5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1414"/>
                </a:solidFill>
                <a:latin typeface="Times New Roman"/>
              </a:rPr>
              <a:t>	</a:t>
            </a:r>
            <a:r>
              <a:rPr b="1" lang="zh-CN" sz="2600" spc="-1" strike="noStrike">
                <a:solidFill>
                  <a:srgbClr val="001414"/>
                </a:solidFill>
                <a:latin typeface="Times New Roman"/>
              </a:rPr>
              <a:t>20-(5+6)    20-5-6         16-(8-4)     16-8+4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10320" y="5173560"/>
            <a:ext cx="36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67360" y="1225440"/>
            <a:ext cx="1644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imes New Roman"/>
              </a:rPr>
              <a:t>a-(b+c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1773360"/>
            <a:ext cx="172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a – b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2349360"/>
            <a:ext cx="2951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（ 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a – b – c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720" y="5157720"/>
            <a:ext cx="534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007a77"/>
                </a:solidFill>
                <a:latin typeface="Times New Roman"/>
              </a:rPr>
              <a:t>= 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03920" y="5668920"/>
            <a:ext cx="36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53400" y="5702400"/>
            <a:ext cx="45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007a77"/>
                </a:solidFill>
                <a:latin typeface="Times New Roman"/>
              </a:rPr>
              <a:t>=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60600" y="3981600"/>
                <a:ext cx="40291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8000" y="549360"/>
            <a:ext cx="563904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Times New Roman"/>
              </a:rPr>
              <a:t>仔细观察，有何规律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14"/>
                </a:solidFill>
                <a:latin typeface="Times New Roman"/>
              </a:rPr>
              <a:t>a+(+b+c)=a+b+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14"/>
                </a:solidFill>
                <a:latin typeface="Times New Roman"/>
              </a:rPr>
              <a:t>a-(+b+c)=a-b-c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743200" y="1523520"/>
            <a:ext cx="2286000" cy="1143360"/>
            <a:chOff x="2743200" y="1523520"/>
            <a:chExt cx="2286000" cy="1143360"/>
          </a:xfrm>
        </p:grpSpPr>
        <p:sp>
          <p:nvSpPr>
            <p:cNvPr id="116" name=""/>
            <p:cNvSpPr/>
            <p:nvPr/>
          </p:nvSpPr>
          <p:spPr>
            <a:xfrm flipV="1">
              <a:off x="2743200" y="1523520"/>
              <a:ext cx="0" cy="3049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9520" y="1523880"/>
              <a:ext cx="15238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43400" y="1523880"/>
              <a:ext cx="0" cy="3049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6720" y="2286000"/>
              <a:ext cx="0" cy="3808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6720" y="2590920"/>
              <a:ext cx="1752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029200" y="2285640"/>
              <a:ext cx="0" cy="3049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867280" y="476280"/>
            <a:ext cx="1522440" cy="1265400"/>
            <a:chOff x="5867280" y="476280"/>
            <a:chExt cx="1522440" cy="1265400"/>
          </a:xfrm>
        </p:grpSpPr>
        <p:sp>
          <p:nvSpPr>
            <p:cNvPr id="123" name=""/>
            <p:cNvSpPr/>
            <p:nvPr/>
          </p:nvSpPr>
          <p:spPr>
            <a:xfrm>
              <a:off x="5867280" y="476280"/>
              <a:ext cx="1446120" cy="1143000"/>
            </a:xfrm>
            <a:prstGeom prst="wedgeRectCallout">
              <a:avLst>
                <a:gd name="adj1" fmla="val -84759"/>
                <a:gd name="adj2" fmla="val 89722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280" y="552600"/>
              <a:ext cx="15224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1414"/>
                  </a:solidFill>
                  <a:latin typeface="Times New Roman"/>
                </a:rPr>
                <a:t>括号没了符号没变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0880" y="915840"/>
            <a:ext cx="1373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38080" y="1219320"/>
            <a:ext cx="915840" cy="759960"/>
            <a:chOff x="838080" y="1219320"/>
            <a:chExt cx="915840" cy="759960"/>
          </a:xfrm>
        </p:grpSpPr>
        <p:sp>
          <p:nvSpPr>
            <p:cNvPr id="127" name=""/>
            <p:cNvSpPr/>
            <p:nvPr/>
          </p:nvSpPr>
          <p:spPr>
            <a:xfrm>
              <a:off x="838080" y="1371240"/>
              <a:ext cx="915840" cy="608040"/>
            </a:xfrm>
            <a:prstGeom prst="wedgeEllipseCallout">
              <a:avLst>
                <a:gd name="adj1" fmla="val 106250"/>
                <a:gd name="adj2" fmla="val 39324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7040" y="1219320"/>
              <a:ext cx="504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300" spc="-1" strike="noStrike">
                  <a:solidFill>
                    <a:srgbClr val="007a77"/>
                  </a:solidFill>
                  <a:latin typeface="Times New Roman"/>
                </a:rPr>
                <a:t>+</a:t>
              </a:r>
              <a:endParaRPr b="0" lang="en-US" sz="43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85800" y="2743200"/>
            <a:ext cx="1447920" cy="912600"/>
            <a:chOff x="685800" y="2743200"/>
            <a:chExt cx="1447920" cy="912600"/>
          </a:xfrm>
        </p:grpSpPr>
        <p:sp>
          <p:nvSpPr>
            <p:cNvPr id="130" name=""/>
            <p:cNvSpPr/>
            <p:nvPr/>
          </p:nvSpPr>
          <p:spPr>
            <a:xfrm>
              <a:off x="685800" y="2743200"/>
              <a:ext cx="144792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080" y="3047400"/>
              <a:ext cx="914400" cy="608400"/>
            </a:xfrm>
            <a:prstGeom prst="wedgeEllipseCallout">
              <a:avLst>
                <a:gd name="adj1" fmla="val 103300"/>
                <a:gd name="adj2" fmla="val 79166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666880" y="3352320"/>
            <a:ext cx="1905120" cy="1219680"/>
            <a:chOff x="2666880" y="3352320"/>
            <a:chExt cx="1905120" cy="1219680"/>
          </a:xfrm>
        </p:grpSpPr>
        <p:sp>
          <p:nvSpPr>
            <p:cNvPr id="133" name=""/>
            <p:cNvSpPr/>
            <p:nvPr/>
          </p:nvSpPr>
          <p:spPr>
            <a:xfrm flipV="1">
              <a:off x="2666880" y="3352320"/>
              <a:ext cx="0" cy="3812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3352680"/>
              <a:ext cx="15242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3352680"/>
              <a:ext cx="0" cy="3812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24080" y="4267080"/>
              <a:ext cx="0" cy="2286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24080" y="4572000"/>
              <a:ext cx="14479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572000" y="4266720"/>
              <a:ext cx="0" cy="3049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796000" y="2637000"/>
            <a:ext cx="1525680" cy="988920"/>
          </a:xfrm>
          <a:prstGeom prst="wedgeRectCallout">
            <a:avLst>
              <a:gd name="adj1" fmla="val -109481"/>
              <a:gd name="adj2" fmla="val 7003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Times New Roman"/>
              </a:rPr>
              <a:t>括号没了符号变了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84720" cy="1143000"/>
          </a:xfrm>
          <a:prstGeom prst="rect">
            <a:avLst/>
          </a:prstGeom>
          <a:solidFill>
            <a:srgbClr val="89e38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6600"/>
                </a:solidFill>
                <a:uFillTx/>
                <a:latin typeface="Arial"/>
                <a:ea typeface="楷体_GB2312"/>
              </a:rPr>
              <a:t>去括号法则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括号前面是“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+”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号，把括号和它前面的“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+”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号去掉，括号里各项都不变符号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括号前面是“一”号，把括号和它前面的“一”号去掉，括号里各项都改变符号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63640" y="692280"/>
            <a:ext cx="4249800" cy="579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明辨是非　巩固法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5840" y="1484280"/>
            <a:ext cx="626580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下面的去括号有没有错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若有错，请改正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0920" y="2709720"/>
                <a:ext cx="4464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755640" y="2781360"/>
            <a:ext cx="1295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１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4360" y="3430440"/>
            <a:ext cx="5830560" cy="760680"/>
            <a:chOff x="684360" y="3430440"/>
            <a:chExt cx="5830560" cy="760680"/>
          </a:xfrm>
        </p:grpSpPr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050560" y="3430440"/>
                  <a:ext cx="446436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" name=""/>
            <p:cNvSpPr/>
            <p:nvPr/>
          </p:nvSpPr>
          <p:spPr>
            <a:xfrm>
              <a:off x="684360" y="3574440"/>
              <a:ext cx="15120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改正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79640" y="4221000"/>
                <a:ext cx="50403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1280" y="4221000"/>
            <a:ext cx="1657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２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25480" y="5013360"/>
            <a:ext cx="6122520" cy="654120"/>
            <a:chOff x="825480" y="5013360"/>
            <a:chExt cx="6122520" cy="65412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978200" y="5013360"/>
                  <a:ext cx="49698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xy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825480" y="5084640"/>
              <a:ext cx="13687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改正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885080" y="5805360"/>
            <a:ext cx="35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252360" y="0"/>
            <a:ext cx="9396360" cy="30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14"/>
                </a:solidFill>
                <a:latin typeface="Times New Roman"/>
              </a:rPr>
              <a:t>第一组，去括号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14"/>
                </a:solidFill>
                <a:latin typeface="Times New Roman"/>
              </a:rPr>
              <a:t>	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1) a+(b-c)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	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2) a-(b-c)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	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3)a+(-b+c)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	</a:t>
            </a:r>
            <a:r>
              <a:rPr b="1" lang="zh-CN" sz="5400" spc="-1" strike="noStrike">
                <a:solidFill>
                  <a:srgbClr val="001414"/>
                </a:solidFill>
                <a:latin typeface="Times New Roman"/>
              </a:rPr>
              <a:t>4)a-(-b-c)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068640"/>
            <a:ext cx="7763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414"/>
                </a:solidFill>
                <a:latin typeface="Times New Roman"/>
              </a:rPr>
              <a:t>解：</a:t>
            </a:r>
            <a:r>
              <a:rPr b="1" lang="zh-CN" sz="6000" spc="-1" strike="noStrike">
                <a:solidFill>
                  <a:srgbClr val="001414"/>
                </a:solidFill>
                <a:latin typeface="Times New Roman"/>
              </a:rPr>
              <a:t>1</a:t>
            </a:r>
            <a:r>
              <a:rPr b="1" lang="zh-CN" sz="6000" spc="-1" strike="noStrike">
                <a:solidFill>
                  <a:srgbClr val="001414"/>
                </a:solidFill>
                <a:latin typeface="Times New Roman"/>
              </a:rPr>
              <a:t>） </a:t>
            </a:r>
            <a:r>
              <a:rPr b="1" lang="zh-CN" sz="6000" spc="-1" strike="noStrike">
                <a:solidFill>
                  <a:srgbClr val="001414"/>
                </a:solidFill>
                <a:latin typeface="Times New Roman"/>
              </a:rPr>
              <a:t>a+(b-c)=a+b-c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3933720"/>
            <a:ext cx="914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1414"/>
                </a:solidFill>
                <a:latin typeface="Times New Roman"/>
              </a:rPr>
              <a:t>2)a-(b-c)=a-b+c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573360"/>
            <a:ext cx="867564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414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1414"/>
                </a:solidFill>
                <a:latin typeface="Arial"/>
              </a:rPr>
              <a:t>3)a+(-b+c)=a-b+c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414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414"/>
                </a:solidFill>
                <a:latin typeface="Arial"/>
              </a:rPr>
              <a:t>4)a-(-b-c)=a+b+c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02:47:23Z</dcterms:created>
  <dc:creator>覃良谋</dc:creator>
  <dc:description/>
  <dc:language>en-US</dc:language>
  <cp:lastModifiedBy>Admin</cp:lastModifiedBy>
  <dcterms:modified xsi:type="dcterms:W3CDTF">2008-10-27T07:30:00Z</dcterms:modified>
  <cp:revision>15</cp:revision>
  <dc:subject/>
  <dc:title>课题：去括号</dc:title>
</cp:coreProperties>
</file>