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hammer.wav" ContentType="audio/x-wav"/>
  <Override PartName="/ppt/media/image36.jpeg" ContentType="image/jpeg"/>
  <Override PartName="/ppt/media/image18.png" ContentType="image/png"/>
  <Override PartName="/ppt/media/image9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34A-FE16-484A-9BCE-0B6BF7A5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AA6-8129-4E7C-872A-35440E4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7E6-7560-443F-A2FE-F1E689A0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9E0-2710-439D-9965-CB8A22DC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FBF-7F8C-4684-AA7B-CFDD918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F84-F7AB-4387-B5ED-385CB83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B0C-DD42-4683-8292-76BD25C6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FD0-9561-4944-A658-5F95993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A66-0B1A-46A8-9B53-AA25B12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062-1DF6-4B71-9382-ECBB825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992-873B-4554-AABF-7293035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479-7BAB-42DE-839A-28DAEC5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D3D-60A8-425D-9DBE-DA0EDAD377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52560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课间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活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146400" y="10112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北师大版二年级数学上册第五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35640" y="5157720"/>
            <a:ext cx="201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571680" y="16430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里填上“＞”、“＜”或“＝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10" descr="14.png"/>
          <p:cNvPicPr/>
          <p:nvPr/>
        </p:nvPicPr>
        <p:blipFill>
          <a:blip r:embed="rId2"/>
          <a:stretch/>
        </p:blipFill>
        <p:spPr>
          <a:xfrm>
            <a:off x="125280" y="3043080"/>
            <a:ext cx="8655120" cy="1392480"/>
          </a:xfrm>
          <a:prstGeom prst="rect">
            <a:avLst/>
          </a:prstGeom>
          <a:ln w="0">
            <a:noFill/>
          </a:ln>
        </p:spPr>
      </p:pic>
      <p:sp>
        <p:nvSpPr>
          <p:cNvPr id="153" name="椭圆 11"/>
          <p:cNvSpPr/>
          <p:nvPr/>
        </p:nvSpPr>
        <p:spPr>
          <a:xfrm>
            <a:off x="1595520" y="1738440"/>
            <a:ext cx="468360" cy="46656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573120" y="3624120"/>
            <a:ext cx="542880" cy="208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30360" y="362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354480" y="3645000"/>
            <a:ext cx="485640" cy="144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354480" y="3646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4700520" y="3629160"/>
            <a:ext cx="48600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700520" y="3629160"/>
            <a:ext cx="4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776920" y="362916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776920" y="3629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6853320" y="362916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6853320" y="3629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7929720" y="362916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929720" y="3629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555480" y="4181400"/>
            <a:ext cx="544680" cy="2232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614520" y="4181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3552840" y="420372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3552840" y="420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4684680" y="4186080"/>
            <a:ext cx="485640" cy="18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684680" y="418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5761080" y="4186080"/>
            <a:ext cx="485640" cy="18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761080" y="418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908760" y="411480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6908760" y="4114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7985160" y="4114800"/>
            <a:ext cx="48564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7985160" y="4114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2532240" y="4186080"/>
            <a:ext cx="485640" cy="180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2532240" y="418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1116000" y="3187800"/>
            <a:ext cx="5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2781360" y="3187800"/>
            <a:ext cx="5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5205240" y="31701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7413480" y="32259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1100160" y="36734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3092400" y="37274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5229360" y="37116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7429680" y="37450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244440" y="134316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各需付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15.png"/>
          <p:cNvPicPr/>
          <p:nvPr/>
        </p:nvPicPr>
        <p:blipFill>
          <a:blip r:embed="rId1"/>
          <a:stretch/>
        </p:blipFill>
        <p:spPr>
          <a:xfrm>
            <a:off x="1282680" y="2266920"/>
            <a:ext cx="3500280" cy="28288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16.png"/>
          <p:cNvPicPr/>
          <p:nvPr/>
        </p:nvPicPr>
        <p:blipFill>
          <a:blip r:embed="rId2"/>
          <a:stretch/>
        </p:blipFill>
        <p:spPr>
          <a:xfrm>
            <a:off x="6611760" y="2897280"/>
            <a:ext cx="1528920" cy="31748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6" descr="17.png"/>
          <p:cNvPicPr/>
          <p:nvPr/>
        </p:nvPicPr>
        <p:blipFill>
          <a:blip r:embed="rId3"/>
          <a:stretch/>
        </p:blipFill>
        <p:spPr>
          <a:xfrm>
            <a:off x="733320" y="3755880"/>
            <a:ext cx="176364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7" descr="18.png"/>
          <p:cNvPicPr/>
          <p:nvPr/>
        </p:nvPicPr>
        <p:blipFill>
          <a:blip r:embed="rId4"/>
          <a:stretch/>
        </p:blipFill>
        <p:spPr>
          <a:xfrm>
            <a:off x="4354560" y="2725560"/>
            <a:ext cx="2259000" cy="6289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8" descr="19.png"/>
          <p:cNvPicPr/>
          <p:nvPr/>
        </p:nvPicPr>
        <p:blipFill>
          <a:blip r:embed="rId5"/>
          <a:stretch/>
        </p:blipFill>
        <p:spPr>
          <a:xfrm>
            <a:off x="6692760" y="2266920"/>
            <a:ext cx="2376720" cy="10065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9" descr="4.png"/>
          <p:cNvPicPr/>
          <p:nvPr/>
        </p:nvPicPr>
        <p:blipFill>
          <a:blip r:embed="rId6"/>
          <a:stretch/>
        </p:blipFill>
        <p:spPr>
          <a:xfrm>
            <a:off x="2771640" y="3138480"/>
            <a:ext cx="885960" cy="431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668160" y="49546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5×3=15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222800" y="197820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7×5=35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500720" y="417528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×5=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500720" y="461628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×3=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4222800" y="515160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+3=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160640" y="5656320"/>
            <a:ext cx="72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：小女孩需要付</a:t>
            </a:r>
            <a:r>
              <a:rPr b="1" lang="en-US" sz="2400" spc="-1" strike="noStrike">
                <a:solidFill>
                  <a:srgbClr val="6600ff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成人需要付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三口之家需要付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6"/>
          <p:cNvSpPr/>
          <p:nvPr/>
        </p:nvSpPr>
        <p:spPr>
          <a:xfrm>
            <a:off x="2571840" y="3354480"/>
            <a:ext cx="1295280" cy="299880"/>
          </a:xfrm>
          <a:prstGeom prst="ellipse">
            <a:avLst/>
          </a:prstGeom>
          <a:noFill/>
          <a:ln w="442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7"/>
          <p:cNvSpPr/>
          <p:nvPr/>
        </p:nvSpPr>
        <p:spPr>
          <a:xfrm>
            <a:off x="2571840" y="3124080"/>
            <a:ext cx="1295280" cy="230400"/>
          </a:xfrm>
          <a:prstGeom prst="ellipse">
            <a:avLst/>
          </a:prstGeom>
          <a:noFill/>
          <a:ln w="442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图片8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3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>
              <a:gd name="textAreaLeft" fmla="*/ 48240 w 144360"/>
              <a:gd name="textAreaRight" fmla="*/ 96480 w 14436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>
              <a:gd name="textAreaLeft" fmla="*/ 48240 w 144360"/>
              <a:gd name="textAreaRight" fmla="*/ 9648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flipV="1" rot="17506200">
            <a:off x="1474920" y="3068640"/>
            <a:ext cx="144720" cy="2447640"/>
          </a:xfrm>
          <a:custGeom>
            <a:avLst/>
            <a:gdLst>
              <a:gd name="textAreaLeft" fmla="*/ 48240 w 144720"/>
              <a:gd name="textAreaRight" fmla="*/ 96480 w 144720"/>
              <a:gd name="textAreaTop" fmla="*/ 815760 h 2447640"/>
              <a:gd name="textAreaBottom" fmla="*/ 16318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flipV="1" rot="16534800">
            <a:off x="1259640" y="4221720"/>
            <a:ext cx="144360" cy="2448000"/>
          </a:xfrm>
          <a:custGeom>
            <a:avLst/>
            <a:gdLst>
              <a:gd name="textAreaLeft" fmla="*/ 48240 w 144360"/>
              <a:gd name="textAreaRight" fmla="*/ 9648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1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>
              <a:gd name="textAreaLeft" fmla="*/ 47880 w 144360"/>
              <a:gd name="textAreaRight" fmla="*/ 96120 w 144360"/>
              <a:gd name="textAreaTop" fmla="*/ 816120 h 2448360"/>
              <a:gd name="textAreaBottom" fmla="*/ 1632240 h 24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 flipH="1" flipV="1" rot="4093800">
            <a:off x="7381080" y="3068280"/>
            <a:ext cx="144720" cy="2448000"/>
          </a:xfrm>
          <a:custGeom>
            <a:avLst/>
            <a:gdLst>
              <a:gd name="textAreaLeft" fmla="*/ 48240 w 144720"/>
              <a:gd name="textAreaRight" fmla="*/ 96480 w 14472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 flipH="1" flipV="1" rot="5065200">
            <a:off x="7596000" y="4221720"/>
            <a:ext cx="144360" cy="2448000"/>
          </a:xfrm>
          <a:custGeom>
            <a:avLst/>
            <a:gdLst>
              <a:gd name="textAreaLeft" fmla="*/ 47880 w 144360"/>
              <a:gd name="textAreaRight" fmla="*/ 96120 w 144360"/>
              <a:gd name="textAreaTop" fmla="*/ 816480 h 2448000"/>
              <a:gd name="textAreaBottom" fmla="*/ 16326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619280" y="47628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说一说，算一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6365880" cy="4797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SCN0789_2345看图王(1)"/>
          <p:cNvPicPr/>
          <p:nvPr/>
        </p:nvPicPr>
        <p:blipFill>
          <a:blip r:embed="rId3"/>
          <a:stretch/>
        </p:blipFill>
        <p:spPr>
          <a:xfrm>
            <a:off x="3132000" y="2060640"/>
            <a:ext cx="5616720" cy="4390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95280" y="270828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你能提出一个数学问题并尝试解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2059544497"/>
          <p:cNvPicPr/>
          <p:nvPr/>
        </p:nvPicPr>
        <p:blipFill>
          <a:blip r:embed="rId1"/>
          <a:stretch/>
        </p:blipFill>
        <p:spPr>
          <a:xfrm>
            <a:off x="0" y="2276640"/>
            <a:ext cx="9109080" cy="45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DSCN0790_2345看图王"/>
          <p:cNvPicPr/>
          <p:nvPr/>
        </p:nvPicPr>
        <p:blipFill>
          <a:blip r:embed="rId2"/>
          <a:stretch/>
        </p:blipFill>
        <p:spPr>
          <a:xfrm>
            <a:off x="684360" y="2708280"/>
            <a:ext cx="7704000" cy="367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6948360" y="404640"/>
            <a:ext cx="1513080" cy="1511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539640" y="476280"/>
            <a:ext cx="60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这幅图片可以提出什么数学问题呢？我们一起来开动小脑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539640" y="47628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你知道怎样列算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229440" y="262080"/>
            <a:ext cx="2448000" cy="1366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539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050920" y="19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492360" y="1989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5003640" y="1989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516720" y="1989000"/>
            <a:ext cx="9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299960" y="191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739960" y="191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53040" y="1917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797440" y="1989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250920" y="3213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仔细的想一想，这道加法算式可以写成乘法算式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539640" y="5086440"/>
            <a:ext cx="7993080" cy="1222200"/>
          </a:xfrm>
          <a:prstGeom prst="bracketPair">
            <a:avLst>
              <a:gd name="adj" fmla="val 17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900000" y="5373720"/>
            <a:ext cx="736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你能想出更简单的算法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7020000" y="1989000"/>
            <a:ext cx="1201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21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第一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92000" y="333000"/>
            <a:ext cx="5256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舞蹈队有多少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DSCN0786_2345看图王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333000"/>
            <a:ext cx="230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第二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50920" y="333000"/>
            <a:ext cx="51116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腰鼓队有多少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DSCN0787_2345看图王"/>
          <p:cNvPicPr/>
          <p:nvPr/>
        </p:nvPicPr>
        <p:blipFill>
          <a:blip r:embed="rId2"/>
          <a:stretch/>
        </p:blipFill>
        <p:spPr>
          <a:xfrm>
            <a:off x="468360" y="1628640"/>
            <a:ext cx="8096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2087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第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35280" y="404280"/>
            <a:ext cx="5546880" cy="9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合唱队有多少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655640" cy="1552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DSCN0788_2345看图王"/>
          <p:cNvPicPr/>
          <p:nvPr/>
        </p:nvPicPr>
        <p:blipFill>
          <a:blip r:embed="rId2"/>
          <a:stretch/>
        </p:blipFill>
        <p:spPr>
          <a:xfrm>
            <a:off x="541440" y="1628640"/>
            <a:ext cx="80661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46200" y="699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课间活动的具体场景，进一步巩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乘法口诀，通过图与式的对应，进一步理解乘法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熟练运用口诀进行计算，提高灵活运用口诀解决实际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展问题意识，体验口诀在解决问题中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重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熟练运用口诀进行计算，提高灵活运用口诀解决实际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2" descr="1.png"/>
          <p:cNvPicPr/>
          <p:nvPr/>
        </p:nvPicPr>
        <p:blipFill>
          <a:blip r:embed="rId1"/>
          <a:stretch/>
        </p:blipFill>
        <p:spPr>
          <a:xfrm>
            <a:off x="71280" y="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4" descr="2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008000" y="5805360"/>
            <a:ext cx="7927920" cy="563760"/>
          </a:xfrm>
          <a:prstGeom prst="rect">
            <a:avLst/>
          </a:prstGeom>
          <a:ln w="0">
            <a:noFill/>
          </a:ln>
        </p:spPr>
      </p:pic>
      <p:sp>
        <p:nvSpPr>
          <p:cNvPr id="47" name="椭圆 3"/>
          <p:cNvSpPr/>
          <p:nvPr/>
        </p:nvSpPr>
        <p:spPr>
          <a:xfrm>
            <a:off x="344520" y="793800"/>
            <a:ext cx="1274760" cy="3355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4"/>
          <p:cNvSpPr/>
          <p:nvPr/>
        </p:nvSpPr>
        <p:spPr>
          <a:xfrm>
            <a:off x="7702560" y="936720"/>
            <a:ext cx="1441440" cy="3355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5"/>
          <p:cNvSpPr/>
          <p:nvPr/>
        </p:nvSpPr>
        <p:spPr>
          <a:xfrm>
            <a:off x="2917800" y="1225440"/>
            <a:ext cx="3525840" cy="11700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1008000" y="5805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一说，你从图中知道了哪些数学信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3" descr="2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28760" y="1214280"/>
            <a:ext cx="7927920" cy="5637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20.png"/>
          <p:cNvPicPr/>
          <p:nvPr/>
        </p:nvPicPr>
        <p:blipFill>
          <a:blip r:embed="rId2"/>
          <a:stretch/>
        </p:blipFill>
        <p:spPr>
          <a:xfrm>
            <a:off x="1071720" y="1822320"/>
            <a:ext cx="714240" cy="26784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5" descr="20.png"/>
          <p:cNvPicPr/>
          <p:nvPr/>
        </p:nvPicPr>
        <p:blipFill>
          <a:blip r:embed="rId3"/>
          <a:stretch/>
        </p:blipFill>
        <p:spPr>
          <a:xfrm>
            <a:off x="2143080" y="1822320"/>
            <a:ext cx="714600" cy="2678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21.png"/>
          <p:cNvPicPr/>
          <p:nvPr/>
        </p:nvPicPr>
        <p:blipFill>
          <a:blip r:embed="rId4"/>
          <a:stretch/>
        </p:blipFill>
        <p:spPr>
          <a:xfrm>
            <a:off x="3784680" y="2428920"/>
            <a:ext cx="5168880" cy="1179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428760" y="450072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表示一共有多少面红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28760" y="544212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表示一共有多少个小朋友在拔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6" descr="5.png"/>
          <p:cNvPicPr/>
          <p:nvPr/>
        </p:nvPicPr>
        <p:blipFill>
          <a:blip r:embed="rId1"/>
          <a:stretch/>
        </p:blipFill>
        <p:spPr>
          <a:xfrm>
            <a:off x="1300320" y="476280"/>
            <a:ext cx="3141360" cy="485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77" descr="6.png"/>
          <p:cNvPicPr/>
          <p:nvPr/>
        </p:nvPicPr>
        <p:blipFill>
          <a:blip r:embed="rId2"/>
          <a:stretch/>
        </p:blipFill>
        <p:spPr>
          <a:xfrm>
            <a:off x="442800" y="1476360"/>
            <a:ext cx="4291200" cy="178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6000"/>
              </a:srgbClr>
            </a:outerShdw>
          </a:effectLst>
        </p:spPr>
      </p:pic>
      <p:pic>
        <p:nvPicPr>
          <p:cNvPr id="59" name="图片 78" descr="7.png"/>
          <p:cNvPicPr/>
          <p:nvPr/>
        </p:nvPicPr>
        <p:blipFill>
          <a:blip r:embed="rId3"/>
          <a:stretch/>
        </p:blipFill>
        <p:spPr>
          <a:xfrm>
            <a:off x="5183280" y="1149480"/>
            <a:ext cx="385740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6000"/>
              </a:srgbClr>
            </a:outerShdw>
          </a:effectLst>
        </p:spPr>
      </p:pic>
      <p:sp>
        <p:nvSpPr>
          <p:cNvPr id="60" name="TextBox 79"/>
          <p:cNvSpPr/>
          <p:nvPr/>
        </p:nvSpPr>
        <p:spPr>
          <a:xfrm>
            <a:off x="1000080" y="407196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×3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  <a:ea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0"/>
          <p:cNvSpPr/>
          <p:nvPr/>
        </p:nvSpPr>
        <p:spPr>
          <a:xfrm>
            <a:off x="1000080" y="462276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3×2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  <a:ea typeface="Arial"/>
              </a:rPr>
              <a:t>＝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6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  <a:ea typeface="Arial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1"/>
          <p:cNvSpPr/>
          <p:nvPr/>
        </p:nvSpPr>
        <p:spPr>
          <a:xfrm>
            <a:off x="5429160" y="4071960"/>
            <a:ext cx="15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3×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2"/>
          <p:cNvSpPr/>
          <p:nvPr/>
        </p:nvSpPr>
        <p:spPr>
          <a:xfrm>
            <a:off x="5442120" y="46512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5×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9"/>
          <p:cNvSpPr/>
          <p:nvPr/>
        </p:nvSpPr>
        <p:spPr>
          <a:xfrm>
            <a:off x="573120" y="5300640"/>
            <a:ext cx="378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表示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　　        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)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表示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(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9"/>
          <p:cNvSpPr/>
          <p:nvPr/>
        </p:nvSpPr>
        <p:spPr>
          <a:xfrm>
            <a:off x="5097600" y="5300640"/>
            <a:ext cx="394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(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018160" y="5300640"/>
            <a:ext cx="14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桌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878840" y="576252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6625800" y="5299200"/>
            <a:ext cx="14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组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6543720" y="593568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9"/>
          <p:cNvSpPr/>
          <p:nvPr/>
        </p:nvSpPr>
        <p:spPr>
          <a:xfrm>
            <a:off x="2428920" y="4071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6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  <a:ea typeface="Arial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1"/>
          <p:cNvSpPr/>
          <p:nvPr/>
        </p:nvSpPr>
        <p:spPr>
          <a:xfrm>
            <a:off x="6827760" y="407196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57120" y="31813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你能看图提出一个数学问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0" y="9619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黑体"/>
              </a:rPr>
              <a:t>打乒乓球的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4527720" y="70164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玩套圈游戏的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8.png"/>
          <p:cNvPicPr/>
          <p:nvPr/>
        </p:nvPicPr>
        <p:blipFill>
          <a:blip r:embed="rId1"/>
          <a:stretch/>
        </p:blipFill>
        <p:spPr>
          <a:xfrm>
            <a:off x="1325520" y="476280"/>
            <a:ext cx="357192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1.png"/>
          <p:cNvPicPr/>
          <p:nvPr/>
        </p:nvPicPr>
        <p:blipFill>
          <a:blip r:embed="rId2"/>
          <a:stretch/>
        </p:blipFill>
        <p:spPr>
          <a:xfrm>
            <a:off x="857160" y="968400"/>
            <a:ext cx="7502760" cy="30574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9.png"/>
          <p:cNvPicPr/>
          <p:nvPr/>
        </p:nvPicPr>
        <p:blipFill>
          <a:blip r:embed="rId3"/>
          <a:stretch/>
        </p:blipFill>
        <p:spPr>
          <a:xfrm>
            <a:off x="458640" y="3879720"/>
            <a:ext cx="3399120" cy="1540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10.png"/>
          <p:cNvPicPr/>
          <p:nvPr/>
        </p:nvPicPr>
        <p:blipFill>
          <a:blip r:embed="rId4"/>
          <a:stretch/>
        </p:blipFill>
        <p:spPr>
          <a:xfrm>
            <a:off x="5024520" y="3879720"/>
            <a:ext cx="3359160" cy="1473480"/>
          </a:xfrm>
          <a:prstGeom prst="rect">
            <a:avLst/>
          </a:prstGeom>
          <a:ln w="0">
            <a:noFill/>
          </a:ln>
        </p:spPr>
      </p:pic>
      <p:sp>
        <p:nvSpPr>
          <p:cNvPr id="79" name="椭圆 7"/>
          <p:cNvSpPr/>
          <p:nvPr/>
        </p:nvSpPr>
        <p:spPr>
          <a:xfrm>
            <a:off x="3346560" y="3587760"/>
            <a:ext cx="107460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"/>
          <p:cNvSpPr/>
          <p:nvPr/>
        </p:nvSpPr>
        <p:spPr>
          <a:xfrm>
            <a:off x="4805280" y="3587760"/>
            <a:ext cx="107640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"/>
          <p:cNvSpPr/>
          <p:nvPr/>
        </p:nvSpPr>
        <p:spPr>
          <a:xfrm>
            <a:off x="3492360" y="968400"/>
            <a:ext cx="1074960" cy="709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"/>
          <p:cNvSpPr/>
          <p:nvPr/>
        </p:nvSpPr>
        <p:spPr>
          <a:xfrm>
            <a:off x="5000760" y="1197000"/>
            <a:ext cx="73332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885960" y="50227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5×3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（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743040" y="5504040"/>
            <a:ext cx="36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（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214960" y="50227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×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202360" y="5602320"/>
            <a:ext cx="36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椭圆 15"/>
          <p:cNvGrpSpPr/>
          <p:nvPr/>
        </p:nvGrpSpPr>
        <p:grpSpPr>
          <a:xfrm>
            <a:off x="8589960" y="5200560"/>
            <a:ext cx="407880" cy="401760"/>
            <a:chOff x="8589960" y="5200560"/>
            <a:chExt cx="407880" cy="401760"/>
          </a:xfrm>
        </p:grpSpPr>
        <p:pic>
          <p:nvPicPr>
            <p:cNvPr id="88" name="椭圆 15" descr=""/>
            <p:cNvPicPr/>
            <p:nvPr/>
          </p:nvPicPr>
          <p:blipFill>
            <a:blip r:embed="rId5"/>
            <a:stretch/>
          </p:blipFill>
          <p:spPr>
            <a:xfrm>
              <a:off x="8589960" y="5200560"/>
              <a:ext cx="407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6"/>
            <p:cNvSpPr/>
            <p:nvPr/>
          </p:nvSpPr>
          <p:spPr>
            <a:xfrm>
              <a:off x="8694720" y="5278320"/>
              <a:ext cx="2062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椭圆 16"/>
          <p:cNvGrpSpPr/>
          <p:nvPr/>
        </p:nvGrpSpPr>
        <p:grpSpPr>
          <a:xfrm>
            <a:off x="8583480" y="5742000"/>
            <a:ext cx="407880" cy="403200"/>
            <a:chOff x="8583480" y="5742000"/>
            <a:chExt cx="407880" cy="403200"/>
          </a:xfrm>
        </p:grpSpPr>
        <p:pic>
          <p:nvPicPr>
            <p:cNvPr id="91" name="椭圆 16" descr=""/>
            <p:cNvPicPr/>
            <p:nvPr/>
          </p:nvPicPr>
          <p:blipFill>
            <a:blip r:embed="rId6"/>
            <a:stretch/>
          </p:blipFill>
          <p:spPr>
            <a:xfrm>
              <a:off x="8583480" y="5742000"/>
              <a:ext cx="4078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9"/>
            <p:cNvSpPr/>
            <p:nvPr/>
          </p:nvSpPr>
          <p:spPr>
            <a:xfrm>
              <a:off x="8686800" y="5823000"/>
              <a:ext cx="2062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4"/>
          <p:cNvSpPr/>
          <p:nvPr/>
        </p:nvSpPr>
        <p:spPr>
          <a:xfrm>
            <a:off x="2549520" y="5967360"/>
            <a:ext cx="36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一共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盆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一找，你还能用哪些乘法算式解决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" descr="1.png"/>
          <p:cNvPicPr/>
          <p:nvPr/>
        </p:nvPicPr>
        <p:blipFill>
          <a:blip r:embed="rId1"/>
          <a:stretch/>
        </p:blipFill>
        <p:spPr>
          <a:xfrm>
            <a:off x="684360" y="1600200"/>
            <a:ext cx="6553080" cy="326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427640" y="4975200"/>
            <a:ext cx="36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多少棵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140360" y="5568840"/>
            <a:ext cx="39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多少面小红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797040" y="488808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×5=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4360" y="5535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2=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0"/>
          <p:cNvPicPr/>
          <p:nvPr/>
        </p:nvPicPr>
        <p:blipFill>
          <a:blip r:embed="rId1"/>
          <a:stretch/>
        </p:blipFill>
        <p:spPr>
          <a:xfrm>
            <a:off x="895320" y="404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611280" y="101772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，说一说，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1" descr="12.png"/>
          <p:cNvPicPr/>
          <p:nvPr/>
        </p:nvPicPr>
        <p:blipFill>
          <a:blip r:embed="rId2"/>
          <a:stretch/>
        </p:blipFill>
        <p:spPr>
          <a:xfrm>
            <a:off x="142920" y="1703520"/>
            <a:ext cx="8759880" cy="313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2"/>
          <p:cNvSpPr/>
          <p:nvPr/>
        </p:nvSpPr>
        <p:spPr>
          <a:xfrm>
            <a:off x="357120" y="5305320"/>
            <a:ext cx="13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2×7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357120" y="56894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7×2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14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4"/>
          <p:cNvSpPr/>
          <p:nvPr/>
        </p:nvSpPr>
        <p:spPr>
          <a:xfrm>
            <a:off x="3286080" y="490392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×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3286080" y="54640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×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6"/>
          <p:cNvSpPr/>
          <p:nvPr/>
        </p:nvSpPr>
        <p:spPr>
          <a:xfrm>
            <a:off x="6192720" y="50292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5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7"/>
          <p:cNvSpPr/>
          <p:nvPr/>
        </p:nvSpPr>
        <p:spPr>
          <a:xfrm>
            <a:off x="6192720" y="55548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5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＋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＝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  <a:ea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6360" y="60688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舞蹈队有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116160" y="6010200"/>
            <a:ext cx="29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：腰鼓队有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062760" y="59500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合唱队有</a:t>
            </a:r>
            <a:r>
              <a:rPr b="1" lang="zh-CN" sz="2800" spc="-1" strike="noStrike">
                <a:solidFill>
                  <a:srgbClr val="ffc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1555920" y="5305320"/>
            <a:ext cx="15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14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4522680" y="4903920"/>
            <a:ext cx="15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0"/>
          <p:cNvPicPr/>
          <p:nvPr/>
        </p:nvPicPr>
        <p:blipFill>
          <a:blip r:embed="rId1"/>
          <a:stretch/>
        </p:blipFill>
        <p:spPr>
          <a:xfrm>
            <a:off x="928800" y="7858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72960" y="1500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13.png"/>
          <p:cNvPicPr/>
          <p:nvPr/>
        </p:nvPicPr>
        <p:blipFill>
          <a:blip r:embed="rId2"/>
          <a:stretch/>
        </p:blipFill>
        <p:spPr>
          <a:xfrm>
            <a:off x="14400" y="2084400"/>
            <a:ext cx="9107280" cy="4357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4"/>
          <p:cNvSpPr/>
          <p:nvPr/>
        </p:nvSpPr>
        <p:spPr>
          <a:xfrm>
            <a:off x="1785960" y="5977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1938240" y="53578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2092320" y="48038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2222640" y="4280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2365200" y="3710160"/>
            <a:ext cx="16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2522520" y="31860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2643120" y="2631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2774880" y="20844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5802480" y="5934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5627520" y="5357880"/>
            <a:ext cx="16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5500800" y="48038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357880" y="42800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5216400" y="37101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5094360" y="31701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4957920" y="2631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813200" y="20844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873600" y="208440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844720" y="597708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997360" y="532620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3187800" y="474012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3314880" y="422280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3513240" y="370368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3639960" y="318456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3767040" y="259380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6861240" y="588168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6700680" y="529128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6558120" y="478944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2"/>
          <p:cNvSpPr/>
          <p:nvPr/>
        </p:nvSpPr>
        <p:spPr>
          <a:xfrm>
            <a:off x="6413400" y="428616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6326280" y="369576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6153120" y="315432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6016680" y="263196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5872320" y="2076480"/>
            <a:ext cx="5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www.12999.com; lenovo</dc:creator>
  <dc:description>www.12999.com</dc:description>
  <cp:keywords>www.12999.com</cp:keywords>
  <dc:language>en-US</dc:language>
  <cp:lastModifiedBy>User</cp:lastModifiedBy>
  <dcterms:modified xsi:type="dcterms:W3CDTF">2015-10-01T02:03:08Z</dcterms:modified>
  <cp:revision>9</cp:revision>
  <dc:subject>www.12999.com</dc:subject>
  <dc:title>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