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152-2FF8-43E8-85BB-8FAC4BA0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1DC-E55B-4033-9DF3-B66FABF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3F8-D3C9-4E86-B908-11C64ECD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DFF-CD6A-48B0-AB0D-21E126D9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0CC-43FF-4445-9417-F2F272A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457-0327-4EB2-BDB4-399F61A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2D-C343-413F-BCFF-DD64BB8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4E1-F343-4C61-B40E-B5FC449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9B3-A0F3-4872-A70E-36A34D19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562-D9FF-4A07-B198-89D1BB3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37E-8835-4ABD-AE37-A2FEFF4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912-18BB-4D66-BC6D-52025F4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2B1E-7DDA-4355-9E3D-4D3E5F88A5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487520" y="530280"/>
            <a:ext cx="610884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469800" y="17859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三种位置关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切线的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位置关系的性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矩形 1" descr=""/>
          <p:cNvPicPr/>
          <p:nvPr/>
        </p:nvPicPr>
        <p:blipFill>
          <a:blip r:embed="rId1"/>
          <a:stretch/>
        </p:blipFill>
        <p:spPr>
          <a:xfrm>
            <a:off x="317520" y="938160"/>
            <a:ext cx="2449440" cy="768240"/>
          </a:xfrm>
          <a:prstGeom prst="rect">
            <a:avLst/>
          </a:prstGeom>
          <a:ln w="0">
            <a:noFill/>
          </a:ln>
        </p:spPr>
      </p:pic>
      <p:sp>
        <p:nvSpPr>
          <p:cNvPr id="74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矩形 4" descr=""/>
          <p:cNvPicPr/>
          <p:nvPr/>
        </p:nvPicPr>
        <p:blipFill>
          <a:blip r:embed="rId2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矩形 2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ShockwaveFlash1"/>
          <p:cNvGraphicFramePr/>
          <p:nvPr/>
        </p:nvGraphicFramePr>
        <p:xfrm>
          <a:off x="1187280" y="1255680"/>
          <a:ext cx="626616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255680"/>
                    <a:ext cx="62661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矩形 1" descr=""/>
          <p:cNvPicPr/>
          <p:nvPr/>
        </p:nvPicPr>
        <p:blipFill>
          <a:blip r:embed="rId1"/>
          <a:stretch/>
        </p:blipFill>
        <p:spPr>
          <a:xfrm>
            <a:off x="573120" y="334800"/>
            <a:ext cx="2273400" cy="920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2411280" y="1251000"/>
            <a:ext cx="3478320" cy="2465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7081920" cy="244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5"/>
          <p:cNvSpPr/>
          <p:nvPr/>
        </p:nvSpPr>
        <p:spPr>
          <a:xfrm>
            <a:off x="800640" y="3789360"/>
            <a:ext cx="72936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小经验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484360" y="5121360"/>
            <a:ext cx="1224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270320" y="4719600"/>
            <a:ext cx="122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317840" y="5675400"/>
            <a:ext cx="1262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194520" y="5211720"/>
            <a:ext cx="13669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538344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ShockwaveFlash2"/>
          <p:cNvGraphicFramePr/>
          <p:nvPr/>
        </p:nvGraphicFramePr>
        <p:xfrm>
          <a:off x="1332000" y="1397160"/>
          <a:ext cx="6480000" cy="50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397160"/>
                    <a:ext cx="64800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ShockwaveFlash1"/>
          <p:cNvGraphicFramePr/>
          <p:nvPr/>
        </p:nvGraphicFramePr>
        <p:xfrm>
          <a:off x="1116000" y="765000"/>
          <a:ext cx="65516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5516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ShockwaveFlash1"/>
          <p:cNvGraphicFramePr/>
          <p:nvPr/>
        </p:nvGraphicFramePr>
        <p:xfrm>
          <a:off x="1042920" y="692280"/>
          <a:ext cx="6624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6624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6875640" y="616572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返回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BD14980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522000" y="6573960"/>
            <a:ext cx="784080" cy="741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"/>
          <p:cNvPicPr/>
          <p:nvPr/>
        </p:nvPicPr>
        <p:blipFill>
          <a:blip r:embed="rId4"/>
          <a:stretch/>
        </p:blipFill>
        <p:spPr>
          <a:xfrm>
            <a:off x="4500720" y="2127240"/>
            <a:ext cx="3089160" cy="22003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1"/>
          <p:cNvSpPr/>
          <p:nvPr/>
        </p:nvSpPr>
        <p:spPr>
          <a:xfrm>
            <a:off x="857520" y="476280"/>
            <a:ext cx="95472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作业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2" descr=""/>
          <p:cNvPicPr/>
          <p:nvPr/>
        </p:nvPicPr>
        <p:blipFill>
          <a:blip r:embed="rId5"/>
          <a:stretch/>
        </p:blipFill>
        <p:spPr>
          <a:xfrm>
            <a:off x="900000" y="826920"/>
            <a:ext cx="6194520" cy="1209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3" descr=""/>
          <p:cNvPicPr/>
          <p:nvPr/>
        </p:nvPicPr>
        <p:blipFill>
          <a:blip r:embed="rId6"/>
          <a:stretch/>
        </p:blipFill>
        <p:spPr>
          <a:xfrm>
            <a:off x="911160" y="2054160"/>
            <a:ext cx="28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"/>
          <p:cNvPicPr/>
          <p:nvPr/>
        </p:nvPicPr>
        <p:blipFill>
          <a:blip r:embed="rId7"/>
          <a:stretch/>
        </p:blipFill>
        <p:spPr>
          <a:xfrm>
            <a:off x="911160" y="4508640"/>
            <a:ext cx="55152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87440" y="1627200"/>
            <a:ext cx="845820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结合思考题自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8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--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9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前内容，并完成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做一做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与圆最少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交点，最多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交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利用前面学过的经验公式，直接写出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求值式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矩形 2" descr=""/>
          <p:cNvPicPr/>
          <p:nvPr/>
        </p:nvPicPr>
        <p:blipFill>
          <a:blip r:embed="rId1"/>
          <a:stretch/>
        </p:blipFill>
        <p:spPr>
          <a:xfrm>
            <a:off x="3511440" y="244440"/>
            <a:ext cx="192564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487440" y="8715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618240" y="580536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显示答案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5" descr=""/>
          <p:cNvPicPr/>
          <p:nvPr/>
        </p:nvPicPr>
        <p:blipFill>
          <a:blip r:embed="rId4"/>
          <a:stretch/>
        </p:blipFill>
        <p:spPr>
          <a:xfrm>
            <a:off x="2627280" y="3078000"/>
            <a:ext cx="781200" cy="860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5"/>
          <a:stretch/>
        </p:blipFill>
        <p:spPr>
          <a:xfrm>
            <a:off x="4859280" y="3078000"/>
            <a:ext cx="78120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矩形 2" descr=""/>
          <p:cNvPicPr/>
          <p:nvPr/>
        </p:nvPicPr>
        <p:blipFill>
          <a:blip r:embed="rId1"/>
          <a:stretch/>
        </p:blipFill>
        <p:spPr>
          <a:xfrm>
            <a:off x="237960" y="1054080"/>
            <a:ext cx="2754360" cy="70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三种位置关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切线的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掌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位置关系的性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ShockwaveFlash1"/>
          <p:cNvGraphicFramePr/>
          <p:nvPr/>
        </p:nvGraphicFramePr>
        <p:xfrm>
          <a:off x="1187280" y="907920"/>
          <a:ext cx="727236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72723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258920" y="765000"/>
          <a:ext cx="63374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63374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1258920" y="907920"/>
          <a:ext cx="6553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6553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1332000" y="907920"/>
          <a:ext cx="6408720" cy="50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40872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ShockwaveFlash1"/>
          <p:cNvGraphicFramePr/>
          <p:nvPr/>
        </p:nvGraphicFramePr>
        <p:xfrm>
          <a:off x="1258920" y="836640"/>
          <a:ext cx="6408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836640"/>
                    <a:ext cx="6408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2" descr=""/>
          <p:cNvPicPr/>
          <p:nvPr/>
        </p:nvPicPr>
        <p:blipFill>
          <a:blip r:embed="rId1"/>
          <a:stretch/>
        </p:blipFill>
        <p:spPr>
          <a:xfrm>
            <a:off x="603360" y="590400"/>
            <a:ext cx="1884240" cy="768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971640" y="1360440"/>
            <a:ext cx="686412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3975120" y="2997360"/>
            <a:ext cx="10796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5148360" y="2997360"/>
            <a:ext cx="107928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343560" y="2997360"/>
            <a:ext cx="10796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021200" y="4556160"/>
            <a:ext cx="98748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5194440" y="4556160"/>
            <a:ext cx="98712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6389640" y="4556160"/>
            <a:ext cx="98748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021200" y="5140440"/>
            <a:ext cx="9874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5219640" y="5140440"/>
            <a:ext cx="9874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6375240" y="5154480"/>
            <a:ext cx="9874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0:24:38Z</dcterms:created>
  <dc:creator>est bo</dc:creator>
  <dc:description/>
  <dc:language>en-US</dc:language>
  <cp:lastModifiedBy>User</cp:lastModifiedBy>
  <dcterms:modified xsi:type="dcterms:W3CDTF">2014-02-21T06:37:34Z</dcterms:modified>
  <cp:revision>18</cp:revision>
  <dc:subject/>
  <dc:title>PowerPoint 演示文稿</dc:title>
</cp:coreProperties>
</file>