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7574-6A37-4940-B41F-7A287DB8B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B51D-97FB-4C9A-943E-EA09975DC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69B6-AB12-4E00-B46D-3CF6DFBDC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A9C7-A061-4165-9072-51B052247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0673-7E3E-4A37-8C68-D501CAD25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C8E0-BCE6-49C9-9FD2-0C861DE5B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77E8-A2EF-4518-87B1-BDAEDC457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C314-F6AA-46D0-BEB4-A7B567C23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F420-81A6-4BDD-8824-2156C6671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2C4D-045F-4A67-ADA5-3CBD5EA0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2C23-C196-4EAF-A2F3-E5C66715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74AE-86D4-4134-8C59-B5B8D2AB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59073-DD13-4BB2-87F7-3E778896390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6000" cy="16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762120" y="1447920"/>
            <a:ext cx="7488000" cy="33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第四章 相似形三角形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4.1</a:t>
            </a:r>
            <a:r>
              <a:rPr b="0" lang="zh-CN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比例线段</a:t>
            </a: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(</a:t>
            </a:r>
            <a:r>
              <a:rPr b="0" lang="zh-CN" sz="2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一</a:t>
            </a:r>
            <a:r>
              <a:rPr b="0" lang="en-US" sz="24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)</a:t>
            </a:r>
            <a:endParaRPr b="0" lang="en-US" sz="24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28600" y="228600"/>
            <a:ext cx="243828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课堂小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80880" y="990720"/>
            <a:ext cx="7848360" cy="1716120"/>
            <a:chOff x="380880" y="990720"/>
            <a:chExt cx="7848360" cy="1716120"/>
          </a:xfrm>
        </p:grpSpPr>
        <p:grpSp>
          <p:nvGrpSpPr>
            <p:cNvPr id="107" name=""/>
            <p:cNvGrpSpPr/>
            <p:nvPr/>
          </p:nvGrpSpPr>
          <p:grpSpPr>
            <a:xfrm>
              <a:off x="456840" y="1524240"/>
              <a:ext cx="7772400" cy="1182600"/>
              <a:chOff x="456840" y="1524240"/>
              <a:chExt cx="7772400" cy="1182600"/>
            </a:xfrm>
          </p:grpSpPr>
          <p:sp>
            <p:nvSpPr>
              <p:cNvPr id="108" name=""/>
              <p:cNvSpPr/>
              <p:nvPr/>
            </p:nvSpPr>
            <p:spPr>
              <a:xfrm>
                <a:off x="456840" y="1600200"/>
                <a:ext cx="7772400" cy="10670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9" name=""/>
                  <p:cNvSpPr txBox="1"/>
                  <p:nvPr/>
                </p:nvSpPr>
                <p:spPr>
                  <a:xfrm>
                    <a:off x="609120" y="1524240"/>
                    <a:ext cx="3352680" cy="1182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t xml:space="preserve">⇔</m:t>
                        </m:r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10" name=""/>
              <p:cNvSpPr/>
              <p:nvPr/>
            </p:nvSpPr>
            <p:spPr>
              <a:xfrm>
                <a:off x="4038120" y="1828800"/>
                <a:ext cx="3733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(a,b,c,d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均不为零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380880" y="990720"/>
              <a:ext cx="5790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比例有如下性质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533520" y="3276720"/>
            <a:ext cx="6705000" cy="1752480"/>
            <a:chOff x="533520" y="3276720"/>
            <a:chExt cx="6705000" cy="1752480"/>
          </a:xfrm>
        </p:grpSpPr>
        <p:sp>
          <p:nvSpPr>
            <p:cNvPr id="113" name=""/>
            <p:cNvSpPr/>
            <p:nvPr/>
          </p:nvSpPr>
          <p:spPr>
            <a:xfrm>
              <a:off x="533520" y="3276720"/>
              <a:ext cx="6400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比例式变形的常用方法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990360" y="4114800"/>
              <a:ext cx="3047400" cy="914400"/>
              <a:chOff x="990360" y="4114800"/>
              <a:chExt cx="3047400" cy="914400"/>
            </a:xfrm>
          </p:grpSpPr>
          <p:sp>
            <p:nvSpPr>
              <p:cNvPr id="115" name=""/>
              <p:cNvSpPr/>
              <p:nvPr/>
            </p:nvSpPr>
            <p:spPr>
              <a:xfrm>
                <a:off x="990360" y="4114800"/>
                <a:ext cx="2971440" cy="9144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218600" y="4267440"/>
                <a:ext cx="2819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0000"/>
                    </a:solidFill>
                    <a:latin typeface="Times New Roman"/>
                  </a:rPr>
                  <a:t>利用等式性质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4267080" y="4114800"/>
              <a:ext cx="2971440" cy="914400"/>
              <a:chOff x="4267080" y="4114800"/>
              <a:chExt cx="2971440" cy="914400"/>
            </a:xfrm>
          </p:grpSpPr>
          <p:sp>
            <p:nvSpPr>
              <p:cNvPr id="118" name=""/>
              <p:cNvSpPr/>
              <p:nvPr/>
            </p:nvSpPr>
            <p:spPr>
              <a:xfrm>
                <a:off x="4267080" y="4114800"/>
                <a:ext cx="2971440" cy="9144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352480" y="4267440"/>
                <a:ext cx="912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0000"/>
                    </a:solidFill>
                    <a:latin typeface="Times New Roman"/>
                  </a:rPr>
                  <a:t>设比值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762120" y="1295280"/>
            <a:ext cx="8001000" cy="1676520"/>
            <a:chOff x="762120" y="1295280"/>
            <a:chExt cx="8001000" cy="1676520"/>
          </a:xfrm>
        </p:grpSpPr>
        <p:graphicFrame>
          <p:nvGraphicFramePr>
            <p:cNvPr id="121" name=""/>
            <p:cNvGraphicFramePr/>
            <p:nvPr/>
          </p:nvGraphicFramePr>
          <p:xfrm>
            <a:off x="4267080" y="1752480"/>
            <a:ext cx="2210040" cy="1219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267080" y="1752480"/>
                      <a:ext cx="2210040" cy="121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23" name=""/>
            <p:cNvGrpSpPr/>
            <p:nvPr/>
          </p:nvGrpSpPr>
          <p:grpSpPr>
            <a:xfrm>
              <a:off x="762120" y="1295280"/>
              <a:ext cx="8001000" cy="1572120"/>
              <a:chOff x="762120" y="1295280"/>
              <a:chExt cx="8001000" cy="1572120"/>
            </a:xfrm>
          </p:grpSpPr>
          <p:sp>
            <p:nvSpPr>
              <p:cNvPr id="124" name=""/>
              <p:cNvSpPr/>
              <p:nvPr/>
            </p:nvSpPr>
            <p:spPr>
              <a:xfrm>
                <a:off x="762120" y="1295280"/>
                <a:ext cx="6476760" cy="157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宋体"/>
                  </a:rPr>
                  <a:t>2.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宋体"/>
                  </a:rPr>
                  <a:t>已知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宋体"/>
                  </a:rPr>
                  <a:t>x:y:z=4:5:7,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宋体"/>
                  </a:rPr>
                  <a:t>求                  ，            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25" name=""/>
              <p:cNvGraphicFramePr/>
              <p:nvPr/>
            </p:nvGraphicFramePr>
            <p:xfrm>
              <a:off x="7162920" y="1447920"/>
              <a:ext cx="1600200" cy="13334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2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7162920" y="1447920"/>
                        <a:ext cx="1600200" cy="1333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127" name=""/>
          <p:cNvSpPr/>
          <p:nvPr/>
        </p:nvSpPr>
        <p:spPr>
          <a:xfrm>
            <a:off x="304920" y="3733920"/>
            <a:ext cx="8839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已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y=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z=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Z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0516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219320" y="304920"/>
            <a:ext cx="6781680" cy="1168200"/>
            <a:chOff x="1219320" y="304920"/>
            <a:chExt cx="6781680" cy="1168200"/>
          </a:xfrm>
        </p:grpSpPr>
        <p:grpSp>
          <p:nvGrpSpPr>
            <p:cNvPr id="130" name=""/>
            <p:cNvGrpSpPr/>
            <p:nvPr/>
          </p:nvGrpSpPr>
          <p:grpSpPr>
            <a:xfrm>
              <a:off x="1219320" y="304920"/>
              <a:ext cx="5943600" cy="904680"/>
              <a:chOff x="1219320" y="304920"/>
              <a:chExt cx="5943600" cy="904680"/>
            </a:xfrm>
          </p:grpSpPr>
          <p:graphicFrame>
            <p:nvGraphicFramePr>
              <p:cNvPr id="131" name=""/>
              <p:cNvGraphicFramePr/>
              <p:nvPr/>
            </p:nvGraphicFramePr>
            <p:xfrm>
              <a:off x="5486400" y="304920"/>
              <a:ext cx="1676520" cy="904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32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486400" y="304920"/>
                        <a:ext cx="1676520" cy="904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33" name=""/>
              <p:cNvGraphicFramePr/>
              <p:nvPr/>
            </p:nvGraphicFramePr>
            <p:xfrm>
              <a:off x="2514600" y="304920"/>
              <a:ext cx="1752480" cy="77292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34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514600" y="304920"/>
                        <a:ext cx="1752480" cy="772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35" name=""/>
              <p:cNvSpPr/>
              <p:nvPr/>
            </p:nvSpPr>
            <p:spPr>
              <a:xfrm>
                <a:off x="1219320" y="53352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宋体"/>
                  </a:rPr>
                  <a:t>1.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宋体"/>
                  </a:rPr>
                  <a:t>已知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4495680" y="457200"/>
              <a:ext cx="35053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,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求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28600" y="2286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Georgia"/>
              </a:rPr>
              <a:t>拓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布置作业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6000" y="227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书上作业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作业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教与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143000" y="1371600"/>
            <a:ext cx="6400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4064040" cy="2730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257800" y="2590920"/>
            <a:ext cx="289548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181480" y="335268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90720"/>
            <a:ext cx="807732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什么是两个数的比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-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比；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-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比。如何表示？其比值相等吗？可写成什么形式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380880"/>
            <a:ext cx="25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阅读思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486576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比与比例有什么区别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42480" y="272880"/>
            <a:ext cx="433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已知四个数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57720" y="13716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如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539720" y="1095480"/>
            <a:ext cx="1866600" cy="1191240"/>
            <a:chOff x="1539720" y="1095480"/>
            <a:chExt cx="1866600" cy="1191240"/>
          </a:xfrm>
        </p:grpSpPr>
        <p:sp>
          <p:nvSpPr>
            <p:cNvPr id="54" name=""/>
            <p:cNvSpPr/>
            <p:nvPr/>
          </p:nvSpPr>
          <p:spPr>
            <a:xfrm>
              <a:off x="1601280" y="1095480"/>
              <a:ext cx="1324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a      c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b     d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539720" y="17366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54120" y="17366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012760" y="1431720"/>
              <a:ext cx="1393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=     </a:t>
              </a: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3389760" y="1415880"/>
            <a:ext cx="324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或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b=c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13360" y="2514600"/>
            <a:ext cx="582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那么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叫做组成比例的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项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5000" y="3352680"/>
            <a:ext cx="410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线段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叫做比例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外项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15360" y="4343400"/>
            <a:ext cx="407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线段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叫做比例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内项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55240" y="5226120"/>
            <a:ext cx="57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线段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叫做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第四比例项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80880" y="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做一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304920" y="838080"/>
            <a:ext cx="8305560" cy="2438280"/>
            <a:chOff x="304920" y="838080"/>
            <a:chExt cx="8305560" cy="2438280"/>
          </a:xfrm>
        </p:grpSpPr>
        <p:sp>
          <p:nvSpPr>
            <p:cNvPr id="65" name=""/>
            <p:cNvSpPr/>
            <p:nvPr/>
          </p:nvSpPr>
          <p:spPr>
            <a:xfrm>
              <a:off x="304920" y="838080"/>
              <a:ext cx="8305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1,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请指出下列比例式的比例内项和比例外项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并比较它们的积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" name=""/>
                <p:cNvSpPr txBox="1"/>
                <p:nvPr/>
              </p:nvSpPr>
              <p:spPr>
                <a:xfrm>
                  <a:off x="685800" y="2057040"/>
                  <a:ext cx="7391520" cy="121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f>
                        <m:num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6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)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6</m:t>
                              </m:r>
                            </m:e>
                          </m:rad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7" name=""/>
          <p:cNvGrpSpPr/>
          <p:nvPr/>
        </p:nvGrpSpPr>
        <p:grpSpPr>
          <a:xfrm>
            <a:off x="380880" y="3124080"/>
            <a:ext cx="8458200" cy="1495800"/>
            <a:chOff x="380880" y="3124080"/>
            <a:chExt cx="8458200" cy="1495800"/>
          </a:xfrm>
        </p:grpSpPr>
        <p:sp>
          <p:nvSpPr>
            <p:cNvPr id="68" name=""/>
            <p:cNvSpPr/>
            <p:nvPr/>
          </p:nvSpPr>
          <p:spPr>
            <a:xfrm>
              <a:off x="380880" y="3428640"/>
              <a:ext cx="8458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2,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利用等式性质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你能从             推导出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ad=bc 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吗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反过来呢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" name=""/>
                <p:cNvSpPr txBox="1"/>
                <p:nvPr/>
              </p:nvSpPr>
              <p:spPr>
                <a:xfrm>
                  <a:off x="5029200" y="3124080"/>
                  <a:ext cx="1447920" cy="119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a</m:t>
                          </m:r>
                        </m:num>
                        <m:den>
                          <m:r>
                            <m:t xml:space="preserve">b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d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0" name=""/>
          <p:cNvGrpSpPr/>
          <p:nvPr/>
        </p:nvGrpSpPr>
        <p:grpSpPr>
          <a:xfrm>
            <a:off x="533520" y="4800600"/>
            <a:ext cx="7848360" cy="1716120"/>
            <a:chOff x="533520" y="4800600"/>
            <a:chExt cx="7848360" cy="1716120"/>
          </a:xfrm>
        </p:grpSpPr>
        <p:grpSp>
          <p:nvGrpSpPr>
            <p:cNvPr id="71" name=""/>
            <p:cNvGrpSpPr/>
            <p:nvPr/>
          </p:nvGrpSpPr>
          <p:grpSpPr>
            <a:xfrm>
              <a:off x="609480" y="5334120"/>
              <a:ext cx="7772400" cy="1182600"/>
              <a:chOff x="609480" y="5334120"/>
              <a:chExt cx="7772400" cy="1182600"/>
            </a:xfrm>
          </p:grpSpPr>
          <p:sp>
            <p:nvSpPr>
              <p:cNvPr id="72" name=""/>
              <p:cNvSpPr/>
              <p:nvPr/>
            </p:nvSpPr>
            <p:spPr>
              <a:xfrm>
                <a:off x="609480" y="5410080"/>
                <a:ext cx="7772400" cy="10670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3" name=""/>
                  <p:cNvSpPr txBox="1"/>
                  <p:nvPr/>
                </p:nvSpPr>
                <p:spPr>
                  <a:xfrm>
                    <a:off x="761760" y="5334120"/>
                    <a:ext cx="3352680" cy="1182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t xml:space="preserve">⇔</m:t>
                        </m:r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74" name=""/>
              <p:cNvSpPr/>
              <p:nvPr/>
            </p:nvSpPr>
            <p:spPr>
              <a:xfrm>
                <a:off x="4190760" y="5638680"/>
                <a:ext cx="3733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(a,b,c,d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均不为零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" name=""/>
            <p:cNvSpPr/>
            <p:nvPr/>
          </p:nvSpPr>
          <p:spPr>
            <a:xfrm>
              <a:off x="533520" y="4800600"/>
              <a:ext cx="5790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比例有如下性质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04920" y="0"/>
            <a:ext cx="350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试一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304920" y="685800"/>
            <a:ext cx="7543800" cy="1752480"/>
            <a:chOff x="304920" y="685800"/>
            <a:chExt cx="7543800" cy="1752480"/>
          </a:xfrm>
        </p:grpSpPr>
        <p:sp>
          <p:nvSpPr>
            <p:cNvPr id="78" name=""/>
            <p:cNvSpPr/>
            <p:nvPr/>
          </p:nvSpPr>
          <p:spPr>
            <a:xfrm>
              <a:off x="304920" y="685800"/>
              <a:ext cx="7543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1,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根据下列条件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求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:b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的值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9" name=""/>
                <p:cNvSpPr txBox="1"/>
                <p:nvPr/>
              </p:nvSpPr>
              <p:spPr>
                <a:xfrm>
                  <a:off x="457200" y="1371600"/>
                  <a:ext cx="5410080" cy="106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2</m:t>
                      </m:r>
                      <m:r>
                        <m:t xml:space="preserve">a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b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)</m:t>
                      </m:r>
                      <m:f>
                        <m:num>
                          <m:r>
                            <m:t xml:space="preserve">a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0" name=""/>
          <p:cNvGrpSpPr/>
          <p:nvPr/>
        </p:nvGrpSpPr>
        <p:grpSpPr>
          <a:xfrm>
            <a:off x="228600" y="2133720"/>
            <a:ext cx="7315200" cy="2509560"/>
            <a:chOff x="228600" y="2133720"/>
            <a:chExt cx="7315200" cy="2509560"/>
          </a:xfrm>
        </p:grpSpPr>
        <p:grpSp>
          <p:nvGrpSpPr>
            <p:cNvPr id="81" name=""/>
            <p:cNvGrpSpPr/>
            <p:nvPr/>
          </p:nvGrpSpPr>
          <p:grpSpPr>
            <a:xfrm>
              <a:off x="228600" y="2133720"/>
              <a:ext cx="7315200" cy="1036080"/>
              <a:chOff x="228600" y="2133720"/>
              <a:chExt cx="7315200" cy="1036080"/>
            </a:xfrm>
          </p:grpSpPr>
          <p:sp>
            <p:nvSpPr>
              <p:cNvPr id="82" name=""/>
              <p:cNvSpPr/>
              <p:nvPr/>
            </p:nvSpPr>
            <p:spPr>
              <a:xfrm>
                <a:off x="228600" y="2454120"/>
                <a:ext cx="7315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已知                 判断下列比例式是否成立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并说明理由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83" name=""/>
                  <p:cNvSpPr txBox="1"/>
                  <p:nvPr/>
                </p:nvSpPr>
                <p:spPr>
                  <a:xfrm>
                    <a:off x="1447560" y="2133720"/>
                    <a:ext cx="1524240" cy="1036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84" name=""/>
                <p:cNvSpPr txBox="1"/>
                <p:nvPr/>
              </p:nvSpPr>
              <p:spPr>
                <a:xfrm>
                  <a:off x="380880" y="3505320"/>
                  <a:ext cx="7086600" cy="113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f>
                        <m:num>
                          <m:r>
                            <m:t xml:space="preserve">a</m:t>
                          </m:r>
                          <m:r>
                            <m:t xml:space="preserve">+</m:t>
                          </m:r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b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c</m:t>
                          </m:r>
                          <m:r>
                            <m:t xml:space="preserve">+</m:t>
                          </m:r>
                          <m:r>
                            <m:t xml:space="preserve">d</m:t>
                          </m:r>
                        </m:num>
                        <m:den>
                          <m:r>
                            <m:t xml:space="preserve">d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)</m:t>
                      </m:r>
                      <m:f>
                        <m:num>
                          <m:r>
                            <m:t xml:space="preserve">a</m:t>
                          </m:r>
                        </m:num>
                        <m:den>
                          <m:r>
                            <m:t xml:space="preserve">b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a</m:t>
                          </m:r>
                          <m:r>
                            <m:t xml:space="preserve">+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b</m:t>
                          </m:r>
                          <m:r>
                            <m:t xml:space="preserve">+</m:t>
                          </m:r>
                          <m:r>
                            <m:t xml:space="preserve">d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5" name=""/>
          <p:cNvSpPr/>
          <p:nvPr/>
        </p:nvSpPr>
        <p:spPr>
          <a:xfrm>
            <a:off x="380880" y="457200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比例式变形的常用方法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838080" y="5410080"/>
            <a:ext cx="3048120" cy="914400"/>
            <a:chOff x="838080" y="5410080"/>
            <a:chExt cx="3048120" cy="914400"/>
          </a:xfrm>
        </p:grpSpPr>
        <p:sp>
          <p:nvSpPr>
            <p:cNvPr id="87" name=""/>
            <p:cNvSpPr/>
            <p:nvPr/>
          </p:nvSpPr>
          <p:spPr>
            <a:xfrm>
              <a:off x="838080" y="5410080"/>
              <a:ext cx="2971800" cy="9144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066680" y="5562720"/>
              <a:ext cx="2819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利用等式性质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4114800" y="5410080"/>
            <a:ext cx="2971800" cy="914400"/>
            <a:chOff x="4114800" y="5410080"/>
            <a:chExt cx="2971800" cy="914400"/>
          </a:xfrm>
        </p:grpSpPr>
        <p:sp>
          <p:nvSpPr>
            <p:cNvPr id="90" name=""/>
            <p:cNvSpPr/>
            <p:nvPr/>
          </p:nvSpPr>
          <p:spPr>
            <a:xfrm>
              <a:off x="4114800" y="5410080"/>
              <a:ext cx="2971800" cy="9144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00920" y="5562720"/>
              <a:ext cx="912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设比值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22860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练习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0" y="685800"/>
            <a:ext cx="6858000" cy="1709640"/>
            <a:chOff x="0" y="685800"/>
            <a:chExt cx="6858000" cy="1709640"/>
          </a:xfrm>
        </p:grpSpPr>
        <p:sp>
          <p:nvSpPr>
            <p:cNvPr id="94" name=""/>
            <p:cNvSpPr/>
            <p:nvPr/>
          </p:nvSpPr>
          <p:spPr>
            <a:xfrm>
              <a:off x="0" y="685800"/>
              <a:ext cx="685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1,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求下列比例式中的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x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5" name=""/>
                <p:cNvSpPr txBox="1"/>
                <p:nvPr/>
              </p:nvSpPr>
              <p:spPr>
                <a:xfrm>
                  <a:off x="0" y="1295280"/>
                  <a:ext cx="6477120" cy="110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4</m:t>
                      </m:r>
                      <m:r>
                        <m:t xml:space="preserve">:</m:t>
                      </m:r>
                      <m:r>
                        <m:t xml:space="preserve">3</m:t>
                      </m:r>
                      <m:r>
                        <m:t xml:space="preserve">=</m:t>
                      </m:r>
                      <m:r>
                        <m:t xml:space="preserve">5</m:t>
                      </m:r>
                      <m:r>
                        <m:t xml:space="preserve">:</m:t>
                      </m:r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)</m:t>
                      </m:r>
                      <m:f>
                        <m:num>
                          <m:r>
                            <m:t xml:space="preserve">x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6" name=""/>
          <p:cNvGrpSpPr/>
          <p:nvPr/>
        </p:nvGrpSpPr>
        <p:grpSpPr>
          <a:xfrm>
            <a:off x="0" y="2286000"/>
            <a:ext cx="7315200" cy="1143000"/>
            <a:chOff x="0" y="2286000"/>
            <a:chExt cx="7315200" cy="1143000"/>
          </a:xfrm>
        </p:grpSpPr>
        <p:sp>
          <p:nvSpPr>
            <p:cNvPr id="97" name=""/>
            <p:cNvSpPr/>
            <p:nvPr/>
          </p:nvSpPr>
          <p:spPr>
            <a:xfrm>
              <a:off x="0" y="2590920"/>
              <a:ext cx="7315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2,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已知                求                的值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8" name=""/>
                <p:cNvSpPr txBox="1"/>
                <p:nvPr/>
              </p:nvSpPr>
              <p:spPr>
                <a:xfrm>
                  <a:off x="1371600" y="2286000"/>
                  <a:ext cx="1371600" cy="106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a</m:t>
                          </m:r>
                        </m:num>
                        <m:den>
                          <m:r>
                            <m:t xml:space="preserve">b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9" name=""/>
                <p:cNvSpPr txBox="1"/>
                <p:nvPr/>
              </p:nvSpPr>
              <p:spPr>
                <a:xfrm>
                  <a:off x="3429000" y="2362320"/>
                  <a:ext cx="1631880" cy="106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a</m:t>
                          </m:r>
                          <m:r>
                            <m:t xml:space="preserve">+</m:t>
                          </m:r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b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0" name=""/>
          <p:cNvSpPr/>
          <p:nvPr/>
        </p:nvSpPr>
        <p:spPr>
          <a:xfrm>
            <a:off x="0" y="350532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已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=cd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请写出有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,b,c,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成立的比例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至少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228600" y="228600"/>
            <a:ext cx="3886200" cy="914400"/>
            <a:chOff x="228600" y="228600"/>
            <a:chExt cx="3886200" cy="914400"/>
          </a:xfrm>
        </p:grpSpPr>
        <p:sp>
          <p:nvSpPr>
            <p:cNvPr id="102" name=""/>
            <p:cNvSpPr/>
            <p:nvPr/>
          </p:nvSpPr>
          <p:spPr>
            <a:xfrm>
              <a:off x="228600" y="228600"/>
              <a:ext cx="3886200" cy="9144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14400" y="380880"/>
              <a:ext cx="228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探究活动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304920" y="152388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平面直角坐标系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过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,b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原点的直线是一个怎样的正比例函数的图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,b,c,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四个数成比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你认为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,b)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,d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原点在同一条直线上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更多中小学数学教学资源请访问  www.zxxsxw.net</dc:description>
  <dc:language>en-US</dc:language>
  <cp:lastModifiedBy>jianghui</cp:lastModifiedBy>
  <dcterms:modified xsi:type="dcterms:W3CDTF">2013-01-19T13:23:34Z</dcterms:modified>
  <cp:revision>15</cp:revision>
  <dc:subject/>
  <dc:title>更多中小学数学教学资源请访问  www.zxxsxw.net</dc:title>
</cp:coreProperties>
</file>