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7FA-C8D2-4FE2-BE07-B7FFA6A1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83A-8906-45EC-B979-078D78CF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46A-78AB-4F4C-90C5-259E2E8F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0C8-743A-4A78-92DF-F8372109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47B-C272-4D07-BDF3-B4AB09F4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897-8D83-4E4B-8578-971B652E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2EC-5FFB-4310-8594-08FF9E8A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72B-BFBF-4550-A76B-540107A1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2E1-D007-41BC-9484-508DF83C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9A6-8257-475E-BEA7-E32B734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D6E-7BDC-4B99-B355-2707C68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273-8881-4C9B-8FC1-B3ED2681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A298-A2E5-4967-8E5C-32318EFD54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69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2421000"/>
            <a:ext cx="89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三角形全等的判定（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-24480" y="-74160"/>
            <a:ext cx="5027760" cy="1264680"/>
            <a:chOff x="-24480" y="-74160"/>
            <a:chExt cx="5027760" cy="1264680"/>
          </a:xfrm>
        </p:grpSpPr>
        <p:sp>
          <p:nvSpPr>
            <p:cNvPr id="291" name=""/>
            <p:cNvSpPr/>
            <p:nvPr/>
          </p:nvSpPr>
          <p:spPr>
            <a:xfrm>
              <a:off x="0" y="564480"/>
              <a:ext cx="5003280" cy="41040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-24480" y="-74160"/>
              <a:ext cx="4809960" cy="1264680"/>
              <a:chOff x="-24480" y="-74160"/>
              <a:chExt cx="4809960" cy="1264680"/>
            </a:xfrm>
          </p:grpSpPr>
          <p:sp>
            <p:nvSpPr>
              <p:cNvPr id="293" name=""/>
              <p:cNvSpPr/>
              <p:nvPr/>
            </p:nvSpPr>
            <p:spPr>
              <a:xfrm rot="158400">
                <a:off x="216720" y="10332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2320" y="154800"/>
                <a:ext cx="1305000" cy="71856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961200">
                <a:off x="217080" y="0"/>
                <a:ext cx="652320" cy="8211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69760" y="720"/>
                <a:ext cx="1087560" cy="205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8360" y="617040"/>
                <a:ext cx="870480" cy="4618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9000">
                <a:off x="0" y="937080"/>
                <a:ext cx="332640" cy="187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05000" y="52200"/>
                <a:ext cx="326160" cy="51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50760" y="50040"/>
                <a:ext cx="293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、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2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完成作业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同步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预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1.6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尺规作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709040" y="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58920" y="2924280"/>
            <a:ext cx="6697800" cy="2320560"/>
            <a:chOff x="1258920" y="2924280"/>
            <a:chExt cx="6697800" cy="2320560"/>
          </a:xfrm>
        </p:grpSpPr>
        <p:grpSp>
          <p:nvGrpSpPr>
            <p:cNvPr id="44" name=""/>
            <p:cNvGrpSpPr/>
            <p:nvPr/>
          </p:nvGrpSpPr>
          <p:grpSpPr>
            <a:xfrm>
              <a:off x="1258920" y="2924280"/>
              <a:ext cx="3168720" cy="2320560"/>
              <a:chOff x="1258920" y="2924280"/>
              <a:chExt cx="3168720" cy="232056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1618920" y="3284280"/>
                <a:ext cx="2088000" cy="1510920"/>
                <a:chOff x="1618920" y="3284280"/>
                <a:chExt cx="2088000" cy="1510920"/>
              </a:xfrm>
            </p:grpSpPr>
            <p:sp>
              <p:nvSpPr>
                <p:cNvPr id="46" name=""/>
                <p:cNvSpPr/>
                <p:nvPr/>
              </p:nvSpPr>
              <p:spPr>
                <a:xfrm flipH="1">
                  <a:off x="1618920" y="3284280"/>
                  <a:ext cx="143964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19280" y="4795200"/>
                  <a:ext cx="20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058920" y="3284280"/>
                  <a:ext cx="64800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1258920" y="472428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80000" y="46512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32360" y="292428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788000" y="2924280"/>
              <a:ext cx="3168720" cy="2320560"/>
              <a:chOff x="4788000" y="2924280"/>
              <a:chExt cx="3168720" cy="23205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5148000" y="3284280"/>
                <a:ext cx="2088000" cy="1510920"/>
                <a:chOff x="5148000" y="3284280"/>
                <a:chExt cx="2088000" cy="1510920"/>
              </a:xfrm>
            </p:grpSpPr>
            <p:sp>
              <p:nvSpPr>
                <p:cNvPr id="54" name=""/>
                <p:cNvSpPr/>
                <p:nvPr/>
              </p:nvSpPr>
              <p:spPr>
                <a:xfrm flipH="1">
                  <a:off x="5148000" y="3284280"/>
                  <a:ext cx="143964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148360" y="4795200"/>
                  <a:ext cx="20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88000" y="3284280"/>
                  <a:ext cx="64800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4788000" y="472428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309080" y="46512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61440" y="292428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785880" y="692280"/>
            <a:ext cx="68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=DE,   BC=EF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添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得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75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280" y="1844640"/>
            <a:ext cx="93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=DE ,  ∠A=∠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请添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得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2064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DE ,∠A=∠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∠C=∠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等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284720" y="1197000"/>
            <a:ext cx="4859280" cy="2320920"/>
            <a:chOff x="4284720" y="1197000"/>
            <a:chExt cx="4859280" cy="2320920"/>
          </a:xfrm>
        </p:grpSpPr>
        <p:grpSp>
          <p:nvGrpSpPr>
            <p:cNvPr id="66" name=""/>
            <p:cNvGrpSpPr/>
            <p:nvPr/>
          </p:nvGrpSpPr>
          <p:grpSpPr>
            <a:xfrm>
              <a:off x="4284720" y="1197000"/>
              <a:ext cx="2298960" cy="2320920"/>
              <a:chOff x="4284720" y="1197000"/>
              <a:chExt cx="2298960" cy="232092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4545720" y="1557360"/>
                <a:ext cx="1514880" cy="1511280"/>
                <a:chOff x="4545720" y="1557360"/>
                <a:chExt cx="1514880" cy="1511280"/>
              </a:xfrm>
            </p:grpSpPr>
            <p:sp>
              <p:nvSpPr>
                <p:cNvPr id="68" name=""/>
                <p:cNvSpPr/>
                <p:nvPr/>
              </p:nvSpPr>
              <p:spPr>
                <a:xfrm flipH="1">
                  <a:off x="4545720" y="1557360"/>
                  <a:ext cx="104436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46080" y="3068640"/>
                  <a:ext cx="1514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590440" y="1557360"/>
                  <a:ext cx="46980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4284720" y="2997360"/>
                <a:ext cx="41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13880" y="2924280"/>
                <a:ext cx="46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43720" y="119700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845040" y="1197000"/>
              <a:ext cx="2298960" cy="2320920"/>
              <a:chOff x="6845040" y="1197000"/>
              <a:chExt cx="2298960" cy="232092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7106040" y="1557360"/>
                <a:ext cx="1514880" cy="1511280"/>
                <a:chOff x="7106040" y="1557360"/>
                <a:chExt cx="1514880" cy="1511280"/>
              </a:xfrm>
            </p:grpSpPr>
            <p:sp>
              <p:nvSpPr>
                <p:cNvPr id="76" name=""/>
                <p:cNvSpPr/>
                <p:nvPr/>
              </p:nvSpPr>
              <p:spPr>
                <a:xfrm flipH="1">
                  <a:off x="7106040" y="1557360"/>
                  <a:ext cx="104436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106400" y="3068640"/>
                  <a:ext cx="1514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50760" y="1557360"/>
                  <a:ext cx="46980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6845040" y="2997360"/>
                <a:ext cx="41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674200" y="2924280"/>
                <a:ext cx="46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204040" y="119700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0" y="184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∵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三角形的内角和等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0686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∴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=180°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=180°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789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∵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=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=∠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292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∴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=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7242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Δ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E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=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=DE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=∠E 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6165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≌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EF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S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476280"/>
            <a:ext cx="806436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有两个角和其中一个角的对边对应相等的两个三角形全等（简写成“角角边”或“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AS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68360" y="1989000"/>
            <a:ext cx="5400000" cy="1806480"/>
            <a:chOff x="2268360" y="1989000"/>
            <a:chExt cx="5400000" cy="1806480"/>
          </a:xfrm>
        </p:grpSpPr>
        <p:grpSp>
          <p:nvGrpSpPr>
            <p:cNvPr id="90" name=""/>
            <p:cNvGrpSpPr/>
            <p:nvPr/>
          </p:nvGrpSpPr>
          <p:grpSpPr>
            <a:xfrm>
              <a:off x="2268360" y="1989000"/>
              <a:ext cx="2554560" cy="1806480"/>
              <a:chOff x="2268360" y="1989000"/>
              <a:chExt cx="2554560" cy="18064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558880" y="2246400"/>
                <a:ext cx="1683000" cy="1079280"/>
                <a:chOff x="2558880" y="2246400"/>
                <a:chExt cx="1683000" cy="107928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2558880" y="2246400"/>
                  <a:ext cx="116064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58880" y="3325680"/>
                  <a:ext cx="168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19520" y="2246400"/>
                  <a:ext cx="52236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2268360" y="3274920"/>
                <a:ext cx="46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00920" y="322272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78920" y="1989000"/>
                <a:ext cx="405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113800" y="1989000"/>
              <a:ext cx="2554560" cy="1806480"/>
              <a:chOff x="5113800" y="1989000"/>
              <a:chExt cx="2554560" cy="180648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5404320" y="2246400"/>
                <a:ext cx="1683000" cy="1079280"/>
                <a:chOff x="5404320" y="2246400"/>
                <a:chExt cx="1683000" cy="1079280"/>
              </a:xfrm>
            </p:grpSpPr>
            <p:sp>
              <p:nvSpPr>
                <p:cNvPr id="100" name=""/>
                <p:cNvSpPr/>
                <p:nvPr/>
              </p:nvSpPr>
              <p:spPr>
                <a:xfrm flipH="1">
                  <a:off x="5404320" y="2246400"/>
                  <a:ext cx="116064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404320" y="3325680"/>
                  <a:ext cx="168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564960" y="2246400"/>
                  <a:ext cx="52236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5113800" y="3274920"/>
                <a:ext cx="46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46360" y="322272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624360" y="1989000"/>
                <a:ext cx="405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1187280" y="3933720"/>
            <a:ext cx="4681800" cy="2288520"/>
            <a:chOff x="1187280" y="3933720"/>
            <a:chExt cx="4681800" cy="2288520"/>
          </a:xfrm>
        </p:grpSpPr>
        <p:sp>
          <p:nvSpPr>
            <p:cNvPr id="107" name=""/>
            <p:cNvSpPr/>
            <p:nvPr/>
          </p:nvSpPr>
          <p:spPr>
            <a:xfrm>
              <a:off x="1187280" y="3933720"/>
              <a:ext cx="4681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学语言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在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和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∵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=∠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=∠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=DE 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∴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S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360" y="4869000"/>
              <a:ext cx="287280" cy="792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333360"/>
            <a:ext cx="81374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两角和它们的夹边对应相等的两个三角形全等，简写成“角边角”或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SA”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413000"/>
            <a:ext cx="806472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两角和其中一角的对边对应相等的两个三角形全等，简写成“角角边”或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068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00000" y="5227560"/>
            <a:ext cx="4535640" cy="1168200"/>
            <a:chOff x="900000" y="5227560"/>
            <a:chExt cx="4535640" cy="1168200"/>
          </a:xfrm>
        </p:grpSpPr>
        <p:grpSp>
          <p:nvGrpSpPr>
            <p:cNvPr id="113" name=""/>
            <p:cNvGrpSpPr/>
            <p:nvPr/>
          </p:nvGrpSpPr>
          <p:grpSpPr>
            <a:xfrm>
              <a:off x="3564000" y="5227560"/>
              <a:ext cx="1871640" cy="1168200"/>
              <a:chOff x="3564000" y="5227560"/>
              <a:chExt cx="1871640" cy="116820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3564000" y="5227560"/>
                <a:ext cx="129528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64000" y="6379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59280" y="5227560"/>
                <a:ext cx="5763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64000" y="6092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04000" y="6019560"/>
                <a:ext cx="393480" cy="35100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900000" y="5227560"/>
              <a:ext cx="1871640" cy="1168200"/>
              <a:chOff x="900000" y="5227560"/>
              <a:chExt cx="1871640" cy="116820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900000" y="5227560"/>
                <a:ext cx="129528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00000" y="6379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95280" y="5227560"/>
                <a:ext cx="5763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0000" y="6092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39640" y="6019560"/>
                <a:ext cx="393840" cy="35100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5940360" y="4148280"/>
            <a:ext cx="2441880" cy="2087280"/>
            <a:chOff x="5940360" y="4148280"/>
            <a:chExt cx="2441880" cy="2087280"/>
          </a:xfrm>
        </p:grpSpPr>
        <p:sp>
          <p:nvSpPr>
            <p:cNvPr id="126" name=""/>
            <p:cNvSpPr/>
            <p:nvPr/>
          </p:nvSpPr>
          <p:spPr>
            <a:xfrm>
              <a:off x="6518160" y="4868640"/>
              <a:ext cx="186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AAS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0360" y="4148280"/>
              <a:ext cx="503280" cy="208728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54360 h 2087280"/>
                <a:gd name="textAreaBottom" fmla="*/ 2032920 h 20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38836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57440" y="2225520"/>
            <a:ext cx="4722120" cy="1807560"/>
            <a:chOff x="757440" y="2225520"/>
            <a:chExt cx="4722120" cy="1807560"/>
          </a:xfrm>
        </p:grpSpPr>
        <p:grpSp>
          <p:nvGrpSpPr>
            <p:cNvPr id="130" name=""/>
            <p:cNvGrpSpPr/>
            <p:nvPr/>
          </p:nvGrpSpPr>
          <p:grpSpPr>
            <a:xfrm>
              <a:off x="1042920" y="2492280"/>
              <a:ext cx="1871640" cy="1152360"/>
              <a:chOff x="1042920" y="2492280"/>
              <a:chExt cx="1871640" cy="11523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1042920" y="2492280"/>
                <a:ext cx="1871640" cy="1152360"/>
                <a:chOff x="1042920" y="2492280"/>
                <a:chExt cx="1871640" cy="115236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1042920" y="2492280"/>
                  <a:ext cx="129528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042920" y="3644640"/>
                  <a:ext cx="1871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38200" y="2492280"/>
                  <a:ext cx="57600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1042920" y="334152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21080" y="3294000"/>
                <a:ext cx="393480" cy="35064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76720" y="2492280"/>
              <a:ext cx="1871640" cy="1166760"/>
              <a:chOff x="3276720" y="2492280"/>
              <a:chExt cx="1871640" cy="11667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3276720" y="2492280"/>
                <a:ext cx="129528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76720" y="3644640"/>
                <a:ext cx="1871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0" y="2492280"/>
                <a:ext cx="5763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76720" y="335592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16360" y="3284280"/>
                <a:ext cx="393840" cy="35100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837440" y="22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744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2160" y="357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8000" y="222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33800" y="321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29640" y="323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36920" y="3594240"/>
            <a:ext cx="4958280" cy="1610640"/>
            <a:chOff x="736920" y="3594240"/>
            <a:chExt cx="4958280" cy="1610640"/>
          </a:xfrm>
        </p:grpSpPr>
        <p:grpSp>
          <p:nvGrpSpPr>
            <p:cNvPr id="150" name=""/>
            <p:cNvGrpSpPr/>
            <p:nvPr/>
          </p:nvGrpSpPr>
          <p:grpSpPr>
            <a:xfrm>
              <a:off x="969480" y="3859200"/>
              <a:ext cx="1872000" cy="1168560"/>
              <a:chOff x="969480" y="3859200"/>
              <a:chExt cx="1872000" cy="116856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969480" y="3859200"/>
                <a:ext cx="1295640" cy="115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69840" y="5011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65480" y="3859200"/>
                <a:ext cx="576000" cy="1152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69840" y="4724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09840" y="4651560"/>
                <a:ext cx="393480" cy="35064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419280" y="3859200"/>
              <a:ext cx="1872000" cy="1168560"/>
              <a:chOff x="3419280" y="3859200"/>
              <a:chExt cx="1872000" cy="116856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419280" y="3859200"/>
                <a:ext cx="1295640" cy="115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419640" y="5011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15280" y="3859200"/>
                <a:ext cx="576000" cy="1152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19640" y="4724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9640" y="4651560"/>
                <a:ext cx="393840" cy="35064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889640" y="366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6920" y="474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6000" y="4673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53640" y="359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28920" y="445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5280" y="4529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115920"/>
            <a:ext cx="86043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l-GR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平分线上的一点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B⊥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C⊥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B=P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932360" y="3068640"/>
            <a:ext cx="3962520" cy="2590920"/>
            <a:chOff x="4932360" y="3068640"/>
            <a:chExt cx="3962520" cy="2590920"/>
          </a:xfrm>
        </p:grpSpPr>
        <p:grpSp>
          <p:nvGrpSpPr>
            <p:cNvPr id="170" name=""/>
            <p:cNvGrpSpPr/>
            <p:nvPr/>
          </p:nvGrpSpPr>
          <p:grpSpPr>
            <a:xfrm>
              <a:off x="5542200" y="3119040"/>
              <a:ext cx="3352680" cy="2540520"/>
              <a:chOff x="5542200" y="3119040"/>
              <a:chExt cx="3352680" cy="25405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5542200" y="3119040"/>
                <a:ext cx="2963880" cy="132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542200" y="3677760"/>
                <a:ext cx="3352680" cy="1981800"/>
                <a:chOff x="5542200" y="3677760"/>
                <a:chExt cx="3352680" cy="19818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542200" y="4440240"/>
                  <a:ext cx="2971800" cy="12193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542200" y="4440240"/>
                  <a:ext cx="33526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294320" y="4440240"/>
                  <a:ext cx="304920" cy="762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7294320" y="3677760"/>
                  <a:ext cx="304920" cy="762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4932360" y="4287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13800" y="3068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13800" y="5126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75560" y="405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066080" y="3787920"/>
              <a:ext cx="287280" cy="144360"/>
              <a:chOff x="7066080" y="3787920"/>
              <a:chExt cx="287280" cy="144360"/>
            </a:xfrm>
          </p:grpSpPr>
          <p:sp>
            <p:nvSpPr>
              <p:cNvPr id="182" name=""/>
              <p:cNvSpPr/>
              <p:nvPr/>
            </p:nvSpPr>
            <p:spPr>
              <a:xfrm>
                <a:off x="7066080" y="3787920"/>
                <a:ext cx="71280" cy="14436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137360" y="3861000"/>
                <a:ext cx="216000" cy="71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137000" y="4940280"/>
              <a:ext cx="216360" cy="144720"/>
              <a:chOff x="7137000" y="4940280"/>
              <a:chExt cx="216360" cy="144720"/>
            </a:xfrm>
          </p:grpSpPr>
          <p:sp>
            <p:nvSpPr>
              <p:cNvPr id="185" name=""/>
              <p:cNvSpPr/>
              <p:nvPr/>
            </p:nvSpPr>
            <p:spPr>
              <a:xfrm>
                <a:off x="7210440" y="4940280"/>
                <a:ext cx="142920" cy="7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7137000" y="4940280"/>
                <a:ext cx="73080" cy="1447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0" y="148428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A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4005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AB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AC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4437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P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P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501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P=AP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14972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501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公共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5589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PB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P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093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=PC  (                           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2924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P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P=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°(            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720" y="3016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线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91628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B=∠PAC(               )            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37080" y="1916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角平分线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3600" y="357336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280" y="2421000"/>
            <a:ext cx="45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⊥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⊥AC(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1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3800" y="40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544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70160" y="55897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6165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全等三角形对应边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5840" y="4437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836640"/>
            <a:ext cx="525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13000"/>
            <a:ext cx="4824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9885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分线上的点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⊥AB,PC⊥A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=P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理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715000" y="1981080"/>
            <a:ext cx="3124080" cy="2349360"/>
            <a:chOff x="5715000" y="1981080"/>
            <a:chExt cx="3124080" cy="2349360"/>
          </a:xfrm>
        </p:grpSpPr>
        <p:grpSp>
          <p:nvGrpSpPr>
            <p:cNvPr id="211" name=""/>
            <p:cNvGrpSpPr/>
            <p:nvPr/>
          </p:nvGrpSpPr>
          <p:grpSpPr>
            <a:xfrm>
              <a:off x="6095880" y="2057040"/>
              <a:ext cx="2666880" cy="1828800"/>
              <a:chOff x="6095880" y="2057040"/>
              <a:chExt cx="2666880" cy="1828800"/>
            </a:xfrm>
          </p:grpSpPr>
          <p:sp>
            <p:nvSpPr>
              <p:cNvPr id="212" name=""/>
              <p:cNvSpPr/>
              <p:nvPr/>
            </p:nvSpPr>
            <p:spPr>
              <a:xfrm flipV="1">
                <a:off x="6095880" y="2057040"/>
                <a:ext cx="2057400" cy="1828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95880" y="3885840"/>
                <a:ext cx="2514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6171840" y="2818800"/>
                <a:ext cx="2590920" cy="10666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381880" y="2971440"/>
                <a:ext cx="0" cy="91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7772040" y="2361600"/>
                <a:ext cx="609840" cy="685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8229240" y="3733560"/>
                <a:ext cx="1526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29240" y="373356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96080" y="2514240"/>
                <a:ext cx="75960" cy="76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772040" y="2514240"/>
                <a:ext cx="76320" cy="76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715000" y="1981080"/>
              <a:ext cx="3124080" cy="2349360"/>
              <a:chOff x="5715000" y="1981080"/>
              <a:chExt cx="3124080" cy="2349360"/>
            </a:xfrm>
          </p:grpSpPr>
          <p:sp>
            <p:nvSpPr>
              <p:cNvPr id="222" name=""/>
              <p:cNvSpPr/>
              <p:nvPr/>
            </p:nvSpPr>
            <p:spPr>
              <a:xfrm>
                <a:off x="5715000" y="36576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2960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74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818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609480" y="243828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平分线的性质：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角平分线上的点到角两边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距离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相等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1148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平分线上的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B⊥AB,PC⊥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B=P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平分线上的点到角两边        的距离相等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数学语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049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探究归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020000" y="1484280"/>
            <a:ext cx="50472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1989000"/>
            <a:ext cx="720720" cy="432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73800" y="17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53440" y="1052640"/>
            <a:ext cx="3274560" cy="2691720"/>
            <a:chOff x="5653440" y="1052640"/>
            <a:chExt cx="3274560" cy="2691720"/>
          </a:xfrm>
        </p:grpSpPr>
        <p:sp>
          <p:nvSpPr>
            <p:cNvPr id="234" name=""/>
            <p:cNvSpPr/>
            <p:nvPr/>
          </p:nvSpPr>
          <p:spPr>
            <a:xfrm>
              <a:off x="6084720" y="3284640"/>
              <a:ext cx="28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524720" y="1483920"/>
              <a:ext cx="0" cy="18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20000" y="1484280"/>
              <a:ext cx="180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084720" y="1483920"/>
              <a:ext cx="935280" cy="18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84720" y="2420640"/>
              <a:ext cx="144000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13640" y="1073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6880" y="105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6520" y="213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800" y="328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53440" y="306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255680" y="0"/>
            <a:ext cx="6911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AB∥CD,P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CB,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PA=P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960" y="1413000"/>
            <a:ext cx="3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2543600">
            <a:off x="6664320" y="1771920"/>
            <a:ext cx="3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765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已知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=AE,∠B=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=C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1080" y="2205000"/>
            <a:ext cx="3236760" cy="3318120"/>
            <a:chOff x="181080" y="2205000"/>
            <a:chExt cx="3236760" cy="3318120"/>
          </a:xfrm>
        </p:grpSpPr>
        <p:grpSp>
          <p:nvGrpSpPr>
            <p:cNvPr id="249" name=""/>
            <p:cNvGrpSpPr/>
            <p:nvPr/>
          </p:nvGrpSpPr>
          <p:grpSpPr>
            <a:xfrm>
              <a:off x="618840" y="2610000"/>
              <a:ext cx="2384640" cy="2631960"/>
              <a:chOff x="618840" y="2610000"/>
              <a:chExt cx="2384640" cy="263196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618840" y="2610000"/>
                <a:ext cx="1161720" cy="263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0920" y="2610000"/>
                <a:ext cx="1222560" cy="263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1320" y="3690000"/>
                <a:ext cx="1711800" cy="155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19200" y="3690000"/>
                <a:ext cx="1650960" cy="155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780920" y="2205000"/>
              <a:ext cx="4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600" y="3216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4600" y="3216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3000" y="4836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10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132000" y="1844640"/>
            <a:ext cx="6337440" cy="4195080"/>
            <a:chOff x="3132000" y="1844640"/>
            <a:chExt cx="6337440" cy="4195080"/>
          </a:xfrm>
        </p:grpSpPr>
        <p:sp>
          <p:nvSpPr>
            <p:cNvPr id="260" name=""/>
            <p:cNvSpPr/>
            <p:nvPr/>
          </p:nvSpPr>
          <p:spPr>
            <a:xfrm>
              <a:off x="3132000" y="1844640"/>
              <a:ext cx="6337440" cy="41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证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∵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Arial"/>
                </a:rPr>
                <a:t>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=∠C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= ∠A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公共角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E=AD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∴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E  ≌△AC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AS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 ∴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=C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（全等三角形对应边相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08360" y="2781360"/>
              <a:ext cx="368280" cy="1655640"/>
            </a:xfrm>
            <a:custGeom>
              <a:avLst/>
              <a:gdLst>
                <a:gd name="textAreaLeft" fmla="*/ 235440 w 368280"/>
                <a:gd name="textAreaRight" fmla="*/ 368640 w 3682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52720" y="2133720"/>
            <a:ext cx="3057480" cy="3497400"/>
            <a:chOff x="252720" y="2133720"/>
            <a:chExt cx="3057480" cy="3497400"/>
          </a:xfrm>
        </p:grpSpPr>
        <p:sp>
          <p:nvSpPr>
            <p:cNvPr id="263" name=""/>
            <p:cNvSpPr/>
            <p:nvPr/>
          </p:nvSpPr>
          <p:spPr>
            <a:xfrm>
              <a:off x="2194200" y="3718080"/>
              <a:ext cx="696960" cy="16509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30560" y="3789360"/>
              <a:ext cx="1560600" cy="15796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48160" y="213372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6800" y="321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5200" y="3211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35360" y="4937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720" y="504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2920" y="4726080"/>
              <a:ext cx="503280" cy="576360"/>
            </a:xfrm>
            <a:custGeom>
              <a:avLst/>
              <a:gdLst/>
              <a:ahLst/>
              <a:rect l="l" t="t" r="r" b="b"/>
              <a:pathLst>
                <a:path w="430" h="515">
                  <a:moveTo>
                    <a:pt x="430" y="78"/>
                  </a:moveTo>
                  <a:cubicBezTo>
                    <a:pt x="367" y="15"/>
                    <a:pt x="292" y="0"/>
                    <a:pt x="205" y="0"/>
                  </a:cubicBezTo>
                  <a:lnTo>
                    <a:pt x="0" y="515"/>
                  </a:lnTo>
                  <a:lnTo>
                    <a:pt x="430" y="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0200" y="4726080"/>
              <a:ext cx="433440" cy="576360"/>
            </a:xfrm>
            <a:custGeom>
              <a:avLst/>
              <a:gdLst/>
              <a:ahLst/>
              <a:rect l="l" t="t" r="r" b="b"/>
              <a:pathLst>
                <a:path w="346" h="449">
                  <a:moveTo>
                    <a:pt x="157" y="2"/>
                  </a:moveTo>
                  <a:cubicBezTo>
                    <a:pt x="99" y="8"/>
                    <a:pt x="0" y="0"/>
                    <a:pt x="0" y="80"/>
                  </a:cubicBezTo>
                  <a:lnTo>
                    <a:pt x="346" y="449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3560" y="2638440"/>
              <a:ext cx="409320" cy="563760"/>
            </a:xfrm>
            <a:custGeom>
              <a:avLst/>
              <a:gdLst/>
              <a:ahLst/>
              <a:rect l="l" t="t" r="r" b="b"/>
              <a:pathLst>
                <a:path w="258" h="355">
                  <a:moveTo>
                    <a:pt x="0" y="256"/>
                  </a:moveTo>
                  <a:cubicBezTo>
                    <a:pt x="14" y="296"/>
                    <a:pt x="22" y="319"/>
                    <a:pt x="58" y="342"/>
                  </a:cubicBezTo>
                  <a:cubicBezTo>
                    <a:pt x="58" y="342"/>
                    <a:pt x="258" y="355"/>
                    <a:pt x="221" y="285"/>
                  </a:cubicBezTo>
                  <a:lnTo>
                    <a:pt x="119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62400" y="2565360"/>
              <a:ext cx="1542960" cy="2803680"/>
              <a:chOff x="662400" y="2565360"/>
              <a:chExt cx="1542960" cy="2803680"/>
            </a:xfrm>
          </p:grpSpPr>
          <p:sp>
            <p:nvSpPr>
              <p:cNvPr id="274" name=""/>
              <p:cNvSpPr/>
              <p:nvPr/>
            </p:nvSpPr>
            <p:spPr>
              <a:xfrm flipH="1">
                <a:off x="662400" y="3718080"/>
                <a:ext cx="668160" cy="1650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62400" y="3716280"/>
                <a:ext cx="1542960" cy="165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62560" y="2565360"/>
                <a:ext cx="431640" cy="115272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330560" y="2565360"/>
                <a:ext cx="432000" cy="1152720"/>
              </a:xfrm>
              <a:prstGeom prst="line">
                <a:avLst/>
              </a:prstGeom>
              <a:ln w="442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817236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16920" y="-48240"/>
            <a:ext cx="3293640" cy="851400"/>
            <a:chOff x="-16920" y="-48240"/>
            <a:chExt cx="3293640" cy="851400"/>
          </a:xfrm>
        </p:grpSpPr>
        <p:sp>
          <p:nvSpPr>
            <p:cNvPr id="280" name=""/>
            <p:cNvSpPr/>
            <p:nvPr/>
          </p:nvSpPr>
          <p:spPr>
            <a:xfrm>
              <a:off x="0" y="381600"/>
              <a:ext cx="3276720" cy="27720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-16920" y="-48240"/>
              <a:ext cx="3150720" cy="851400"/>
              <a:chOff x="-16920" y="-48240"/>
              <a:chExt cx="3150720" cy="851400"/>
            </a:xfrm>
          </p:grpSpPr>
          <p:sp>
            <p:nvSpPr>
              <p:cNvPr id="282" name=""/>
              <p:cNvSpPr/>
              <p:nvPr/>
            </p:nvSpPr>
            <p:spPr>
              <a:xfrm rot="158400">
                <a:off x="142200" y="69480"/>
                <a:ext cx="854640" cy="520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7320" y="104400"/>
                <a:ext cx="854640" cy="48564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961200">
                <a:off x="142200" y="0"/>
                <a:ext cx="427320" cy="5547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520" y="360"/>
                <a:ext cx="712440" cy="1386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920" y="416880"/>
                <a:ext cx="569880" cy="3121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29000">
                <a:off x="0" y="633240"/>
                <a:ext cx="217800" cy="1270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54640" y="35280"/>
                <a:ext cx="213480" cy="345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2120" y="34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9-22T07:39:02Z</dcterms:modified>
  <cp:revision>107</cp:revision>
  <dc:subject/>
  <dc:title/>
</cp:coreProperties>
</file>