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voltage.wav" ContentType="audio/x-wav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808-3C99-4251-B486-E1E2928D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36B-A511-43DC-B34B-404CFF0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254-F1BD-4B2F-A46C-68D15EE0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DD9-3957-424F-A2E6-8D02C099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86BC-4AF0-4C4D-B457-F41A33D4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1BD-59C1-4D77-B1DF-225B0ACF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63B2-B42C-48E6-BD76-3204F14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83A-DDD5-403C-A8D9-E8DE390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EFFD-DE07-4BE7-A028-B7C8F72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C19-21D9-475A-8B63-D55E528D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03CA-E330-496E-91D5-81BCDF5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F5F-C857-4EF6-A78F-C554EC5E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D9DF-F502-4FC6-96CA-F30A825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E887-1861-404A-88E4-5731085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0B5-D3C0-48E5-B6D5-46D8146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D65B-77B5-4052-B0CE-8F1DFFAF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897-1942-45A4-9F43-A50ADDC3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51B-A23C-4582-8087-097ED233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910-A4BC-48D4-959C-03364F5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DEF-49A2-4CCA-9A33-0986017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79C-4269-47AC-9A90-C98198C0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F07-9D8C-4502-93D2-993F0B1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03A-4FBE-4889-A844-7081CC2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BB9-C4C2-4894-B21D-49887F8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E66A-7520-42B2-8EC2-DC7394A146A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3EF9-FE1B-419D-A75B-0BC0F3F75EF4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6002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1916280"/>
            <a:ext cx="81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1.5  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三角形全等的判定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(3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5653800" y="1557360"/>
            <a:ext cx="3198600" cy="2548800"/>
            <a:chOff x="5653800" y="1557360"/>
            <a:chExt cx="3198600" cy="2548800"/>
          </a:xfrm>
        </p:grpSpPr>
        <p:sp>
          <p:nvSpPr>
            <p:cNvPr id="378" name=""/>
            <p:cNvSpPr/>
            <p:nvPr/>
          </p:nvSpPr>
          <p:spPr>
            <a:xfrm flipV="1">
              <a:off x="6011640" y="1988640"/>
              <a:ext cx="266364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1640" y="3789360"/>
              <a:ext cx="151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522920" y="2709360"/>
              <a:ext cx="7272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235280" y="198900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162560" y="1989000"/>
              <a:ext cx="7128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5380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2720" y="2709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52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77440" y="163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53440" y="3646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96000" y="25653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79280" y="189000"/>
            <a:ext cx="95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,F,E,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一条直线上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∥CD,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∠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求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E=DF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8920" y="1989000"/>
            <a:ext cx="46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　　∵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560" y="2614680"/>
            <a:ext cx="54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                ）　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19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72680" y="2637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直线平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内错角相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6680" y="3141720"/>
            <a:ext cx="27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3720" y="544500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E≌△DCF(           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6021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=D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3240" y="5516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9760" y="3645000"/>
            <a:ext cx="4305240" cy="1818000"/>
            <a:chOff x="329760" y="3645000"/>
            <a:chExt cx="4305240" cy="1818000"/>
          </a:xfrm>
        </p:grpSpPr>
        <p:grpSp>
          <p:nvGrpSpPr>
            <p:cNvPr id="399" name=""/>
            <p:cNvGrpSpPr/>
            <p:nvPr/>
          </p:nvGrpSpPr>
          <p:grpSpPr>
            <a:xfrm>
              <a:off x="971640" y="3645000"/>
              <a:ext cx="3663360" cy="1818000"/>
              <a:chOff x="971640" y="3645000"/>
              <a:chExt cx="3663360" cy="1818000"/>
            </a:xfrm>
          </p:grpSpPr>
          <p:sp>
            <p:nvSpPr>
              <p:cNvPr id="400" name=""/>
              <p:cNvSpPr/>
              <p:nvPr/>
            </p:nvSpPr>
            <p:spPr>
              <a:xfrm>
                <a:off x="971640" y="3845160"/>
                <a:ext cx="79560" cy="1600200"/>
              </a:xfrm>
              <a:custGeom>
                <a:avLst/>
                <a:gdLst>
                  <a:gd name="textAreaLeft" fmla="*/ 50760 w 79560"/>
                  <a:gd name="textAreaRight" fmla="*/ 79920 w 7956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46520" y="3645000"/>
                <a:ext cx="358848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=∠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已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B=D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=∠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证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29760" y="4235400"/>
              <a:ext cx="42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20000" y="6021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等三角形的对应边相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69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求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D=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2708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证明 ：在△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D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和△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E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中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87280" y="3500280"/>
            <a:ext cx="3500640" cy="1818000"/>
            <a:chOff x="1187280" y="3500280"/>
            <a:chExt cx="3500640" cy="1818000"/>
          </a:xfrm>
        </p:grpSpPr>
        <p:sp>
          <p:nvSpPr>
            <p:cNvPr id="407" name=""/>
            <p:cNvSpPr/>
            <p:nvPr/>
          </p:nvSpPr>
          <p:spPr>
            <a:xfrm>
              <a:off x="1187280" y="37004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58920" y="3500280"/>
              <a:ext cx="34290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=∠A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公共角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C=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已知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C=∠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已知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11280" y="587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AD=AE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全等三角形的对应边相等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001560" y="1484280"/>
            <a:ext cx="3159360" cy="3913200"/>
            <a:chOff x="6001560" y="1484280"/>
            <a:chExt cx="3159360" cy="3913200"/>
          </a:xfrm>
        </p:grpSpPr>
        <p:grpSp>
          <p:nvGrpSpPr>
            <p:cNvPr id="411" name=""/>
            <p:cNvGrpSpPr/>
            <p:nvPr/>
          </p:nvGrpSpPr>
          <p:grpSpPr>
            <a:xfrm>
              <a:off x="6459120" y="1900080"/>
              <a:ext cx="2190240" cy="3283200"/>
              <a:chOff x="6459120" y="1900080"/>
              <a:chExt cx="2190240" cy="3283200"/>
            </a:xfrm>
          </p:grpSpPr>
          <p:sp>
            <p:nvSpPr>
              <p:cNvPr id="412" name=""/>
              <p:cNvSpPr/>
              <p:nvPr/>
            </p:nvSpPr>
            <p:spPr>
              <a:xfrm flipH="1">
                <a:off x="6459120" y="1900080"/>
                <a:ext cx="989640" cy="328320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48760" y="1900080"/>
                <a:ext cx="1200600" cy="314748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7030800" y="3286080"/>
                <a:ext cx="1618200" cy="17611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459120" y="3258360"/>
                <a:ext cx="1535040" cy="19249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7093080" y="148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16720" y="2997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1457200">
              <a:off x="6012000" y="4869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56720" y="2997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29800">
              <a:off x="8686800" y="4797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02440" y="5300640"/>
            <a:ext cx="42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ACD≌△ABE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-16920" y="-48240"/>
            <a:ext cx="3293640" cy="851400"/>
            <a:chOff x="-16920" y="-48240"/>
            <a:chExt cx="3293640" cy="851400"/>
          </a:xfrm>
        </p:grpSpPr>
        <p:sp>
          <p:nvSpPr>
            <p:cNvPr id="423" name=""/>
            <p:cNvSpPr/>
            <p:nvPr/>
          </p:nvSpPr>
          <p:spPr>
            <a:xfrm>
              <a:off x="0" y="381600"/>
              <a:ext cx="3276720" cy="2772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-16920" y="-48240"/>
              <a:ext cx="3150720" cy="851400"/>
              <a:chOff x="-16920" y="-48240"/>
              <a:chExt cx="3150720" cy="851400"/>
            </a:xfrm>
          </p:grpSpPr>
          <p:sp>
            <p:nvSpPr>
              <p:cNvPr id="425" name=""/>
              <p:cNvSpPr/>
              <p:nvPr/>
            </p:nvSpPr>
            <p:spPr>
              <a:xfrm rot="158400">
                <a:off x="142200" y="69480"/>
                <a:ext cx="854640" cy="520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7320" y="104400"/>
                <a:ext cx="854640" cy="485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961200">
                <a:off x="142200" y="0"/>
                <a:ext cx="427320" cy="5547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9520" y="360"/>
                <a:ext cx="712440" cy="1386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920" y="416880"/>
                <a:ext cx="569880" cy="3121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629000">
                <a:off x="0" y="633240"/>
                <a:ext cx="217800" cy="127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4640" y="35280"/>
                <a:ext cx="21348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12120" y="34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6200" y="692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4920" y="2178000"/>
            <a:ext cx="3563640" cy="2083320"/>
            <a:chOff x="34920" y="2178000"/>
            <a:chExt cx="3563640" cy="2083320"/>
          </a:xfrm>
        </p:grpSpPr>
        <p:grpSp>
          <p:nvGrpSpPr>
            <p:cNvPr id="435" name=""/>
            <p:cNvGrpSpPr/>
            <p:nvPr/>
          </p:nvGrpSpPr>
          <p:grpSpPr>
            <a:xfrm>
              <a:off x="379080" y="2503800"/>
              <a:ext cx="2356200" cy="1367640"/>
              <a:chOff x="379080" y="2503800"/>
              <a:chExt cx="2356200" cy="1367640"/>
            </a:xfrm>
          </p:grpSpPr>
          <p:sp>
            <p:nvSpPr>
              <p:cNvPr id="436" name=""/>
              <p:cNvSpPr/>
              <p:nvPr/>
            </p:nvSpPr>
            <p:spPr>
              <a:xfrm>
                <a:off x="860760" y="2503800"/>
                <a:ext cx="187452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9440" y="3871440"/>
                <a:ext cx="187416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379080" y="2503800"/>
                <a:ext cx="481320" cy="136764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253600" y="2503800"/>
                <a:ext cx="481680" cy="136764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920" y="374076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75920" y="367488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37080" y="2178000"/>
              <a:ext cx="8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40" y="2178000"/>
              <a:ext cx="7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53080" y="2250360"/>
            <a:ext cx="2593440" cy="1798560"/>
            <a:chOff x="253080" y="2250360"/>
            <a:chExt cx="2593440" cy="1798560"/>
          </a:xfrm>
        </p:grpSpPr>
        <p:grpSp>
          <p:nvGrpSpPr>
            <p:cNvPr id="445" name=""/>
            <p:cNvGrpSpPr/>
            <p:nvPr/>
          </p:nvGrpSpPr>
          <p:grpSpPr>
            <a:xfrm>
              <a:off x="253080" y="2250360"/>
              <a:ext cx="2593440" cy="1798560"/>
              <a:chOff x="253080" y="2250360"/>
              <a:chExt cx="2593440" cy="179856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379440" y="2503080"/>
                <a:ext cx="2357280" cy="1368360"/>
              </a:xfrm>
              <a:prstGeom prst="line">
                <a:avLst/>
              </a:prstGeom>
              <a:ln w="381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4720" y="3618000"/>
                <a:ext cx="28440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3080" y="3402000"/>
                <a:ext cx="57312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2481600">
                <a:off x="2314080" y="2550600"/>
                <a:ext cx="430560" cy="4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8" y="4925"/>
                    </a:moveTo>
                    <a:arcTo wR="10800" hR="10800" stAng="-8822586" swAng="7030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8" y="4925"/>
                    </a:moveTo>
                    <a:arcTo wR="10800" hR="10800" stAng="-8822586" swAng="7030669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 rot="2481600">
                <a:off x="1954440" y="2333520"/>
                <a:ext cx="430560" cy="4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8" y="4925"/>
                    </a:moveTo>
                    <a:arcTo wR="10800" hR="10800" stAng="-8822586" swAng="7030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8" y="4925"/>
                    </a:moveTo>
                    <a:arcTo wR="10800" hR="10800" stAng="-8822586" swAng="7030669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971280" y="347328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18920" y="2538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2200" y="3114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0920" y="289728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771640" y="1601640"/>
            <a:ext cx="6227640" cy="4861800"/>
            <a:chOff x="2771640" y="1601640"/>
            <a:chExt cx="6227640" cy="4861800"/>
          </a:xfrm>
        </p:grpSpPr>
        <p:sp>
          <p:nvSpPr>
            <p:cNvPr id="456" name=""/>
            <p:cNvSpPr/>
            <p:nvPr/>
          </p:nvSpPr>
          <p:spPr>
            <a:xfrm>
              <a:off x="2771640" y="1601640"/>
              <a:ext cx="6227640" cy="48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∥C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D∥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 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 ∴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</a:rPr>
                <a:t>（两直线平行，内错角相等）</a:t>
              </a:r>
              <a:endParaRPr b="0" lang="en-US" sz="22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D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证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C=AC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公共边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证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C≌△CD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S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=CD   BC=AD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全等三角形对应边相等）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63640" y="397836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98600" y="11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思考题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Verdana"/>
              </a:rPr>
              <a:t>作业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完成作业本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同步练习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预习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三角形全等的判定（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9280" y="644400"/>
            <a:ext cx="83534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：要测量河两岸相对的两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距离，可以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垂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取两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定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垂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直线上，这时测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就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，为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9280" y="135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400640" y="2637000"/>
            <a:ext cx="4716360" cy="4110480"/>
            <a:chOff x="4400640" y="2637000"/>
            <a:chExt cx="4716360" cy="4110480"/>
          </a:xfrm>
        </p:grpSpPr>
        <p:sp>
          <p:nvSpPr>
            <p:cNvPr id="465" name=""/>
            <p:cNvSpPr/>
            <p:nvPr/>
          </p:nvSpPr>
          <p:spPr>
            <a:xfrm>
              <a:off x="8106840" y="616608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400640" y="2637000"/>
              <a:ext cx="4716360" cy="3816360"/>
              <a:chOff x="4400640" y="2637000"/>
              <a:chExt cx="4716360" cy="3816360"/>
            </a:xfrm>
          </p:grpSpPr>
          <p:sp>
            <p:nvSpPr>
              <p:cNvPr id="467" name=""/>
              <p:cNvSpPr/>
              <p:nvPr/>
            </p:nvSpPr>
            <p:spPr>
              <a:xfrm>
                <a:off x="4400640" y="3862440"/>
                <a:ext cx="4103640" cy="57492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64280" y="4870800"/>
                <a:ext cx="381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264280" y="4437360"/>
                <a:ext cx="0" cy="43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264280" y="3862440"/>
                <a:ext cx="0" cy="50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264280" y="321336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64280" y="3286440"/>
                <a:ext cx="2879640" cy="316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69000" y="3862440"/>
                <a:ext cx="503280" cy="574920"/>
              </a:xfrm>
              <a:prstGeom prst="line">
                <a:avLst/>
              </a:prstGeom>
              <a:ln w="3492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8143920" y="4870800"/>
                <a:ext cx="0" cy="158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64280" y="465480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38960" y="465480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56640" y="487080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56640" y="5086440"/>
                <a:ext cx="287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83920" y="2637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44600" y="487080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1440" y="48708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4560" y="4365720"/>
                <a:ext cx="48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12360" y="42944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1989000"/>
            <a:ext cx="78278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c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三边对应相等的两个三角形全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写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边边边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SSS”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05120" y="3213000"/>
            <a:ext cx="4484520" cy="2873880"/>
            <a:chOff x="1905120" y="3213000"/>
            <a:chExt cx="4484520" cy="2873880"/>
          </a:xfrm>
        </p:grpSpPr>
        <p:sp>
          <p:nvSpPr>
            <p:cNvPr id="171" name=""/>
            <p:cNvSpPr/>
            <p:nvPr/>
          </p:nvSpPr>
          <p:spPr>
            <a:xfrm>
              <a:off x="4850280" y="5505480"/>
              <a:ext cx="153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SSS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905120" y="3213000"/>
              <a:ext cx="3962520" cy="2867400"/>
              <a:chOff x="1905120" y="3213000"/>
              <a:chExt cx="3962520" cy="28674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981440" y="5499000"/>
                <a:ext cx="3757680" cy="581400"/>
                <a:chOff x="1981440" y="5499000"/>
                <a:chExt cx="3757680" cy="58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289240" y="5499000"/>
                  <a:ext cx="344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Arial"/>
                    </a:rPr>
                    <a:t>ABC </a:t>
                  </a:r>
                  <a:r>
                    <a:rPr b="1" lang="en-US" sz="3200" spc="-1" strike="noStrike">
                      <a:solidFill>
                        <a:srgbClr val="cc0000"/>
                      </a:solidFill>
                      <a:latin typeface="宋体"/>
                    </a:rPr>
                    <a:t>≌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Arial"/>
                    </a:rPr>
                    <a:t>     EFG</a:t>
                  </a:r>
                  <a:endParaRPr b="0" lang="en-US" sz="2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757680" y="5668920"/>
                  <a:ext cx="230400" cy="2872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81440" y="5668920"/>
                  <a:ext cx="230040" cy="2872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949120" y="3767040"/>
                <a:ext cx="13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AB=EF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75760" y="4356000"/>
                <a:ext cx="139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BC=FG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75400" y="4965480"/>
                <a:ext cx="141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AC=EG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43560" y="3975120"/>
                <a:ext cx="152280" cy="13716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35640 h 1371600"/>
                  <a:gd name="textAreaBottom" fmla="*/ 133596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3213000"/>
                <a:ext cx="396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在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和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EFG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中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195640" y="18900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回顾与思考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1970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角形全等的判定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587600"/>
            <a:ext cx="8137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及其夹角对应相等的两个三角形全等（简写成“边角边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SAS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3357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5280" y="3065400"/>
            <a:ext cx="7919640" cy="652680"/>
            <a:chOff x="395280" y="3065400"/>
            <a:chExt cx="7919640" cy="652680"/>
          </a:xfrm>
        </p:grpSpPr>
        <p:sp>
          <p:nvSpPr>
            <p:cNvPr id="187" name=""/>
            <p:cNvSpPr/>
            <p:nvPr/>
          </p:nvSpPr>
          <p:spPr>
            <a:xfrm>
              <a:off x="395280" y="3065400"/>
              <a:ext cx="23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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注 意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7280" y="3136680"/>
              <a:ext cx="56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这个角一定要是两条边的夹角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4000" y="3281400"/>
              <a:ext cx="502920" cy="288720"/>
            </a:xfrm>
            <a:prstGeom prst="rightArrow">
              <a:avLst>
                <a:gd name="adj1" fmla="val 50000"/>
                <a:gd name="adj2" fmla="val 4354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12720" y="4011480"/>
            <a:ext cx="586764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A′B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=∠A′B′C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B′C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′B′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SAS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45813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6240" y="9050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全等的判定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6920" y="1461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回顾与思考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2781360"/>
            <a:ext cx="6192720" cy="280620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线段垂直平分线上的点到线段两端点的距离相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4000" y="333360"/>
            <a:ext cx="5760360" cy="2274480"/>
            <a:chOff x="324000" y="333360"/>
            <a:chExt cx="5760360" cy="2274480"/>
          </a:xfrm>
        </p:grpSpPr>
        <p:sp>
          <p:nvSpPr>
            <p:cNvPr id="196" name=""/>
            <p:cNvSpPr/>
            <p:nvPr/>
          </p:nvSpPr>
          <p:spPr>
            <a:xfrm>
              <a:off x="324000" y="333360"/>
              <a:ext cx="5612040" cy="22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521280"/>
              <a:ext cx="5760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垂直于一条线段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并且平分这条线段的直线叫做这条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线段的垂直平分线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简称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中垂线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5280" y="2835360"/>
            <a:ext cx="8304120" cy="2793600"/>
            <a:chOff x="395280" y="2835360"/>
            <a:chExt cx="8304120" cy="2793600"/>
          </a:xfrm>
        </p:grpSpPr>
        <p:sp>
          <p:nvSpPr>
            <p:cNvPr id="199" name=""/>
            <p:cNvSpPr/>
            <p:nvPr/>
          </p:nvSpPr>
          <p:spPr>
            <a:xfrm>
              <a:off x="395280" y="4562280"/>
              <a:ext cx="4537080" cy="1015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ff0066"/>
                  </a:solidFill>
                  <a:latin typeface="宋体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Ａ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中垂线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Ｃ＝ＢＣ（中垂线的性质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651280" y="2835360"/>
              <a:ext cx="3048120" cy="2793600"/>
              <a:chOff x="5651280" y="2835360"/>
              <a:chExt cx="3048120" cy="27936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651280" y="3267000"/>
                <a:ext cx="3048120" cy="2361960"/>
                <a:chOff x="5651280" y="3267000"/>
                <a:chExt cx="3048120" cy="23619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651280" y="3267000"/>
                  <a:ext cx="3048120" cy="2361960"/>
                  <a:chOff x="5651280" y="3267000"/>
                  <a:chExt cx="3048120" cy="2361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108480" y="4790880"/>
                    <a:ext cx="1905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7099200" y="3267000"/>
                    <a:ext cx="0" cy="2361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6108480" y="3800520"/>
                    <a:ext cx="990720" cy="9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99200" y="3800520"/>
                    <a:ext cx="914400" cy="9900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651280" y="4562280"/>
                    <a:ext cx="1067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99200" y="3419280"/>
                    <a:ext cx="106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718320" y="4714920"/>
                    <a:ext cx="106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013600" y="4562280"/>
                    <a:ext cx="685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6108480" y="3800520"/>
                  <a:ext cx="990720" cy="990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7080120" y="283536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99"/>
                    </a:solidFill>
                    <a:latin typeface="Times New Roman"/>
                    <a:ea typeface="华文行楷"/>
                  </a:rPr>
                  <a:t>l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900000" y="54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直平分线定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9200" y="2997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垂线的性质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6000" y="692280"/>
            <a:ext cx="8893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中垂线交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中垂线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43400" y="1981080"/>
            <a:ext cx="3124080" cy="1815840"/>
            <a:chOff x="4343400" y="1981080"/>
            <a:chExt cx="3124080" cy="1815840"/>
          </a:xfrm>
        </p:grpSpPr>
        <p:sp>
          <p:nvSpPr>
            <p:cNvPr id="217" name=""/>
            <p:cNvSpPr/>
            <p:nvPr/>
          </p:nvSpPr>
          <p:spPr>
            <a:xfrm>
              <a:off x="4724280" y="33526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724280" y="2438280"/>
              <a:ext cx="15238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160" y="243828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2590560"/>
              <a:ext cx="5331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019200" y="2666880"/>
              <a:ext cx="8384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1981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3200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3200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276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276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24000" y="3716280"/>
            <a:ext cx="8229600" cy="3058920"/>
            <a:chOff x="324000" y="3716280"/>
            <a:chExt cx="8229600" cy="3058920"/>
          </a:xfrm>
        </p:grpSpPr>
        <p:sp>
          <p:nvSpPr>
            <p:cNvPr id="228" name=""/>
            <p:cNvSpPr/>
            <p:nvPr/>
          </p:nvSpPr>
          <p:spPr>
            <a:xfrm>
              <a:off x="324000" y="3716280"/>
              <a:ext cx="822960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②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2), 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中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DE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垂直平分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C,AE=1.5cm, 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周长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9cm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则△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B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周长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_______.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413240" y="4869000"/>
              <a:ext cx="3581280" cy="1906200"/>
              <a:chOff x="4413240" y="4869000"/>
              <a:chExt cx="3581280" cy="1906200"/>
            </a:xfrm>
          </p:grpSpPr>
          <p:sp>
            <p:nvSpPr>
              <p:cNvPr id="230" name=""/>
              <p:cNvSpPr/>
              <p:nvPr/>
            </p:nvSpPr>
            <p:spPr>
              <a:xfrm>
                <a:off x="4718160" y="6240240"/>
                <a:ext cx="289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718160" y="5325480"/>
                <a:ext cx="53316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1320" y="5325840"/>
                <a:ext cx="236232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5360" y="5249880"/>
                <a:ext cx="381240" cy="9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51320" y="5325840"/>
                <a:ext cx="91440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6760" y="48690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1324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504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116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4320" y="54021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 flipH="1">
            <a:off x="5791320" y="243828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19560" y="243828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134136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0cm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7800" y="4292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6cm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45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47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一 练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475240" y="2637000"/>
            <a:ext cx="32004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907640" y="1341000"/>
            <a:ext cx="2449800" cy="1586160"/>
            <a:chOff x="1907640" y="1341000"/>
            <a:chExt cx="2449800" cy="1586160"/>
          </a:xfrm>
        </p:grpSpPr>
        <p:grpSp>
          <p:nvGrpSpPr>
            <p:cNvPr id="257" name=""/>
            <p:cNvGrpSpPr/>
            <p:nvPr/>
          </p:nvGrpSpPr>
          <p:grpSpPr>
            <a:xfrm>
              <a:off x="1907640" y="1341000"/>
              <a:ext cx="2448000" cy="1586160"/>
              <a:chOff x="1907640" y="1341000"/>
              <a:chExt cx="2448000" cy="15861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1907640" y="1774800"/>
                <a:ext cx="1368360" cy="108108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08000" y="2855880"/>
                <a:ext cx="1726920" cy="7128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3276360" y="1341000"/>
                <a:ext cx="576360" cy="43164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52720" y="1341360"/>
                <a:ext cx="502920" cy="158436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36720" y="2925720"/>
                <a:ext cx="718920" cy="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08000" y="1341360"/>
              <a:ext cx="2449440" cy="1584360"/>
            </a:xfrm>
            <a:custGeom>
              <a:avLst/>
              <a:gdLst/>
              <a:ahLst/>
              <a:rect l="l" t="t" r="r" b="b"/>
              <a:pathLst>
                <a:path w="1543" h="998">
                  <a:moveTo>
                    <a:pt x="1225" y="0"/>
                  </a:moveTo>
                  <a:lnTo>
                    <a:pt x="0" y="952"/>
                  </a:lnTo>
                  <a:lnTo>
                    <a:pt x="1543" y="998"/>
                  </a:lnTo>
                  <a:lnTo>
                    <a:pt x="1225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4797360"/>
            <a:ext cx="1873080" cy="1160640"/>
            <a:chOff x="1835280" y="4797360"/>
            <a:chExt cx="1873080" cy="1160640"/>
          </a:xfrm>
        </p:grpSpPr>
        <p:grpSp>
          <p:nvGrpSpPr>
            <p:cNvPr id="265" name=""/>
            <p:cNvGrpSpPr/>
            <p:nvPr/>
          </p:nvGrpSpPr>
          <p:grpSpPr>
            <a:xfrm>
              <a:off x="1835280" y="4797360"/>
              <a:ext cx="1850400" cy="1160640"/>
              <a:chOff x="1835280" y="4797360"/>
              <a:chExt cx="1850400" cy="1160640"/>
            </a:xfrm>
          </p:grpSpPr>
          <p:sp>
            <p:nvSpPr>
              <p:cNvPr id="266" name=""/>
              <p:cNvSpPr/>
              <p:nvPr/>
            </p:nvSpPr>
            <p:spPr>
              <a:xfrm flipH="1">
                <a:off x="1835280" y="4797360"/>
                <a:ext cx="1368000" cy="10810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35280" y="5878440"/>
                <a:ext cx="172836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03280" y="4797360"/>
                <a:ext cx="482400" cy="1160640"/>
              </a:xfrm>
              <a:custGeom>
                <a:avLst/>
                <a:gdLst/>
                <a:ahLst/>
                <a:rect l="l" t="t" r="r" b="b"/>
                <a:pathLst>
                  <a:path w="304" h="731">
                    <a:moveTo>
                      <a:pt x="0" y="0"/>
                    </a:moveTo>
                    <a:cubicBezTo>
                      <a:pt x="18" y="12"/>
                      <a:pt x="37" y="24"/>
                      <a:pt x="55" y="36"/>
                    </a:cubicBezTo>
                    <a:cubicBezTo>
                      <a:pt x="64" y="42"/>
                      <a:pt x="82" y="54"/>
                      <a:pt x="82" y="54"/>
                    </a:cubicBezTo>
                    <a:cubicBezTo>
                      <a:pt x="85" y="112"/>
                      <a:pt x="53" y="184"/>
                      <a:pt x="91" y="228"/>
                    </a:cubicBezTo>
                    <a:cubicBezTo>
                      <a:pt x="123" y="265"/>
                      <a:pt x="197" y="210"/>
                      <a:pt x="238" y="237"/>
                    </a:cubicBezTo>
                    <a:cubicBezTo>
                      <a:pt x="278" y="264"/>
                      <a:pt x="192" y="374"/>
                      <a:pt x="192" y="374"/>
                    </a:cubicBezTo>
                    <a:cubicBezTo>
                      <a:pt x="181" y="410"/>
                      <a:pt x="157" y="416"/>
                      <a:pt x="137" y="448"/>
                    </a:cubicBezTo>
                    <a:cubicBezTo>
                      <a:pt x="186" y="454"/>
                      <a:pt x="234" y="460"/>
                      <a:pt x="283" y="466"/>
                    </a:cubicBezTo>
                    <a:cubicBezTo>
                      <a:pt x="304" y="469"/>
                      <a:pt x="247" y="490"/>
                      <a:pt x="229" y="502"/>
                    </a:cubicBezTo>
                    <a:cubicBezTo>
                      <a:pt x="200" y="522"/>
                      <a:pt x="206" y="521"/>
                      <a:pt x="174" y="530"/>
                    </a:cubicBezTo>
                    <a:cubicBezTo>
                      <a:pt x="150" y="537"/>
                      <a:pt x="101" y="548"/>
                      <a:pt x="101" y="548"/>
                    </a:cubicBezTo>
                    <a:cubicBezTo>
                      <a:pt x="113" y="584"/>
                      <a:pt x="128" y="593"/>
                      <a:pt x="165" y="603"/>
                    </a:cubicBezTo>
                    <a:cubicBezTo>
                      <a:pt x="189" y="609"/>
                      <a:pt x="238" y="621"/>
                      <a:pt x="238" y="621"/>
                    </a:cubicBezTo>
                    <a:cubicBezTo>
                      <a:pt x="228" y="720"/>
                      <a:pt x="244" y="686"/>
                      <a:pt x="219" y="731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835280" y="4797360"/>
              <a:ext cx="1873080" cy="1152720"/>
            </a:xfrm>
            <a:custGeom>
              <a:avLst/>
              <a:gdLst/>
              <a:ahLst/>
              <a:rect l="l" t="t" r="r" b="b"/>
              <a:pathLst>
                <a:path w="1180" h="726">
                  <a:moveTo>
                    <a:pt x="862" y="0"/>
                  </a:moveTo>
                  <a:lnTo>
                    <a:pt x="953" y="45"/>
                  </a:lnTo>
                  <a:lnTo>
                    <a:pt x="953" y="136"/>
                  </a:lnTo>
                  <a:lnTo>
                    <a:pt x="953" y="181"/>
                  </a:lnTo>
                  <a:lnTo>
                    <a:pt x="953" y="227"/>
                  </a:lnTo>
                  <a:lnTo>
                    <a:pt x="998" y="227"/>
                  </a:lnTo>
                  <a:lnTo>
                    <a:pt x="1089" y="227"/>
                  </a:lnTo>
                  <a:lnTo>
                    <a:pt x="1134" y="272"/>
                  </a:lnTo>
                  <a:lnTo>
                    <a:pt x="998" y="453"/>
                  </a:lnTo>
                  <a:lnTo>
                    <a:pt x="1134" y="453"/>
                  </a:lnTo>
                  <a:lnTo>
                    <a:pt x="1180" y="453"/>
                  </a:lnTo>
                  <a:lnTo>
                    <a:pt x="998" y="544"/>
                  </a:lnTo>
                  <a:lnTo>
                    <a:pt x="953" y="544"/>
                  </a:lnTo>
                  <a:lnTo>
                    <a:pt x="998" y="590"/>
                  </a:lnTo>
                  <a:lnTo>
                    <a:pt x="1134" y="635"/>
                  </a:lnTo>
                  <a:lnTo>
                    <a:pt x="1089" y="726"/>
                  </a:lnTo>
                  <a:lnTo>
                    <a:pt x="0" y="680"/>
                  </a:lnTo>
                  <a:lnTo>
                    <a:pt x="86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203640" y="4365720"/>
            <a:ext cx="1095480" cy="1593720"/>
            <a:chOff x="3203640" y="4365720"/>
            <a:chExt cx="1095480" cy="1593720"/>
          </a:xfrm>
        </p:grpSpPr>
        <p:grpSp>
          <p:nvGrpSpPr>
            <p:cNvPr id="271" name=""/>
            <p:cNvGrpSpPr/>
            <p:nvPr/>
          </p:nvGrpSpPr>
          <p:grpSpPr>
            <a:xfrm>
              <a:off x="3203640" y="4365720"/>
              <a:ext cx="1095480" cy="1593720"/>
              <a:chOff x="3203640" y="4365720"/>
              <a:chExt cx="1095480" cy="1593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3203640" y="4375080"/>
                <a:ext cx="576360" cy="43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65800" y="5959440"/>
                <a:ext cx="71892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5840" y="4365720"/>
                <a:ext cx="503280" cy="1584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19480" y="4797360"/>
                <a:ext cx="482760" cy="1159920"/>
              </a:xfrm>
              <a:custGeom>
                <a:avLst/>
                <a:gdLst/>
                <a:ahLst/>
                <a:rect l="l" t="t" r="r" b="b"/>
                <a:pathLst>
                  <a:path w="304" h="731">
                    <a:moveTo>
                      <a:pt x="0" y="0"/>
                    </a:moveTo>
                    <a:cubicBezTo>
                      <a:pt x="18" y="12"/>
                      <a:pt x="37" y="24"/>
                      <a:pt x="55" y="36"/>
                    </a:cubicBezTo>
                    <a:cubicBezTo>
                      <a:pt x="64" y="42"/>
                      <a:pt x="82" y="54"/>
                      <a:pt x="82" y="54"/>
                    </a:cubicBezTo>
                    <a:cubicBezTo>
                      <a:pt x="85" y="112"/>
                      <a:pt x="53" y="184"/>
                      <a:pt x="91" y="228"/>
                    </a:cubicBezTo>
                    <a:cubicBezTo>
                      <a:pt x="123" y="265"/>
                      <a:pt x="197" y="210"/>
                      <a:pt x="238" y="237"/>
                    </a:cubicBezTo>
                    <a:cubicBezTo>
                      <a:pt x="278" y="264"/>
                      <a:pt x="192" y="374"/>
                      <a:pt x="192" y="374"/>
                    </a:cubicBezTo>
                    <a:cubicBezTo>
                      <a:pt x="181" y="410"/>
                      <a:pt x="157" y="416"/>
                      <a:pt x="137" y="448"/>
                    </a:cubicBezTo>
                    <a:cubicBezTo>
                      <a:pt x="186" y="454"/>
                      <a:pt x="234" y="460"/>
                      <a:pt x="283" y="466"/>
                    </a:cubicBezTo>
                    <a:cubicBezTo>
                      <a:pt x="304" y="469"/>
                      <a:pt x="247" y="490"/>
                      <a:pt x="229" y="502"/>
                    </a:cubicBezTo>
                    <a:cubicBezTo>
                      <a:pt x="200" y="522"/>
                      <a:pt x="206" y="521"/>
                      <a:pt x="174" y="530"/>
                    </a:cubicBezTo>
                    <a:cubicBezTo>
                      <a:pt x="150" y="537"/>
                      <a:pt x="101" y="548"/>
                      <a:pt x="101" y="548"/>
                    </a:cubicBezTo>
                    <a:cubicBezTo>
                      <a:pt x="113" y="584"/>
                      <a:pt x="128" y="593"/>
                      <a:pt x="165" y="603"/>
                    </a:cubicBezTo>
                    <a:cubicBezTo>
                      <a:pt x="189" y="609"/>
                      <a:pt x="238" y="621"/>
                      <a:pt x="238" y="621"/>
                    </a:cubicBezTo>
                    <a:cubicBezTo>
                      <a:pt x="228" y="720"/>
                      <a:pt x="244" y="686"/>
                      <a:pt x="219" y="731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203640" y="4365720"/>
              <a:ext cx="1081080" cy="1584360"/>
            </a:xfrm>
            <a:custGeom>
              <a:avLst/>
              <a:gdLst/>
              <a:ahLst/>
              <a:rect l="l" t="t" r="r" b="b"/>
              <a:pathLst>
                <a:path w="681" h="998">
                  <a:moveTo>
                    <a:pt x="0" y="272"/>
                  </a:moveTo>
                  <a:lnTo>
                    <a:pt x="363" y="0"/>
                  </a:lnTo>
                  <a:lnTo>
                    <a:pt x="681" y="998"/>
                  </a:lnTo>
                  <a:lnTo>
                    <a:pt x="227" y="998"/>
                  </a:lnTo>
                  <a:lnTo>
                    <a:pt x="272" y="907"/>
                  </a:lnTo>
                  <a:lnTo>
                    <a:pt x="136" y="862"/>
                  </a:lnTo>
                  <a:lnTo>
                    <a:pt x="91" y="816"/>
                  </a:lnTo>
                  <a:lnTo>
                    <a:pt x="136" y="816"/>
                  </a:lnTo>
                  <a:lnTo>
                    <a:pt x="227" y="771"/>
                  </a:lnTo>
                  <a:lnTo>
                    <a:pt x="318" y="725"/>
                  </a:lnTo>
                  <a:lnTo>
                    <a:pt x="136" y="725"/>
                  </a:lnTo>
                  <a:lnTo>
                    <a:pt x="272" y="544"/>
                  </a:lnTo>
                  <a:lnTo>
                    <a:pt x="227" y="499"/>
                  </a:lnTo>
                  <a:lnTo>
                    <a:pt x="91" y="499"/>
                  </a:lnTo>
                  <a:lnTo>
                    <a:pt x="91" y="317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95280" y="907920"/>
            <a:ext cx="842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不小心将一块三角形模具打碎了，他是否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碎片到商店去，就能配一块与原来一样的三角形模具呢？如果可以，带哪块去合适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84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带的这块玻璃里有几个条件已知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80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82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7944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254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917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议一议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L -4.72222E-006 0.4412 E">
                                      <p:cBhvr>
                                        <p:cTn id="8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1.38778E-017 L -0.06303 1.38778E-017 E">
                                      <p:cBhvr>
                                        <p:cTn id="96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02361 0.01064 E">
                                      <p:cBhvr>
                                        <p:cTn id="9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64960" y="765000"/>
            <a:ext cx="8410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两个角和这两个角的夹边对应相等的两个三角形一定全等吗？请用量角器和刻度尺画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=4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=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的三角形与其他同学画的三角形比较，你发现了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63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971640" y="4149360"/>
            <a:ext cx="122400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523520" y="4419360"/>
            <a:ext cx="1824120" cy="188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609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6000" y="59500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56000" y="59500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623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c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3573360"/>
            <a:ext cx="5616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两个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其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夹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相等的两个三角形全等。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角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3440" y="6093000"/>
            <a:ext cx="2851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43280" y="6021360"/>
            <a:ext cx="14184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-4320" y="-74520"/>
            <a:ext cx="4575960" cy="687960"/>
            <a:chOff x="-4320" y="-74520"/>
            <a:chExt cx="4575960" cy="687960"/>
          </a:xfrm>
        </p:grpSpPr>
        <p:sp>
          <p:nvSpPr>
            <p:cNvPr id="304" name=""/>
            <p:cNvSpPr/>
            <p:nvPr/>
          </p:nvSpPr>
          <p:spPr>
            <a:xfrm>
              <a:off x="0" y="275760"/>
              <a:ext cx="457164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-4320" y="-74520"/>
              <a:ext cx="4376520" cy="687960"/>
              <a:chOff x="-4320" y="-74520"/>
              <a:chExt cx="4376520" cy="687960"/>
            </a:xfrm>
          </p:grpSpPr>
          <p:sp>
            <p:nvSpPr>
              <p:cNvPr id="306" name=""/>
              <p:cNvSpPr/>
              <p:nvPr/>
            </p:nvSpPr>
            <p:spPr>
              <a:xfrm rot="158400">
                <a:off x="198360" y="50040"/>
                <a:ext cx="119232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6160" y="75600"/>
                <a:ext cx="119232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961200">
                <a:off x="198360" y="0"/>
                <a:ext cx="59616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4880" y="360"/>
                <a:ext cx="99396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9000" y="301320"/>
                <a:ext cx="79524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629000">
                <a:off x="0" y="457200"/>
                <a:ext cx="3042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92320" y="25560"/>
                <a:ext cx="2980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90920" y="25560"/>
                <a:ext cx="268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合作学习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042920" y="1341360"/>
            <a:ext cx="6900840" cy="2140920"/>
            <a:chOff x="1042920" y="1341360"/>
            <a:chExt cx="6900840" cy="2140920"/>
          </a:xfrm>
        </p:grpSpPr>
        <p:sp>
          <p:nvSpPr>
            <p:cNvPr id="315" name=""/>
            <p:cNvSpPr/>
            <p:nvPr/>
          </p:nvSpPr>
          <p:spPr>
            <a:xfrm>
              <a:off x="1761840" y="15112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42920" y="2951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30200" y="30225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329840" y="1871640"/>
              <a:ext cx="5893200" cy="1150920"/>
              <a:chOff x="1329840" y="1871640"/>
              <a:chExt cx="5893200" cy="11509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329840" y="1943280"/>
                <a:ext cx="2088000" cy="1079280"/>
                <a:chOff x="1329840" y="1943280"/>
                <a:chExt cx="2088000" cy="10792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329840" y="1943280"/>
                  <a:ext cx="718920" cy="10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30200" y="3022560"/>
                  <a:ext cx="208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49120" y="1943280"/>
                  <a:ext cx="1368720" cy="10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35040" y="1871640"/>
                <a:ext cx="2088000" cy="1079640"/>
                <a:chOff x="5135040" y="1871640"/>
                <a:chExt cx="2088000" cy="1079640"/>
              </a:xfrm>
            </p:grpSpPr>
            <p:sp>
              <p:nvSpPr>
                <p:cNvPr id="324" name=""/>
                <p:cNvSpPr/>
                <p:nvPr/>
              </p:nvSpPr>
              <p:spPr>
                <a:xfrm flipH="1">
                  <a:off x="5135040" y="1871640"/>
                  <a:ext cx="718920" cy="107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35400" y="2951280"/>
                  <a:ext cx="208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854320" y="1871640"/>
                  <a:ext cx="1368720" cy="107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5568840" y="134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A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76480" y="2880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B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24480" y="2880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C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235240" y="2759040"/>
            <a:ext cx="3908520" cy="360360"/>
            <a:chOff x="2235240" y="2759040"/>
            <a:chExt cx="3908520" cy="360360"/>
          </a:xfrm>
        </p:grpSpPr>
        <p:sp>
          <p:nvSpPr>
            <p:cNvPr id="331" name=""/>
            <p:cNvSpPr/>
            <p:nvPr/>
          </p:nvSpPr>
          <p:spPr>
            <a:xfrm>
              <a:off x="2235240" y="28321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3760" y="2759040"/>
              <a:ext cx="0" cy="27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402200" y="2664000"/>
            <a:ext cx="4021920" cy="645480"/>
            <a:chOff x="1402200" y="2664000"/>
            <a:chExt cx="4021920" cy="645480"/>
          </a:xfrm>
        </p:grpSpPr>
        <p:sp>
          <p:nvSpPr>
            <p:cNvPr id="334" name=""/>
            <p:cNvSpPr/>
            <p:nvPr/>
          </p:nvSpPr>
          <p:spPr>
            <a:xfrm>
              <a:off x="1402200" y="2735280"/>
              <a:ext cx="28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81560" y="2664000"/>
              <a:ext cx="1425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843280" y="2637000"/>
            <a:ext cx="4162320" cy="716760"/>
            <a:chOff x="2843280" y="2637000"/>
            <a:chExt cx="4162320" cy="716760"/>
          </a:xfrm>
        </p:grpSpPr>
        <p:grpSp>
          <p:nvGrpSpPr>
            <p:cNvPr id="337" name=""/>
            <p:cNvGrpSpPr/>
            <p:nvPr/>
          </p:nvGrpSpPr>
          <p:grpSpPr>
            <a:xfrm>
              <a:off x="2843280" y="2637000"/>
              <a:ext cx="431640" cy="716760"/>
              <a:chOff x="2843280" y="2637000"/>
              <a:chExt cx="431640" cy="71676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2987640" y="2779920"/>
                <a:ext cx="2872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843280" y="2637000"/>
                <a:ext cx="288000" cy="7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792840" y="2637000"/>
              <a:ext cx="212760" cy="574200"/>
              <a:chOff x="6792840" y="2637000"/>
              <a:chExt cx="212760" cy="5742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6792840" y="2637000"/>
                <a:ext cx="141120" cy="57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863760" y="2708280"/>
                <a:ext cx="14184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1476360" y="60786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4280"/>
            <a:ext cx="8353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两个角及其夹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相等的两个三角形全等。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角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35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数学语言表示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18320" y="3573360"/>
            <a:ext cx="4549320" cy="2466720"/>
            <a:chOff x="3118320" y="3573360"/>
            <a:chExt cx="4549320" cy="2466720"/>
          </a:xfrm>
        </p:grpSpPr>
        <p:grpSp>
          <p:nvGrpSpPr>
            <p:cNvPr id="347" name=""/>
            <p:cNvGrpSpPr/>
            <p:nvPr/>
          </p:nvGrpSpPr>
          <p:grpSpPr>
            <a:xfrm>
              <a:off x="3165480" y="3573360"/>
              <a:ext cx="4502160" cy="2466720"/>
              <a:chOff x="3165480" y="3573360"/>
              <a:chExt cx="4502160" cy="2466720"/>
            </a:xfrm>
          </p:grpSpPr>
          <p:sp>
            <p:nvSpPr>
              <p:cNvPr id="348" name=""/>
              <p:cNvSpPr/>
              <p:nvPr/>
            </p:nvSpPr>
            <p:spPr>
              <a:xfrm>
                <a:off x="3165480" y="3573360"/>
                <a:ext cx="4502160" cy="24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在△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B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和△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´B´C´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中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　  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=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  <a:ea typeface="Arial"/>
                  </a:rPr>
                  <a:t>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　　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C= B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</a:rPr>
                  <a:t>´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</a:rPr>
                  <a:t>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C=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C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78560" y="4437000"/>
                <a:ext cx="72720" cy="1512720"/>
              </a:xfrm>
              <a:custGeom>
                <a:avLst/>
                <a:gdLst>
                  <a:gd name="textAreaLeft" fmla="*/ 46440 w 72720"/>
                  <a:gd name="textAreaRight" fmla="*/ 73080 w 72720"/>
                  <a:gd name="textAreaTop" fmla="*/ 39240 h 1512720"/>
                  <a:gd name="textAreaBottom" fmla="*/ 147348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118320" y="475920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4717800" y="1413000"/>
            <a:ext cx="4060800" cy="2443320"/>
            <a:chOff x="4717800" y="1413000"/>
            <a:chExt cx="4060800" cy="2443320"/>
          </a:xfrm>
        </p:grpSpPr>
        <p:sp>
          <p:nvSpPr>
            <p:cNvPr id="352" name=""/>
            <p:cNvSpPr/>
            <p:nvPr/>
          </p:nvSpPr>
          <p:spPr>
            <a:xfrm>
              <a:off x="5579640" y="1700280"/>
              <a:ext cx="2208240" cy="1652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372000" y="1628280"/>
              <a:ext cx="2087640" cy="1580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79640" y="1700280"/>
              <a:ext cx="792360" cy="151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579640" y="1627200"/>
              <a:ext cx="2880000" cy="7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03640" y="3357360"/>
              <a:ext cx="2760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003640" y="1701720"/>
              <a:ext cx="55224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9440" y="141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17800" y="3274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62320" y="321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8720" y="28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8880" y="153360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64000" y="2060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11640" y="1627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18900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已知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：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D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31417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D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5805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0720" y="566100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SA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96760" y="155736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　　∵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已知）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5600" y="220500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31440" y="27813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E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9640" y="3789360"/>
            <a:ext cx="4895640" cy="1818000"/>
            <a:chOff x="539640" y="3789360"/>
            <a:chExt cx="4895640" cy="1818000"/>
          </a:xfrm>
        </p:grpSpPr>
        <p:grpSp>
          <p:nvGrpSpPr>
            <p:cNvPr id="373" name=""/>
            <p:cNvGrpSpPr/>
            <p:nvPr/>
          </p:nvGrpSpPr>
          <p:grpSpPr>
            <a:xfrm>
              <a:off x="1258920" y="3789360"/>
              <a:ext cx="4176360" cy="1818000"/>
              <a:chOff x="1258920" y="3789360"/>
              <a:chExt cx="4176360" cy="1818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258920" y="3989520"/>
                <a:ext cx="90720" cy="1600200"/>
              </a:xfrm>
              <a:custGeom>
                <a:avLst/>
                <a:gdLst>
                  <a:gd name="textAreaLeft" fmla="*/ 57960 w 90720"/>
                  <a:gd name="textAreaRight" fmla="*/ 91080 w 9072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44240" y="3789360"/>
                <a:ext cx="409104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AC=∠DA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证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C=A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C=∠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39640" y="443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2:28:13Z</dcterms:created>
  <dc:creator/>
  <dc:description/>
  <dc:language>en-US</dc:language>
  <cp:lastModifiedBy/>
  <dcterms:modified xsi:type="dcterms:W3CDTF">2013-09-18T01:32:31Z</dcterms:modified>
  <cp:revision>67</cp:revision>
  <dc:subject/>
  <dc:title/>
</cp:coreProperties>
</file>