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click.wav" ContentType="audio/x-wav"/>
  <Override PartName="/ppt/media/image4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voltage.wav" ContentType="audio/x-wav"/>
  <Override PartName="/ppt/media/image3.wmf" ContentType="image/x-wmf"/>
  <Override PartName="/ppt/media/image18.gif" ContentType="image/gif"/>
  <Override PartName="/ppt/media/image17.gif" ContentType="image/gif"/>
  <Override PartName="/ppt/media/image2.jpeg" ContentType="image/jpeg"/>
  <Override PartName="/ppt/media/image14.wmf" ContentType="image/x-wmf"/>
  <Override PartName="/ppt/media/image13.wmf" ContentType="image/x-wmf"/>
  <Override PartName="/ppt/media/image12.wmf" ContentType="image/x-wmf"/>
  <Override PartName="/ppt/media/chimes.wav" ContentType="audio/x-wav"/>
  <Override PartName="/ppt/media/image7.wmf" ContentType="image/x-wmf"/>
  <Override PartName="/ppt/media/image11.wmf" ContentType="image/x-wmf"/>
  <Override PartName="/ppt/media/image15.wmf" ContentType="image/x-wmf"/>
  <Override PartName="/ppt/media/image1.jpeg" ContentType="image/jpe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E82-04A5-477E-B285-8CB79C09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98C-4F1A-4EC6-B059-1B73445B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438-0772-4CD3-81F7-A2F49557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167-E451-4695-A88D-D62DEBAD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F80-E8FA-4604-BB3F-BC47CFF9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5C51-212E-4285-9887-BB396563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EB0-D579-4DDE-B2C4-FA175AA9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84EA-7F9A-48D2-8368-646F34E5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A256-19DD-4F8E-BC24-168266B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E2EC-2B07-42E7-B7B1-C64B6D4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E105-F9F8-40CE-9F40-8F8EB6A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B23-E6BA-4EC2-8CD3-39C5591B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8EC8-0630-48FD-932F-3398D46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2ED4-D3F3-4AD2-AD8E-BF08775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6D82-FA1C-4458-B6FF-88652847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7B80-7D3C-49B7-89C9-531D6498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0A94-D27B-4BA0-9964-C564C18F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D81-858F-437E-961E-C44B8C4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FA8-A78C-4508-B1BE-B870A443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027-0E59-4037-B0CA-4D0FD1B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797-92B5-43ED-BFF2-01494596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60F-E66F-4A56-971F-1FF4E7EF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3C4-784A-4ED6-9435-86259AA0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D18-5C6B-42E9-BD8F-6E1D854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D291-7E05-41E2-9476-227DA1A4E0E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699-0E00-4EAD-8E4A-450062B93CA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audio" Target="../media/voltag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8920" y="33336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7628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3141720"/>
            <a:ext cx="73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1.5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三角形全等判定（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>
            <a:off x="6324480" y="3048120"/>
            <a:ext cx="873360" cy="17287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38880" y="3048120"/>
            <a:ext cx="838440" cy="17524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873360" cy="874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206840" y="4809960"/>
            <a:ext cx="873000" cy="874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34200" y="4809960"/>
            <a:ext cx="1746000" cy="1800"/>
          </a:xfrm>
          <a:prstGeom prst="line">
            <a:avLst/>
          </a:prstGeom>
          <a:ln w="381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07200" y="3081240"/>
            <a:ext cx="1800" cy="2603520"/>
          </a:xfrm>
          <a:prstGeom prst="line">
            <a:avLst/>
          </a:prstGeom>
          <a:ln w="381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3320" y="2782800"/>
            <a:ext cx="195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60240" y="4556160"/>
            <a:ext cx="19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63440" y="4579920"/>
            <a:ext cx="2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90040" y="563868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00000" y="2349360"/>
          <a:ext cx="19432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349360"/>
                    <a:ext cx="1943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050920" y="299736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916360" y="2421000"/>
                <a:ext cx="1726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2" name=""/>
          <p:cNvGraphicFramePr/>
          <p:nvPr/>
        </p:nvGraphicFramePr>
        <p:xfrm>
          <a:off x="755640" y="5013360"/>
          <a:ext cx="2367000" cy="4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5013360"/>
                    <a:ext cx="2367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203640" y="49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S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042920" y="2924280"/>
            <a:ext cx="4032000" cy="459720"/>
            <a:chOff x="1042920" y="2924280"/>
            <a:chExt cx="4032000" cy="459720"/>
          </a:xfrm>
        </p:grpSpPr>
        <p:sp>
          <p:nvSpPr>
            <p:cNvPr id="376" name=""/>
            <p:cNvSpPr/>
            <p:nvPr/>
          </p:nvSpPr>
          <p:spPr>
            <a:xfrm>
              <a:off x="1042920" y="292428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在                   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7" name=""/>
            <p:cNvGraphicFramePr/>
            <p:nvPr/>
          </p:nvGraphicFramePr>
          <p:xfrm>
            <a:off x="1385640" y="2949840"/>
            <a:ext cx="1733760" cy="423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85640" y="2949840"/>
                      <a:ext cx="17337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755640" y="3429000"/>
            <a:ext cx="3960720" cy="1396440"/>
            <a:chOff x="755640" y="3429000"/>
            <a:chExt cx="3960720" cy="1396440"/>
          </a:xfrm>
        </p:grpSpPr>
        <p:grpSp>
          <p:nvGrpSpPr>
            <p:cNvPr id="380" name=""/>
            <p:cNvGrpSpPr/>
            <p:nvPr/>
          </p:nvGrpSpPr>
          <p:grpSpPr>
            <a:xfrm>
              <a:off x="1333440" y="3429000"/>
              <a:ext cx="3382920" cy="1396440"/>
              <a:chOff x="1333440" y="3429000"/>
              <a:chExt cx="3382920" cy="1396440"/>
            </a:xfrm>
          </p:grpSpPr>
          <p:graphicFrame>
            <p:nvGraphicFramePr>
              <p:cNvPr id="381" name=""/>
              <p:cNvGraphicFramePr/>
              <p:nvPr/>
            </p:nvGraphicFramePr>
            <p:xfrm>
              <a:off x="1476360" y="4415040"/>
              <a:ext cx="1368360" cy="3823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8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476360" y="4415040"/>
                        <a:ext cx="1368360" cy="38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3" name=""/>
              <p:cNvGraphicFramePr/>
              <p:nvPr/>
            </p:nvGraphicFramePr>
            <p:xfrm>
              <a:off x="1479240" y="3500640"/>
              <a:ext cx="1438560" cy="3808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84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1479240" y="3500640"/>
                        <a:ext cx="14385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5" name=""/>
              <p:cNvGraphicFramePr/>
              <p:nvPr/>
            </p:nvGraphicFramePr>
            <p:xfrm>
              <a:off x="1476360" y="3989520"/>
              <a:ext cx="1611360" cy="3762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6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476360" y="3989520"/>
                        <a:ext cx="1611360" cy="37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87" name=""/>
              <p:cNvSpPr/>
              <p:nvPr/>
            </p:nvSpPr>
            <p:spPr>
              <a:xfrm>
                <a:off x="2989080" y="3429000"/>
                <a:ext cx="172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（已证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7840" y="39337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（已证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99400" y="43657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（公共边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33440" y="3645000"/>
                <a:ext cx="71280" cy="108108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28080 h 1081080"/>
                  <a:gd name="textAreaBottom" fmla="*/ 1053000 h 10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755640" y="39337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0720" y="2349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线段垂直平分线的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960" y="836640"/>
            <a:ext cx="89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垂直平分线，         与            全等吗？请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588000" y="907920"/>
                <a:ext cx="11494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818480" y="907920"/>
                <a:ext cx="1325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1116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02080" y="1844640"/>
            <a:ext cx="42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∵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线段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垂直平分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399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401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split dir="out" orient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95280" y="1125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两个三角形有两边和一角对应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的两个三角形一定全等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411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413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700280"/>
            <a:ext cx="874872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面的图中，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、②、③三个三角形，根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中条件，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等（填序号即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429000" y="3733920"/>
            <a:ext cx="2590920" cy="1828080"/>
            <a:chOff x="3429000" y="3733920"/>
            <a:chExt cx="2590920" cy="1828080"/>
          </a:xfrm>
        </p:grpSpPr>
        <p:grpSp>
          <p:nvGrpSpPr>
            <p:cNvPr id="423" name=""/>
            <p:cNvGrpSpPr/>
            <p:nvPr/>
          </p:nvGrpSpPr>
          <p:grpSpPr>
            <a:xfrm>
              <a:off x="3429000" y="3806640"/>
              <a:ext cx="2590920" cy="1224000"/>
              <a:chOff x="3429000" y="3806640"/>
              <a:chExt cx="2590920" cy="122400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3429000" y="3806640"/>
                <a:ext cx="93492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29000" y="503064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63920" y="3807000"/>
                <a:ext cx="165600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4149720" y="51022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717720" y="3876120"/>
              <a:ext cx="8636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90" y="16"/>
                  </a:moveTo>
                  <a:arcTo wR="10800" hR="10800" stAng="-5212216" swAng="5212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90" y="16"/>
                  </a:moveTo>
                  <a:arcTo wR="10800" hR="10800" stAng="-5212216" swAng="521221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3720" y="373392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42080" y="4023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5000" y="40230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715000" y="4571640"/>
            <a:ext cx="2519280" cy="1899720"/>
            <a:chOff x="5715000" y="4571640"/>
            <a:chExt cx="2519280" cy="1899720"/>
          </a:xfrm>
        </p:grpSpPr>
        <p:grpSp>
          <p:nvGrpSpPr>
            <p:cNvPr id="433" name=""/>
            <p:cNvGrpSpPr/>
            <p:nvPr/>
          </p:nvGrpSpPr>
          <p:grpSpPr>
            <a:xfrm>
              <a:off x="5930640" y="4571640"/>
              <a:ext cx="2232360" cy="1224000"/>
              <a:chOff x="5930640" y="4571640"/>
              <a:chExt cx="2232360" cy="1224000"/>
            </a:xfrm>
          </p:grpSpPr>
          <p:sp>
            <p:nvSpPr>
              <p:cNvPr id="434" name=""/>
              <p:cNvSpPr/>
              <p:nvPr/>
            </p:nvSpPr>
            <p:spPr>
              <a:xfrm flipV="1">
                <a:off x="5930640" y="4571640"/>
                <a:ext cx="80532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30640" y="5795640"/>
                <a:ext cx="223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35960" y="4572000"/>
                <a:ext cx="142668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796080" y="601164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59360" y="4859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35720" y="57960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02640" y="5580000"/>
              <a:ext cx="145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804080" y="5580000"/>
              <a:ext cx="141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15000" y="543564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8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9000" y="5364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14280" y="4028760"/>
            <a:ext cx="4136760" cy="2831760"/>
            <a:chOff x="314280" y="4028760"/>
            <a:chExt cx="4136760" cy="2831760"/>
          </a:xfrm>
        </p:grpSpPr>
        <p:sp>
          <p:nvSpPr>
            <p:cNvPr id="445" name=""/>
            <p:cNvSpPr/>
            <p:nvPr/>
          </p:nvSpPr>
          <p:spPr>
            <a:xfrm>
              <a:off x="1841760" y="6400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75000" y="4943160"/>
              <a:ext cx="2551680" cy="1367640"/>
              <a:chOff x="675000" y="4943160"/>
              <a:chExt cx="2551680" cy="136764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2518560" y="4943520"/>
                <a:ext cx="708120" cy="136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75000" y="4943160"/>
                <a:ext cx="2551680" cy="45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675000" y="5393160"/>
                <a:ext cx="1843560" cy="9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779920" y="5446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22480" y="5806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2895200">
              <a:off x="2855520" y="4299480"/>
              <a:ext cx="135000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94" y="581"/>
                  </a:moveTo>
                  <a:arcTo wR="10800" hR="10800" stAng="-4267538" swAng="16744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94" y="581"/>
                  </a:moveTo>
                  <a:arcTo wR="10800" hR="10800" stAng="-4267538" swAng="167442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3769200">
              <a:off x="398880" y="4974840"/>
              <a:ext cx="86184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22" y="625"/>
                  </a:moveTo>
                  <a:arcTo wR="10800" hR="10800" stAng="-4224334" swAng="2541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22" y="625"/>
                  </a:moveTo>
                  <a:arcTo wR="10800" hR="10800" stAng="-4224334" swAng="254159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6120" y="50320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8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120" y="5321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3953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159000" y="2637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46720" y="25909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260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拓展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95280" y="2781360"/>
            <a:ext cx="7777080" cy="2879640"/>
          </a:xfrm>
          <a:prstGeom prst="rect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3141720"/>
            <a:ext cx="3024360" cy="1942920"/>
          </a:xfrm>
          <a:custGeom>
            <a:avLst/>
            <a:gdLst/>
            <a:ahLst/>
            <a:rect l="l" t="t" r="r" b="b"/>
            <a:pathLst>
              <a:path w="2554" h="1895">
                <a:moveTo>
                  <a:pt x="1523" y="205"/>
                </a:moveTo>
                <a:cubicBezTo>
                  <a:pt x="1634" y="209"/>
                  <a:pt x="1745" y="210"/>
                  <a:pt x="1856" y="218"/>
                </a:cubicBezTo>
                <a:cubicBezTo>
                  <a:pt x="1874" y="219"/>
                  <a:pt x="1893" y="220"/>
                  <a:pt x="1907" y="231"/>
                </a:cubicBezTo>
                <a:cubicBezTo>
                  <a:pt x="1917" y="239"/>
                  <a:pt x="1909" y="262"/>
                  <a:pt x="1920" y="269"/>
                </a:cubicBezTo>
                <a:cubicBezTo>
                  <a:pt x="1949" y="288"/>
                  <a:pt x="1989" y="284"/>
                  <a:pt x="2022" y="295"/>
                </a:cubicBezTo>
                <a:cubicBezTo>
                  <a:pt x="2071" y="367"/>
                  <a:pt x="2159" y="423"/>
                  <a:pt x="2227" y="474"/>
                </a:cubicBezTo>
                <a:cubicBezTo>
                  <a:pt x="2279" y="514"/>
                  <a:pt x="2255" y="514"/>
                  <a:pt x="2304" y="563"/>
                </a:cubicBezTo>
                <a:cubicBezTo>
                  <a:pt x="2336" y="595"/>
                  <a:pt x="2381" y="627"/>
                  <a:pt x="2419" y="653"/>
                </a:cubicBezTo>
                <a:cubicBezTo>
                  <a:pt x="2480" y="830"/>
                  <a:pt x="2554" y="1293"/>
                  <a:pt x="2342" y="1434"/>
                </a:cubicBezTo>
                <a:cubicBezTo>
                  <a:pt x="2276" y="1534"/>
                  <a:pt x="2363" y="1413"/>
                  <a:pt x="2278" y="1498"/>
                </a:cubicBezTo>
                <a:cubicBezTo>
                  <a:pt x="2220" y="1556"/>
                  <a:pt x="2290" y="1524"/>
                  <a:pt x="2214" y="1549"/>
                </a:cubicBezTo>
                <a:cubicBezTo>
                  <a:pt x="2188" y="1566"/>
                  <a:pt x="2166" y="1590"/>
                  <a:pt x="2137" y="1600"/>
                </a:cubicBezTo>
                <a:cubicBezTo>
                  <a:pt x="2124" y="1604"/>
                  <a:pt x="2111" y="1606"/>
                  <a:pt x="2099" y="1613"/>
                </a:cubicBezTo>
                <a:cubicBezTo>
                  <a:pt x="2066" y="1631"/>
                  <a:pt x="2027" y="1672"/>
                  <a:pt x="1984" y="1677"/>
                </a:cubicBezTo>
                <a:cubicBezTo>
                  <a:pt x="1929" y="1684"/>
                  <a:pt x="1873" y="1686"/>
                  <a:pt x="1817" y="1690"/>
                </a:cubicBezTo>
                <a:cubicBezTo>
                  <a:pt x="1725" y="1722"/>
                  <a:pt x="1839" y="1676"/>
                  <a:pt x="1741" y="1741"/>
                </a:cubicBezTo>
                <a:cubicBezTo>
                  <a:pt x="1697" y="1770"/>
                  <a:pt x="1610" y="1776"/>
                  <a:pt x="1561" y="1792"/>
                </a:cubicBezTo>
                <a:cubicBezTo>
                  <a:pt x="1516" y="1806"/>
                  <a:pt x="1468" y="1801"/>
                  <a:pt x="1421" y="1805"/>
                </a:cubicBezTo>
                <a:cubicBezTo>
                  <a:pt x="1098" y="1830"/>
                  <a:pt x="1058" y="1822"/>
                  <a:pt x="614" y="1831"/>
                </a:cubicBezTo>
                <a:cubicBezTo>
                  <a:pt x="521" y="1842"/>
                  <a:pt x="434" y="1865"/>
                  <a:pt x="345" y="1895"/>
                </a:cubicBezTo>
                <a:cubicBezTo>
                  <a:pt x="320" y="1886"/>
                  <a:pt x="294" y="1878"/>
                  <a:pt x="269" y="1869"/>
                </a:cubicBezTo>
                <a:cubicBezTo>
                  <a:pt x="240" y="1859"/>
                  <a:pt x="221" y="1828"/>
                  <a:pt x="192" y="1818"/>
                </a:cubicBezTo>
                <a:cubicBezTo>
                  <a:pt x="179" y="1814"/>
                  <a:pt x="166" y="1809"/>
                  <a:pt x="153" y="1805"/>
                </a:cubicBezTo>
                <a:cubicBezTo>
                  <a:pt x="80" y="1695"/>
                  <a:pt x="43" y="1622"/>
                  <a:pt x="0" y="1498"/>
                </a:cubicBezTo>
                <a:cubicBezTo>
                  <a:pt x="4" y="1451"/>
                  <a:pt x="6" y="1404"/>
                  <a:pt x="13" y="1357"/>
                </a:cubicBezTo>
                <a:cubicBezTo>
                  <a:pt x="18" y="1322"/>
                  <a:pt x="38" y="1255"/>
                  <a:pt x="38" y="1255"/>
                </a:cubicBezTo>
                <a:cubicBezTo>
                  <a:pt x="36" y="1194"/>
                  <a:pt x="10" y="653"/>
                  <a:pt x="38" y="499"/>
                </a:cubicBezTo>
                <a:cubicBezTo>
                  <a:pt x="43" y="469"/>
                  <a:pt x="143" y="456"/>
                  <a:pt x="166" y="448"/>
                </a:cubicBezTo>
                <a:cubicBezTo>
                  <a:pt x="175" y="435"/>
                  <a:pt x="181" y="421"/>
                  <a:pt x="192" y="410"/>
                </a:cubicBezTo>
                <a:cubicBezTo>
                  <a:pt x="203" y="399"/>
                  <a:pt x="220" y="396"/>
                  <a:pt x="230" y="384"/>
                </a:cubicBezTo>
                <a:cubicBezTo>
                  <a:pt x="238" y="374"/>
                  <a:pt x="236" y="358"/>
                  <a:pt x="243" y="346"/>
                </a:cubicBezTo>
                <a:cubicBezTo>
                  <a:pt x="258" y="319"/>
                  <a:pt x="284" y="298"/>
                  <a:pt x="294" y="269"/>
                </a:cubicBezTo>
                <a:cubicBezTo>
                  <a:pt x="312" y="216"/>
                  <a:pt x="300" y="242"/>
                  <a:pt x="333" y="192"/>
                </a:cubicBezTo>
                <a:cubicBezTo>
                  <a:pt x="387" y="21"/>
                  <a:pt x="577" y="71"/>
                  <a:pt x="729" y="64"/>
                </a:cubicBezTo>
                <a:cubicBezTo>
                  <a:pt x="777" y="49"/>
                  <a:pt x="802" y="41"/>
                  <a:pt x="845" y="26"/>
                </a:cubicBezTo>
                <a:cubicBezTo>
                  <a:pt x="858" y="22"/>
                  <a:pt x="870" y="17"/>
                  <a:pt x="883" y="13"/>
                </a:cubicBezTo>
                <a:cubicBezTo>
                  <a:pt x="896" y="9"/>
                  <a:pt x="921" y="0"/>
                  <a:pt x="921" y="0"/>
                </a:cubicBezTo>
                <a:cubicBezTo>
                  <a:pt x="981" y="4"/>
                  <a:pt x="1042" y="2"/>
                  <a:pt x="1101" y="13"/>
                </a:cubicBezTo>
                <a:cubicBezTo>
                  <a:pt x="1150" y="22"/>
                  <a:pt x="1156" y="86"/>
                  <a:pt x="1203" y="103"/>
                </a:cubicBezTo>
                <a:cubicBezTo>
                  <a:pt x="1247" y="119"/>
                  <a:pt x="1267" y="107"/>
                  <a:pt x="1305" y="128"/>
                </a:cubicBezTo>
                <a:cubicBezTo>
                  <a:pt x="1422" y="193"/>
                  <a:pt x="1374" y="186"/>
                  <a:pt x="1523" y="205"/>
                </a:cubicBezTo>
                <a:close/>
              </a:path>
            </a:pathLst>
          </a:custGeom>
          <a:solidFill>
            <a:srgbClr val="3366ff">
              <a:alpha val="84000"/>
            </a:srgbClr>
          </a:solidFill>
          <a:ln w="28440">
            <a:solidFill>
              <a:srgbClr val="33cccc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5280" y="3573360"/>
            <a:ext cx="0" cy="129564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19640" y="31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19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51640" y="3141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35280" y="3573360"/>
            <a:ext cx="136836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635280" y="4365720"/>
            <a:ext cx="1368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03640" y="4365720"/>
            <a:ext cx="13687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003640" y="3933720"/>
            <a:ext cx="136872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72360" y="393372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8800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27640" y="486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27640" y="357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620640"/>
            <a:ext cx="820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湖的湖岸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呈一段圆弧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间的距离不能直接测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用已学过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方法设计测量方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间的距离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65400">
            <a:off x="4935240" y="4289400"/>
            <a:ext cx="1299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作业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完成作业本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同步练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预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.5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三角形全等的判定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709040" y="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4040" y="3711240"/>
            <a:ext cx="4975200" cy="2388600"/>
            <a:chOff x="104040" y="3711240"/>
            <a:chExt cx="4975200" cy="2388600"/>
          </a:xfrm>
        </p:grpSpPr>
        <p:sp>
          <p:nvSpPr>
            <p:cNvPr id="104" name=""/>
            <p:cNvSpPr/>
            <p:nvPr/>
          </p:nvSpPr>
          <p:spPr>
            <a:xfrm rot="20081400">
              <a:off x="-15120" y="5431680"/>
              <a:ext cx="28083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081400">
              <a:off x="2390760" y="4307400"/>
              <a:ext cx="2808000" cy="709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5600" y="4790160"/>
            <a:ext cx="5463720" cy="87840"/>
            <a:chOff x="75600" y="4790160"/>
            <a:chExt cx="5463720" cy="87840"/>
          </a:xfrm>
        </p:grpSpPr>
        <p:sp>
          <p:nvSpPr>
            <p:cNvPr id="107" name=""/>
            <p:cNvSpPr/>
            <p:nvPr/>
          </p:nvSpPr>
          <p:spPr>
            <a:xfrm rot="2400">
              <a:off x="75240" y="4791240"/>
              <a:ext cx="2808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400">
              <a:off x="2730960" y="4805280"/>
              <a:ext cx="2808000" cy="71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0920" y="62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两根木条的一端用螺栓固定在一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组成的三角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一确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00360" y="4869000"/>
            <a:ext cx="2663640" cy="72720"/>
            <a:chOff x="2700360" y="4869000"/>
            <a:chExt cx="2663640" cy="72720"/>
          </a:xfrm>
        </p:grpSpPr>
        <p:sp>
          <p:nvSpPr>
            <p:cNvPr id="111" name=""/>
            <p:cNvSpPr/>
            <p:nvPr/>
          </p:nvSpPr>
          <p:spPr>
            <a:xfrm>
              <a:off x="2700360" y="4869000"/>
              <a:ext cx="2663640" cy="727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68040" y="4869000"/>
              <a:ext cx="67320" cy="727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219640" y="3716280"/>
            <a:ext cx="144360" cy="122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492280"/>
            <a:ext cx="122364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45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将两木条之间的夹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C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小固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惟一确定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4724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342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7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2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8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就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两个三角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只有两条边对应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那么这两个三角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不一定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请看下图中的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 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是全等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3600" y="-77040"/>
            <a:ext cx="4719600" cy="692640"/>
            <a:chOff x="-3600" y="-77040"/>
            <a:chExt cx="4719600" cy="692640"/>
          </a:xfrm>
        </p:grpSpPr>
        <p:sp>
          <p:nvSpPr>
            <p:cNvPr id="122" name=""/>
            <p:cNvSpPr/>
            <p:nvPr/>
          </p:nvSpPr>
          <p:spPr>
            <a:xfrm>
              <a:off x="0" y="275760"/>
              <a:ext cx="471600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-3600" y="-77040"/>
              <a:ext cx="4514400" cy="692640"/>
              <a:chOff x="-3600" y="-77040"/>
              <a:chExt cx="4514400" cy="692640"/>
            </a:xfrm>
          </p:grpSpPr>
          <p:sp>
            <p:nvSpPr>
              <p:cNvPr id="124" name=""/>
              <p:cNvSpPr/>
              <p:nvPr/>
            </p:nvSpPr>
            <p:spPr>
              <a:xfrm rot="158400">
                <a:off x="204840" y="50400"/>
                <a:ext cx="123012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4880" y="75600"/>
                <a:ext cx="123012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961200">
                <a:off x="204840" y="0"/>
                <a:ext cx="61488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9720" y="360"/>
                <a:ext cx="102528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1880" y="301320"/>
                <a:ext cx="82044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9000">
                <a:off x="0" y="457200"/>
                <a:ext cx="31356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30120" y="25560"/>
                <a:ext cx="30744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44560" y="25560"/>
                <a:ext cx="276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观察与思考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981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动手画一画：用量角器和刻度尺画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AB=3cm,BC=4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77080" y="1052640"/>
                <a:ext cx="1224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24360" y="1700280"/>
                <a:ext cx="2232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50920" y="5373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你画出的三角形和其他同学画的三角形进行比较，它们互相重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6480" y="-62640"/>
            <a:ext cx="3930480" cy="669600"/>
            <a:chOff x="-6480" y="-62640"/>
            <a:chExt cx="3930480" cy="669600"/>
          </a:xfrm>
        </p:grpSpPr>
        <p:sp>
          <p:nvSpPr>
            <p:cNvPr id="137" name=""/>
            <p:cNvSpPr/>
            <p:nvPr/>
          </p:nvSpPr>
          <p:spPr>
            <a:xfrm>
              <a:off x="0" y="275760"/>
              <a:ext cx="392400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-6480" y="-62640"/>
              <a:ext cx="3759840" cy="669600"/>
              <a:chOff x="-6480" y="-62640"/>
              <a:chExt cx="3759840" cy="669600"/>
            </a:xfrm>
          </p:grpSpPr>
          <p:sp>
            <p:nvSpPr>
              <p:cNvPr id="139" name=""/>
              <p:cNvSpPr/>
              <p:nvPr/>
            </p:nvSpPr>
            <p:spPr>
              <a:xfrm rot="158400">
                <a:off x="170280" y="50040"/>
                <a:ext cx="102348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1560" y="75600"/>
                <a:ext cx="102348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961200">
                <a:off x="169920" y="0"/>
                <a:ext cx="51156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2200" y="360"/>
                <a:ext cx="85320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960" y="301320"/>
                <a:ext cx="68256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9000">
                <a:off x="0" y="457560"/>
                <a:ext cx="2610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23480" y="25560"/>
                <a:ext cx="25560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51520" y="25560"/>
                <a:ext cx="230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合作学习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395280" y="227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2276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BN=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9242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截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 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500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截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=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076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724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所求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两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及其夹角对应相等的两个三角形全等（简写成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幼圆"/>
              </a:rPr>
              <a:t>边角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”或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幼圆"/>
              </a:rPr>
              <a:t>ＳＡ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357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4038480"/>
            <a:ext cx="4608360" cy="690840"/>
            <a:chOff x="533520" y="4038480"/>
            <a:chExt cx="4608360" cy="690840"/>
          </a:xfrm>
        </p:grpSpPr>
        <p:sp>
          <p:nvSpPr>
            <p:cNvPr id="156" name=""/>
            <p:cNvSpPr/>
            <p:nvPr/>
          </p:nvSpPr>
          <p:spPr>
            <a:xfrm>
              <a:off x="533520" y="40384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</a:rPr>
                <a:t>数学语言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973520" y="4254480"/>
                  <a:ext cx="316836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在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和Δ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中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58" name=""/>
          <p:cNvGraphicFramePr/>
          <p:nvPr/>
        </p:nvGraphicFramePr>
        <p:xfrm>
          <a:off x="1143000" y="6095880"/>
          <a:ext cx="5040360" cy="4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6095880"/>
                    <a:ext cx="50403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1371600" y="2286000"/>
            <a:ext cx="6121440" cy="1728360"/>
            <a:chOff x="1371600" y="2286000"/>
            <a:chExt cx="6121440" cy="1728360"/>
          </a:xfrm>
        </p:grpSpPr>
        <p:grpSp>
          <p:nvGrpSpPr>
            <p:cNvPr id="161" name=""/>
            <p:cNvGrpSpPr/>
            <p:nvPr/>
          </p:nvGrpSpPr>
          <p:grpSpPr>
            <a:xfrm>
              <a:off x="1371600" y="2286000"/>
              <a:ext cx="3024360" cy="1728360"/>
              <a:chOff x="1371600" y="2286000"/>
              <a:chExt cx="3024360" cy="17283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019240" y="2717640"/>
                <a:ext cx="1800360" cy="1296720"/>
                <a:chOff x="2019240" y="2717640"/>
                <a:chExt cx="1800360" cy="129672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2019240" y="2717640"/>
                  <a:ext cx="1800360" cy="1081080"/>
                  <a:chOff x="2019240" y="2717640"/>
                  <a:chExt cx="1800360" cy="10810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>
                    <a:off x="2019240" y="2717640"/>
                    <a:ext cx="72072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019240" y="3798720"/>
                    <a:ext cx="180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739960" y="2717640"/>
                    <a:ext cx="107964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2306880" y="3222360"/>
                  <a:ext cx="14436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82880" y="372564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954520" y="372564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089440" y="3582720"/>
                  <a:ext cx="145440" cy="43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524320" y="22860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71600" y="3510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03600" y="34369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900680" y="2286000"/>
              <a:ext cx="2592360" cy="1666800"/>
              <a:chOff x="4900680" y="2286000"/>
              <a:chExt cx="2592360" cy="16668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5261040" y="2656080"/>
                <a:ext cx="1800360" cy="1296720"/>
                <a:chOff x="5261040" y="2656080"/>
                <a:chExt cx="1800360" cy="129672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5261040" y="2656080"/>
                  <a:ext cx="1800360" cy="1081080"/>
                  <a:chOff x="5261040" y="2656080"/>
                  <a:chExt cx="1800360" cy="10810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5261040" y="2656080"/>
                    <a:ext cx="72072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261040" y="3737160"/>
                    <a:ext cx="180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981760" y="2656080"/>
                    <a:ext cx="107964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5548680" y="3160800"/>
                  <a:ext cx="14436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24680" y="366408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96320" y="366408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1240" y="3521160"/>
                  <a:ext cx="145440" cy="43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6053040" y="2286000"/>
                    <a:ext cx="43200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"/>
                  <p:cNvSpPr txBox="1"/>
                  <p:nvPr/>
                </p:nvSpPr>
                <p:spPr>
                  <a:xfrm>
                    <a:off x="4900680" y="3448080"/>
                    <a:ext cx="433440" cy="37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"/>
                  <p:cNvSpPr txBox="1"/>
                  <p:nvPr/>
                </p:nvSpPr>
                <p:spPr>
                  <a:xfrm>
                    <a:off x="7061400" y="3448080"/>
                    <a:ext cx="43164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7" name=""/>
          <p:cNvGrpSpPr/>
          <p:nvPr/>
        </p:nvGrpSpPr>
        <p:grpSpPr>
          <a:xfrm>
            <a:off x="838080" y="1752480"/>
            <a:ext cx="7919640" cy="642600"/>
            <a:chOff x="838080" y="1752480"/>
            <a:chExt cx="7919640" cy="642600"/>
          </a:xfrm>
        </p:grpSpPr>
        <p:sp>
          <p:nvSpPr>
            <p:cNvPr id="188" name=""/>
            <p:cNvSpPr/>
            <p:nvPr/>
          </p:nvSpPr>
          <p:spPr>
            <a:xfrm>
              <a:off x="838080" y="1752480"/>
              <a:ext cx="23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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注 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0080" y="1823760"/>
              <a:ext cx="56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个角一定要是两条边的夹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66800" y="1968480"/>
              <a:ext cx="502920" cy="288720"/>
            </a:xfrm>
            <a:prstGeom prst="rightArrow">
              <a:avLst>
                <a:gd name="adj1" fmla="val 50000"/>
                <a:gd name="adj2" fmla="val 4354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36520" y="4653000"/>
            <a:ext cx="2046600" cy="1511280"/>
            <a:chOff x="2036520" y="4653000"/>
            <a:chExt cx="2046600" cy="1511280"/>
          </a:xfrm>
        </p:grpSpPr>
        <p:graphicFrame>
          <p:nvGraphicFramePr>
            <p:cNvPr id="193" name=""/>
            <p:cNvGraphicFramePr/>
            <p:nvPr/>
          </p:nvGraphicFramePr>
          <p:xfrm>
            <a:off x="2463840" y="4653000"/>
            <a:ext cx="1619280" cy="1511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63840" y="4653000"/>
                      <a:ext cx="1619280" cy="15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2036520" y="5157720"/>
              <a:ext cx="42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ahoma"/>
                </a:rPr>
                <a:t>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95280" y="1484280"/>
          <a:ext cx="7488360" cy="47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7488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692360" y="19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A=OC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=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975280" y="2438280"/>
            <a:ext cx="3168720" cy="2260080"/>
            <a:chOff x="5975280" y="2438280"/>
            <a:chExt cx="3168720" cy="2260080"/>
          </a:xfrm>
        </p:grpSpPr>
        <p:sp>
          <p:nvSpPr>
            <p:cNvPr id="200" name=""/>
            <p:cNvSpPr/>
            <p:nvPr/>
          </p:nvSpPr>
          <p:spPr>
            <a:xfrm>
              <a:off x="6910200" y="279864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478200" y="2798640"/>
              <a:ext cx="208908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10200" y="2798640"/>
              <a:ext cx="144144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8560" y="459900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6920" y="25099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07280" y="2438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36000" y="4238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5280" y="42386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3446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1619280" y="3068640"/>
          <a:ext cx="324000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3068640"/>
                    <a:ext cx="3240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3657600"/>
                <a:ext cx="3745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；在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和Δ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  <m:r>
                      <m:t xml:space="preserve">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6000" y="4267080"/>
                <a:ext cx="277632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D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95280" y="5791320"/>
                <a:ext cx="280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≃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124080" y="42670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46483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顶角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5105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715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11280" y="2421000"/>
            <a:ext cx="6553080" cy="520560"/>
            <a:chOff x="611280" y="2421000"/>
            <a:chExt cx="6553080" cy="520560"/>
          </a:xfrm>
        </p:grpSpPr>
        <p:sp>
          <p:nvSpPr>
            <p:cNvPr id="219" name=""/>
            <p:cNvSpPr/>
            <p:nvPr/>
          </p:nvSpPr>
          <p:spPr>
            <a:xfrm>
              <a:off x="1619280" y="2421000"/>
              <a:ext cx="554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Arial"/>
                </a:rPr>
                <a:t>你还能找到什么条件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280" y="2565360"/>
              <a:ext cx="647640" cy="287640"/>
            </a:xfrm>
            <a:custGeom>
              <a:avLst/>
              <a:gdLst>
                <a:gd name="textAreaLeft" fmla="*/ 101160 w 647640"/>
                <a:gd name="textAreaRight" fmla="*/ 567000 w 647640"/>
                <a:gd name="textAreaTop" fmla="*/ 72000 h 287640"/>
                <a:gd name="textAreaBottom" fmla="*/ 21600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934320" y="3124080"/>
            <a:ext cx="1152000" cy="1081080"/>
            <a:chOff x="6934320" y="3124080"/>
            <a:chExt cx="1152000" cy="1081080"/>
          </a:xfrm>
        </p:grpSpPr>
        <p:sp>
          <p:nvSpPr>
            <p:cNvPr id="222" name=""/>
            <p:cNvSpPr/>
            <p:nvPr/>
          </p:nvSpPr>
          <p:spPr>
            <a:xfrm flipV="1">
              <a:off x="7149960" y="3124080"/>
              <a:ext cx="215640" cy="144720"/>
            </a:xfrm>
            <a:prstGeom prst="line">
              <a:avLst/>
            </a:prstGeom>
            <a:ln w="28440">
              <a:solidFill>
                <a:srgbClr val="c910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797600" y="3916080"/>
              <a:ext cx="215640" cy="144360"/>
            </a:xfrm>
            <a:prstGeom prst="line">
              <a:avLst/>
            </a:prstGeom>
            <a:ln w="28440">
              <a:solidFill>
                <a:srgbClr val="c910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4320" y="4060800"/>
              <a:ext cx="14400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5600" y="3989520"/>
              <a:ext cx="14400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69240" y="3268800"/>
              <a:ext cx="14400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41960" y="3197160"/>
              <a:ext cx="14436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179480" y="3429000"/>
            <a:ext cx="576000" cy="362160"/>
            <a:chOff x="7179480" y="3429000"/>
            <a:chExt cx="576000" cy="362160"/>
          </a:xfrm>
        </p:grpSpPr>
        <p:sp>
          <p:nvSpPr>
            <p:cNvPr id="229" name=""/>
            <p:cNvSpPr/>
            <p:nvPr/>
          </p:nvSpPr>
          <p:spPr>
            <a:xfrm>
              <a:off x="7325280" y="3429000"/>
              <a:ext cx="43020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163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163864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179480" y="3644280"/>
              <a:ext cx="576000" cy="14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30" y="95"/>
                  </a:moveTo>
                  <a:arcTo wR="10800" hR="10800" stAng="-4943626" swAng="2755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30" y="95"/>
                  </a:moveTo>
                  <a:arcTo wR="10800" hR="10800" stAng="-4943626" swAng="2755315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0920" y="260280"/>
            <a:ext cx="8642160" cy="947160"/>
            <a:chOff x="250920" y="260280"/>
            <a:chExt cx="8642160" cy="947160"/>
          </a:xfrm>
        </p:grpSpPr>
        <p:sp>
          <p:nvSpPr>
            <p:cNvPr id="232" name=""/>
            <p:cNvSpPr/>
            <p:nvPr/>
          </p:nvSpPr>
          <p:spPr>
            <a:xfrm>
              <a:off x="250920" y="260280"/>
              <a:ext cx="864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ＡＣ与ＢＤ相交于点Ｏ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ＯＡ＝ＯＣ，      ＯＢ＝ＯＤ．求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: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3260520" y="765000"/>
                  <a:ext cx="23090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≃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1840" y="620280"/>
            <a:ext cx="88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，已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一直线上，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=∠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C=D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求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:AB=DB.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4032360" cy="255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0920" y="19162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，把两根钢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A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B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中点连在一起，  可以做成一个测量工件内槽宽的卡钳。只要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ˊB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长就知道内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宽。请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3744720" cy="26798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4932360" y="3645000"/>
            <a:ext cx="3962160" cy="2736000"/>
            <a:chOff x="4932360" y="3645000"/>
            <a:chExt cx="3962160" cy="2736000"/>
          </a:xfrm>
        </p:grpSpPr>
        <p:sp>
          <p:nvSpPr>
            <p:cNvPr id="239" name=""/>
            <p:cNvSpPr/>
            <p:nvPr/>
          </p:nvSpPr>
          <p:spPr>
            <a:xfrm>
              <a:off x="5073840" y="3772080"/>
              <a:ext cx="53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2360" y="5675400"/>
              <a:ext cx="53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32880" y="5799600"/>
              <a:ext cx="92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A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74360" y="3645000"/>
              <a:ext cx="92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B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285880" y="4214880"/>
              <a:ext cx="2828880" cy="1523160"/>
              <a:chOff x="5285880" y="4214880"/>
              <a:chExt cx="2828880" cy="1523160"/>
            </a:xfrm>
          </p:grpSpPr>
          <p:sp>
            <p:nvSpPr>
              <p:cNvPr id="244" name=""/>
              <p:cNvSpPr/>
              <p:nvPr/>
            </p:nvSpPr>
            <p:spPr>
              <a:xfrm>
                <a:off x="5427720" y="4215240"/>
                <a:ext cx="2616480" cy="152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286240" y="4214880"/>
                <a:ext cx="2828520" cy="145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8044560" y="4215240"/>
                <a:ext cx="69840" cy="152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285880" y="4215240"/>
                <a:ext cx="141480" cy="145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418440" y="5103360"/>
              <a:ext cx="53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212480" y="573408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36840" y="623736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52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54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362320" y="32767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A=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A=∠C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C=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801280" y="299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6516720" y="1413000"/>
            <a:ext cx="2626560" cy="2592000"/>
            <a:chOff x="6516720" y="1413000"/>
            <a:chExt cx="2626560" cy="2592000"/>
          </a:xfrm>
        </p:grpSpPr>
        <p:sp>
          <p:nvSpPr>
            <p:cNvPr id="265" name="Line 5"/>
            <p:cNvSpPr/>
            <p:nvPr/>
          </p:nvSpPr>
          <p:spPr>
            <a:xfrm>
              <a:off x="6697440" y="3085200"/>
              <a:ext cx="226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6"/>
            <p:cNvSpPr/>
            <p:nvPr/>
          </p:nvSpPr>
          <p:spPr>
            <a:xfrm flipV="1">
              <a:off x="7875360" y="1413000"/>
              <a:ext cx="0" cy="25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"/>
            <p:cNvSpPr/>
            <p:nvPr/>
          </p:nvSpPr>
          <p:spPr>
            <a:xfrm flipH="1">
              <a:off x="6697440" y="1998360"/>
              <a:ext cx="1177920" cy="108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"/>
            <p:cNvSpPr/>
            <p:nvPr/>
          </p:nvSpPr>
          <p:spPr>
            <a:xfrm>
              <a:off x="7875360" y="1998360"/>
              <a:ext cx="1086840" cy="108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"/>
            <p:cNvSpPr/>
            <p:nvPr/>
          </p:nvSpPr>
          <p:spPr>
            <a:xfrm>
              <a:off x="6516720" y="3001680"/>
              <a:ext cx="126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"/>
            <p:cNvSpPr/>
            <p:nvPr/>
          </p:nvSpPr>
          <p:spPr>
            <a:xfrm>
              <a:off x="7875360" y="1580040"/>
              <a:ext cx="126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7422840" y="3001680"/>
              <a:ext cx="126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6"/>
          <p:cNvGrpSpPr/>
          <p:nvPr/>
        </p:nvGrpSpPr>
        <p:grpSpPr>
          <a:xfrm>
            <a:off x="324000" y="1341360"/>
            <a:ext cx="6858000" cy="1587240"/>
            <a:chOff x="324000" y="1341360"/>
            <a:chExt cx="6858000" cy="1587240"/>
          </a:xfrm>
        </p:grpSpPr>
        <p:sp>
          <p:nvSpPr>
            <p:cNvPr id="273" name="Text Box 12"/>
            <p:cNvSpPr/>
            <p:nvPr/>
          </p:nvSpPr>
          <p:spPr>
            <a:xfrm>
              <a:off x="324000" y="1341360"/>
              <a:ext cx="685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A=O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当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与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重合时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A=C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324000" y="2408040"/>
              <a:ext cx="51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当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与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不重合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666880" y="2895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A=∠BOC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0" y="4038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"/>
          <p:cNvGraphicFramePr/>
          <p:nvPr/>
        </p:nvGraphicFramePr>
        <p:xfrm>
          <a:off x="3492360" y="3284640"/>
          <a:ext cx="157644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3284640"/>
                    <a:ext cx="1576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17"/>
          <p:cNvSpPr/>
          <p:nvPr/>
        </p:nvSpPr>
        <p:spPr>
          <a:xfrm>
            <a:off x="228600" y="5334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A≌△C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AS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304920" y="5943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A=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等三角形对应边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9"/>
          <p:cNvGrpSpPr/>
          <p:nvPr/>
        </p:nvGrpSpPr>
        <p:grpSpPr>
          <a:xfrm>
            <a:off x="228600" y="228600"/>
            <a:ext cx="7772400" cy="1079640"/>
            <a:chOff x="228600" y="228600"/>
            <a:chExt cx="7772400" cy="1079640"/>
          </a:xfrm>
        </p:grpSpPr>
        <p:sp>
          <p:nvSpPr>
            <p:cNvPr id="282" name="Text Box 20"/>
            <p:cNvSpPr/>
            <p:nvPr/>
          </p:nvSpPr>
          <p:spPr>
            <a:xfrm>
              <a:off x="228600" y="304920"/>
              <a:ext cx="7772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直线   ⊥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垂足为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A=O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   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直线   上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任意一点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说明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CA=C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理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Object 4"/>
            <p:cNvGraphicFramePr/>
            <p:nvPr/>
          </p:nvGraphicFramePr>
          <p:xfrm>
            <a:off x="2971800" y="228600"/>
            <a:ext cx="31104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4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71800" y="228600"/>
                      <a:ext cx="31104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5"/>
            <p:cNvGraphicFramePr/>
            <p:nvPr/>
          </p:nvGraphicFramePr>
          <p:xfrm>
            <a:off x="2057400" y="685800"/>
            <a:ext cx="311040" cy="622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685800"/>
                      <a:ext cx="31104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Group 23"/>
          <p:cNvGrpSpPr/>
          <p:nvPr/>
        </p:nvGrpSpPr>
        <p:grpSpPr>
          <a:xfrm>
            <a:off x="152280" y="2819520"/>
            <a:ext cx="2438640" cy="622080"/>
            <a:chOff x="152280" y="2819520"/>
            <a:chExt cx="2438640" cy="622080"/>
          </a:xfrm>
        </p:grpSpPr>
        <p:sp>
          <p:nvSpPr>
            <p:cNvPr id="288" name="Text Box 24"/>
            <p:cNvSpPr/>
            <p:nvPr/>
          </p:nvSpPr>
          <p:spPr>
            <a:xfrm>
              <a:off x="152280" y="28954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直线  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Object 3"/>
            <p:cNvGraphicFramePr/>
            <p:nvPr/>
          </p:nvGraphicFramePr>
          <p:xfrm>
            <a:off x="1295280" y="2819520"/>
            <a:ext cx="311400" cy="622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0" name="Object 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95280" y="2819520"/>
                      <a:ext cx="311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"/>
          <p:cNvSpPr/>
          <p:nvPr/>
        </p:nvSpPr>
        <p:spPr>
          <a:xfrm>
            <a:off x="395280" y="5445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垂直平分线上的特殊的点，还   是任意的点？由此你能得到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3"/>
          <p:cNvGrpSpPr/>
          <p:nvPr/>
        </p:nvGrpSpPr>
        <p:grpSpPr>
          <a:xfrm>
            <a:off x="6705720" y="3645000"/>
            <a:ext cx="2438280" cy="622080"/>
            <a:chOff x="6705720" y="3645000"/>
            <a:chExt cx="2438280" cy="622080"/>
          </a:xfrm>
        </p:grpSpPr>
        <p:sp>
          <p:nvSpPr>
            <p:cNvPr id="293" name="Text Box 24"/>
            <p:cNvSpPr/>
            <p:nvPr/>
          </p:nvSpPr>
          <p:spPr>
            <a:xfrm>
              <a:off x="6705720" y="37209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4" name="Object 3"/>
            <p:cNvGraphicFramePr/>
            <p:nvPr/>
          </p:nvGraphicFramePr>
          <p:xfrm>
            <a:off x="7848360" y="3645000"/>
            <a:ext cx="311040" cy="622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95" name="Object 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848360" y="3645000"/>
                      <a:ext cx="31104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93"/>
          <p:cNvGrpSpPr/>
          <p:nvPr/>
        </p:nvGrpSpPr>
        <p:grpSpPr>
          <a:xfrm>
            <a:off x="0" y="620640"/>
            <a:ext cx="7056000" cy="1944360"/>
            <a:chOff x="0" y="620640"/>
            <a:chExt cx="7056000" cy="1944360"/>
          </a:xfrm>
        </p:grpSpPr>
        <p:sp>
          <p:nvSpPr>
            <p:cNvPr id="297" name="Rectangle 191"/>
            <p:cNvSpPr/>
            <p:nvPr/>
          </p:nvSpPr>
          <p:spPr>
            <a:xfrm>
              <a:off x="0" y="620640"/>
              <a:ext cx="6874200" cy="19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92"/>
            <p:cNvSpPr/>
            <p:nvPr/>
          </p:nvSpPr>
          <p:spPr>
            <a:xfrm>
              <a:off x="0" y="781200"/>
              <a:ext cx="705600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alibri"/>
                </a:rPr>
                <a:t>垂直平分线定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垂直于一条线段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并且平分这条线段的直线叫做这条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线段的垂直平分线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简称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中垂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"/>
          <p:cNvGrpSpPr/>
          <p:nvPr/>
        </p:nvGrpSpPr>
        <p:grpSpPr>
          <a:xfrm>
            <a:off x="6012000" y="1700280"/>
            <a:ext cx="2880720" cy="2707920"/>
            <a:chOff x="6012000" y="1700280"/>
            <a:chExt cx="2880720" cy="2707920"/>
          </a:xfrm>
        </p:grpSpPr>
        <p:sp>
          <p:nvSpPr>
            <p:cNvPr id="300" name="Line 5"/>
            <p:cNvSpPr/>
            <p:nvPr/>
          </p:nvSpPr>
          <p:spPr>
            <a:xfrm>
              <a:off x="6210360" y="3447000"/>
              <a:ext cx="248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 flipV="1">
              <a:off x="7502040" y="1700280"/>
              <a:ext cx="0" cy="27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 flipH="1">
              <a:off x="6210360" y="2311920"/>
              <a:ext cx="1291680" cy="11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7502040" y="2311920"/>
              <a:ext cx="1191960" cy="11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9"/>
            <p:cNvSpPr/>
            <p:nvPr/>
          </p:nvSpPr>
          <p:spPr>
            <a:xfrm>
              <a:off x="6012000" y="33598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0"/>
            <p:cNvSpPr/>
            <p:nvPr/>
          </p:nvSpPr>
          <p:spPr>
            <a:xfrm>
              <a:off x="7502040" y="187452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>
              <a:off x="7005600" y="33598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3"/>
          <p:cNvSpPr/>
          <p:nvPr/>
        </p:nvSpPr>
        <p:spPr>
          <a:xfrm>
            <a:off x="845820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3"/>
          <p:cNvGrpSpPr/>
          <p:nvPr/>
        </p:nvGrpSpPr>
        <p:grpSpPr>
          <a:xfrm>
            <a:off x="6443640" y="4149720"/>
            <a:ext cx="2438280" cy="622080"/>
            <a:chOff x="6443640" y="4149720"/>
            <a:chExt cx="2438280" cy="622080"/>
          </a:xfrm>
        </p:grpSpPr>
        <p:sp>
          <p:nvSpPr>
            <p:cNvPr id="309" name="Text Box 24"/>
            <p:cNvSpPr/>
            <p:nvPr/>
          </p:nvSpPr>
          <p:spPr>
            <a:xfrm>
              <a:off x="6443640" y="422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0" name="Object 3"/>
            <p:cNvGraphicFramePr/>
            <p:nvPr/>
          </p:nvGraphicFramePr>
          <p:xfrm>
            <a:off x="7586280" y="4149720"/>
            <a:ext cx="311040" cy="62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86280" y="4149720"/>
                      <a:ext cx="31104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2" name=""/>
          <p:cNvGrpSpPr/>
          <p:nvPr/>
        </p:nvGrpSpPr>
        <p:grpSpPr>
          <a:xfrm>
            <a:off x="0" y="3284640"/>
            <a:ext cx="6121440" cy="2958840"/>
            <a:chOff x="0" y="3284640"/>
            <a:chExt cx="6121440" cy="2958840"/>
          </a:xfrm>
        </p:grpSpPr>
        <p:sp>
          <p:nvSpPr>
            <p:cNvPr id="313" name="Text Box 190"/>
            <p:cNvSpPr/>
            <p:nvPr/>
          </p:nvSpPr>
          <p:spPr>
            <a:xfrm>
              <a:off x="144720" y="3284640"/>
              <a:ext cx="5976720" cy="2527560"/>
            </a:xfrm>
            <a:prstGeom prst="rect">
              <a:avLst/>
            </a:prstGeom>
            <a:noFill/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alibri"/>
                </a:rPr>
                <a:t>中垂线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Calibri"/>
                </a:rPr>
                <a:t>线段垂直平分线上的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点</a:t>
              </a:r>
              <a:r>
                <a:rPr b="1" lang="zh-CN" sz="2800" spc="-1" strike="noStrike">
                  <a:solidFill>
                    <a:srgbClr val="333399"/>
                  </a:solidFill>
                  <a:latin typeface="Calibri"/>
                </a:rPr>
                <a:t>到线段两端点的距离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94"/>
            <p:cNvSpPr/>
            <p:nvPr/>
          </p:nvSpPr>
          <p:spPr>
            <a:xfrm>
              <a:off x="660600" y="5227560"/>
              <a:ext cx="4537080" cy="1015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∵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是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ＡＢ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中垂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Ｃ＝ＢＣ（中垂线的性质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23"/>
            <p:cNvGrpSpPr/>
            <p:nvPr/>
          </p:nvGrpSpPr>
          <p:grpSpPr>
            <a:xfrm>
              <a:off x="0" y="5084640"/>
              <a:ext cx="2438640" cy="622080"/>
              <a:chOff x="0" y="5084640"/>
              <a:chExt cx="2438640" cy="622080"/>
            </a:xfrm>
          </p:grpSpPr>
          <p:sp>
            <p:nvSpPr>
              <p:cNvPr id="316" name="Text Box 24"/>
              <p:cNvSpPr/>
              <p:nvPr/>
            </p:nvSpPr>
            <p:spPr>
              <a:xfrm>
                <a:off x="0" y="5160600"/>
                <a:ext cx="243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7" name="Object 3"/>
              <p:cNvGraphicFramePr/>
              <p:nvPr/>
            </p:nvGraphicFramePr>
            <p:xfrm>
              <a:off x="1143000" y="5084640"/>
              <a:ext cx="311400" cy="622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18" name="Object 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143000" y="5084640"/>
                        <a:ext cx="311400" cy="62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pull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468360" y="1268280"/>
            <a:ext cx="7704000" cy="4538520"/>
            <a:chOff x="468360" y="1268280"/>
            <a:chExt cx="7704000" cy="4538520"/>
          </a:xfrm>
        </p:grpSpPr>
        <p:sp>
          <p:nvSpPr>
            <p:cNvPr id="320" name=""/>
            <p:cNvSpPr/>
            <p:nvPr/>
          </p:nvSpPr>
          <p:spPr>
            <a:xfrm>
              <a:off x="468360" y="1268280"/>
              <a:ext cx="4968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D,E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别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C,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B=A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D=AE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求证：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BD=CE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填空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9640" y="2622600"/>
              <a:ext cx="45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证明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B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2560" y="3125880"/>
              <a:ext cx="41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=_____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5280" y="3630600"/>
              <a:ext cx="46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_____=_____(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公共角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8360" y="4135320"/>
              <a:ext cx="41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=A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     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8360" y="4638600"/>
              <a:ext cx="64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_______≌______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5286240"/>
              <a:ext cx="77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D=CE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9640" y="3357720"/>
              <a:ext cx="144000" cy="1152360"/>
            </a:xfrm>
            <a:custGeom>
              <a:avLst/>
              <a:gdLst>
                <a:gd name="textAreaLeft" fmla="*/ 92160 w 144000"/>
                <a:gd name="textAreaRight" fmla="*/ 144360 w 14400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80000" y="189000"/>
            <a:ext cx="2665440" cy="3268080"/>
            <a:chOff x="5580000" y="189000"/>
            <a:chExt cx="2665440" cy="3268080"/>
          </a:xfrm>
        </p:grpSpPr>
        <p:sp>
          <p:nvSpPr>
            <p:cNvPr id="329" name=""/>
            <p:cNvSpPr/>
            <p:nvPr/>
          </p:nvSpPr>
          <p:spPr>
            <a:xfrm flipH="1">
              <a:off x="5797080" y="693720"/>
              <a:ext cx="100836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5800" y="693720"/>
              <a:ext cx="100800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797440" y="1629000"/>
              <a:ext cx="144000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360" y="1702080"/>
              <a:ext cx="144144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1080" y="18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80000" y="2997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69440" y="29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37440" y="1341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12000" y="13417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256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306864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35733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35733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5800" y="414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29080" y="45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87560" y="4580640"/>
            <a:ext cx="11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465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300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等三角形的对应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348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350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7:42:09Z</dcterms:created>
  <dc:creator/>
  <dc:description/>
  <dc:language>en-US</dc:language>
  <cp:lastModifiedBy/>
  <dcterms:modified xsi:type="dcterms:W3CDTF">2013-09-16T23:40:31Z</dcterms:modified>
  <cp:revision>180</cp:revision>
  <dc:subject/>
  <dc:title/>
</cp:coreProperties>
</file>