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whoosh.wav" ContentType="audio/x-wav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A26-1516-495B-9063-8915E5D9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93D-8C45-459E-BAF4-6DC904F7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E4DE-0AB4-492A-91FC-54401361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40C-64DC-4A84-9EA5-566E9F4A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899A-7FE4-4622-A08D-75BC46CB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3FA-E4C4-4213-B44D-B164D3C4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A42-4057-4263-8E70-D48D1602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756-AD76-48A1-8E24-9B3C8D7C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083-48E4-462A-A055-EF5EE2C4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C80-6412-4AE0-985E-07799703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603C-1216-49F7-B359-E8CBAA0D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157-A51C-4D9A-885A-523EFC75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5B6A-2B49-4197-A32D-D2BD338380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35812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16000" y="3068640"/>
            <a:ext cx="738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ff"/>
                </a:solidFill>
                <a:latin typeface="Tahoma"/>
              </a:rPr>
              <a:t>1.5</a:t>
            </a:r>
            <a:r>
              <a:rPr b="1" lang="zh-CN" sz="4800" spc="-1" strike="noStrike">
                <a:solidFill>
                  <a:srgbClr val="33ccff"/>
                </a:solidFill>
                <a:latin typeface="Tahoma"/>
              </a:rPr>
              <a:t>三角形全等判定（</a:t>
            </a:r>
            <a:r>
              <a:rPr b="1" lang="zh-CN" sz="4800" spc="-1" strike="noStrike">
                <a:solidFill>
                  <a:srgbClr val="33ccff"/>
                </a:solidFill>
                <a:latin typeface="Tahoma"/>
              </a:rPr>
              <a:t>1</a:t>
            </a:r>
            <a:r>
              <a:rPr b="1" lang="zh-CN" sz="4800" spc="-1" strike="noStrike">
                <a:solidFill>
                  <a:srgbClr val="33ccff"/>
                </a:solidFill>
                <a:latin typeface="Tahoma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2560" y="476280"/>
            <a:ext cx="909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如图，已知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同一条直线上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F.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证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∠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5040" y="15573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证明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已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23972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即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0240" y="2828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E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90520" y="32828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已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90520" y="41972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已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90520" y="3740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E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已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3120" y="4773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∴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BC≌△DE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SS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5200" y="52768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全等三角形对应角相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85960" y="343548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72000" y="1916280"/>
            <a:ext cx="4174560" cy="2212200"/>
            <a:chOff x="4572000" y="1916280"/>
            <a:chExt cx="4174560" cy="2212200"/>
          </a:xfrm>
        </p:grpSpPr>
        <p:sp>
          <p:nvSpPr>
            <p:cNvPr id="220" name=""/>
            <p:cNvSpPr/>
            <p:nvPr/>
          </p:nvSpPr>
          <p:spPr>
            <a:xfrm>
              <a:off x="8051040" y="3668760"/>
              <a:ext cx="6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87640" y="3232080"/>
              <a:ext cx="364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58280" y="3592440"/>
              <a:ext cx="347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958280" y="2373480"/>
              <a:ext cx="1469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27440" y="2373480"/>
              <a:ext cx="1082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040800" y="2449080"/>
              <a:ext cx="14691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09960" y="2449440"/>
              <a:ext cx="927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40800" y="1916280"/>
              <a:ext cx="92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0" y="351648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08600" y="3668760"/>
              <a:ext cx="54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23320" y="366876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32560" y="1992240"/>
              <a:ext cx="6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14200" y="5950080"/>
            <a:ext cx="84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小结：想说明角相等，先转化为说明三角形全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25440" y="198900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E+EC=CF+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235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cc99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237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50000">
                    <a:srgbClr val="cc3300"/>
                  </a:gs>
                  <a:gs pos="100000">
                    <a:srgbClr val="3333cc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cc66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9900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练习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2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>
            <a:off x="5003640" y="3573360"/>
            <a:ext cx="100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51640" y="3573360"/>
            <a:ext cx="93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3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68360" y="33336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 如图，已知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AB=AC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E=AD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D=CE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证明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△AEB ≌ △ AD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560" y="1773360"/>
            <a:ext cx="6248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：∵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BD=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∴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BD-ED=CE-ED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即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BE=CD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7360" y="3573360"/>
            <a:ext cx="39859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=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E=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=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∴  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EB ≌ △ A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651640" y="1773360"/>
            <a:ext cx="2895120" cy="2212200"/>
            <a:chOff x="5651640" y="1773360"/>
            <a:chExt cx="2895120" cy="2212200"/>
          </a:xfrm>
        </p:grpSpPr>
        <p:sp>
          <p:nvSpPr>
            <p:cNvPr id="251" name=""/>
            <p:cNvSpPr/>
            <p:nvPr/>
          </p:nvSpPr>
          <p:spPr>
            <a:xfrm>
              <a:off x="7556400" y="35258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261120" y="2154240"/>
              <a:ext cx="990000" cy="137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51480" y="2154240"/>
              <a:ext cx="761760" cy="137160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793920" y="2154240"/>
              <a:ext cx="456840" cy="137160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51480" y="2154240"/>
              <a:ext cx="228240" cy="137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70600" y="17733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51640" y="32972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94280" y="352584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37080" y="35258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61120" y="352584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94280" y="3525840"/>
              <a:ext cx="121896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044720" y="4437000"/>
            <a:ext cx="142560" cy="1440000"/>
          </a:xfrm>
          <a:custGeom>
            <a:avLst/>
            <a:gdLst>
              <a:gd name="textAreaLeft" fmla="*/ 91080 w 142560"/>
              <a:gd name="textAreaRight" fmla="*/ 142920 w 1425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51280" y="596736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SSS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11280" y="47941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11280" y="41450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11280" y="53737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已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1360" y="4797360"/>
            <a:ext cx="4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418560" y="184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课堂小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838080"/>
            <a:ext cx="834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判定方法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三边对应相等的两个三角形全等  简写成“边边边”（</a:t>
            </a: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SSS</a:t>
            </a: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242100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定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中所用到的数学方法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证明线段（或角相等）                证明线段（或角）所在的两个三角形全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88000" y="3500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59280" y="2997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50133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1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说明两个三角形全等所需的条件应按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对应边的顺序书写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结论中所出现的边必须在所证明的两个三角形中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4292640"/>
            <a:ext cx="5638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42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说明两个三角形全等需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3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240" y="2924280"/>
            <a:ext cx="89154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完成作业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同步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预习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1.5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角形全等的判定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979640" y="836640"/>
            <a:ext cx="143496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 rot="21226200">
            <a:off x="34920" y="155160"/>
            <a:ext cx="1905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知识回顾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1111320" y="5589720"/>
            <a:ext cx="6629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=DE      ② BC=EF     ③ CA=FD    ④ ∠A= ∠D  ⑤ ∠B=∠E ⑥ ∠C= ∠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84360" y="3716280"/>
            <a:ext cx="3352320" cy="1983600"/>
            <a:chOff x="684360" y="3716280"/>
            <a:chExt cx="3352320" cy="1983600"/>
          </a:xfrm>
        </p:grpSpPr>
        <p:sp>
          <p:nvSpPr>
            <p:cNvPr id="47" name=""/>
            <p:cNvSpPr/>
            <p:nvPr/>
          </p:nvSpPr>
          <p:spPr>
            <a:xfrm flipH="1">
              <a:off x="1217520" y="4097160"/>
              <a:ext cx="68544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17520" y="5316480"/>
              <a:ext cx="23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03320" y="4097160"/>
              <a:ext cx="167616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440" y="371628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4360" y="524016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74920" y="52401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427640" y="3645000"/>
            <a:ext cx="3352320" cy="1983600"/>
            <a:chOff x="4427640" y="3645000"/>
            <a:chExt cx="3352320" cy="1983600"/>
          </a:xfrm>
        </p:grpSpPr>
        <p:sp>
          <p:nvSpPr>
            <p:cNvPr id="54" name=""/>
            <p:cNvSpPr/>
            <p:nvPr/>
          </p:nvSpPr>
          <p:spPr>
            <a:xfrm flipH="1">
              <a:off x="4960800" y="4025880"/>
              <a:ext cx="68544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60800" y="5245200"/>
              <a:ext cx="23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46600" y="4025880"/>
              <a:ext cx="167616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65720" y="364500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27640" y="516888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18200" y="5168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31800" y="183024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什么叫全等三角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2240" y="2349360"/>
            <a:ext cx="64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能够重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两个三角形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全等三角形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909880"/>
            <a:ext cx="56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全等三角形有什么性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82224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什么叫全等图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09480" y="13255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能够重合的两个图形叫做全等图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321300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全等三角形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对应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相等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对应角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相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836640"/>
            <a:ext cx="874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一个三角形的三条边分别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你能画出这个三角形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189000"/>
            <a:ext cx="194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合作学习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2060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画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2637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画线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=3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3141720"/>
            <a:ext cx="763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分别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为圆心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cm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5cm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长为半径画两条圆弧，交于点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436572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连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4997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就是所求的三角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516640"/>
            <a:ext cx="813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你画的三角形与同伴画的进行比较，它们一定全等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692360" y="1557360"/>
            <a:ext cx="6624000" cy="1828080"/>
            <a:chOff x="1692360" y="1557360"/>
            <a:chExt cx="6624000" cy="1828080"/>
          </a:xfrm>
        </p:grpSpPr>
        <p:grpSp>
          <p:nvGrpSpPr>
            <p:cNvPr id="75" name=""/>
            <p:cNvGrpSpPr/>
            <p:nvPr/>
          </p:nvGrpSpPr>
          <p:grpSpPr>
            <a:xfrm>
              <a:off x="1692360" y="1628640"/>
              <a:ext cx="3120840" cy="1756800"/>
              <a:chOff x="1692360" y="1628640"/>
              <a:chExt cx="3120840" cy="175680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2014560" y="1998720"/>
                <a:ext cx="605160" cy="10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010960" y="3082680"/>
                <a:ext cx="1965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615760" y="1989000"/>
                <a:ext cx="1360440" cy="10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92560" y="1628640"/>
                <a:ext cx="57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692360" y="2925720"/>
                <a:ext cx="44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984840" y="2925720"/>
                <a:ext cx="82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195520" y="1557360"/>
              <a:ext cx="3120840" cy="1756800"/>
              <a:chOff x="5195520" y="1557360"/>
              <a:chExt cx="3120840" cy="1756800"/>
            </a:xfrm>
          </p:grpSpPr>
          <p:sp>
            <p:nvSpPr>
              <p:cNvPr id="83" name=""/>
              <p:cNvSpPr/>
              <p:nvPr/>
            </p:nvSpPr>
            <p:spPr>
              <a:xfrm flipH="1">
                <a:off x="5517720" y="1927440"/>
                <a:ext cx="605160" cy="10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14120" y="3011400"/>
                <a:ext cx="1965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118920" y="1917720"/>
                <a:ext cx="1360440" cy="10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95720" y="1557360"/>
                <a:ext cx="57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195520" y="2854440"/>
                <a:ext cx="44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88000" y="2854440"/>
                <a:ext cx="82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914400" y="5943600"/>
            <a:ext cx="3757680" cy="581400"/>
            <a:chOff x="914400" y="5943600"/>
            <a:chExt cx="3757680" cy="581400"/>
          </a:xfrm>
        </p:grpSpPr>
        <p:sp>
          <p:nvSpPr>
            <p:cNvPr id="90" name=""/>
            <p:cNvSpPr/>
            <p:nvPr/>
          </p:nvSpPr>
          <p:spPr>
            <a:xfrm>
              <a:off x="1222200" y="5943600"/>
              <a:ext cx="344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ABC </a:t>
              </a: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≌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     EF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90640" y="6113520"/>
              <a:ext cx="230400" cy="2872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14400" y="6113520"/>
              <a:ext cx="230040" cy="2872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878120" y="4375080"/>
            <a:ext cx="125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B=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4964040"/>
            <a:ext cx="14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C=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5573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C=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60368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3240" y="5950080"/>
            <a:ext cx="15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S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2438280"/>
            <a:ext cx="228600" cy="152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2362320"/>
            <a:ext cx="304920" cy="15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047760" y="228600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123720" y="236232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552720" y="220968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29040" y="228600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97180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297180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297180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289548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289548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289548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80880"/>
            <a:ext cx="782784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三边对应相等的两个三角形全等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简写成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“边边边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SSS”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5480" y="39178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EF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57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数学语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115920"/>
            <a:ext cx="8820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已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四边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=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D=C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     求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∠A= ∠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00720" y="836640"/>
            <a:ext cx="5255280" cy="2228040"/>
            <a:chOff x="4500720" y="836640"/>
            <a:chExt cx="5255280" cy="2228040"/>
          </a:xfrm>
        </p:grpSpPr>
        <p:grpSp>
          <p:nvGrpSpPr>
            <p:cNvPr id="115" name=""/>
            <p:cNvGrpSpPr/>
            <p:nvPr/>
          </p:nvGrpSpPr>
          <p:grpSpPr>
            <a:xfrm>
              <a:off x="5084280" y="1425960"/>
              <a:ext cx="3502800" cy="1296720"/>
              <a:chOff x="5084280" y="1425960"/>
              <a:chExt cx="3502800" cy="129672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5084280" y="1425960"/>
                <a:ext cx="3502800" cy="1296360"/>
                <a:chOff x="5084280" y="1425960"/>
                <a:chExt cx="3502800" cy="1296360"/>
              </a:xfrm>
            </p:grpSpPr>
            <p:sp>
              <p:nvSpPr>
                <p:cNvPr id="117" name=""/>
                <p:cNvSpPr/>
                <p:nvPr/>
              </p:nvSpPr>
              <p:spPr>
                <a:xfrm flipH="1">
                  <a:off x="5084280" y="1425960"/>
                  <a:ext cx="1167840" cy="1296360"/>
                </a:xfrm>
                <a:prstGeom prst="line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7419240" y="1425960"/>
                  <a:ext cx="1167840" cy="1296360"/>
                </a:xfrm>
                <a:prstGeom prst="line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252120" y="1425960"/>
                  <a:ext cx="2334960" cy="0"/>
                </a:xfrm>
                <a:prstGeom prst="line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084280" y="2722320"/>
                  <a:ext cx="2334960" cy="0"/>
                </a:xfrm>
                <a:prstGeom prst="line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6252120" y="1425960"/>
                <a:ext cx="1167120" cy="129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4500720" y="23695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03680" y="2604960"/>
              <a:ext cx="12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88160" y="954720"/>
              <a:ext cx="116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35480" y="836640"/>
              <a:ext cx="8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79280" y="1844640"/>
            <a:ext cx="15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仿宋_GB2312"/>
              </a:rPr>
              <a:t>证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1989000"/>
            <a:ext cx="39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△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BD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和△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CD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2637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已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3213000"/>
            <a:ext cx="19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已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2781360"/>
            <a:ext cx="76320" cy="1600200"/>
          </a:xfrm>
          <a:custGeom>
            <a:avLst/>
            <a:gdLst>
              <a:gd name="textAreaLeft" fmla="*/ 48960 w 76320"/>
              <a:gd name="textAreaRight" fmla="*/ 7632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263700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=CD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3284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D=CB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39178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D=DB(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71640" y="39337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公共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4700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∴ 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D ≌ △C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458784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SSS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54080" y="53737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∴ 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= ∠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37048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（                  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80000" y="2060640"/>
            <a:ext cx="15264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1989000"/>
            <a:ext cx="15228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40720" y="2205000"/>
            <a:ext cx="15228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12000" y="2133720"/>
            <a:ext cx="15264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164360" y="134136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084720" y="256536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39600" y="53006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全等三角形的对应角相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8640" y="3213000"/>
            <a:ext cx="4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00" y="3645000"/>
            <a:ext cx="3600000" cy="2169000"/>
            <a:chOff x="324000" y="3645000"/>
            <a:chExt cx="3600000" cy="2169000"/>
          </a:xfrm>
        </p:grpSpPr>
        <p:grpSp>
          <p:nvGrpSpPr>
            <p:cNvPr id="148" name=""/>
            <p:cNvGrpSpPr/>
            <p:nvPr/>
          </p:nvGrpSpPr>
          <p:grpSpPr>
            <a:xfrm>
              <a:off x="324000" y="3645000"/>
              <a:ext cx="3600000" cy="2169000"/>
              <a:chOff x="324000" y="3645000"/>
              <a:chExt cx="3600000" cy="2169000"/>
            </a:xfrm>
          </p:grpSpPr>
          <p:sp>
            <p:nvSpPr>
              <p:cNvPr id="149" name=""/>
              <p:cNvSpPr/>
              <p:nvPr/>
            </p:nvSpPr>
            <p:spPr>
              <a:xfrm>
                <a:off x="611280" y="3961080"/>
                <a:ext cx="3312720" cy="12657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67640" y="3961080"/>
                <a:ext cx="0" cy="12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14720" y="3645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24000" y="51642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48240" y="5354280"/>
                <a:ext cx="27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148120" y="519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79280" y="476280"/>
            <a:ext cx="878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△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个刚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=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中点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支架，求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△ ABD≌ △ A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2132640"/>
            <a:ext cx="8820000" cy="727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已知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AB=DC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C=DB.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求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=∠D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500720" y="3357720"/>
            <a:ext cx="4247640" cy="2227320"/>
            <a:chOff x="4500720" y="3357720"/>
            <a:chExt cx="4247640" cy="2227320"/>
          </a:xfrm>
        </p:grpSpPr>
        <p:grpSp>
          <p:nvGrpSpPr>
            <p:cNvPr id="158" name=""/>
            <p:cNvGrpSpPr/>
            <p:nvPr/>
          </p:nvGrpSpPr>
          <p:grpSpPr>
            <a:xfrm>
              <a:off x="5031360" y="3722760"/>
              <a:ext cx="3074760" cy="1586160"/>
              <a:chOff x="5031360" y="3722760"/>
              <a:chExt cx="3074760" cy="1586160"/>
            </a:xfrm>
          </p:grpSpPr>
          <p:sp>
            <p:nvSpPr>
              <p:cNvPr id="159" name=""/>
              <p:cNvSpPr/>
              <p:nvPr/>
            </p:nvSpPr>
            <p:spPr>
              <a:xfrm flipH="1">
                <a:off x="5041800" y="3729960"/>
                <a:ext cx="766080" cy="157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5031360" y="5294160"/>
                <a:ext cx="3053520" cy="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08240" y="3729960"/>
                <a:ext cx="2297880" cy="157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5031360" y="3722760"/>
                <a:ext cx="2298240" cy="157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7329240" y="3722760"/>
                <a:ext cx="765720" cy="157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208840" y="3357720"/>
              <a:ext cx="6202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00720" y="5186160"/>
              <a:ext cx="6184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40600" y="5065200"/>
              <a:ext cx="7077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32120" y="3478320"/>
              <a:ext cx="7081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470600" y="5589720"/>
            <a:ext cx="13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07680" y="5661000"/>
            <a:ext cx="13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171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cc99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173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50000">
                    <a:srgbClr val="cc3300"/>
                  </a:gs>
                  <a:gs pos="100000">
                    <a:srgbClr val="3333cc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cc66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9900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练习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1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109548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一些长度适当的木条，用钉子把它们分别钉成三角形和四边形，并拉动它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ShockwaveFlash1"/>
          <p:cNvGraphicFramePr/>
          <p:nvPr/>
        </p:nvGraphicFramePr>
        <p:xfrm>
          <a:off x="1403280" y="3933720"/>
          <a:ext cx="6769080" cy="244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3933720"/>
                    <a:ext cx="6769080" cy="244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04920" y="17510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角形的大小和形状是固定不变的，而四边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形状会改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-1676520" y="2513160"/>
            <a:ext cx="95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要三角形三边的长度确定了，这个三角形的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状和大小就确定，三角形的这个性质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2971800"/>
            <a:ext cx="27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三角形的稳定性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188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cc99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190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50000">
                    <a:srgbClr val="cc3300"/>
                  </a:gs>
                  <a:gs pos="100000">
                    <a:srgbClr val="3333cc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cc66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9900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做一做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385280" y="26028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角形的稳定性在生活中的应用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0" y="2362320"/>
            <a:ext cx="4572000" cy="4091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572000" y="2349360"/>
            <a:ext cx="457200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41960" y="685800"/>
            <a:ext cx="599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已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如图）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直尺和圆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A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平分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并说出该作法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确的理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906560" y="2362320"/>
            <a:ext cx="5789520" cy="3857760"/>
            <a:chOff x="1906560" y="2362320"/>
            <a:chExt cx="5789520" cy="3857760"/>
          </a:xfrm>
        </p:grpSpPr>
        <p:sp>
          <p:nvSpPr>
            <p:cNvPr id="204" name=""/>
            <p:cNvSpPr/>
            <p:nvPr/>
          </p:nvSpPr>
          <p:spPr>
            <a:xfrm flipH="1">
              <a:off x="2361960" y="2666880"/>
              <a:ext cx="289548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62320" y="563868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06560" y="5257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3440" y="23623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400" y="5638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3:33:24Z</dcterms:created>
  <dc:creator/>
  <dc:description/>
  <dc:language>en-US</dc:language>
  <cp:lastModifiedBy/>
  <dcterms:modified xsi:type="dcterms:W3CDTF">2013-09-16T00:22:01Z</dcterms:modified>
  <cp:revision>80</cp:revision>
  <dc:subject/>
  <dc:title/>
</cp:coreProperties>
</file>