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himes.wav" ContentType="audio/x-wav"/>
  <Override PartName="/ppt/media/TYPE.WAV" ContentType="audio/x-wav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BC8-1D5B-45DF-A804-1A412A6C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F68-ACA6-44C9-9A05-CC7199C6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4C90-5B8E-4A40-8DBE-A31157B0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EE91-019F-4CCF-B79D-B9DF934E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442-D34C-4D95-9AA6-0078951B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3F06-9A37-4141-970C-0C53891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5CE-0C40-434C-8724-13DE3D4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D5B-BD34-41B4-87DA-80C1B6B2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1A8-781E-42A2-A521-2431ADF2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AD6-91AA-4230-8531-D4D6466F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10F-AE7C-45A1-85B5-214F80A0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8CA-A408-42B2-80A7-D8E6D4F8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AC60-8A81-477C-988A-5A054370E6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00000" y="177336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用函数的观点看一元二次方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574560" y="580536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河北黄骅新世纪中学初三数学组王秀乡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010·11·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89000"/>
            <a:ext cx="733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55" name=""/>
          <p:cNvSpPr/>
          <p:nvPr/>
        </p:nvSpPr>
        <p:spPr>
          <a:xfrm>
            <a:off x="51120" y="2021040"/>
            <a:ext cx="530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法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 (1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作出图象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写出交点的坐标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1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、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出方程的解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 =-1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 =2.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836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二次函数的图象求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-3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数根（精确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369280" y="316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13280" y="1720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38280" y="3754440"/>
                <a:ext cx="763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276720" y="4149720"/>
                <a:ext cx="269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403280" y="3933720"/>
                <a:ext cx="3049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720800" y="501336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用你学过的一元二次方程的解法来解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准确答案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700360" y="2614680"/>
                <a:ext cx="12240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 txBox="1"/>
          <p:nvPr/>
        </p:nvSpPr>
        <p:spPr>
          <a:xfrm>
            <a:off x="3419640" y="189000"/>
            <a:ext cx="17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试一试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5280" y="1052640"/>
                <a:ext cx="8209080" cy="49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抛物线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与x</m:t>
                        </m:r>
                        <m:r>
                          <m:rPr>
                            <m:lit/>
                            <m:nor/>
                          </m:rPr>
                          <m:t xml:space="preserve">轴的交点个数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　　　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个　　　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个　　　Ｃ．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个　　　Ｄ．</m:t>
                        </m:r>
                        <m:r>
                          <m:t xml:space="preserve">3</m:t>
                        </m:r>
                        <m:r>
                          <m:t xml:space="preserve">个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抛物线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经过原点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则其顶点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顶点坐标为</m:t>
                        </m:r>
                        <m:r>
                          <m:rPr>
                            <m:lit/>
                            <m:nor/>
                          </m:rPr>
                          <m:t xml:space="preserve">__________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关于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的一元二次方程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没有实数根</m:t>
                        </m:r>
                        <m:r>
                          <m:t xml:space="preserve">,</m:t>
                        </m:r>
                        <m:r>
                          <m:t xml:space="preserve">则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抛物线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的顶点在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　　　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一象限　　　　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二象限</m:t>
                        </m:r>
                      </m:e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三象限　　　　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第四象限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7453080" y="112536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94160" y="429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76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720" y="662040"/>
            <a:ext cx="8194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+bx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如图所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+bx+c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481400">
            <a:off x="6375240" y="2633040"/>
            <a:ext cx="1293480" cy="129996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cubicBezTo>
                  <a:pt x="576" y="108"/>
                  <a:pt x="1152" y="216"/>
                  <a:pt x="1152" y="384"/>
                </a:cubicBezTo>
                <a:cubicBezTo>
                  <a:pt x="1152" y="552"/>
                  <a:pt x="184" y="904"/>
                  <a:pt x="0" y="1008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372360" y="2204640"/>
            <a:ext cx="0" cy="2133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2000" y="3716280"/>
            <a:ext cx="2496960" cy="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958160" y="3716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2160" y="234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380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10880" y="364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220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6160" y="76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6108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4076640"/>
            <a:ext cx="6985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5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抛物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&gt;0,c&lt;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象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交点情况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交点   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一个交点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交点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4508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60320" y="1628640"/>
            <a:ext cx="1757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=0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zh-CN" sz="2400" spc="-1" strike="noStrike" baseline="-25000">
                <a:solidFill>
                  <a:srgbClr val="ff00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ff"/>
                </a:solidFill>
                <a:latin typeface="Arial"/>
              </a:rPr>
              <a:t>=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1890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6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关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一元二次方程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x+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相等的实数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＿＿＿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抛物线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x+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＿＿＿＿个交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628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7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抛物线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– 8x 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顶点在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＿＿＿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49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10526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20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397080" y="2923920"/>
            <a:ext cx="9289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8)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x</a:t>
            </a:r>
            <a:r>
              <a:rPr b="1" lang="zh-CN" sz="37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x-10=0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根是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7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-2 ,x</a:t>
            </a:r>
            <a:r>
              <a:rPr b="1" lang="zh-CN" sz="37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5/3, 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么二次函数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 3 x</a:t>
            </a:r>
            <a:r>
              <a:rPr b="1" lang="zh-CN" sz="37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x-10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坐标是＿＿＿＿</a:t>
            </a: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84720" y="5734080"/>
            <a:ext cx="20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03480" y="4149720"/>
            <a:ext cx="28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-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5/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280" y="692280"/>
            <a:ext cx="8280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根据下列表格的对应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方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=0 (a≠0,a,b,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常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范围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 3&lt; X &lt; 3.23           B   3.23  &lt; X &lt; 3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 3.24 &lt;X&lt; 3.25       D   3.25 &lt;X&lt; 3.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39640" y="1484280"/>
          <a:ext cx="7920000" cy="1440000"/>
        </p:xfrm>
        <a:graphic>
          <a:graphicData uri="http://schemas.openxmlformats.org/drawingml/2006/table">
            <a:tbl>
              <a:tblPr/>
              <a:tblGrid>
                <a:gridCol w="2594160"/>
                <a:gridCol w="1206360"/>
                <a:gridCol w="1373400"/>
                <a:gridCol w="1373040"/>
                <a:gridCol w="13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3.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+bx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-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-0.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.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0.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124000" y="364500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552600" y="2286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800" y="963720"/>
            <a:ext cx="74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抛物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两个交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取值范围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79360" y="2335320"/>
            <a:ext cx="607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如果关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+m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个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数根，此时抛物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2x+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交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414972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抛物线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kx+k-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交点个数为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无法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4360" y="148428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I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1280" y="342900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465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已知二次函数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-x</a:t>
            </a:r>
            <a:r>
              <a:rPr b="1" lang="zh-CN" sz="32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2x+k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公共点有两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取值范围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k=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时，求抛物线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的公共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坐标及顶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坐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观察图象，当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何值时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0,y&gt;0,y&lt;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下方的抛物线上是否存在点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使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楷体_GB2312"/>
                <a:ea typeface="楷体_GB2312"/>
              </a:rPr>
              <a:t>⊿AB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</a:t>
            </a:r>
            <a:r>
              <a:rPr b="1" lang="zh-CN" sz="3200" spc="-1" strike="noStrike" baseline="-30000">
                <a:solidFill>
                  <a:srgbClr val="ff0000"/>
                </a:solidFill>
                <a:latin typeface="楷体_GB2312"/>
                <a:ea typeface="楷体_GB2312"/>
              </a:rPr>
              <a:t>⊿ABC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一半，若存在，求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的坐标，若不存在，请说明理由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404640"/>
            <a:ext cx="2876760" cy="2524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786360" y="20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513640" y="27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9280" y="836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已知二次函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mx-m</a:t>
            </a:r>
            <a:r>
              <a:rPr b="1" lang="zh-CN" sz="36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求证：对于任意实数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该二次函数的图像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总有公共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该二次函数的图像与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两个公共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坐标为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12193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知道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数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方程的根起着关键的作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098720" y="2133720"/>
                <a:ext cx="307944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14280" y="1676520"/>
                <a:ext cx="86011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当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有两个不相等的实数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393840" y="3095640"/>
                <a:ext cx="85215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当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有两个相等的实数根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30320" y="3505320"/>
                <a:ext cx="1719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57200" y="4314960"/>
                <a:ext cx="73836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当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时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方程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没有实数根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80880" y="5124600"/>
                <a:ext cx="792504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我们把代数式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叫做方程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的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根的判别式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用</m:t>
                        </m:r>
                        <m:r>
                          <m:rPr>
                            <m:lit/>
                            <m:nor/>
                          </m:rP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来表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即Δ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3515400" y="476280"/>
            <a:ext cx="29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根的情况与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²-4a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9000"/>
            <a:ext cx="8964720" cy="91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  如图，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m/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速度将小球沿与地面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角的方向击出时，球的飞行路线将是一条抛物线，如果不考虑空气的阻力，球的飞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单位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与飞行时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单位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之间具有关系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=20t-5t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考虑以下问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球的飞行高度能否达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如果能，需要多少飞行时间？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9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球的飞行高度能否达到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0m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如果能，需要多少飞行时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64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球的飞行高度能否达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.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如果能，需要多少飞行时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4437000"/>
            <a:ext cx="57150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4360" y="4581360"/>
            <a:ext cx="8208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58920" y="404640"/>
            <a:ext cx="0" cy="518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258920" y="2924280"/>
          <a:ext cx="664992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924280"/>
                    <a:ext cx="664992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532720" y="4653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40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3357720"/>
            <a:ext cx="0" cy="1223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3357720"/>
            <a:ext cx="0" cy="1223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258920" y="3357720"/>
            <a:ext cx="4968720" cy="727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3141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58920" y="2924280"/>
            <a:ext cx="331308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924280"/>
            <a:ext cx="0" cy="165708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270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16000" y="476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531280" y="465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465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45813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465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27640" y="465300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4072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87280" y="2492280"/>
            <a:ext cx="35290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2205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·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2637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+3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 =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=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球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高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5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26920" y="1413000"/>
                <a:ext cx="1969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124000" y="1413000"/>
                <a:ext cx="260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680580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84920" y="3952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44000" y="17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565360"/>
            <a:ext cx="41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+4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 =  t   =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球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高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140360" y="3573360"/>
                <a:ext cx="2538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435640" y="3645000"/>
                <a:ext cx="2714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19280" y="3860640"/>
                <a:ext cx="270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3348000" y="2421000"/>
            <a:ext cx="4248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 =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  =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球飞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它的高度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m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飞出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s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落回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19640" y="0"/>
            <a:ext cx="432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解方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20.5=20t-5t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t²-4t+4.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²-4*4.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方程无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900000" y="3860640"/>
                <a:ext cx="127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5622840"/>
            <a:ext cx="65880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820000" cy="1628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1844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二次函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-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4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自变量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92428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是求方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=-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4x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解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573360"/>
            <a:ext cx="76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x+3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414972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就是已知二次函数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y=X</a:t>
            </a:r>
            <a:r>
              <a:rPr b="1" lang="zh-CN" sz="32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4x+3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值为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,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求自变量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值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229360"/>
            <a:ext cx="8640720" cy="19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二次方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=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根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抛物线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坐标是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0),(x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304920"/>
            <a:ext cx="5638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二次函数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象与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有公共点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共点横坐标是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公共点的横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的值是多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得出相应的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二次方程的解吗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6x+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y=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5157720"/>
            <a:ext cx="8785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二次函数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y=a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+bx+c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的图象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轴交点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横坐标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与一元二次方程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ax</a:t>
            </a:r>
            <a:r>
              <a:rPr b="1" lang="zh-CN" sz="3600" spc="-1" strike="noStrike" baseline="30000">
                <a:solidFill>
                  <a:srgbClr val="ff00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</a:rPr>
              <a:t>+bx+c=0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</a:rPr>
              <a:t>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有什么关系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081640" y="6397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y=x²-6x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57280" y="8571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=x²+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6560" y="3524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Y=x²-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69280" y="2008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2920" y="6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836640"/>
            <a:ext cx="3600360" cy="43210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0"/>
            <a:ext cx="6227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设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-2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抛物线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x-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有两个公共点，公共点的横坐标分别是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当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取公共的的横坐标的值时，函数的值为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565360"/>
            <a:ext cx="63374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设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6x+9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x</a:t>
            </a:r>
            <a:r>
              <a:rPr b="1" lang="zh-CN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抛物线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6x+9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轴有一个公共点，公共点的横坐标是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当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取公共点的横坐标的值时，函数的值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724280"/>
            <a:ext cx="66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ac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4*1*1=-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=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实数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抛物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x+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没有公共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65080" y="227664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=x²+x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13080" y="15573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Y=x²-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45200" y="1989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y=x²-6x+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34160" y="270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05440" y="692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21200" y="287352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-2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18280" y="2944800"/>
            <a:ext cx="10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29973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451640" y="2924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72360" y="299736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04920" y="228600"/>
          <a:ext cx="8686800" cy="63244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1974600"/>
                <a:gridCol w="236880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判别式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b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-4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二次函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y=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+bx+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≠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一元二次方程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x</a:t>
                      </a:r>
                      <a:r>
                        <a:rPr b="1" lang="zh-CN" sz="2800" spc="-1" strike="noStrike" baseline="30000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+bx+c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（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≠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）的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平面几何--抛物线1"/>
          <p:cNvSpPr/>
          <p:nvPr/>
        </p:nvSpPr>
        <p:spPr>
          <a:xfrm>
            <a:off x="5029200" y="220968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876920" y="1655640"/>
            <a:ext cx="1441440" cy="1772640"/>
            <a:chOff x="4876920" y="1655640"/>
            <a:chExt cx="1441440" cy="1772640"/>
          </a:xfrm>
        </p:grpSpPr>
        <p:sp>
          <p:nvSpPr>
            <p:cNvPr id="124" name=""/>
            <p:cNvSpPr/>
            <p:nvPr/>
          </p:nvSpPr>
          <p:spPr>
            <a:xfrm>
              <a:off x="5931000" y="2722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94400" y="1655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25120" y="2498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76920" y="28191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638680" y="18280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799360" y="1808280"/>
            <a:ext cx="16070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有两个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的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057400"/>
            <a:ext cx="2286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两个不同的解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=x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28600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029200" y="3255840"/>
            <a:ext cx="1441440" cy="1772640"/>
            <a:chOff x="5029200" y="3255840"/>
            <a:chExt cx="1441440" cy="1772640"/>
          </a:xfrm>
        </p:grpSpPr>
        <p:sp>
          <p:nvSpPr>
            <p:cNvPr id="133" name=""/>
            <p:cNvSpPr/>
            <p:nvPr/>
          </p:nvSpPr>
          <p:spPr>
            <a:xfrm>
              <a:off x="6083280" y="4322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46680" y="3255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77400" y="40986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29200" y="441936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790960" y="342828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平面几何--抛物线1"/>
          <p:cNvSpPr/>
          <p:nvPr/>
        </p:nvSpPr>
        <p:spPr>
          <a:xfrm>
            <a:off x="4952880" y="345456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9360" y="3408480"/>
            <a:ext cx="16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有唯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76720" y="3733920"/>
                <a:ext cx="129528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659640" y="3573360"/>
            <a:ext cx="228600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个相等的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67640" y="4149720"/>
                <a:ext cx="77796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15800" y="3787920"/>
            <a:ext cx="179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en-US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105520" y="4952880"/>
            <a:ext cx="1441440" cy="1752120"/>
            <a:chOff x="5105520" y="4952880"/>
            <a:chExt cx="1441440" cy="1752120"/>
          </a:xfrm>
        </p:grpSpPr>
        <p:sp>
          <p:nvSpPr>
            <p:cNvPr id="145" name=""/>
            <p:cNvSpPr/>
            <p:nvPr/>
          </p:nvSpPr>
          <p:spPr>
            <a:xfrm>
              <a:off x="6174000" y="6019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37400" y="4952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4520" y="5790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05520" y="6095880"/>
              <a:ext cx="14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67280" y="5104800"/>
              <a:ext cx="0" cy="16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平面几何--抛物线1"/>
          <p:cNvSpPr/>
          <p:nvPr/>
        </p:nvSpPr>
        <p:spPr>
          <a:xfrm>
            <a:off x="4952880" y="4978440"/>
            <a:ext cx="879480" cy="965160"/>
          </a:xfrm>
          <a:custGeom>
            <a:avLst/>
            <a:gdLst/>
            <a:ahLst/>
            <a:rect l="l" t="t" r="r" b="b"/>
            <a:pathLst>
              <a:path w="1265" h="1998">
                <a:moveTo>
                  <a:pt x="0" y="0"/>
                </a:moveTo>
                <a:cubicBezTo>
                  <a:pt x="5" y="31"/>
                  <a:pt x="10" y="63"/>
                  <a:pt x="15" y="94"/>
                </a:cubicBezTo>
                <a:cubicBezTo>
                  <a:pt x="20" y="124"/>
                  <a:pt x="25" y="155"/>
                  <a:pt x="30" y="185"/>
                </a:cubicBezTo>
                <a:cubicBezTo>
                  <a:pt x="35" y="215"/>
                  <a:pt x="40" y="245"/>
                  <a:pt x="45" y="274"/>
                </a:cubicBezTo>
                <a:cubicBezTo>
                  <a:pt x="50" y="303"/>
                  <a:pt x="55" y="332"/>
                  <a:pt x="60" y="361"/>
                </a:cubicBezTo>
                <a:cubicBezTo>
                  <a:pt x="65" y="390"/>
                  <a:pt x="70" y="418"/>
                  <a:pt x="75" y="446"/>
                </a:cubicBezTo>
                <a:cubicBezTo>
                  <a:pt x="80" y="473"/>
                  <a:pt x="85" y="501"/>
                  <a:pt x="90" y="528"/>
                </a:cubicBezTo>
                <a:cubicBezTo>
                  <a:pt x="95" y="555"/>
                  <a:pt x="100" y="582"/>
                  <a:pt x="105" y="608"/>
                </a:cubicBezTo>
                <a:cubicBezTo>
                  <a:pt x="110" y="635"/>
                  <a:pt x="115" y="661"/>
                  <a:pt x="120" y="686"/>
                </a:cubicBezTo>
                <a:cubicBezTo>
                  <a:pt x="125" y="712"/>
                  <a:pt x="130" y="737"/>
                  <a:pt x="135" y="762"/>
                </a:cubicBezTo>
                <a:cubicBezTo>
                  <a:pt x="140" y="787"/>
                  <a:pt x="145" y="811"/>
                  <a:pt x="150" y="835"/>
                </a:cubicBezTo>
                <a:cubicBezTo>
                  <a:pt x="155" y="859"/>
                  <a:pt x="160" y="883"/>
                  <a:pt x="165" y="907"/>
                </a:cubicBezTo>
                <a:cubicBezTo>
                  <a:pt x="170" y="930"/>
                  <a:pt x="175" y="953"/>
                  <a:pt x="180" y="975"/>
                </a:cubicBezTo>
                <a:cubicBezTo>
                  <a:pt x="185" y="998"/>
                  <a:pt x="190" y="1020"/>
                  <a:pt x="195" y="1042"/>
                </a:cubicBezTo>
                <a:cubicBezTo>
                  <a:pt x="200" y="1064"/>
                  <a:pt x="205" y="1085"/>
                  <a:pt x="210" y="1107"/>
                </a:cubicBezTo>
                <a:cubicBezTo>
                  <a:pt x="215" y="1128"/>
                  <a:pt x="220" y="1148"/>
                  <a:pt x="225" y="1169"/>
                </a:cubicBezTo>
                <a:cubicBezTo>
                  <a:pt x="230" y="1189"/>
                  <a:pt x="235" y="1209"/>
                  <a:pt x="240" y="1229"/>
                </a:cubicBezTo>
                <a:cubicBezTo>
                  <a:pt x="245" y="1248"/>
                  <a:pt x="250" y="1267"/>
                  <a:pt x="255" y="1286"/>
                </a:cubicBezTo>
                <a:cubicBezTo>
                  <a:pt x="260" y="1305"/>
                  <a:pt x="265" y="1324"/>
                  <a:pt x="270" y="1342"/>
                </a:cubicBezTo>
                <a:cubicBezTo>
                  <a:pt x="275" y="1360"/>
                  <a:pt x="280" y="1377"/>
                  <a:pt x="285" y="1395"/>
                </a:cubicBezTo>
                <a:cubicBezTo>
                  <a:pt x="290" y="1412"/>
                  <a:pt x="295" y="1429"/>
                  <a:pt x="300" y="1446"/>
                </a:cubicBezTo>
                <a:cubicBezTo>
                  <a:pt x="305" y="1462"/>
                  <a:pt x="310" y="1479"/>
                  <a:pt x="315" y="1495"/>
                </a:cubicBezTo>
                <a:cubicBezTo>
                  <a:pt x="320" y="1510"/>
                  <a:pt x="325" y="1526"/>
                  <a:pt x="330" y="1541"/>
                </a:cubicBezTo>
                <a:cubicBezTo>
                  <a:pt x="335" y="1556"/>
                  <a:pt x="340" y="1571"/>
                  <a:pt x="345" y="1585"/>
                </a:cubicBezTo>
                <a:cubicBezTo>
                  <a:pt x="350" y="1599"/>
                  <a:pt x="355" y="1613"/>
                  <a:pt x="360" y="1627"/>
                </a:cubicBezTo>
                <a:cubicBezTo>
                  <a:pt x="365" y="1641"/>
                  <a:pt x="370" y="1654"/>
                  <a:pt x="375" y="1667"/>
                </a:cubicBezTo>
                <a:cubicBezTo>
                  <a:pt x="380" y="1679"/>
                  <a:pt x="385" y="1692"/>
                  <a:pt x="390" y="1704"/>
                </a:cubicBezTo>
                <a:cubicBezTo>
                  <a:pt x="395" y="1716"/>
                  <a:pt x="400" y="1728"/>
                  <a:pt x="405" y="1739"/>
                </a:cubicBezTo>
                <a:cubicBezTo>
                  <a:pt x="410" y="1751"/>
                  <a:pt x="415" y="1762"/>
                  <a:pt x="420" y="1772"/>
                </a:cubicBezTo>
                <a:cubicBezTo>
                  <a:pt x="425" y="1783"/>
                  <a:pt x="430" y="1793"/>
                  <a:pt x="435" y="1803"/>
                </a:cubicBezTo>
                <a:cubicBezTo>
                  <a:pt x="440" y="1813"/>
                  <a:pt x="445" y="1822"/>
                  <a:pt x="450" y="1831"/>
                </a:cubicBezTo>
                <a:cubicBezTo>
                  <a:pt x="455" y="1840"/>
                  <a:pt x="460" y="1849"/>
                  <a:pt x="465" y="1858"/>
                </a:cubicBezTo>
                <a:cubicBezTo>
                  <a:pt x="470" y="1866"/>
                  <a:pt x="475" y="1874"/>
                  <a:pt x="480" y="1881"/>
                </a:cubicBezTo>
                <a:cubicBezTo>
                  <a:pt x="485" y="1889"/>
                  <a:pt x="490" y="1896"/>
                  <a:pt x="495" y="1903"/>
                </a:cubicBezTo>
                <a:cubicBezTo>
                  <a:pt x="500" y="1910"/>
                  <a:pt x="505" y="1916"/>
                  <a:pt x="510" y="1923"/>
                </a:cubicBezTo>
                <a:cubicBezTo>
                  <a:pt x="515" y="1929"/>
                  <a:pt x="520" y="1934"/>
                  <a:pt x="525" y="1940"/>
                </a:cubicBezTo>
                <a:cubicBezTo>
                  <a:pt x="530" y="1945"/>
                  <a:pt x="535" y="1950"/>
                  <a:pt x="540" y="1955"/>
                </a:cubicBezTo>
                <a:cubicBezTo>
                  <a:pt x="545" y="1959"/>
                  <a:pt x="550" y="1963"/>
                  <a:pt x="555" y="1967"/>
                </a:cubicBezTo>
                <a:cubicBezTo>
                  <a:pt x="560" y="1971"/>
                  <a:pt x="565" y="1975"/>
                  <a:pt x="570" y="1978"/>
                </a:cubicBezTo>
                <a:cubicBezTo>
                  <a:pt x="575" y="1981"/>
                  <a:pt x="580" y="1983"/>
                  <a:pt x="585" y="1986"/>
                </a:cubicBezTo>
                <a:cubicBezTo>
                  <a:pt x="590" y="1988"/>
                  <a:pt x="595" y="1990"/>
                  <a:pt x="600" y="1992"/>
                </a:cubicBezTo>
                <a:cubicBezTo>
                  <a:pt x="605" y="1993"/>
                  <a:pt x="610" y="1995"/>
                  <a:pt x="615" y="1996"/>
                </a:cubicBezTo>
                <a:cubicBezTo>
                  <a:pt x="620" y="1996"/>
                  <a:pt x="625" y="1997"/>
                  <a:pt x="630" y="1997"/>
                </a:cubicBezTo>
                <a:cubicBezTo>
                  <a:pt x="635" y="1997"/>
                  <a:pt x="640" y="1997"/>
                  <a:pt x="645" y="1996"/>
                </a:cubicBezTo>
                <a:cubicBezTo>
                  <a:pt x="650" y="1995"/>
                  <a:pt x="655" y="1994"/>
                  <a:pt x="660" y="1993"/>
                </a:cubicBezTo>
                <a:cubicBezTo>
                  <a:pt x="665" y="1992"/>
                  <a:pt x="670" y="1990"/>
                  <a:pt x="675" y="1988"/>
                </a:cubicBezTo>
                <a:cubicBezTo>
                  <a:pt x="680" y="1985"/>
                  <a:pt x="685" y="1983"/>
                  <a:pt x="690" y="1980"/>
                </a:cubicBezTo>
                <a:cubicBezTo>
                  <a:pt x="695" y="1977"/>
                  <a:pt x="700" y="1974"/>
                  <a:pt x="705" y="1970"/>
                </a:cubicBezTo>
                <a:cubicBezTo>
                  <a:pt x="710" y="1967"/>
                  <a:pt x="715" y="1963"/>
                  <a:pt x="720" y="1958"/>
                </a:cubicBezTo>
                <a:cubicBezTo>
                  <a:pt x="725" y="1954"/>
                  <a:pt x="730" y="1949"/>
                  <a:pt x="735" y="1944"/>
                </a:cubicBezTo>
                <a:cubicBezTo>
                  <a:pt x="740" y="1939"/>
                  <a:pt x="745" y="1933"/>
                  <a:pt x="750" y="1927"/>
                </a:cubicBezTo>
                <a:cubicBezTo>
                  <a:pt x="755" y="1921"/>
                  <a:pt x="760" y="1915"/>
                  <a:pt x="765" y="1909"/>
                </a:cubicBezTo>
                <a:cubicBezTo>
                  <a:pt x="770" y="1902"/>
                  <a:pt x="775" y="1895"/>
                  <a:pt x="780" y="1887"/>
                </a:cubicBezTo>
                <a:cubicBezTo>
                  <a:pt x="785" y="1880"/>
                  <a:pt x="790" y="1872"/>
                  <a:pt x="795" y="1864"/>
                </a:cubicBezTo>
                <a:cubicBezTo>
                  <a:pt x="800" y="1856"/>
                  <a:pt x="805" y="1847"/>
                  <a:pt x="810" y="1839"/>
                </a:cubicBezTo>
                <a:cubicBezTo>
                  <a:pt x="815" y="1830"/>
                  <a:pt x="820" y="1820"/>
                  <a:pt x="825" y="1811"/>
                </a:cubicBezTo>
                <a:cubicBezTo>
                  <a:pt x="830" y="1801"/>
                  <a:pt x="835" y="1791"/>
                  <a:pt x="840" y="1781"/>
                </a:cubicBezTo>
                <a:cubicBezTo>
                  <a:pt x="845" y="1770"/>
                  <a:pt x="850" y="1759"/>
                  <a:pt x="855" y="1748"/>
                </a:cubicBezTo>
                <a:cubicBezTo>
                  <a:pt x="860" y="1737"/>
                  <a:pt x="865" y="1726"/>
                  <a:pt x="870" y="1714"/>
                </a:cubicBezTo>
                <a:cubicBezTo>
                  <a:pt x="875" y="1702"/>
                  <a:pt x="880" y="1689"/>
                  <a:pt x="885" y="1677"/>
                </a:cubicBezTo>
                <a:cubicBezTo>
                  <a:pt x="890" y="1664"/>
                  <a:pt x="895" y="1651"/>
                  <a:pt x="900" y="1638"/>
                </a:cubicBezTo>
                <a:cubicBezTo>
                  <a:pt x="905" y="1624"/>
                  <a:pt x="910" y="1611"/>
                  <a:pt x="915" y="1597"/>
                </a:cubicBezTo>
                <a:cubicBezTo>
                  <a:pt x="920" y="1582"/>
                  <a:pt x="925" y="1568"/>
                  <a:pt x="930" y="1553"/>
                </a:cubicBezTo>
                <a:cubicBezTo>
                  <a:pt x="935" y="1538"/>
                  <a:pt x="940" y="1523"/>
                  <a:pt x="945" y="1507"/>
                </a:cubicBezTo>
                <a:cubicBezTo>
                  <a:pt x="950" y="1491"/>
                  <a:pt x="955" y="1475"/>
                  <a:pt x="960" y="1459"/>
                </a:cubicBezTo>
                <a:cubicBezTo>
                  <a:pt x="965" y="1443"/>
                  <a:pt x="970" y="1426"/>
                  <a:pt x="975" y="1409"/>
                </a:cubicBezTo>
                <a:cubicBezTo>
                  <a:pt x="980" y="1391"/>
                  <a:pt x="985" y="1374"/>
                  <a:pt x="990" y="1356"/>
                </a:cubicBezTo>
                <a:cubicBezTo>
                  <a:pt x="995" y="1338"/>
                  <a:pt x="1000" y="1320"/>
                  <a:pt x="1005" y="1301"/>
                </a:cubicBezTo>
                <a:cubicBezTo>
                  <a:pt x="1010" y="1283"/>
                  <a:pt x="1015" y="1264"/>
                  <a:pt x="1020" y="1244"/>
                </a:cubicBezTo>
                <a:cubicBezTo>
                  <a:pt x="1025" y="1225"/>
                  <a:pt x="1030" y="1205"/>
                  <a:pt x="1035" y="1185"/>
                </a:cubicBezTo>
                <a:cubicBezTo>
                  <a:pt x="1040" y="1165"/>
                  <a:pt x="1045" y="1144"/>
                  <a:pt x="1050" y="1123"/>
                </a:cubicBezTo>
                <a:cubicBezTo>
                  <a:pt x="1055" y="1102"/>
                  <a:pt x="1060" y="1081"/>
                  <a:pt x="1065" y="1060"/>
                </a:cubicBezTo>
                <a:cubicBezTo>
                  <a:pt x="1070" y="1038"/>
                  <a:pt x="1075" y="1016"/>
                  <a:pt x="1080" y="993"/>
                </a:cubicBezTo>
                <a:cubicBezTo>
                  <a:pt x="1085" y="971"/>
                  <a:pt x="1090" y="948"/>
                  <a:pt x="1095" y="925"/>
                </a:cubicBezTo>
                <a:cubicBezTo>
                  <a:pt x="1100" y="902"/>
                  <a:pt x="1105" y="878"/>
                  <a:pt x="1110" y="855"/>
                </a:cubicBezTo>
                <a:cubicBezTo>
                  <a:pt x="1115" y="831"/>
                  <a:pt x="1120" y="806"/>
                  <a:pt x="1125" y="782"/>
                </a:cubicBezTo>
                <a:cubicBezTo>
                  <a:pt x="1130" y="757"/>
                  <a:pt x="1135" y="732"/>
                  <a:pt x="1140" y="707"/>
                </a:cubicBezTo>
                <a:cubicBezTo>
                  <a:pt x="1145" y="681"/>
                  <a:pt x="1150" y="655"/>
                  <a:pt x="1155" y="629"/>
                </a:cubicBezTo>
                <a:cubicBezTo>
                  <a:pt x="1160" y="603"/>
                  <a:pt x="1165" y="577"/>
                  <a:pt x="1170" y="550"/>
                </a:cubicBezTo>
                <a:cubicBezTo>
                  <a:pt x="1175" y="523"/>
                  <a:pt x="1180" y="495"/>
                  <a:pt x="1185" y="468"/>
                </a:cubicBezTo>
                <a:cubicBezTo>
                  <a:pt x="1190" y="440"/>
                  <a:pt x="1195" y="412"/>
                  <a:pt x="1200" y="384"/>
                </a:cubicBezTo>
                <a:cubicBezTo>
                  <a:pt x="1205" y="355"/>
                  <a:pt x="1210" y="327"/>
                  <a:pt x="1215" y="298"/>
                </a:cubicBezTo>
                <a:cubicBezTo>
                  <a:pt x="1220" y="268"/>
                  <a:pt x="1225" y="239"/>
                  <a:pt x="1230" y="209"/>
                </a:cubicBezTo>
                <a:cubicBezTo>
                  <a:pt x="1235" y="179"/>
                  <a:pt x="1240" y="149"/>
                  <a:pt x="1245" y="118"/>
                </a:cubicBezTo>
                <a:cubicBezTo>
                  <a:pt x="1250" y="87"/>
                  <a:pt x="1255" y="56"/>
                  <a:pt x="1260" y="25"/>
                </a:cubicBezTo>
                <a:cubicBezTo>
                  <a:pt x="1264" y="0"/>
                  <a:pt x="1264" y="0"/>
                  <a:pt x="1264" y="0"/>
                </a:cubicBezTo>
              </a:path>
            </a:pathLst>
          </a:custGeom>
          <a:noFill/>
          <a:ln w="284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51840" y="5008680"/>
            <a:ext cx="124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没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5486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实数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410080"/>
            <a:ext cx="20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4ac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01:44:12Z</dcterms:created>
  <dc:creator>乐中强</dc:creator>
  <dc:description/>
  <dc:language>en-US</dc:language>
  <cp:lastModifiedBy>Sky123.Org</cp:lastModifiedBy>
  <dcterms:modified xsi:type="dcterms:W3CDTF">2010-11-18T12:17:39Z</dcterms:modified>
  <cp:revision>12</cp:revision>
  <dc:subject/>
  <dc:title>26.2用函数的观点看一二次元方程</dc:title>
</cp:coreProperties>
</file>