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27.wmf" ContentType="image/x-wmf"/>
  <Override PartName="/ppt/media/image4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9B7-BCDD-4EEC-B1B4-306FF257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E6B-7A31-4B6B-AEBF-1658BA99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D12-6668-45BA-A7FA-AD8C5DC9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63D-A275-4721-94B3-F8D05B13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254-8BCB-4739-AB32-AFC61F3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C904-C5AA-4243-AE2F-09EEBBA9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B9D-38EC-4470-99E8-9E2CA2D9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8C26-41EC-4A07-8059-BFC4EA3C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784-7444-4888-91D8-5964F67A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2FA-028A-498F-A847-3022DBB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63E6-82E7-425B-B934-2642B48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CA2-26CF-40F4-94C3-0C33B3A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94E9-3194-4C2E-A565-97AC9B2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B958-496B-471C-AB08-A923EAB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FA5F-8B51-49D7-8207-A815637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4351-6243-4CCF-A550-9BE112AF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7942-0F2A-45C2-981C-825FDC78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4F07-15FA-493B-AB92-A49A28B2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3406-2CFF-4FC6-917B-6610F4F9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B701-BEA0-442E-A1D0-1EA2E15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A9E3-F9C1-4C9F-8DD8-CA1D7012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AC3C-4C01-4DDB-A506-FD81966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1F9-5E27-4137-9764-3793756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B4AC-A2F9-4352-B127-318D92D2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53E4-4D33-4D73-8CDF-E4EA908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318E-D643-41AC-B81A-3A99C6E9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DB6A-62A5-4803-B15A-5B586F3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3699-2AFE-4FAC-8595-DC4EA0BE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AC44-6AAF-4DA6-AD87-A5CE3C8F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417F-2F3C-41F2-8238-FE73FBC6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32B-64BB-4A5F-AE51-A2CFDB5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361-9731-4144-8F8A-421664B3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323-5EF0-429E-913C-A17C0E6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324-F37A-438A-B1D1-6FE5EBF9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EB4-A3FE-4AC5-9E1D-E26B109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257-DFBE-418D-A637-D1A0333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199E-21D3-4875-A090-5523F68E24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5B9-D148-4AD7-B414-9E11124738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D26-2C07-4F39-8AD2-DD243EB136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6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1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2040" y="1484280"/>
          <a:ext cx="806940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069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3840" y="17845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在同一直角坐标系中，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可能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427040" y="1125360"/>
            <a:ext cx="4322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抛物线和其他函数图象的共存问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4078080" y="23342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47640" y="3068640"/>
          <a:ext cx="6096240" cy="184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09624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55120" y="50835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2040" y="1236600"/>
          <a:ext cx="8475840" cy="60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36600"/>
                    <a:ext cx="847584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2040" y="1508040"/>
          <a:ext cx="8475840" cy="43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08040"/>
                    <a:ext cx="847584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2040" y="1484280"/>
          <a:ext cx="806940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069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3840" y="186372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宋体"/>
                <a:ea typeface="Courier New"/>
              </a:rPr>
              <a:t>4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先向右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，再向下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两次平移后二次函数的解析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经过两次平移后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交点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930600" y="112536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二次函数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393840" y="443700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抛物线平移后形状、大小和开口方向都没有发生改变，所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值不变；抛物线的平移可以转化为顶点的平移，再利用顶点式可求出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8000" y="1052640"/>
          <a:ext cx="894060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52640"/>
                    <a:ext cx="894060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2040" y="1481040"/>
          <a:ext cx="827244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1040"/>
                    <a:ext cx="82724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1115640" y="1125360"/>
            <a:ext cx="3329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二次函数解析式的求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33440" y="1844640"/>
          <a:ext cx="831528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844640"/>
                    <a:ext cx="83152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93840" y="112536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点的坐标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点的抛物线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93840" y="264960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利用菱形的四条边相等及对边平行结合直角坐标系可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三点的坐标，根据三点的坐标可以通过设一般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来求抛物线的解析式，因为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抛物线的顶点，所以也可以通过设顶点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h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来求抛物线的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573200"/>
            <a:ext cx="864216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般地，形如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常数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，叫做二次函数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号右边必须是整式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变量的最高次数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特殊的二次函数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图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的图象是一条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是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称图形，其对称轴平行于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轴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的形状、大小、开口方向只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关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964960" y="1556280"/>
            <a:ext cx="200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y</a:t>
            </a:r>
            <a:r>
              <a:rPr b="1" lang="zh-CN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ax</a:t>
            </a:r>
            <a:r>
              <a:rPr b="1" lang="en-US" sz="2200" spc="-1" strike="noStrike" baseline="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bx</a:t>
            </a:r>
            <a:r>
              <a:rPr b="1" lang="zh-CN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7301880" y="1565280"/>
            <a:ext cx="64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Arial"/>
              </a:rPr>
              <a:t>a≠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993480" y="407556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504d"/>
                </a:solidFill>
                <a:latin typeface="Arial"/>
              </a:rPr>
              <a:t>抛物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6686280" y="41590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504d"/>
                </a:solidFill>
                <a:latin typeface="Arial"/>
              </a:rPr>
              <a:t>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2040" y="1413000"/>
          <a:ext cx="8418600" cy="534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13000"/>
                    <a:ext cx="84186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2040" y="1582560"/>
          <a:ext cx="841860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82560"/>
                    <a:ext cx="84186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92040" y="1481040"/>
          <a:ext cx="8489880" cy="37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1040"/>
                    <a:ext cx="84898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6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189396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与一元二次方程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于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(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就变成了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(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的交点有三种情况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有两个交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有两个不相等的实数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57320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只有一个交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两个相等的实数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没有交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没有实数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有交点时，其交点横坐标就是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1972440" y="1700280"/>
            <a:ext cx="2006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一　二次函数与一元二次方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393840" y="235908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根据图象解答下列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解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没有实数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5660280" y="3394800"/>
            <a:ext cx="2216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c0504d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3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5643720" y="40676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1&lt;x&lt;3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735480" y="519948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k&gt;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924280" y="1638360"/>
            <a:ext cx="32954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393840" y="1197000"/>
            <a:ext cx="864216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根即抛物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(a≠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交点的横坐标，观察图象可知对称轴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抛物线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一个交点的横坐标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则抛物线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另一个交点的横坐标为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两根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不等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&gt;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解集即抛物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(a≠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位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上方的那一段的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范围，观察图象得不等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&gt;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解集为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&lt;x&lt;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为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没有实数根，所以抛物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(a≠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直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没有交点，所以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&gt;4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，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没有实数根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取值范围是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&gt;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36400" y="1552680"/>
          <a:ext cx="8288640" cy="288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28864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36120" y="1792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83360" y="105156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二次函数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4880" y="1989000"/>
          <a:ext cx="825984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989000"/>
                    <a:ext cx="825984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558240" y="30265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360120" y="30265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558600" y="36075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下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374880" y="36075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下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52560" y="4067280"/>
          <a:ext cx="2467080" cy="123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2560" y="4067280"/>
                    <a:ext cx="24670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38760" y="439488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h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　，　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994680" y="981000"/>
            <a:ext cx="3042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方案决策型应用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393840" y="1581120"/>
            <a:ext cx="8642160" cy="35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某商场试销一种成本为每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服装，规定试销期间销售单价不低于成本单价，且获利不得高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%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经试销发现，销售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销售单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符合一次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一次函数的表达式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该商场获得利润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试写出利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销售单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间的关系式；销售单价定为多少元时，商场可获得最大利润，最大利润是多少元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该商场获得利润不低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试确定销售单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范围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1341360"/>
            <a:ext cx="86421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5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代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中解方程组即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根据利润等于每件利润乘以销售量得到利润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W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销售单价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之间的关系式．综合顶点式和自变量的取值范围可求得最大利润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令利润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W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5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将二次函数转化为一元二次方程，然后求解并作出判断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5120" y="1052640"/>
          <a:ext cx="833112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052640"/>
                    <a:ext cx="833112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5120" y="1328760"/>
          <a:ext cx="8331120" cy="51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328760"/>
                    <a:ext cx="833112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6400" y="1552680"/>
          <a:ext cx="81727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1727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1239120" y="981000"/>
            <a:ext cx="3695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与二次函数有关的面积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393840" y="1581120"/>
            <a:ext cx="864216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梯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∥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⊥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含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何值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最大值？并求出这个最大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6400" y="1552680"/>
          <a:ext cx="805680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0568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341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5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可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根据轴对称的性质得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可求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长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利用梯形的面积公式就可以确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函数关系式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将二次函数化为顶点式，然后确定最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65120" y="1106640"/>
          <a:ext cx="824400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106640"/>
                    <a:ext cx="824400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5120" y="1263600"/>
          <a:ext cx="824400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63600"/>
                    <a:ext cx="8244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4880" y="1628640"/>
          <a:ext cx="8331120" cy="43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28640"/>
                    <a:ext cx="833112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6400" y="1552680"/>
          <a:ext cx="805680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0568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2"/>
          <p:cNvSpPr/>
          <p:nvPr/>
        </p:nvSpPr>
        <p:spPr>
          <a:xfrm>
            <a:off x="807120" y="981000"/>
            <a:ext cx="2414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图象信息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393840" y="158112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一家电脑公司推出一款新型电脑，投放市场以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月的利润情况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该图可以近似看作为抛物线的一部分，请结合图象，解答以下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该抛物线对应的二次函数解析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公司在经营此款电脑过程中，第几月的利润最大？最大利润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照此经营下去，请你结合所学的知识，对公司在此款电脑的经营状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亏损？何时亏损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预测分析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00200" y="1619280"/>
            <a:ext cx="414360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5120" y="1125360"/>
          <a:ext cx="843264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125360"/>
                    <a:ext cx="84326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65120" y="1274760"/>
          <a:ext cx="843264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74760"/>
                    <a:ext cx="84326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7560" y="1193760"/>
          <a:ext cx="8128080" cy="59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193760"/>
                    <a:ext cx="812808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23280" y="20185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6985440" y="15832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504320" y="2628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449040" y="2628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039120" y="40932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001280" y="36727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561560" y="47329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406200" y="47329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12536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地，平移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可得到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833800" cy="2208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486900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抓住顶点坐标的变化，熟记平移规律：左加右减，上加下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2"/>
          <p:cNvSpPr/>
          <p:nvPr/>
        </p:nvSpPr>
        <p:spPr>
          <a:xfrm>
            <a:off x="1796040" y="1700280"/>
            <a:ext cx="5645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确定抛物线的开口方向、对称轴、顶点坐标和最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23590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开口向下，顶点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该抛物线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小值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大值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小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大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4309920" y="289440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93840" y="478296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] B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　由抛物线的开口向下，可得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&lt;0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抛物线有最大值，最大值为－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1733400" y="1125360"/>
            <a:ext cx="5158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根据图象判断系数及含有系数的代数式的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705560" y="2334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3840" y="1784520"/>
            <a:ext cx="8642160" cy="4246560"/>
            <a:chOff x="393840" y="1784520"/>
            <a:chExt cx="8642160" cy="4246560"/>
          </a:xfrm>
        </p:grpSpPr>
        <p:sp>
          <p:nvSpPr>
            <p:cNvPr id="178" name=""/>
            <p:cNvSpPr/>
            <p:nvPr/>
          </p:nvSpPr>
          <p:spPr>
            <a:xfrm>
              <a:off x="393840" y="1784520"/>
              <a:ext cx="864216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宋体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9900"/>
                  </a:solidFill>
                  <a:latin typeface="宋体"/>
                  <a:ea typeface="Courier New"/>
                </a:rPr>
                <a:t>2</a:t>
              </a:r>
              <a:r>
                <a:rPr b="1" lang="zh-CN" sz="2400" spc="-1" strike="noStrike">
                  <a:solidFill>
                    <a:srgbClr val="ff9900"/>
                  </a:solidFill>
                  <a:latin typeface="宋体"/>
                  <a:ea typeface="Times New Roman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知二次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(a≠0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图象如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所示，则下列结论．错误的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&g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&l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&l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④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&l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⑤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5724360" y="2492280"/>
            <a:ext cx="2470320" cy="20224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24360" y="2492280"/>
                      <a:ext cx="2470320" cy="20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628640"/>
          <a:ext cx="8201160" cy="35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20116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</cp:lastModifiedBy>
  <dcterms:modified xsi:type="dcterms:W3CDTF">2012-07-21T02:32:05Z</dcterms:modified>
  <cp:revision>475</cp:revision>
  <dc:subject/>
  <dc:title>幻灯片 1</dc:title>
</cp:coreProperties>
</file>