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6.wmf" ContentType="image/x-wmf"/>
  <Override PartName="/ppt/media/chimes.wav" ContentType="audio/x-wav"/>
  <Override PartName="/ppt/media/type.wav" ContentType="audio/x-wav"/>
  <Override PartName="/ppt/media/image17.png" ContentType="image/png"/>
  <Override PartName="/ppt/media/image10.jpeg" ContentType="image/jpeg"/>
  <Override PartName="/ppt/media/image2.gif" ContentType="image/gif"/>
  <Override PartName="/ppt/media/image13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cashreg.wav" ContentType="audio/x-wav"/>
  <Override PartName="/ppt/media/camera.wav" ContentType="audio/x-wav"/>
  <Override PartName="/ppt/media/image19.png" ContentType="image/png"/>
  <Override PartName="/ppt/media/image18.png" ContentType="image/png"/>
  <Override PartName="/ppt/media/image12.wmf" ContentType="image/x-wmf"/>
  <Override PartName="/ppt/media/image1.gif" ContentType="image/gif"/>
  <Override PartName="/ppt/media/image4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B9B-3F92-46F7-9B69-4758B9E9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907-31F7-4D1F-A2AD-927B72EC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037-5636-4E15-9AB5-6CA4BE78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862-0364-4A7D-ABC8-3CEEDAEB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999-6962-467D-BBEB-1B73751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A7A-8DE6-4895-A3D3-B608BAD3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961-4B90-4B4C-A112-32174815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69D-E87C-4861-8DF5-0C1B74A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729-4F5B-40A5-BC52-79454EC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F7D-2097-4D6B-B77B-104A333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4D7-BFB2-4726-B961-F83EAE0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269-0600-4156-B328-84253C6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803-7837-477B-BA7E-C2245E62A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C:\SKETCH\GSKETCHP.EXE c:\sketch\&#22278;&#21608;&#35282;2.gs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news.tom.com/1006/20041026-146225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5240;&#30165;&#19982;&#22278;&#21608;&#35282;&#30340;&#20851;&#31995;.sw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76212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24.1.4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圆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1641240" cy="127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589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北黄骅新世纪中学初三数学组王老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·10·12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615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2421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也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3213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89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39640" y="4508640"/>
            <a:ext cx="3529080" cy="842760"/>
            <a:chOff x="539640" y="4508640"/>
            <a:chExt cx="3529080" cy="842760"/>
          </a:xfrm>
        </p:grpSpPr>
        <p:sp>
          <p:nvSpPr>
            <p:cNvPr id="292" name=""/>
            <p:cNvSpPr/>
            <p:nvPr/>
          </p:nvSpPr>
          <p:spPr>
            <a:xfrm>
              <a:off x="539640" y="46753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∴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685600" y="4508640"/>
                  <a:ext cx="3114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/>
          <p:nvPr/>
        </p:nvSpPr>
        <p:spPr>
          <a:xfrm>
            <a:off x="324000" y="55166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44500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665400" y="3818160"/>
            <a:ext cx="2371320" cy="557640"/>
            <a:chOff x="6665400" y="3818160"/>
            <a:chExt cx="2371320" cy="557640"/>
          </a:xfrm>
        </p:grpSpPr>
        <p:sp>
          <p:nvSpPr>
            <p:cNvPr id="297" name=""/>
            <p:cNvSpPr/>
            <p:nvPr/>
          </p:nvSpPr>
          <p:spPr>
            <a:xfrm flipV="1">
              <a:off x="6665400" y="4053240"/>
              <a:ext cx="1911240" cy="322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886800">
              <a:off x="8556840" y="3858480"/>
              <a:ext cx="380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5280" y="3789360"/>
            <a:ext cx="5491080" cy="991440"/>
            <a:chOff x="395280" y="3789360"/>
            <a:chExt cx="5491080" cy="991440"/>
          </a:xfrm>
        </p:grpSpPr>
        <p:sp>
          <p:nvSpPr>
            <p:cNvPr id="300" name=""/>
            <p:cNvSpPr/>
            <p:nvPr/>
          </p:nvSpPr>
          <p:spPr>
            <a:xfrm>
              <a:off x="395280" y="3833640"/>
              <a:ext cx="549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∠AOD,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2005560" y="378936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4421520" y="3833640"/>
                  <a:ext cx="24228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6324480" y="2819520"/>
            <a:ext cx="2476440" cy="1831320"/>
            <a:chOff x="6324480" y="2819520"/>
            <a:chExt cx="2476440" cy="1831320"/>
          </a:xfrm>
        </p:grpSpPr>
        <p:sp>
          <p:nvSpPr>
            <p:cNvPr id="304" name=""/>
            <p:cNvSpPr/>
            <p:nvPr/>
          </p:nvSpPr>
          <p:spPr>
            <a:xfrm flipV="1">
              <a:off x="6667200" y="356256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675120" y="325908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6880" y="325944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844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3720" y="320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619760" y="355752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629400" y="569880"/>
            <a:ext cx="1962000" cy="1962360"/>
            <a:chOff x="6629400" y="569880"/>
            <a:chExt cx="1962000" cy="1962360"/>
          </a:xfrm>
        </p:grpSpPr>
        <p:sp>
          <p:nvSpPr>
            <p:cNvPr id="312" name=""/>
            <p:cNvSpPr/>
            <p:nvPr/>
          </p:nvSpPr>
          <p:spPr>
            <a:xfrm>
              <a:off x="6629400" y="56988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94480" y="13114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629400" y="189000"/>
            <a:ext cx="2133360" cy="2440800"/>
            <a:chOff x="6629400" y="189000"/>
            <a:chExt cx="2133360" cy="2440800"/>
          </a:xfrm>
        </p:grpSpPr>
        <p:sp>
          <p:nvSpPr>
            <p:cNvPr id="315" name=""/>
            <p:cNvSpPr/>
            <p:nvPr/>
          </p:nvSpPr>
          <p:spPr>
            <a:xfrm flipV="1">
              <a:off x="6953040" y="93168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954840" y="62820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8720" y="62856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10280" y="18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17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05560" y="56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333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巩固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071720"/>
            <a:ext cx="73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,B,C,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个圆上，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D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对角线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内角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，这些角中哪些是相等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87640" y="2565360"/>
            <a:ext cx="3814560" cy="3771360"/>
            <a:chOff x="2987640" y="2565360"/>
            <a:chExt cx="3814560" cy="3771360"/>
          </a:xfrm>
        </p:grpSpPr>
        <p:sp>
          <p:nvSpPr>
            <p:cNvPr id="324" name=""/>
            <p:cNvSpPr/>
            <p:nvPr/>
          </p:nvSpPr>
          <p:spPr>
            <a:xfrm>
              <a:off x="3490920" y="2924280"/>
              <a:ext cx="3168720" cy="31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138560" y="3068280"/>
              <a:ext cx="16574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2200" y="4076640"/>
              <a:ext cx="24494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62200" y="4076640"/>
              <a:ext cx="504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6920" y="580536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562200" y="3068640"/>
              <a:ext cx="2233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6000" y="3068640"/>
              <a:ext cx="21564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87640" y="3716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6560" y="5877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57322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2920" y="256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1280" y="38606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5280" y="4221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22560" y="5013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11640" y="530064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6560" y="5300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6920" y="4941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62560" y="3573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60720" y="335736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6156360" y="1484280"/>
            <a:ext cx="2743200" cy="2517120"/>
            <a:chOff x="6156360" y="1484280"/>
            <a:chExt cx="2743200" cy="2517120"/>
          </a:xfrm>
        </p:grpSpPr>
        <p:grpSp>
          <p:nvGrpSpPr>
            <p:cNvPr id="344" name=""/>
            <p:cNvGrpSpPr/>
            <p:nvPr/>
          </p:nvGrpSpPr>
          <p:grpSpPr>
            <a:xfrm>
              <a:off x="6156360" y="1484280"/>
              <a:ext cx="2133360" cy="2133720"/>
              <a:chOff x="6156360" y="1484280"/>
              <a:chExt cx="2133360" cy="21337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56360" y="1484280"/>
                <a:ext cx="2133360" cy="213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70400" y="201780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384960" y="2170080"/>
              <a:ext cx="2514600" cy="1831320"/>
              <a:chOff x="6384960" y="2170080"/>
              <a:chExt cx="2514600" cy="183132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665760" y="2579760"/>
                <a:ext cx="571680" cy="8650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3040" y="2550960"/>
                <a:ext cx="528480" cy="9144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94440" y="2170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84960" y="3541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80240" y="35416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79280" y="620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圆心角的度数和它所对的弧的度数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712160"/>
            <a:ext cx="575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把顶点在圆心的周角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时，每一份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圆心角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3840" y="544428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同圆或等圆中，圆心角的度数和它所对的弧的度数相等</a:t>
            </a:r>
            <a:r>
              <a:rPr b="1" lang="zh-CN" sz="3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3068640"/>
            <a:ext cx="55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同圆中相等的圆心角所对的弧相等，所以整个圆也被等分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。我们把每一份这样的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在同圆或等圆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659640" y="1484280"/>
            <a:ext cx="43344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484280"/>
            <a:ext cx="64764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77080" y="110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227640" y="4076640"/>
            <a:ext cx="244980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5305320"/>
            <a:ext cx="24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73960" y="4456080"/>
            <a:ext cx="2098440" cy="870120"/>
          </a:xfrm>
          <a:custGeom>
            <a:avLst/>
            <a:gdLst/>
            <a:ahLst/>
            <a:rect l="l" t="t" r="r" b="b"/>
            <a:pathLst>
              <a:path w="1322" h="548">
                <a:moveTo>
                  <a:pt x="0" y="0"/>
                </a:moveTo>
                <a:lnTo>
                  <a:pt x="1322" y="5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34120" y="4462560"/>
            <a:ext cx="333360" cy="838080"/>
          </a:xfrm>
          <a:custGeom>
            <a:avLst/>
            <a:gdLst/>
            <a:ahLst/>
            <a:rect l="l" t="t" r="r" b="b"/>
            <a:pathLst>
              <a:path w="210" h="528">
                <a:moveTo>
                  <a:pt x="210" y="0"/>
                </a:moveTo>
                <a:lnTo>
                  <a:pt x="0" y="5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02200" y="51498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75640" y="515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456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72360" y="5300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43480" y="4078440"/>
            <a:ext cx="1063800" cy="1234800"/>
          </a:xfrm>
          <a:custGeom>
            <a:avLst/>
            <a:gdLst/>
            <a:ahLst/>
            <a:rect l="l" t="t" r="r" b="b"/>
            <a:pathLst>
              <a:path w="670" h="778">
                <a:moveTo>
                  <a:pt x="0" y="778"/>
                </a:moveTo>
                <a:lnTo>
                  <a:pt x="67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7280" y="4076640"/>
            <a:ext cx="136836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4760" y="4583160"/>
            <a:ext cx="2234880" cy="723960"/>
          </a:xfrm>
          <a:custGeom>
            <a:avLst/>
            <a:gdLst/>
            <a:ahLst/>
            <a:rect l="l" t="t" r="r" b="b"/>
            <a:pathLst>
              <a:path w="1408" h="456">
                <a:moveTo>
                  <a:pt x="0" y="456"/>
                </a:moveTo>
                <a:lnTo>
                  <a:pt x="140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47040" y="4595760"/>
            <a:ext cx="222120" cy="704880"/>
          </a:xfrm>
          <a:custGeom>
            <a:avLst/>
            <a:gdLst/>
            <a:ahLst/>
            <a:rect l="l" t="t" r="r" b="b"/>
            <a:pathLst>
              <a:path w="140" h="444">
                <a:moveTo>
                  <a:pt x="0" y="0"/>
                </a:moveTo>
                <a:lnTo>
                  <a:pt x="140" y="4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62840" y="371808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31200" y="43354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55640" y="907920"/>
            <a:ext cx="7559280" cy="1829160"/>
            <a:chOff x="755640" y="907920"/>
            <a:chExt cx="7559280" cy="1829160"/>
          </a:xfrm>
        </p:grpSpPr>
        <p:sp>
          <p:nvSpPr>
            <p:cNvPr id="377" name=""/>
            <p:cNvSpPr/>
            <p:nvPr/>
          </p:nvSpPr>
          <p:spPr>
            <a:xfrm>
              <a:off x="755640" y="1278000"/>
              <a:ext cx="755928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 u="sng">
                  <a:solidFill>
                    <a:srgbClr val="cc3300"/>
                  </a:solidFill>
                  <a:uFillTx/>
                  <a:latin typeface="楷体_GB2312"/>
                  <a:ea typeface="楷体_GB2312"/>
                </a:rPr>
                <a:t>在同圆或等圆中，同弧或等弧所对的圆周角相等，都等于这条弧所对的圆心角的一半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19760" y="907920"/>
              <a:ext cx="2432520" cy="360360"/>
            </a:xfrm>
            <a:prstGeom prst="flowChartAlternateProcess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定      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39640" y="3284640"/>
            <a:ext cx="5473440" cy="2331000"/>
            <a:chOff x="539640" y="3284640"/>
            <a:chExt cx="5473440" cy="2331000"/>
          </a:xfrm>
        </p:grpSpPr>
        <p:sp>
          <p:nvSpPr>
            <p:cNvPr id="380" name=""/>
            <p:cNvSpPr/>
            <p:nvPr/>
          </p:nvSpPr>
          <p:spPr>
            <a:xfrm>
              <a:off x="539640" y="3644640"/>
              <a:ext cx="5473440" cy="19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半圆（或直径）所对的圆周角是直角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90°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圆周角所对的弦是直径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　在同圆或等圆中，相等的圆周角所对的弧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81160" y="3284640"/>
              <a:ext cx="2158920" cy="3600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推      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0000"/>
                </a:solidFill>
                <a:latin typeface="Arial"/>
                <a:ea typeface="楷体_GB2312"/>
              </a:rPr>
              <a:t>练习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07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圆心角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B=10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B=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580000" y="981000"/>
            <a:ext cx="3352680" cy="2853720"/>
            <a:chOff x="5580000" y="981000"/>
            <a:chExt cx="3352680" cy="2853720"/>
          </a:xfrm>
        </p:grpSpPr>
        <p:sp>
          <p:nvSpPr>
            <p:cNvPr id="385" name=""/>
            <p:cNvSpPr/>
            <p:nvPr/>
          </p:nvSpPr>
          <p:spPr>
            <a:xfrm>
              <a:off x="5859000" y="981000"/>
              <a:ext cx="2584440" cy="2337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16480" y="2054880"/>
              <a:ext cx="69840" cy="630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138720" y="2054880"/>
              <a:ext cx="1047600" cy="758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6320" y="2054880"/>
              <a:ext cx="1117800" cy="568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38720" y="2813040"/>
              <a:ext cx="558720" cy="442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697080" y="2623680"/>
              <a:ext cx="1676520" cy="6318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16480" y="154944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0000" y="2623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04120" y="2497320"/>
              <a:ext cx="62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48240" y="3192120"/>
              <a:ext cx="48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6320" y="1851120"/>
            <a:ext cx="2818800" cy="1983600"/>
            <a:chOff x="76320" y="1851120"/>
            <a:chExt cx="2818800" cy="1983600"/>
          </a:xfrm>
        </p:grpSpPr>
        <p:sp>
          <p:nvSpPr>
            <p:cNvPr id="396" name=""/>
            <p:cNvSpPr/>
            <p:nvPr/>
          </p:nvSpPr>
          <p:spPr>
            <a:xfrm>
              <a:off x="1599840" y="337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322272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760" y="24606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8240" y="1851120"/>
              <a:ext cx="1752480" cy="1752480"/>
              <a:chOff x="228240" y="1851120"/>
              <a:chExt cx="1752480" cy="1752480"/>
            </a:xfrm>
          </p:grpSpPr>
          <p:sp>
            <p:nvSpPr>
              <p:cNvPr id="400" name=""/>
              <p:cNvSpPr/>
              <p:nvPr/>
            </p:nvSpPr>
            <p:spPr>
              <a:xfrm>
                <a:off x="228240" y="185112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14040" y="207972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>
              <a:off x="609120" y="2765520"/>
              <a:ext cx="456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09480" y="2841480"/>
              <a:ext cx="137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6680" y="2765520"/>
              <a:ext cx="609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28414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676160" y="28414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23880" y="2841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04680" y="2917800"/>
              <a:ext cx="99720" cy="7632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0"/>
                  </a:moveTo>
                  <a:cubicBezTo>
                    <a:pt x="3" y="12"/>
                    <a:pt x="2" y="26"/>
                    <a:pt x="9" y="36"/>
                  </a:cubicBezTo>
                  <a:cubicBezTo>
                    <a:pt x="15" y="45"/>
                    <a:pt x="36" y="54"/>
                    <a:pt x="36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0" y="1052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圆中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11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14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360" y="1052640"/>
            <a:ext cx="2438280" cy="2593080"/>
            <a:chOff x="2916360" y="1052640"/>
            <a:chExt cx="2438280" cy="2593080"/>
          </a:xfrm>
        </p:grpSpPr>
        <p:sp>
          <p:nvSpPr>
            <p:cNvPr id="425" name=""/>
            <p:cNvSpPr/>
            <p:nvPr/>
          </p:nvSpPr>
          <p:spPr>
            <a:xfrm>
              <a:off x="2916360" y="3186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2160" y="2424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068640" y="1814400"/>
              <a:ext cx="1752480" cy="1752480"/>
              <a:chOff x="3068640" y="1814400"/>
              <a:chExt cx="1752480" cy="1752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068640" y="1814400"/>
                <a:ext cx="1752480" cy="175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54440" y="20430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H="1">
              <a:off x="3296880" y="272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06720" y="272880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297240" y="1052640"/>
              <a:ext cx="1066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3040" y="181440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0760" y="2805120"/>
              <a:ext cx="2286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0" y="9"/>
                  </a:moveTo>
                  <a:cubicBezTo>
                    <a:pt x="9" y="12"/>
                    <a:pt x="19" y="14"/>
                    <a:pt x="27" y="18"/>
                  </a:cubicBezTo>
                  <a:cubicBezTo>
                    <a:pt x="37" y="23"/>
                    <a:pt x="44" y="32"/>
                    <a:pt x="54" y="36"/>
                  </a:cubicBezTo>
                  <a:cubicBezTo>
                    <a:pt x="71" y="44"/>
                    <a:pt x="108" y="54"/>
                    <a:pt x="108" y="54"/>
                  </a:cubicBezTo>
                  <a:cubicBezTo>
                    <a:pt x="129" y="48"/>
                    <a:pt x="150" y="42"/>
                    <a:pt x="171" y="36"/>
                  </a:cubicBezTo>
                  <a:cubicBezTo>
                    <a:pt x="183" y="33"/>
                    <a:pt x="198" y="36"/>
                    <a:pt x="207" y="27"/>
                  </a:cubicBezTo>
                  <a:cubicBezTo>
                    <a:pt x="213" y="21"/>
                    <a:pt x="207" y="9"/>
                    <a:pt x="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4440" y="2805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5320" y="1585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40280" y="1662120"/>
              <a:ext cx="79200" cy="243000"/>
            </a:xfrm>
            <a:custGeom>
              <a:avLst/>
              <a:gdLst/>
              <a:ahLst/>
              <a:rect l="l" t="t" r="r" b="b"/>
              <a:pathLst>
                <a:path w="50" h="153">
                  <a:moveTo>
                    <a:pt x="18" y="0"/>
                  </a:moveTo>
                  <a:cubicBezTo>
                    <a:pt x="24" y="19"/>
                    <a:pt x="43" y="34"/>
                    <a:pt x="45" y="54"/>
                  </a:cubicBezTo>
                  <a:cubicBezTo>
                    <a:pt x="50" y="98"/>
                    <a:pt x="28" y="125"/>
                    <a:pt x="0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835280" y="24922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2360" y="1413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11640" y="620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3280" y="2852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1066680"/>
            <a:ext cx="7993080" cy="16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692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圆周角相等，它们所对弧一定相等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3657600"/>
            <a:ext cx="4494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同圆或等圆中，如果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等，它们所对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定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403280" y="3789000"/>
            <a:ext cx="1081080" cy="792360"/>
            <a:chOff x="1403280" y="3789000"/>
            <a:chExt cx="1081080" cy="792360"/>
          </a:xfrm>
        </p:grpSpPr>
        <p:sp>
          <p:nvSpPr>
            <p:cNvPr id="446" name=""/>
            <p:cNvSpPr/>
            <p:nvPr/>
          </p:nvSpPr>
          <p:spPr>
            <a:xfrm flipV="1">
              <a:off x="1403280" y="3789000"/>
              <a:ext cx="1081080" cy="14436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763640" y="3789360"/>
              <a:ext cx="720720" cy="792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484360" y="3789360"/>
            <a:ext cx="935280" cy="1008000"/>
            <a:chOff x="2484360" y="3789360"/>
            <a:chExt cx="935280" cy="1008000"/>
          </a:xfrm>
        </p:grpSpPr>
        <p:sp>
          <p:nvSpPr>
            <p:cNvPr id="449" name=""/>
            <p:cNvSpPr/>
            <p:nvPr/>
          </p:nvSpPr>
          <p:spPr>
            <a:xfrm>
              <a:off x="2484360" y="3789360"/>
              <a:ext cx="287280" cy="100800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84360" y="3789360"/>
              <a:ext cx="935280" cy="50472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907920" y="2146320"/>
            <a:ext cx="3016440" cy="3443400"/>
            <a:chOff x="907920" y="2146320"/>
            <a:chExt cx="3016440" cy="34434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07920" y="2146320"/>
              <a:ext cx="3016440" cy="33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>
              <a:hlinkClick r:id="rId2"/>
            </p:cNvPr>
            <p:cNvSpPr/>
            <p:nvPr/>
          </p:nvSpPr>
          <p:spPr>
            <a:xfrm>
              <a:off x="2033640" y="5071680"/>
              <a:ext cx="991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456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457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0" y="3048120"/>
            <a:ext cx="2676600" cy="1244520"/>
            <a:chOff x="0" y="3048120"/>
            <a:chExt cx="2676600" cy="1244520"/>
          </a:xfrm>
        </p:grpSpPr>
        <p:sp>
          <p:nvSpPr>
            <p:cNvPr id="474" name=""/>
            <p:cNvSpPr/>
            <p:nvPr/>
          </p:nvSpPr>
          <p:spPr>
            <a:xfrm flipH="1">
              <a:off x="390600" y="304812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0360" y="369756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340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3520" y="2997360"/>
            <a:ext cx="2419200" cy="2419200"/>
            <a:chOff x="263520" y="2997360"/>
            <a:chExt cx="2419200" cy="2419200"/>
          </a:xfrm>
        </p:grpSpPr>
        <p:sp>
          <p:nvSpPr>
            <p:cNvPr id="478" name=""/>
            <p:cNvSpPr/>
            <p:nvPr/>
          </p:nvSpPr>
          <p:spPr>
            <a:xfrm>
              <a:off x="263520" y="299736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30200" y="3911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0" y="3068280"/>
            <a:ext cx="2668320" cy="1780920"/>
            <a:chOff x="0" y="3068280"/>
            <a:chExt cx="2668320" cy="1780920"/>
          </a:xfrm>
        </p:grpSpPr>
        <p:sp>
          <p:nvSpPr>
            <p:cNvPr id="481" name=""/>
            <p:cNvSpPr/>
            <p:nvPr/>
          </p:nvSpPr>
          <p:spPr>
            <a:xfrm flipV="1">
              <a:off x="314280" y="306828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14280" y="431964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4389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4360" y="3068640"/>
            <a:ext cx="2046240" cy="2542320"/>
            <a:chOff x="684360" y="3068640"/>
            <a:chExt cx="2046240" cy="2542320"/>
          </a:xfrm>
        </p:grpSpPr>
        <p:sp>
          <p:nvSpPr>
            <p:cNvPr id="485" name=""/>
            <p:cNvSpPr/>
            <p:nvPr/>
          </p:nvSpPr>
          <p:spPr>
            <a:xfrm flipH="1">
              <a:off x="988920" y="306864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001880" y="428760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360" y="5151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900000" y="2637000"/>
            <a:ext cx="2392560" cy="1971000"/>
            <a:chOff x="900000" y="2637000"/>
            <a:chExt cx="2392560" cy="1971000"/>
          </a:xfrm>
        </p:grpSpPr>
        <p:sp>
          <p:nvSpPr>
            <p:cNvPr id="489" name=""/>
            <p:cNvSpPr/>
            <p:nvPr/>
          </p:nvSpPr>
          <p:spPr>
            <a:xfrm>
              <a:off x="2835360" y="414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63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033200" y="3048120"/>
            <a:ext cx="1649520" cy="1296720"/>
            <a:chOff x="1033200" y="3048120"/>
            <a:chExt cx="1649520" cy="1296720"/>
          </a:xfrm>
        </p:grpSpPr>
        <p:sp>
          <p:nvSpPr>
            <p:cNvPr id="492" name=""/>
            <p:cNvSpPr/>
            <p:nvPr/>
          </p:nvSpPr>
          <p:spPr>
            <a:xfrm flipH="1">
              <a:off x="1032840" y="30481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612880" y="427500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612960" y="473400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规律：都相等，都等于圆心角∠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C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419640" y="3141720"/>
            <a:ext cx="5401800" cy="1234440"/>
            <a:chOff x="3419640" y="3141720"/>
            <a:chExt cx="5401800" cy="1234440"/>
          </a:xfrm>
        </p:grpSpPr>
        <p:sp>
          <p:nvSpPr>
            <p:cNvPr id="496" name=""/>
            <p:cNvSpPr/>
            <p:nvPr/>
          </p:nvSpPr>
          <p:spPr>
            <a:xfrm>
              <a:off x="3419640" y="3429000"/>
              <a:ext cx="540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所对的圆周角∠ 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AEC  ∠ ABC    ∠ ADC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的大小有什么关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02440" y="3141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24000" y="530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结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弧或等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对的圆周角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4360" y="234936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00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564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00000" y="270828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234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349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4000" y="350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00360" y="35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同圆或等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10382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等的圆周角所对的弧相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2436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5280" y="4005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564000" y="1844640"/>
            <a:ext cx="3600360" cy="809640"/>
            <a:chOff x="3564000" y="1844640"/>
            <a:chExt cx="3600360" cy="809640"/>
          </a:xfrm>
        </p:grpSpPr>
        <p:sp>
          <p:nvSpPr>
            <p:cNvPr id="512" name=""/>
            <p:cNvSpPr/>
            <p:nvPr/>
          </p:nvSpPr>
          <p:spPr>
            <a:xfrm>
              <a:off x="3564000" y="2133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C = B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18446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7280" y="1844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112536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如图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直径，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度数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26160" y="2708280"/>
            <a:ext cx="2689200" cy="2305080"/>
            <a:chOff x="326160" y="2708280"/>
            <a:chExt cx="2689200" cy="2305080"/>
          </a:xfrm>
        </p:grpSpPr>
        <p:sp>
          <p:nvSpPr>
            <p:cNvPr id="517" name=""/>
            <p:cNvSpPr/>
            <p:nvPr/>
          </p:nvSpPr>
          <p:spPr>
            <a:xfrm>
              <a:off x="684000" y="3068640"/>
              <a:ext cx="1944360" cy="19447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4000" y="407664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000" y="3402000"/>
              <a:ext cx="1941120" cy="674640"/>
            </a:xfrm>
            <a:custGeom>
              <a:avLst/>
              <a:gdLst/>
              <a:ahLst/>
              <a:rect l="l" t="t" r="r" b="b"/>
              <a:pathLst>
                <a:path w="1223" h="425">
                  <a:moveTo>
                    <a:pt x="0" y="425"/>
                  </a:moveTo>
                  <a:lnTo>
                    <a:pt x="145" y="0"/>
                  </a:lnTo>
                  <a:lnTo>
                    <a:pt x="1223" y="42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4000" y="3125880"/>
              <a:ext cx="1941120" cy="950760"/>
            </a:xfrm>
            <a:custGeom>
              <a:avLst/>
              <a:gdLst/>
              <a:ahLst/>
              <a:rect l="l" t="t" r="r" b="b"/>
              <a:pathLst>
                <a:path w="1223" h="599">
                  <a:moveTo>
                    <a:pt x="0" y="599"/>
                  </a:moveTo>
                  <a:lnTo>
                    <a:pt x="391" y="0"/>
                  </a:lnTo>
                  <a:lnTo>
                    <a:pt x="1223" y="594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4000" y="3241800"/>
              <a:ext cx="1956960" cy="834840"/>
            </a:xfrm>
            <a:custGeom>
              <a:avLst/>
              <a:gdLst/>
              <a:ahLst/>
              <a:rect l="l" t="t" r="r" b="b"/>
              <a:pathLst>
                <a:path w="1233" h="526">
                  <a:moveTo>
                    <a:pt x="0" y="526"/>
                  </a:moveTo>
                  <a:lnTo>
                    <a:pt x="940" y="0"/>
                  </a:lnTo>
                  <a:lnTo>
                    <a:pt x="1233" y="521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6160" y="38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5040" y="384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4000" y="400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680" y="299556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53360" y="27082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32640" y="28526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6320" y="4041720"/>
              <a:ext cx="7272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132000" y="3860640"/>
            <a:ext cx="561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推论：半圆（或直径）所对的圆周角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角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圆周角所对的弦是</a:t>
            </a:r>
            <a:r>
              <a:rPr b="1" lang="zh-CN" sz="3200" spc="-1" strike="noStrike">
                <a:solidFill>
                  <a:srgbClr val="fb092c"/>
                </a:solidFill>
                <a:latin typeface="Arial"/>
              </a:rPr>
              <a:t>直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9280" y="234936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： 若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直角，那么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1628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5128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092c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8000" y="33336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92c"/>
                </a:solidFill>
                <a:latin typeface="Arial"/>
                <a:ea typeface="楷体_GB2312"/>
              </a:rPr>
              <a:t>探究与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中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=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5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373800" y="1197000"/>
            <a:ext cx="1949400" cy="1695600"/>
            <a:chOff x="6373800" y="1197000"/>
            <a:chExt cx="1949400" cy="1695600"/>
          </a:xfrm>
        </p:grpSpPr>
        <p:sp>
          <p:nvSpPr>
            <p:cNvPr id="537" name=""/>
            <p:cNvSpPr/>
            <p:nvPr/>
          </p:nvSpPr>
          <p:spPr>
            <a:xfrm>
              <a:off x="6659640" y="136512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59640" y="1509480"/>
              <a:ext cx="1297080" cy="1152720"/>
            </a:xfrm>
            <a:custGeom>
              <a:avLst/>
              <a:gdLst/>
              <a:ahLst/>
              <a:rect l="l" t="t" r="r" b="b"/>
              <a:pathLst>
                <a:path w="817" h="726">
                  <a:moveTo>
                    <a:pt x="772" y="0"/>
                  </a:moveTo>
                  <a:lnTo>
                    <a:pt x="0" y="408"/>
                  </a:lnTo>
                  <a:lnTo>
                    <a:pt x="817" y="726"/>
                  </a:lnTo>
                  <a:lnTo>
                    <a:pt x="454" y="363"/>
                  </a:lnTo>
                  <a:lnTo>
                    <a:pt x="772" y="0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3440" y="1197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8160" y="249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73800" y="198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6400" y="19396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H="1">
            <a:off x="349164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3573360"/>
            <a:ext cx="648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等边三角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动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圆周的劣弧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且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重合，则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P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587640" y="3573360"/>
            <a:ext cx="1960560" cy="2404440"/>
            <a:chOff x="6587640" y="3573360"/>
            <a:chExt cx="1960560" cy="2404440"/>
          </a:xfrm>
        </p:grpSpPr>
        <p:sp>
          <p:nvSpPr>
            <p:cNvPr id="546" name=""/>
            <p:cNvSpPr/>
            <p:nvPr/>
          </p:nvSpPr>
          <p:spPr>
            <a:xfrm>
              <a:off x="6748560" y="4005000"/>
              <a:ext cx="1582560" cy="158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69160" y="4000320"/>
              <a:ext cx="1366920" cy="1182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3954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87280" y="5086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87480" y="50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6200" y="4005000"/>
              <a:ext cx="863640" cy="1584360"/>
            </a:xfrm>
            <a:custGeom>
              <a:avLst/>
              <a:gdLst/>
              <a:ahLst/>
              <a:rect l="l" t="t" r="r" b="b"/>
              <a:pathLst>
                <a:path w="544" h="998">
                  <a:moveTo>
                    <a:pt x="91" y="0"/>
                  </a:moveTo>
                  <a:lnTo>
                    <a:pt x="0" y="998"/>
                  </a:lnTo>
                  <a:lnTo>
                    <a:pt x="544" y="726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51120" y="55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601128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/>
          </p:cNvPr>
          <p:cNvSpPr/>
          <p:nvPr/>
        </p:nvSpPr>
        <p:spPr>
          <a:xfrm>
            <a:off x="3942720" y="911160"/>
            <a:ext cx="429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旧知：请说说我们是如何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下定义的，试回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2920" y="1413000"/>
            <a:ext cx="1942920" cy="1956960"/>
            <a:chOff x="1042920" y="1413000"/>
            <a:chExt cx="1942920" cy="1956960"/>
          </a:xfrm>
        </p:grpSpPr>
        <p:grpSp>
          <p:nvGrpSpPr>
            <p:cNvPr id="46" name=""/>
            <p:cNvGrpSpPr/>
            <p:nvPr/>
          </p:nvGrpSpPr>
          <p:grpSpPr>
            <a:xfrm>
              <a:off x="1042920" y="1413000"/>
              <a:ext cx="1942920" cy="1942920"/>
              <a:chOff x="1042920" y="1413000"/>
              <a:chExt cx="1942920" cy="1942920"/>
            </a:xfrm>
          </p:grpSpPr>
          <p:sp>
            <p:nvSpPr>
              <p:cNvPr id="47" name=""/>
              <p:cNvSpPr/>
              <p:nvPr/>
            </p:nvSpPr>
            <p:spPr>
              <a:xfrm>
                <a:off x="1042920" y="1413000"/>
                <a:ext cx="1942920" cy="194292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987560" y="2352960"/>
                <a:ext cx="53280" cy="51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2122200" y="213192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331280" y="2374920"/>
              <a:ext cx="68436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014560" y="2374560"/>
              <a:ext cx="684000" cy="68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114200" y="3141720"/>
              <a:ext cx="144720" cy="15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771640" y="321300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4" name=""/>
            <p:cNvSpPr/>
            <p:nvPr/>
          </p:nvSpPr>
          <p:spPr>
            <a:xfrm rot="8194200">
              <a:off x="1807920" y="2173680"/>
              <a:ext cx="446760" cy="39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92360" y="206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在圆心的角叫圆心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71640" y="4221000"/>
            <a:ext cx="1942920" cy="2246400"/>
            <a:chOff x="971640" y="4221000"/>
            <a:chExt cx="1942920" cy="2246400"/>
          </a:xfrm>
        </p:grpSpPr>
        <p:sp>
          <p:nvSpPr>
            <p:cNvPr id="57" name=""/>
            <p:cNvSpPr/>
            <p:nvPr/>
          </p:nvSpPr>
          <p:spPr>
            <a:xfrm>
              <a:off x="971640" y="4510080"/>
              <a:ext cx="1942920" cy="194328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16280" y="5450040"/>
              <a:ext cx="53640" cy="52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050920" y="5229360"/>
              <a:ext cx="14472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60000" y="5472000"/>
              <a:ext cx="68436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943280" y="5471640"/>
              <a:ext cx="684000" cy="6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042920" y="62388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700360" y="6310440"/>
              <a:ext cx="1443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64" name=""/>
            <p:cNvSpPr/>
            <p:nvPr/>
          </p:nvSpPr>
          <p:spPr>
            <a:xfrm rot="8194200">
              <a:off x="1736280" y="527004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9640" y="4510080"/>
              <a:ext cx="64764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58920" y="4510080"/>
              <a:ext cx="720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8194200">
              <a:off x="1763280" y="4498560"/>
              <a:ext cx="4467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979640" y="4221000"/>
              <a:ext cx="1443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003760" y="3448080"/>
            <a:ext cx="59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仿照圆心角的定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图中象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角下个定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49528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并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和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圆相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4343400"/>
            <a:ext cx="123804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39996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48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如图，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=5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 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OC=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直径，则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E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等于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1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；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93964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000" y="3284640"/>
            <a:ext cx="676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，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顶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在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，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0 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半径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661080" y="1125360"/>
            <a:ext cx="1876320" cy="1854720"/>
            <a:chOff x="6661080" y="1125360"/>
            <a:chExt cx="1876320" cy="1854720"/>
          </a:xfrm>
        </p:grpSpPr>
        <p:sp>
          <p:nvSpPr>
            <p:cNvPr id="559" name=""/>
            <p:cNvSpPr/>
            <p:nvPr/>
          </p:nvSpPr>
          <p:spPr>
            <a:xfrm>
              <a:off x="6802560" y="1452240"/>
              <a:ext cx="151272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6560" y="112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01080" y="2581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61080" y="2579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3280" y="18604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46920" y="1766520"/>
              <a:ext cx="1216080" cy="885960"/>
            </a:xfrm>
            <a:custGeom>
              <a:avLst/>
              <a:gdLst/>
              <a:ahLst/>
              <a:rect l="l" t="t" r="r" b="b"/>
              <a:pathLst>
                <a:path w="766" h="558">
                  <a:moveTo>
                    <a:pt x="0" y="558"/>
                  </a:moveTo>
                  <a:lnTo>
                    <a:pt x="766" y="557"/>
                  </a:lnTo>
                  <a:lnTo>
                    <a:pt x="766" y="0"/>
                  </a:lnTo>
                  <a:lnTo>
                    <a:pt x="0" y="558"/>
                  </a:lnTo>
                  <a:close/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1468080"/>
              <a:ext cx="1236600" cy="12099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779" y="766"/>
                  </a:moveTo>
                  <a:lnTo>
                    <a:pt x="472" y="0"/>
                  </a:lnTo>
                  <a:lnTo>
                    <a:pt x="0" y="784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2360" y="150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61600" y="1582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7560" y="2162160"/>
              <a:ext cx="730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659280" y="3213000"/>
            <a:ext cx="1743480" cy="2272680"/>
            <a:chOff x="6659280" y="3213000"/>
            <a:chExt cx="1743480" cy="2272680"/>
          </a:xfrm>
        </p:grpSpPr>
        <p:sp>
          <p:nvSpPr>
            <p:cNvPr id="570" name=""/>
            <p:cNvSpPr/>
            <p:nvPr/>
          </p:nvSpPr>
          <p:spPr>
            <a:xfrm>
              <a:off x="6820200" y="3554280"/>
              <a:ext cx="1582560" cy="158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91040" y="32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658920" y="463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719480" y="5025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451280" y="398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20000" y="3597120"/>
              <a:ext cx="846360" cy="1512720"/>
            </a:xfrm>
            <a:custGeom>
              <a:avLst/>
              <a:gdLst/>
              <a:ahLst/>
              <a:rect l="l" t="t" r="r" b="b"/>
              <a:pathLst>
                <a:path w="533" h="953">
                  <a:moveTo>
                    <a:pt x="0" y="789"/>
                  </a:moveTo>
                  <a:lnTo>
                    <a:pt x="533" y="0"/>
                  </a:lnTo>
                  <a:lnTo>
                    <a:pt x="505" y="95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20000" y="4849560"/>
              <a:ext cx="801720" cy="246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04280" y="43542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5280" y="4869000"/>
            <a:ext cx="3457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5300640"/>
            <a:ext cx="504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C=30 °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=6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5805360"/>
            <a:ext cx="626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 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△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O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等边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6281640"/>
            <a:ext cx="50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OA=OB=AB=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即半径为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707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425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020000" y="4406760"/>
            <a:ext cx="625320" cy="46224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9480" y="4392720"/>
            <a:ext cx="182520" cy="6919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4360" y="614880"/>
            <a:ext cx="76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已知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等于半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对的圆心角和圆周角的度数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116000" y="2852640"/>
            <a:ext cx="2808360" cy="2681280"/>
            <a:chOff x="1116000" y="2852640"/>
            <a:chExt cx="2808360" cy="2681280"/>
          </a:xfrm>
        </p:grpSpPr>
        <p:sp>
          <p:nvSpPr>
            <p:cNvPr id="587" name=""/>
            <p:cNvSpPr/>
            <p:nvPr/>
          </p:nvSpPr>
          <p:spPr>
            <a:xfrm>
              <a:off x="1116000" y="285264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68360" y="4005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24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9280" y="5084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87280" y="5013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32000" y="494172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1692360" y="4076640"/>
            <a:ext cx="576000" cy="100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0000" y="4005360"/>
            <a:ext cx="719280" cy="1079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27640" y="2421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心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692360" y="2852640"/>
            <a:ext cx="71892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11280" y="2852640"/>
            <a:ext cx="648000" cy="2232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11640" y="3357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92360" y="5084640"/>
            <a:ext cx="71892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5084640"/>
            <a:ext cx="648000" cy="216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32360" y="4292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50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flipH="1">
            <a:off x="4140000" y="2062080"/>
            <a:ext cx="215640" cy="208764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6300720" y="414972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3794"/>
                </a:moveTo>
                <a:lnTo>
                  <a:pt x="26224" y="10800"/>
                </a:lnTo>
                <a:lnTo>
                  <a:pt x="122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098880" y="1844640"/>
            <a:ext cx="25527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07" name=""/>
          <p:cNvGrpSpPr/>
          <p:nvPr/>
        </p:nvGrpSpPr>
        <p:grpSpPr>
          <a:xfrm>
            <a:off x="3492360" y="3068280"/>
            <a:ext cx="1728720" cy="1008360"/>
            <a:chOff x="3492360" y="3068280"/>
            <a:chExt cx="1728720" cy="1008360"/>
          </a:xfrm>
        </p:grpSpPr>
        <p:sp>
          <p:nvSpPr>
            <p:cNvPr id="608" name=""/>
            <p:cNvSpPr/>
            <p:nvPr/>
          </p:nvSpPr>
          <p:spPr>
            <a:xfrm flipV="1">
              <a:off x="3492360" y="3068280"/>
              <a:ext cx="86508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141440" y="3068640"/>
              <a:ext cx="215640" cy="1008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57440" y="3068640"/>
              <a:ext cx="863640" cy="647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79280" y="1052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在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BD=30° ,∠BDC=20°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如图，在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直径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 = 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G⊥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F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证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E=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9952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07160" y="617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405240" y="2376360"/>
            <a:ext cx="3327480" cy="30020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5794200" y="2851200"/>
            <a:ext cx="578160" cy="10825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457440" cy="3330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116000" y="47592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10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=6cm,∠AC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分线交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.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, AD ,B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378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2720" y="2924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39640" y="765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C ,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圆上的两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D=40°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00000" y="2205000"/>
            <a:ext cx="3888000" cy="2979000"/>
            <a:chOff x="900000" y="2205000"/>
            <a:chExt cx="3888000" cy="2979000"/>
          </a:xfrm>
        </p:grpSpPr>
        <p:sp>
          <p:nvSpPr>
            <p:cNvPr id="623" name=""/>
            <p:cNvSpPr/>
            <p:nvPr/>
          </p:nvSpPr>
          <p:spPr>
            <a:xfrm>
              <a:off x="1332000" y="2565360"/>
              <a:ext cx="2448000" cy="24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84360" y="3789360"/>
              <a:ext cx="71640" cy="7128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32000" y="378936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124000" y="2636640"/>
              <a:ext cx="1656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763280" y="2637000"/>
              <a:ext cx="36036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1763640" y="3789000"/>
              <a:ext cx="201636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0000" y="3573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51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40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6360" y="4724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5280" y="220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84328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32000" y="2637000"/>
            <a:ext cx="792000" cy="1152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434640" y="4149720"/>
            <a:ext cx="2459880" cy="2448000"/>
            <a:chOff x="6434640" y="4149720"/>
            <a:chExt cx="2459880" cy="2448000"/>
          </a:xfrm>
        </p:grpSpPr>
        <p:sp>
          <p:nvSpPr>
            <p:cNvPr id="637" name="m16Arc 211"/>
            <p:cNvSpPr/>
            <p:nvPr/>
          </p:nvSpPr>
          <p:spPr>
            <a:xfrm rot="16200000">
              <a:off x="644544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m16Arc 211"/>
            <p:cNvSpPr/>
            <p:nvPr/>
          </p:nvSpPr>
          <p:spPr>
            <a:xfrm rot="5400000">
              <a:off x="643608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39640" y="6620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你能设法确定一个圆形纸片的圆心吗？你有多少种方法？与同学交流一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1413000"/>
            <a:ext cx="2449800" cy="2449440"/>
          </a:xfrm>
          <a:prstGeom prst="ellipse">
            <a:avLst/>
          </a:prstGeom>
          <a:solidFill>
            <a:srgbClr val="54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2997360"/>
            <a:ext cx="1871640" cy="1871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01840" y="4935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6560" y="2919240"/>
            <a:ext cx="2305080" cy="1951200"/>
            <a:chOff x="466560" y="2919240"/>
            <a:chExt cx="2305080" cy="1951200"/>
          </a:xfrm>
        </p:grpSpPr>
        <p:sp>
          <p:nvSpPr>
            <p:cNvPr id="644" name=""/>
            <p:cNvSpPr/>
            <p:nvPr/>
          </p:nvSpPr>
          <p:spPr>
            <a:xfrm>
              <a:off x="466560" y="2992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66560" y="29192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969480" y="2998800"/>
              <a:ext cx="1297080" cy="1871640"/>
              <a:chOff x="969480" y="2998800"/>
              <a:chExt cx="1297080" cy="1871640"/>
            </a:xfrm>
          </p:grpSpPr>
          <p:sp>
            <p:nvSpPr>
              <p:cNvPr id="647" name=""/>
              <p:cNvSpPr/>
              <p:nvPr/>
            </p:nvSpPr>
            <p:spPr>
              <a:xfrm>
                <a:off x="1618920" y="3286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969480" y="2998800"/>
                <a:ext cx="1297080" cy="1871640"/>
                <a:chOff x="969480" y="2998800"/>
                <a:chExt cx="1297080" cy="1871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969480" y="3279600"/>
                  <a:ext cx="1297080" cy="71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574640" y="3338640"/>
                  <a:ext cx="71280" cy="151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4520" y="2998800"/>
                  <a:ext cx="0" cy="187164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"/>
          <p:cNvSpPr/>
          <p:nvPr/>
        </p:nvSpPr>
        <p:spPr>
          <a:xfrm>
            <a:off x="1619280" y="299880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807480" y="348048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19280" y="3848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90840" y="39052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0080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75560" y="4149720"/>
            <a:ext cx="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59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442200" y="4149720"/>
            <a:ext cx="2459880" cy="2448000"/>
            <a:chOff x="6442200" y="4149720"/>
            <a:chExt cx="2459880" cy="2448000"/>
          </a:xfrm>
        </p:grpSpPr>
        <p:sp>
          <p:nvSpPr>
            <p:cNvPr id="662" name="m16Arc 211"/>
            <p:cNvSpPr/>
            <p:nvPr/>
          </p:nvSpPr>
          <p:spPr>
            <a:xfrm rot="5400000">
              <a:off x="6443640" y="41482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m16Arc 211"/>
            <p:cNvSpPr/>
            <p:nvPr/>
          </p:nvSpPr>
          <p:spPr>
            <a:xfrm rot="16200000">
              <a:off x="6453000" y="414864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451560" y="4140720"/>
            <a:ext cx="2448000" cy="2459880"/>
            <a:chOff x="6451560" y="4140720"/>
            <a:chExt cx="2448000" cy="2459880"/>
          </a:xfrm>
        </p:grpSpPr>
        <p:sp>
          <p:nvSpPr>
            <p:cNvPr id="665" name="m16Arc 211"/>
            <p:cNvSpPr/>
            <p:nvPr/>
          </p:nvSpPr>
          <p:spPr>
            <a:xfrm>
              <a:off x="6451560" y="415008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m16Arc 211"/>
            <p:cNvSpPr/>
            <p:nvPr/>
          </p:nvSpPr>
          <p:spPr>
            <a:xfrm rot="10800000">
              <a:off x="6451920" y="4140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H="1">
            <a:off x="6451560" y="5373720"/>
            <a:ext cx="244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69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51560" y="4140360"/>
            <a:ext cx="2448000" cy="2459880"/>
            <a:chOff x="6451560" y="4140360"/>
            <a:chExt cx="2448000" cy="2459880"/>
          </a:xfrm>
        </p:grpSpPr>
        <p:sp>
          <p:nvSpPr>
            <p:cNvPr id="672" name="m16Arc 211"/>
            <p:cNvSpPr/>
            <p:nvPr/>
          </p:nvSpPr>
          <p:spPr>
            <a:xfrm rot="10800000">
              <a:off x="6451920" y="414036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m16Arc 211"/>
            <p:cNvSpPr/>
            <p:nvPr/>
          </p:nvSpPr>
          <p:spPr>
            <a:xfrm>
              <a:off x="6451560" y="4149720"/>
              <a:ext cx="244764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7632720" y="5345280"/>
            <a:ext cx="73080" cy="7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9157200">
            <a:off x="4314240" y="204588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73520" y="2467080"/>
            <a:ext cx="2419560" cy="385560"/>
          </a:xfrm>
          <a:custGeom>
            <a:avLst/>
            <a:gdLst/>
            <a:ahLst/>
            <a:rect l="l" t="t" r="r" b="b"/>
            <a:pathLst>
              <a:path w="1524" h="243">
                <a:moveTo>
                  <a:pt x="0" y="0"/>
                </a:moveTo>
                <a:lnTo>
                  <a:pt x="1524" y="24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2106800">
            <a:off x="4140000" y="1787040"/>
            <a:ext cx="2663640" cy="180036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95880" y="1625760"/>
            <a:ext cx="1306440" cy="2046240"/>
          </a:xfrm>
          <a:custGeom>
            <a:avLst/>
            <a:gdLst/>
            <a:ahLst/>
            <a:rect l="l" t="t" r="r" b="b"/>
            <a:pathLst>
              <a:path w="823" h="1289">
                <a:moveTo>
                  <a:pt x="0" y="0"/>
                </a:moveTo>
                <a:lnTo>
                  <a:pt x="823" y="128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3884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0400" y="2608200"/>
            <a:ext cx="72720" cy="7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4437000"/>
            <a:ext cx="2087280" cy="2087640"/>
          </a:xfrm>
          <a:prstGeom prst="ellipse">
            <a:avLst/>
          </a:prstGeom>
          <a:solidFill>
            <a:srgbClr val="54f6fe"/>
          </a:solidFill>
          <a:ln w="28440">
            <a:solidFill>
              <a:srgbClr val="54f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4400" y="4533840"/>
            <a:ext cx="880920" cy="1900440"/>
          </a:xfrm>
          <a:custGeom>
            <a:avLst/>
            <a:gdLst/>
            <a:ahLst/>
            <a:rect l="l" t="t" r="r" b="b"/>
            <a:pathLst>
              <a:path w="555" h="1197">
                <a:moveTo>
                  <a:pt x="0" y="0"/>
                </a:moveTo>
                <a:lnTo>
                  <a:pt x="555" y="119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4720" y="4867200"/>
            <a:ext cx="738000" cy="1657440"/>
          </a:xfrm>
          <a:custGeom>
            <a:avLst/>
            <a:gdLst/>
            <a:ahLst/>
            <a:rect l="l" t="t" r="r" b="b"/>
            <a:pathLst>
              <a:path w="465" h="1044">
                <a:moveTo>
                  <a:pt x="0" y="0"/>
                </a:moveTo>
                <a:lnTo>
                  <a:pt x="465" y="10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89440" y="5055840"/>
            <a:ext cx="1942920" cy="86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16000" y="234936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421080" y="386064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32720" y="1268280"/>
            <a:ext cx="1296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72280" y="3608280"/>
            <a:ext cx="1297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方法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2360" y="4754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70120" y="5819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920" y="-2700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7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5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500"/>
                            </p:stCondLst>
                            <p:childTnLst>
                              <p:par>
                                <p:cTn id="8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500"/>
                            </p:stCondLst>
                            <p:childTnLst>
                              <p:par>
                                <p:cTn id="82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-474804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a2731006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492360" cy="30146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9280" y="55224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足球比赛场上，甲、乙两名队员互相配合向对方球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攻，当甲带球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时，乙已跟随冲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此时甲是自己直接射门好，还是迅速将球回传给乙，让乙射门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1844640"/>
            <a:ext cx="53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分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在真正的足球比赛中情况会很复杂，这里仅用数学方法从两点的静止状态加以考虑，如果两个点到球门的距离相差不大，要确定较好的射门位置，关键看这两个点分别对球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张角大小，当张角较小时，则球容易被对方守门员拦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样比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点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角的大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8360" y="1773360"/>
            <a:ext cx="51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考虑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以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的任一点作一圆，这里不妨作出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显然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点在⊙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M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外，设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交圆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而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CN=∠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所以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＜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MBN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因此，甲应将球回传给乙，让乙射门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913360" y="1844640"/>
            <a:ext cx="3230640" cy="2703600"/>
            <a:chOff x="5913360" y="1844640"/>
            <a:chExt cx="3230640" cy="2703600"/>
          </a:xfrm>
        </p:grpSpPr>
        <p:pic>
          <p:nvPicPr>
            <p:cNvPr id="698" name="a2731006" descr=""/>
            <p:cNvPicPr/>
            <p:nvPr/>
          </p:nvPicPr>
          <p:blipFill>
            <a:blip r:embed="rId2"/>
            <a:stretch/>
          </p:blipFill>
          <p:spPr>
            <a:xfrm>
              <a:off x="5913360" y="1844640"/>
              <a:ext cx="3230640" cy="270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"/>
            <p:cNvGrpSpPr/>
            <p:nvPr/>
          </p:nvGrpSpPr>
          <p:grpSpPr>
            <a:xfrm>
              <a:off x="6134760" y="2398320"/>
              <a:ext cx="2658240" cy="1675800"/>
              <a:chOff x="6134760" y="2398320"/>
              <a:chExt cx="2658240" cy="1675800"/>
            </a:xfrm>
          </p:grpSpPr>
          <p:sp>
            <p:nvSpPr>
              <p:cNvPr id="700" name=""/>
              <p:cNvSpPr/>
              <p:nvPr/>
            </p:nvSpPr>
            <p:spPr>
              <a:xfrm>
                <a:off x="6134760" y="2398320"/>
                <a:ext cx="2658240" cy="167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7685280" y="3780360"/>
                <a:ext cx="167400" cy="19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4859280" y="3068640"/>
            <a:ext cx="3457800" cy="3052080"/>
            <a:chOff x="4859280" y="3068640"/>
            <a:chExt cx="3457800" cy="3052080"/>
          </a:xfrm>
        </p:grpSpPr>
        <p:sp>
          <p:nvSpPr>
            <p:cNvPr id="703" name=""/>
            <p:cNvSpPr/>
            <p:nvPr/>
          </p:nvSpPr>
          <p:spPr>
            <a:xfrm>
              <a:off x="5364000" y="3213000"/>
              <a:ext cx="2664000" cy="259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8720" y="5084640"/>
              <a:ext cx="23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08720" y="3499920"/>
              <a:ext cx="194292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51640" y="3429000"/>
              <a:ext cx="43344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940360" y="3500280"/>
              <a:ext cx="1511280" cy="208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80360" y="3429000"/>
              <a:ext cx="7128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2472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9280" y="486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80000" y="5661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85080" y="5157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32720" y="4365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93080" y="50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80360" y="4941720"/>
              <a:ext cx="216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96360" y="4941720"/>
              <a:ext cx="0" cy="142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95280" y="13413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图所示，已知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三个顶点都在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D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⊿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高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⊙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直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证：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AE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508720" y="5084640"/>
            <a:ext cx="431640" cy="505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51640" y="5013360"/>
            <a:ext cx="14436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5651280" y="5157720"/>
            <a:ext cx="144360" cy="14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29760"/>
            <a:ext cx="296208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0425"/>
                </a:solidFill>
                <a:latin typeface="Arial"/>
                <a:ea typeface="楷体_GB2312"/>
              </a:rPr>
              <a:t>问题探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图形中所画的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否为圆周角？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34936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2205000"/>
            <a:ext cx="1511280" cy="1511280"/>
          </a:xfrm>
          <a:prstGeom prst="ellips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276640"/>
            <a:ext cx="1712880" cy="1368360"/>
          </a:xfrm>
          <a:custGeom>
            <a:avLst/>
            <a:gdLst/>
            <a:ahLst/>
            <a:rect l="l" t="t" r="r" b="b"/>
            <a:pathLst>
              <a:path w="1079" h="862">
                <a:moveTo>
                  <a:pt x="635" y="0"/>
                </a:moveTo>
                <a:lnTo>
                  <a:pt x="0" y="862"/>
                </a:lnTo>
                <a:lnTo>
                  <a:pt x="1079" y="464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361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2492280"/>
            <a:ext cx="1511280" cy="865440"/>
          </a:xfrm>
          <a:custGeom>
            <a:avLst/>
            <a:gdLst/>
            <a:ahLst/>
            <a:rect l="l" t="t" r="r" b="b"/>
            <a:pathLst>
              <a:path w="952" h="545">
                <a:moveTo>
                  <a:pt x="0" y="545"/>
                </a:moveTo>
                <a:lnTo>
                  <a:pt x="726" y="0"/>
                </a:lnTo>
                <a:lnTo>
                  <a:pt x="952" y="409"/>
                </a:ln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78920" y="241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833560"/>
            <a:ext cx="1746360" cy="703440"/>
          </a:xfrm>
          <a:custGeom>
            <a:avLst/>
            <a:gdLst/>
            <a:ahLst/>
            <a:rect l="l" t="t" r="r" b="b"/>
            <a:pathLst>
              <a:path w="1100" h="443">
                <a:moveTo>
                  <a:pt x="0" y="330"/>
                </a:moveTo>
                <a:lnTo>
                  <a:pt x="845" y="0"/>
                </a:lnTo>
                <a:lnTo>
                  <a:pt x="1100" y="443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2160" y="1868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0425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068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9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292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00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39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0425"/>
                </a:solidFill>
                <a:latin typeface="Arial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不在圆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52680" y="47480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顶点在圆上，两边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9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边不和圆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7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一边和圆不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773360"/>
            <a:ext cx="649440" cy="503280"/>
          </a:xfrm>
          <a:custGeom>
            <a:avLst/>
            <a:gdLst/>
            <a:ahLst/>
            <a:rect l="l" t="t" r="r" b="b"/>
            <a:pathLst>
              <a:path w="409" h="317">
                <a:moveTo>
                  <a:pt x="0" y="227"/>
                </a:moveTo>
                <a:lnTo>
                  <a:pt x="409" y="317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第二课时　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顾：圆周角定理及推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思考：判断正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弧或等弧所对的圆周角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等的圆周角所对的弧相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角所对的弦是直径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直径所对的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　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长等于半径的弦所对的圆周角等于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°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68360" y="692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  如图，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平分线交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900000" y="2639880"/>
                <a:ext cx="4822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826920" y="505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D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=AB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826920" y="5518080"/>
          <a:ext cx="6193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518080"/>
                    <a:ext cx="6193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709200" y="1484280"/>
            <a:ext cx="16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是直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56520" y="19177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 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D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=90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68320" y="237816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Rt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68840" y="342108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分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4160" y="45100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D=B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0160" y="3983040"/>
          <a:ext cx="266220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3983040"/>
                    <a:ext cx="2662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5"/>
          <a:stretch/>
        </p:blipFill>
        <p:spPr>
          <a:xfrm>
            <a:off x="5724360" y="1700280"/>
            <a:ext cx="29019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95280" y="5191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证：如果三角形一边上的中线等于这边的一半，那么这个三角形是直角三角形．（提示：作出以这条边为直径的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00720" y="2492280"/>
            <a:ext cx="1944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222320" y="3427560"/>
            <a:ext cx="71640" cy="71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00720" y="345600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13320" y="2610000"/>
            <a:ext cx="1405080" cy="838080"/>
          </a:xfrm>
          <a:custGeom>
            <a:avLst/>
            <a:gdLst/>
            <a:ahLst/>
            <a:rect l="l" t="t" r="r" b="b"/>
            <a:pathLst>
              <a:path w="885" h="528">
                <a:moveTo>
                  <a:pt x="0" y="528"/>
                </a:moveTo>
                <a:lnTo>
                  <a:pt x="88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56520" y="2614680"/>
            <a:ext cx="461880" cy="847800"/>
          </a:xfrm>
          <a:custGeom>
            <a:avLst/>
            <a:gdLst/>
            <a:ahLst/>
            <a:rect l="l" t="t" r="r" b="b"/>
            <a:pathLst>
              <a:path w="291" h="534">
                <a:moveTo>
                  <a:pt x="291" y="0"/>
                </a:moveTo>
                <a:lnTo>
                  <a:pt x="0" y="53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28120" y="2624040"/>
            <a:ext cx="514080" cy="833400"/>
          </a:xfrm>
          <a:custGeom>
            <a:avLst/>
            <a:gdLst/>
            <a:ahLst/>
            <a:rect l="l" t="t" r="r" b="b"/>
            <a:pathLst>
              <a:path w="324" h="525">
                <a:moveTo>
                  <a:pt x="0" y="0"/>
                </a:moveTo>
                <a:lnTo>
                  <a:pt x="324" y="52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9080" y="3270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7416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97800" y="2305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993000" y="3456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280" y="2035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 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直角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26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证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296880" y="2951280"/>
            <a:ext cx="1337400" cy="689400"/>
            <a:chOff x="3296880" y="2951280"/>
            <a:chExt cx="1337400" cy="689400"/>
          </a:xfrm>
        </p:grpSpPr>
        <p:sp>
          <p:nvSpPr>
            <p:cNvPr id="751" name=""/>
            <p:cNvSpPr/>
            <p:nvPr/>
          </p:nvSpPr>
          <p:spPr>
            <a:xfrm>
              <a:off x="3296880" y="32418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=    A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3929040" y="2951280"/>
            <a:ext cx="221760" cy="66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9040" y="2951280"/>
                      <a:ext cx="2217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4" name=""/>
          <p:cNvSpPr/>
          <p:nvPr/>
        </p:nvSpPr>
        <p:spPr>
          <a:xfrm>
            <a:off x="1909800" y="2637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作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36720" y="32115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36720" y="3789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=BO=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36720" y="44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在⊙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09800" y="50133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又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836720" y="5445000"/>
            <a:ext cx="4248000" cy="647640"/>
            <a:chOff x="1836720" y="5445000"/>
            <a:chExt cx="4248000" cy="647640"/>
          </a:xfrm>
        </p:grpSpPr>
        <p:sp>
          <p:nvSpPr>
            <p:cNvPr id="760" name=""/>
            <p:cNvSpPr/>
            <p:nvPr/>
          </p:nvSpPr>
          <p:spPr>
            <a:xfrm>
              <a:off x="1836720" y="5589360"/>
              <a:ext cx="42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∴∠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Times New Roman"/>
                </a:rPr>
                <a:t>ACB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=     ×180°= 90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3133440" y="5445000"/>
            <a:ext cx="25056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3440" y="5445000"/>
                      <a:ext cx="250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611280" y="1341360"/>
            <a:ext cx="7247520" cy="792360"/>
            <a:chOff x="611280" y="1341360"/>
            <a:chExt cx="7247520" cy="792360"/>
          </a:xfrm>
        </p:grpSpPr>
        <p:sp>
          <p:nvSpPr>
            <p:cNvPr id="764" name=""/>
            <p:cNvSpPr/>
            <p:nvPr/>
          </p:nvSpPr>
          <p:spPr>
            <a:xfrm>
              <a:off x="611280" y="1484280"/>
              <a:ext cx="56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已知：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6039720" y="1341360"/>
              <a:ext cx="1819080" cy="792360"/>
              <a:chOff x="6039720" y="1341360"/>
              <a:chExt cx="1819080" cy="792360"/>
            </a:xfrm>
          </p:grpSpPr>
          <p:graphicFrame>
            <p:nvGraphicFramePr>
              <p:cNvPr id="766" name=""/>
              <p:cNvGraphicFramePr/>
              <p:nvPr/>
            </p:nvGraphicFramePr>
            <p:xfrm>
              <a:off x="7021440" y="1341360"/>
              <a:ext cx="430200" cy="792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21440" y="1341360"/>
                        <a:ext cx="430200" cy="79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"/>
              <p:cNvSpPr/>
              <p:nvPr/>
            </p:nvSpPr>
            <p:spPr>
              <a:xfrm>
                <a:off x="6039720" y="1494000"/>
                <a:ext cx="181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且</a:t>
                </a: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O=     A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2172600" y="610092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△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直角三角形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360" y="-27000"/>
            <a:ext cx="3240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本　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图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都是⊙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半径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OB=2∠BO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CB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与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大小有什么关系？为什么？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1695600" cy="17431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984960" y="4344840"/>
            <a:ext cx="608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40c0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如图，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上的四个点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CD=100°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，求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（  所对的圆心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和∠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BAD</a:t>
            </a:r>
            <a:r>
              <a:rPr b="1" lang="zh-CN" sz="2800" spc="-1" strike="noStrike">
                <a:solidFill>
                  <a:srgbClr val="f40c06"/>
                </a:solidFill>
                <a:latin typeface="楷体_GB2312"/>
                <a:ea typeface="楷体_GB2312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724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786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如图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直径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弦，延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到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使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DC=BD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连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交⊙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与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大小有什么关系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按角的大小分类，请你判断△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属于哪一类三角形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372360" y="2781360"/>
            <a:ext cx="2034720" cy="2011680"/>
            <a:chOff x="6372360" y="2781360"/>
            <a:chExt cx="2034720" cy="2011680"/>
          </a:xfrm>
        </p:grpSpPr>
        <p:sp>
          <p:nvSpPr>
            <p:cNvPr id="779" name=""/>
            <p:cNvSpPr/>
            <p:nvPr/>
          </p:nvSpPr>
          <p:spPr>
            <a:xfrm>
              <a:off x="6372360" y="2995560"/>
              <a:ext cx="1512720" cy="151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1800" y="2781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2040" y="4262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59200" y="4370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e0425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02240" y="4394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05440" y="3067200"/>
              <a:ext cx="1295280" cy="1369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86520" y="3716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50520" y="33861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cc"/>
                  </a:solidFill>
                  <a:latin typeface="Arial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06520" y="3427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e0425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35040" y="630864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∴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451640" y="3068640"/>
            <a:ext cx="12960" cy="13683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306864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解：（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）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240" y="3484440"/>
            <a:ext cx="273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证明：连接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1280" y="43657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又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DC=BD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∴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=AC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3960" y="480852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△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是锐角三角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1520" y="5329080"/>
            <a:ext cx="4533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由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知，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=∠C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6200" y="5861160"/>
            <a:ext cx="630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连接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B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则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FB=90 °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，∴∠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＜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90 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5600" y="389088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∵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B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是直径，∴∠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ADB=90°</a:t>
            </a:r>
            <a:r>
              <a:rPr b="1" lang="zh-CN" sz="2600" spc="-1" strike="noStrike">
                <a:solidFill>
                  <a:srgbClr val="ff33cc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336600" y="482760"/>
            <a:ext cx="8267760" cy="2837880"/>
            <a:chOff x="336600" y="482760"/>
            <a:chExt cx="8267760" cy="2837880"/>
          </a:xfrm>
        </p:grpSpPr>
        <p:sp>
          <p:nvSpPr>
            <p:cNvPr id="798" name=""/>
            <p:cNvSpPr/>
            <p:nvPr/>
          </p:nvSpPr>
          <p:spPr>
            <a:xfrm>
              <a:off x="336600" y="482760"/>
              <a:ext cx="8267760" cy="22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.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为⊙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两条弦，延长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A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到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使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=AB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如果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B=35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求∠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O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度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1"/>
            <a:stretch/>
          </p:blipFill>
          <p:spPr>
            <a:xfrm>
              <a:off x="4878360" y="1341360"/>
              <a:ext cx="3581640" cy="19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"/>
          <p:cNvGrpSpPr/>
          <p:nvPr/>
        </p:nvGrpSpPr>
        <p:grpSpPr>
          <a:xfrm>
            <a:off x="360360" y="3625920"/>
            <a:ext cx="8820000" cy="2539440"/>
            <a:chOff x="360360" y="3625920"/>
            <a:chExt cx="8820000" cy="2539440"/>
          </a:xfrm>
        </p:grpSpPr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3922560" y="4267080"/>
              <a:ext cx="3457800" cy="189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"/>
            <p:cNvGrpSpPr/>
            <p:nvPr/>
          </p:nvGrpSpPr>
          <p:grpSpPr>
            <a:xfrm>
              <a:off x="360360" y="3625920"/>
              <a:ext cx="8820000" cy="1470240"/>
              <a:chOff x="360360" y="3625920"/>
              <a:chExt cx="8820000" cy="147024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83120" y="3625920"/>
                <a:ext cx="1549440" cy="524880"/>
                <a:chOff x="4083120" y="3625920"/>
                <a:chExt cx="1549440" cy="5248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83120" y="363024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870440" y="362592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360360" y="3773160"/>
                <a:ext cx="882000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、如图，在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O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中，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C=2DE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 ∠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OC=84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求∠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的度数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39528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BOC =14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51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=21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68360" y="3860640"/>
            <a:ext cx="82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一条弧所对的圆心角和圆周角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x+100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x-30)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    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72960" y="612720"/>
            <a:ext cx="8447040" cy="2998800"/>
            <a:chOff x="372960" y="612720"/>
            <a:chExt cx="8447040" cy="2998800"/>
          </a:xfrm>
        </p:grpSpPr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5940360" y="1773360"/>
              <a:ext cx="25909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372960" y="612720"/>
              <a:ext cx="84470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，在直径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半圆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圆心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半圆上的两点，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D=5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则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AD=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5508720" y="450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2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24000" y="184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一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的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求证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如果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，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Q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怎样的关系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42892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965400" cy="465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1125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周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133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没有圆心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3213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21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们都对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同一条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-1044720" y="3066840"/>
            <a:ext cx="561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965240" y="1785960"/>
            <a:ext cx="64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152440" y="3341880"/>
            <a:ext cx="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4560" y="112500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球员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,D,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射门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所处的位置对球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别形成三个张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, ∠ADC,∠AEC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三个角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37080" y="-14400"/>
            <a:ext cx="4572000" cy="3156120"/>
            <a:chOff x="4537080" y="-14400"/>
            <a:chExt cx="4572000" cy="3156120"/>
          </a:xfrm>
        </p:grpSpPr>
        <p:grpSp>
          <p:nvGrpSpPr>
            <p:cNvPr id="109" name=""/>
            <p:cNvGrpSpPr/>
            <p:nvPr/>
          </p:nvGrpSpPr>
          <p:grpSpPr>
            <a:xfrm>
              <a:off x="4537080" y="-14400"/>
              <a:ext cx="4572000" cy="3156120"/>
              <a:chOff x="4537080" y="-14400"/>
              <a:chExt cx="4572000" cy="3156120"/>
            </a:xfrm>
          </p:grpSpPr>
          <p:pic>
            <p:nvPicPr>
              <p:cNvPr id="110" name="" descr="">
                <a:hlinkClick r:id="rId1"/>
              </p:cNvPr>
              <p:cNvPicPr/>
              <p:nvPr/>
            </p:nvPicPr>
            <p:blipFill>
              <a:blip r:embed="rId2"/>
              <a:srcRect l="0" t="7962" r="0" b="0"/>
              <a:stretch/>
            </p:blipFill>
            <p:spPr>
              <a:xfrm>
                <a:off x="4537080" y="-14400"/>
                <a:ext cx="4572000" cy="315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832360" y="1280880"/>
                <a:ext cx="259092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89560" y="1998720"/>
                <a:ext cx="304920" cy="65376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94480" y="1693800"/>
                <a:ext cx="1523880" cy="838080"/>
              </a:xfrm>
              <a:prstGeom prst="line">
                <a:avLst/>
              </a:prstGeom>
              <a:ln w="9360">
                <a:solidFill>
                  <a:srgbClr val="66ff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65880" y="2531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27800" y="12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13800" y="1357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33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09040" y="215100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56600" y="2500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644880" y="1982520"/>
              <a:ext cx="839880" cy="54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7480" y="1758600"/>
              <a:ext cx="633600" cy="801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96080" y="2322360"/>
              <a:ext cx="879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50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5061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03760" y="2043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879880" y="1814040"/>
              <a:ext cx="2844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900760" y="2118960"/>
              <a:ext cx="160200" cy="19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35560" y="1684080"/>
              <a:ext cx="1884600" cy="378000"/>
            </a:xfrm>
            <a:prstGeom prst="line">
              <a:avLst/>
            </a:prstGeom>
            <a:ln w="93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55640" y="3645000"/>
            <a:ext cx="2676600" cy="1244520"/>
            <a:chOff x="755640" y="3645000"/>
            <a:chExt cx="2676600" cy="1244520"/>
          </a:xfrm>
        </p:grpSpPr>
        <p:sp>
          <p:nvSpPr>
            <p:cNvPr id="127" name=""/>
            <p:cNvSpPr/>
            <p:nvPr/>
          </p:nvSpPr>
          <p:spPr>
            <a:xfrm flipH="1">
              <a:off x="1146240" y="3645000"/>
              <a:ext cx="69048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4294440"/>
              <a:ext cx="2316240" cy="59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640" y="4005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19160" y="3594240"/>
            <a:ext cx="2419200" cy="2419200"/>
            <a:chOff x="1019160" y="3594240"/>
            <a:chExt cx="2419200" cy="2419200"/>
          </a:xfrm>
        </p:grpSpPr>
        <p:sp>
          <p:nvSpPr>
            <p:cNvPr id="131" name=""/>
            <p:cNvSpPr/>
            <p:nvPr/>
          </p:nvSpPr>
          <p:spPr>
            <a:xfrm>
              <a:off x="1019160" y="3594240"/>
              <a:ext cx="2419200" cy="241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5840" y="450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●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5640" y="3644640"/>
            <a:ext cx="2668320" cy="1780920"/>
            <a:chOff x="755640" y="3644640"/>
            <a:chExt cx="2668320" cy="1780920"/>
          </a:xfrm>
        </p:grpSpPr>
        <p:sp>
          <p:nvSpPr>
            <p:cNvPr id="134" name=""/>
            <p:cNvSpPr/>
            <p:nvPr/>
          </p:nvSpPr>
          <p:spPr>
            <a:xfrm flipV="1">
              <a:off x="1069920" y="3644640"/>
              <a:ext cx="792000" cy="152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069920" y="4896000"/>
              <a:ext cx="2354040" cy="262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640" y="496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00040" y="3651120"/>
            <a:ext cx="2046240" cy="2542320"/>
            <a:chOff x="1400040" y="3651120"/>
            <a:chExt cx="2046240" cy="2542320"/>
          </a:xfrm>
        </p:grpSpPr>
        <p:sp>
          <p:nvSpPr>
            <p:cNvPr id="138" name=""/>
            <p:cNvSpPr/>
            <p:nvPr/>
          </p:nvSpPr>
          <p:spPr>
            <a:xfrm flipH="1">
              <a:off x="1704600" y="3651120"/>
              <a:ext cx="152280" cy="22701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717560" y="4870080"/>
              <a:ext cx="1728720" cy="9892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0040" y="57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隶书"/>
                  <a:ea typeface="隶书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28640" y="3213000"/>
            <a:ext cx="2392560" cy="1971000"/>
            <a:chOff x="1628640" y="3213000"/>
            <a:chExt cx="2392560" cy="1971000"/>
          </a:xfrm>
        </p:grpSpPr>
        <p:sp>
          <p:nvSpPr>
            <p:cNvPr id="142" name=""/>
            <p:cNvSpPr/>
            <p:nvPr/>
          </p:nvSpPr>
          <p:spPr>
            <a:xfrm>
              <a:off x="3564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8640" y="321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788840" y="3645000"/>
            <a:ext cx="1649520" cy="1296720"/>
            <a:chOff x="1788840" y="3645000"/>
            <a:chExt cx="1649520" cy="1296720"/>
          </a:xfrm>
        </p:grpSpPr>
        <p:sp>
          <p:nvSpPr>
            <p:cNvPr id="145" name=""/>
            <p:cNvSpPr/>
            <p:nvPr/>
          </p:nvSpPr>
          <p:spPr>
            <a:xfrm flipH="1">
              <a:off x="1788480" y="364500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68520" y="4871880"/>
              <a:ext cx="6984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126680" y="5838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你能发现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11640" y="3429000"/>
            <a:ext cx="4753080" cy="1356120"/>
            <a:chOff x="4211640" y="3429000"/>
            <a:chExt cx="4753080" cy="1356120"/>
          </a:xfrm>
        </p:grpSpPr>
        <p:sp>
          <p:nvSpPr>
            <p:cNvPr id="149" name=""/>
            <p:cNvSpPr/>
            <p:nvPr/>
          </p:nvSpPr>
          <p:spPr>
            <a:xfrm>
              <a:off x="4211640" y="3716280"/>
              <a:ext cx="47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所对的圆周角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EC  ∠ ABC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∠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大小有什么关系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4720" y="3429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6836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践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990720"/>
            <a:ext cx="678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       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任意画一个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下圆心在什么位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2666880"/>
            <a:ext cx="1979640" cy="1980000"/>
            <a:chOff x="990720" y="2666880"/>
            <a:chExt cx="1979640" cy="1980000"/>
          </a:xfrm>
        </p:grpSpPr>
        <p:sp>
          <p:nvSpPr>
            <p:cNvPr id="154" name=""/>
            <p:cNvSpPr txBox="1"/>
            <p:nvPr/>
          </p:nvSpPr>
          <p:spPr>
            <a:xfrm>
              <a:off x="1016640" y="4392720"/>
              <a:ext cx="14832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707920" y="4466880"/>
              <a:ext cx="14580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990720" y="2666880"/>
              <a:ext cx="1979640" cy="1980000"/>
              <a:chOff x="990720" y="2666880"/>
              <a:chExt cx="1979640" cy="198000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2671920" y="2963520"/>
                <a:ext cx="6120" cy="1383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990720" y="2666880"/>
                <a:ext cx="1979640" cy="1980000"/>
                <a:chOff x="990720" y="2666880"/>
                <a:chExt cx="1979640" cy="19800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873800" y="3436920"/>
                  <a:ext cx="148320" cy="16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0000"/>
                        </a:solidFill>
                        <a:miter/>
                      </a:ln>
                      <a:solidFill>
                        <a:srgbClr val="ffffff"/>
                      </a:solidFill>
                      <a:latin typeface="宋体"/>
                    </a:rPr>
                    <a:t>o</a:t>
                  </a:r>
                  <a:endPara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  <a:ea typeface="宋体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990720" y="2666880"/>
                  <a:ext cx="1979640" cy="1980000"/>
                  <a:chOff x="990720" y="2666880"/>
                  <a:chExt cx="1979640" cy="198000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990720" y="2666880"/>
                    <a:ext cx="1979640" cy="1980000"/>
                    <a:chOff x="990720" y="2666880"/>
                    <a:chExt cx="1979640" cy="198000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990720" y="2666880"/>
                      <a:ext cx="1979640" cy="19800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953360" y="3624840"/>
                      <a:ext cx="54000" cy="529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 flipH="1">
                    <a:off x="1284840" y="2963520"/>
                    <a:ext cx="1386720" cy="1382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rot="8194200">
                  <a:off x="2291760" y="2937600"/>
                  <a:ext cx="453240" cy="40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193" y="7"/>
                      </a:moveTo>
                      <a:arcTo wR="10800" hR="10800" stAng="-5274793" swAng="5274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193" y="7"/>
                      </a:moveTo>
                      <a:arcTo wR="10800" hR="10800" stAng="-5274793" swAng="5274793"/>
                    </a:path>
                  </a:pathLst>
                </a:cu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 txBox="1"/>
            <p:nvPr/>
          </p:nvSpPr>
          <p:spPr>
            <a:xfrm>
              <a:off x="2720520" y="2729880"/>
              <a:ext cx="146160" cy="15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657600" y="2438280"/>
            <a:ext cx="2056680" cy="2133000"/>
            <a:chOff x="3657600" y="2438280"/>
            <a:chExt cx="2056680" cy="2133000"/>
          </a:xfrm>
        </p:grpSpPr>
        <p:sp>
          <p:nvSpPr>
            <p:cNvPr id="168" name=""/>
            <p:cNvSpPr/>
            <p:nvPr/>
          </p:nvSpPr>
          <p:spPr>
            <a:xfrm flipH="1" flipV="1">
              <a:off x="4550400" y="2665080"/>
              <a:ext cx="826560" cy="163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57600" y="2438280"/>
              <a:ext cx="2056680" cy="2133000"/>
              <a:chOff x="3657600" y="2438280"/>
              <a:chExt cx="2056680" cy="21330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57600" y="2629080"/>
                <a:ext cx="2056680" cy="1927080"/>
                <a:chOff x="3657600" y="2629080"/>
                <a:chExt cx="2056680" cy="1927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657600" y="2629080"/>
                  <a:ext cx="2056680" cy="192708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57680" y="3561480"/>
                  <a:ext cx="56160" cy="51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4799520" y="3342600"/>
                <a:ext cx="154080" cy="15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963240" y="2629080"/>
                <a:ext cx="620280" cy="163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732480" y="4344120"/>
                <a:ext cx="154080" cy="15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5487840" y="4416480"/>
                <a:ext cx="15192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94200">
                <a:off x="4398120" y="2649960"/>
                <a:ext cx="470520" cy="39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3" y="7"/>
                    </a:moveTo>
                    <a:arcTo wR="10800" hR="10800" stAng="-5274793" swAng="5274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3" y="7"/>
                    </a:moveTo>
                    <a:arcTo wR="10800" hR="10800" stAng="-5274793" swAng="5274793"/>
                  </a:path>
                </a:pathLst>
              </a:cu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479840" y="2438280"/>
                <a:ext cx="151200" cy="15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6400800" y="2514600"/>
            <a:ext cx="2285640" cy="2133000"/>
            <a:chOff x="6400800" y="2514600"/>
            <a:chExt cx="2285640" cy="2133000"/>
          </a:xfrm>
        </p:grpSpPr>
        <p:grpSp>
          <p:nvGrpSpPr>
            <p:cNvPr id="180" name=""/>
            <p:cNvGrpSpPr/>
            <p:nvPr/>
          </p:nvGrpSpPr>
          <p:grpSpPr>
            <a:xfrm>
              <a:off x="6400800" y="2514600"/>
              <a:ext cx="2130120" cy="2116800"/>
              <a:chOff x="6400800" y="2514600"/>
              <a:chExt cx="2130120" cy="2116800"/>
            </a:xfrm>
          </p:grpSpPr>
          <p:sp>
            <p:nvSpPr>
              <p:cNvPr id="181" name=""/>
              <p:cNvSpPr/>
              <p:nvPr/>
            </p:nvSpPr>
            <p:spPr>
              <a:xfrm>
                <a:off x="6400800" y="2514600"/>
                <a:ext cx="2130120" cy="21168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36520" y="3538800"/>
                <a:ext cx="58320" cy="56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 txBox="1"/>
            <p:nvPr/>
          </p:nvSpPr>
          <p:spPr>
            <a:xfrm>
              <a:off x="7583400" y="3297960"/>
              <a:ext cx="159480" cy="17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17600" y="3148920"/>
              <a:ext cx="17056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217000" y="3148560"/>
              <a:ext cx="206280" cy="116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478200" y="4398480"/>
              <a:ext cx="159480" cy="17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8296560" y="447768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720000">
              <a:off x="8001360" y="3141720"/>
              <a:ext cx="486360" cy="43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3" y="7"/>
                  </a:moveTo>
                  <a:arcTo wR="10800" hR="10800" stAng="-5274793" swAng="5274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3" y="7"/>
                  </a:moveTo>
                  <a:arcTo wR="10800" hR="10800" stAng="-5274793" swAng="5274793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529120" y="3043800"/>
              <a:ext cx="15732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81480" y="5029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一边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029200"/>
            <a:ext cx="23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90480" y="502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心在角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圆周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OC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们的大小有什么关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92400" y="2154240"/>
            <a:ext cx="1962360" cy="1962000"/>
            <a:chOff x="3092400" y="2154240"/>
            <a:chExt cx="1962360" cy="1962000"/>
          </a:xfrm>
        </p:grpSpPr>
        <p:sp>
          <p:nvSpPr>
            <p:cNvPr id="195" name=""/>
            <p:cNvSpPr/>
            <p:nvPr/>
          </p:nvSpPr>
          <p:spPr>
            <a:xfrm>
              <a:off x="3092400" y="215424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7480" y="28958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92360" y="1773360"/>
            <a:ext cx="1752480" cy="2745720"/>
            <a:chOff x="3492360" y="1773360"/>
            <a:chExt cx="1752480" cy="2745720"/>
          </a:xfrm>
        </p:grpSpPr>
        <p:sp>
          <p:nvSpPr>
            <p:cNvPr id="198" name=""/>
            <p:cNvSpPr/>
            <p:nvPr/>
          </p:nvSpPr>
          <p:spPr>
            <a:xfrm flipV="1">
              <a:off x="3854520" y="251640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790800" y="221328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90800" y="221328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177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0040" y="405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7640" y="215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103640" y="251136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1760" y="2065320"/>
            <a:ext cx="1962000" cy="1962000"/>
            <a:chOff x="401760" y="2065320"/>
            <a:chExt cx="1962000" cy="1962000"/>
          </a:xfrm>
        </p:grpSpPr>
        <p:sp>
          <p:nvSpPr>
            <p:cNvPr id="206" name=""/>
            <p:cNvSpPr/>
            <p:nvPr/>
          </p:nvSpPr>
          <p:spPr>
            <a:xfrm>
              <a:off x="401760" y="206532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6840" y="2806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5280" y="1628640"/>
            <a:ext cx="2133360" cy="2441160"/>
            <a:chOff x="395280" y="1628640"/>
            <a:chExt cx="2133360" cy="2441160"/>
          </a:xfrm>
        </p:grpSpPr>
        <p:sp>
          <p:nvSpPr>
            <p:cNvPr id="209" name=""/>
            <p:cNvSpPr/>
            <p:nvPr/>
          </p:nvSpPr>
          <p:spPr>
            <a:xfrm flipV="1">
              <a:off x="718920" y="2371320"/>
              <a:ext cx="139068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0720" y="2068560"/>
              <a:ext cx="353880" cy="16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4600" y="206856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6160" y="162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6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71440" y="20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91280" y="1957320"/>
            <a:ext cx="1962000" cy="1962360"/>
            <a:chOff x="6191280" y="1957320"/>
            <a:chExt cx="1962000" cy="1962360"/>
          </a:xfrm>
        </p:grpSpPr>
        <p:sp>
          <p:nvSpPr>
            <p:cNvPr id="216" name=""/>
            <p:cNvSpPr/>
            <p:nvPr/>
          </p:nvSpPr>
          <p:spPr>
            <a:xfrm>
              <a:off x="6191280" y="195732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6360" y="269892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67280" y="1557360"/>
            <a:ext cx="2476440" cy="1831320"/>
            <a:chOff x="5867280" y="1557360"/>
            <a:chExt cx="2476440" cy="1831320"/>
          </a:xfrm>
        </p:grpSpPr>
        <p:sp>
          <p:nvSpPr>
            <p:cNvPr id="219" name=""/>
            <p:cNvSpPr/>
            <p:nvPr/>
          </p:nvSpPr>
          <p:spPr>
            <a:xfrm flipV="1">
              <a:off x="6210000" y="2300400"/>
              <a:ext cx="17146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17920" y="1996920"/>
              <a:ext cx="671760" cy="11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9680" y="1997280"/>
              <a:ext cx="3362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9124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2928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6520" y="193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162560" y="2295360"/>
              <a:ext cx="7650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周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圆心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先考虑第一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349360"/>
            <a:ext cx="44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92428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=∠B+∠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357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A=O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3200400"/>
            <a:ext cx="1962000" cy="1962000"/>
            <a:chOff x="6629400" y="3200400"/>
            <a:chExt cx="1962000" cy="1962000"/>
          </a:xfrm>
        </p:grpSpPr>
        <p:sp>
          <p:nvSpPr>
            <p:cNvPr id="232" name=""/>
            <p:cNvSpPr/>
            <p:nvPr/>
          </p:nvSpPr>
          <p:spPr>
            <a:xfrm>
              <a:off x="6629400" y="32004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4480" y="39420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629400" y="2819520"/>
            <a:ext cx="2133360" cy="2440800"/>
            <a:chOff x="6629400" y="2819520"/>
            <a:chExt cx="2133360" cy="2440800"/>
          </a:xfrm>
        </p:grpSpPr>
        <p:sp>
          <p:nvSpPr>
            <p:cNvPr id="235" name=""/>
            <p:cNvSpPr/>
            <p:nvPr/>
          </p:nvSpPr>
          <p:spPr>
            <a:xfrm flipV="1">
              <a:off x="6953040" y="3562200"/>
              <a:ext cx="1390680" cy="13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4840" y="3258720"/>
              <a:ext cx="35388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8720" y="3259080"/>
              <a:ext cx="336600" cy="10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556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95280" y="3789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=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OC=2∠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8360" y="4724280"/>
            <a:ext cx="4103280" cy="842760"/>
            <a:chOff x="468360" y="4724280"/>
            <a:chExt cx="4103280" cy="842760"/>
          </a:xfrm>
        </p:grpSpPr>
        <p:sp>
          <p:nvSpPr>
            <p:cNvPr id="244" name=""/>
            <p:cNvSpPr/>
            <p:nvPr/>
          </p:nvSpPr>
          <p:spPr>
            <a:xfrm>
              <a:off x="468360" y="4890960"/>
              <a:ext cx="41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即 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63520" y="4724280"/>
                  <a:ext cx="36180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304920" y="56865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516640"/>
            <a:ext cx="487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9000"/>
            <a:ext cx="1752840" cy="1373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期望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要理解并掌握这个模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65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种情况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圆心不在圆周角的一边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圆周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∠AB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周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角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小关系会怎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2349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否转化为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141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直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629400" y="3371760"/>
            <a:ext cx="1962000" cy="1962360"/>
            <a:chOff x="6629400" y="3371760"/>
            <a:chExt cx="1962000" cy="1962360"/>
          </a:xfrm>
        </p:grpSpPr>
        <p:sp>
          <p:nvSpPr>
            <p:cNvPr id="253" name=""/>
            <p:cNvSpPr/>
            <p:nvPr/>
          </p:nvSpPr>
          <p:spPr>
            <a:xfrm>
              <a:off x="6629400" y="337176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4480" y="41133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4000" y="4365720"/>
            <a:ext cx="4824000" cy="842760"/>
            <a:chOff x="324000" y="4365720"/>
            <a:chExt cx="4824000" cy="842760"/>
          </a:xfrm>
        </p:grpSpPr>
        <p:sp>
          <p:nvSpPr>
            <p:cNvPr id="256" name=""/>
            <p:cNvSpPr/>
            <p:nvPr/>
          </p:nvSpPr>
          <p:spPr>
            <a:xfrm>
              <a:off x="324000" y="4532400"/>
              <a:ext cx="48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∴ ∠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 =       ∠A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257280" y="4365720"/>
                  <a:ext cx="4255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179280" y="5805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能写出这个命题吗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5589720"/>
            <a:ext cx="487692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弧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周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等于它所对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圆心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一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010280" y="2990880"/>
            <a:ext cx="1752480" cy="2745720"/>
            <a:chOff x="7010280" y="2990880"/>
            <a:chExt cx="1752480" cy="2745720"/>
          </a:xfrm>
        </p:grpSpPr>
        <p:sp>
          <p:nvSpPr>
            <p:cNvPr id="261" name=""/>
            <p:cNvSpPr/>
            <p:nvPr/>
          </p:nvSpPr>
          <p:spPr>
            <a:xfrm flipV="1">
              <a:off x="7372440" y="3733920"/>
              <a:ext cx="97128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7308720" y="3430800"/>
              <a:ext cx="10152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720" y="3430800"/>
              <a:ext cx="33660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299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27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05560" y="337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621560" y="3728880"/>
              <a:ext cx="74592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408800" y="3067200"/>
            <a:ext cx="820800" cy="2235960"/>
            <a:chOff x="7408800" y="3067200"/>
            <a:chExt cx="820800" cy="2235960"/>
          </a:xfrm>
        </p:grpSpPr>
        <p:sp>
          <p:nvSpPr>
            <p:cNvPr id="269" name=""/>
            <p:cNvSpPr/>
            <p:nvPr/>
          </p:nvSpPr>
          <p:spPr>
            <a:xfrm flipV="1">
              <a:off x="7408800" y="3436560"/>
              <a:ext cx="522360" cy="1866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8720" y="3067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5280" y="3645000"/>
            <a:ext cx="5715000" cy="991440"/>
            <a:chOff x="395280" y="3645000"/>
            <a:chExt cx="5715000" cy="991440"/>
          </a:xfrm>
        </p:grpSpPr>
        <p:sp>
          <p:nvSpPr>
            <p:cNvPr id="272" name=""/>
            <p:cNvSpPr/>
            <p:nvPr/>
          </p:nvSpPr>
          <p:spPr>
            <a:xfrm>
              <a:off x="395280" y="3689280"/>
              <a:ext cx="571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D =  ∠AOD, ∠CBD = ∠CO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071440" y="364500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4586040" y="3689280"/>
                  <a:ext cx="25236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6789600" y="861840"/>
            <a:ext cx="1801800" cy="1679760"/>
            <a:chOff x="6789600" y="861840"/>
            <a:chExt cx="1801800" cy="1679760"/>
          </a:xfrm>
        </p:grpSpPr>
        <p:sp>
          <p:nvSpPr>
            <p:cNvPr id="276" name=""/>
            <p:cNvSpPr/>
            <p:nvPr/>
          </p:nvSpPr>
          <p:spPr>
            <a:xfrm>
              <a:off x="6789600" y="861840"/>
              <a:ext cx="1801800" cy="1679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82680" y="149652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04000" y="549360"/>
            <a:ext cx="1958760" cy="2154240"/>
            <a:chOff x="6804000" y="549360"/>
            <a:chExt cx="1958760" cy="2154240"/>
          </a:xfrm>
        </p:grpSpPr>
        <p:sp>
          <p:nvSpPr>
            <p:cNvPr id="279" name=""/>
            <p:cNvSpPr/>
            <p:nvPr/>
          </p:nvSpPr>
          <p:spPr>
            <a:xfrm flipV="1">
              <a:off x="7101000" y="1185120"/>
              <a:ext cx="127692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102800" y="925920"/>
              <a:ext cx="324720" cy="145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520" y="925920"/>
              <a:ext cx="30888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53560" y="54936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04000" y="22438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43000" y="8740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2:27:39Z</dcterms:created>
  <dc:creator>微软用户</dc:creator>
  <dc:description/>
  <dc:language>en-US</dc:language>
  <cp:lastModifiedBy>Sky123.Org</cp:lastModifiedBy>
  <dcterms:modified xsi:type="dcterms:W3CDTF">2010-10-12T12:27:17Z</dcterms:modified>
  <cp:revision>20</cp:revision>
  <dc:subject/>
  <dc:title>幻灯片 1</dc:title>
</cp:coreProperties>
</file>