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chimes.wav" ContentType="audio/x-wav"/>
  <Override PartName="/ppt/media/image7.png" ContentType="image/png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19D3-48CA-46CD-8BB1-BD094CC2A9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 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186-35C5-4E2A-89D5-971284CA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904-9C08-4FC2-87B1-CDFB7A3C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4A74AF-231E-41F7-AB4C-9D51031F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88EC26-3FEF-4A84-B235-D0FBCBFC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9624B5-A004-4B38-BED2-FF3385B7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E4A724-1722-4F22-9274-04335FF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5AF25A-4D02-48A3-AAB1-872D1A6C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EC0137-608F-4269-9C11-DEF9A796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AE3478-2939-4560-98F3-727FDD90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2D0E57-B64B-43AE-AE8E-6C8940C4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CE19F9-84E4-474A-837C-FB212250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A37F5-7EC6-465C-8B54-652A8429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090-E84E-4C5A-8855-501A338F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2DB16-D7AF-4719-923F-DFD3FCC9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29100-D5FB-496A-8FAF-9CD3635D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DA0DA-6BB7-4533-B3C9-9DCF6D57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E2F76-0CA6-4BAC-B495-16DC0147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4A9F4-FD5A-4B5D-AB45-120182E7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4179E-EE15-44BD-A1F8-ECEEAFAF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273B2-F5B1-442A-A6E2-0A41F429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DC787-DB87-417C-A5DC-770C284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023DF-4F78-4344-85AC-50BAE61D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D8557-953C-467E-A026-05015100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D0E-0BE0-4964-87DE-E4FD0140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A80E9-D2B7-4EFE-9CA1-B6C6C6BF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1FA86-DF39-4DED-8903-C991EF93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992C5-C76C-4323-AF56-981B03B6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3FB07-206E-4957-B268-0AF4E4C8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7A4EE-95FF-46BD-A833-C8D06084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2E5F1-D434-4114-9F39-080E94FA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2B825-EE59-4E15-B5BD-E3192034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D5815-D99F-48E4-A81F-51B02960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B99F5-058F-4A5D-8A94-0DEB6001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CA0E6-DAEC-45BD-B8AF-DA15195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EAA6-7512-4EC0-8843-E167E866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23C42-9511-45CF-94C6-C109FA9F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60B04-A19C-4F48-A09F-9E0E7C1A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115BA-3CA0-4B7C-9F8A-E1510027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F98DE-8699-46A8-B428-0CC5CE13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656A8-5B93-4182-8743-E6265B52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025C4-9449-4007-A874-7819397E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1C23B-41CE-4993-82EC-67771F5B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1E8FD-44DA-40F2-BF99-E3B863BB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0DA9E-6045-4C39-BDDB-7881F2A9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BDB6E-7ECC-43AD-B3C8-5FB015CF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A124-4F29-40EC-B7FA-0ED578DA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C0247-E3E5-414D-A4FB-3C572BB4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802C0-EB58-4544-B9E1-65737AF2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160CA-704C-4ABB-B645-A03AB16A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673E1-2AA4-4F0B-879F-62C0DF20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FE282-8AFB-4A74-957E-EE9D7ED3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0766-459D-4B9F-A2F9-C30F5AA5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CFFD-9D03-453F-9B25-931C213E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6A5D-7762-4113-92CC-07905427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EB67-0F64-4C05-A5F0-283A9CDE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9A71-9EB6-4F2B-8DA2-F89844C5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BA3-AD79-4444-8374-0EB1534D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6BC5-B21E-46C7-998F-3130F43A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6E1F-17BE-4B09-B295-95D5FC5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E23D-8762-49B7-B8B8-C3E99E6C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C9AC-A281-4EE8-8FED-328D9BB7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8416-D595-4EB8-A41E-E4C60B6A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B94C-2D7D-4992-96A9-E05B76B7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0088-F72B-4FF9-B6D1-4232323A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76C3-2DA2-4EC0-ACF2-8FF15184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43E0E-AB27-4E12-8090-C958AB68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F04E-50B3-4FBF-B3EF-E16D6232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0B3-AE2F-4CEA-8BFF-B6AC69E8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2D70-9D7B-4A4F-AFEE-2D2380F3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998A-A187-487E-944B-C1E241CD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3D28-1CEF-43DA-81F7-5FD00DB8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AFE2-D9EA-484A-B29B-EF03B740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B6CE-278C-40B9-9CCC-56BCDBAE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2CA2-4F34-4523-8375-15BBEE20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FBDA-D359-4873-86E5-496C6D6F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6307C-A2B7-401F-AE3C-F697ECAF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0A2B-BBE4-4284-B734-57057DF9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8302C-B402-462F-81AC-4EFDB330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48C-6B96-4387-BF43-DB4A871D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B27FB-0883-4AF6-A644-70EBB240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88929-1E43-4136-9E88-3A9F4CF0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E558F-6499-4077-A5C1-4A5B82FB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0667-9060-4007-9ABC-A5A786E3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1DCCF-0A96-40DA-BDDD-0CE52AE8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3059E-C597-40FB-91D0-73FFF5C6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5C6B-ACFE-4800-9C07-CF0B6932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48D0-6B35-41F8-8EDF-BBD4D6A9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DF6F8-AD00-497A-AD94-106D5D88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6A1D-89C0-401D-9358-8EC4062C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105-982A-4036-BD5F-44469663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3E05B-0022-440A-A15C-F9F2CB78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F1411-46C1-45CD-A3E9-A2542151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A81CB-C35D-49A5-89F2-E248B2B5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EA59D-F7C2-4827-81DE-263310BD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26B2-0B29-4FE1-8ED3-C842EB4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12C23-17F3-4C6E-8114-F31EC4C8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138A-38DF-44F8-AFAC-F1BC337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024ED-6993-4E73-9BD5-21A261CF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DD2A7-5752-47BF-B499-FA52C908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07F8E-E9AD-4D21-9C6D-EFA097E3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E79-FA9F-4543-B3F6-E172C17A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B840E-A9EE-4459-B03E-0DE11695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1EEED-14A4-42FC-8B19-0B372CE6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71E4E-3FD1-4811-9A9D-BC8EF4E6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2D122-9920-4F39-85BE-AAE971B7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4007D-08E6-4BCA-B5B3-E4765D00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AA54A-CE87-48EC-81AE-93D6A618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C62EB0-AF8E-4989-9BE5-537DD9C5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7BE41-B550-483E-89C9-0DEA4DAB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BA878-4039-4450-B404-D984545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51C1C-2563-4DD2-93EB-FECA346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B6F-DCEA-4266-8719-288A6DEB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F69D4-FF10-44BA-A817-0C00A39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855DD-B51C-4FA5-99F5-CA45EA0A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C3124-DE34-4963-9093-32E55A99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671A-B6F8-4E02-93CD-381F9EB1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3D7B4-0DCB-4939-8115-889B0A1C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1E697-D608-4CF3-82AD-CCB9189C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E9D61-12C4-46FA-892E-0376CC93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C1CFA-8C6F-4435-8BC0-BB56428C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6EFED-8644-4C03-9A19-1B3893DA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50D39-C524-4F70-81A1-F270369D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C60-AB55-41C2-84B3-BE7E897A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5FB27-B75E-477A-9E6D-558D9924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5AB84-664A-4945-BE1F-CFBD28D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78347-56A2-4286-90F8-BE4F10BC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C452B-E0D9-4DC2-A4C2-86C3D2B1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8C265-5BEA-4ABF-AD7F-5A9419A6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24CC0-B865-4081-97AC-0FA3FB8A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11276-4B97-4344-9379-49DFEB8C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B85C0-A08B-44D2-AC1B-30602558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AB89A-98AE-4A7A-A43A-F632781C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92805-B6C5-454A-8D06-9656CB7C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4AA-83D0-4090-9042-9FA8220A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DB44C-4B81-46D8-8592-C76234C5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18034-86F5-401C-9C4F-884FCE3E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A09B0-EF65-4552-AAED-8DBF71AE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10C19-0448-4FBF-8EE7-4C233972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62B03-E7ED-4182-85C3-AB5C8DAC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C60B5-1A69-441B-9D48-E933A262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BAD36-8E92-4214-9575-B7E266D9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EED6EE-C79A-4D92-9B39-62EABE5F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6774FD-5B39-4FA9-9C72-866DFF16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60D2FE-32A6-4915-95CB-2C36DAD8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35A6-5ACC-4202-AB74-E078AD58A5BD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2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3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C04C-928D-48DE-BDE1-B0835C4197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7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2B6A-E8BA-48F4-8D31-6593FFE4C37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E0C5-CEC0-46DA-ABBA-EE1311396C0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3951-8BF9-4110-9EA3-C68ABC2F5195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56F2-0BC3-4E1A-A3F6-5754EC6D276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8A98-52F3-4B95-97C7-D9B5F7BB35E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B5A8-C3B8-4D77-9BE8-9389099324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3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4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CF14-764D-4B47-8578-981479B087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FC3F-6A59-4CFC-9015-B6B8CBFEA1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529B-8080-4F4F-AE65-BCF4C43F03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34D7-45DE-4AC8-B39E-A702FB8C63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2000.cn/UploadFile/2005-6/2005623133526887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1476360" y="1844640"/>
            <a:ext cx="511164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第二十五章 概率初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5229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河北黄骅新世纪中学初三数学组王老师制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10·10·27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187200"/>
            <a:ext cx="81536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试分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一堆牌中任意抽一张抽到红牌”这一事件的发生情况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19320" y="4581360"/>
            <a:ext cx="431640" cy="806760"/>
          </a:xfrm>
          <a:prstGeom prst="upArrow">
            <a:avLst>
              <a:gd name="adj1" fmla="val 50000"/>
              <a:gd name="adj2" fmla="val 4672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068720" y="4572000"/>
            <a:ext cx="432000" cy="579600"/>
          </a:xfrm>
          <a:prstGeom prst="upArrow">
            <a:avLst>
              <a:gd name="adj1" fmla="val 50000"/>
              <a:gd name="adj2" fmla="val 3354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020000" y="4492800"/>
            <a:ext cx="431640" cy="520560"/>
          </a:xfrm>
          <a:prstGeom prst="upArrow">
            <a:avLst>
              <a:gd name="adj1" fmla="val 50000"/>
              <a:gd name="adj2" fmla="val 3015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12000" y="5229360"/>
            <a:ext cx="275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能发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可能不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12920" y="5572080"/>
            <a:ext cx="24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必然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975040" y="534348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必然不会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5977080" y="1298520"/>
            <a:ext cx="2771640" cy="292248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176040" y="129528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3162240" y="1341360"/>
            <a:ext cx="25621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652920" y="4076640"/>
            <a:ext cx="1796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明年我市十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的最高气温是三十摄氏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8360" y="2708280"/>
            <a:ext cx="79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在标准大气压下，温度在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摄氏度以下，纯净水会结成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68360" y="184464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009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日当天我市下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95280" y="333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一匹马奔跑的速度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6920" y="1341360"/>
            <a:ext cx="741708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79280" y="141300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·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出下列事件各是哪类事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王数学小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哈亚运会中国队金牌总数第一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年有四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④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袋中在若干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红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红从中摸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红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⑤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天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79280" y="620640"/>
            <a:ext cx="878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·  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指出下列事件各是哪类事件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①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小王数学小考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0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②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多哈亚运会中国队金牌总数第一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③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年有四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④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袋中在若干球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其中有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红球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小红从中摸出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球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都是红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⑤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明天下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59220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0920" y="0"/>
            <a:ext cx="88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⑴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度量三角形内角和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结果是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60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⑵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正常情况下水加热到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0°C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就会沸腾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⑶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掷一个正面体的骰子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向上的一面点数为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⑷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经过城市中某一有交通信号灯的路口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遇到红灯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(5)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某射击运动员射击一次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命中靶心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476360" y="7650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可能事件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124000" y="213372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cc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99cc"/>
                </a:solidFill>
                <a:latin typeface="Arial"/>
              </a:rPr>
              <a:t>必然事件</a:t>
            </a:r>
            <a:r>
              <a:rPr b="1" lang="zh-CN" sz="4400" spc="-1" strike="noStrike">
                <a:solidFill>
                  <a:srgbClr val="0099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33577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随机事件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780000" y="47242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随机事件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609588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机事件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0920" y="2133720"/>
            <a:ext cx="8531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一练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出下列事件中哪些事件是必然事件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哪些事件是不可能事件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哪些事件是随机事件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755640" y="1439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摸球试验：袋中装有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黑球，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白球，这些球的形状、大小、质地等完全相同，在看不到球的条件下，随机地从袋子中摸出一个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26920" y="29941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这个球是白球还是黑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40179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如果两种球都有可能被摸出，那么摸出黑球和摸出白球的可能性一样大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95280" y="26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归纳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：一般地，随机事件发生的可能性是有大小的，不同的随机事件发生的可能性的大小有可能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68360" y="2565360"/>
            <a:ext cx="7559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思考：能否通过改变袋子中某种颜色的球的数量，使“摸出黑球”和“摸出白球”的可能性大小相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42920" y="1467000"/>
            <a:ext cx="889308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一个袋子里装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形状、质地、大小一样的球，其中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白球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红球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黑球，其它都是黄球，从中任摸一个，摸中哪种球的可能性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一个人随意翻书三次，三次都翻到了偶数页，我们能否说翻到偶数页的可能性就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袋子里装有红、白两种颜色的小球，质地、大小、形状一样，小明从中随机摸出一个球，然后放回，如果小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摸到红球，能否断定袋子里红球的数量比白球多？怎样做才能判断哪种颜色的球数量较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已知地球表面陆地面积与海洋面积的比均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如果宇宙中飞来一块陨石落在地球上，“落在海洋里”与“落在陆地上”哪个可能性更大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7308720" y="5805360"/>
            <a:ext cx="1368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思考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736560"/>
            <a:ext cx="90360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⑴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同一枚骰子连续掷两次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朝上一面出现点数之和为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4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⑵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任意四边形的内角和都等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60</a:t>
            </a:r>
            <a:r>
              <a:rPr b="1" lang="zh-CN" sz="5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⑶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辆小汽车从面前经过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它的车牌号码为偶数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⑷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从一副完整扑克牌中任抽一张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它是草花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8000" y="10526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出下列事件是哪类事件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必然事件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可能事件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机事件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64000" y="285264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（必然事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748480" y="1442880"/>
            <a:ext cx="249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不可能事件</a:t>
            </a: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240800" y="4292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（随机事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27280" y="558972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（随机事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376200" y="1916280"/>
            <a:ext cx="829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休得罪了幕府将军，将军决定处罚一休，幸得安国寺长老和百姓们的求情，将军终于同意让一休用自己的聪明才智来决定自己的命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法是将军写下两张签，一张罚，一张免，让一休抽签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抽中罚则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抽中免则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军一心想处罚一休，将军会在写签时怎么写呢？原来将军在两张签上都写上了“罚”。一休不论抽到哪一张都一样要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动脑筋的一休早就料到了这一点。一休会用什么办法应对狡诈的幕府将军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371600" y="0"/>
            <a:ext cx="838080" cy="866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81480" y="0"/>
            <a:ext cx="83844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7238880" y="0"/>
          <a:ext cx="16765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611280" y="836640"/>
            <a:ext cx="606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用“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随机事件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;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必然事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等词语来分析两段内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1890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同学们听过“天有不测风云”这句话吧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的原意是指刮风、下雨、阴天、晴天这些天气状况很难预料，后来它被引申为：世界上很多事情具有偶然性，人们不能事先判定这些事情是否会发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13000" y="32958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3203640" y="836640"/>
            <a:ext cx="5600520" cy="95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152280" y="671400"/>
            <a:ext cx="8991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    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上，我迟到了。于是就急忙去学校上学，可是在楼梯上遇到了班主任，她批评了我一顿。我想我真不走运，她经常在办公室的啊，今天我真倒霉。我明天不能再迟到了，不然明天早上我将在楼梯上遇到班主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午放学回家，我看了一场篮球赛，我想长大后我会比姚明还高，我将长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高。看完比赛后，我又回到学校上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午放学后，我开始写作业。今天作业太多了，我不停的写啊，一直写到太阳从西边落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3200400" y="6019920"/>
            <a:ext cx="914400" cy="64116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641520" cy="64152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641160" cy="6411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4"/>
          <a:stretch/>
        </p:blipFill>
        <p:spPr>
          <a:xfrm>
            <a:off x="7696080" y="228600"/>
            <a:ext cx="641520" cy="6415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641520" cy="64152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6"/>
          <a:stretch/>
        </p:blipFill>
        <p:spPr>
          <a:xfrm>
            <a:off x="5105520" y="6216480"/>
            <a:ext cx="641160" cy="6415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179280" y="1916280"/>
            <a:ext cx="5069160" cy="609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932360" y="4508640"/>
            <a:ext cx="2895480" cy="698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148360" y="6248520"/>
            <a:ext cx="3124080" cy="609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357720"/>
            <a:ext cx="4572000" cy="609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3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755640" y="692280"/>
            <a:ext cx="27860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堂小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6" name=""/>
          <p:cNvSpPr/>
          <p:nvPr/>
        </p:nvSpPr>
        <p:spPr>
          <a:xfrm>
            <a:off x="971640" y="2492280"/>
            <a:ext cx="67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是如何认识必然事件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258920" y="357336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可能事件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84720" y="3500280"/>
            <a:ext cx="709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机事件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9280" y="3919680"/>
            <a:ext cx="89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现在概率的应用日益广泛。本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中，我们将学习一些概率初步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识，从而提高对偶然事件发生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律的认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0"/>
            <a:ext cx="8964360" cy="6857280"/>
            <a:chOff x="0" y="0"/>
            <a:chExt cx="8964360" cy="6857280"/>
          </a:xfrm>
        </p:grpSpPr>
        <p:pic>
          <p:nvPicPr>
            <p:cNvPr id="610" name="" descr="按此在新窗口浏览图片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96436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631080" y="1263240"/>
              <a:ext cx="2800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ff66"/>
                  </a:solidFill>
                  <a:latin typeface="Verdana"/>
                </a:rPr>
                <a:t>降水概率</a:t>
              </a:r>
              <a:r>
                <a:rPr b="1" lang="zh-CN" sz="4400" spc="-1" strike="noStrike">
                  <a:solidFill>
                    <a:srgbClr val="ccff66"/>
                  </a:solidFill>
                  <a:latin typeface="Verdana"/>
                </a:rPr>
                <a:t>90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564000" y="0"/>
            <a:ext cx="9325080" cy="746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果真对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类偶然事件完全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法把握、束手无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吗？不是！随着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事件发生的可能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深入研究，人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现许多偶然事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发生也具有规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循的。概率这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要的数字概念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1280" y="3141720"/>
            <a:ext cx="8064360" cy="2775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正是在研究这些规律中产生的。人们用它描叙事件发生的可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的大小。例如，天气预报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明天的降水概率为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0%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就意味着明天有很大可能下雨（雪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1908000" y="1052640"/>
            <a:ext cx="482472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5.1.1  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随机事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218240" y="449280"/>
            <a:ext cx="6927840" cy="6129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活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问题：下列现象哪些是必然发生的，哪些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可能发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将一小勺绵白糖放入一杯温水中，并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筷子不断地搅拌，白糖溶解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测量某天的最低气温，结果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50°C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物体（比如一小段粉笔或石块）在重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用下自由下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两个正实数相加，（在运算正确的前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）结果是负实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4360" y="87444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：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名同学参加演讲比赛，以抽签方式决定每个人的出场顺序。签筒中有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根形状大小相同的纸签，上面分别标有出场的序号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小军首先抽签，他在看不到的纸签上的数字的情况从签筒中随机（任意）地取一根纸签。请考虑以下问题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859760" y="3715560"/>
            <a:ext cx="41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抽到的序号有几种可能的结果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397880" y="42775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抽到的序号会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97880" y="47808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抽到的序号小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97880" y="52855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抽到的序号会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31160" y="587304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你能列举与事件（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相似的事件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684360" y="649080"/>
            <a:ext cx="75610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：   小伟掷一个质地均匀的正方形骰子，骰子的六个面上分别刻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点数。请考虑以下问题，掷一次骰子，观察骰子向上的一面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428840" y="226152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）可能出现哪些点数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326600" y="298044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）出现的点数会是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326600" y="37681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）出现的点数大于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26600" y="45648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）出现的点数会是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77680" y="5357160"/>
            <a:ext cx="50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能列举与事件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相似的事件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468360" y="2421000"/>
            <a:ext cx="67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在一定条件下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必然会发生的事件叫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________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5280" y="3933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必然不会发生的事件叫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_________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68360" y="4941720"/>
            <a:ext cx="70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可能会发生，也可能不发生的事件叫不确定事件或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42920" y="333360"/>
            <a:ext cx="259236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知识点归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32" name=""/>
          <p:cNvSpPr/>
          <p:nvPr/>
        </p:nvSpPr>
        <p:spPr>
          <a:xfrm>
            <a:off x="4643280" y="2781360"/>
            <a:ext cx="25210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必然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788000" y="3789360"/>
            <a:ext cx="31687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可能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35280" y="5373720"/>
            <a:ext cx="32418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随机事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50920" y="2495520"/>
            <a:ext cx="75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在地球上，太阳每天从东方升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0920" y="3141720"/>
            <a:ext cx="85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明天，我买一注体育彩票，得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500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万大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971640" y="549360"/>
            <a:ext cx="75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判断下列事件中哪些是必然事件，哪些是不可能事件，哪些是随机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79280" y="393372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用长为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cm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4cm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7cm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的三条线段首尾顺次连结，构成一个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4000" y="5084640"/>
            <a:ext cx="69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掷一枚均匀的硬币，正面朝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9:24:59Z</dcterms:created>
  <dc:creator>www.12999.com 12999数学网</dc:creator>
  <dc:description/>
  <cp:keywords/>
  <dc:language>en-US</dc:language>
  <cp:lastModifiedBy>wo</cp:lastModifiedBy>
  <dcterms:modified xsi:type="dcterms:W3CDTF">2010-10-28T23:58:22Z</dcterms:modified>
  <cp:revision>182</cp:revision>
  <dc:subject> </dc:subject>
  <dc:title>www.12999.com 12999数学网</dc:title>
</cp:coreProperties>
</file>