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04F-E5A8-4E8A-8D98-B5786579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FE2-8D06-4448-81D3-AF6DAD1F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C93-3B39-4913-B20D-DD94CCD8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0D9-AB38-4B0A-AA94-D4ED3796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E66-8BB1-4AE7-99F5-5A13970F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166-229C-4094-862E-3B7C14EC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625-B7AB-4669-989B-817A3806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E65-279A-4C55-8AE3-B138831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D20-ABE7-4EAC-80F5-D1A97D90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E82-C2CA-4E46-8025-E519D00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837-9A56-4B3F-997D-AC27086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A8D-C67D-4156-865A-E153431D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47A-E189-41C8-8840-784EA250F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557360"/>
            <a:ext cx="683136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给你无限遐想的美</a:t>
            </a:r>
            <a:endParaRPr b="1" lang="en-US" sz="60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997360"/>
            <a:ext cx="54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与圆有关的面积计算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80000" y="4221000"/>
            <a:ext cx="2376360" cy="172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8720" y="4257720"/>
            <a:ext cx="2590920" cy="171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59640" y="4221000"/>
            <a:ext cx="14270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5520" y="641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下图，有六个等圆按如图甲、乙、丙三种形状摆放，使邻圆互相外切，且圆心线分别构成正六边形、平行四边形、正三角形，将圆心连线外侧的六个扇形（阴影部分）的面积之和依次记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S&gt;P&gt;Q   B.S&gt;Q&gt;P  C.S&gt;P=Q   D.S=P=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595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                   乙                      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565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3860640"/>
            <a:ext cx="2209680" cy="201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352680" y="4226040"/>
            <a:ext cx="2743200" cy="1569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324480" y="3919680"/>
            <a:ext cx="205740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-27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课外作业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00360" y="3438360"/>
            <a:ext cx="3333600" cy="179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0880" y="579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BC=4,DC=2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直径的半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切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阴影部分的面积是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2273400"/>
            <a:ext cx="71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4    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4 -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155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82920" y="2781360"/>
            <a:ext cx="3890880" cy="2752560"/>
            <a:chOff x="2482920" y="2781360"/>
            <a:chExt cx="3890880" cy="2752560"/>
          </a:xfrm>
        </p:grpSpPr>
        <p:sp>
          <p:nvSpPr>
            <p:cNvPr id="146" name=""/>
            <p:cNvSpPr/>
            <p:nvPr/>
          </p:nvSpPr>
          <p:spPr>
            <a:xfrm>
              <a:off x="2482920" y="32702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84360" y="486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86900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31971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40360" y="278136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11640" y="501336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0360" y="30542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327560" y="3540240"/>
            <a:ext cx="11160" cy="1541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-27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课外作业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00600" y="3186000"/>
            <a:ext cx="3666960" cy="2619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17480" y="549360"/>
            <a:ext cx="831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张矩形纸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D,AD=4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面有一个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直径的半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好与对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它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折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落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圆还露在外面的部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阴影部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面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5759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                                       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8080" y="3257640"/>
            <a:ext cx="3667320" cy="2619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8200" y="-27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思考题：（折叠问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7080" y="1011240"/>
            <a:ext cx="719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方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边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为圆心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为半径作弧，则图中阴影部分的面积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果保留</a:t>
            </a:r>
            <a:r>
              <a:rPr b="1" lang="el-GR" sz="32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0720" y="1844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(4-</a:t>
            </a:r>
            <a:r>
              <a:rPr b="1" lang="el-GR" sz="4000" spc="-1" strike="noStrike">
                <a:solidFill>
                  <a:srgbClr val="ff3300"/>
                </a:solidFill>
                <a:latin typeface="Arial"/>
                <a:ea typeface="黑体"/>
              </a:rPr>
              <a:t>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)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cm</a:t>
            </a:r>
            <a:r>
              <a:rPr b="0" lang="zh-CN" sz="32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3360" y="30240"/>
            <a:ext cx="18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95640" y="2828880"/>
            <a:ext cx="3240000" cy="3123360"/>
            <a:chOff x="2195640" y="2828880"/>
            <a:chExt cx="3240000" cy="3123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414520" y="3070080"/>
              <a:ext cx="2733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195640" y="28749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549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04000" y="54925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04000" y="2828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7221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在三角形广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三个角处各建一个半径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的扇形草坪，则草坪总面积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果保留</a:t>
            </a:r>
            <a:r>
              <a:rPr b="1" lang="el-GR" sz="32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82680" y="164772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200</a:t>
            </a:r>
            <a:r>
              <a:rPr b="0" lang="el-GR" sz="4000" spc="-1" strike="noStrike">
                <a:solidFill>
                  <a:srgbClr val="ff3300"/>
                </a:solidFill>
                <a:latin typeface="Arial"/>
                <a:ea typeface="黑体"/>
              </a:rPr>
              <a:t>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米</a:t>
            </a:r>
            <a:r>
              <a:rPr b="0" lang="zh-CN" sz="40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3360" y="30240"/>
            <a:ext cx="18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58920" y="2349360"/>
            <a:ext cx="3313080" cy="3364920"/>
            <a:chOff x="1258920" y="2349360"/>
            <a:chExt cx="3313080" cy="33649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48000" y="2733840"/>
              <a:ext cx="2619360" cy="264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1258920" y="2349360"/>
              <a:ext cx="3313080" cy="3364920"/>
              <a:chOff x="1258920" y="2349360"/>
              <a:chExt cx="3313080" cy="3364920"/>
            </a:xfrm>
          </p:grpSpPr>
          <p:sp>
            <p:nvSpPr>
              <p:cNvPr id="61" name=""/>
              <p:cNvSpPr/>
              <p:nvPr/>
            </p:nvSpPr>
            <p:spPr>
              <a:xfrm>
                <a:off x="3348000" y="23493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58920" y="5254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68720" y="52545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4643280" y="2565360"/>
            <a:ext cx="4249800" cy="3112920"/>
            <a:chOff x="4643280" y="2565360"/>
            <a:chExt cx="4249800" cy="311292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930560" y="2781360"/>
              <a:ext cx="3456000" cy="25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227640" y="256536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43280" y="51577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0" y="514188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54920" y="32130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885080" y="6021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66640" y="-27000"/>
            <a:ext cx="26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例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549360"/>
            <a:ext cx="806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半径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一点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A=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∥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连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阴影部分面积为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50920" y="1413000"/>
          <a:ext cx="90828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413000"/>
                    <a:ext cx="9082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2124000" y="2954160"/>
            <a:ext cx="4680000" cy="2925000"/>
            <a:chOff x="2124000" y="2954160"/>
            <a:chExt cx="4680000" cy="292500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124000" y="2954160"/>
              <a:ext cx="421956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76720" y="3881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00720" y="40510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5321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82920" y="5419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72000" y="541944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541680" y="4290840"/>
            <a:ext cx="669960" cy="1127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44640" y="4281480"/>
            <a:ext cx="797040" cy="1147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68800" y="5243400"/>
            <a:ext cx="148680" cy="90360"/>
            <a:chOff x="4168800" y="5243400"/>
            <a:chExt cx="148680" cy="90360"/>
          </a:xfrm>
        </p:grpSpPr>
        <p:sp>
          <p:nvSpPr>
            <p:cNvPr id="85" name=""/>
            <p:cNvSpPr/>
            <p:nvPr/>
          </p:nvSpPr>
          <p:spPr>
            <a:xfrm flipV="1">
              <a:off x="4168800" y="5268240"/>
              <a:ext cx="85320" cy="42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63840" y="5243400"/>
              <a:ext cx="5364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95672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8200" y="15876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两个同心圆中，三条直径把大圆分成相等的六部分，若大圆半径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阴影部分的面积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果保留</a:t>
            </a:r>
            <a:r>
              <a:rPr b="1" lang="el-GR" sz="32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440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el-GR" sz="4000" spc="-1" strike="noStrike">
                <a:solidFill>
                  <a:srgbClr val="ff3300"/>
                </a:solidFill>
                <a:latin typeface="Arial"/>
                <a:ea typeface="黑体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692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8000" y="3306600"/>
            <a:ext cx="2847960" cy="27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72360" y="609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72360" y="566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34784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图，已知正方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四个顶点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，且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那么图中阴影部分的面积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22827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l-GR" sz="3600" spc="-1" strike="noStrike">
                <a:solidFill>
                  <a:srgbClr val="ff3300"/>
                </a:solidFill>
                <a:latin typeface="Arial"/>
                <a:ea typeface="Arial"/>
              </a:rPr>
              <a:t>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Arial"/>
              </a:rPr>
              <a:t>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78000" y="3102120"/>
            <a:ext cx="3078360" cy="31352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132000" y="3244680"/>
            <a:ext cx="3240000" cy="2911320"/>
            <a:chOff x="3132000" y="3244680"/>
            <a:chExt cx="3240000" cy="2911320"/>
          </a:xfrm>
        </p:grpSpPr>
        <p:sp>
          <p:nvSpPr>
            <p:cNvPr id="98" name=""/>
            <p:cNvSpPr/>
            <p:nvPr/>
          </p:nvSpPr>
          <p:spPr>
            <a:xfrm>
              <a:off x="3132000" y="32446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2000" y="56354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4360" y="55641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1280" y="324468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7640" y="44845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48160" y="3627000"/>
            <a:ext cx="2116080" cy="2117880"/>
            <a:chOff x="3548160" y="3627000"/>
            <a:chExt cx="2116080" cy="2117880"/>
          </a:xfrm>
        </p:grpSpPr>
        <p:sp>
          <p:nvSpPr>
            <p:cNvPr id="104" name=""/>
            <p:cNvSpPr/>
            <p:nvPr/>
          </p:nvSpPr>
          <p:spPr>
            <a:xfrm>
              <a:off x="3560760" y="3627360"/>
              <a:ext cx="2103480" cy="210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548160" y="3627000"/>
              <a:ext cx="2103480" cy="2117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4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465800" y="3478320"/>
            <a:ext cx="4282920" cy="2475000"/>
            <a:chOff x="4465800" y="3478320"/>
            <a:chExt cx="4282920" cy="24750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572000" y="3478320"/>
              <a:ext cx="403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229440" y="5373720"/>
              <a:ext cx="165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65800" y="4565520"/>
              <a:ext cx="6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17080" y="4508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2360" y="44942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6160" y="4910040"/>
              <a:ext cx="3562200" cy="31680"/>
            </a:xfrm>
            <a:custGeom>
              <a:avLst/>
              <a:gdLst/>
              <a:ahLst/>
              <a:rect l="l" t="t" r="r" b="b"/>
              <a:pathLst>
                <a:path w="2244" h="20">
                  <a:moveTo>
                    <a:pt x="0" y="20"/>
                  </a:moveTo>
                  <a:lnTo>
                    <a:pt x="2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2240" y="4740120"/>
              <a:ext cx="4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98560" y="1557360"/>
            <a:ext cx="7561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广西改编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图，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切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B∥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B=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则阴影部分的面积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7760" y="24210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el-GR" sz="4000" spc="-1" strike="noStrike">
                <a:solidFill>
                  <a:srgbClr val="ff3300"/>
                </a:solidFill>
                <a:latin typeface="Arial"/>
                <a:ea typeface="Arial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9280" y="3541680"/>
            <a:ext cx="4319640" cy="2482920"/>
            <a:chOff x="179280" y="3541680"/>
            <a:chExt cx="4319640" cy="24829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98440" y="3541680"/>
              <a:ext cx="4057560" cy="21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03360" y="4879800"/>
              <a:ext cx="3562200" cy="32040"/>
            </a:xfrm>
            <a:custGeom>
              <a:avLst/>
              <a:gdLst/>
              <a:ahLst/>
              <a:rect l="l" t="t" r="r" b="b"/>
              <a:pathLst>
                <a:path w="2244" h="20">
                  <a:moveTo>
                    <a:pt x="0" y="20"/>
                  </a:moveTo>
                  <a:lnTo>
                    <a:pt x="2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58920" y="5430960"/>
              <a:ext cx="735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5640" y="5445000"/>
              <a:ext cx="73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80" y="458136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7280" y="4508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44226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9920" y="4722840"/>
              <a:ext cx="4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81240" y="4734000"/>
              <a:ext cx="399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6578640" y="4903560"/>
            <a:ext cx="1817640" cy="523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578640" y="494172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620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09080" y="61578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95640" y="2128680"/>
            <a:ext cx="50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黑体"/>
                <a:ea typeface="黑体"/>
              </a:rPr>
              <a:t>课堂小结</a:t>
            </a:r>
            <a:r>
              <a:rPr b="0" lang="zh-CN" sz="7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019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外作业：完成讲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2039760"/>
            <a:ext cx="525780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指导</a:t>
            </a: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!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53:32Z</dcterms:created>
  <dc:creator/>
  <dc:description/>
  <dc:language>en-US</dc:language>
  <cp:lastModifiedBy>微软用户</cp:lastModifiedBy>
  <dcterms:modified xsi:type="dcterms:W3CDTF">2012-09-08T02:35:07Z</dcterms:modified>
  <cp:revision>1</cp:revision>
  <dc:subject/>
  <dc:title>幻灯片 1</dc:title>
</cp:coreProperties>
</file>