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5.jpeg" ContentType="image/jpeg"/>
  <Override PartName="/ppt/media/image18.wmf" ContentType="image/x-wmf"/>
  <Override PartName="/ppt/media/chimes.wav" ContentType="audio/x-wav"/>
  <Override PartName="/ppt/media/image16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gif" ContentType="image/gif"/>
  <Override PartName="/ppt/media/image27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7.jpeg" ContentType="image/jpeg"/>
  <Override PartName="/ppt/media/image2.gif" ContentType="image/gif"/>
  <Override PartName="/ppt/media/image26.wmf" ContentType="image/x-wmf"/>
  <Override PartName="/ppt/media/image15.png" ContentType="image/png"/>
  <Override PartName="/ppt/media/image25.png" ContentType="image/png"/>
  <Override PartName="/ppt/media/image22.png" ContentType="image/png"/>
  <Override PartName="/ppt/media/image19.gif" ContentType="image/gif"/>
  <Override PartName="/ppt/media/image21.png" ContentType="image/png"/>
  <Override PartName="/ppt/media/image17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20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EA9-FF71-4439-B23F-8A23B6AB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104-6B2F-4DF9-AEAA-25B3808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4A53D-7867-423F-870F-42E879F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A90E5-4803-452D-9ADA-3C4BDAB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5000E-FDA6-4701-B973-F0C7688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9541-9154-4FEA-B7F2-82AC9A8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3F0B9-B4AE-4529-B201-34843D1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567DB-B3ED-4104-8A74-8B639B4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240C-20C6-4C28-9C28-C82F9F0A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AE4AC-BD41-4721-8AE3-E615E9C4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F34FE-343D-4699-83BD-DDB16AFF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7BCE4-E102-403D-8E35-DFC403C7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C8A-602A-45C7-A99A-DFD7F12B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C4387-4065-47E5-9E13-53204C7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2D33D-D917-4D9C-B7CE-D17BC1F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660AF-3229-4C30-9AB1-67A8DED5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0ED7-BE0A-4A8D-AD3F-DA0908D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C6D0-C11D-4A28-9C9D-43AA1531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9476-C8DD-491D-A4B3-3E7C6D3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2F2A2-A7A2-4116-A195-E189C86C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76B0C-73D8-428C-8155-35DE09E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ABFC-9ECE-4B01-A238-AC71647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FB2EB-69E8-46E4-8954-FE7298D7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26A-FEA2-4D73-9872-8958B02C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9891E-5A8F-40D1-8558-AC11B54A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BFAD5-0C80-456E-8C14-EA09601A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25C8-EB00-47B3-BD3D-3F0D80A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4840-EB7A-48BE-904D-34C49B9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FE8B9-5113-463F-AED3-82C89CCF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3758-7604-4F29-9641-DF4FD6F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2E402-3497-439A-A6FE-A193E984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BDADA-0CE5-4F77-B53D-335921E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8CACE-8024-4194-8C82-4074A9E6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75B2-A246-45BC-8441-EA969A3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FCA-4E62-4E1D-87C4-167720A7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33F5D-3B81-49C7-B29D-35DF52D6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8474D-CD84-4A9A-8E80-4112B98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1D696-B1BD-41F3-ACEB-2D5ED329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7214A-AF00-4CF2-815D-CDF5F5B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1B2FF-C2C4-4F20-A1E8-435620B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F158D-0D40-4DBB-9BAD-368B663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8FDF1-3430-48D8-B219-DD4481E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39E58-5F1A-4643-8610-7C10B31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61D80-4AD9-4227-88F7-F6C22DB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84C4C-B740-4886-9387-7B97661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DE0B-B436-4DF1-8A32-9A08499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5EC36-0881-416C-AE7E-2893790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9ECF2-51C3-4D30-B270-6E4FBC0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C7CA-7E78-4071-A700-BBAE8B5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1469E-A026-4661-8170-BB1A6A2D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766C-1D33-4833-948C-45D3387D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C66F6-8368-454C-BA65-4513CD0C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F2E06-36ED-4C41-9478-ACDEAD19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AC0C1-70FA-4D9C-91A2-20DB2AEB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106AD-5144-4C70-AE7C-7A6EF3F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97A91-027B-468A-8339-E15DC1FD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A30-494E-4294-A6C7-0D0DD07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53430-9558-4A22-9739-9578471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23846-DC2C-4BCF-95D1-0949B02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F2178-BC58-413B-84EC-080B08D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8AE21-E68D-4918-991D-63450EA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0BDEF-4DE1-4A73-9FDF-3E8A7DE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30D6D-0B86-406D-BD5A-D27013EC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6D3F4-F012-4101-9949-551CD559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B4A2F-6193-43E4-A6F9-69547930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16304-2E24-4D34-8099-3A8BCB3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C778F-7DA3-4FA4-B4C7-C39EA55A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C6F0-7206-4F7A-B127-736EFE07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C0CE2-8CEC-4ABC-86A9-F571E2C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87E9F-F1CC-4B5E-910D-8A50465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7D6DE-793A-4D98-9F3A-646ED06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12B6E-D01E-4880-87E1-F415B32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EBBD0-4DCD-4A83-A385-255D240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20DAE-798A-4CEC-941F-ECC40009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1FF5F-C8D4-4D48-838A-117DFAA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EBBAF-B776-49B7-9D81-564583F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8CB4A-17D7-46DC-8E4C-0872DF3E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1D9E-8D3F-446B-BC47-46801E9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E3B-381E-4C84-9A0B-E93DF5D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8C62-CDC4-4695-9300-3955F11B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518-326B-4AEF-B7AF-C0ED43B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CB3-3E9F-4A3D-B268-ACC8621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00E9-28A2-4824-8642-37D6F2D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561-1AD6-4979-BE88-4E12D10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455-54C4-4E02-9786-65E09656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CCB-345C-4F47-B2AB-236B0C7A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F83E-5FA0-4C44-84D9-579F0AC5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9521-3CEC-4752-80EC-5866717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43A9-4C58-4F98-9000-DDD93C8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00EF-6046-44E6-87B8-F640E1F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1FC6-1E3B-476B-A1F0-937A09C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B17-B72A-498C-89EF-36AEEF06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0586-5DF7-4AFA-9004-C1D0A07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F34E-E04B-4C1E-AF5E-C9C212A7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C2C4-7C8B-4EE2-B0D6-009FE54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35DF-D58B-4A78-80DF-1D87C1C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12D3-B78E-4B23-ADD1-EBA10C5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694F-D3C2-4910-8504-62E92053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8FB8-7FF3-492E-9F14-4A24025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96A3-D2AC-4C7F-A3CB-58E2BFB5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AA2E8-36E5-416A-BC20-E56760C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C3C3-6C2F-4FA5-B512-DB95353E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117-A1EB-48A2-8EF6-CD8AC0FE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3D4C-F5FE-4454-AB76-E6E6138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7AD9-7AE1-4D46-9550-4AAE339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0155-0B8B-4F8F-ABC2-D375F85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5DE2-15D1-4388-B7CA-C122F69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BEBA7-A69C-4AC2-9FE1-CFDF9A4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2432-2C3E-4474-97DA-C0A8AF1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2248-9C51-46DF-99EC-6BFA0E1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B07F-1DE2-4F2B-87D1-121A8189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BD6D-7721-45C2-B12D-E3207AE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95A8-6C96-43EB-BDD5-246ABA56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00B-1FF6-4BCC-8538-3429F72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BE7F-DEA2-46E6-B4B8-1DC6D66A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C0A5-8A68-454F-BB0D-A4F1DA5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36A0-E773-4145-A00D-CA7D7C1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E4738-8382-4718-BF28-95506BF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7F51-32EA-43EF-983B-804E956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3D07-BEE2-41BB-ABAE-9325C77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9E60-B0EE-4D8E-A1E4-66A4872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8897-A7DE-4DCA-91C9-9316DFF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D016-79FB-47D6-BF03-3E083FF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28C8-4B72-4E66-B5C6-4858C6E5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9C6-57AA-4CC1-926D-6789895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92B9-4D01-433B-BEB3-C45955A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FCD07-AEDE-4661-B483-48F96EF3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0A94C-C090-458C-90B8-89300D7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BD0C4-31FD-4269-B013-629AB8F1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AF57E-D1D6-4218-B4B2-528579A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1D2B1-19F0-4451-B0A3-0810E46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9E9E7-02D4-4D5F-870C-58240A4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94E89-41D2-4FD9-8722-F0A96D5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40915-DEBC-4D84-9A4E-318772B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ED588-D653-43F8-96BA-18B9CEB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EB7-8BC0-4F5F-9F50-4DC97BC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C94E0-5C4B-490E-9CD6-8FB6510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3519F-87A8-498D-B97F-2140B652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387CA-F75A-4301-AA41-9BA985A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0301-AE30-4EBF-B6A1-F8BC9EF1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B82D-DA0B-4010-9E49-D8ED560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403F-76E3-499C-9E3E-37005901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6988-73FE-4362-B922-E2B77EFD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B0CE-2191-4B1D-ABED-58CCB01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5892-7712-4AEF-981A-AC1A45B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831BE-2264-4214-A450-18A7933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EE2-10AB-4EDE-A638-CCBF88C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8A104-220C-4A26-A884-7A6B8C9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0D605-DEED-4F28-9C30-60F9B5D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0024-3079-4B11-A2EB-7E22D0D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6201-4369-48F6-9585-9F23D9D0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4C67D-E62A-45EA-BE0A-3F025561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4D494-BF8A-4AF5-81C3-74729AEE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A64FE2-1431-4FC9-B491-298D2F0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DE0D6-BA17-4865-BA93-3085EC8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21E0B-2A49-4CD2-BF4E-16A0337A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FCD27E-B62B-4142-8B65-0D040010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AB3-B11A-4C88-B620-AD2BFAE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ACAE4-AC03-40D0-8AE1-0ECCCE0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EA875-00C7-44DD-AF06-C216D1B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B95FE-C5E4-48A0-851D-9A5CB19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A5F25-06F1-44F7-8491-51C5194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30504-BF1E-4F7D-AC43-E30F814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84492-8D44-43F2-B0A2-5F2BF7A7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1C020-1898-4810-B38F-49993677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FF982-F6FE-4D8F-9A95-CD14A4BF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179A-77F4-494E-9A39-D0BAEE96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4F44-20B8-46CB-8D4C-EF296F5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9FC-8726-46C2-BE89-79C897A77B1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ECE4-EB36-4150-B306-0E1F2B746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7D3D-3532-4CE3-A59B-250BEF79B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690C-16BF-4DC0-965D-334FF99810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763-3ED4-40E1-962B-10CBA63B253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1CB-4491-49BC-B67E-2BBBB6B626E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65A-529E-454D-89F1-97557FF7F40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6B6-9FFC-43CC-98E6-2ECDED1790F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DFD-EFBD-4720-BE19-CE8C9B344A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3FC-5429-439F-B396-41C83CBFAA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8ADA-493D-453F-892D-984186B3BB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F8F-7BB9-4750-A905-EA9AD3F794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111-DEF5-432C-9F19-3A71F21EA1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6E0-5CFC-4A31-B39D-60D1F1939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hyperlink" Target="file:///&#23432;&#26666;&#24453;&#20820;.swf" TargetMode="External"/><Relationship Id="rId5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2000.cn/UploadFile/2005-6/200562313352688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692360" y="765000"/>
            <a:ext cx="511164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4e00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十五章 概率初步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4e00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66247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你能举出生活中的例子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、不可能发生事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、必然发生事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、可能发生，也可能不发生事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84360" y="1086480"/>
            <a:ext cx="7561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伟掷一个质地均匀的正方形骰子，骰子的六个面上分别刻有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点数。请考虑以下问题，掷一次骰子，观察骰子向上的一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57280" y="226152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可能出现哪些点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371960" y="298044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71960" y="376812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出现的点数大于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371960" y="456480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76360" cy="139860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 txBox="1"/>
          <p:nvPr/>
        </p:nvSpPr>
        <p:spPr>
          <a:xfrm>
            <a:off x="250920" y="189000"/>
            <a:ext cx="1368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539640" y="1989000"/>
            <a:ext cx="67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在一定条件下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必然会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必然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68360" y="357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必然不会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可能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4360" y="4365720"/>
            <a:ext cx="7099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可能会发生，也可能不发生的事件叫不确定事件或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随机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88000" y="404640"/>
            <a:ext cx="2376720" cy="1656000"/>
          </a:xfrm>
          <a:prstGeom prst="cloudCallout">
            <a:avLst>
              <a:gd name="adj1" fmla="val -49800"/>
              <a:gd name="adj2" fmla="val 104842"/>
            </a:avLst>
          </a:pr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e004"/>
                </a:solidFill>
                <a:latin typeface="Arial"/>
              </a:rPr>
              <a:t>笔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1280" y="260280"/>
            <a:ext cx="259236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点归纳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95280" y="2205000"/>
            <a:ext cx="75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在地球上，太阳每天从东方升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9528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有一匹马奔跑的速度是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千米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24000" y="3429000"/>
            <a:ext cx="85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明天，我买一注体育彩票，得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万大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971640" y="54936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判断下列事件中哪些是必然事件，哪些是不可能事件，哪些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5280" y="407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用长为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三条线段首尾顺次连结，构成一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9640" y="5229360"/>
            <a:ext cx="69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掷一枚均匀的硬币，正面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3276720" y="1052640"/>
            <a:ext cx="529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必然事件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一定条件下重复进行试验时，在每次试验中必然会发生的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76720" y="270828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可能事件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定条件下重复进行试验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每次试验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发生的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68360" y="4365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随机事件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定条件下，可能发生也可能不发生的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62120" y="54100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事先不能预料即具有不确定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700360" y="148428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66560" y="198900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确定性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987640" y="486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称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偶然性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0" y="189000"/>
            <a:ext cx="2339640" cy="1007640"/>
            <a:chOff x="0" y="189000"/>
            <a:chExt cx="2339640" cy="1007640"/>
          </a:xfrm>
        </p:grpSpPr>
        <p:sp>
          <p:nvSpPr>
            <p:cNvPr id="995" name=""/>
            <p:cNvSpPr/>
            <p:nvPr/>
          </p:nvSpPr>
          <p:spPr>
            <a:xfrm>
              <a:off x="1023120" y="626040"/>
              <a:ext cx="1316520" cy="326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5760" y="217440"/>
              <a:ext cx="657360" cy="734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0" y="626040"/>
              <a:ext cx="1339200" cy="55620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0" y="640800"/>
              <a:ext cx="1339200" cy="55584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560880" y="316440"/>
              <a:ext cx="306000" cy="59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！</a:t>
              </a:r>
              <a:endPara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1170000" y="189000"/>
              <a:ext cx="464040" cy="51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归纳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1738800" y="444240"/>
              <a:ext cx="464040" cy="51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总结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4278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能举出生活中的例子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必然事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不可能事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随机事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755640" y="807120"/>
            <a:ext cx="784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名同学参加演讲比赛，以抽签方式决定每个人的出场顺序。签筒中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形状大小相同的纸签，上面分别标有出场的序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小军首先抽签，他在看不到的纸签上的数字的情况从签筒中随机（任意）地取一根纸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判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----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什么事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884240" y="371556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到的序号有几种可能的结果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69360" y="4277520"/>
            <a:ext cx="26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到的序号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40640" y="478080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到的序号小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340640" y="528552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到的序号会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6981840" y="3716280"/>
            <a:ext cx="21621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592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79280" y="234936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度量三角形内角和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结果是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正常情况下水加热到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00°C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就会沸腾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掷一个正面体的骰子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向上的一面点数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⑷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经过城市中某一有交通信号灯的路口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遇到红灯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某射击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运动员射击一次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命中靶心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435640" y="2205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能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659640" y="2852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必然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16436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300720" y="443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916360" y="486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2720" y="333360"/>
            <a:ext cx="85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一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出下列事件中哪些事件是必然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哪些事件是不可以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哪些事件是随机事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50920" y="765000"/>
            <a:ext cx="8893080" cy="2806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列成语反映的事件是随机事件的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中捞月                ②一箭双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刻舟求剑                ④守株待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拔苗助长                ⑥瓮中捉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179280" y="0"/>
            <a:ext cx="3581280" cy="686880"/>
            <a:chOff x="179280" y="0"/>
            <a:chExt cx="3581280" cy="686880"/>
          </a:xfrm>
        </p:grpSpPr>
        <p:grpSp>
          <p:nvGrpSpPr>
            <p:cNvPr id="1020" name=""/>
            <p:cNvGrpSpPr/>
            <p:nvPr/>
          </p:nvGrpSpPr>
          <p:grpSpPr>
            <a:xfrm>
              <a:off x="179280" y="0"/>
              <a:ext cx="2361960" cy="519840"/>
              <a:chOff x="179280" y="0"/>
              <a:chExt cx="2361960" cy="519840"/>
            </a:xfrm>
          </p:grpSpPr>
          <p:sp>
            <p:nvSpPr>
              <p:cNvPr id="1021" name=""/>
              <p:cNvSpPr/>
              <p:nvPr/>
            </p:nvSpPr>
            <p:spPr>
              <a:xfrm>
                <a:off x="1792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我思我进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058840" y="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25412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5" name=""/>
          <p:cNvSpPr/>
          <p:nvPr/>
        </p:nvSpPr>
        <p:spPr>
          <a:xfrm>
            <a:off x="7380360" y="692280"/>
            <a:ext cx="1225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79280" y="3645000"/>
            <a:ext cx="8498160" cy="132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口袋中装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红球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黄球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黑球，它们除颜色不同外，其余均相同。小强从口袋中摸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球，他会摸出哪三个球呢？请分别说出一个不可能事件、一个随机事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必然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395280" y="1904760"/>
            <a:ext cx="8299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休得罪了幕府将军，将军决定处罚一休，幸得安国寺长老和百姓们的求情，将军终于同意让一休用自己的聪明才智来决定自己的命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方法是将军写下两张签，一张罚，一张免，让一休抽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抽中罚则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抽中免则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将军一心想处罚一休，将军会在写签时怎么写呢？原来将军在两张签上都写上了“罚”。一休不论抽到哪一张都一样要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爱动脑筋的一休早就料到了这一点。一休会用什么办法应对狡诈的幕府将军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371600" y="0"/>
            <a:ext cx="838080" cy="866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81480" y="0"/>
            <a:ext cx="83844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11280" y="836640"/>
            <a:ext cx="606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你用“</a:t>
            </a:r>
            <a:r>
              <a:rPr b="1" lang="zh-CN" sz="3200" spc="-1" strike="noStrike">
                <a:solidFill>
                  <a:srgbClr val="7979a5"/>
                </a:solidFill>
                <a:latin typeface="宋体"/>
              </a:rPr>
              <a:t>随机事件</a:t>
            </a:r>
            <a:r>
              <a:rPr b="1" lang="zh-CN" sz="3200" spc="-1" strike="noStrike">
                <a:solidFill>
                  <a:srgbClr val="7979a5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7979a5"/>
                </a:solidFill>
                <a:latin typeface="宋体"/>
              </a:rPr>
              <a:t>必然事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等词语来分析中间两段的内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同学们听过“天有不测风云”这句话吧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它的原意是指刮风、下雨、阴天、晴天这些天气状况很难预料，后来它被引申为：世界上很多事情具有偶然性，人们不能事先判定这些事情是否会发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000" y="32958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5600520" cy="95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rcRect l="29929" t="29433" r="31045" b="347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6227640" y="2708280"/>
            <a:ext cx="7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？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4" name=""/>
          <p:cNvSpPr/>
          <p:nvPr/>
        </p:nvSpPr>
        <p:spPr>
          <a:xfrm>
            <a:off x="324000" y="260280"/>
            <a:ext cx="77770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守株待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宋人有耕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田中有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兔走触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折颈而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释其耒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lei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而守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复得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兔不可复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身为宋国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>
            <a:hlinkClick r:id="rId4"/>
          </p:cNvPr>
          <p:cNvSpPr/>
          <p:nvPr/>
        </p:nvSpPr>
        <p:spPr>
          <a:xfrm>
            <a:off x="8496360" y="6499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7301"/>
                </a:moveTo>
                <a:lnTo>
                  <a:pt x="13386" y="7301"/>
                </a:lnTo>
                <a:lnTo>
                  <a:pt x="13769" y="7667"/>
                </a:lnTo>
                <a:lnTo>
                  <a:pt x="22978" y="7667"/>
                </a:lnTo>
                <a:lnTo>
                  <a:pt x="23535" y="8224"/>
                </a:lnTo>
                <a:lnTo>
                  <a:pt x="23535" y="8772"/>
                </a:lnTo>
                <a:lnTo>
                  <a:pt x="25380" y="8772"/>
                </a:lnTo>
                <a:lnTo>
                  <a:pt x="25746" y="8224"/>
                </a:lnTo>
                <a:lnTo>
                  <a:pt x="26485" y="8224"/>
                </a:lnTo>
                <a:lnTo>
                  <a:pt x="26485" y="13376"/>
                </a:lnTo>
                <a:lnTo>
                  <a:pt x="25746" y="13376"/>
                </a:lnTo>
                <a:lnTo>
                  <a:pt x="25380" y="12828"/>
                </a:lnTo>
                <a:lnTo>
                  <a:pt x="23535" y="12828"/>
                </a:lnTo>
                <a:lnTo>
                  <a:pt x="23535" y="14107"/>
                </a:lnTo>
                <a:lnTo>
                  <a:pt x="13952" y="14107"/>
                </a:lnTo>
                <a:lnTo>
                  <a:pt x="13952" y="9877"/>
                </a:lnTo>
                <a:lnTo>
                  <a:pt x="13769" y="9877"/>
                </a:lnTo>
                <a:lnTo>
                  <a:pt x="13386" y="10243"/>
                </a:lnTo>
                <a:lnTo>
                  <a:pt x="12472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24000" y="278136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，他为什么会被国人所耻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971640" y="2565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道理很简单，只是那宋国人一时鬼迷心窍，糊涂得不行罢了。试想，他偶尔捡到命丧树下的野兔，这种机会可谓“千载难逢”，可他却把这极为偶然的事情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当作必然事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然事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，每天守在树旁而不去种地。结果不但再也没有捡到野兔，而且连田地也荒芜了，还落个被人们耻笑的下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7423200" y="0"/>
            <a:ext cx="17208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039" name=""/>
          <p:cNvGrpSpPr/>
          <p:nvPr/>
        </p:nvGrpSpPr>
        <p:grpSpPr>
          <a:xfrm>
            <a:off x="4572000" y="1125360"/>
            <a:ext cx="1944360" cy="1008360"/>
            <a:chOff x="4572000" y="1125360"/>
            <a:chExt cx="1944360" cy="1008360"/>
          </a:xfrm>
        </p:grpSpPr>
        <p:sp>
          <p:nvSpPr>
            <p:cNvPr id="1040" name=""/>
            <p:cNvSpPr/>
            <p:nvPr/>
          </p:nvSpPr>
          <p:spPr>
            <a:xfrm>
              <a:off x="4572000" y="1125360"/>
              <a:ext cx="1873080" cy="1008360"/>
            </a:xfrm>
            <a:prstGeom prst="cloudCallout">
              <a:avLst>
                <a:gd name="adj1" fmla="val 99236"/>
                <a:gd name="adj2" fmla="val -54564"/>
              </a:avLst>
            </a:prstGeom>
            <a:solidFill>
              <a:srgbClr val="ccff99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3280" y="134136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不能忘哦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179280" y="907920"/>
            <a:ext cx="31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311"/>
                </a:solidFill>
                <a:latin typeface="黑体"/>
                <a:ea typeface="黑体"/>
              </a:rPr>
              <a:t>课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311"/>
                </a:solidFill>
                <a:latin typeface="黑体"/>
                <a:ea typeface="黑体"/>
              </a:rPr>
              <a:t>P126</a:t>
            </a:r>
            <a:r>
              <a:rPr b="1" lang="zh-CN" sz="2800" spc="-1" strike="noStrike">
                <a:solidFill>
                  <a:srgbClr val="151311"/>
                </a:solidFill>
                <a:latin typeface="黑体"/>
                <a:ea typeface="黑体"/>
              </a:rPr>
              <a:t>练习做在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79280" y="2781360"/>
            <a:ext cx="8569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寻找现实生活中必然事件、不可能事件、随机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在体育运动中寻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在文艺歌曲中寻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在气象自然中寻找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在成语故事中寻找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1236240" y="2998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144960" y="2349360"/>
            <a:ext cx="1072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     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99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799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799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99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98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98"/>
                            </p:stCondLst>
                            <p:childTnLst>
                              <p:par>
                                <p:cTn id="3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498"/>
                            </p:stCondLst>
                            <p:childTnLst>
                              <p:par>
                                <p:cTn id="3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" fill="hold"/>
                                        <p:tgtEl>
                                          <p:spTgt spid="1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755640" y="14698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摸球试验：袋中装有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黑球，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白球，这些球的形状、大小、质地等完全相同，在看不到球的条件下，随机地从袋子中摸出一个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826920" y="2994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这个球是白球还是黑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26920" y="4017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如果两种球都有可能被摸出，那么摸出黑球和摸出白球的可能性一样大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2124000" y="5516640"/>
            <a:ext cx="43210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51160" cy="335772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2556000" y="33336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：一般地，随机事件发生的可能性是有大小的，不同的随机事件发生的可能性的大小有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4360" y="3429000"/>
            <a:ext cx="7559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思考：能否通过改变袋子中某种颜色的球的数量，使“摸出黑球”和“摸出白球”的可能性大小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142920" y="1232640"/>
            <a:ext cx="88930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一个袋子里装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形状、质地、大小一样的球，其中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白球，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红球，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黑球，其它都是黄球，从中任摸一个，摸中哪种球的可能性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一个人随意翻书三次，三次都翻到了偶数页，我们能否说翻到偶数页的可能性就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袋子里装有红、白两种颜色的小球，质地、大小、形状一样，小明从中随机摸出一个球，然后放回，如果小明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次摸到红球，能否断定袋子里红球的数量比白球多？怎样做才能判断哪种颜色的球数量较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已知地球表面陆地面积与海洋面积的比均为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如果宇宙中飞来一块陨石落在地球上，“落在海洋里”与“落在陆地上”哪个可能性更大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7308720" y="5805360"/>
            <a:ext cx="136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736560"/>
            <a:ext cx="9036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⑴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同一枚骰子连续掷两次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朝上一面出现点数之和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4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⑵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任意四边形的内角和都等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60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新魏"/>
              </a:rPr>
              <a:t>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⑶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辆小汽车从面前经过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它的车牌号码为偶数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从一副完整扑克牌中任抽一张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它是草花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3240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ff"/>
                </a:solidFill>
                <a:latin typeface="Arial"/>
                <a:ea typeface="华文新魏"/>
              </a:rPr>
              <a:t>牛刀小试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8000" y="10526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1.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指出下列事件是哪类事件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必然事件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不可能事件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随机事件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64000" y="2852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必然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748480" y="1442880"/>
            <a:ext cx="249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不可能事件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40800" y="4292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627280" y="55897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52280" y="67140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      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早上，我迟到了。于是就急忙去学校上学，可是在楼梯上遇到了班主任，她批评了我一顿。我想我真不走运，她经常在办公室的啊，今天我真倒霉。我明天不能再迟到了，不然明天早上我将在楼梯上遇到班主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午放学回家，我看了一场篮球赛，我想长大后我会比姚明还高，我将长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米高。看完比赛后，我又回到学校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午放学后，我开始写作业。今天作业太多了，我不停的写啊，一直写到太阳从西边落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3200400" y="6019920"/>
            <a:ext cx="914400" cy="64116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641160" cy="64116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105520" y="6216480"/>
            <a:ext cx="641160" cy="64152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250920" y="1773360"/>
            <a:ext cx="506880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932360" y="4508640"/>
            <a:ext cx="2895480" cy="698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148360" y="6248520"/>
            <a:ext cx="312408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3357720"/>
            <a:ext cx="457200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5280" y="333360"/>
            <a:ext cx="172728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日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755640" y="692280"/>
            <a:ext cx="2786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6" name=""/>
          <p:cNvSpPr/>
          <p:nvPr/>
        </p:nvSpPr>
        <p:spPr>
          <a:xfrm>
            <a:off x="971640" y="2492280"/>
            <a:ext cx="67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你是如何认识：必然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258920" y="357336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可能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284720" y="3500280"/>
            <a:ext cx="70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随机事件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2195640" y="1341360"/>
            <a:ext cx="4103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业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13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79280" y="391968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现在概率的应用日益广泛。本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中，我们将学习一些概率初步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识，从而提高对偶然事件发生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律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0" y="0"/>
            <a:ext cx="8964360" cy="6857280"/>
            <a:chOff x="0" y="0"/>
            <a:chExt cx="8964360" cy="6857280"/>
          </a:xfrm>
        </p:grpSpPr>
        <p:pic>
          <p:nvPicPr>
            <p:cNvPr id="936" name="" descr="按此在新窗口浏览图片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96436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31080" y="1263240"/>
              <a:ext cx="280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降水概率</a:t>
              </a: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90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564000" y="0"/>
            <a:ext cx="5580000" cy="746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们果真对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类偶然事件完全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把握、束手无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吗？不是！随着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事件发生的可能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深入研究，人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现许多偶然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发生也具有规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循的。概率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要的数学概念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1280" y="3141720"/>
            <a:ext cx="8064360" cy="2775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是在研究这些规律中产生的。人们用它描叙事件发生的可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性的大小。例如，天气预报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天的降水概率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就意味着明天有很大可能下雨（雪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1835280" y="549360"/>
            <a:ext cx="4824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5.1.1 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机事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4738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了解随机事件、必然事件、不可能事件的基本概念和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能根据随机事件、必然事件、不可能事件判断一件事情属于哪种事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能举出简单的随机事件、必然事件、不可能事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5580000" y="692280"/>
            <a:ext cx="29527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明从盒中任意摸出一球，一定能摸到红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rcRect l="0" t="0" r="59983" b="-6653"/>
          <a:stretch/>
        </p:blipFill>
        <p:spPr>
          <a:xfrm>
            <a:off x="179280" y="1268280"/>
            <a:ext cx="5400720" cy="57326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 txBox="1"/>
          <p:nvPr/>
        </p:nvSpPr>
        <p:spPr>
          <a:xfrm>
            <a:off x="539640" y="404640"/>
            <a:ext cx="22687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情景引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6066000" cy="51516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619280" y="2602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麦从盒中摸出的球一定是白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19280" y="7491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米从盒中摸出的球一定是红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50920" y="260280"/>
            <a:ext cx="3311280" cy="1728720"/>
          </a:xfrm>
          <a:prstGeom prst="wedgeEllipseCallout">
            <a:avLst>
              <a:gd name="adj1" fmla="val 33796"/>
              <a:gd name="adj2" fmla="val 61754"/>
            </a:avLst>
          </a:pr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小麦能摸到红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300720" y="260280"/>
            <a:ext cx="2232000" cy="1081080"/>
          </a:xfrm>
          <a:prstGeom prst="wedgeRoundRectCallout">
            <a:avLst>
              <a:gd name="adj1" fmla="val -42245"/>
              <a:gd name="adj2" fmla="val 80689"/>
              <a:gd name="adj3" fmla="val 16667"/>
            </a:avLst>
          </a:pr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小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911240" y="765000"/>
            <a:ext cx="5181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人每次都能摸到红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705720" cy="485928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588000" y="9079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必然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564000" y="83664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必然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39640" y="549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可能发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也可能不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520" y="187200"/>
            <a:ext cx="8153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Tahoma"/>
              </a:rPr>
              <a:t>试分析</a:t>
            </a:r>
            <a:r>
              <a:rPr b="0" lang="zh-CN" sz="2000" spc="-1" strike="noStrike">
                <a:solidFill>
                  <a:srgbClr val="000099"/>
                </a:solidFill>
                <a:latin typeface="Tahoma"/>
              </a:rPr>
              <a:t>:“</a:t>
            </a:r>
            <a:r>
              <a:rPr b="0" lang="zh-CN" sz="2000" spc="-1" strike="noStrike">
                <a:solidFill>
                  <a:srgbClr val="000099"/>
                </a:solidFill>
                <a:latin typeface="Tahoma"/>
              </a:rPr>
              <a:t>从一堆牌中任意抽一张抽到红牌”这一事件的发生情况</a:t>
            </a:r>
            <a:r>
              <a:rPr b="0" lang="zh-CN" sz="20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1219320" y="4581360"/>
            <a:ext cx="431640" cy="806760"/>
          </a:xfrm>
          <a:prstGeom prst="upArrow">
            <a:avLst>
              <a:gd name="adj1" fmla="val 50000"/>
              <a:gd name="adj2" fmla="val 4672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068720" y="4572000"/>
            <a:ext cx="432000" cy="579600"/>
          </a:xfrm>
          <a:prstGeom prst="upArrow">
            <a:avLst>
              <a:gd name="adj1" fmla="val 50000"/>
              <a:gd name="adj2" fmla="val 3354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020000" y="4492800"/>
            <a:ext cx="431640" cy="520560"/>
          </a:xfrm>
          <a:prstGeom prst="upArrow">
            <a:avLst>
              <a:gd name="adj1" fmla="val 50000"/>
              <a:gd name="adj2" fmla="val 301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227640" y="521964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可能发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也可能不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12720" y="5562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必然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95720" y="53341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必然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5977080" y="1298520"/>
            <a:ext cx="2771640" cy="292248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176040" y="129528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3162240" y="1341360"/>
            <a:ext cx="2562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9:24:59Z</dcterms:created>
  <dc:creator>胡亚平</dc:creator>
  <dc:description/>
  <dc:language>en-US</dc:language>
  <cp:lastModifiedBy>User</cp:lastModifiedBy>
  <dcterms:modified xsi:type="dcterms:W3CDTF">2012-11-25T07:52:56Z</dcterms:modified>
  <cp:revision>179</cp:revision>
  <dc:subject>随机事件</dc:subject>
  <dc:title>25.1.1随机事件</dc:title>
</cp:coreProperties>
</file>