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A615-2060-4086-9C73-FC5AAA330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7AC1-BF09-496E-8075-31CE768D6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DAB7-F4B6-416F-A47F-C2E78A229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D0B6-DD80-4604-9924-59CB10EC0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A6086F-C6A2-4F8E-8DBC-9B9D5D881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5C8640-E850-4CE0-B827-F696C6D86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980DBF-DAFF-446E-A494-2C5E71DD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EEA102-840D-418F-AC13-498743E97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AD20E8-E35C-465A-9E59-9941B8FFC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023C11-5FB3-4207-A8C4-BC62FAD81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D62CEB-7571-4920-8413-FFFD9E5E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6AF7-BEF9-4CEA-81E8-FCBEB82FC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2E4AD4-7D44-4491-B57E-3C17EE68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600293-A5B5-4F00-B3CA-6A93722B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2F6BCF-D379-401A-9847-8A722305E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EA6027-E32A-4E28-83C0-D292601D7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434D58-A244-4EF1-BEDA-D385C2FC6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9E55-F541-495B-8EF7-A1C587A28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6778-2B21-4735-9CCB-00D8C74AA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DD61-9867-4059-A7A1-94EA81F2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600F-2D3F-4A88-9E16-3C87767D3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9FD9-D285-4EE6-934F-B4396B59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A253-CF6C-4B6F-ADD1-D156A6E3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E1FF-236D-4583-A7D0-E1B7D243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025E7-7FED-431A-9544-D3C5AC4036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Picture 7" descr="孔隆教育PPT模板(上)副本"/>
          <p:cNvPicPr/>
          <p:nvPr/>
        </p:nvPicPr>
        <p:blipFill>
          <a:blip r:embed="rId3"/>
          <a:stretch/>
        </p:blipFill>
        <p:spPr>
          <a:xfrm>
            <a:off x="0" y="0"/>
            <a:ext cx="9144000" cy="476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孔隆教育PPT模板(下)副本"/>
          <p:cNvPicPr/>
          <p:nvPr/>
        </p:nvPicPr>
        <p:blipFill>
          <a:blip r:embed="rId4"/>
          <a:stretch/>
        </p:blipFill>
        <p:spPr>
          <a:xfrm>
            <a:off x="0" y="6670800"/>
            <a:ext cx="9144000" cy="21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" name="Picture 8" descr="孔隆教育PPT模板(上)副本"/>
          <p:cNvPicPr/>
          <p:nvPr/>
        </p:nvPicPr>
        <p:blipFill>
          <a:blip r:embed="rId3"/>
          <a:stretch/>
        </p:blipFill>
        <p:spPr>
          <a:xfrm>
            <a:off x="0" y="0"/>
            <a:ext cx="9144000" cy="476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孔隆教育PPT模板(下)副本"/>
          <p:cNvPicPr/>
          <p:nvPr/>
        </p:nvPicPr>
        <p:blipFill>
          <a:blip r:embed="rId4"/>
          <a:stretch/>
        </p:blipFill>
        <p:spPr>
          <a:xfrm>
            <a:off x="0" y="6670800"/>
            <a:ext cx="9144000" cy="214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31439-5E5F-4675-AA81-2DC050C40615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3"/>
          <p:cNvSpPr/>
          <p:nvPr/>
        </p:nvSpPr>
        <p:spPr>
          <a:xfrm>
            <a:off x="571680" y="428760"/>
            <a:ext cx="37861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ahoma"/>
              </a:rPr>
              <a:t>第十六章   二次根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785960" y="2714760"/>
          <a:ext cx="5429160" cy="1552320"/>
        </p:xfrm>
        <a:graphic>
          <a:graphicData uri="http://schemas.openxmlformats.org/drawingml/2006/table">
            <a:tbl>
              <a:tblPr/>
              <a:tblGrid>
                <a:gridCol w="5429160"/>
              </a:tblGrid>
              <a:tr h="155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第</a:t>
                      </a:r>
                      <a:r>
                        <a:rPr b="1" lang="en-US" sz="4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1</a:t>
                      </a:r>
                      <a:r>
                        <a:rPr b="1" lang="zh-CN" sz="4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课时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914400" y="1295280"/>
          <a:ext cx="7467480" cy="1552680"/>
        </p:xfrm>
        <a:graphic>
          <a:graphicData uri="http://schemas.openxmlformats.org/drawingml/2006/table">
            <a:tbl>
              <a:tblPr/>
              <a:tblGrid>
                <a:gridCol w="7467480"/>
              </a:tblGrid>
              <a:tr h="155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16.2 </a:t>
                      </a:r>
                      <a:r>
                        <a:rPr b="1" lang="zh-CN" sz="60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二次根式的乘除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3024000" cy="1311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微软雅黑"/>
              </a:rPr>
              <a:t>一、提出问题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3124080" y="6172200"/>
            <a:ext cx="68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4"/>
              <p:cNvSpPr txBox="1"/>
              <p:nvPr/>
            </p:nvSpPr>
            <p:spPr>
              <a:xfrm>
                <a:off x="1066680" y="3124080"/>
                <a:ext cx="320040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</m:e>
                    </m:rad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____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" name="TextBox 12"/>
          <p:cNvSpPr/>
          <p:nvPr/>
        </p:nvSpPr>
        <p:spPr>
          <a:xfrm>
            <a:off x="228600" y="20574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计算下列各式，观察计算结果，你能发现什么规律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6"/>
              <p:cNvSpPr txBox="1"/>
              <p:nvPr/>
            </p:nvSpPr>
            <p:spPr>
              <a:xfrm>
                <a:off x="4340160" y="3048120"/>
                <a:ext cx="26701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r>
                          <m:t xml:space="preserve">×</m:t>
                        </m:r>
                        <m:r>
                          <m:t xml:space="preserve">9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____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Object 7"/>
              <p:cNvSpPr txBox="1"/>
              <p:nvPr/>
            </p:nvSpPr>
            <p:spPr>
              <a:xfrm>
                <a:off x="1028880" y="4114800"/>
                <a:ext cx="35431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____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8"/>
              <p:cNvSpPr txBox="1"/>
              <p:nvPr/>
            </p:nvSpPr>
            <p:spPr>
              <a:xfrm>
                <a:off x="4618080" y="4038480"/>
                <a:ext cx="29257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____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TextBox 8"/>
          <p:cNvSpPr/>
          <p:nvPr/>
        </p:nvSpPr>
        <p:spPr>
          <a:xfrm>
            <a:off x="3264840" y="31240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6008040" y="30481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Box 10"/>
          <p:cNvSpPr/>
          <p:nvPr/>
        </p:nvSpPr>
        <p:spPr>
          <a:xfrm>
            <a:off x="3709800" y="40384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2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Box 11"/>
          <p:cNvSpPr/>
          <p:nvPr/>
        </p:nvSpPr>
        <p:spPr>
          <a:xfrm>
            <a:off x="6605280" y="39625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2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1" name="Object 13"/>
          <p:cNvGraphicFramePr/>
          <p:nvPr/>
        </p:nvGraphicFramePr>
        <p:xfrm>
          <a:off x="1066680" y="4952880"/>
          <a:ext cx="3543480" cy="6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952880"/>
                    <a:ext cx="354348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Object 14"/>
          <p:cNvGraphicFramePr/>
          <p:nvPr/>
        </p:nvGraphicFramePr>
        <p:xfrm>
          <a:off x="4640400" y="4876920"/>
          <a:ext cx="2958840" cy="65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0400" y="4876920"/>
                    <a:ext cx="2958840" cy="65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TextBox 10"/>
          <p:cNvSpPr/>
          <p:nvPr/>
        </p:nvSpPr>
        <p:spPr>
          <a:xfrm>
            <a:off x="3747960" y="48769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3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Box 10"/>
          <p:cNvSpPr/>
          <p:nvPr/>
        </p:nvSpPr>
        <p:spPr>
          <a:xfrm>
            <a:off x="6616440" y="48769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3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880560"/>
            <a:ext cx="4014720" cy="70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微软雅黑"/>
              </a:rPr>
              <a:t>二、探究新知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Box 12"/>
          <p:cNvSpPr/>
          <p:nvPr/>
        </p:nvSpPr>
        <p:spPr>
          <a:xfrm>
            <a:off x="3576600" y="2616120"/>
            <a:ext cx="110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一般地，二次根式的乘法法则是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4"/>
              <p:cNvSpPr txBox="1"/>
              <p:nvPr/>
            </p:nvSpPr>
            <p:spPr>
              <a:xfrm>
                <a:off x="2333520" y="3276720"/>
                <a:ext cx="4364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a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b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rad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TextBox 14"/>
          <p:cNvSpPr/>
          <p:nvPr/>
        </p:nvSpPr>
        <p:spPr>
          <a:xfrm>
            <a:off x="457200" y="39625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在本章中，如果没有特别说明，所有的字母都表示正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1604520" y="1981080"/>
            <a:ext cx="135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归纳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2"/>
          <p:cNvSpPr/>
          <p:nvPr/>
        </p:nvSpPr>
        <p:spPr>
          <a:xfrm>
            <a:off x="2204280" y="2362320"/>
            <a:ext cx="306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你能进行下列计算吗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3"/>
              <p:cNvSpPr txBox="1"/>
              <p:nvPr/>
            </p:nvSpPr>
            <p:spPr>
              <a:xfrm>
                <a:off x="1500120" y="3218040"/>
                <a:ext cx="190044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4" name="TextBox 14"/>
          <p:cNvSpPr/>
          <p:nvPr/>
        </p:nvSpPr>
        <p:spPr>
          <a:xfrm>
            <a:off x="457200" y="501804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通过上面的计算，你认为二次根式乘法运算的步骤有哪些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5"/>
              <p:cNvSpPr txBox="1"/>
              <p:nvPr/>
            </p:nvSpPr>
            <p:spPr>
              <a:xfrm>
                <a:off x="4203720" y="2882880"/>
                <a:ext cx="228276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rad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graphicFrame>
        <p:nvGraphicFramePr>
          <p:cNvPr id="116" name="Object 6"/>
          <p:cNvGraphicFramePr/>
          <p:nvPr/>
        </p:nvGraphicFramePr>
        <p:xfrm>
          <a:off x="1506600" y="3886200"/>
          <a:ext cx="1255680" cy="6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6600" y="3886200"/>
                    <a:ext cx="1255680" cy="6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Object 7"/>
          <p:cNvGraphicFramePr/>
          <p:nvPr/>
        </p:nvGraphicFramePr>
        <p:xfrm>
          <a:off x="4367160" y="4191120"/>
          <a:ext cx="736560" cy="49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67160" y="4191120"/>
                    <a:ext cx="73656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Rectangle 2"/>
          <p:cNvSpPr/>
          <p:nvPr/>
        </p:nvSpPr>
        <p:spPr>
          <a:xfrm>
            <a:off x="1150920" y="990720"/>
            <a:ext cx="380196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微软雅黑"/>
              </a:rPr>
              <a:t>二、探究新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0" y="14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0" y="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Box 17"/>
          <p:cNvSpPr/>
          <p:nvPr/>
        </p:nvSpPr>
        <p:spPr>
          <a:xfrm>
            <a:off x="1985040" y="2133720"/>
            <a:ext cx="35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你能化简下列二次根式吗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7"/>
              <p:cNvSpPr txBox="1"/>
              <p:nvPr/>
            </p:nvSpPr>
            <p:spPr>
              <a:xfrm>
                <a:off x="1316160" y="3124080"/>
                <a:ext cx="17967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8"/>
              <p:cNvSpPr txBox="1"/>
              <p:nvPr/>
            </p:nvSpPr>
            <p:spPr>
              <a:xfrm>
                <a:off x="3814920" y="3092400"/>
                <a:ext cx="176508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graphicFrame>
        <p:nvGraphicFramePr>
          <p:cNvPr id="128" name="Object 9"/>
          <p:cNvGraphicFramePr/>
          <p:nvPr/>
        </p:nvGraphicFramePr>
        <p:xfrm>
          <a:off x="1332000" y="3713040"/>
          <a:ext cx="1069920" cy="61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3713040"/>
                    <a:ext cx="106992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Object 10"/>
          <p:cNvGraphicFramePr/>
          <p:nvPr/>
        </p:nvGraphicFramePr>
        <p:xfrm>
          <a:off x="3790800" y="3733920"/>
          <a:ext cx="185580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90800" y="3733920"/>
                    <a:ext cx="18558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Rectangle 2"/>
          <p:cNvSpPr/>
          <p:nvPr/>
        </p:nvSpPr>
        <p:spPr>
          <a:xfrm>
            <a:off x="1150920" y="990720"/>
            <a:ext cx="380196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微软雅黑"/>
              </a:rPr>
              <a:t>二、探究新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880560"/>
            <a:ext cx="4659480" cy="70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微软雅黑"/>
              </a:rPr>
              <a:t>三、巩固新知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extBox 12"/>
          <p:cNvSpPr/>
          <p:nvPr/>
        </p:nvSpPr>
        <p:spPr>
          <a:xfrm>
            <a:off x="1537920" y="2133720"/>
            <a:ext cx="181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请你计算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4"/>
              <p:cNvSpPr txBox="1"/>
              <p:nvPr/>
            </p:nvSpPr>
            <p:spPr>
              <a:xfrm>
                <a:off x="1255680" y="2895480"/>
                <a:ext cx="20210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</m:rad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5"/>
              <p:cNvSpPr txBox="1"/>
              <p:nvPr/>
            </p:nvSpPr>
            <p:spPr>
              <a:xfrm>
                <a:off x="4267080" y="2895480"/>
                <a:ext cx="24386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×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;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6"/>
              <p:cNvSpPr txBox="1"/>
              <p:nvPr/>
            </p:nvSpPr>
            <p:spPr>
              <a:xfrm>
                <a:off x="1219320" y="3505320"/>
                <a:ext cx="240660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7"/>
              <p:cNvSpPr txBox="1"/>
              <p:nvPr/>
            </p:nvSpPr>
            <p:spPr>
              <a:xfrm>
                <a:off x="1366920" y="5065560"/>
                <a:ext cx="526248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7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</m:e>
                    </m:rad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x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y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3"/>
          <p:cNvSpPr/>
          <p:nvPr/>
        </p:nvSpPr>
        <p:spPr>
          <a:xfrm>
            <a:off x="838080" y="2475000"/>
            <a:ext cx="807732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做一做：教材第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7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页练习第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题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1150920" y="990720"/>
            <a:ext cx="441180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微软雅黑"/>
              </a:rPr>
              <a:t>三、巩固新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150920" y="990720"/>
            <a:ext cx="479268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微软雅黑"/>
              </a:rPr>
              <a:t>四、总结归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TextBox 25"/>
          <p:cNvSpPr/>
          <p:nvPr/>
        </p:nvSpPr>
        <p:spPr>
          <a:xfrm>
            <a:off x="990720" y="1905120"/>
            <a:ext cx="472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二次根式乘法法则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TextBox 7"/>
          <p:cNvSpPr/>
          <p:nvPr/>
        </p:nvSpPr>
        <p:spPr>
          <a:xfrm>
            <a:off x="990720" y="2819520"/>
            <a:ext cx="601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二次根式乘法的运算步骤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extBox 8"/>
          <p:cNvSpPr/>
          <p:nvPr/>
        </p:nvSpPr>
        <p:spPr>
          <a:xfrm>
            <a:off x="990720" y="3809880"/>
            <a:ext cx="617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二次根式化简的方法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1116000" y="981000"/>
            <a:ext cx="395460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微软雅黑"/>
              </a:rPr>
              <a:t>五、布置作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914400" y="2322360"/>
            <a:ext cx="7275600" cy="26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必做题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教材习题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16.2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第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7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题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选做题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教材习题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16.2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第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9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题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0T05:49:39Z</dcterms:created>
  <dc:creator>Administrator</dc:creator>
  <dc:description/>
  <cp:keywords/>
  <dc:language>en-US</dc:language>
  <cp:lastModifiedBy>User</cp:lastModifiedBy>
  <dcterms:modified xsi:type="dcterms:W3CDTF">2015-03-09T06:55:45Z</dcterms:modified>
  <cp:revision>4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79</vt:lpwstr>
  </property>
</Properties>
</file>