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chimes.wav" ContentType="audio/x-wav"/>
  <Override PartName="/ppt/media/type.wav" ContentType="audio/x-wav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612-8272-4B28-9F46-E628F063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667-E72A-41FA-8410-8BA60464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8C4-11FF-4BE7-A5A0-53BB95EB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972-9D26-48A1-AC89-00D23F14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3F5-D29E-4358-8609-72C4A2B5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3F7-2323-4C61-BB24-67DECFD6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2F9-FFDF-4A12-AB97-6BC29A33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103-5FC8-4A22-B177-C5FCAB31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85F-15B8-41C4-B12C-3E5C4661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BF1-EEED-4F3E-8A92-7E44144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97B-1039-4620-A41F-CB92C9C7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CD4-61F6-4DB9-A6E8-785A47F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6A22-18F3-43B2-B70F-3B2411E3E0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2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2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" Target="slide9.xml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5320" y="4581360"/>
            <a:ext cx="29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聊城郑家中学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代秀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920" y="2060640"/>
            <a:ext cx="56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33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宋体"/>
              </a:rPr>
              <a:t>角的平分线的性质（１）</a:t>
            </a:r>
            <a:endParaRPr b="0" lang="en-US" sz="1800" spc="1" strike="noStrike">
              <a:ln cap="rnd" w="9360">
                <a:solidFill>
                  <a:srgbClr val="ff33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39640" y="0"/>
            <a:ext cx="3581280" cy="685800"/>
            <a:chOff x="539640" y="0"/>
            <a:chExt cx="3581280" cy="685800"/>
          </a:xfrm>
        </p:grpSpPr>
        <p:sp>
          <p:nvSpPr>
            <p:cNvPr id="192" name=""/>
            <p:cNvSpPr/>
            <p:nvPr/>
          </p:nvSpPr>
          <p:spPr>
            <a:xfrm>
              <a:off x="539640" y="475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做一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20720" y="38160"/>
              <a:ext cx="290520" cy="495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290160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53964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6781680" y="4489560"/>
            <a:ext cx="2362320" cy="1834920"/>
            <a:chOff x="6781680" y="4489560"/>
            <a:chExt cx="2362320" cy="1834920"/>
          </a:xfrm>
        </p:grpSpPr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6781680" y="448956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238880" y="5225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8080" y="1143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A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它的角平分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D=CD,DE⊥AB,DF⊥AC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垂足分别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,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EB=F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4699080"/>
            <a:ext cx="57909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做完题目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定要“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到点东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纳入到自己的认知结构中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81280" y="2133720"/>
            <a:ext cx="3581640" cy="2895120"/>
            <a:chOff x="3581280" y="2133720"/>
            <a:chExt cx="3581640" cy="2895120"/>
          </a:xfrm>
        </p:grpSpPr>
        <p:sp>
          <p:nvSpPr>
            <p:cNvPr id="202" name=""/>
            <p:cNvSpPr/>
            <p:nvPr/>
          </p:nvSpPr>
          <p:spPr>
            <a:xfrm>
              <a:off x="5715000" y="4572000"/>
              <a:ext cx="457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28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055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625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05520" y="4497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080" y="4413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13160" y="3878280"/>
              <a:ext cx="938160" cy="61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846600" y="2565360"/>
              <a:ext cx="1387440" cy="19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5640" y="4000320"/>
              <a:ext cx="1681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397040" y="4002120"/>
              <a:ext cx="745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86200" y="44863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49880" y="2582640"/>
              <a:ext cx="4680" cy="19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5233680" y="2526840"/>
              <a:ext cx="1392120" cy="19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47800" y="3581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257800" y="3878280"/>
              <a:ext cx="938160" cy="61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5440" y="3833640"/>
              <a:ext cx="11448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905440" y="3703680"/>
              <a:ext cx="16848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66ff"/>
                </a:solidFill>
                <a:latin typeface="Arial"/>
                <a:ea typeface="隶书"/>
              </a:rPr>
              <a:t>回味无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518616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定理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角平分线上的点到这个角的两边距离相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∠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平分线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P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任意一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PD⊥OA,PE⊥OB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垂足分别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,E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PD=PE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角平分线上的点到这个角的两边距离相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尺规作角的平分线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0"/>
            <a:ext cx="3131640" cy="1112040"/>
            <a:chOff x="0" y="0"/>
            <a:chExt cx="3131640" cy="1112040"/>
          </a:xfrm>
        </p:grpSpPr>
        <p:grpSp>
          <p:nvGrpSpPr>
            <p:cNvPr id="222" name=""/>
            <p:cNvGrpSpPr/>
            <p:nvPr/>
          </p:nvGrpSpPr>
          <p:grpSpPr>
            <a:xfrm>
              <a:off x="0" y="0"/>
              <a:ext cx="2962080" cy="1112040"/>
              <a:chOff x="0" y="0"/>
              <a:chExt cx="2962080" cy="11120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8240"/>
                <a:ext cx="2894400" cy="10638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3120" y="0"/>
                <a:ext cx="292896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184760" y="209880"/>
              <a:ext cx="6980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4240" y="209880"/>
              <a:ext cx="304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5943600" y="1905120"/>
            <a:ext cx="2971800" cy="2898000"/>
            <a:chOff x="5943600" y="1905120"/>
            <a:chExt cx="2971800" cy="2898000"/>
          </a:xfrm>
        </p:grpSpPr>
        <p:grpSp>
          <p:nvGrpSpPr>
            <p:cNvPr id="230" name=""/>
            <p:cNvGrpSpPr/>
            <p:nvPr/>
          </p:nvGrpSpPr>
          <p:grpSpPr>
            <a:xfrm>
              <a:off x="5943600" y="1905120"/>
              <a:ext cx="2971800" cy="2898000"/>
              <a:chOff x="5943600" y="1905120"/>
              <a:chExt cx="2971800" cy="2898000"/>
            </a:xfrm>
          </p:grpSpPr>
          <p:sp>
            <p:nvSpPr>
              <p:cNvPr id="231" name=""/>
              <p:cNvSpPr/>
              <p:nvPr/>
            </p:nvSpPr>
            <p:spPr>
              <a:xfrm>
                <a:off x="594360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458200" y="3276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72400" y="4343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5800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61240" y="1905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00800" y="33530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24680" y="3276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400800" y="2362320"/>
                <a:ext cx="15890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6411960" y="3352680"/>
                <a:ext cx="158904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629760" y="3124440"/>
                <a:ext cx="3038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629400" y="3353040"/>
                <a:ext cx="15192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58000" y="3276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4836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7486200" y="2669760"/>
                <a:ext cx="438120" cy="68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18080" y="2800440"/>
                <a:ext cx="11124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7429320" y="2819160"/>
                <a:ext cx="209520" cy="14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7921440" y="3962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7482960" y="3355920"/>
                <a:ext cx="438120" cy="68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315200" y="3794040"/>
                <a:ext cx="1108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26080" y="3813120"/>
                <a:ext cx="209520" cy="14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719748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007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257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独立作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6781680" y="4489560"/>
            <a:ext cx="2362320" cy="1834920"/>
            <a:chOff x="6781680" y="4489560"/>
            <a:chExt cx="2362320" cy="1834920"/>
          </a:xfrm>
        </p:grpSpPr>
        <p:pic>
          <p:nvPicPr>
            <p:cNvPr id="262" name="" descr=""/>
            <p:cNvPicPr/>
            <p:nvPr/>
          </p:nvPicPr>
          <p:blipFill>
            <a:blip r:embed="rId5"/>
            <a:stretch/>
          </p:blipFill>
          <p:spPr>
            <a:xfrm>
              <a:off x="6781680" y="448956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238880" y="5225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914400" y="1143000"/>
            <a:ext cx="732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利用尺规作出三角形三个内角的平分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3359160"/>
            <a:ext cx="8001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先分别作出不同形状的三角形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按要求去作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600200"/>
            <a:ext cx="732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484360" y="1484280"/>
            <a:ext cx="35276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492360" y="4141800"/>
            <a:ext cx="1656000" cy="1503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411280" y="4797360"/>
            <a:ext cx="12240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522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教学目标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805280"/>
            <a:ext cx="4190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838080"/>
            <a:ext cx="87631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经历角的平分线性质的发现过程，初步掌握角的平分线的性质定理及其逆定理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测量操作，发现角的平分线的性质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用文字语言、符号语言阐述角的平分线的性质定理及其逆定理，提高不同数学语言间的转化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运用角的平分线性质定理及其逆定理解决简单的几何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合作交流、自主评价，促进良好的学习态度的形成，养成永无止境的科学探索精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19720" y="4805280"/>
            <a:ext cx="4190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57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教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重点、难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19320"/>
            <a:ext cx="7070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重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掌握角的平分线的性质定理及其逆定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难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平分线定理和逆定理的应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探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图是一个平分角的仪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B=AD,BC=CD 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在角的顶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AB,C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沿着角的两边入放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一条放射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E,A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是角平分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能说明它的道理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649480" y="2997360"/>
            <a:ext cx="2433240" cy="2697120"/>
            <a:chOff x="5649480" y="2997360"/>
            <a:chExt cx="2433240" cy="2697120"/>
          </a:xfrm>
        </p:grpSpPr>
        <p:sp>
          <p:nvSpPr>
            <p:cNvPr id="52" name=""/>
            <p:cNvSpPr/>
            <p:nvPr/>
          </p:nvSpPr>
          <p:spPr>
            <a:xfrm rot="5400000">
              <a:off x="5681160" y="4294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7167960" y="51814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7593840" y="4251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18120" y="2997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025320" y="3486240"/>
              <a:ext cx="1981080" cy="2133360"/>
              <a:chOff x="6025320" y="3486240"/>
              <a:chExt cx="1981080" cy="2133360"/>
            </a:xfrm>
          </p:grpSpPr>
          <p:sp>
            <p:nvSpPr>
              <p:cNvPr id="57" name=""/>
              <p:cNvSpPr/>
              <p:nvPr/>
            </p:nvSpPr>
            <p:spPr>
              <a:xfrm>
                <a:off x="7016400" y="34862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7016400" y="3486240"/>
                <a:ext cx="990000" cy="1589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6025320" y="3497400"/>
                <a:ext cx="990360" cy="1589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400000">
                <a:off x="6634440" y="39434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6288840" y="4470120"/>
                <a:ext cx="718920" cy="718920"/>
              </a:xfrm>
              <a:prstGeom prst="line">
                <a:avLst/>
              </a:prstGeom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7008480" y="4397400"/>
                <a:ext cx="720360" cy="792000"/>
              </a:xfrm>
              <a:prstGeom prst="line">
                <a:avLst/>
              </a:prstGeom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250920" y="551664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经过上面的探索，你能得到作已知角的平分线的方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尺规作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723096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47920"/>
            <a:ext cx="533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∠AOB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求作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射线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OC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使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AOC=∠BOC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法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28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尺规作角的平分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666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OAT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OB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上分别截取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OD,OE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使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OD=O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200400"/>
            <a:ext cx="5537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别以点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圆心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以大于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DE/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长为半径作弧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两弧在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内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交于点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03848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射线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49528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请你说明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什么是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平分线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并与同伴进行交流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41008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角平分线是最基本的尺规作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方法要确实掌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562720" y="852480"/>
            <a:ext cx="3429000" cy="2807640"/>
            <a:chOff x="5562720" y="852480"/>
            <a:chExt cx="3429000" cy="2807640"/>
          </a:xfrm>
        </p:grpSpPr>
        <p:sp>
          <p:nvSpPr>
            <p:cNvPr id="79" name=""/>
            <p:cNvSpPr/>
            <p:nvPr/>
          </p:nvSpPr>
          <p:spPr>
            <a:xfrm>
              <a:off x="7612200" y="852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2004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2004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943600" y="893520"/>
              <a:ext cx="2278080" cy="230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 flipV="1">
            <a:off x="5918040" y="1757520"/>
            <a:ext cx="3183120" cy="14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841160" y="1383120"/>
            <a:ext cx="1302840" cy="1497600"/>
            <a:chOff x="7841160" y="1383120"/>
            <a:chExt cx="1302840" cy="1497600"/>
          </a:xfrm>
        </p:grpSpPr>
        <p:sp>
          <p:nvSpPr>
            <p:cNvPr id="86" name=""/>
            <p:cNvSpPr/>
            <p:nvPr/>
          </p:nvSpPr>
          <p:spPr>
            <a:xfrm rot="3923400">
              <a:off x="7965360" y="1506240"/>
              <a:ext cx="7603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3910800">
              <a:off x="8119800" y="1925280"/>
              <a:ext cx="91296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3452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80880" y="449568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则射线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就是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平分线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128280" y="1523880"/>
            <a:ext cx="2101320" cy="3760200"/>
            <a:chOff x="6128280" y="1523880"/>
            <a:chExt cx="2101320" cy="3760200"/>
          </a:xfrm>
        </p:grpSpPr>
        <p:grpSp>
          <p:nvGrpSpPr>
            <p:cNvPr id="91" name=""/>
            <p:cNvGrpSpPr/>
            <p:nvPr/>
          </p:nvGrpSpPr>
          <p:grpSpPr>
            <a:xfrm>
              <a:off x="6128280" y="1523880"/>
              <a:ext cx="2101320" cy="3760200"/>
              <a:chOff x="6128280" y="1523880"/>
              <a:chExt cx="2101320" cy="3760200"/>
            </a:xfrm>
          </p:grpSpPr>
          <p:sp>
            <p:nvSpPr>
              <p:cNvPr id="92" name=""/>
              <p:cNvSpPr/>
              <p:nvPr/>
            </p:nvSpPr>
            <p:spPr>
              <a:xfrm>
                <a:off x="7620120" y="31287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28280" y="1887480"/>
                <a:ext cx="1634400" cy="339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781680" y="15238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705720" y="2257200"/>
              <a:ext cx="1411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91280" y="3071520"/>
              <a:ext cx="180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探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折出一个直角三角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第一条折痕为斜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展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两次折叠形成的三条折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得到什么结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8360" y="3500280"/>
            <a:ext cx="2448000" cy="1800360"/>
            <a:chOff x="468360" y="3500280"/>
            <a:chExt cx="2448000" cy="1800360"/>
          </a:xfrm>
        </p:grpSpPr>
        <p:sp>
          <p:nvSpPr>
            <p:cNvPr id="100" name=""/>
            <p:cNvSpPr/>
            <p:nvPr/>
          </p:nvSpPr>
          <p:spPr>
            <a:xfrm flipH="1">
              <a:off x="468360" y="3500280"/>
              <a:ext cx="15112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68360" y="5013360"/>
              <a:ext cx="2448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08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04920" y="291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28920" y="5003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8920" y="3429000"/>
            <a:ext cx="1800360" cy="1441440"/>
            <a:chOff x="3058920" y="3429000"/>
            <a:chExt cx="1800360" cy="1441440"/>
          </a:xfrm>
        </p:grpSpPr>
        <p:sp>
          <p:nvSpPr>
            <p:cNvPr id="106" name=""/>
            <p:cNvSpPr/>
            <p:nvPr/>
          </p:nvSpPr>
          <p:spPr>
            <a:xfrm flipH="1">
              <a:off x="3058920" y="3429000"/>
              <a:ext cx="143964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059280" y="3862440"/>
              <a:ext cx="1800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284720" y="4076640"/>
            <a:ext cx="1657440" cy="1008000"/>
            <a:chOff x="4284720" y="4076640"/>
            <a:chExt cx="1657440" cy="1008000"/>
          </a:xfrm>
        </p:grpSpPr>
        <p:sp>
          <p:nvSpPr>
            <p:cNvPr id="109" name=""/>
            <p:cNvSpPr/>
            <p:nvPr/>
          </p:nvSpPr>
          <p:spPr>
            <a:xfrm flipV="1">
              <a:off x="4284720" y="4076640"/>
              <a:ext cx="12970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284720" y="4076640"/>
              <a:ext cx="1657440" cy="1007640"/>
              <a:chOff x="4284720" y="4076640"/>
              <a:chExt cx="1657440" cy="1007640"/>
            </a:xfrm>
          </p:grpSpPr>
          <p:sp>
            <p:nvSpPr>
              <p:cNvPr id="111" name=""/>
              <p:cNvSpPr/>
              <p:nvPr/>
            </p:nvSpPr>
            <p:spPr>
              <a:xfrm>
                <a:off x="5581800" y="4076640"/>
                <a:ext cx="36036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4284720" y="4507920"/>
                <a:ext cx="165744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876920" y="3213000"/>
            <a:ext cx="4266720" cy="2822040"/>
            <a:chOff x="4876920" y="3213000"/>
            <a:chExt cx="4266720" cy="2822040"/>
          </a:xfrm>
        </p:grpSpPr>
        <p:sp>
          <p:nvSpPr>
            <p:cNvPr id="114" name=""/>
            <p:cNvSpPr/>
            <p:nvPr/>
          </p:nvSpPr>
          <p:spPr>
            <a:xfrm flipV="1">
              <a:off x="5257800" y="4584600"/>
              <a:ext cx="35046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876920" y="3213000"/>
              <a:ext cx="4266720" cy="2593440"/>
              <a:chOff x="4876920" y="3213000"/>
              <a:chExt cx="4266720" cy="25934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5257440" y="3441600"/>
                <a:ext cx="3733560" cy="2133720"/>
                <a:chOff x="5257440" y="3441600"/>
                <a:chExt cx="3733560" cy="213372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5257440" y="3441600"/>
                  <a:ext cx="3047400" cy="213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57800" y="5575320"/>
                  <a:ext cx="3733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8001000" y="321300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76920" y="5346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62760" y="5270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310160" y="4889520"/>
              <a:ext cx="461520" cy="1145520"/>
              <a:chOff x="7310160" y="4889520"/>
              <a:chExt cx="461520" cy="1145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314840" y="55753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310160" y="4889520"/>
                <a:ext cx="233280" cy="685800"/>
                <a:chOff x="7310160" y="4889520"/>
                <a:chExt cx="233280" cy="685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543440" y="488952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7310160" y="5318280"/>
                  <a:ext cx="199800" cy="242640"/>
                  <a:chOff x="7310160" y="5318280"/>
                  <a:chExt cx="199800" cy="24264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310160" y="5318280"/>
                    <a:ext cx="1998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9">
                        <a:moveTo>
                          <a:pt x="126" y="0"/>
                        </a:moveTo>
                        <a:cubicBezTo>
                          <a:pt x="68" y="19"/>
                          <a:pt x="108" y="9"/>
                          <a:pt x="0" y="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314840" y="5346720"/>
                    <a:ext cx="1368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35">
                        <a:moveTo>
                          <a:pt x="9" y="0"/>
                        </a:moveTo>
                        <a:cubicBezTo>
                          <a:pt x="6" y="45"/>
                          <a:pt x="0" y="135"/>
                          <a:pt x="0" y="13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9" name=""/>
            <p:cNvGrpSpPr/>
            <p:nvPr/>
          </p:nvGrpSpPr>
          <p:grpSpPr>
            <a:xfrm>
              <a:off x="6858000" y="3898800"/>
              <a:ext cx="685080" cy="990360"/>
              <a:chOff x="6858000" y="3898800"/>
              <a:chExt cx="685080" cy="9903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6858000" y="3898800"/>
                <a:ext cx="685080" cy="990360"/>
                <a:chOff x="6858000" y="3898800"/>
                <a:chExt cx="685080" cy="990360"/>
              </a:xfrm>
            </p:grpSpPr>
            <p:sp>
              <p:nvSpPr>
                <p:cNvPr id="131" name=""/>
                <p:cNvSpPr/>
                <p:nvPr/>
              </p:nvSpPr>
              <p:spPr>
                <a:xfrm flipH="1" flipV="1">
                  <a:off x="7162200" y="42033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858000" y="389880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981480" y="4431960"/>
                <a:ext cx="332640" cy="152280"/>
                <a:chOff x="6981480" y="4431960"/>
                <a:chExt cx="332640" cy="152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981480" y="4432320"/>
                  <a:ext cx="85320" cy="142920"/>
                </a:xfrm>
                <a:custGeom>
                  <a:avLst/>
                  <a:gdLst/>
                  <a:ahLst/>
                  <a:rect l="l" t="t" r="r" b="b"/>
                  <a:pathLst>
                    <a:path w="54" h="90">
                      <a:moveTo>
                        <a:pt x="0" y="0"/>
                      </a:moveTo>
                      <a:cubicBezTo>
                        <a:pt x="20" y="30"/>
                        <a:pt x="28" y="64"/>
                        <a:pt x="54" y="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7085880" y="4431960"/>
                  <a:ext cx="2282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104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操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量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分线，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的任意一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7226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测量：取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不同的位置，分别过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 ⊥OB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垂足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三次数据填入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5022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测量结果，猜想线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大小关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出结论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4120" y="3124080"/>
          <a:ext cx="3200400" cy="2070360"/>
        </p:xfrm>
        <a:graphic>
          <a:graphicData uri="http://schemas.openxmlformats.org/drawingml/2006/table">
            <a:tbl>
              <a:tblPr/>
              <a:tblGrid>
                <a:gridCol w="1117440"/>
                <a:gridCol w="1041480"/>
                <a:gridCol w="1041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 flipH="1">
            <a:off x="1106640" y="3367080"/>
            <a:ext cx="2759040" cy="16048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06640" y="4971960"/>
            <a:ext cx="334296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106640" y="3902040"/>
            <a:ext cx="3946320" cy="10699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9400" y="36957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7360" y="49719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00280" y="5089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47880" y="30481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601992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7301"/>
                </a:moveTo>
                <a:lnTo>
                  <a:pt x="13962" y="7301"/>
                </a:lnTo>
                <a:lnTo>
                  <a:pt x="14345" y="7667"/>
                </a:lnTo>
                <a:lnTo>
                  <a:pt x="23554" y="7667"/>
                </a:lnTo>
                <a:lnTo>
                  <a:pt x="24111" y="8224"/>
                </a:lnTo>
                <a:lnTo>
                  <a:pt x="24111" y="8772"/>
                </a:lnTo>
                <a:lnTo>
                  <a:pt x="25956" y="8772"/>
                </a:lnTo>
                <a:lnTo>
                  <a:pt x="26322" y="8224"/>
                </a:lnTo>
                <a:lnTo>
                  <a:pt x="27062" y="8224"/>
                </a:lnTo>
                <a:lnTo>
                  <a:pt x="27062" y="13376"/>
                </a:lnTo>
                <a:lnTo>
                  <a:pt x="26322" y="13376"/>
                </a:lnTo>
                <a:lnTo>
                  <a:pt x="25956" y="12828"/>
                </a:lnTo>
                <a:lnTo>
                  <a:pt x="24111" y="12828"/>
                </a:lnTo>
                <a:lnTo>
                  <a:pt x="24111" y="14107"/>
                </a:lnTo>
                <a:lnTo>
                  <a:pt x="14528" y="14107"/>
                </a:lnTo>
                <a:lnTo>
                  <a:pt x="14528" y="9877"/>
                </a:lnTo>
                <a:lnTo>
                  <a:pt x="14345" y="9877"/>
                </a:lnTo>
                <a:lnTo>
                  <a:pt x="13962" y="10243"/>
                </a:lnTo>
                <a:lnTo>
                  <a:pt x="13049" y="10243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D=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8520" y="3657600"/>
            <a:ext cx="797760" cy="1676880"/>
            <a:chOff x="2558520" y="3657600"/>
            <a:chExt cx="797760" cy="1676880"/>
          </a:xfrm>
        </p:grpSpPr>
        <p:sp>
          <p:nvSpPr>
            <p:cNvPr id="150" name=""/>
            <p:cNvSpPr/>
            <p:nvPr/>
          </p:nvSpPr>
          <p:spPr>
            <a:xfrm>
              <a:off x="3181320" y="4438800"/>
              <a:ext cx="0" cy="533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040" y="43434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2895120" y="3905280"/>
              <a:ext cx="304920" cy="5335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8520" y="3657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24080" y="50292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08560" y="6858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a311c"/>
                </a:solidFill>
                <a:latin typeface="Tahoma"/>
              </a:rPr>
              <a:t>结论：在角平分线上的点到角的两边的距离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193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题设：一个点在一个角的平分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6765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结论：它到角的两边的距离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133720"/>
            <a:ext cx="7467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已知：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是∠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的平分线，点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上，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PD ⊥OA 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PE ⊥OB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，垂足分别是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求证：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PD=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343400" y="2590920"/>
            <a:ext cx="4266720" cy="2821320"/>
            <a:chOff x="4343400" y="2590920"/>
            <a:chExt cx="4266720" cy="2821320"/>
          </a:xfrm>
        </p:grpSpPr>
        <p:sp>
          <p:nvSpPr>
            <p:cNvPr id="160" name=""/>
            <p:cNvSpPr/>
            <p:nvPr/>
          </p:nvSpPr>
          <p:spPr>
            <a:xfrm flipV="1">
              <a:off x="4724280" y="3961800"/>
              <a:ext cx="3504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33960" y="426708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343400" y="2590920"/>
              <a:ext cx="4266720" cy="2593080"/>
              <a:chOff x="4343400" y="2590920"/>
              <a:chExt cx="4266720" cy="25930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4723920" y="2819160"/>
                <a:ext cx="3733560" cy="2133360"/>
                <a:chOff x="4723920" y="2819160"/>
                <a:chExt cx="3733560" cy="2133360"/>
              </a:xfrm>
            </p:grpSpPr>
            <p:sp>
              <p:nvSpPr>
                <p:cNvPr id="164" name=""/>
                <p:cNvSpPr/>
                <p:nvPr/>
              </p:nvSpPr>
              <p:spPr>
                <a:xfrm flipH="1">
                  <a:off x="4723920" y="2819160"/>
                  <a:ext cx="3047400" cy="213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724280" y="4952520"/>
                  <a:ext cx="3733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7467480" y="25909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4340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29240" y="46479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010280" y="3886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776640" y="4267080"/>
              <a:ext cx="461520" cy="1145160"/>
              <a:chOff x="6776640" y="4267080"/>
              <a:chExt cx="461520" cy="1145160"/>
            </a:xfrm>
          </p:grpSpPr>
          <p:sp>
            <p:nvSpPr>
              <p:cNvPr id="171" name=""/>
              <p:cNvSpPr/>
              <p:nvPr/>
            </p:nvSpPr>
            <p:spPr>
              <a:xfrm>
                <a:off x="6781320" y="49525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6776640" y="4267080"/>
                <a:ext cx="233280" cy="685440"/>
                <a:chOff x="6776640" y="4267080"/>
                <a:chExt cx="233280" cy="685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009920" y="426708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6776640" y="4695480"/>
                  <a:ext cx="199800" cy="241920"/>
                  <a:chOff x="6776640" y="4695480"/>
                  <a:chExt cx="199800" cy="24192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776640" y="4695480"/>
                    <a:ext cx="1998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9">
                        <a:moveTo>
                          <a:pt x="126" y="0"/>
                        </a:moveTo>
                        <a:cubicBezTo>
                          <a:pt x="68" y="19"/>
                          <a:pt x="108" y="9"/>
                          <a:pt x="0" y="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781320" y="4723560"/>
                    <a:ext cx="13680" cy="21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35">
                        <a:moveTo>
                          <a:pt x="9" y="0"/>
                        </a:moveTo>
                        <a:cubicBezTo>
                          <a:pt x="6" y="45"/>
                          <a:pt x="0" y="135"/>
                          <a:pt x="0" y="13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7" name=""/>
            <p:cNvGrpSpPr/>
            <p:nvPr/>
          </p:nvGrpSpPr>
          <p:grpSpPr>
            <a:xfrm>
              <a:off x="6324480" y="3276360"/>
              <a:ext cx="685080" cy="990000"/>
              <a:chOff x="6324480" y="3276360"/>
              <a:chExt cx="685080" cy="99000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324480" y="3276360"/>
                <a:ext cx="685080" cy="990000"/>
                <a:chOff x="6324480" y="3276360"/>
                <a:chExt cx="685080" cy="990000"/>
              </a:xfrm>
            </p:grpSpPr>
            <p:sp>
              <p:nvSpPr>
                <p:cNvPr id="179" name=""/>
                <p:cNvSpPr/>
                <p:nvPr/>
              </p:nvSpPr>
              <p:spPr>
                <a:xfrm flipH="1" flipV="1">
                  <a:off x="6628680" y="3580920"/>
                  <a:ext cx="38088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324480" y="327636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447960" y="3809520"/>
                <a:ext cx="332640" cy="151920"/>
                <a:chOff x="6447960" y="3809520"/>
                <a:chExt cx="332640" cy="1519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447960" y="3809520"/>
                  <a:ext cx="85320" cy="142560"/>
                </a:xfrm>
                <a:custGeom>
                  <a:avLst/>
                  <a:gdLst/>
                  <a:ahLst/>
                  <a:rect l="l" t="t" r="r" b="b"/>
                  <a:pathLst>
                    <a:path w="54" h="90">
                      <a:moveTo>
                        <a:pt x="0" y="0"/>
                      </a:moveTo>
                      <a:cubicBezTo>
                        <a:pt x="20" y="30"/>
                        <a:pt x="28" y="64"/>
                        <a:pt x="54" y="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6552360" y="3809520"/>
                  <a:ext cx="22824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283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图，要在Ｓ区建一全集贸市场，使它到公路，铁路的距离相等，离公路与铁路交叉处５００米，这个集贸市场应建于何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500720" y="3357720"/>
            <a:ext cx="1511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3357720"/>
            <a:ext cx="100836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76720" y="260280"/>
            <a:ext cx="21603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6:21:48Z</dcterms:created>
  <dc:creator>MS User</dc:creator>
  <dc:description/>
  <dc:language>en-US</dc:language>
  <cp:lastModifiedBy>MS User</cp:lastModifiedBy>
  <dcterms:modified xsi:type="dcterms:W3CDTF">2006-11-30T14:09:03Z</dcterms:modified>
  <cp:revision>10</cp:revision>
  <dc:subject/>
  <dc:title>幻灯片 1</dc:title>
</cp:coreProperties>
</file>