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13.png" ContentType="image/png"/>
  <Override PartName="/ppt/media/image8.png" ContentType="image/png"/>
  <Override PartName="/ppt/media/chimes.wav" ContentType="audio/x-wav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applause.wav" ContentType="audio/x-wav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389-B8D1-4190-AD3C-0A7019F5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1CF-01EB-4CCA-AFB3-B46FCD73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D92E6-71A2-44ED-B42B-5CF88417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73FC0-E663-4D93-8B1A-C4772ECC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5E54E-A46A-44CC-8D6C-0BCF360B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D5D16-05C7-460B-9F27-DFE746EF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4CE07-3623-49A4-931B-69563F1E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A1944-A182-46B6-A41E-CE874AEB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7053B-D67B-4116-99E6-C92AA989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69976-7083-4BFB-9EBA-6DDDB20A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447B9-0370-431E-ADBA-EECDE862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79B05-51DB-47AB-BF63-AC4872F4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085-94A0-4666-ACEA-30051C95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A19EA-9875-4E3C-8741-6320F988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ECF26-20AB-431B-B089-AA9C70EF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76738-5D43-4B66-9E22-C4E45EF9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FAC9B-F862-4A5B-B876-05A2ABBC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D176B-30D2-450D-8C2C-91462F5E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FDD2D-36F1-499A-B743-54E21BEB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5100D-C73D-4EAF-AE18-C0E5540A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2754B-0FF1-4D25-8CA1-B12E66F9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314C1-C1B2-4999-85C9-068B4940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349FE-2182-4E6E-9CA6-33A25243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1FA-246C-4414-A9BD-DEFF4901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C972C-8216-40C1-88CE-872FF0DA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F7A5-8931-4371-9F5B-8454075C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3B26-C3B7-46C2-8AD1-B4E4F480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1FD5-07A4-4E67-8F8A-B530A3AF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703F-E283-4831-AA9B-738E5290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4351-4746-486D-BFF2-308E2CD8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E754-EF59-4842-932E-0820D72C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C70B-161D-4960-AF3E-CDE839F9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1C6-2EDC-44A7-86FA-BAB3F922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DC61-094A-4728-AD0F-FF80807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16C6-8258-4444-8A5A-AFA4CC3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BBF6-1263-4622-B986-309078C1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B4A0-317F-4300-ACF8-ECDD763F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F433-5682-471A-A83C-D79DAC3F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97D0C-7F35-42EA-8D29-A2D7E5B1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1973-A99B-467C-A057-51037DBD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9331-EBEF-4829-8BA2-4DC8C771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36C8-3F85-4280-BF57-AB859E90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A449F-AB83-443E-BEDD-0FBB9B7D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75F-8B17-4B7C-A218-18D5C547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76E1-F9A3-4890-AB66-D23E874A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84CA-AD33-4BFF-BBD9-9D4E9CF2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CCC64-564A-45A3-A532-1678F726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9535-81EF-4A7F-A5D4-CFF22CD8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502E0-A48B-4416-BD92-4DB5A738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142D-5D8C-4A29-8A05-190392F6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3626-A1AD-4FCA-A890-8E791D9D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5DC0D-C827-4C3C-8674-1822F09F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04441-A3A6-4B41-BA01-80DA4C6E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EBA98-4852-4BC0-ADEC-257F7DA6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2D1-53F8-4DEF-9E7D-617E642D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E703D-B12A-4C92-9CCF-6EB9B29C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7A48D-2D94-4EEC-8E04-7C3120E9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B06C4-B9AC-4012-90AC-8B885A5C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17BA-AA9C-4AD1-9A6D-4283107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4277F-7F49-4870-9A9F-119FD1E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5E86-594A-4F58-A6AF-B108DF14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159C-A983-4C45-9FCC-C9009B1C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30B19-FE61-45A6-A4FE-D5C89427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FD9D-5BF1-4444-84F1-85451126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9AE2-B71D-40EB-8241-1C9FEFC8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8B0-F7CD-432C-819A-6F69AFCE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84E03-957B-4399-ADC2-F4EC0DE6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75F53-C10C-4BE4-9B0F-4AEE7410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41FFA-31FA-4701-9BB8-9D0461E3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E0D8-BD1E-4B8A-A818-54F5136F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98FB3-1239-4B67-9CC7-F02CFB1A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B22E0-42E6-43B7-9399-3E08045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E7E0-D905-4A51-8915-04B4CC42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91D77-C08C-4429-BDAA-02D6F90B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A76F4-3173-481A-8ECF-1605A4BF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27656-DC6E-49A0-B4BA-12DEB8BA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F5D-496D-4FDA-9684-A81FBA14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6CFA8-5430-4F4C-9762-9D438D77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557B5-575B-43CD-9531-4F266DE6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F6A5A-C57D-4992-9C50-0060B32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781CC-124D-4F4B-B9D1-89DED276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6A763-40E1-4A2C-A18A-55922EF9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3DB6F-1AD9-4865-9545-B6E5188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E38BB-ACE7-4F23-AD26-A33BFDC9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86DE3-65BB-4BBD-9494-885A700E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553C8-84EE-4C79-AE9F-75C5DDD7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50880-8B91-4D62-8881-D3E0C855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EA9-A393-407C-8E52-9B36796C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FB9E4-8B29-4AEF-AE6D-3E43BD08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6A073-09E4-4CAF-8917-3FB91974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6B00A-625D-4A16-A214-D8D1E5FF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96226-5B51-4EC9-AA20-A6A669DC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16C28-7B3D-456A-9558-06AE1268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A0E04-EC8B-4299-AEF0-4BC84F47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D65E9-90FE-4A2A-909D-1B43D69D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8F22A-A7F2-46E6-830B-9166A22B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02F7B-F994-41AC-84E7-7EAC9B94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1D736-48BF-48E0-9B6E-1817B48F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455-6C8F-4DCC-ACF4-A22BEF1C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2C6F7-0B51-46F2-A983-C65F36BB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EA570-3E51-4099-8A9F-94708A71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C662C-0AB3-4E86-885D-F7D3C9D2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7D5BE-11AD-4F34-942C-4E95F24C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F9415-3A91-4537-AFFB-0B982422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F7D55-6E23-4F29-8F88-3CB0F493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7C39B-8720-4832-BBE3-9FA1271D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2CDEE-5524-4E6B-BDF2-0AD78A79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8325E-EFF2-4C95-A241-456AE3F0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841DF-BED6-4EA2-9019-DD1774ED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16B-E24F-43B8-8FDD-B05EF653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BBED3-156A-4C84-8989-85652417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6ECD8-9001-4D94-8A2F-9EA107B6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AF784-D10F-461A-881D-E8A7FBA5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3D1B0-3A27-48C0-A8D3-63AFBD4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1970E-2A61-4A3A-AD55-FC9E942D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5CECF-B8F2-40D2-986A-401C2BFB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4AD3D-0E5B-4CEF-8C93-FA28F247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92F1A-97E7-4F88-A861-AA74F5A7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533BA-7C03-448F-9045-AC95F21C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7A827-3993-4458-A640-FD834D85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C9F3-3EC5-46DA-996B-C8EE5BEFC81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F40B-797C-4389-B3AD-18B6417D323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FB72-00EC-4070-BE32-81FB6AD027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743C-AD4E-4E87-A743-1462E25730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7923-A28F-4FF0-BD72-A35553CA74F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4E7F-BBA4-4783-BD2A-4A50D01A541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715E-B05A-40F6-8D45-4B6E2FE9576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B099-D339-4C90-B5BE-7324BBF3831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A0F4-209C-4B77-8B6E-86126FBA39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2313-811F-4248-A95E-104207CDC21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200309110016_967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3"/>
          <p:cNvGrpSpPr/>
          <p:nvPr/>
        </p:nvGrpSpPr>
        <p:grpSpPr>
          <a:xfrm>
            <a:off x="2916000" y="2204640"/>
            <a:ext cx="1584720" cy="3096000"/>
            <a:chOff x="2916000" y="2204640"/>
            <a:chExt cx="1584720" cy="3096000"/>
          </a:xfrm>
        </p:grpSpPr>
        <p:sp>
          <p:nvSpPr>
            <p:cNvPr id="451" name="Line 4"/>
            <p:cNvSpPr/>
            <p:nvPr/>
          </p:nvSpPr>
          <p:spPr>
            <a:xfrm flipH="1">
              <a:off x="2916000" y="2205000"/>
              <a:ext cx="718920" cy="2664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2" name="Line 5"/>
            <p:cNvSpPr/>
            <p:nvPr/>
          </p:nvSpPr>
          <p:spPr>
            <a:xfrm>
              <a:off x="2916360" y="4869000"/>
              <a:ext cx="1584360" cy="431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3" name="Line 6"/>
            <p:cNvSpPr/>
            <p:nvPr/>
          </p:nvSpPr>
          <p:spPr>
            <a:xfrm flipH="1" flipV="1">
              <a:off x="3635280" y="2204640"/>
              <a:ext cx="865440" cy="309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380880" y="609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Comic Sans MS"/>
              </a:rPr>
              <a:t>练习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读出图中的各个三角形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990720" y="1676520"/>
            <a:ext cx="7086600" cy="4345920"/>
            <a:chOff x="990720" y="1676520"/>
            <a:chExt cx="7086600" cy="4345920"/>
          </a:xfrm>
        </p:grpSpPr>
        <p:grpSp>
          <p:nvGrpSpPr>
            <p:cNvPr id="524" name="Group 4"/>
            <p:cNvGrpSpPr/>
            <p:nvPr/>
          </p:nvGrpSpPr>
          <p:grpSpPr>
            <a:xfrm>
              <a:off x="1676520" y="2286000"/>
              <a:ext cx="5562360" cy="2895840"/>
              <a:chOff x="1676520" y="2286000"/>
              <a:chExt cx="5562360" cy="2895840"/>
            </a:xfrm>
          </p:grpSpPr>
          <p:sp>
            <p:nvSpPr>
              <p:cNvPr id="525" name="Line 5"/>
              <p:cNvSpPr/>
              <p:nvPr/>
            </p:nvSpPr>
            <p:spPr>
              <a:xfrm>
                <a:off x="1676520" y="2789280"/>
                <a:ext cx="1042920" cy="2392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6" name="Line 6"/>
              <p:cNvSpPr/>
              <p:nvPr/>
            </p:nvSpPr>
            <p:spPr>
              <a:xfrm>
                <a:off x="2719440" y="5181840"/>
                <a:ext cx="3824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7" name="Line 7"/>
              <p:cNvSpPr/>
              <p:nvPr/>
            </p:nvSpPr>
            <p:spPr>
              <a:xfrm flipV="1">
                <a:off x="6544080" y="2286000"/>
                <a:ext cx="694800" cy="28958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8" name="Line 8"/>
              <p:cNvSpPr/>
              <p:nvPr/>
            </p:nvSpPr>
            <p:spPr>
              <a:xfrm flipH="1">
                <a:off x="2719440" y="2286000"/>
                <a:ext cx="4519440" cy="28958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29" name="Line 9"/>
              <p:cNvSpPr/>
              <p:nvPr/>
            </p:nvSpPr>
            <p:spPr>
              <a:xfrm>
                <a:off x="1676520" y="2789280"/>
                <a:ext cx="4867560" cy="2392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10"/>
            <p:cNvSpPr/>
            <p:nvPr/>
          </p:nvSpPr>
          <p:spPr>
            <a:xfrm>
              <a:off x="990720" y="21337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1" name="Text Box 11"/>
            <p:cNvSpPr/>
            <p:nvPr/>
          </p:nvSpPr>
          <p:spPr>
            <a:xfrm>
              <a:off x="7391520" y="16765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2" name="Text Box 12"/>
            <p:cNvSpPr/>
            <p:nvPr/>
          </p:nvSpPr>
          <p:spPr>
            <a:xfrm>
              <a:off x="1828800" y="51055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3" name="Text Box 13"/>
            <p:cNvSpPr/>
            <p:nvPr/>
          </p:nvSpPr>
          <p:spPr>
            <a:xfrm>
              <a:off x="4114800" y="30481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4" name="Text Box 14"/>
            <p:cNvSpPr/>
            <p:nvPr/>
          </p:nvSpPr>
          <p:spPr>
            <a:xfrm>
              <a:off x="6553440" y="48769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5" name="未知"/>
          <p:cNvSpPr/>
          <p:nvPr/>
        </p:nvSpPr>
        <p:spPr>
          <a:xfrm>
            <a:off x="1676520" y="2819520"/>
            <a:ext cx="2666880" cy="23619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1680" h="1488">
                <a:moveTo>
                  <a:pt x="0" y="0"/>
                </a:moveTo>
                <a:lnTo>
                  <a:pt x="672" y="1488"/>
                </a:lnTo>
                <a:lnTo>
                  <a:pt x="1680" y="81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未知"/>
          <p:cNvSpPr/>
          <p:nvPr/>
        </p:nvSpPr>
        <p:spPr>
          <a:xfrm>
            <a:off x="4419720" y="22860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1776" h="1824">
                <a:moveTo>
                  <a:pt x="1776" y="0"/>
                </a:moveTo>
                <a:lnTo>
                  <a:pt x="0" y="1152"/>
                </a:lnTo>
                <a:lnTo>
                  <a:pt x="1344" y="1824"/>
                </a:lnTo>
                <a:lnTo>
                  <a:pt x="1776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未知"/>
          <p:cNvSpPr/>
          <p:nvPr/>
        </p:nvSpPr>
        <p:spPr>
          <a:xfrm>
            <a:off x="2743200" y="4114800"/>
            <a:ext cx="3809880" cy="106668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400" h="672">
                <a:moveTo>
                  <a:pt x="1056" y="0"/>
                </a:moveTo>
                <a:lnTo>
                  <a:pt x="0" y="672"/>
                </a:lnTo>
                <a:lnTo>
                  <a:pt x="2400" y="672"/>
                </a:lnTo>
                <a:lnTo>
                  <a:pt x="1056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未知"/>
          <p:cNvSpPr/>
          <p:nvPr/>
        </p:nvSpPr>
        <p:spPr>
          <a:xfrm>
            <a:off x="1676520" y="2819520"/>
            <a:ext cx="4876560" cy="2361960"/>
          </a:xfrm>
          <a:custGeom>
            <a:avLst/>
            <a:gdLst>
              <a:gd name="textAreaLeft" fmla="*/ 0 w 4876560"/>
              <a:gd name="textAreaRight" fmla="*/ 4876920 w 487656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3072" h="1488">
                <a:moveTo>
                  <a:pt x="0" y="0"/>
                </a:moveTo>
                <a:lnTo>
                  <a:pt x="672" y="1488"/>
                </a:lnTo>
                <a:lnTo>
                  <a:pt x="3072" y="1488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未知"/>
          <p:cNvSpPr/>
          <p:nvPr/>
        </p:nvSpPr>
        <p:spPr>
          <a:xfrm>
            <a:off x="2666880" y="2286000"/>
            <a:ext cx="4572000" cy="289548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880" h="1824">
                <a:moveTo>
                  <a:pt x="2880" y="0"/>
                </a:moveTo>
                <a:lnTo>
                  <a:pt x="0" y="1824"/>
                </a:lnTo>
                <a:lnTo>
                  <a:pt x="2448" y="1824"/>
                </a:lnTo>
                <a:lnTo>
                  <a:pt x="2880" y="0"/>
                </a:lnTo>
                <a:close/>
              </a:path>
            </a:pathLst>
          </a:custGeom>
          <a:solidFill>
            <a:srgbClr val="00e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1" dur="1" fill="hold"/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066680" y="32004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三角形相邻两边的公共端点叫做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三角形的顶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066680" y="45720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如图，三角形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ABC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有几个顶点？它们分别是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。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819520" y="228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、三角形的顶点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676520" y="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44" name="Group 6"/>
          <p:cNvGrpSpPr/>
          <p:nvPr/>
        </p:nvGrpSpPr>
        <p:grpSpPr>
          <a:xfrm>
            <a:off x="0" y="533520"/>
            <a:ext cx="3047760" cy="2884680"/>
            <a:chOff x="0" y="533520"/>
            <a:chExt cx="3047760" cy="2884680"/>
          </a:xfrm>
        </p:grpSpPr>
        <p:sp>
          <p:nvSpPr>
            <p:cNvPr id="545" name="Text Box 7"/>
            <p:cNvSpPr/>
            <p:nvPr/>
          </p:nvSpPr>
          <p:spPr>
            <a:xfrm>
              <a:off x="0" y="2714760"/>
              <a:ext cx="47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B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Text Box 8"/>
            <p:cNvSpPr/>
            <p:nvPr/>
          </p:nvSpPr>
          <p:spPr>
            <a:xfrm>
              <a:off x="2570040" y="2496600"/>
              <a:ext cx="47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C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7" name="Line 9"/>
            <p:cNvSpPr/>
            <p:nvPr/>
          </p:nvSpPr>
          <p:spPr>
            <a:xfrm>
              <a:off x="298440" y="2637360"/>
              <a:ext cx="221040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Oval 10"/>
            <p:cNvSpPr/>
            <p:nvPr/>
          </p:nvSpPr>
          <p:spPr>
            <a:xfrm>
              <a:off x="206640" y="2525400"/>
              <a:ext cx="185400" cy="208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Line 11"/>
            <p:cNvSpPr/>
            <p:nvPr/>
          </p:nvSpPr>
          <p:spPr>
            <a:xfrm flipV="1">
              <a:off x="358560" y="678240"/>
              <a:ext cx="1787760" cy="187812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0" name="Oval 12"/>
            <p:cNvSpPr/>
            <p:nvPr/>
          </p:nvSpPr>
          <p:spPr>
            <a:xfrm>
              <a:off x="2091600" y="533520"/>
              <a:ext cx="156960" cy="213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1" name="Line 13"/>
            <p:cNvSpPr/>
            <p:nvPr/>
          </p:nvSpPr>
          <p:spPr>
            <a:xfrm flipH="1" flipV="1">
              <a:off x="2196000" y="727200"/>
              <a:ext cx="253800" cy="191448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2" name="Oval 14"/>
            <p:cNvSpPr/>
            <p:nvPr/>
          </p:nvSpPr>
          <p:spPr>
            <a:xfrm>
              <a:off x="2385720" y="2496600"/>
              <a:ext cx="184320" cy="290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684360" y="3068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华文新魏"/>
              </a:rPr>
              <a:t>组成三角形的三条线段叫做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华文新魏"/>
              </a:rPr>
              <a:t>三角形的边</a:t>
            </a:r>
            <a:r>
              <a:rPr b="1" lang="zh-CN" sz="3600" spc="-1" strike="noStrike">
                <a:solidFill>
                  <a:srgbClr val="3333cc"/>
                </a:solidFill>
                <a:latin typeface="Comic Sans MS"/>
                <a:ea typeface="华文新魏"/>
              </a:rPr>
              <a:t>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3352680" y="4572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、三角形的边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2209680" y="1522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2286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3270240" y="21938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>
            <a:off x="533520" y="2889360"/>
            <a:ext cx="281304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Oval 8"/>
          <p:cNvSpPr/>
          <p:nvPr/>
        </p:nvSpPr>
        <p:spPr>
          <a:xfrm>
            <a:off x="411120" y="2771640"/>
            <a:ext cx="236520" cy="219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 flipV="1">
            <a:off x="611280" y="836640"/>
            <a:ext cx="2279520" cy="196848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1" name="Oval 10"/>
          <p:cNvSpPr/>
          <p:nvPr/>
        </p:nvSpPr>
        <p:spPr>
          <a:xfrm>
            <a:off x="2814480" y="684360"/>
            <a:ext cx="200160" cy="223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2" name="Line 11"/>
          <p:cNvSpPr/>
          <p:nvPr/>
        </p:nvSpPr>
        <p:spPr>
          <a:xfrm flipH="1" flipV="1">
            <a:off x="2947680" y="887400"/>
            <a:ext cx="323640" cy="200664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3" name="Oval 12"/>
          <p:cNvSpPr/>
          <p:nvPr/>
        </p:nvSpPr>
        <p:spPr>
          <a:xfrm>
            <a:off x="3189240" y="2741760"/>
            <a:ext cx="23508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971640" y="42926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三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时也用</a:t>
            </a: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993300"/>
                </a:solidFill>
                <a:latin typeface="Comic Sans MS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来表示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一般的顶点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所对的边记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顶点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所对的边记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b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顶点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所对的边记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1332000" y="2708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a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Text Box 15"/>
          <p:cNvSpPr/>
          <p:nvPr/>
        </p:nvSpPr>
        <p:spPr>
          <a:xfrm>
            <a:off x="3141720" y="14367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b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Text Box 16"/>
          <p:cNvSpPr/>
          <p:nvPr/>
        </p:nvSpPr>
        <p:spPr>
          <a:xfrm>
            <a:off x="1846440" y="9320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c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228600" y="331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、三角形的角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: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228600" y="941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三角形相邻两边所组成的角叫做</a:t>
            </a: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三角形的内角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简称</a:t>
            </a: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三角形的角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0" name="Group 4"/>
          <p:cNvGrpSpPr/>
          <p:nvPr/>
        </p:nvGrpSpPr>
        <p:grpSpPr>
          <a:xfrm>
            <a:off x="2964960" y="4283280"/>
            <a:ext cx="2788920" cy="2103480"/>
            <a:chOff x="2964960" y="4283280"/>
            <a:chExt cx="2788920" cy="2103480"/>
          </a:xfrm>
        </p:grpSpPr>
        <p:sp>
          <p:nvSpPr>
            <p:cNvPr id="571" name="Text Box 5"/>
            <p:cNvSpPr/>
            <p:nvPr/>
          </p:nvSpPr>
          <p:spPr>
            <a:xfrm rot="20660400">
              <a:off x="3048120" y="5360400"/>
              <a:ext cx="1066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</a:rPr>
                <a:t>）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 rot="13465800">
              <a:off x="4572000" y="5358240"/>
              <a:ext cx="106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</a:rPr>
                <a:t>）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3" name="Text Box 7"/>
            <p:cNvSpPr/>
            <p:nvPr/>
          </p:nvSpPr>
          <p:spPr>
            <a:xfrm rot="5500800">
              <a:off x="4112640" y="4445280"/>
              <a:ext cx="106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</a:rPr>
                <a:t>）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4" name="Text Box 8"/>
          <p:cNvSpPr/>
          <p:nvPr/>
        </p:nvSpPr>
        <p:spPr>
          <a:xfrm>
            <a:off x="228600" y="2160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三角形的角的一边与另一边的</a:t>
            </a:r>
            <a:r>
              <a:rPr b="1" lang="zh-CN" sz="3600" spc="-1" strike="noStrike">
                <a:solidFill>
                  <a:srgbClr val="a5644e"/>
                </a:solidFill>
                <a:latin typeface="Comic Sans MS"/>
              </a:rPr>
              <a:t>反向延长线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组成的角叫做</a:t>
            </a:r>
            <a:r>
              <a:rPr b="1" lang="zh-CN" sz="3600" spc="-1" strike="noStrike">
                <a:solidFill>
                  <a:srgbClr val="cc0000"/>
                </a:solidFill>
                <a:latin typeface="Comic Sans MS"/>
              </a:rPr>
              <a:t>三角形的外角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Line 9"/>
          <p:cNvSpPr/>
          <p:nvPr/>
        </p:nvSpPr>
        <p:spPr>
          <a:xfrm>
            <a:off x="5638680" y="6046920"/>
            <a:ext cx="457200" cy="8380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5715000" y="61228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Line 11"/>
          <p:cNvSpPr/>
          <p:nvPr/>
        </p:nvSpPr>
        <p:spPr>
          <a:xfrm flipH="1">
            <a:off x="1752480" y="612288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Line 12"/>
          <p:cNvSpPr/>
          <p:nvPr/>
        </p:nvSpPr>
        <p:spPr>
          <a:xfrm flipH="1">
            <a:off x="1980720" y="6046920"/>
            <a:ext cx="838440" cy="7617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Line 13"/>
          <p:cNvSpPr/>
          <p:nvPr/>
        </p:nvSpPr>
        <p:spPr>
          <a:xfrm flipV="1">
            <a:off x="4648320" y="3608280"/>
            <a:ext cx="6094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Line 14"/>
          <p:cNvSpPr/>
          <p:nvPr/>
        </p:nvSpPr>
        <p:spPr>
          <a:xfrm flipH="1" flipV="1">
            <a:off x="4419720" y="3531960"/>
            <a:ext cx="304560" cy="6858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15"/>
          <p:cNvSpPr/>
          <p:nvPr/>
        </p:nvSpPr>
        <p:spPr>
          <a:xfrm rot="18558000">
            <a:off x="5515560" y="5272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Text Box 16"/>
          <p:cNvSpPr/>
          <p:nvPr/>
        </p:nvSpPr>
        <p:spPr>
          <a:xfrm rot="7932600">
            <a:off x="5104080" y="60444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Text Box 17"/>
          <p:cNvSpPr/>
          <p:nvPr/>
        </p:nvSpPr>
        <p:spPr>
          <a:xfrm rot="819000">
            <a:off x="4800240" y="376056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Text Box 18"/>
          <p:cNvSpPr/>
          <p:nvPr/>
        </p:nvSpPr>
        <p:spPr>
          <a:xfrm rot="10602600">
            <a:off x="3885480" y="36054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Text Box 19"/>
          <p:cNvSpPr/>
          <p:nvPr/>
        </p:nvSpPr>
        <p:spPr>
          <a:xfrm rot="14976000">
            <a:off x="2134440" y="53586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Text Box 20"/>
          <p:cNvSpPr/>
          <p:nvPr/>
        </p:nvSpPr>
        <p:spPr>
          <a:xfrm rot="3744000">
            <a:off x="2513160" y="59698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87" name="Group 21"/>
          <p:cNvGrpSpPr/>
          <p:nvPr/>
        </p:nvGrpSpPr>
        <p:grpSpPr>
          <a:xfrm>
            <a:off x="1676520" y="3303720"/>
            <a:ext cx="4876200" cy="3506040"/>
            <a:chOff x="1676520" y="3303720"/>
            <a:chExt cx="4876200" cy="3506040"/>
          </a:xfrm>
        </p:grpSpPr>
        <p:sp>
          <p:nvSpPr>
            <p:cNvPr id="588" name="未知"/>
            <p:cNvSpPr/>
            <p:nvPr/>
          </p:nvSpPr>
          <p:spPr>
            <a:xfrm>
              <a:off x="2742840" y="4141440"/>
              <a:ext cx="2971440" cy="1981080"/>
            </a:xfrm>
            <a:custGeom>
              <a:avLst/>
              <a:gdLst>
                <a:gd name="textAreaLeft" fmla="*/ 0 w 2971440"/>
                <a:gd name="textAreaRight" fmla="*/ 2971800 w 29714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1872" h="1248">
                  <a:moveTo>
                    <a:pt x="1248" y="0"/>
                  </a:moveTo>
                  <a:lnTo>
                    <a:pt x="0" y="1248"/>
                  </a:lnTo>
                  <a:lnTo>
                    <a:pt x="1872" y="1248"/>
                  </a:lnTo>
                  <a:lnTo>
                    <a:pt x="1248" y="0"/>
                  </a:ln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9" name="Text Box 23"/>
            <p:cNvSpPr/>
            <p:nvPr/>
          </p:nvSpPr>
          <p:spPr>
            <a:xfrm>
              <a:off x="4495680" y="3303720"/>
              <a:ext cx="68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4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0" name="Text Box 24"/>
            <p:cNvSpPr/>
            <p:nvPr/>
          </p:nvSpPr>
          <p:spPr>
            <a:xfrm>
              <a:off x="1676520" y="5984640"/>
              <a:ext cx="68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4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1" name="Text Box 25"/>
            <p:cNvSpPr/>
            <p:nvPr/>
          </p:nvSpPr>
          <p:spPr>
            <a:xfrm>
              <a:off x="5867280" y="5970240"/>
              <a:ext cx="68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4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2" name="Text Box 26"/>
          <p:cNvSpPr/>
          <p:nvPr/>
        </p:nvSpPr>
        <p:spPr>
          <a:xfrm>
            <a:off x="6781680" y="57420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3635280" y="333360"/>
            <a:ext cx="2881080" cy="2194560"/>
            <a:chOff x="3635280" y="333360"/>
            <a:chExt cx="2881080" cy="2194560"/>
          </a:xfrm>
        </p:grpSpPr>
        <p:grpSp>
          <p:nvGrpSpPr>
            <p:cNvPr id="594" name="Group 3"/>
            <p:cNvGrpSpPr/>
            <p:nvPr/>
          </p:nvGrpSpPr>
          <p:grpSpPr>
            <a:xfrm>
              <a:off x="4032720" y="566280"/>
              <a:ext cx="2071440" cy="1629720"/>
              <a:chOff x="4032720" y="566280"/>
              <a:chExt cx="2071440" cy="1629720"/>
            </a:xfrm>
          </p:grpSpPr>
          <p:grpSp>
            <p:nvGrpSpPr>
              <p:cNvPr id="595" name="Group 4"/>
              <p:cNvGrpSpPr/>
              <p:nvPr/>
            </p:nvGrpSpPr>
            <p:grpSpPr>
              <a:xfrm>
                <a:off x="4032720" y="1000800"/>
                <a:ext cx="1649520" cy="1195200"/>
                <a:chOff x="4032720" y="1000800"/>
                <a:chExt cx="1649520" cy="1195200"/>
              </a:xfrm>
            </p:grpSpPr>
            <p:sp>
              <p:nvSpPr>
                <p:cNvPr id="596" name="Line 5"/>
                <p:cNvSpPr/>
                <p:nvPr/>
              </p:nvSpPr>
              <p:spPr>
                <a:xfrm>
                  <a:off x="4033080" y="1000800"/>
                  <a:ext cx="153000" cy="11952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6"/>
                <p:cNvSpPr/>
                <p:nvPr/>
              </p:nvSpPr>
              <p:spPr>
                <a:xfrm>
                  <a:off x="4186080" y="2196000"/>
                  <a:ext cx="149616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"/>
                <p:cNvSpPr/>
                <p:nvPr/>
              </p:nvSpPr>
              <p:spPr>
                <a:xfrm flipH="1" flipV="1">
                  <a:off x="4032720" y="1000800"/>
                  <a:ext cx="1649160" cy="11952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Line 8"/>
              <p:cNvSpPr/>
              <p:nvPr/>
            </p:nvSpPr>
            <p:spPr>
              <a:xfrm flipV="1">
                <a:off x="4186080" y="566280"/>
                <a:ext cx="1918080" cy="1629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0" name="Line 9"/>
              <p:cNvSpPr/>
              <p:nvPr/>
            </p:nvSpPr>
            <p:spPr>
              <a:xfrm flipV="1">
                <a:off x="5682240" y="566280"/>
                <a:ext cx="421920" cy="1629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01" name="Text Box 10"/>
            <p:cNvSpPr/>
            <p:nvPr/>
          </p:nvSpPr>
          <p:spPr>
            <a:xfrm>
              <a:off x="3635280" y="728640"/>
              <a:ext cx="48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2" name="Text Box 11"/>
            <p:cNvSpPr/>
            <p:nvPr/>
          </p:nvSpPr>
          <p:spPr>
            <a:xfrm>
              <a:off x="6027480" y="33336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3" name="Text Box 12"/>
            <p:cNvSpPr/>
            <p:nvPr/>
          </p:nvSpPr>
          <p:spPr>
            <a:xfrm>
              <a:off x="5605560" y="1946520"/>
              <a:ext cx="49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4" name="Text Box 13"/>
            <p:cNvSpPr/>
            <p:nvPr/>
          </p:nvSpPr>
          <p:spPr>
            <a:xfrm>
              <a:off x="3812040" y="1945080"/>
              <a:ext cx="49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5" name="Text Box 14"/>
            <p:cNvSpPr/>
            <p:nvPr/>
          </p:nvSpPr>
          <p:spPr>
            <a:xfrm>
              <a:off x="4631760" y="1112760"/>
              <a:ext cx="49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6" name="Text Box 15"/>
          <p:cNvSpPr/>
          <p:nvPr/>
        </p:nvSpPr>
        <p:spPr>
          <a:xfrm>
            <a:off x="395280" y="1125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图中有几个三角形？用符号表示这些三角形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324000" y="263700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以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AB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为边的三角形有哪些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5508720" y="26370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△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、△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AB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324000" y="321300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以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E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为顶点的三角形有哪些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684360" y="37893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△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ABE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、△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BCE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、 △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CD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Text Box 20"/>
          <p:cNvSpPr/>
          <p:nvPr/>
        </p:nvSpPr>
        <p:spPr>
          <a:xfrm>
            <a:off x="684360" y="26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小试牛刀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247680" y="4292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以∠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D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为角的三角形有哪些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3" name="Text Box 22"/>
          <p:cNvSpPr/>
          <p:nvPr/>
        </p:nvSpPr>
        <p:spPr>
          <a:xfrm>
            <a:off x="5616720" y="42926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△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BCD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、 △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DE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089760" y="981000"/>
            <a:ext cx="305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宋体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E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宋体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宋体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C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宋体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宋体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C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395280" y="494172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  <a:ea typeface="宋体"/>
              </a:rPr>
              <a:t>5.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  <a:ea typeface="宋体"/>
              </a:rPr>
              <a:t>说出其中</a:t>
            </a:r>
            <a:r>
              <a:rPr b="1" lang="el-GR" sz="3200" spc="-1" strike="noStrike">
                <a:solidFill>
                  <a:srgbClr val="6666ff"/>
                </a:solidFill>
                <a:latin typeface="Arial"/>
                <a:ea typeface="宋体"/>
              </a:rPr>
              <a:t>Δ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  <a:ea typeface="宋体"/>
              </a:rPr>
              <a:t>BCD</a:t>
            </a:r>
            <a:r>
              <a:rPr b="1" lang="zh-CN" sz="3200" spc="-1" strike="noStrike">
                <a:solidFill>
                  <a:srgbClr val="6666ff"/>
                </a:solidFill>
                <a:latin typeface="Arial"/>
                <a:ea typeface="宋体"/>
              </a:rPr>
              <a:t>的三个角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971640" y="5445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∠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BCD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、 ∠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CBD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、∠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826560" y="1989000"/>
            <a:ext cx="2016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Franklin Gothic Book"/>
              </a:rPr>
              <a:t>按角分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2700360" y="1700280"/>
            <a:ext cx="227160" cy="1531800"/>
          </a:xfrm>
          <a:custGeom>
            <a:avLst/>
            <a:gdLst>
              <a:gd name="textAreaLeft" fmla="*/ 145080 w 227160"/>
              <a:gd name="textAreaRight" fmla="*/ 227520 w 227160"/>
              <a:gd name="textAreaTop" fmla="*/ 51480 h 1531800"/>
              <a:gd name="textAreaBottom" fmla="*/ 148032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4"/>
                  <a:pt x="10800" y="2328"/>
                </a:cubicBezTo>
                <a:lnTo>
                  <a:pt x="10800" y="8472"/>
                </a:lnTo>
                <a:cubicBezTo>
                  <a:pt x="10800" y="9636"/>
                  <a:pt x="5400" y="10800"/>
                  <a:pt x="0" y="10800"/>
                </a:cubicBezTo>
                <a:cubicBezTo>
                  <a:pt x="5400" y="10800"/>
                  <a:pt x="10800" y="11964"/>
                  <a:pt x="10800" y="13128"/>
                </a:cubicBezTo>
                <a:lnTo>
                  <a:pt x="10800" y="19272"/>
                </a:lnTo>
                <a:cubicBezTo>
                  <a:pt x="10800" y="2043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2362320" y="3352680"/>
            <a:ext cx="12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5148360" y="2205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锐角三角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2987640" y="134136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直角三角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5148360" y="2997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钝角三角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539640" y="4437000"/>
            <a:ext cx="21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按边分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4" name="AutoShape 9"/>
          <p:cNvSpPr/>
          <p:nvPr/>
        </p:nvSpPr>
        <p:spPr>
          <a:xfrm>
            <a:off x="2340000" y="4221000"/>
            <a:ext cx="287280" cy="1366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2484360" y="393372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不等边三角形（不规则三角形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宋体"/>
              </a:rPr>
              <a:t>）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2556000" y="5084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等腰三角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228600" y="2286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2843280" y="316080"/>
            <a:ext cx="3816360" cy="70344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50000">
                <a:srgbClr val="66ff33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分类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9" name="AutoShape 14"/>
          <p:cNvSpPr/>
          <p:nvPr/>
        </p:nvSpPr>
        <p:spPr>
          <a:xfrm>
            <a:off x="5219640" y="4941720"/>
            <a:ext cx="287280" cy="1081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5508720" y="4653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只有两条边相等的等腰三角形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5435640" y="56610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等边三角形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2843280" y="2708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斜三角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4932360" y="2492280"/>
            <a:ext cx="144360" cy="93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31320 h 936720"/>
              <a:gd name="textAreaBottom" fmla="*/ 9054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4"/>
                  <a:pt x="10800" y="2328"/>
                </a:cubicBezTo>
                <a:lnTo>
                  <a:pt x="10800" y="8472"/>
                </a:lnTo>
                <a:cubicBezTo>
                  <a:pt x="10800" y="9636"/>
                  <a:pt x="5400" y="10800"/>
                  <a:pt x="0" y="10800"/>
                </a:cubicBezTo>
                <a:cubicBezTo>
                  <a:pt x="5400" y="10800"/>
                  <a:pt x="10800" y="11964"/>
                  <a:pt x="10800" y="13128"/>
                </a:cubicBezTo>
                <a:lnTo>
                  <a:pt x="10800" y="19272"/>
                </a:lnTo>
                <a:cubicBezTo>
                  <a:pt x="10800" y="2043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395280" y="5373720"/>
            <a:ext cx="720720" cy="11509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0" y="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探究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2542680" y="260280"/>
            <a:ext cx="487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zh-CN" sz="1800" spc="-1" strike="noStrike">
                <a:solidFill>
                  <a:srgbClr val="6600ff"/>
                </a:solidFill>
                <a:latin typeface="Arial"/>
                <a:ea typeface="宋体"/>
              </a:rPr>
              <a:t>　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如图三角形中，假设有一只小虫要从点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出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发沿着三角形的边爬到点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，它有几条路线可以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选择？各条路线的长一样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7" name="Group 5"/>
          <p:cNvGrpSpPr/>
          <p:nvPr/>
        </p:nvGrpSpPr>
        <p:grpSpPr>
          <a:xfrm>
            <a:off x="645840" y="2131920"/>
            <a:ext cx="1511640" cy="1224000"/>
            <a:chOff x="645840" y="2131920"/>
            <a:chExt cx="1511640" cy="1224000"/>
          </a:xfrm>
        </p:grpSpPr>
        <p:sp>
          <p:nvSpPr>
            <p:cNvPr id="638" name="Line 6"/>
            <p:cNvSpPr/>
            <p:nvPr/>
          </p:nvSpPr>
          <p:spPr>
            <a:xfrm flipH="1">
              <a:off x="645840" y="2131920"/>
              <a:ext cx="79236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9" name="Line 7"/>
            <p:cNvSpPr/>
            <p:nvPr/>
          </p:nvSpPr>
          <p:spPr>
            <a:xfrm>
              <a:off x="646200" y="33559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0" name="Line 8"/>
            <p:cNvSpPr/>
            <p:nvPr/>
          </p:nvSpPr>
          <p:spPr>
            <a:xfrm flipH="1" flipV="1">
              <a:off x="1438200" y="2131920"/>
              <a:ext cx="718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41" name="Text Box 9"/>
          <p:cNvSpPr/>
          <p:nvPr/>
        </p:nvSpPr>
        <p:spPr>
          <a:xfrm>
            <a:off x="1296000" y="17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253080" y="3139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2088000" y="3139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4" name="Oval 12"/>
          <p:cNvSpPr/>
          <p:nvPr/>
        </p:nvSpPr>
        <p:spPr>
          <a:xfrm>
            <a:off x="611280" y="3284640"/>
            <a:ext cx="144360" cy="14292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2518560" y="1773360"/>
            <a:ext cx="30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路线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1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由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到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2849760" y="2349360"/>
            <a:ext cx="58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路线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宋体"/>
              </a:rPr>
              <a:t>2: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由点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到点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，再由点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到点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3164400" y="2997360"/>
            <a:ext cx="44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两条路线长分别是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BC,AB+AC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1775880" y="3645000"/>
            <a:ext cx="349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“两点之间，线段最短”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可以得到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AB+AC&gt;B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540720" y="4653000"/>
            <a:ext cx="60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理可得：</a:t>
            </a:r>
            <a:r>
              <a:rPr b="1" lang="en-US" sz="3200" spc="-1" strike="noStrike">
                <a:solidFill>
                  <a:srgbClr val="9900ff"/>
                </a:solidFill>
                <a:latin typeface="Arial"/>
                <a:ea typeface="宋体"/>
              </a:rPr>
              <a:t>AC+BC&gt;AB,AB+BC&gt;A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2271240" y="5229360"/>
            <a:ext cx="432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三角形的三边有这样的关系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三角形两边的和大于第三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） 三角形两边的差小于第三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395280" y="5373720"/>
            <a:ext cx="6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66"/>
                </a:solidFill>
                <a:latin typeface="Impact"/>
                <a:ea typeface="楷体_GB2312"/>
              </a:rPr>
              <a:t>结论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2" name="Oval 20"/>
          <p:cNvSpPr/>
          <p:nvPr/>
        </p:nvSpPr>
        <p:spPr>
          <a:xfrm>
            <a:off x="1332000" y="2060640"/>
            <a:ext cx="144360" cy="14292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3" name="Oval 21"/>
          <p:cNvSpPr/>
          <p:nvPr/>
        </p:nvSpPr>
        <p:spPr>
          <a:xfrm>
            <a:off x="2050920" y="3284640"/>
            <a:ext cx="144720" cy="14436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Rectangle 2" descr=""/>
          <p:cNvPicPr/>
          <p:nvPr/>
        </p:nvPicPr>
        <p:blipFill>
          <a:blip r:embed="rId1"/>
          <a:stretch/>
        </p:blipFill>
        <p:spPr>
          <a:xfrm>
            <a:off x="1170000" y="512640"/>
            <a:ext cx="6546960" cy="140184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826920" y="17002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）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8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）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6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）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6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10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）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8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         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5435640" y="162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5508720" y="21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能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550872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能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5435640" y="306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60" name="Group 8"/>
          <p:cNvGrpSpPr/>
          <p:nvPr/>
        </p:nvGrpSpPr>
        <p:grpSpPr>
          <a:xfrm>
            <a:off x="603720" y="3987720"/>
            <a:ext cx="7698960" cy="1058400"/>
            <a:chOff x="603720" y="3987720"/>
            <a:chExt cx="7698960" cy="1058400"/>
          </a:xfrm>
        </p:grpSpPr>
        <p:sp>
          <p:nvSpPr>
            <p:cNvPr id="661" name="Rectangle 9"/>
            <p:cNvSpPr/>
            <p:nvPr/>
          </p:nvSpPr>
          <p:spPr>
            <a:xfrm>
              <a:off x="1569960" y="4159800"/>
              <a:ext cx="6732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判断三条线段能否组成三角形，</a:t>
              </a:r>
              <a:r>
                <a:rPr b="1" lang="zh-CN" sz="2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是否一定要检验三条线段中任何两条的和都大于第三条</a:t>
              </a: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？根据你刚才解题经验，有没有更简便的判断           方法？         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2" name="Rectangle 10"/>
            <p:cNvSpPr/>
            <p:nvPr/>
          </p:nvSpPr>
          <p:spPr>
            <a:xfrm>
              <a:off x="603720" y="3987720"/>
              <a:ext cx="9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33"/>
                  </a:solidFill>
                  <a:latin typeface="Verdana"/>
                  <a:ea typeface="宋体"/>
                </a:rPr>
                <a:t>思   考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63" name="WordArt 11"/>
          <p:cNvSpPr txBox="1"/>
          <p:nvPr/>
        </p:nvSpPr>
        <p:spPr>
          <a:xfrm rot="5400000">
            <a:off x="-306360" y="1147680"/>
            <a:ext cx="1773360" cy="7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练一练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64" name="Text Box 12"/>
          <p:cNvSpPr/>
          <p:nvPr/>
        </p:nvSpPr>
        <p:spPr>
          <a:xfrm>
            <a:off x="685800" y="54849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00"/>
                </a:solidFill>
                <a:latin typeface="Times New Roman"/>
                <a:ea typeface="宋体"/>
              </a:rPr>
              <a:t>只要选取两条较短的线段，求出和再与最长的线段比较 ，和较大，则可以；否则不能组成三角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WordArt 2"/>
          <p:cNvSpPr txBox="1"/>
          <p:nvPr/>
        </p:nvSpPr>
        <p:spPr>
          <a:xfrm rot="5400000">
            <a:off x="179640" y="162936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试一试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1619280" y="692280"/>
            <a:ext cx="67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1fe1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2d1fe1"/>
                </a:solidFill>
                <a:latin typeface="Times New Roman"/>
                <a:ea typeface="宋体"/>
              </a:rPr>
              <a:t>小颖要制作一个三角形木架，现有两根长度为</a:t>
            </a:r>
            <a:r>
              <a:rPr b="1" lang="en-US" sz="3200" spc="-1" strike="noStrike">
                <a:solidFill>
                  <a:srgbClr val="2d1fe1"/>
                </a:solidFill>
                <a:latin typeface="Times New Roman"/>
                <a:ea typeface="宋体"/>
              </a:rPr>
              <a:t>8cm</a:t>
            </a:r>
            <a:r>
              <a:rPr b="1" lang="zh-CN" sz="3200" spc="-1" strike="noStrike">
                <a:solidFill>
                  <a:srgbClr val="2d1fe1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2d1fe1"/>
                </a:solidFill>
                <a:latin typeface="Times New Roman"/>
                <a:ea typeface="宋体"/>
              </a:rPr>
              <a:t>5cm</a:t>
            </a:r>
            <a:r>
              <a:rPr b="1" lang="zh-CN" sz="3200" spc="-1" strike="noStrike">
                <a:solidFill>
                  <a:srgbClr val="2d1fe1"/>
                </a:solidFill>
                <a:latin typeface="Times New Roman"/>
                <a:ea typeface="宋体"/>
              </a:rPr>
              <a:t>的木棒，如果要求第三根木棒的长度是偶数，小颖有几种选法？第三根的长度可以是多少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1476360" y="3141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小颖有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种选法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1476360" y="3789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第三根木棒的长度可以是：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4cm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6cm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8cm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10cm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宋体"/>
              </a:rPr>
              <a:t>12cm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179280" y="69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通过本节课的学习，你有哪些收获？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19280" y="1916280"/>
            <a:ext cx="6481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华文行楷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华文行楷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华文行楷"/>
              </a:rPr>
              <a:t>三角形的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华文行楷"/>
              </a:rPr>
              <a:t>角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华文行楷"/>
              </a:rPr>
              <a:t>顶点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华文行楷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会用符号表示三角形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角的分类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4.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三角形三边关系及运用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.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5" name="Picture 3" descr="qtz63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Line 5"/>
          <p:cNvSpPr/>
          <p:nvPr/>
        </p:nvSpPr>
        <p:spPr>
          <a:xfrm flipH="1">
            <a:off x="539640" y="260280"/>
            <a:ext cx="1511280" cy="35290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Line 6"/>
          <p:cNvSpPr/>
          <p:nvPr/>
        </p:nvSpPr>
        <p:spPr>
          <a:xfrm flipV="1">
            <a:off x="539640" y="836640"/>
            <a:ext cx="4103640" cy="2952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9" name="Line 7"/>
          <p:cNvSpPr/>
          <p:nvPr/>
        </p:nvSpPr>
        <p:spPr>
          <a:xfrm flipH="1" flipV="1">
            <a:off x="2050560" y="259920"/>
            <a:ext cx="2521080" cy="576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0" name="Group 8"/>
          <p:cNvGrpSpPr/>
          <p:nvPr/>
        </p:nvGrpSpPr>
        <p:grpSpPr>
          <a:xfrm>
            <a:off x="7308360" y="2852280"/>
            <a:ext cx="288000" cy="576720"/>
            <a:chOff x="7308360" y="2852280"/>
            <a:chExt cx="288000" cy="576720"/>
          </a:xfrm>
        </p:grpSpPr>
        <p:sp>
          <p:nvSpPr>
            <p:cNvPr id="461" name="Line 9"/>
            <p:cNvSpPr/>
            <p:nvPr/>
          </p:nvSpPr>
          <p:spPr>
            <a:xfrm flipV="1">
              <a:off x="7308720" y="2852280"/>
              <a:ext cx="216000" cy="576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62" name="Group 10"/>
            <p:cNvGrpSpPr/>
            <p:nvPr/>
          </p:nvGrpSpPr>
          <p:grpSpPr>
            <a:xfrm>
              <a:off x="7308360" y="2852640"/>
              <a:ext cx="288000" cy="576360"/>
              <a:chOff x="7308360" y="2852640"/>
              <a:chExt cx="288000" cy="576360"/>
            </a:xfrm>
          </p:grpSpPr>
          <p:sp>
            <p:nvSpPr>
              <p:cNvPr id="463" name="Line 11"/>
              <p:cNvSpPr/>
              <p:nvPr/>
            </p:nvSpPr>
            <p:spPr>
              <a:xfrm>
                <a:off x="7524720" y="2852640"/>
                <a:ext cx="71640" cy="5763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4" name="Line 12"/>
              <p:cNvSpPr/>
              <p:nvPr/>
            </p:nvSpPr>
            <p:spPr>
              <a:xfrm flipH="1">
                <a:off x="7308360" y="3429000"/>
                <a:ext cx="2876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611280" y="1125360"/>
            <a:ext cx="3889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草原上的四口油井，位于如图所示的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四个位置，现在要建立一个维修站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H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，问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H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建在何处，才能使它到四个油井的距离之和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HA+HB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HC+HD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为最小？说明理由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4788000" y="1270080"/>
            <a:ext cx="3744000" cy="2880720"/>
            <a:chOff x="4788000" y="1270080"/>
            <a:chExt cx="3744000" cy="2880720"/>
          </a:xfrm>
        </p:grpSpPr>
        <p:sp>
          <p:nvSpPr>
            <p:cNvPr id="673" name="AutoShape 4"/>
            <p:cNvSpPr/>
            <p:nvPr/>
          </p:nvSpPr>
          <p:spPr>
            <a:xfrm>
              <a:off x="5308200" y="1270080"/>
              <a:ext cx="208800" cy="164880"/>
            </a:xfrm>
            <a:prstGeom prst="flowChartConnector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4" name="AutoShape 5"/>
            <p:cNvSpPr/>
            <p:nvPr/>
          </p:nvSpPr>
          <p:spPr>
            <a:xfrm>
              <a:off x="8220600" y="1763280"/>
              <a:ext cx="208440" cy="165240"/>
            </a:xfrm>
            <a:prstGeom prst="flowChartConnector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5" name="AutoShape 6"/>
            <p:cNvSpPr/>
            <p:nvPr/>
          </p:nvSpPr>
          <p:spPr>
            <a:xfrm>
              <a:off x="8323200" y="3902400"/>
              <a:ext cx="208800" cy="165240"/>
            </a:xfrm>
            <a:prstGeom prst="flowChartConnector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6" name="AutoShape 7"/>
            <p:cNvSpPr/>
            <p:nvPr/>
          </p:nvSpPr>
          <p:spPr>
            <a:xfrm>
              <a:off x="4788000" y="3985920"/>
              <a:ext cx="208800" cy="164880"/>
            </a:xfrm>
            <a:prstGeom prst="flowChartConnector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677" name="Group 8"/>
            <p:cNvGrpSpPr/>
            <p:nvPr/>
          </p:nvGrpSpPr>
          <p:grpSpPr>
            <a:xfrm>
              <a:off x="4893120" y="1351440"/>
              <a:ext cx="3535200" cy="2715480"/>
              <a:chOff x="4893120" y="1351440"/>
              <a:chExt cx="3535200" cy="2715480"/>
            </a:xfrm>
          </p:grpSpPr>
          <p:sp>
            <p:nvSpPr>
              <p:cNvPr id="678" name="Line 9"/>
              <p:cNvSpPr/>
              <p:nvPr/>
            </p:nvSpPr>
            <p:spPr>
              <a:xfrm flipH="1">
                <a:off x="4893120" y="1434600"/>
                <a:ext cx="518040" cy="2550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9" name="Line 10"/>
              <p:cNvSpPr/>
              <p:nvPr/>
            </p:nvSpPr>
            <p:spPr>
              <a:xfrm>
                <a:off x="5411520" y="1351440"/>
                <a:ext cx="2910960" cy="493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8322840" y="1845000"/>
                <a:ext cx="105480" cy="2140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1" name="Line 12"/>
              <p:cNvSpPr/>
              <p:nvPr/>
            </p:nvSpPr>
            <p:spPr>
              <a:xfrm flipV="1">
                <a:off x="4893480" y="3985200"/>
                <a:ext cx="3534840" cy="81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682" name="Text Box 13"/>
          <p:cNvSpPr/>
          <p:nvPr/>
        </p:nvSpPr>
        <p:spPr>
          <a:xfrm>
            <a:off x="826920" y="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拓展与应用！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3" name="Text Box 14"/>
          <p:cNvSpPr/>
          <p:nvPr/>
        </p:nvSpPr>
        <p:spPr>
          <a:xfrm>
            <a:off x="4572000" y="9079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7667640" y="11984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8223120" y="3357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4284720" y="3500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7" name="Line 18"/>
          <p:cNvSpPr/>
          <p:nvPr/>
        </p:nvSpPr>
        <p:spPr>
          <a:xfrm flipV="1">
            <a:off x="4932360" y="1917720"/>
            <a:ext cx="3311640" cy="2160720"/>
          </a:xfrm>
          <a:prstGeom prst="line">
            <a:avLst/>
          </a:prstGeom>
          <a:ln cap="rnd" w="93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8" name="Line 19"/>
          <p:cNvSpPr/>
          <p:nvPr/>
        </p:nvSpPr>
        <p:spPr>
          <a:xfrm>
            <a:off x="5435640" y="1341360"/>
            <a:ext cx="3024000" cy="2665440"/>
          </a:xfrm>
          <a:prstGeom prst="line">
            <a:avLst/>
          </a:prstGeom>
          <a:ln cap="rnd" w="93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9" name="AutoShape 20"/>
          <p:cNvSpPr/>
          <p:nvPr/>
        </p:nvSpPr>
        <p:spPr>
          <a:xfrm>
            <a:off x="6927840" y="2658960"/>
            <a:ext cx="144360" cy="14472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0" name="Text Box 21"/>
          <p:cNvSpPr/>
          <p:nvPr/>
        </p:nvSpPr>
        <p:spPr>
          <a:xfrm>
            <a:off x="6732720" y="20620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1" name="AutoShape 22"/>
          <p:cNvSpPr/>
          <p:nvPr/>
        </p:nvSpPr>
        <p:spPr>
          <a:xfrm>
            <a:off x="6084720" y="2567160"/>
            <a:ext cx="142920" cy="1425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2" name="Text Box 23"/>
          <p:cNvSpPr/>
          <p:nvPr/>
        </p:nvSpPr>
        <p:spPr>
          <a:xfrm>
            <a:off x="5580000" y="2133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′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93" name="Group 24"/>
          <p:cNvGrpSpPr/>
          <p:nvPr/>
        </p:nvGrpSpPr>
        <p:grpSpPr>
          <a:xfrm>
            <a:off x="4932360" y="1341360"/>
            <a:ext cx="3456000" cy="2736720"/>
            <a:chOff x="4932360" y="1341360"/>
            <a:chExt cx="3456000" cy="2736720"/>
          </a:xfrm>
        </p:grpSpPr>
        <p:sp>
          <p:nvSpPr>
            <p:cNvPr id="694" name="Line 25"/>
            <p:cNvSpPr/>
            <p:nvPr/>
          </p:nvSpPr>
          <p:spPr>
            <a:xfrm flipH="1" flipV="1">
              <a:off x="5435640" y="1341360"/>
              <a:ext cx="720720" cy="12967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>
              <a:off x="6156360" y="2638080"/>
              <a:ext cx="2232000" cy="129564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 flipH="1">
              <a:off x="4932360" y="2638080"/>
              <a:ext cx="1224000" cy="144000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6156360" y="1846080"/>
              <a:ext cx="2160720" cy="792000"/>
            </a:xfrm>
            <a:prstGeom prst="line">
              <a:avLst/>
            </a:prstGeom>
            <a:ln w="93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98" name="Text Box 29"/>
          <p:cNvSpPr/>
          <p:nvPr/>
        </p:nvSpPr>
        <p:spPr>
          <a:xfrm>
            <a:off x="4500720" y="429264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你认为这个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应该在什么位置？大胆设想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9" name="Text Box 30"/>
          <p:cNvSpPr/>
          <p:nvPr/>
        </p:nvSpPr>
        <p:spPr>
          <a:xfrm>
            <a:off x="4498920" y="5300640"/>
            <a:ext cx="45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距离和最小的点在哪儿？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0" name="WordArt 31"/>
          <p:cNvSpPr txBox="1"/>
          <p:nvPr/>
        </p:nvSpPr>
        <p:spPr>
          <a:xfrm>
            <a:off x="5435640" y="404640"/>
            <a:ext cx="309564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58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宋体"/>
              </a:rPr>
              <a:t>看谁最聪明！</a:t>
            </a:r>
            <a:endParaRPr b="1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417080" cy="65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建筑15"/>
          <p:cNvPicPr/>
          <p:nvPr/>
        </p:nvPicPr>
        <p:blipFill>
          <a:blip r:embed="rId1"/>
          <a:stretch/>
        </p:blipFill>
        <p:spPr>
          <a:xfrm>
            <a:off x="1403280" y="836640"/>
            <a:ext cx="6408720" cy="4851360"/>
          </a:xfrm>
          <a:prstGeom prst="rect">
            <a:avLst/>
          </a:prstGeom>
          <a:ln w="0">
            <a:noFill/>
          </a:ln>
        </p:spPr>
      </p:pic>
      <p:grpSp>
        <p:nvGrpSpPr>
          <p:cNvPr id="467" name="Group 3"/>
          <p:cNvGrpSpPr/>
          <p:nvPr/>
        </p:nvGrpSpPr>
        <p:grpSpPr>
          <a:xfrm>
            <a:off x="3564000" y="1916280"/>
            <a:ext cx="2087640" cy="1441440"/>
            <a:chOff x="3564000" y="1916280"/>
            <a:chExt cx="2087640" cy="1441440"/>
          </a:xfrm>
        </p:grpSpPr>
        <p:sp>
          <p:nvSpPr>
            <p:cNvPr id="468" name="Line 4"/>
            <p:cNvSpPr/>
            <p:nvPr/>
          </p:nvSpPr>
          <p:spPr>
            <a:xfrm flipH="1">
              <a:off x="3564000" y="1916280"/>
              <a:ext cx="1008000" cy="144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Line 5"/>
            <p:cNvSpPr/>
            <p:nvPr/>
          </p:nvSpPr>
          <p:spPr>
            <a:xfrm>
              <a:off x="3564000" y="3357720"/>
              <a:ext cx="208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 flipH="1" flipV="1">
              <a:off x="4571640" y="1916280"/>
              <a:ext cx="1079640" cy="144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1" name="Group 7"/>
          <p:cNvGrpSpPr/>
          <p:nvPr/>
        </p:nvGrpSpPr>
        <p:grpSpPr>
          <a:xfrm>
            <a:off x="4427280" y="2707920"/>
            <a:ext cx="289080" cy="289440"/>
            <a:chOff x="4427280" y="2707920"/>
            <a:chExt cx="289080" cy="289440"/>
          </a:xfrm>
        </p:grpSpPr>
        <p:sp>
          <p:nvSpPr>
            <p:cNvPr id="472" name="Line 8"/>
            <p:cNvSpPr/>
            <p:nvPr/>
          </p:nvSpPr>
          <p:spPr>
            <a:xfrm flipH="1">
              <a:off x="4427280" y="2708280"/>
              <a:ext cx="14436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3" name="Line 9"/>
            <p:cNvSpPr/>
            <p:nvPr/>
          </p:nvSpPr>
          <p:spPr>
            <a:xfrm>
              <a:off x="4427640" y="2997360"/>
              <a:ext cx="288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4" name="Line 10"/>
            <p:cNvSpPr/>
            <p:nvPr/>
          </p:nvSpPr>
          <p:spPr>
            <a:xfrm flipH="1" flipV="1">
              <a:off x="4571640" y="2707920"/>
              <a:ext cx="14436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77" name="Picture 4" descr="BJ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Line 5"/>
          <p:cNvSpPr/>
          <p:nvPr/>
        </p:nvSpPr>
        <p:spPr>
          <a:xfrm flipH="1">
            <a:off x="4500360" y="2997360"/>
            <a:ext cx="431640" cy="1726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Line 6"/>
          <p:cNvSpPr/>
          <p:nvPr/>
        </p:nvSpPr>
        <p:spPr>
          <a:xfrm flipV="1">
            <a:off x="4500720" y="4437000"/>
            <a:ext cx="1223640" cy="287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Line 7"/>
          <p:cNvSpPr/>
          <p:nvPr/>
        </p:nvSpPr>
        <p:spPr>
          <a:xfrm flipH="1" flipV="1">
            <a:off x="4932360" y="2997000"/>
            <a:ext cx="792000" cy="143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WordArt 2" descr=""/>
          <p:cNvPicPr/>
          <p:nvPr/>
        </p:nvPicPr>
        <p:blipFill>
          <a:blip r:embed="rId1"/>
          <a:stretch/>
        </p:blipFill>
        <p:spPr>
          <a:xfrm>
            <a:off x="1036800" y="2341440"/>
            <a:ext cx="7265880" cy="1279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HaoSc3_145_20052493143797"/>
          <p:cNvPicPr/>
          <p:nvPr/>
        </p:nvPicPr>
        <p:blipFill>
          <a:blip r:embed="rId2"/>
          <a:stretch/>
        </p:blipFill>
        <p:spPr>
          <a:xfrm>
            <a:off x="5796000" y="907920"/>
            <a:ext cx="2057400" cy="38102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HaoSc3_145_20052493143797"/>
          <p:cNvPicPr/>
          <p:nvPr/>
        </p:nvPicPr>
        <p:blipFill>
          <a:blip r:embed="rId3"/>
          <a:stretch/>
        </p:blipFill>
        <p:spPr>
          <a:xfrm>
            <a:off x="3419640" y="981000"/>
            <a:ext cx="2057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990720" y="1197000"/>
            <a:ext cx="815328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三角形的定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不在同一条直线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三条线段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首尾顺次连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组成的图形，叫做三角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所以，三角形的特征有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）三条线段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）不在同一直线上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）首尾顺次连接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5" name="Group 3"/>
          <p:cNvGrpSpPr/>
          <p:nvPr/>
        </p:nvGrpSpPr>
        <p:grpSpPr>
          <a:xfrm>
            <a:off x="3885840" y="4648320"/>
            <a:ext cx="1905480" cy="1752480"/>
            <a:chOff x="3885840" y="4648320"/>
            <a:chExt cx="1905480" cy="1752480"/>
          </a:xfrm>
        </p:grpSpPr>
        <p:sp>
          <p:nvSpPr>
            <p:cNvPr id="486" name="Line 4"/>
            <p:cNvSpPr/>
            <p:nvPr/>
          </p:nvSpPr>
          <p:spPr>
            <a:xfrm flipH="1">
              <a:off x="3885840" y="5105520"/>
              <a:ext cx="381240" cy="129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3886200" y="6400800"/>
              <a:ext cx="1905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 flipH="1" flipV="1">
              <a:off x="4419720" y="4648320"/>
              <a:ext cx="137160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89" name="Group 16"/>
          <p:cNvGrpSpPr/>
          <p:nvPr/>
        </p:nvGrpSpPr>
        <p:grpSpPr>
          <a:xfrm>
            <a:off x="6172200" y="5181480"/>
            <a:ext cx="2057040" cy="1079640"/>
            <a:chOff x="6172200" y="5181480"/>
            <a:chExt cx="2057040" cy="1079640"/>
          </a:xfrm>
        </p:grpSpPr>
        <p:grpSp>
          <p:nvGrpSpPr>
            <p:cNvPr id="490" name="Group 15"/>
            <p:cNvGrpSpPr/>
            <p:nvPr/>
          </p:nvGrpSpPr>
          <p:grpSpPr>
            <a:xfrm>
              <a:off x="6172200" y="5181480"/>
              <a:ext cx="1928880" cy="1079640"/>
              <a:chOff x="6172200" y="5181480"/>
              <a:chExt cx="1928880" cy="1079640"/>
            </a:xfrm>
          </p:grpSpPr>
          <p:sp>
            <p:nvSpPr>
              <p:cNvPr id="491" name="Line 8"/>
              <p:cNvSpPr/>
              <p:nvPr/>
            </p:nvSpPr>
            <p:spPr>
              <a:xfrm>
                <a:off x="6391440" y="6261120"/>
                <a:ext cx="1709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2" name="Line 9"/>
              <p:cNvSpPr/>
              <p:nvPr/>
            </p:nvSpPr>
            <p:spPr>
              <a:xfrm flipH="1">
                <a:off x="6172200" y="5181480"/>
                <a:ext cx="1295280" cy="1079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93" name="Line 10"/>
            <p:cNvSpPr/>
            <p:nvPr/>
          </p:nvSpPr>
          <p:spPr>
            <a:xfrm flipH="1">
              <a:off x="8086320" y="5181480"/>
              <a:ext cx="142920" cy="1079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94" name="Line 11"/>
          <p:cNvSpPr/>
          <p:nvPr/>
        </p:nvSpPr>
        <p:spPr>
          <a:xfrm flipH="1">
            <a:off x="685800" y="4648320"/>
            <a:ext cx="1371600" cy="19047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Line 12"/>
          <p:cNvSpPr/>
          <p:nvPr/>
        </p:nvSpPr>
        <p:spPr>
          <a:xfrm>
            <a:off x="738360" y="6524640"/>
            <a:ext cx="208908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Line 13"/>
          <p:cNvSpPr/>
          <p:nvPr/>
        </p:nvSpPr>
        <p:spPr>
          <a:xfrm flipH="1" flipV="1">
            <a:off x="2057040" y="4647960"/>
            <a:ext cx="762120" cy="19047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1835280" y="765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什么是三角形？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762120" y="228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、三角形的表示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2743200" y="2819520"/>
            <a:ext cx="3657600" cy="3202920"/>
            <a:chOff x="2743200" y="2819520"/>
            <a:chExt cx="3657600" cy="3202920"/>
          </a:xfrm>
        </p:grpSpPr>
        <p:grpSp>
          <p:nvGrpSpPr>
            <p:cNvPr id="500" name="Group 4"/>
            <p:cNvGrpSpPr/>
            <p:nvPr/>
          </p:nvGrpSpPr>
          <p:grpSpPr>
            <a:xfrm>
              <a:off x="3200400" y="3657600"/>
              <a:ext cx="2819520" cy="1524240"/>
              <a:chOff x="3200400" y="3657600"/>
              <a:chExt cx="2819520" cy="1524240"/>
            </a:xfrm>
          </p:grpSpPr>
          <p:sp>
            <p:nvSpPr>
              <p:cNvPr id="501" name="Line 5"/>
              <p:cNvSpPr/>
              <p:nvPr/>
            </p:nvSpPr>
            <p:spPr>
              <a:xfrm flipH="1">
                <a:off x="3200400" y="3657600"/>
                <a:ext cx="1745280" cy="15242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2" name="Line 6"/>
              <p:cNvSpPr/>
              <p:nvPr/>
            </p:nvSpPr>
            <p:spPr>
              <a:xfrm>
                <a:off x="3200400" y="5181840"/>
                <a:ext cx="2819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3" name="Line 7"/>
              <p:cNvSpPr/>
              <p:nvPr/>
            </p:nvSpPr>
            <p:spPr>
              <a:xfrm>
                <a:off x="4945680" y="3657600"/>
                <a:ext cx="1073880" cy="15242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04" name="Text Box 8"/>
            <p:cNvSpPr/>
            <p:nvPr/>
          </p:nvSpPr>
          <p:spPr>
            <a:xfrm>
              <a:off x="4648320" y="28195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5" name="Text Box 9"/>
            <p:cNvSpPr/>
            <p:nvPr/>
          </p:nvSpPr>
          <p:spPr>
            <a:xfrm>
              <a:off x="2743200" y="51055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6" name="Text Box 10"/>
            <p:cNvSpPr/>
            <p:nvPr/>
          </p:nvSpPr>
          <p:spPr>
            <a:xfrm>
              <a:off x="5715000" y="502920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7" name="Text Box 11"/>
          <p:cNvSpPr/>
          <p:nvPr/>
        </p:nvSpPr>
        <p:spPr>
          <a:xfrm>
            <a:off x="838080" y="1143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三角形用符号“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”表示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914400" y="1981080"/>
            <a:ext cx="689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作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△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B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读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三角形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ABC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”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533520" y="3049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zh-CN" sz="5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说出图中有多少个三角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用符号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△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”表示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并指出每一个三角形的三条边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0" name="Group 3"/>
          <p:cNvGrpSpPr/>
          <p:nvPr/>
        </p:nvGrpSpPr>
        <p:grpSpPr>
          <a:xfrm>
            <a:off x="1371600" y="2971800"/>
            <a:ext cx="6172200" cy="3583800"/>
            <a:chOff x="1371600" y="2971800"/>
            <a:chExt cx="6172200" cy="3583800"/>
          </a:xfrm>
        </p:grpSpPr>
        <p:grpSp>
          <p:nvGrpSpPr>
            <p:cNvPr id="511" name="Group 4"/>
            <p:cNvGrpSpPr/>
            <p:nvPr/>
          </p:nvGrpSpPr>
          <p:grpSpPr>
            <a:xfrm>
              <a:off x="2209320" y="3429000"/>
              <a:ext cx="4496040" cy="2742840"/>
              <a:chOff x="2209320" y="3429000"/>
              <a:chExt cx="4496040" cy="2742840"/>
            </a:xfrm>
          </p:grpSpPr>
          <p:sp>
            <p:nvSpPr>
              <p:cNvPr id="512" name="Line 5"/>
              <p:cNvSpPr/>
              <p:nvPr/>
            </p:nvSpPr>
            <p:spPr>
              <a:xfrm flipH="1">
                <a:off x="2209320" y="3429000"/>
                <a:ext cx="4246200" cy="274284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3" name="Line 6"/>
              <p:cNvSpPr/>
              <p:nvPr/>
            </p:nvSpPr>
            <p:spPr>
              <a:xfrm>
                <a:off x="2958840" y="5673240"/>
                <a:ext cx="3746520" cy="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4" name="Line 7"/>
              <p:cNvSpPr/>
              <p:nvPr/>
            </p:nvSpPr>
            <p:spPr>
              <a:xfrm flipH="1" flipV="1">
                <a:off x="5706000" y="3927240"/>
                <a:ext cx="999000" cy="174564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5" name="Line 8"/>
              <p:cNvSpPr/>
              <p:nvPr/>
            </p:nvSpPr>
            <p:spPr>
              <a:xfrm flipH="1">
                <a:off x="4457160" y="3927600"/>
                <a:ext cx="1248840" cy="174564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16" name="Text Box 9"/>
            <p:cNvSpPr/>
            <p:nvPr/>
          </p:nvSpPr>
          <p:spPr>
            <a:xfrm>
              <a:off x="1371600" y="5638680"/>
              <a:ext cx="838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7" name="Text Box 10"/>
            <p:cNvSpPr/>
            <p:nvPr/>
          </p:nvSpPr>
          <p:spPr>
            <a:xfrm>
              <a:off x="2438280" y="4876920"/>
              <a:ext cx="83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Text Box 11"/>
            <p:cNvSpPr/>
            <p:nvPr/>
          </p:nvSpPr>
          <p:spPr>
            <a:xfrm>
              <a:off x="5105520" y="3124080"/>
              <a:ext cx="838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6477120" y="2971800"/>
              <a:ext cx="838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6705720" y="5334120"/>
              <a:ext cx="838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Text Box 14"/>
            <p:cNvSpPr/>
            <p:nvPr/>
          </p:nvSpPr>
          <p:spPr>
            <a:xfrm>
              <a:off x="4114800" y="5638680"/>
              <a:ext cx="838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5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3:56Z</dcterms:modified>
  <cp:revision>11</cp:revision>
  <dc:subject>www.12999.com</dc:subject>
  <dc:title>www.12999.com</dc:title>
</cp:coreProperties>
</file>