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gif" ContentType="image/gif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6D9-2EF1-4C79-8597-40E9B72C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54A-6C0B-42DB-B544-08BF8DDB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E9749-6425-45D8-80DB-BB526C00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E91D5-0274-42C4-8E03-DF65CA9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D86EC-119C-4BA7-A7EF-E8304FD0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209DD-78ED-450F-9085-E425D2F0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F7E45-7A0C-4B8E-A21B-EF3BC237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3DF34-DA5B-451E-A360-D0EBC53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7D0D1-ED9A-4ECC-9B96-C3128973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EF2D3-734A-4E3E-92D4-863C1A82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FB8E0-2E17-4DE2-AF56-59EEC571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84B22-4907-4ED4-B5FD-869FB6F7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7E8-2BA1-4B95-967D-5B6C56FC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98135-7054-428B-873F-30664B95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8F463-F9C0-4257-959E-F3B7F448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121B2-B6C7-43B7-B727-25D97269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C0CC2-27A1-4A0F-94AF-873F28B0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7B4EC-CA93-40AC-B00A-5D785721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FCBB0-D1F1-4A83-8B9C-9FCDD50B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E5F9B-57F1-4652-85BC-B3D4B97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6B5D9-41E9-42C6-920B-93B7388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634F8-45C2-4F98-A2E2-77C73ABE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060DA-9DA9-4641-BAA9-B31BEAD1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016-2BF4-4305-87C7-68472D04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BC14C-5A53-4594-8B1B-358919EB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8A2B-DDA6-4B08-BCD5-076F74B8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8D77-00DD-4DA3-ADF9-3F9E87F4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EC59-C62C-430B-861C-E9F58501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135C-3F8A-446A-BE62-814883D7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2741-28DC-44BC-A207-F670F6B7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4161-B663-44D0-8D19-D1A29F6F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EF36-8CD1-4DBB-AB58-CC60331A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B20-CD82-44B0-8CAE-0784C24D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102A-0BA4-4A63-8F8D-F416BEF9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2330-2016-4BEB-BC19-60D5D820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6675-F99F-4BD3-8C7E-319DA279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9580-DF70-44B5-B748-4C7F8EB6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4A4C-7000-49C0-82E0-039FD80A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85C1-ABA6-4FE4-A96A-95FCDAF4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AF22-8E21-4044-8EEC-FFE3E975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1A53-E4D7-461B-9654-38764E68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100F-AE83-4D38-93D0-F04D4B99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BED2-A195-4BCA-8610-E8EF0327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1D9-2290-454F-8291-ECD6DBDA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E60F-3C6E-4A69-9B04-E84FF345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E620-F3AE-491C-B164-970D9A6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5FB4-2B48-4C8B-BFD2-6CFC594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ED2E-57CA-4B0A-982B-4D3A1358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399A-D397-4E35-960B-D3283E2E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503D-5957-46E4-90C9-17333DE1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12CF-2DF5-4D73-8E1E-FA5B52B4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9D835-7A92-4C6C-B5B2-E80BDF08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F5E7-B96D-4A4C-8EED-2C69857B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56A5-5D9B-4520-A7B5-994D3B7A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161-3663-4984-B2E6-D69F4B06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3085-A07B-4740-BAF5-7EC0CA8F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8E8C-D1B1-4680-9A99-9F97CE5F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09AD-387D-4584-9821-DB044862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0CF6-C3ED-4A8D-B65D-3A9C546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6CD6-26A1-4281-9A8E-766CFB3D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780D-607E-4E6F-9F02-3AA4B70E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A1FB-237A-480B-A69B-AD0286D6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BD82-4AE5-42B6-B509-87C3FF73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B57B5-0D10-41DA-A17E-AAFDF0BF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5F2BB-0F73-478F-8210-06DEB085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17A-77BE-435E-8A82-555CEFC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DCFCE-B1C8-4B31-84FB-F4DA5358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34340-A67B-446E-AEF0-303F870A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3CD04-83CA-47E4-9074-4B675C33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4BA27-1584-4966-8432-5F7CD70A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F00FB-BF4D-45C0-9EC9-78D8F96B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BFE4-AADE-46FD-9BFE-3A156CB1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9902-BEA1-4DCB-9D4F-6E1459D9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C9940-01E7-417D-81B1-45E8A95D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FD7E2-4B8C-436F-8693-D5656593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871E-B4E5-4B0D-9A63-5FBBB9E3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4DF-41B8-4313-A719-65CBA9D9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09D3F-B4FD-45EB-8686-029F7120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C850C-58C5-4D9D-A69F-D22EAEF5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0BCB1-D4B9-4A5A-AD65-65C155CB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B2D92-3BAA-4FA0-84DF-7674D484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0AF22-3277-4854-8A89-9DE98FC4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15D25-AECA-403C-9AD9-EBB69C8F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0555-CCC6-4E97-8427-2CD1893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DD57E-3343-437C-92BE-D9B404C1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4F12-A3B9-488E-A5DC-ED935A8B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90672-D03A-4778-8BCE-26A7513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17D-6A6D-4409-AAF3-9B551D3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6BBB-C9C8-4EEA-B311-4C85A422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0F82-9AA1-4195-B06A-6F58C0C4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44C2D-820A-4E05-B71B-D36DC913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EF375-F72E-47E2-B359-7635FA60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9B418-D2C4-4881-B646-6F4FAD4B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FC568-A3FA-4B06-B26B-47E4285F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C8B3E-6ABE-4551-90B1-C9E90EC4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4DC24-9FE8-4CEA-93B1-CC95F71D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F8ACC-4418-4ACF-9F19-1186E0F1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C2333-E6FF-4E62-8CBD-71A658C1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5B7-C9DC-4354-AFBE-9134E942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C7EB3-3218-4C15-A619-B3A14AF4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9D64F-047B-4D60-88A7-92D8E8B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ADA32-2BD0-4B15-8A0F-FC95D507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37EE7-2A92-401D-976D-634511D0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5F83B-B72F-4BFA-9D4A-44FD6845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B71C3-8737-4B5C-865B-EAB1A282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938E0-E0B9-44EF-86C5-94840D5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BCF21-122F-41EC-A2EA-16CE9B0C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14216-E537-4A5D-BB45-28E1A02E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5EF7D-F048-4CCD-8A2E-7779CA9E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E92-04E2-41B4-8D21-913B864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9A93C-0423-43FA-AF5A-C8045C8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C016-D5A2-4CF6-BFF3-CBE6FC25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4D8A-65E2-4910-A593-5F8F3B8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AB4E9-61F9-47E9-946E-C213BDA2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E61B8-27FF-4F01-8DA1-F716981A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44D6E-C7AC-4567-99F4-1A9ED87B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03B58-EA77-49E2-8C61-D2627D18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89CF3-484A-4B3A-888A-8FD33B83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DE784-FEA3-4435-ACCB-FFB7562D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A6524-BB41-430A-986B-141CC10A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4DF1-FDA2-45ED-A9C9-DA82033B7BB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61E1-CCF1-44CF-96CB-3DB554CA655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1D4B-25A1-40A0-8267-D1F12595EB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F0C4-D3DE-404C-910B-20BD7C35D35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B228-D4CC-4BC1-87BE-516FECF90F5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3FA3-D592-43A6-8C06-B1CEF15CBB2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8D4D-158A-4DCC-8EA8-E1460F6E7A1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A414-1494-4674-8E66-6D88814578F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E9D0-EE3B-4FE3-AACB-5B9187A812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3E3D-CC96-4A6F-AAC7-3A280C9B40A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430200" y="1628640"/>
            <a:ext cx="87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42f"/>
                </a:solidFill>
                <a:latin typeface="Arial"/>
                <a:ea typeface="宋体"/>
              </a:rPr>
              <a:t>三角形的三边关系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/>
          <p:cNvSpPr/>
          <p:nvPr/>
        </p:nvSpPr>
        <p:spPr>
          <a:xfrm>
            <a:off x="2340000" y="1628640"/>
            <a:ext cx="3311640" cy="720720"/>
          </a:xfrm>
          <a:prstGeom prst="wedgeRoundRectCallout">
            <a:avLst>
              <a:gd name="adj1" fmla="val 12370"/>
              <a:gd name="adj2" fmla="val -81277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0" name="Picture 3" descr="ART_2797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a5644e"/>
            </a:solidFill>
            <a:miter/>
          </a:ln>
        </p:spPr>
      </p:pic>
      <p:pic>
        <p:nvPicPr>
          <p:cNvPr id="511" name="Picture 4" descr="ART_1886"/>
          <p:cNvPicPr/>
          <p:nvPr/>
        </p:nvPicPr>
        <p:blipFill>
          <a:blip r:embed="rId2"/>
          <a:stretch/>
        </p:blipFill>
        <p:spPr>
          <a:xfrm>
            <a:off x="2362320" y="2895480"/>
            <a:ext cx="2431800" cy="28400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2514600" y="914400"/>
            <a:ext cx="12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小结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3" name="Picture 6" descr="HOSE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36000" y="5921280"/>
            <a:ext cx="1008000" cy="9367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7"/>
          <p:cNvSpPr/>
          <p:nvPr/>
        </p:nvSpPr>
        <p:spPr>
          <a:xfrm>
            <a:off x="3202200" y="371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5" name="Picture 8" descr="BOOK08"/>
          <p:cNvPicPr/>
          <p:nvPr/>
        </p:nvPicPr>
        <p:blipFill>
          <a:blip r:embed="rId5"/>
          <a:stretch/>
        </p:blipFill>
        <p:spPr>
          <a:xfrm>
            <a:off x="250920" y="260280"/>
            <a:ext cx="1296720" cy="104292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9"/>
          <p:cNvSpPr/>
          <p:nvPr/>
        </p:nvSpPr>
        <p:spPr>
          <a:xfrm>
            <a:off x="2590920" y="18288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的三边关系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2057400" y="251460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三边关系的运用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BJ_010"/>
          <p:cNvPicPr/>
          <p:nvPr/>
        </p:nvPicPr>
        <p:blipFill>
          <a:blip r:embed="rId1"/>
          <a:stretch/>
        </p:blipFill>
        <p:spPr>
          <a:xfrm>
            <a:off x="971640" y="3240000"/>
            <a:ext cx="7397640" cy="27972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3"/>
          <p:cNvSpPr/>
          <p:nvPr/>
        </p:nvSpPr>
        <p:spPr>
          <a:xfrm>
            <a:off x="246384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WordArt 4"/>
          <p:cNvSpPr txBox="1"/>
          <p:nvPr/>
        </p:nvSpPr>
        <p:spPr>
          <a:xfrm>
            <a:off x="2268360" y="1125360"/>
            <a:ext cx="4537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60280"/>
            <a:ext cx="9144000" cy="397080"/>
            <a:chOff x="0" y="260280"/>
            <a:chExt cx="9144000" cy="397080"/>
          </a:xfrm>
        </p:grpSpPr>
        <p:sp>
          <p:nvSpPr>
            <p:cNvPr id="451" name="Text Box 3"/>
            <p:cNvSpPr/>
            <p:nvPr/>
          </p:nvSpPr>
          <p:spPr>
            <a:xfrm>
              <a:off x="0" y="620640"/>
              <a:ext cx="9144000" cy="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324000" y="260280"/>
              <a:ext cx="309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3" name="Text Box 5"/>
            <p:cNvSpPr/>
            <p:nvPr/>
          </p:nvSpPr>
          <p:spPr>
            <a:xfrm>
              <a:off x="5580000" y="260280"/>
              <a:ext cx="309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539640" y="1670040"/>
            <a:ext cx="7848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Times New Roman"/>
                <a:ea typeface="宋体"/>
              </a:rPr>
              <a:t>思考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任给三条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不在同一直线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首尾顺次相接就一定能组成一个三角形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任意两边之和与第三边有什么关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之差与第三边有什么关系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请同学们带着问题我们一起来探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0" y="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探究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455560" y="260280"/>
            <a:ext cx="511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zh-CN" sz="1800" spc="-1" strike="noStrike">
                <a:solidFill>
                  <a:srgbClr val="6600ff"/>
                </a:solidFill>
                <a:latin typeface="Arial"/>
                <a:ea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图三角形中，假设有一只小蚂蚁要从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沿着三角形的边爬到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去捉小瓢虫，它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几条路线可以选择？各条路线的长一样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7" name="Group 5"/>
          <p:cNvGrpSpPr/>
          <p:nvPr/>
        </p:nvGrpSpPr>
        <p:grpSpPr>
          <a:xfrm>
            <a:off x="459360" y="1905120"/>
            <a:ext cx="2235600" cy="1899360"/>
            <a:chOff x="459360" y="1905120"/>
            <a:chExt cx="2235600" cy="1899360"/>
          </a:xfrm>
        </p:grpSpPr>
        <p:grpSp>
          <p:nvGrpSpPr>
            <p:cNvPr id="458" name="Group 6"/>
            <p:cNvGrpSpPr/>
            <p:nvPr/>
          </p:nvGrpSpPr>
          <p:grpSpPr>
            <a:xfrm>
              <a:off x="852120" y="2336400"/>
              <a:ext cx="1511640" cy="1224000"/>
              <a:chOff x="852120" y="2336400"/>
              <a:chExt cx="1511640" cy="1224000"/>
            </a:xfrm>
          </p:grpSpPr>
          <p:sp>
            <p:nvSpPr>
              <p:cNvPr id="459" name="Line 7"/>
              <p:cNvSpPr/>
              <p:nvPr/>
            </p:nvSpPr>
            <p:spPr>
              <a:xfrm flipH="1">
                <a:off x="852120" y="2336760"/>
                <a:ext cx="792360" cy="12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0" name="Line 8"/>
              <p:cNvSpPr/>
              <p:nvPr/>
            </p:nvSpPr>
            <p:spPr>
              <a:xfrm>
                <a:off x="852480" y="35604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1" name="Line 9"/>
              <p:cNvSpPr/>
              <p:nvPr/>
            </p:nvSpPr>
            <p:spPr>
              <a:xfrm flipH="1" flipV="1">
                <a:off x="1644480" y="2336400"/>
                <a:ext cx="718920" cy="12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62" name="Text Box 10"/>
            <p:cNvSpPr/>
            <p:nvPr/>
          </p:nvSpPr>
          <p:spPr>
            <a:xfrm>
              <a:off x="1502280" y="1905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Text Box 11"/>
            <p:cNvSpPr/>
            <p:nvPr/>
          </p:nvSpPr>
          <p:spPr>
            <a:xfrm>
              <a:off x="459360" y="334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4" name="Text Box 12"/>
            <p:cNvSpPr/>
            <p:nvPr/>
          </p:nvSpPr>
          <p:spPr>
            <a:xfrm>
              <a:off x="2294640" y="334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Oval 13"/>
            <p:cNvSpPr/>
            <p:nvPr/>
          </p:nvSpPr>
          <p:spPr>
            <a:xfrm>
              <a:off x="852480" y="3489120"/>
              <a:ext cx="71280" cy="6948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66" name="Text Box 14"/>
          <p:cNvSpPr/>
          <p:nvPr/>
        </p:nvSpPr>
        <p:spPr>
          <a:xfrm>
            <a:off x="3720960" y="1954080"/>
            <a:ext cx="307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由“两点之间，线段最短”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以得到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AB+AC&gt;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3434400" y="3024360"/>
            <a:ext cx="223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同理可得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  <a:ea typeface="宋体"/>
              </a:rPr>
              <a:t>AC+BC&gt;AB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  <a:ea typeface="宋体"/>
              </a:rPr>
              <a:t>AB+BC&gt;A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2397960" y="4419720"/>
            <a:ext cx="341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三角形的三边有这样的关系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角形两边的和大于第三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380880" y="4191120"/>
            <a:ext cx="649440" cy="10688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Impact"/>
                <a:ea typeface="楷体_GB2312"/>
              </a:rPr>
              <a:t>结论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Text Box 18"/>
          <p:cNvSpPr/>
          <p:nvPr/>
        </p:nvSpPr>
        <p:spPr>
          <a:xfrm>
            <a:off x="1295280" y="5410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猜一猜，两边之差与第三边有何关系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00200" y="6095880"/>
            <a:ext cx="648000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任何两边的差小于第三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Oval 2"/>
          <p:cNvSpPr/>
          <p:nvPr/>
        </p:nvSpPr>
        <p:spPr>
          <a:xfrm>
            <a:off x="304920" y="380880"/>
            <a:ext cx="900000" cy="155736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试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试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1692360" y="476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下长度的各组线段为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否画一个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619280" y="1341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(1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5cm,  3cm, 9cm;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619280" y="19890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(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7cm,  4cm, 2cm;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5580000" y="1413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5580000" y="1989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619280" y="2565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5cm,  7cm, 3cm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940000" y="26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能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533520" y="3124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如何判断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457200" y="373392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判断三条线段能否组成三角形的两种方法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果两条较短线段的和大于第三条最长的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这三条线段能组成一个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最长的线段减去最短的线段的差小于第三条线段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那么这三条线段能组成一个三角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189000" y="450720"/>
            <a:ext cx="8808840" cy="9399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644e"/>
                </a:solidFill>
                <a:latin typeface="Franklin Gothic Book"/>
              </a:rPr>
              <a:t>1 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用一根长为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18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厘米的细铁丝围成一个等腰三角形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644e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a5644e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a5644e"/>
                </a:solidFill>
                <a:latin typeface="Franklin Gothic Book"/>
              </a:rPr>
              <a:t>）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如果腰长是底边的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倍，那么各边的长是多少？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644e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a5644e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a5644e"/>
                </a:solidFill>
                <a:latin typeface="Franklin Gothic Book"/>
              </a:rPr>
              <a:t>）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能围成有一边的长为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厘米的等腰三角形吗？为什么？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0336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644e"/>
                </a:solidFill>
                <a:latin typeface="Franklin Gothic Book"/>
              </a:rPr>
              <a:t>解 </a:t>
            </a:r>
            <a:r>
              <a:rPr b="0" lang="en-US" sz="3200" spc="-1" strike="noStrike">
                <a:solidFill>
                  <a:srgbClr val="a5644e"/>
                </a:solidFill>
                <a:latin typeface="Franklin Gothic Book"/>
              </a:rPr>
              <a:t>(1)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，则腰长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x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                 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+2x+2x=18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解得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=3.6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所以三边长分别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.6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7.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7.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2188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1f1f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a5644e"/>
                </a:solidFill>
                <a:latin typeface="Franklin Gothic Book"/>
              </a:rPr>
              <a:t>(2)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因为长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的边可能是腰，也可能是底边，所以需要分情况讨论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644e"/>
                </a:solidFill>
                <a:latin typeface="Franklin Gothic Book"/>
              </a:rPr>
              <a:t>          </a:t>
            </a:r>
            <a:r>
              <a:rPr b="0" lang="en-US" sz="3200" spc="-1" strike="noStrike">
                <a:solidFill>
                  <a:srgbClr val="a5644e"/>
                </a:solidFill>
                <a:latin typeface="Franklin Gothic Book"/>
              </a:rPr>
              <a:t>(a)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如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长为底边，设腰长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，则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+2x=18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，解得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=7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0" lang="en-US" sz="3200" spc="-1" strike="noStrike">
                <a:solidFill>
                  <a:srgbClr val="a5644e"/>
                </a:solidFill>
                <a:latin typeface="Franklin Gothic Book"/>
              </a:rPr>
              <a:t>(b)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如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长为腰，设底边长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，则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X4+x=18,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解得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=10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因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+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，出现两边和小于第三边的情况，所以不能围成腰长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的等腰三角形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由以上结论可知，可以围成底边长是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厘米的等腰三角形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549360" y="1182600"/>
            <a:ext cx="2381040" cy="2129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2843280" y="476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人说，自己步子大，一步能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米多，你相信吗？说说你的理由！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324000" y="692280"/>
            <a:ext cx="27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考考你！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9" name="Group 5"/>
          <p:cNvGrpSpPr/>
          <p:nvPr/>
        </p:nvGrpSpPr>
        <p:grpSpPr>
          <a:xfrm>
            <a:off x="684360" y="2637000"/>
            <a:ext cx="1726920" cy="720720"/>
            <a:chOff x="684360" y="2637000"/>
            <a:chExt cx="1726920" cy="720720"/>
          </a:xfrm>
        </p:grpSpPr>
        <p:sp>
          <p:nvSpPr>
            <p:cNvPr id="490" name="Line 6"/>
            <p:cNvSpPr/>
            <p:nvPr/>
          </p:nvSpPr>
          <p:spPr>
            <a:xfrm flipH="1">
              <a:off x="684360" y="2637000"/>
              <a:ext cx="79200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1" name="Line 7"/>
            <p:cNvSpPr/>
            <p:nvPr/>
          </p:nvSpPr>
          <p:spPr>
            <a:xfrm>
              <a:off x="1476360" y="2637000"/>
              <a:ext cx="934920" cy="7207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2" name="Line 8"/>
            <p:cNvSpPr/>
            <p:nvPr/>
          </p:nvSpPr>
          <p:spPr>
            <a:xfrm>
              <a:off x="684360" y="3357720"/>
              <a:ext cx="172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3" name="Text Box 9"/>
          <p:cNvSpPr/>
          <p:nvPr/>
        </p:nvSpPr>
        <p:spPr>
          <a:xfrm>
            <a:off x="2916360" y="306864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答：不能。如果此人一步能走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米多，由三角形三边的关系得，此人两腿的长大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米多，这与实际情况相矛盾，所以它一步不能走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米多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57895E-006 L -8.33333E-007 0.19963 E">
                                      <p:cBhvr>
                                        <p:cTn id="145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3"/>
          <p:cNvSpPr/>
          <p:nvPr/>
        </p:nvSpPr>
        <p:spPr>
          <a:xfrm>
            <a:off x="75564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等腰三角形的一边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cm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另一边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cm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则这个等腰三角形的周长</a:t>
            </a:r>
            <a:r>
              <a:rPr b="1" lang="en-US" sz="2800" spc="-1" strike="noStrike">
                <a:solidFill>
                  <a:srgbClr val="ad1f1f"/>
                </a:solidFill>
                <a:latin typeface="Times New Roman"/>
                <a:ea typeface="宋体"/>
              </a:rPr>
              <a:t>=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826920" y="2565360"/>
            <a:ext cx="79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2 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等腰三角形的一边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cm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另一边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cm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则这个等腰三角形的周长</a:t>
            </a:r>
            <a:r>
              <a:rPr b="1" lang="en-US" sz="2800" spc="-1" strike="noStrike">
                <a:solidFill>
                  <a:srgbClr val="ad1f1f"/>
                </a:solidFill>
                <a:latin typeface="Times New Roman"/>
                <a:ea typeface="宋体"/>
              </a:rPr>
              <a:t>=__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1908000" y="3716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, 5, 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385128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, 8, 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6019920" y="29718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18cm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或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21cm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1042920" y="198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,4,9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298764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,9,9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2484360" y="198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×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149720" y="19890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Text Box 13"/>
          <p:cNvSpPr/>
          <p:nvPr/>
        </p:nvSpPr>
        <p:spPr>
          <a:xfrm>
            <a:off x="500364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+9+9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6300720" y="14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22cm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0" y="198108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三边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179280" y="364500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三边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Rectangle 21"/>
          <p:cNvSpPr/>
          <p:nvPr/>
        </p:nvSpPr>
        <p:spPr>
          <a:xfrm>
            <a:off x="3541680" y="4054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228600" y="228600"/>
            <a:ext cx="1600200" cy="5335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练一练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2:54:20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04:22Z</dcterms:modified>
  <cp:revision>62</cp:revision>
  <dc:subject>www.12999.com</dc:subject>
  <dc:title>www.12999.com</dc:title>
</cp:coreProperties>
</file>