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9.wmf" ContentType="image/x-wmf"/>
  <Override PartName="/ppt/media/image7.png" ContentType="image/png"/>
  <Override PartName="/ppt/media/image8.jpeg" ContentType="image/jpeg"/>
  <Override PartName="/ppt/media/image10.wmf" ContentType="image/x-wmf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B4C-E0C8-4880-AA8B-0FB7D770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89B-4809-4F53-92DC-BB815B1D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7E977-5A9B-4EF8-9329-0ED9C02E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6A065-4296-4A62-A399-B4C29CD9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E8909-B1F9-46E0-867E-22D4B2C2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41EFB-FB53-4688-BF9B-49D70854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E7E30-1E2E-4282-8B5B-67F67548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459C9-BE88-458F-8689-9815E5BE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E7C4E-FAAF-4507-A9C5-47D1B8B8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D1E7C-F599-48E4-9048-D51A3025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4E412-90AE-4386-8935-BFC7AE24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603FF-9C29-429A-9220-8BE6DF98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094-2BC6-4706-877F-D95C4937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52594-79DF-4C23-9EF3-967D0F73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9C2C1-DEE6-47CA-9801-EDB3B72F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9516A-5C4E-4E62-8C9B-B12825A8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85F85-6DAA-4ECD-BC17-8F46926D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1D9FB-D464-4D78-82C5-3130126D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D22C3-248B-4D2D-9E73-03A2D606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769F0-F31F-4626-9EDD-0F9EF2CF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0278D-499E-4271-B72E-A4F5F495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C3572-3199-4117-AFCE-5E053B49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B9735-C3B6-49DC-BC9B-D5FDDC5A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46C-62AB-44DA-804C-0893588D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163FB-E33D-4644-849F-DC29097F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69A3-AE54-4985-B559-EBDBDC93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0C13-9971-4904-9795-CD0A0DB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A51C-3089-47A3-8201-7F8191A3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FB86-B999-4B15-B847-B5CB0F8D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5EEB-3F68-46CE-AFFD-C1BEEF61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F651-75A6-41DB-99CF-68D4591F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04BF-6A58-4270-AD8D-960B0FB3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9E7-B716-41D5-A21B-81DD26DE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4FAA-5D5A-4EEA-B384-F78E3F56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B424-4719-449E-8BAC-7B170638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5BE1-5F53-494C-A58A-6C6D83F5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774D-E7DC-460A-A17B-1698C621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AF15-A08D-4325-809F-8401AD49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829F-FE90-455A-A2F8-16214B37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E47F-312D-4777-B71C-7BB657A2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C8DC-3EAE-46D2-924C-7B1B6349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C669-26E8-4F5A-9AAC-C7397C5F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D2DA9-BC76-4B85-8F10-B6620581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7E5-9B32-4B80-AD8D-1E2ADF9D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F222E-1100-4815-887B-D71F1B31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0A28-6F77-4627-B962-5D1006DA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FE2A-7833-46ED-8CD0-47E5D4F3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0EA4-E332-400A-99AA-F31107A0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FEBD6-AD6C-4EE5-89EB-D2D42663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BE62-6605-437E-A462-D08AFB0A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8BCED-74AC-4F51-8344-FEE58097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EAF5A-5716-48F4-BCFA-A922DA4A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B098-FD3B-44D9-A7D8-08A7F44C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230DC-E86F-4F31-A97A-2D3EF523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C2A-A3CA-4534-A93B-10F665C8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2DC78-1204-462F-B110-C30D38F1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50C05-1935-4A53-86C6-09D17221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5A77-D1A6-4A18-B88D-1AD7CDD5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B8984-4B34-445B-9FCF-41AC9A5B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099E3-A93E-4A8F-A1BD-01720AD1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0AD02-9977-477E-88AF-6513803C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F03B2-563D-422D-AA9C-852E5D8C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3E502-1CA9-4D61-8802-A0EBE1A7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D9F1-951A-4E96-8FA7-DBA6BC32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15599-7DBD-4419-A8F6-DC077105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724-CBE4-4B2B-AC52-54372F52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E0D24-C038-4FA2-B624-2131CC29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EDFE9-A8B0-4F40-9173-1EF09CBA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0E4CF-37D4-4887-90C7-C2A3B075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A7616-7A87-4763-81BD-613BE317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A3C05-367C-4098-974E-C028DD6A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32861-F9DC-4E69-A9DE-FDD2D76E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551BD-E166-4C6C-87F8-8859631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2D2C3-AAD3-4A53-BCEC-F67E11D0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247A8-23D4-4F09-BC16-344C26FD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95141-5AC2-4CAB-9A1A-6DCE4086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A40-CD88-44E9-9DF0-8BDB366C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AA92F-FB63-4F28-92BE-5C6B1D9A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68436-8EC3-4B1E-A768-1D07E026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AD50-B23B-4BC7-A153-AD3397EB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36163-DAA6-46ED-87A3-006BB27F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447C3-9004-4900-9595-57E8D726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9F58A-967E-4445-857F-341F5CC5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E611D-E08B-4ACF-BEFD-684FCF3E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11B5F-6270-424A-85E3-7AC781D7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D351C-1F59-480B-89E4-8A0EE81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4E5A8-FB79-4E57-B9C9-FD4B8222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B87-72FE-4FC3-8724-0800AE67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23855-A00F-46DD-A832-354FC8CF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3BCA5-EBB7-4B56-8A6B-9F24A79C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01C9-152B-4655-BC4B-7A1CB515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3B9E-9DC4-4CE5-AF19-C88E9206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4B22F-5335-4C55-A75F-B3B0369D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7415F-084F-41A3-B979-F92490C0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D3101-520B-4EFF-B3D2-55C3248E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126A-1C28-4976-8620-7091CD52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5F310-A519-4C7D-9D57-75B78C3E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ECAC1-8372-42F9-88B6-DFB31E1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F8B-CEDF-4026-A65E-54434168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57411-EC9B-491B-9484-024D8C71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814A2-0D54-465D-B331-116B7C38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D423E-5A33-4AC3-9830-E88F4EE1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9D0B3-C8E5-4FDF-9687-776520A2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34C8B-84D4-4D92-AE71-BF0707D2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18F98-8BFA-4205-A360-FD25B9FF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F0AB5-8764-4779-BFAD-6C3C9619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27D8A-067E-45CE-8017-6CD27A19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2EDB3-9352-4122-9B4E-8258103E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7C57D-6083-4B6B-8F34-64560CB1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C56-B2EB-4362-B071-A53643D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A5998-2B14-495F-BD3F-433F0058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1C8FE-632E-4C24-9872-A70897F4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738D9-4333-4A15-956E-79AEDCA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D26B4-025A-4134-BCFF-3CA50672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E2FA1-0F65-4740-95C0-62B9301B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9516C-A5E3-4ED9-A063-4E1DE03A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2FA39-B469-432B-B266-D81CE029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F5B5D-0819-470D-A8FD-4FA6960C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81B54-106B-4EA1-A3D7-DDA79910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28375-FE2D-40D8-AED6-01A7C360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4382-E9D3-4037-A813-941B32759F5A}" type="slidenum">
              <a:rPr b="1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992D-C2D6-474D-93F1-B954E58F785C}" type="slidenum">
              <a:rPr b="1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F288-1099-404F-BDFB-79523C720990}" type="slidenum">
              <a:rPr b="1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1A3C-FD50-4F65-8D39-4AE4EBE577BF}" type="slidenum">
              <a:rPr b="1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CBD2-37D9-48E0-806A-42DCAEB850DF}" type="slidenum">
              <a:rPr b="1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88A1-6D95-431A-8C86-BE85E7F8C3C4}" type="slidenum">
              <a:rPr b="1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F6D5-5A5F-4417-9090-C66080BD5489}" type="slidenum">
              <a:rPr b="1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5EF7-AF9D-4A7F-AD84-872948713A3F}" type="slidenum">
              <a:rPr b="1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D667-563D-47E6-8A2B-7BD956E57608}" type="slidenum">
              <a:rPr b="1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A7CE-DC22-456E-8637-331DAC09F03E}" type="slidenum">
              <a:rPr b="1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bj_026"/>
          <p:cNvPicPr/>
          <p:nvPr/>
        </p:nvPicPr>
        <p:blipFill>
          <a:blip r:embed="rId1"/>
          <a:stretch/>
        </p:blipFill>
        <p:spPr>
          <a:xfrm>
            <a:off x="609480" y="2347920"/>
            <a:ext cx="8139240" cy="4367160"/>
          </a:xfrm>
          <a:prstGeom prst="rect">
            <a:avLst/>
          </a:prstGeom>
          <a:ln w="0">
            <a:noFill/>
          </a:ln>
        </p:spPr>
      </p:pic>
      <p:sp>
        <p:nvSpPr>
          <p:cNvPr id="450" name="WordArt 3"/>
          <p:cNvSpPr txBox="1"/>
          <p:nvPr/>
        </p:nvSpPr>
        <p:spPr>
          <a:xfrm>
            <a:off x="1219320" y="914400"/>
            <a:ext cx="6697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三角形三边关系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763640" y="90792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Verdana"/>
                <a:ea typeface="宋体"/>
              </a:rPr>
              <a:t>我学会了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-684360" y="551700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三角形的稳定性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3231720" y="162864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三角形的三边关系定理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7" name="Group 5"/>
          <p:cNvGrpSpPr/>
          <p:nvPr/>
        </p:nvGrpSpPr>
        <p:grpSpPr>
          <a:xfrm>
            <a:off x="1476360" y="2133720"/>
            <a:ext cx="6516720" cy="551160"/>
            <a:chOff x="1476360" y="2133720"/>
            <a:chExt cx="6516720" cy="551160"/>
          </a:xfrm>
        </p:grpSpPr>
        <p:sp>
          <p:nvSpPr>
            <p:cNvPr id="538" name="Rectangle 6"/>
            <p:cNvSpPr/>
            <p:nvPr/>
          </p:nvSpPr>
          <p:spPr>
            <a:xfrm>
              <a:off x="1979640" y="2133720"/>
              <a:ext cx="6013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(1)</a:t>
              </a: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判断三条已知线段能否组成三角形时，采用一种较为简便的判法：若最短边与较长边的和大于最长边，则可构成三角形，否则不能</a:t>
              </a:r>
              <a:r>
                <a:rPr b="1" lang="en-US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.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9" name="Rectangle 7"/>
            <p:cNvSpPr/>
            <p:nvPr/>
          </p:nvSpPr>
          <p:spPr>
            <a:xfrm>
              <a:off x="1476360" y="2204640"/>
              <a:ext cx="70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、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2911680" y="4005360"/>
            <a:ext cx="319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确定三角形第三边的取值范围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两边之差</a:t>
            </a:r>
            <a:r>
              <a:rPr b="1" lang="en-US" sz="2400" spc="-1" strike="noStrike">
                <a:solidFill>
                  <a:srgbClr val="cc3300"/>
                </a:solidFill>
                <a:latin typeface="Verdana"/>
                <a:ea typeface="宋体"/>
              </a:rPr>
              <a:t>&lt;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第三边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两边之和</a:t>
            </a:r>
            <a:r>
              <a:rPr b="1" lang="en-US" sz="2400" spc="-1" strike="noStrike">
                <a:solidFill>
                  <a:srgbClr val="cc3300"/>
                </a:solidFill>
                <a:latin typeface="Verdana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第三边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1854000" y="99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自我测试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4276800" y="1141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Verdana"/>
                <a:ea typeface="宋体"/>
              </a:rPr>
              <a:t>（我要试试，加油！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900000" y="1844640"/>
            <a:ext cx="712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）已知三角形三边长为整数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x-3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则共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作出不同形状的三角形？当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为多少时，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作三角形周长最长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1116000" y="3282840"/>
            <a:ext cx="6985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已知三条线段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c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满足下列关系式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c=2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b+2a =3c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．这三条线段的长能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成三角形吗？若能，请说明理由；若不能，请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举一个例子说明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1116000" y="5181480"/>
            <a:ext cx="71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用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6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根等长的火柴棒摆成的三角形中，最长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最多可以由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____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根火柴棒组成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BJ_010"/>
          <p:cNvPicPr/>
          <p:nvPr/>
        </p:nvPicPr>
        <p:blipFill>
          <a:blip r:embed="rId1"/>
          <a:stretch/>
        </p:blipFill>
        <p:spPr>
          <a:xfrm>
            <a:off x="971640" y="3240000"/>
            <a:ext cx="7397640" cy="27972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463840" y="134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9" name="WordArt 4"/>
          <p:cNvSpPr txBox="1"/>
          <p:nvPr/>
        </p:nvSpPr>
        <p:spPr>
          <a:xfrm>
            <a:off x="2268360" y="1125360"/>
            <a:ext cx="4537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1432080" y="40176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380880" y="838080"/>
            <a:ext cx="83822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教学目标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使学生知道“三角形中任意两边的和大于第三边”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运用关系解决简单的实际问题；</a:t>
            </a:r>
            <a:br>
              <a:rPr sz="2800"/>
            </a:b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培养学生的观察、分析、比较、操作能力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一步发展空间观念，提高学生的探索能力。</a:t>
            </a:r>
            <a:br>
              <a:rPr sz="2800"/>
            </a:b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让学生经历数学学习的过程，感受数学与实际的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紧密联系，在学习中培养学生数学运用的意识以及团结协助的精神。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"/>
          <p:cNvSpPr/>
          <p:nvPr/>
        </p:nvSpPr>
        <p:spPr>
          <a:xfrm rot="10800000">
            <a:off x="3419280" y="2204280"/>
            <a:ext cx="3313080" cy="187164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843280" y="2997360"/>
            <a:ext cx="172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 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道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3327480" y="2117880"/>
            <a:ext cx="3332160" cy="2008080"/>
            <a:chOff x="3327480" y="2117880"/>
            <a:chExt cx="3332160" cy="2008080"/>
          </a:xfrm>
        </p:grpSpPr>
        <p:sp>
          <p:nvSpPr>
            <p:cNvPr id="456" name="Line 5"/>
            <p:cNvSpPr/>
            <p:nvPr/>
          </p:nvSpPr>
          <p:spPr>
            <a:xfrm>
              <a:off x="3327480" y="2117880"/>
              <a:ext cx="1440" cy="20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>
              <a:off x="3343320" y="4094280"/>
              <a:ext cx="3316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8" name="Line 7"/>
            <p:cNvSpPr/>
            <p:nvPr/>
          </p:nvSpPr>
          <p:spPr>
            <a:xfrm>
              <a:off x="3419640" y="2492640"/>
              <a:ext cx="288108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59" name="AutoShape 8"/>
          <p:cNvSpPr/>
          <p:nvPr/>
        </p:nvSpPr>
        <p:spPr>
          <a:xfrm>
            <a:off x="5796000" y="4221000"/>
            <a:ext cx="504720" cy="216000"/>
          </a:xfrm>
          <a:prstGeom prst="leftArrow">
            <a:avLst>
              <a:gd name="adj1" fmla="val 50000"/>
              <a:gd name="adj2" fmla="val 58417"/>
            </a:avLst>
          </a:prstGeom>
          <a:solidFill>
            <a:srgbClr val="cc330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0" name="Group 9"/>
          <p:cNvGrpSpPr/>
          <p:nvPr/>
        </p:nvGrpSpPr>
        <p:grpSpPr>
          <a:xfrm>
            <a:off x="2916360" y="1989000"/>
            <a:ext cx="3959280" cy="2519280"/>
            <a:chOff x="2916360" y="1989000"/>
            <a:chExt cx="3959280" cy="2519280"/>
          </a:xfrm>
        </p:grpSpPr>
        <p:sp>
          <p:nvSpPr>
            <p:cNvPr id="461" name="Line 10"/>
            <p:cNvSpPr/>
            <p:nvPr/>
          </p:nvSpPr>
          <p:spPr>
            <a:xfrm>
              <a:off x="2916360" y="198900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2" name="Line 11"/>
            <p:cNvSpPr/>
            <p:nvPr/>
          </p:nvSpPr>
          <p:spPr>
            <a:xfrm>
              <a:off x="2916360" y="4508280"/>
              <a:ext cx="395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3" name="Group 12"/>
          <p:cNvGrpSpPr/>
          <p:nvPr/>
        </p:nvGrpSpPr>
        <p:grpSpPr>
          <a:xfrm>
            <a:off x="5724360" y="4437000"/>
            <a:ext cx="2232000" cy="863640"/>
            <a:chOff x="5724360" y="4437000"/>
            <a:chExt cx="2232000" cy="863640"/>
          </a:xfrm>
        </p:grpSpPr>
        <p:sp>
          <p:nvSpPr>
            <p:cNvPr id="464" name="Oval 13"/>
            <p:cNvSpPr/>
            <p:nvPr/>
          </p:nvSpPr>
          <p:spPr>
            <a:xfrm>
              <a:off x="5724360" y="4437000"/>
              <a:ext cx="2232000" cy="86364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5" name="Rectangle 14"/>
            <p:cNvSpPr/>
            <p:nvPr/>
          </p:nvSpPr>
          <p:spPr>
            <a:xfrm>
              <a:off x="6417720" y="4638600"/>
              <a:ext cx="88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图 书 馆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66" name="AutoShape 15"/>
          <p:cNvSpPr/>
          <p:nvPr/>
        </p:nvSpPr>
        <p:spPr>
          <a:xfrm>
            <a:off x="3276720" y="2205000"/>
            <a:ext cx="3456000" cy="194328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7" name="Group 16"/>
          <p:cNvGrpSpPr/>
          <p:nvPr/>
        </p:nvGrpSpPr>
        <p:grpSpPr>
          <a:xfrm>
            <a:off x="3132000" y="907920"/>
            <a:ext cx="720720" cy="1584360"/>
            <a:chOff x="3132000" y="907920"/>
            <a:chExt cx="720720" cy="1584360"/>
          </a:xfrm>
        </p:grpSpPr>
        <p:sp>
          <p:nvSpPr>
            <p:cNvPr id="468" name="Oval 17"/>
            <p:cNvSpPr/>
            <p:nvPr/>
          </p:nvSpPr>
          <p:spPr>
            <a:xfrm>
              <a:off x="3132000" y="907920"/>
              <a:ext cx="719280" cy="158436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Rectangle 18"/>
            <p:cNvSpPr/>
            <p:nvPr/>
          </p:nvSpPr>
          <p:spPr>
            <a:xfrm>
              <a:off x="3263400" y="1152000"/>
              <a:ext cx="58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教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学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楼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3708360" y="3068640"/>
            <a:ext cx="1474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草坪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1" name="Picture 20" descr="RX_009"/>
          <p:cNvPicPr/>
          <p:nvPr/>
        </p:nvPicPr>
        <p:blipFill>
          <a:blip r:embed="rId1"/>
          <a:stretch/>
        </p:blipFill>
        <p:spPr>
          <a:xfrm>
            <a:off x="4491000" y="3019320"/>
            <a:ext cx="244440" cy="42552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21"/>
          <p:cNvGrpSpPr/>
          <p:nvPr/>
        </p:nvGrpSpPr>
        <p:grpSpPr>
          <a:xfrm>
            <a:off x="4859280" y="906480"/>
            <a:ext cx="2089080" cy="2017440"/>
            <a:chOff x="4859280" y="906480"/>
            <a:chExt cx="2089080" cy="2017440"/>
          </a:xfrm>
        </p:grpSpPr>
        <p:sp>
          <p:nvSpPr>
            <p:cNvPr id="473" name="AutoShape 22"/>
            <p:cNvSpPr/>
            <p:nvPr/>
          </p:nvSpPr>
          <p:spPr>
            <a:xfrm>
              <a:off x="4859280" y="906480"/>
              <a:ext cx="1800360" cy="2017440"/>
            </a:xfrm>
            <a:prstGeom prst="upArrow">
              <a:avLst>
                <a:gd name="adj1" fmla="val 23417"/>
                <a:gd name="adj2" fmla="val 95824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4" name="Text Box 23"/>
            <p:cNvSpPr/>
            <p:nvPr/>
          </p:nvSpPr>
          <p:spPr>
            <a:xfrm>
              <a:off x="5435640" y="1555560"/>
              <a:ext cx="1512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Verdana"/>
                  <a:ea typeface="宋体"/>
                </a:rPr>
                <a:t>请勿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Verdana"/>
                  <a:ea typeface="宋体"/>
                </a:rPr>
                <a:t>践踏！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Line 2"/>
          <p:cNvSpPr/>
          <p:nvPr/>
        </p:nvSpPr>
        <p:spPr>
          <a:xfrm flipH="1">
            <a:off x="4642920" y="2276640"/>
            <a:ext cx="3095640" cy="1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6" name="Line 3"/>
          <p:cNvSpPr/>
          <p:nvPr/>
        </p:nvSpPr>
        <p:spPr>
          <a:xfrm flipH="1">
            <a:off x="4643280" y="2276640"/>
            <a:ext cx="13687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7" name="Line 4"/>
          <p:cNvSpPr/>
          <p:nvPr/>
        </p:nvSpPr>
        <p:spPr>
          <a:xfrm>
            <a:off x="6012000" y="2276640"/>
            <a:ext cx="17269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8" name="Line 5"/>
          <p:cNvSpPr/>
          <p:nvPr/>
        </p:nvSpPr>
        <p:spPr>
          <a:xfrm>
            <a:off x="6804000" y="3068640"/>
            <a:ext cx="863640" cy="1440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Line 6"/>
          <p:cNvSpPr/>
          <p:nvPr/>
        </p:nvSpPr>
        <p:spPr>
          <a:xfrm flipH="1">
            <a:off x="4570200" y="3355920"/>
            <a:ext cx="215640" cy="1152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Line 7"/>
          <p:cNvSpPr/>
          <p:nvPr/>
        </p:nvSpPr>
        <p:spPr>
          <a:xfrm flipH="1">
            <a:off x="4570200" y="4508640"/>
            <a:ext cx="3095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0" y="285264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Line 9"/>
          <p:cNvSpPr/>
          <p:nvPr/>
        </p:nvSpPr>
        <p:spPr>
          <a:xfrm>
            <a:off x="1763640" y="2205000"/>
            <a:ext cx="2087640" cy="17985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Line 10"/>
          <p:cNvSpPr/>
          <p:nvPr/>
        </p:nvSpPr>
        <p:spPr>
          <a:xfrm flipH="1">
            <a:off x="753840" y="4003560"/>
            <a:ext cx="30956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Line 11"/>
          <p:cNvSpPr/>
          <p:nvPr/>
        </p:nvSpPr>
        <p:spPr>
          <a:xfrm flipH="1">
            <a:off x="754200" y="2205000"/>
            <a:ext cx="1009440" cy="179856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1403280" y="6206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Verdana"/>
                <a:ea typeface="宋体"/>
              </a:rPr>
              <a:t>由三条不在同一条直线上的线段首尾顺次连结组成的平面图形，称为三角形</a:t>
            </a:r>
            <a:r>
              <a:rPr b="1" lang="en-US" sz="2400" spc="-1" strike="noStrike">
                <a:solidFill>
                  <a:srgbClr val="003399"/>
                </a:solidFill>
                <a:latin typeface="Verdana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1332000" y="501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Verdana"/>
                <a:ea typeface="宋体"/>
              </a:rPr>
              <a:t>你能说出三角形有哪些性质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Rectangle 14"/>
          <p:cNvSpPr/>
          <p:nvPr/>
        </p:nvSpPr>
        <p:spPr>
          <a:xfrm>
            <a:off x="2340000" y="620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宋体"/>
              </a:rPr>
              <a:t>不在同一条直线上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6090480" y="620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宋体"/>
              </a:rPr>
              <a:t>首尾顺次连结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836280" y="2349360"/>
            <a:ext cx="7696080" cy="844200"/>
            <a:chOff x="836280" y="2349360"/>
            <a:chExt cx="7696080" cy="844200"/>
          </a:xfrm>
        </p:grpSpPr>
        <p:sp>
          <p:nvSpPr>
            <p:cNvPr id="490" name="Rectangle 3"/>
            <p:cNvSpPr/>
            <p:nvPr/>
          </p:nvSpPr>
          <p:spPr>
            <a:xfrm>
              <a:off x="1800000" y="2733840"/>
              <a:ext cx="67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判断三条线段能否组成三角形，是否一定要检验三条线段中任何两条的和都大于第三条？根据你刚才解题经验，有没有更简便的判断方法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836280" y="2349360"/>
              <a:ext cx="9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33"/>
                  </a:solidFill>
                  <a:latin typeface="Verdana"/>
                  <a:ea typeface="宋体"/>
                </a:rPr>
                <a:t>思   考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92" name="Rectangle 5"/>
          <p:cNvSpPr/>
          <p:nvPr/>
        </p:nvSpPr>
        <p:spPr>
          <a:xfrm>
            <a:off x="826920" y="3933720"/>
            <a:ext cx="76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Verdana"/>
                <a:ea typeface="宋体"/>
              </a:rPr>
              <a:t>只要满足较小的两条线段之和大于第三条线段，便可构成三角形</a:t>
            </a: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宋体"/>
              </a:rPr>
              <a:t>;</a:t>
            </a:r>
            <a:r>
              <a:rPr b="1" lang="zh-CN" sz="2400" spc="-1" strike="noStrike">
                <a:solidFill>
                  <a:srgbClr val="990033"/>
                </a:solidFill>
                <a:latin typeface="Verdana"/>
                <a:ea typeface="宋体"/>
              </a:rPr>
              <a:t>若不满足，则不能构成三角形</a:t>
            </a: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395280" y="90792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下列长度的各组线段能否组成一个三角形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7cm    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(2)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 4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5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0cm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(3)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  3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8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5cm       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(4)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 4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5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6cm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539640" y="47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Verdana"/>
                <a:ea typeface="宋体"/>
              </a:rPr>
              <a:t>练一练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900000" y="2060640"/>
            <a:ext cx="76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Verdana"/>
                <a:ea typeface="宋体"/>
              </a:rPr>
              <a:t>只要满足较小的两条线段之和大于第三条线段，便可构成三角形</a:t>
            </a: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宋体"/>
              </a:rPr>
              <a:t>;</a:t>
            </a:r>
            <a:r>
              <a:rPr b="1" lang="zh-CN" sz="2400" spc="-1" strike="noStrike">
                <a:solidFill>
                  <a:srgbClr val="990033"/>
                </a:solidFill>
                <a:latin typeface="Verdana"/>
                <a:ea typeface="宋体"/>
              </a:rPr>
              <a:t>若不满足，则不能构成三角形</a:t>
            </a: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395280" y="765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下列长度的各组线段能否组成一个三角形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7cm    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(2)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 4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5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0cm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(3)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  3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8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5cm       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(4)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 4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5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6cm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611280" y="38307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宋体"/>
              </a:rPr>
              <a:t>         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因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4cm+5cm&lt;10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所以这三条线段不能组成一个三角形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539640" y="46944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因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3cm+5cm=8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所以这三条线段不能组成一个三角形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24000" y="26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Verdana"/>
                <a:ea typeface="宋体"/>
              </a:rPr>
              <a:t>练一练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0" name="Group 7"/>
          <p:cNvGrpSpPr/>
          <p:nvPr/>
        </p:nvGrpSpPr>
        <p:grpSpPr>
          <a:xfrm>
            <a:off x="684360" y="2997360"/>
            <a:ext cx="8208720" cy="830160"/>
            <a:chOff x="684360" y="2997360"/>
            <a:chExt cx="8208720" cy="830160"/>
          </a:xfrm>
        </p:grpSpPr>
        <p:sp>
          <p:nvSpPr>
            <p:cNvPr id="501" name="Rectangle 8"/>
            <p:cNvSpPr/>
            <p:nvPr/>
          </p:nvSpPr>
          <p:spPr>
            <a:xfrm>
              <a:off x="684360" y="3002040"/>
              <a:ext cx="820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         </a:t>
              </a:r>
              <a:r>
                <a:rPr b="1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(1) </a:t>
              </a: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因为</a:t>
              </a:r>
              <a:r>
                <a:rPr b="1" lang="en-US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10cm+7cm&gt;15cm</a:t>
              </a: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，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           </a:t>
              </a: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所以这三条线段能组成一个三角形</a:t>
              </a:r>
              <a:r>
                <a:rPr b="1" lang="en-US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.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2" name="Rectangle 9"/>
            <p:cNvSpPr/>
            <p:nvPr/>
          </p:nvSpPr>
          <p:spPr>
            <a:xfrm>
              <a:off x="954000" y="2997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解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3" name="Rectangle 10"/>
          <p:cNvSpPr/>
          <p:nvPr/>
        </p:nvSpPr>
        <p:spPr>
          <a:xfrm>
            <a:off x="684360" y="5516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宋体"/>
              </a:rPr>
              <a:t>        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因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4cm+5cm&gt;6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所以这三条线段能组成一个三角形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232640" y="2557440"/>
            <a:ext cx="62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以长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3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5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7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四条线段中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三条线段为边，可构成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_____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个三角形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579680" y="54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宋体"/>
              </a:rPr>
              <a:t>摘苹果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250920" y="14414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）任何三条线段都能组成一个三角形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(     )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1351800" y="2021040"/>
            <a:ext cx="63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）因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a+b&gt;c,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所以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c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三边可以构成三角形（   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250920" y="3498840"/>
            <a:ext cx="889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）已知等腰三角形的两边长分别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8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3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则这三角形的周长为 （　 ）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　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）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4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             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9cm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C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）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4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9cm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） 不确定</a:t>
            </a:r>
            <a:br>
              <a:rPr sz="2400"/>
            </a:b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09" name="Picture 7" descr="苹果"/>
          <p:cNvPicPr/>
          <p:nvPr/>
        </p:nvPicPr>
        <p:blipFill>
          <a:blip r:embed="rId1"/>
          <a:stretch/>
        </p:blipFill>
        <p:spPr>
          <a:xfrm>
            <a:off x="395280" y="404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苹果"/>
          <p:cNvPicPr/>
          <p:nvPr/>
        </p:nvPicPr>
        <p:blipFill>
          <a:blip r:embed="rId2"/>
          <a:stretch/>
        </p:blipFill>
        <p:spPr>
          <a:xfrm>
            <a:off x="971640" y="6206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9"/>
          <p:cNvSpPr/>
          <p:nvPr/>
        </p:nvSpPr>
        <p:spPr>
          <a:xfrm>
            <a:off x="7883640" y="14097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  <a:ea typeface="宋体"/>
              </a:rPr>
              <a:t>×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7883640" y="19828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  <a:ea typeface="宋体"/>
              </a:rPr>
              <a:t>×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4498920" y="29941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  <a:ea typeface="宋体"/>
              </a:rPr>
              <a:t>2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4211640" y="39304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108000" y="4809960"/>
            <a:ext cx="7200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7"/>
          <p:cNvPicPr/>
          <p:nvPr/>
        </p:nvPicPr>
        <p:blipFill>
          <a:blip r:embed="rId1"/>
          <a:stretch/>
        </p:blipFill>
        <p:spPr>
          <a:xfrm>
            <a:off x="1492200" y="890640"/>
            <a:ext cx="6242040" cy="46832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3"/>
          <p:cNvGrpSpPr/>
          <p:nvPr/>
        </p:nvGrpSpPr>
        <p:grpSpPr>
          <a:xfrm>
            <a:off x="2124000" y="2491920"/>
            <a:ext cx="1584360" cy="1584720"/>
            <a:chOff x="2124000" y="2491920"/>
            <a:chExt cx="1584360" cy="1584720"/>
          </a:xfrm>
        </p:grpSpPr>
        <p:sp>
          <p:nvSpPr>
            <p:cNvPr id="518" name="Line 4"/>
            <p:cNvSpPr/>
            <p:nvPr/>
          </p:nvSpPr>
          <p:spPr>
            <a:xfrm flipV="1">
              <a:off x="2124000" y="2491920"/>
              <a:ext cx="1584360" cy="730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9" name="Line 5"/>
            <p:cNvSpPr/>
            <p:nvPr/>
          </p:nvSpPr>
          <p:spPr>
            <a:xfrm>
              <a:off x="2124000" y="2565360"/>
              <a:ext cx="71280" cy="1511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0" name="Line 6"/>
            <p:cNvSpPr/>
            <p:nvPr/>
          </p:nvSpPr>
          <p:spPr>
            <a:xfrm flipV="1">
              <a:off x="2195280" y="2491920"/>
              <a:ext cx="1513080" cy="15843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1" name="Group 7"/>
          <p:cNvGrpSpPr/>
          <p:nvPr/>
        </p:nvGrpSpPr>
        <p:grpSpPr>
          <a:xfrm>
            <a:off x="6299280" y="2276640"/>
            <a:ext cx="1512720" cy="1584000"/>
            <a:chOff x="6299280" y="2276640"/>
            <a:chExt cx="1512720" cy="1584000"/>
          </a:xfrm>
        </p:grpSpPr>
        <p:sp>
          <p:nvSpPr>
            <p:cNvPr id="522" name="Line 8"/>
            <p:cNvSpPr/>
            <p:nvPr/>
          </p:nvSpPr>
          <p:spPr>
            <a:xfrm flipV="1">
              <a:off x="6299280" y="2276640"/>
              <a:ext cx="1512720" cy="727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3" name="Line 9"/>
            <p:cNvSpPr/>
            <p:nvPr/>
          </p:nvSpPr>
          <p:spPr>
            <a:xfrm>
              <a:off x="7812000" y="2276640"/>
              <a:ext cx="0" cy="15840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4" name="Line 10"/>
            <p:cNvSpPr/>
            <p:nvPr/>
          </p:nvSpPr>
          <p:spPr>
            <a:xfrm>
              <a:off x="6299280" y="2349360"/>
              <a:ext cx="1512720" cy="1511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5" name="Text Box 11"/>
          <p:cNvSpPr/>
          <p:nvPr/>
        </p:nvSpPr>
        <p:spPr>
          <a:xfrm>
            <a:off x="2843280" y="515772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411280" y="4653000"/>
            <a:ext cx="5545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3492360" y="5084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5219640" y="5661000"/>
            <a:ext cx="28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4365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、已知两条边长分别为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5cm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你可以画出几个符合条件的等腰三角形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971640" y="4017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宋体"/>
              </a:rPr>
              <a:t>做一做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826920" y="907920"/>
            <a:ext cx="788544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、已知两条边长分别为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5cm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，你可以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画出几个符合条件的等腰三角形？并求符合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条件的等腰三角形的周长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2" name="Picture 5" descr=""/>
          <p:cNvPicPr/>
          <p:nvPr/>
        </p:nvPicPr>
        <p:blipFill>
          <a:blip r:embed="rId1"/>
          <a:stretch/>
        </p:blipFill>
        <p:spPr>
          <a:xfrm>
            <a:off x="2340000" y="2581200"/>
            <a:ext cx="3024000" cy="1903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6" descr=""/>
          <p:cNvPicPr/>
          <p:nvPr/>
        </p:nvPicPr>
        <p:blipFill>
          <a:blip r:embed="rId2"/>
          <a:stretch/>
        </p:blipFill>
        <p:spPr>
          <a:xfrm>
            <a:off x="6496200" y="3429000"/>
            <a:ext cx="647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01:19:19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3:34Z</dcterms:modified>
  <cp:revision>15</cp:revision>
  <dc:subject>www.12999.com</dc:subject>
  <dc:title>www.12999.com</dc:title>
</cp:coreProperties>
</file>