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2.gif" ContentType="image/gif"/>
  <Override PartName="/ppt/media/image9.png" ContentType="image/png"/>
  <Override PartName="/ppt/media/image17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chimes.wav" ContentType="audio/x-wav"/>
  <Override PartName="/ppt/media/image13.gif" ContentType="image/gif"/>
  <Override PartName="/ppt/media/image16.jpeg" ContentType="image/jpeg"/>
  <Override PartName="/ppt/media/image8.png" ContentType="image/png"/>
  <Override PartName="/ppt/media/image21.png" ContentType="image/png"/>
  <Override PartName="/ppt/media/image20.gif" ContentType="image/gif"/>
  <Override PartName="/ppt/media/image19.wmf" ContentType="image/x-wmf"/>
  <Override PartName="/ppt/media/image15.gif" ContentType="image/gif"/>
  <Override PartName="/ppt/media/type.wav" ContentType="audio/x-wav"/>
  <Override PartName="/ppt/media/image14.gif" ContentType="image/gif"/>
  <Override PartName="/ppt/media/image2.jpeg" ContentType="image/jpeg"/>
  <Override PartName="/ppt/media/image3.png" ContentType="image/png"/>
  <Override PartName="/ppt/media/image23.gif" ContentType="image/gif"/>
  <Override PartName="/ppt/media/image4.png" ContentType="image/png"/>
  <Override PartName="/ppt/media/image24.gif" ContentType="image/gif"/>
  <Override PartName="/ppt/media/image1.gif" ContentType="image/gif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C6F-9026-488B-949A-AF6099CE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2E8-E428-45B6-B893-B08991EC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16699-AA61-471C-BBC5-9FFECE3D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A9066-E078-4C84-A15C-4575ED8D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08859-37CF-4775-ACDD-B56A761A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F3686-1169-4162-8384-3CC93EF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94316-1FFD-462B-8FD2-525C3B5E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30142-D17C-482E-980D-71C5A761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1B0EE-DC9A-4CB1-801E-E1B14C26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3F8CC-E5F9-40EB-B099-6D254965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59B25-D6E3-4588-9632-82B055B9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F3F9D-47A6-4EA0-9C11-5DD30B7F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4DC-BE32-433E-909F-C891EEAC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00C28-84E2-4B2E-9C20-B04C2533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86F2F-BC40-4F94-B0FE-10298C9F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4B2BB-6D03-4C0B-8276-385ED41C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DF2FE-517B-4E14-AE85-8BFD861D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A3D8B-1AE9-4E32-98A3-23ED0A1B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AC8A3-8300-464C-B44B-BC246B80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8ED71-78FE-4001-A88D-86BB37F0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1F1B7-826E-4C9D-AF56-4F325ED4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406EC-77F6-44F1-9F1E-593EFB50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5B3D8-4477-4AA1-9BB3-37C541FB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9B9-1530-4EFB-8986-AC704B18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B0FF1-A494-43B2-8202-9714E93E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AE99-1E3E-4E78-94F5-13ECF0E3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9A10-A7F9-425F-9203-FC694BB3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83ED-1F9D-4FB7-8A82-986AE94E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BDAF-9910-4742-B404-63DF0AFE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9383-3DCA-4B82-95D3-F7D2415B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08EC-1E22-4C90-AA22-8C8E9677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BFC3-F3DA-4700-A887-2D3D0D09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EF6-7378-400C-AE56-21DE7370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B342-8BE1-4447-9D2B-61E48E93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47FD-F8AF-4B69-BDB5-2AE1D03F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BFBA-8423-44F6-BDCB-5AC332D2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E76D-6415-41D7-B35D-A0057914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0902-C5E7-4E9B-ACB1-FA207E72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BF17-4BA2-4FA1-BD4D-AD32F7B1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E270F-CC17-4BB9-B207-839EC524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85DF-B7B0-4DFA-93C3-3576A8B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4A5B-E889-48F2-8833-5AF2CD9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6B34-2388-42F0-8840-B7D59ED5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AA6-5967-465D-81B6-03D8C54D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183C-C091-4D0C-A19C-46CE9A98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7D37-E98E-4EFA-8607-AE4F46B1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ACA0-FA53-48C5-8D4C-B18D514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EE88-907A-46D8-BF67-209785AC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D56E-0CDB-4F9D-A6B5-444194DD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34A0-42B7-4973-96C8-F3AD6E79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9AF3-B8E7-44AC-9D84-8588DC0E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7B1E-7F1D-4FF2-87EF-BFA4DCD2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C887C-AD51-477D-8CC5-5BCE75BD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D592-90B3-409C-8E07-63425B46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686-8350-4197-9E49-666008A3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F02C-3761-4645-BDDF-B1037F25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B632-DB00-4952-9850-D9D3478A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E0140-BFD2-44CC-B41D-C0CD1336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2918-3053-464B-90E0-57342FC7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885F-1760-4671-A9B7-9D171C79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BC00-4012-43DB-8834-32EC0529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B2598-7CBB-4E18-9907-4DDCDAE5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845D-C6A6-4E13-A0FF-A326CA9F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7D302-C896-4CCF-AFC8-B2093E46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E7C82-0622-4E65-BBA8-5E61E121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20C-763F-4047-B3C6-9FE042AF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9689-14AC-4468-85CE-FD9EB286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74F52-5DCD-4995-9601-7E5EDE0E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93C0-3085-4655-8C6A-DE8A14DC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0FF9-FC20-4EC3-AA0F-D1CFA646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83613-031F-429C-B861-D2F5D4BB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14EC-5C8F-48EE-9D8C-A7067F0A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E9B5-6D6A-4729-A49E-9C9A8A35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3994-C0AB-481B-8B01-14775D5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5FDD7-7239-4752-95D6-554D7C22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2F571-3320-4B83-A17B-7B60ACEB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977-8E53-4924-99C9-5F77785C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D030-7DD3-41FE-BE7C-3E80B714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0A43F-0776-49A8-9395-5E5A79AF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C383-271D-4613-8749-909886BB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CC823-A25E-489C-BCD4-582409CE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C5DD-4F67-433D-8615-9BBD2DEC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3BA7-5084-4E6E-878A-260A8881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8EB7-69E9-4F90-8FFF-BC66D1D7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29312-708A-4562-AA36-7267C29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CD69-2819-41BD-9628-EE8036D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081AC-ED93-45D6-8685-E4E679BF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13D-20C4-4D6D-83CC-64D5611E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108A-C1B0-4411-8713-E9D922F5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C8A6D-319B-472B-9604-C6431407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6CB9F-0C5E-49C9-B118-51E01067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89CC3-CCD4-4F9E-B778-2ECE3804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4AD62-8183-4B84-8C69-CF583C64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36C6A-B499-483E-A0D0-7276A415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D090F-2CCB-4B7A-A2A4-59EF9ACB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6705-0018-4431-B9F6-0840F110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538C2-CA77-4807-9D58-6FF09158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63606-7132-467C-8077-6DB84C00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41A-9B33-44E8-A665-9C9903C6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B8FF-44F5-48BF-A7B6-C31C4779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72AAC-F72B-4E08-A062-6E026F66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5943-3B5E-4FAB-9DA8-2ABC9ABE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DC3A1-2352-4E0A-8845-7A40AA13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6563E-5CCE-409B-ACEA-AB43F37D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C373D-481C-4D80-A57B-186994B4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328FF-8BB9-48DB-93EF-339917E6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4D7F2-86B5-4EB8-B004-B90EA29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187BC-CD25-492A-9F03-C0FA1845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A6AB4-BB98-4880-860E-E6CFB07E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F3D-7AED-4FA5-BDD9-EE7DE41C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1937A-1B39-43E3-954B-75A92E73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B71E-2CAD-496F-9136-B66A8D3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0BD68-907D-45B9-849D-81CF9017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145C8-2DA6-4248-AA9A-D795C319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55415-092E-40CE-84F9-0F1150A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88BBD-07B6-4E40-A687-80265D2D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0AF1B-C31E-4653-9789-D9650BCB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C862F-5AE6-44F3-8044-2438B8B3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1A395-63D8-462B-84CE-D0E6E9BE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C1E14-B1C4-492A-B3F1-EC9A5820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A540-3EA3-41E3-8717-DDEE03380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22360" y="41292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90504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46200" y="83520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159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3184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 flipV="1">
            <a:off x="250920" y="981000"/>
            <a:ext cx="1295280" cy="36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900000" y="333360"/>
            <a:ext cx="32040" cy="10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2" descr="01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4509-8678-4B77-924B-E4E58E3B92A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8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E6D4-8AAF-48E5-BE75-47DCB022C54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5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6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9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8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2606-76D4-4DD4-8C59-12E1D227AC1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54CF-7326-44DF-A6E1-5B360CAB450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2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FEAE-4E24-4498-BB37-A61D48BBE97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D38-0884-4F4D-AF6D-09A9632EE9E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A468-1FA3-4631-89B0-339938CE82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6F09-DE06-4BF6-B602-FF8853A859E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8141-A593-42C9-A586-06CD049D53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9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5"/>
          <p:cNvSpPr/>
          <p:nvPr/>
        </p:nvSpPr>
        <p:spPr>
          <a:xfrm>
            <a:off x="0" y="2205000"/>
            <a:ext cx="914400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数学王子高斯说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给我最大快乐的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不是已懂得知识，而是不断的学习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不是已有的东西，而是不断的获取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不是已达到的高度，而是继续不断的攀登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1908000" y="765000"/>
            <a:ext cx="518508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数学名言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6" descr="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10"/>
          <p:cNvSpPr/>
          <p:nvPr/>
        </p:nvSpPr>
        <p:spPr>
          <a:xfrm>
            <a:off x="324000" y="1125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13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分外角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, ∠B=∠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AD∥B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20"/>
          <p:cNvGrpSpPr/>
          <p:nvPr/>
        </p:nvGrpSpPr>
        <p:grpSpPr>
          <a:xfrm>
            <a:off x="6084720" y="493560"/>
            <a:ext cx="2808000" cy="2360160"/>
            <a:chOff x="6084720" y="493560"/>
            <a:chExt cx="2808000" cy="2360160"/>
          </a:xfrm>
        </p:grpSpPr>
        <p:sp>
          <p:nvSpPr>
            <p:cNvPr id="657" name="Line 21"/>
            <p:cNvSpPr/>
            <p:nvPr/>
          </p:nvSpPr>
          <p:spPr>
            <a:xfrm>
              <a:off x="6573240" y="2594160"/>
              <a:ext cx="1465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2"/>
            <p:cNvSpPr/>
            <p:nvPr/>
          </p:nvSpPr>
          <p:spPr>
            <a:xfrm flipH="1">
              <a:off x="6572880" y="793440"/>
              <a:ext cx="854280" cy="180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23"/>
            <p:cNvSpPr/>
            <p:nvPr/>
          </p:nvSpPr>
          <p:spPr>
            <a:xfrm>
              <a:off x="6573240" y="893160"/>
              <a:ext cx="73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24"/>
            <p:cNvSpPr/>
            <p:nvPr/>
          </p:nvSpPr>
          <p:spPr>
            <a:xfrm>
              <a:off x="8038440" y="2294280"/>
              <a:ext cx="73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5"/>
            <p:cNvSpPr/>
            <p:nvPr/>
          </p:nvSpPr>
          <p:spPr>
            <a:xfrm>
              <a:off x="8160120" y="993600"/>
              <a:ext cx="73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26"/>
            <p:cNvSpPr/>
            <p:nvPr/>
          </p:nvSpPr>
          <p:spPr>
            <a:xfrm>
              <a:off x="6084720" y="2394000"/>
              <a:ext cx="85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7"/>
            <p:cNvSpPr/>
            <p:nvPr/>
          </p:nvSpPr>
          <p:spPr>
            <a:xfrm>
              <a:off x="6939360" y="49356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8"/>
            <p:cNvSpPr/>
            <p:nvPr/>
          </p:nvSpPr>
          <p:spPr>
            <a:xfrm>
              <a:off x="7183440" y="1293480"/>
              <a:ext cx="854640" cy="1300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29"/>
            <p:cNvSpPr/>
            <p:nvPr/>
          </p:nvSpPr>
          <p:spPr>
            <a:xfrm>
              <a:off x="7214040" y="1293480"/>
              <a:ext cx="976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Text Box 30"/>
          <p:cNvSpPr/>
          <p:nvPr/>
        </p:nvSpPr>
        <p:spPr>
          <a:xfrm>
            <a:off x="6443640" y="3645000"/>
            <a:ext cx="1743120" cy="119124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用了定理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内错角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直线平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得到了证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2"/>
          <p:cNvSpPr/>
          <p:nvPr/>
        </p:nvSpPr>
        <p:spPr>
          <a:xfrm>
            <a:off x="663480" y="4636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33"/>
          <p:cNvSpPr/>
          <p:nvPr/>
        </p:nvSpPr>
        <p:spPr>
          <a:xfrm>
            <a:off x="250920" y="189000"/>
            <a:ext cx="31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现学现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4"/>
          <p:cNvSpPr/>
          <p:nvPr/>
        </p:nvSpPr>
        <p:spPr>
          <a:xfrm>
            <a:off x="395280" y="256536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∵ ∠EAC=∠B+∠C 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三角形的一个外角等于和它不相邻的两个内角的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5"/>
          <p:cNvSpPr/>
          <p:nvPr/>
        </p:nvSpPr>
        <p:spPr>
          <a:xfrm>
            <a:off x="395280" y="306396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∠C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6"/>
          <p:cNvSpPr/>
          <p:nvPr/>
        </p:nvSpPr>
        <p:spPr>
          <a:xfrm>
            <a:off x="1306080" y="35686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     ∠EA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式性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7"/>
          <p:cNvSpPr/>
          <p:nvPr/>
        </p:nvSpPr>
        <p:spPr>
          <a:xfrm>
            <a:off x="250920" y="4076640"/>
            <a:ext cx="541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分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38"/>
          <p:cNvSpPr/>
          <p:nvPr/>
        </p:nvSpPr>
        <p:spPr>
          <a:xfrm>
            <a:off x="1490040" y="458136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C=   ∠EA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角平分线的定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9"/>
          <p:cNvSpPr/>
          <p:nvPr/>
        </p:nvSpPr>
        <p:spPr>
          <a:xfrm>
            <a:off x="250920" y="5084640"/>
            <a:ext cx="6019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∴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C=∠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量代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40"/>
          <p:cNvSpPr/>
          <p:nvPr/>
        </p:nvSpPr>
        <p:spPr>
          <a:xfrm>
            <a:off x="1663920" y="57340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∥B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43" descr=""/>
          <p:cNvPicPr/>
          <p:nvPr/>
        </p:nvPicPr>
        <p:blipFill>
          <a:blip r:embed="rId2"/>
          <a:stretch/>
        </p:blipFill>
        <p:spPr>
          <a:xfrm>
            <a:off x="2195640" y="3429000"/>
            <a:ext cx="433440" cy="7542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4" descr=""/>
          <p:cNvPicPr/>
          <p:nvPr/>
        </p:nvPicPr>
        <p:blipFill>
          <a:blip r:embed="rId3"/>
          <a:stretch/>
        </p:blipFill>
        <p:spPr>
          <a:xfrm>
            <a:off x="2482920" y="4398840"/>
            <a:ext cx="433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1885320" y="1125360"/>
            <a:ext cx="46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B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个三角形花坛的外围走一圈，在每一个拐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地方都转了一个角度（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回到原来位置时，一共转了几度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14">
            <a:hlinkClick r:id="" action="ppaction://hlinkshowjump?jump=previousslide"/>
          </p:cNvPr>
          <p:cNvSpPr/>
          <p:nvPr/>
        </p:nvSpPr>
        <p:spPr>
          <a:xfrm>
            <a:off x="7667640" y="5950080"/>
            <a:ext cx="1009800" cy="358560"/>
          </a:xfrm>
          <a:custGeom>
            <a:avLst/>
            <a:gdLst>
              <a:gd name="textAreaLeft" fmla="*/ 23040 w 1009800"/>
              <a:gd name="textAreaRight" fmla="*/ 986760 w 10098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0792" h="21600">
                <a:moveTo>
                  <a:pt x="0" y="0"/>
                </a:moveTo>
                <a:lnTo>
                  <a:pt x="60792" y="0"/>
                </a:lnTo>
                <a:lnTo>
                  <a:pt x="60792" y="21600"/>
                </a:lnTo>
                <a:lnTo>
                  <a:pt x="0" y="21600"/>
                </a:lnTo>
                <a:close/>
              </a:path>
              <a:path fill="lightenLess" w="60792" h="21600">
                <a:moveTo>
                  <a:pt x="0" y="0"/>
                </a:moveTo>
                <a:lnTo>
                  <a:pt x="60792" y="0"/>
                </a:lnTo>
                <a:lnTo>
                  <a:pt x="59392" y="1400"/>
                </a:lnTo>
                <a:lnTo>
                  <a:pt x="1400" y="1400"/>
                </a:lnTo>
                <a:close/>
              </a:path>
              <a:path fill="darken" w="60792" h="21600">
                <a:moveTo>
                  <a:pt x="60792" y="0"/>
                </a:moveTo>
                <a:lnTo>
                  <a:pt x="60792" y="21600"/>
                </a:lnTo>
                <a:lnTo>
                  <a:pt x="59392" y="20200"/>
                </a:lnTo>
                <a:lnTo>
                  <a:pt x="59392" y="1400"/>
                </a:lnTo>
                <a:close/>
              </a:path>
              <a:path fill="darkenLess" w="60792" h="21600">
                <a:moveTo>
                  <a:pt x="60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392" y="20200"/>
                </a:lnTo>
                <a:close/>
              </a:path>
              <a:path fill="lighten" w="60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792" h="21600">
                <a:moveTo>
                  <a:pt x="23390" y="3794"/>
                </a:moveTo>
                <a:lnTo>
                  <a:pt x="37402" y="10800"/>
                </a:lnTo>
                <a:lnTo>
                  <a:pt x="2339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17"/>
          <p:cNvGrpSpPr/>
          <p:nvPr/>
        </p:nvGrpSpPr>
        <p:grpSpPr>
          <a:xfrm>
            <a:off x="4494960" y="2276640"/>
            <a:ext cx="4345920" cy="3133800"/>
            <a:chOff x="4494960" y="2276640"/>
            <a:chExt cx="4345920" cy="3133800"/>
          </a:xfrm>
        </p:grpSpPr>
        <p:sp>
          <p:nvSpPr>
            <p:cNvPr id="681" name="Line 18"/>
            <p:cNvSpPr/>
            <p:nvPr/>
          </p:nvSpPr>
          <p:spPr>
            <a:xfrm flipH="1">
              <a:off x="4736880" y="2933640"/>
              <a:ext cx="1150920" cy="230508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9"/>
            <p:cNvSpPr/>
            <p:nvPr/>
          </p:nvSpPr>
          <p:spPr>
            <a:xfrm>
              <a:off x="5095800" y="4518000"/>
              <a:ext cx="3745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0"/>
            <p:cNvSpPr/>
            <p:nvPr/>
          </p:nvSpPr>
          <p:spPr>
            <a:xfrm flipH="1" flipV="1">
              <a:off x="5240160" y="2430000"/>
              <a:ext cx="2663640" cy="208764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AutoShape 21"/>
            <p:cNvSpPr/>
            <p:nvPr/>
          </p:nvSpPr>
          <p:spPr>
            <a:xfrm rot="4735200">
              <a:off x="5455800" y="250200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844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86" y="11056"/>
                  </a:moveTo>
                  <a:cubicBezTo>
                    <a:pt x="11013" y="11138"/>
                    <a:pt x="10909" y="11184"/>
                    <a:pt x="10800" y="11185"/>
                  </a:cubicBezTo>
                  <a:cubicBezTo>
                    <a:pt x="10690" y="11185"/>
                    <a:pt x="10586" y="11138"/>
                    <a:pt x="10513" y="11056"/>
                  </a:cubicBezTo>
                  <a:lnTo>
                    <a:pt x="2754" y="18004"/>
                  </a:lnTo>
                  <a:cubicBezTo>
                    <a:pt x="4803" y="20292"/>
                    <a:pt x="7728" y="21600"/>
                    <a:pt x="10800" y="21600"/>
                  </a:cubicBezTo>
                  <a:cubicBezTo>
                    <a:pt x="13871" y="21599"/>
                    <a:pt x="16796" y="20292"/>
                    <a:pt x="18845" y="18004"/>
                  </a:cubicBezTo>
                  <a:close/>
                </a:path>
              </a:pathLst>
            </a:custGeom>
            <a:solidFill>
              <a:srgbClr val="0000ff"/>
            </a:solidFill>
            <a:ln w="88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AutoShape 22"/>
            <p:cNvSpPr/>
            <p:nvPr/>
          </p:nvSpPr>
          <p:spPr>
            <a:xfrm rot="12039000">
              <a:off x="7400880" y="401292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617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99cc00"/>
            </a:solidFill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AutoShape 23"/>
            <p:cNvSpPr/>
            <p:nvPr/>
          </p:nvSpPr>
          <p:spPr>
            <a:xfrm rot="19764000">
              <a:off x="4663800" y="408600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08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57" y="10951"/>
                  </a:moveTo>
                  <a:cubicBezTo>
                    <a:pt x="11003" y="11043"/>
                    <a:pt x="10905" y="11098"/>
                    <a:pt x="10800" y="11099"/>
                  </a:cubicBezTo>
                  <a:cubicBezTo>
                    <a:pt x="10694" y="11099"/>
                    <a:pt x="10596" y="11043"/>
                    <a:pt x="10542" y="10951"/>
                  </a:cubicBezTo>
                  <a:lnTo>
                    <a:pt x="1494" y="16282"/>
                  </a:lnTo>
                  <a:cubicBezTo>
                    <a:pt x="3436" y="19577"/>
                    <a:pt x="6975" y="21600"/>
                    <a:pt x="10800" y="21600"/>
                  </a:cubicBezTo>
                  <a:cubicBezTo>
                    <a:pt x="14624" y="21599"/>
                    <a:pt x="18163" y="19577"/>
                    <a:pt x="20105" y="16282"/>
                  </a:cubicBezTo>
                  <a:close/>
                </a:path>
              </a:pathLst>
            </a:custGeom>
            <a:solidFill>
              <a:srgbClr val="993366"/>
            </a:solidFill>
            <a:ln w="88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 Box 24"/>
            <p:cNvSpPr/>
            <p:nvPr/>
          </p:nvSpPr>
          <p:spPr>
            <a:xfrm>
              <a:off x="5941800" y="227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25"/>
            <p:cNvSpPr/>
            <p:nvPr/>
          </p:nvSpPr>
          <p:spPr>
            <a:xfrm>
              <a:off x="4573440" y="4005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26"/>
            <p:cNvSpPr/>
            <p:nvPr/>
          </p:nvSpPr>
          <p:spPr>
            <a:xfrm>
              <a:off x="7742160" y="451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27"/>
            <p:cNvSpPr/>
            <p:nvPr/>
          </p:nvSpPr>
          <p:spPr>
            <a:xfrm>
              <a:off x="5078160" y="2709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28"/>
            <p:cNvSpPr/>
            <p:nvPr/>
          </p:nvSpPr>
          <p:spPr>
            <a:xfrm>
              <a:off x="5386320" y="4829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29"/>
            <p:cNvSpPr/>
            <p:nvPr/>
          </p:nvSpPr>
          <p:spPr>
            <a:xfrm>
              <a:off x="7958160" y="3357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34"/>
          <p:cNvGrpSpPr/>
          <p:nvPr/>
        </p:nvGrpSpPr>
        <p:grpSpPr>
          <a:xfrm>
            <a:off x="468360" y="2708280"/>
            <a:ext cx="3816360" cy="1235160"/>
            <a:chOff x="468360" y="2708280"/>
            <a:chExt cx="3816360" cy="1235160"/>
          </a:xfrm>
        </p:grpSpPr>
        <p:sp>
          <p:nvSpPr>
            <p:cNvPr id="694" name="AutoShape 35"/>
            <p:cNvSpPr/>
            <p:nvPr/>
          </p:nvSpPr>
          <p:spPr>
            <a:xfrm>
              <a:off x="468360" y="2708280"/>
              <a:ext cx="3816360" cy="1235160"/>
            </a:xfrm>
            <a:prstGeom prst="wedgeRoundRectCallout">
              <a:avLst>
                <a:gd name="adj1" fmla="val -537"/>
                <a:gd name="adj2" fmla="val 161458"/>
                <a:gd name="adj3" fmla="val 16667"/>
              </a:avLst>
            </a:prstGeom>
            <a:solidFill>
              <a:srgbClr val="66ff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6"/>
            <p:cNvSpPr/>
            <p:nvPr/>
          </p:nvSpPr>
          <p:spPr>
            <a:xfrm>
              <a:off x="592920" y="2978280"/>
              <a:ext cx="3623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∠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∠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644e"/>
                  </a:solidFill>
                  <a:latin typeface="Times New Roman"/>
                </a:rPr>
                <a:t>从哪些途径探究这个结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8"/>
          <p:cNvSpPr/>
          <p:nvPr/>
        </p:nvSpPr>
        <p:spPr>
          <a:xfrm>
            <a:off x="1692360" y="5300640"/>
            <a:ext cx="439236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角形的外角和</a:t>
            </a: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36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WordArt 44"/>
          <p:cNvSpPr txBox="1"/>
          <p:nvPr/>
        </p:nvSpPr>
        <p:spPr>
          <a:xfrm>
            <a:off x="250920" y="189000"/>
            <a:ext cx="475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、小组合作 互补互助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8" name="Rectangle 45"/>
          <p:cNvSpPr/>
          <p:nvPr/>
        </p:nvSpPr>
        <p:spPr>
          <a:xfrm>
            <a:off x="5661000" y="25560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你认识外角吗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462600" y="476280"/>
            <a:ext cx="4345920" cy="3133800"/>
            <a:chOff x="462600" y="476280"/>
            <a:chExt cx="4345920" cy="3133800"/>
          </a:xfrm>
        </p:grpSpPr>
        <p:sp>
          <p:nvSpPr>
            <p:cNvPr id="700" name="Line 3"/>
            <p:cNvSpPr/>
            <p:nvPr/>
          </p:nvSpPr>
          <p:spPr>
            <a:xfrm flipH="1">
              <a:off x="704520" y="1133280"/>
              <a:ext cx="1150920" cy="230508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4"/>
            <p:cNvSpPr/>
            <p:nvPr/>
          </p:nvSpPr>
          <p:spPr>
            <a:xfrm>
              <a:off x="1063440" y="2717640"/>
              <a:ext cx="3745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5"/>
            <p:cNvSpPr/>
            <p:nvPr/>
          </p:nvSpPr>
          <p:spPr>
            <a:xfrm flipH="1" flipV="1">
              <a:off x="1207800" y="629640"/>
              <a:ext cx="2663640" cy="208764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AutoShape 6"/>
            <p:cNvSpPr/>
            <p:nvPr/>
          </p:nvSpPr>
          <p:spPr>
            <a:xfrm rot="4735200">
              <a:off x="1423440" y="70164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844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86" y="11056"/>
                  </a:moveTo>
                  <a:cubicBezTo>
                    <a:pt x="11013" y="11138"/>
                    <a:pt x="10909" y="11184"/>
                    <a:pt x="10800" y="11185"/>
                  </a:cubicBezTo>
                  <a:cubicBezTo>
                    <a:pt x="10690" y="11185"/>
                    <a:pt x="10586" y="11138"/>
                    <a:pt x="10513" y="11056"/>
                  </a:cubicBezTo>
                  <a:lnTo>
                    <a:pt x="2754" y="18004"/>
                  </a:lnTo>
                  <a:cubicBezTo>
                    <a:pt x="4803" y="20292"/>
                    <a:pt x="7728" y="21600"/>
                    <a:pt x="10800" y="21600"/>
                  </a:cubicBezTo>
                  <a:cubicBezTo>
                    <a:pt x="13871" y="21599"/>
                    <a:pt x="16796" y="20292"/>
                    <a:pt x="18845" y="18004"/>
                  </a:cubicBezTo>
                  <a:close/>
                </a:path>
              </a:pathLst>
            </a:custGeom>
            <a:solidFill>
              <a:srgbClr val="0000ff"/>
            </a:solidFill>
            <a:ln w="88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AutoShape 7"/>
            <p:cNvSpPr/>
            <p:nvPr/>
          </p:nvSpPr>
          <p:spPr>
            <a:xfrm rot="12039000">
              <a:off x="3368520" y="221256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617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99cc00"/>
            </a:solidFill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AutoShape 8"/>
            <p:cNvSpPr/>
            <p:nvPr/>
          </p:nvSpPr>
          <p:spPr>
            <a:xfrm rot="19764000">
              <a:off x="631440" y="228564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708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57" y="10951"/>
                  </a:moveTo>
                  <a:cubicBezTo>
                    <a:pt x="11003" y="11043"/>
                    <a:pt x="10905" y="11098"/>
                    <a:pt x="10800" y="11099"/>
                  </a:cubicBezTo>
                  <a:cubicBezTo>
                    <a:pt x="10694" y="11099"/>
                    <a:pt x="10596" y="11043"/>
                    <a:pt x="10542" y="10951"/>
                  </a:cubicBezTo>
                  <a:lnTo>
                    <a:pt x="1494" y="16282"/>
                  </a:lnTo>
                  <a:cubicBezTo>
                    <a:pt x="3436" y="19577"/>
                    <a:pt x="6975" y="21600"/>
                    <a:pt x="10800" y="21600"/>
                  </a:cubicBezTo>
                  <a:cubicBezTo>
                    <a:pt x="14624" y="21599"/>
                    <a:pt x="18163" y="19577"/>
                    <a:pt x="20105" y="16282"/>
                  </a:cubicBezTo>
                  <a:close/>
                </a:path>
              </a:pathLst>
            </a:custGeom>
            <a:solidFill>
              <a:srgbClr val="993366"/>
            </a:solidFill>
            <a:ln w="88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9"/>
            <p:cNvSpPr/>
            <p:nvPr/>
          </p:nvSpPr>
          <p:spPr>
            <a:xfrm>
              <a:off x="1909440" y="476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10"/>
            <p:cNvSpPr/>
            <p:nvPr/>
          </p:nvSpPr>
          <p:spPr>
            <a:xfrm>
              <a:off x="541080" y="2205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11"/>
            <p:cNvSpPr/>
            <p:nvPr/>
          </p:nvSpPr>
          <p:spPr>
            <a:xfrm>
              <a:off x="3709800" y="2709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12"/>
            <p:cNvSpPr/>
            <p:nvPr/>
          </p:nvSpPr>
          <p:spPr>
            <a:xfrm>
              <a:off x="1045800" y="90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PMingLiU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13"/>
            <p:cNvSpPr/>
            <p:nvPr/>
          </p:nvSpPr>
          <p:spPr>
            <a:xfrm>
              <a:off x="1353960" y="3028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  <a:ea typeface="PMingLiU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14"/>
            <p:cNvSpPr/>
            <p:nvPr/>
          </p:nvSpPr>
          <p:spPr>
            <a:xfrm>
              <a:off x="3925800" y="155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Arial"/>
                  <a:ea typeface="PMingLiU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5"/>
          <p:cNvSpPr/>
          <p:nvPr/>
        </p:nvSpPr>
        <p:spPr>
          <a:xfrm>
            <a:off x="4716360" y="1484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BC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6"/>
          <p:cNvSpPr/>
          <p:nvPr/>
        </p:nvSpPr>
        <p:spPr>
          <a:xfrm>
            <a:off x="4788000" y="2133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CB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7"/>
          <p:cNvSpPr/>
          <p:nvPr/>
        </p:nvSpPr>
        <p:spPr>
          <a:xfrm>
            <a:off x="4643280" y="27972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华文中宋"/>
              </a:rPr>
              <a:t>三个式子相加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8"/>
          <p:cNvSpPr/>
          <p:nvPr/>
        </p:nvSpPr>
        <p:spPr>
          <a:xfrm>
            <a:off x="539640" y="35164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BA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B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CB=54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2195640" y="41655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而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BA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BC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CB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2197080" y="501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Arial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6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21"/>
          <p:cNvGrpSpPr/>
          <p:nvPr/>
        </p:nvGrpSpPr>
        <p:grpSpPr>
          <a:xfrm>
            <a:off x="4102200" y="836640"/>
            <a:ext cx="5041800" cy="520560"/>
            <a:chOff x="4102200" y="836640"/>
            <a:chExt cx="5041800" cy="520560"/>
          </a:xfrm>
        </p:grpSpPr>
        <p:sp>
          <p:nvSpPr>
            <p:cNvPr id="719" name="Text Box 22"/>
            <p:cNvSpPr/>
            <p:nvPr/>
          </p:nvSpPr>
          <p:spPr>
            <a:xfrm>
              <a:off x="4894200" y="836640"/>
              <a:ext cx="42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∠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1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＋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∠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BAC=180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Text Box 23"/>
            <p:cNvSpPr/>
            <p:nvPr/>
          </p:nvSpPr>
          <p:spPr>
            <a:xfrm>
              <a:off x="4102200" y="83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华文中宋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AutoShape 24"/>
          <p:cNvSpPr/>
          <p:nvPr/>
        </p:nvSpPr>
        <p:spPr>
          <a:xfrm>
            <a:off x="7667640" y="5770440"/>
            <a:ext cx="1081080" cy="395280"/>
          </a:xfrm>
          <a:custGeom>
            <a:avLst/>
            <a:gdLst>
              <a:gd name="textAreaLeft" fmla="*/ 25560 w 1081080"/>
              <a:gd name="textAreaRight" fmla="*/ 1055520 w 10810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9041" h="21600">
                <a:moveTo>
                  <a:pt x="0" y="0"/>
                </a:moveTo>
                <a:lnTo>
                  <a:pt x="59041" y="0"/>
                </a:lnTo>
                <a:lnTo>
                  <a:pt x="59041" y="21600"/>
                </a:lnTo>
                <a:lnTo>
                  <a:pt x="0" y="21600"/>
                </a:lnTo>
                <a:close/>
              </a:path>
              <a:path fill="lightenLess" w="59041" h="21600">
                <a:moveTo>
                  <a:pt x="0" y="0"/>
                </a:moveTo>
                <a:lnTo>
                  <a:pt x="59041" y="0"/>
                </a:lnTo>
                <a:lnTo>
                  <a:pt x="57641" y="1400"/>
                </a:lnTo>
                <a:lnTo>
                  <a:pt x="1400" y="1400"/>
                </a:lnTo>
                <a:close/>
              </a:path>
              <a:path fill="darken" w="59041" h="21600">
                <a:moveTo>
                  <a:pt x="59041" y="0"/>
                </a:moveTo>
                <a:lnTo>
                  <a:pt x="59041" y="21600"/>
                </a:lnTo>
                <a:lnTo>
                  <a:pt x="57641" y="20200"/>
                </a:lnTo>
                <a:lnTo>
                  <a:pt x="57641" y="1400"/>
                </a:lnTo>
                <a:close/>
              </a:path>
              <a:path fill="darkenLess" w="59041" h="21600">
                <a:moveTo>
                  <a:pt x="59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41" y="20200"/>
                </a:lnTo>
                <a:close/>
              </a:path>
              <a:path fill="lighten" w="59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041" h="21600">
                <a:moveTo>
                  <a:pt x="22514" y="10800"/>
                </a:moveTo>
                <a:lnTo>
                  <a:pt x="36527" y="3794"/>
                </a:lnTo>
                <a:lnTo>
                  <a:pt x="36527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4500720" y="1757520"/>
            <a:ext cx="42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解：过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作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AD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平行于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4932360" y="25495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4"/>
          <p:cNvSpPr/>
          <p:nvPr/>
        </p:nvSpPr>
        <p:spPr>
          <a:xfrm>
            <a:off x="560520" y="2878200"/>
            <a:ext cx="3744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5"/>
          <p:cNvSpPr/>
          <p:nvPr/>
        </p:nvSpPr>
        <p:spPr>
          <a:xfrm rot="4735200">
            <a:off x="920520" y="8618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784440 h 914400"/>
            </a:gdLst>
            <a:ahLst/>
            <a:rect l="textAreaLeft" t="textAreaTop" r="textAreaRight" b="textAreaBottom"/>
            <a:pathLst>
              <a:path w="21600" h="21600">
                <a:moveTo>
                  <a:pt x="11086" y="11056"/>
                </a:moveTo>
                <a:cubicBezTo>
                  <a:pt x="11013" y="11138"/>
                  <a:pt x="10909" y="11184"/>
                  <a:pt x="10800" y="11185"/>
                </a:cubicBezTo>
                <a:cubicBezTo>
                  <a:pt x="10690" y="11185"/>
                  <a:pt x="10586" y="11138"/>
                  <a:pt x="10513" y="11056"/>
                </a:cubicBezTo>
                <a:lnTo>
                  <a:pt x="2754" y="18004"/>
                </a:lnTo>
                <a:cubicBezTo>
                  <a:pt x="4803" y="20292"/>
                  <a:pt x="7728" y="21600"/>
                  <a:pt x="10800" y="21600"/>
                </a:cubicBezTo>
                <a:cubicBezTo>
                  <a:pt x="13871" y="21599"/>
                  <a:pt x="16796" y="20292"/>
                  <a:pt x="18845" y="18004"/>
                </a:cubicBezTo>
                <a:close/>
              </a:path>
            </a:pathLst>
          </a:custGeom>
          <a:solidFill>
            <a:srgbClr val="0000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6"/>
          <p:cNvSpPr/>
          <p:nvPr/>
        </p:nvSpPr>
        <p:spPr>
          <a:xfrm flipH="1" flipV="1">
            <a:off x="684000" y="764640"/>
            <a:ext cx="2663640" cy="208764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7"/>
          <p:cNvSpPr/>
          <p:nvPr/>
        </p:nvSpPr>
        <p:spPr>
          <a:xfrm rot="12039000">
            <a:off x="2865600" y="2373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617760 h 914400"/>
            </a:gdLst>
            <a:ahLst/>
            <a:rect l="textAreaLeft" t="textAreaTop" r="textAreaRight" b="textAreaBottom"/>
            <a:pathLst>
              <a:path w="21600" h="21600">
                <a:moveTo>
                  <a:pt x="11580" y="11065"/>
                </a:moveTo>
                <a:cubicBezTo>
                  <a:pt x="11467" y="11400"/>
                  <a:pt x="11153" y="11624"/>
                  <a:pt x="10800" y="11625"/>
                </a:cubicBezTo>
                <a:cubicBezTo>
                  <a:pt x="10446" y="11625"/>
                  <a:pt x="10132" y="11400"/>
                  <a:pt x="10019" y="11065"/>
                </a:cubicBezTo>
                <a:lnTo>
                  <a:pt x="576" y="14281"/>
                </a:lnTo>
                <a:cubicBezTo>
                  <a:pt x="2067" y="18657"/>
                  <a:pt x="6177" y="21600"/>
                  <a:pt x="10800" y="21600"/>
                </a:cubicBezTo>
                <a:cubicBezTo>
                  <a:pt x="15422" y="21599"/>
                  <a:pt x="19532" y="18657"/>
                  <a:pt x="21023" y="14281"/>
                </a:cubicBezTo>
                <a:close/>
              </a:path>
            </a:pathLst>
          </a:custGeom>
          <a:solidFill>
            <a:srgbClr val="99cc00"/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"/>
          <p:cNvSpPr/>
          <p:nvPr/>
        </p:nvSpPr>
        <p:spPr>
          <a:xfrm rot="19764000">
            <a:off x="128160" y="2457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708480 h 914400"/>
            </a:gdLst>
            <a:ahLst/>
            <a:rect l="textAreaLeft" t="textAreaTop" r="textAreaRight" b="textAreaBottom"/>
            <a:pathLst>
              <a:path w="21600" h="21600">
                <a:moveTo>
                  <a:pt x="11057" y="10951"/>
                </a:moveTo>
                <a:cubicBezTo>
                  <a:pt x="11003" y="11043"/>
                  <a:pt x="10905" y="11098"/>
                  <a:pt x="10800" y="11099"/>
                </a:cubicBezTo>
                <a:cubicBezTo>
                  <a:pt x="10694" y="11099"/>
                  <a:pt x="10596" y="11043"/>
                  <a:pt x="10542" y="10951"/>
                </a:cubicBezTo>
                <a:lnTo>
                  <a:pt x="1494" y="16282"/>
                </a:lnTo>
                <a:cubicBezTo>
                  <a:pt x="3436" y="19577"/>
                  <a:pt x="6975" y="21600"/>
                  <a:pt x="10800" y="21600"/>
                </a:cubicBezTo>
                <a:cubicBezTo>
                  <a:pt x="14624" y="21599"/>
                  <a:pt x="18163" y="19577"/>
                  <a:pt x="20105" y="16282"/>
                </a:cubicBezTo>
                <a:close/>
              </a:path>
            </a:pathLst>
          </a:custGeom>
          <a:solidFill>
            <a:srgbClr val="993366"/>
          </a:solidFill>
          <a:ln w="88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179280" y="227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PMingLiU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3206520" y="287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PMingLiU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42880" y="1069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PMingLiU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850680" y="3189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PMingLiU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3422520" y="171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PMingLiU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14"/>
          <p:cNvGrpSpPr/>
          <p:nvPr/>
        </p:nvGrpSpPr>
        <p:grpSpPr>
          <a:xfrm>
            <a:off x="743040" y="620640"/>
            <a:ext cx="2028600" cy="1222920"/>
            <a:chOff x="743040" y="620640"/>
            <a:chExt cx="2028600" cy="1222920"/>
          </a:xfrm>
        </p:grpSpPr>
        <p:sp>
          <p:nvSpPr>
            <p:cNvPr id="735" name="AutoShape 15"/>
            <p:cNvSpPr/>
            <p:nvPr/>
          </p:nvSpPr>
          <p:spPr>
            <a:xfrm rot="12039000">
              <a:off x="874440" y="807840"/>
              <a:ext cx="888840" cy="90792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907920"/>
                <a:gd name="textAreaBottom" fmla="*/ 612720 h 90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80" y="11065"/>
                  </a:moveTo>
                  <a:cubicBezTo>
                    <a:pt x="11467" y="11400"/>
                    <a:pt x="11153" y="11624"/>
                    <a:pt x="10800" y="11625"/>
                  </a:cubicBezTo>
                  <a:cubicBezTo>
                    <a:pt x="10446" y="11625"/>
                    <a:pt x="10132" y="11400"/>
                    <a:pt x="10019" y="11065"/>
                  </a:cubicBezTo>
                  <a:lnTo>
                    <a:pt x="576" y="14281"/>
                  </a:lnTo>
                  <a:cubicBezTo>
                    <a:pt x="2067" y="18657"/>
                    <a:pt x="6177" y="21600"/>
                    <a:pt x="10800" y="21600"/>
                  </a:cubicBezTo>
                  <a:cubicBezTo>
                    <a:pt x="15422" y="21599"/>
                    <a:pt x="19532" y="18657"/>
                    <a:pt x="21023" y="14281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4e3b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16"/>
            <p:cNvSpPr/>
            <p:nvPr/>
          </p:nvSpPr>
          <p:spPr>
            <a:xfrm>
              <a:off x="1692360" y="6206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Text Box 17"/>
          <p:cNvSpPr/>
          <p:nvPr/>
        </p:nvSpPr>
        <p:spPr>
          <a:xfrm>
            <a:off x="1188720" y="776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PMingLiU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8"/>
          <p:cNvSpPr/>
          <p:nvPr/>
        </p:nvSpPr>
        <p:spPr>
          <a:xfrm rot="19764000">
            <a:off x="899640" y="83628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708480 h 914400"/>
            </a:gdLst>
            <a:ahLst/>
            <a:rect l="textAreaLeft" t="textAreaTop" r="textAreaRight" b="textAreaBottom"/>
            <a:pathLst>
              <a:path w="21600" h="21600">
                <a:moveTo>
                  <a:pt x="11057" y="10951"/>
                </a:moveTo>
                <a:cubicBezTo>
                  <a:pt x="11003" y="11043"/>
                  <a:pt x="10905" y="11098"/>
                  <a:pt x="10800" y="11099"/>
                </a:cubicBezTo>
                <a:cubicBezTo>
                  <a:pt x="10694" y="11099"/>
                  <a:pt x="10596" y="11043"/>
                  <a:pt x="10542" y="10951"/>
                </a:cubicBezTo>
                <a:lnTo>
                  <a:pt x="1494" y="16282"/>
                </a:lnTo>
                <a:cubicBezTo>
                  <a:pt x="3436" y="19577"/>
                  <a:pt x="6975" y="21600"/>
                  <a:pt x="10800" y="21600"/>
                </a:cubicBezTo>
                <a:cubicBezTo>
                  <a:pt x="14624" y="21599"/>
                  <a:pt x="18163" y="19577"/>
                  <a:pt x="20105" y="16282"/>
                </a:cubicBezTo>
                <a:close/>
              </a:path>
            </a:pathLst>
          </a:custGeom>
          <a:solidFill>
            <a:srgbClr val="ffff99"/>
          </a:solidFill>
          <a:ln w="284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5003640" y="342900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358920" y="5229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所以，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AD=36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Group 21"/>
          <p:cNvGrpSpPr/>
          <p:nvPr/>
        </p:nvGrpSpPr>
        <p:grpSpPr>
          <a:xfrm>
            <a:off x="7236000" y="2205000"/>
            <a:ext cx="1908000" cy="1328760"/>
            <a:chOff x="7236000" y="2205000"/>
            <a:chExt cx="1908000" cy="1328760"/>
          </a:xfrm>
        </p:grpSpPr>
        <p:grpSp>
          <p:nvGrpSpPr>
            <p:cNvPr id="742" name="Group 22"/>
            <p:cNvGrpSpPr/>
            <p:nvPr/>
          </p:nvGrpSpPr>
          <p:grpSpPr>
            <a:xfrm>
              <a:off x="7236000" y="2205000"/>
              <a:ext cx="1908000" cy="1328760"/>
              <a:chOff x="7236000" y="2205000"/>
              <a:chExt cx="1908000" cy="1328760"/>
            </a:xfrm>
          </p:grpSpPr>
          <p:sp>
            <p:nvSpPr>
              <p:cNvPr id="743" name="AutoShape 23"/>
              <p:cNvSpPr/>
              <p:nvPr/>
            </p:nvSpPr>
            <p:spPr>
              <a:xfrm>
                <a:off x="7236000" y="2205000"/>
                <a:ext cx="1908000" cy="1328760"/>
              </a:xfrm>
              <a:prstGeom prst="wedgeRoundRectCallout">
                <a:avLst>
                  <a:gd name="adj1" fmla="val -100333"/>
                  <a:gd name="adj2" fmla="val 17449"/>
                  <a:gd name="adj3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AutoShape 24"/>
              <p:cNvSpPr/>
              <p:nvPr/>
            </p:nvSpPr>
            <p:spPr>
              <a:xfrm>
                <a:off x="7524720" y="2530800"/>
                <a:ext cx="1619280" cy="1002960"/>
              </a:xfrm>
              <a:prstGeom prst="wedgeRoundRectCallout">
                <a:avLst>
                  <a:gd name="adj1" fmla="val -115981"/>
                  <a:gd name="adj2" fmla="val 47490"/>
                  <a:gd name="adj3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Text Box 25"/>
            <p:cNvSpPr/>
            <p:nvPr/>
          </p:nvSpPr>
          <p:spPr>
            <a:xfrm>
              <a:off x="7308720" y="2500200"/>
              <a:ext cx="18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66"/>
                  </a:solidFill>
                  <a:latin typeface="Arial"/>
                  <a:ea typeface="华文中宋"/>
                </a:rPr>
                <a:t>两直线平行，同位角相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Line 26"/>
          <p:cNvSpPr/>
          <p:nvPr/>
        </p:nvSpPr>
        <p:spPr>
          <a:xfrm flipH="1">
            <a:off x="178920" y="1268280"/>
            <a:ext cx="1150920" cy="23050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Group 27"/>
          <p:cNvGrpSpPr/>
          <p:nvPr/>
        </p:nvGrpSpPr>
        <p:grpSpPr>
          <a:xfrm>
            <a:off x="1403280" y="836640"/>
            <a:ext cx="3632040" cy="520560"/>
            <a:chOff x="1403280" y="836640"/>
            <a:chExt cx="3632040" cy="520560"/>
          </a:xfrm>
        </p:grpSpPr>
        <p:sp>
          <p:nvSpPr>
            <p:cNvPr id="748" name="Text Box 28"/>
            <p:cNvSpPr/>
            <p:nvPr/>
          </p:nvSpPr>
          <p:spPr>
            <a:xfrm>
              <a:off x="4387680" y="8366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29"/>
            <p:cNvSpPr/>
            <p:nvPr/>
          </p:nvSpPr>
          <p:spPr>
            <a:xfrm>
              <a:off x="1403280" y="1263600"/>
              <a:ext cx="3024360" cy="158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AutoShape 30"/>
          <p:cNvSpPr/>
          <p:nvPr/>
        </p:nvSpPr>
        <p:spPr>
          <a:xfrm>
            <a:off x="7667640" y="5770440"/>
            <a:ext cx="1081080" cy="395280"/>
          </a:xfrm>
          <a:custGeom>
            <a:avLst/>
            <a:gdLst>
              <a:gd name="textAreaLeft" fmla="*/ 25560 w 1081080"/>
              <a:gd name="textAreaRight" fmla="*/ 1055520 w 10810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9041" h="21600">
                <a:moveTo>
                  <a:pt x="0" y="0"/>
                </a:moveTo>
                <a:lnTo>
                  <a:pt x="59041" y="0"/>
                </a:lnTo>
                <a:lnTo>
                  <a:pt x="59041" y="21600"/>
                </a:lnTo>
                <a:lnTo>
                  <a:pt x="0" y="21600"/>
                </a:lnTo>
                <a:close/>
              </a:path>
              <a:path fill="lightenLess" w="59041" h="21600">
                <a:moveTo>
                  <a:pt x="0" y="0"/>
                </a:moveTo>
                <a:lnTo>
                  <a:pt x="59041" y="0"/>
                </a:lnTo>
                <a:lnTo>
                  <a:pt x="57641" y="1400"/>
                </a:lnTo>
                <a:lnTo>
                  <a:pt x="1400" y="1400"/>
                </a:lnTo>
                <a:close/>
              </a:path>
              <a:path fill="darken" w="59041" h="21600">
                <a:moveTo>
                  <a:pt x="59041" y="0"/>
                </a:moveTo>
                <a:lnTo>
                  <a:pt x="59041" y="21600"/>
                </a:lnTo>
                <a:lnTo>
                  <a:pt x="57641" y="20200"/>
                </a:lnTo>
                <a:lnTo>
                  <a:pt x="57641" y="1400"/>
                </a:lnTo>
                <a:close/>
              </a:path>
              <a:path fill="darkenLess" w="59041" h="21600">
                <a:moveTo>
                  <a:pt x="59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41" y="20200"/>
                </a:lnTo>
                <a:close/>
              </a:path>
              <a:path fill="lighten" w="59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041" h="21600">
                <a:moveTo>
                  <a:pt x="22514" y="10800"/>
                </a:moveTo>
                <a:lnTo>
                  <a:pt x="36527" y="3794"/>
                </a:lnTo>
                <a:lnTo>
                  <a:pt x="36527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1"/>
          <p:cNvSpPr/>
          <p:nvPr/>
        </p:nvSpPr>
        <p:spPr>
          <a:xfrm>
            <a:off x="3924360" y="42051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＝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＋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4" descr="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3" name="WordArt 5"/>
          <p:cNvSpPr txBox="1"/>
          <p:nvPr/>
        </p:nvSpPr>
        <p:spPr>
          <a:xfrm rot="238200">
            <a:off x="468000" y="0"/>
            <a:ext cx="352404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合作交流</a:t>
            </a:r>
            <a:endParaRPr b="1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754" name="Group 6"/>
          <p:cNvGrpSpPr/>
          <p:nvPr/>
        </p:nvGrpSpPr>
        <p:grpSpPr>
          <a:xfrm>
            <a:off x="6132600" y="1052640"/>
            <a:ext cx="3047760" cy="2898000"/>
            <a:chOff x="6132600" y="1052640"/>
            <a:chExt cx="3047760" cy="2898000"/>
          </a:xfrm>
        </p:grpSpPr>
        <p:sp>
          <p:nvSpPr>
            <p:cNvPr id="755" name="AutoShape 7"/>
            <p:cNvSpPr/>
            <p:nvPr/>
          </p:nvSpPr>
          <p:spPr>
            <a:xfrm>
              <a:off x="6437160" y="1433520"/>
              <a:ext cx="2362320" cy="2244960"/>
            </a:xfrm>
            <a:custGeom>
              <a:avLst/>
              <a:gdLst>
                <a:gd name="textAreaLeft" fmla="*/ 730080 w 2362320"/>
                <a:gd name="textAreaRight" fmla="*/ 1632240 w 2362320"/>
                <a:gd name="textAreaTop" fmla="*/ 857160 h 2244960"/>
                <a:gd name="textAreaBottom" fmla="*/ 1714680 h 2244960"/>
              </a:gdLst>
              <a:ahLst/>
              <a:rect l="textAreaLeft" t="textAreaTop" r="textAreaRight" b="textAreaBottom"/>
              <a:pathLst>
                <a:path w="1488" h="1414">
                  <a:moveTo>
                    <a:pt x="0" y="540"/>
                  </a:moveTo>
                  <a:lnTo>
                    <a:pt x="568" y="540"/>
                  </a:lnTo>
                  <a:lnTo>
                    <a:pt x="744" y="0"/>
                  </a:lnTo>
                  <a:lnTo>
                    <a:pt x="920" y="540"/>
                  </a:lnTo>
                  <a:lnTo>
                    <a:pt x="1488" y="540"/>
                  </a:lnTo>
                  <a:lnTo>
                    <a:pt x="1028" y="874"/>
                  </a:lnTo>
                  <a:lnTo>
                    <a:pt x="1204" y="1414"/>
                  </a:lnTo>
                  <a:lnTo>
                    <a:pt x="744" y="1080"/>
                  </a:lnTo>
                  <a:lnTo>
                    <a:pt x="284" y="1414"/>
                  </a:lnTo>
                  <a:lnTo>
                    <a:pt x="460" y="874"/>
                  </a:lnTo>
                  <a:close/>
                </a:path>
              </a:pathLst>
            </a:custGeom>
            <a:solidFill>
              <a:srgbClr val="d4fb5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8"/>
            <p:cNvSpPr/>
            <p:nvPr/>
          </p:nvSpPr>
          <p:spPr>
            <a:xfrm>
              <a:off x="7427880" y="1052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9"/>
            <p:cNvSpPr/>
            <p:nvPr/>
          </p:nvSpPr>
          <p:spPr>
            <a:xfrm>
              <a:off x="6132600" y="2043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10"/>
            <p:cNvSpPr/>
            <p:nvPr/>
          </p:nvSpPr>
          <p:spPr>
            <a:xfrm>
              <a:off x="6513480" y="3414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11"/>
            <p:cNvSpPr/>
            <p:nvPr/>
          </p:nvSpPr>
          <p:spPr>
            <a:xfrm>
              <a:off x="8342280" y="34909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12"/>
            <p:cNvSpPr/>
            <p:nvPr/>
          </p:nvSpPr>
          <p:spPr>
            <a:xfrm>
              <a:off x="8723160" y="2043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13"/>
          <p:cNvGrpSpPr/>
          <p:nvPr/>
        </p:nvGrpSpPr>
        <p:grpSpPr>
          <a:xfrm>
            <a:off x="6445080" y="1916280"/>
            <a:ext cx="1871640" cy="1796400"/>
            <a:chOff x="6445080" y="1916280"/>
            <a:chExt cx="1871640" cy="1796400"/>
          </a:xfrm>
        </p:grpSpPr>
        <p:sp>
          <p:nvSpPr>
            <p:cNvPr id="762" name="Line 14"/>
            <p:cNvSpPr/>
            <p:nvPr/>
          </p:nvSpPr>
          <p:spPr>
            <a:xfrm>
              <a:off x="6445080" y="2316240"/>
              <a:ext cx="142272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5"/>
            <p:cNvSpPr/>
            <p:nvPr/>
          </p:nvSpPr>
          <p:spPr>
            <a:xfrm>
              <a:off x="7792560" y="1992240"/>
              <a:ext cx="524160" cy="17031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6"/>
            <p:cNvSpPr/>
            <p:nvPr/>
          </p:nvSpPr>
          <p:spPr>
            <a:xfrm>
              <a:off x="6465240" y="2314440"/>
              <a:ext cx="1851480" cy="13982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17"/>
            <p:cNvSpPr/>
            <p:nvPr/>
          </p:nvSpPr>
          <p:spPr>
            <a:xfrm>
              <a:off x="7792560" y="1916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18"/>
            <p:cNvSpPr/>
            <p:nvPr/>
          </p:nvSpPr>
          <p:spPr>
            <a:xfrm flipH="1">
              <a:off x="7643160" y="2039760"/>
              <a:ext cx="524160" cy="299880"/>
            </a:xfrm>
            <a:custGeom>
              <a:avLst/>
              <a:gdLst>
                <a:gd name="textAreaLeft" fmla="*/ 360 w 524160"/>
                <a:gd name="textAreaRight" fmla="*/ 524880 w 524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fill="none" w="21600" h="15186">
                  <a:moveTo>
                    <a:pt x="15360" y="0"/>
                  </a:moveTo>
                  <a:cubicBezTo>
                    <a:pt x="19358" y="4043"/>
                    <a:pt x="21600" y="9500"/>
                    <a:pt x="21600" y="15186"/>
                  </a:cubicBezTo>
                </a:path>
                <a:path stroke="0" w="21600" h="15186">
                  <a:moveTo>
                    <a:pt x="15360" y="0"/>
                  </a:moveTo>
                  <a:cubicBezTo>
                    <a:pt x="19358" y="4043"/>
                    <a:pt x="21600" y="9500"/>
                    <a:pt x="21600" y="15186"/>
                  </a:cubicBezTo>
                  <a:lnTo>
                    <a:pt x="0" y="15186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Text Box 19"/>
            <p:cNvSpPr/>
            <p:nvPr/>
          </p:nvSpPr>
          <p:spPr>
            <a:xfrm>
              <a:off x="7643160" y="20257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20"/>
          <p:cNvGrpSpPr/>
          <p:nvPr/>
        </p:nvGrpSpPr>
        <p:grpSpPr>
          <a:xfrm>
            <a:off x="6877080" y="1844640"/>
            <a:ext cx="1905120" cy="1884240"/>
            <a:chOff x="6877080" y="1844640"/>
            <a:chExt cx="1905120" cy="1884240"/>
          </a:xfrm>
        </p:grpSpPr>
        <p:sp>
          <p:nvSpPr>
            <p:cNvPr id="769" name="Line 21"/>
            <p:cNvSpPr/>
            <p:nvPr/>
          </p:nvSpPr>
          <p:spPr>
            <a:xfrm>
              <a:off x="7317000" y="2298600"/>
              <a:ext cx="1455840" cy="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2"/>
            <p:cNvSpPr/>
            <p:nvPr/>
          </p:nvSpPr>
          <p:spPr>
            <a:xfrm flipH="1">
              <a:off x="6907320" y="2281320"/>
              <a:ext cx="1874880" cy="139860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3"/>
            <p:cNvSpPr/>
            <p:nvPr/>
          </p:nvSpPr>
          <p:spPr>
            <a:xfrm flipH="1">
              <a:off x="6877080" y="1844640"/>
              <a:ext cx="588960" cy="188424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Text Box 24"/>
            <p:cNvSpPr/>
            <p:nvPr/>
          </p:nvSpPr>
          <p:spPr>
            <a:xfrm>
              <a:off x="6953400" y="190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Arc 25"/>
            <p:cNvSpPr/>
            <p:nvPr/>
          </p:nvSpPr>
          <p:spPr>
            <a:xfrm rot="1717800">
              <a:off x="7310160" y="2095560"/>
              <a:ext cx="331920" cy="30456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18821" h="21600">
                  <a:moveTo>
                    <a:pt x="-1" y="141"/>
                  </a:moveTo>
                  <a:cubicBezTo>
                    <a:pt x="819" y="47"/>
                    <a:pt x="1644" y="-1"/>
                    <a:pt x="2470" y="0"/>
                  </a:cubicBezTo>
                  <a:cubicBezTo>
                    <a:pt x="8749" y="0"/>
                    <a:pt x="14717" y="2732"/>
                    <a:pt x="18820" y="7486"/>
                  </a:cubicBezTo>
                </a:path>
                <a:path stroke="0" w="18821" h="21600">
                  <a:moveTo>
                    <a:pt x="-1" y="141"/>
                  </a:moveTo>
                  <a:cubicBezTo>
                    <a:pt x="819" y="47"/>
                    <a:pt x="1644" y="-1"/>
                    <a:pt x="2470" y="0"/>
                  </a:cubicBezTo>
                  <a:cubicBezTo>
                    <a:pt x="8749" y="0"/>
                    <a:pt x="14717" y="2732"/>
                    <a:pt x="18820" y="7486"/>
                  </a:cubicBezTo>
                  <a:lnTo>
                    <a:pt x="247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Text Box 26"/>
            <p:cNvSpPr/>
            <p:nvPr/>
          </p:nvSpPr>
          <p:spPr>
            <a:xfrm>
              <a:off x="7334280" y="1990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Rectangle 27"/>
          <p:cNvSpPr/>
          <p:nvPr/>
        </p:nvSpPr>
        <p:spPr>
          <a:xfrm>
            <a:off x="250920" y="9079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国旗上的正五角星形如图所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∠A+∠B+∠C+∠D+∠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28"/>
          <p:cNvSpPr/>
          <p:nvPr/>
        </p:nvSpPr>
        <p:spPr>
          <a:xfrm>
            <a:off x="395280" y="1773360"/>
            <a:ext cx="70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法利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外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这五个角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到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角形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用三角形内角和定理来求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0"/>
          <p:cNvSpPr/>
          <p:nvPr/>
        </p:nvSpPr>
        <p:spPr>
          <a:xfrm>
            <a:off x="1454760" y="270828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∵∠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角的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1"/>
          <p:cNvSpPr/>
          <p:nvPr/>
        </p:nvSpPr>
        <p:spPr>
          <a:xfrm>
            <a:off x="1347480" y="3213000"/>
            <a:ext cx="39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∴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=∠B+∠D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角形的一个外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于和它不相邻的两个内角的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2"/>
          <p:cNvSpPr/>
          <p:nvPr/>
        </p:nvSpPr>
        <p:spPr>
          <a:xfrm>
            <a:off x="1609920" y="4076640"/>
            <a:ext cx="37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∵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H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角的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33"/>
          <p:cNvSpPr/>
          <p:nvPr/>
        </p:nvSpPr>
        <p:spPr>
          <a:xfrm>
            <a:off x="1870200" y="4437000"/>
            <a:ext cx="52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=∠C+∠E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角形的一个外角等于和它不相邻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内角的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34"/>
          <p:cNvSpPr/>
          <p:nvPr/>
        </p:nvSpPr>
        <p:spPr>
          <a:xfrm>
            <a:off x="1225080" y="5216400"/>
            <a:ext cx="47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∵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∠1+∠2=180°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角形内角和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35"/>
          <p:cNvSpPr/>
          <p:nvPr/>
        </p:nvSpPr>
        <p:spPr>
          <a:xfrm>
            <a:off x="1219680" y="5734080"/>
            <a:ext cx="55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∠B+∠C+∠D+∠E =180°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式性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WordArt 4"/>
          <p:cNvSpPr txBox="1"/>
          <p:nvPr/>
        </p:nvSpPr>
        <p:spPr>
          <a:xfrm>
            <a:off x="250920" y="260280"/>
            <a:ext cx="47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 分层练习 纠偏补漏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0" y="1197000"/>
            <a:ext cx="655308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: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如图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是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边上一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＝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BAD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AD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80°,∠BAC=70°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求：（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）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度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）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度数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6"/>
          <p:cNvGrpSpPr/>
          <p:nvPr/>
        </p:nvGrpSpPr>
        <p:grpSpPr>
          <a:xfrm>
            <a:off x="4952880" y="476280"/>
            <a:ext cx="4190760" cy="3050640"/>
            <a:chOff x="4952880" y="476280"/>
            <a:chExt cx="4190760" cy="3050640"/>
          </a:xfrm>
        </p:grpSpPr>
        <p:grpSp>
          <p:nvGrpSpPr>
            <p:cNvPr id="786" name="Group 7"/>
            <p:cNvGrpSpPr/>
            <p:nvPr/>
          </p:nvGrpSpPr>
          <p:grpSpPr>
            <a:xfrm>
              <a:off x="4952880" y="1086120"/>
              <a:ext cx="4190760" cy="2440800"/>
              <a:chOff x="4952880" y="1086120"/>
              <a:chExt cx="4190760" cy="2440800"/>
            </a:xfrm>
          </p:grpSpPr>
          <p:sp>
            <p:nvSpPr>
              <p:cNvPr id="787" name="Text Box 8"/>
              <p:cNvSpPr/>
              <p:nvPr/>
            </p:nvSpPr>
            <p:spPr>
              <a:xfrm>
                <a:off x="8153280" y="1086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"/>
              <p:cNvGrpSpPr/>
              <p:nvPr/>
            </p:nvGrpSpPr>
            <p:grpSpPr>
              <a:xfrm>
                <a:off x="5333760" y="1314360"/>
                <a:ext cx="3352680" cy="1752480"/>
                <a:chOff x="5333760" y="1314360"/>
                <a:chExt cx="3352680" cy="1752480"/>
              </a:xfrm>
            </p:grpSpPr>
            <p:sp>
              <p:nvSpPr>
                <p:cNvPr id="789" name="Line 10"/>
                <p:cNvSpPr/>
                <p:nvPr/>
              </p:nvSpPr>
              <p:spPr>
                <a:xfrm flipH="1">
                  <a:off x="5333760" y="1314360"/>
                  <a:ext cx="2743200" cy="175248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11"/>
                <p:cNvSpPr/>
                <p:nvPr/>
              </p:nvSpPr>
              <p:spPr>
                <a:xfrm>
                  <a:off x="5333760" y="3066840"/>
                  <a:ext cx="3352680" cy="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Line 12"/>
                <p:cNvSpPr/>
                <p:nvPr/>
              </p:nvSpPr>
              <p:spPr>
                <a:xfrm flipH="1">
                  <a:off x="7543440" y="1314360"/>
                  <a:ext cx="533520" cy="175248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Line 13"/>
                <p:cNvSpPr/>
                <p:nvPr/>
              </p:nvSpPr>
              <p:spPr>
                <a:xfrm>
                  <a:off x="8076960" y="1390680"/>
                  <a:ext cx="609480" cy="167616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Text Box 14"/>
              <p:cNvSpPr/>
              <p:nvPr/>
            </p:nvSpPr>
            <p:spPr>
              <a:xfrm>
                <a:off x="4952880" y="2990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15"/>
              <p:cNvSpPr/>
              <p:nvPr/>
            </p:nvSpPr>
            <p:spPr>
              <a:xfrm>
                <a:off x="8610480" y="3067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Text Box 16"/>
              <p:cNvSpPr/>
              <p:nvPr/>
            </p:nvSpPr>
            <p:spPr>
              <a:xfrm>
                <a:off x="7238880" y="3067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Arc 17"/>
            <p:cNvSpPr/>
            <p:nvPr/>
          </p:nvSpPr>
          <p:spPr>
            <a:xfrm>
              <a:off x="7696080" y="2686320"/>
              <a:ext cx="228600" cy="3808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Arc 18"/>
            <p:cNvSpPr/>
            <p:nvPr/>
          </p:nvSpPr>
          <p:spPr>
            <a:xfrm rot="10104000">
              <a:off x="7695360" y="1542600"/>
              <a:ext cx="228600" cy="3142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fill="none" w="21600" h="2230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836"/>
                    <a:pt x="21596" y="22072"/>
                    <a:pt x="21588" y="22308"/>
                  </a:cubicBezTo>
                </a:path>
                <a:path stroke="0" w="21600" h="2230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836"/>
                    <a:pt x="21596" y="22072"/>
                    <a:pt x="21588" y="2230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Arc 19"/>
            <p:cNvSpPr/>
            <p:nvPr/>
          </p:nvSpPr>
          <p:spPr>
            <a:xfrm>
              <a:off x="5790960" y="2762280"/>
              <a:ext cx="152640" cy="304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20"/>
            <p:cNvSpPr/>
            <p:nvPr/>
          </p:nvSpPr>
          <p:spPr>
            <a:xfrm>
              <a:off x="7903800" y="25387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3b30"/>
                  </a:solidFill>
                  <a:latin typeface="宋体"/>
                </a:rPr>
                <a:t>80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rc 21"/>
            <p:cNvSpPr/>
            <p:nvPr/>
          </p:nvSpPr>
          <p:spPr>
            <a:xfrm rot="9430800">
              <a:off x="7768800" y="1380960"/>
              <a:ext cx="357120" cy="3808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5299" h="21600">
                  <a:moveTo>
                    <a:pt x="-1" y="345"/>
                  </a:moveTo>
                  <a:cubicBezTo>
                    <a:pt x="1270" y="115"/>
                    <a:pt x="2558" y="-1"/>
                    <a:pt x="3849" y="0"/>
                  </a:cubicBezTo>
                  <a:cubicBezTo>
                    <a:pt x="14796" y="0"/>
                    <a:pt x="24013" y="8190"/>
                    <a:pt x="25299" y="19061"/>
                  </a:cubicBezTo>
                </a:path>
                <a:path stroke="0" w="25299" h="21600">
                  <a:moveTo>
                    <a:pt x="-1" y="345"/>
                  </a:moveTo>
                  <a:cubicBezTo>
                    <a:pt x="1270" y="115"/>
                    <a:pt x="2558" y="-1"/>
                    <a:pt x="3849" y="0"/>
                  </a:cubicBezTo>
                  <a:cubicBezTo>
                    <a:pt x="14796" y="0"/>
                    <a:pt x="24013" y="8190"/>
                    <a:pt x="25299" y="19061"/>
                  </a:cubicBezTo>
                  <a:lnTo>
                    <a:pt x="3849" y="21600"/>
                  </a:lnTo>
                  <a:close/>
                </a:path>
              </a:pathLst>
            </a:custGeom>
            <a:noFill/>
            <a:ln w="3816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22"/>
            <p:cNvSpPr/>
            <p:nvPr/>
          </p:nvSpPr>
          <p:spPr>
            <a:xfrm>
              <a:off x="7751520" y="476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3b30"/>
                  </a:solidFill>
                  <a:latin typeface="宋体"/>
                </a:rPr>
                <a:t>70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23"/>
            <p:cNvSpPr/>
            <p:nvPr/>
          </p:nvSpPr>
          <p:spPr>
            <a:xfrm flipV="1">
              <a:off x="7848360" y="8571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8"/>
          <p:cNvSpPr/>
          <p:nvPr/>
        </p:nvSpPr>
        <p:spPr>
          <a:xfrm>
            <a:off x="684360" y="5805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＋∠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F</a:t>
            </a:r>
            <a:r>
              <a:rPr b="1" lang="zh-CN" sz="3200" spc="-1" strike="noStrike">
                <a:solidFill>
                  <a:srgbClr val="a5644e"/>
                </a:solidFill>
                <a:latin typeface="宋体"/>
              </a:rPr>
              <a:t>＝ </a:t>
            </a:r>
            <a:r>
              <a:rPr b="1" lang="zh-CN" sz="3200" spc="-1" strike="noStrike" u="sng">
                <a:solidFill>
                  <a:srgbClr val="a5644e"/>
                </a:solidFill>
                <a:uFillTx/>
                <a:latin typeface="宋体"/>
              </a:rPr>
              <a:t>    </a:t>
            </a:r>
            <a:r>
              <a:rPr b="1" lang="en-US" sz="3200" spc="-1" strike="noStrike">
                <a:solidFill>
                  <a:srgbClr val="a5644e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1907640" y="1773000"/>
            <a:ext cx="4420080" cy="3809880"/>
            <a:chOff x="1907640" y="1773000"/>
            <a:chExt cx="4420080" cy="3809880"/>
          </a:xfrm>
        </p:grpSpPr>
        <p:sp>
          <p:nvSpPr>
            <p:cNvPr id="805" name="Line 30"/>
            <p:cNvSpPr/>
            <p:nvPr/>
          </p:nvSpPr>
          <p:spPr>
            <a:xfrm>
              <a:off x="3203280" y="1773360"/>
              <a:ext cx="2438640" cy="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1"/>
            <p:cNvSpPr/>
            <p:nvPr/>
          </p:nvSpPr>
          <p:spPr>
            <a:xfrm flipH="1">
              <a:off x="2974320" y="1773360"/>
              <a:ext cx="2667240" cy="350496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2"/>
            <p:cNvSpPr/>
            <p:nvPr/>
          </p:nvSpPr>
          <p:spPr>
            <a:xfrm flipH="1" flipV="1">
              <a:off x="1907640" y="4135320"/>
              <a:ext cx="1066680" cy="114264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3"/>
            <p:cNvSpPr/>
            <p:nvPr/>
          </p:nvSpPr>
          <p:spPr>
            <a:xfrm>
              <a:off x="1908000" y="4135320"/>
              <a:ext cx="4419720" cy="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34"/>
            <p:cNvSpPr/>
            <p:nvPr/>
          </p:nvSpPr>
          <p:spPr>
            <a:xfrm flipH="1">
              <a:off x="5337000" y="4135320"/>
              <a:ext cx="990720" cy="144756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35"/>
            <p:cNvSpPr/>
            <p:nvPr/>
          </p:nvSpPr>
          <p:spPr>
            <a:xfrm flipH="1" flipV="1">
              <a:off x="3202920" y="1773000"/>
              <a:ext cx="2133720" cy="380988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Text Box 37"/>
          <p:cNvSpPr/>
          <p:nvPr/>
        </p:nvSpPr>
        <p:spPr>
          <a:xfrm>
            <a:off x="5603760" y="1357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644e"/>
                </a:solidFill>
                <a:latin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2413080" y="50277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9"/>
          <p:cNvSpPr/>
          <p:nvPr/>
        </p:nvSpPr>
        <p:spPr>
          <a:xfrm>
            <a:off x="5543640" y="52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40"/>
          <p:cNvSpPr/>
          <p:nvPr/>
        </p:nvSpPr>
        <p:spPr>
          <a:xfrm>
            <a:off x="1189080" y="3860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41"/>
          <p:cNvSpPr/>
          <p:nvPr/>
        </p:nvSpPr>
        <p:spPr>
          <a:xfrm>
            <a:off x="6335640" y="3860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42"/>
          <p:cNvSpPr/>
          <p:nvPr/>
        </p:nvSpPr>
        <p:spPr>
          <a:xfrm>
            <a:off x="2795760" y="1557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Group 50"/>
          <p:cNvGrpSpPr/>
          <p:nvPr/>
        </p:nvGrpSpPr>
        <p:grpSpPr>
          <a:xfrm>
            <a:off x="3635280" y="3284640"/>
            <a:ext cx="1447920" cy="1450080"/>
            <a:chOff x="3635280" y="3284640"/>
            <a:chExt cx="1447920" cy="1450080"/>
          </a:xfrm>
        </p:grpSpPr>
        <p:sp>
          <p:nvSpPr>
            <p:cNvPr id="818" name="Arc 43"/>
            <p:cNvSpPr/>
            <p:nvPr/>
          </p:nvSpPr>
          <p:spPr>
            <a:xfrm rot="14082000">
              <a:off x="3939840" y="3436920"/>
              <a:ext cx="324000" cy="2854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Arc 45"/>
            <p:cNvSpPr/>
            <p:nvPr/>
          </p:nvSpPr>
          <p:spPr>
            <a:xfrm flipH="1" rot="11344800">
              <a:off x="3691440" y="4109400"/>
              <a:ext cx="323640" cy="285480"/>
            </a:xfrm>
            <a:custGeom>
              <a:avLst/>
              <a:gdLst>
                <a:gd name="textAreaLeft" fmla="*/ -360 w 323640"/>
                <a:gd name="textAreaRight" fmla="*/ 323640 w 3236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Arc 46"/>
            <p:cNvSpPr/>
            <p:nvPr/>
          </p:nvSpPr>
          <p:spPr>
            <a:xfrm rot="20551800">
              <a:off x="4454280" y="3912840"/>
              <a:ext cx="324000" cy="2858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 Box 47"/>
            <p:cNvSpPr/>
            <p:nvPr/>
          </p:nvSpPr>
          <p:spPr>
            <a:xfrm>
              <a:off x="3635280" y="3284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Georg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48"/>
            <p:cNvSpPr/>
            <p:nvPr/>
          </p:nvSpPr>
          <p:spPr>
            <a:xfrm>
              <a:off x="3787560" y="427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Georg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49"/>
            <p:cNvSpPr/>
            <p:nvPr/>
          </p:nvSpPr>
          <p:spPr>
            <a:xfrm>
              <a:off x="4549680" y="3513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Georg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Text Box 51"/>
          <p:cNvSpPr/>
          <p:nvPr/>
        </p:nvSpPr>
        <p:spPr>
          <a:xfrm>
            <a:off x="70866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52"/>
          <p:cNvSpPr/>
          <p:nvPr/>
        </p:nvSpPr>
        <p:spPr>
          <a:xfrm>
            <a:off x="4284720" y="342900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53"/>
          <p:cNvSpPr/>
          <p:nvPr/>
        </p:nvSpPr>
        <p:spPr>
          <a:xfrm>
            <a:off x="3570120" y="3716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4"/>
          <p:cNvSpPr/>
          <p:nvPr/>
        </p:nvSpPr>
        <p:spPr>
          <a:xfrm>
            <a:off x="4218120" y="4149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Picture 56" descr="BD06990_"/>
          <p:cNvPicPr/>
          <p:nvPr/>
        </p:nvPicPr>
        <p:blipFill>
          <a:blip r:embed="rId1"/>
          <a:stretch/>
        </p:blipFill>
        <p:spPr>
          <a:xfrm>
            <a:off x="7086600" y="685800"/>
            <a:ext cx="1600200" cy="17524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58"/>
          <p:cNvSpPr/>
          <p:nvPr/>
        </p:nvSpPr>
        <p:spPr>
          <a:xfrm>
            <a:off x="1418400" y="465120"/>
            <a:ext cx="150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B  2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</a:rPr>
              <a:t>、活学活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684000" y="404280"/>
            <a:ext cx="8459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A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、如图，在△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中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AD⊥B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AE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平分 ∠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∠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B=80° ∠C=30 °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求∠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DAE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度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831" name="Group 14"/>
          <p:cNvGrpSpPr/>
          <p:nvPr/>
        </p:nvGrpSpPr>
        <p:grpSpPr>
          <a:xfrm>
            <a:off x="1908000" y="2276640"/>
            <a:ext cx="4149720" cy="2873160"/>
            <a:chOff x="1908000" y="2276640"/>
            <a:chExt cx="4149720" cy="2873160"/>
          </a:xfrm>
        </p:grpSpPr>
        <p:sp>
          <p:nvSpPr>
            <p:cNvPr id="832" name="Line 4"/>
            <p:cNvSpPr/>
            <p:nvPr/>
          </p:nvSpPr>
          <p:spPr>
            <a:xfrm>
              <a:off x="2241360" y="4710240"/>
              <a:ext cx="34560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5"/>
            <p:cNvSpPr/>
            <p:nvPr/>
          </p:nvSpPr>
          <p:spPr>
            <a:xfrm flipH="1">
              <a:off x="2241000" y="2693880"/>
              <a:ext cx="360360" cy="2016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6"/>
            <p:cNvSpPr/>
            <p:nvPr/>
          </p:nvSpPr>
          <p:spPr>
            <a:xfrm>
              <a:off x="2601720" y="2693880"/>
              <a:ext cx="3095640" cy="2016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7"/>
            <p:cNvSpPr/>
            <p:nvPr/>
          </p:nvSpPr>
          <p:spPr>
            <a:xfrm>
              <a:off x="2616120" y="2737080"/>
              <a:ext cx="792000" cy="1944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8"/>
            <p:cNvSpPr/>
            <p:nvPr/>
          </p:nvSpPr>
          <p:spPr>
            <a:xfrm>
              <a:off x="2601720" y="2693880"/>
              <a:ext cx="71280" cy="2016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9"/>
            <p:cNvSpPr/>
            <p:nvPr/>
          </p:nvSpPr>
          <p:spPr>
            <a:xfrm>
              <a:off x="2312640" y="2276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10"/>
            <p:cNvSpPr/>
            <p:nvPr/>
          </p:nvSpPr>
          <p:spPr>
            <a:xfrm>
              <a:off x="1908000" y="4522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Text Box 11"/>
            <p:cNvSpPr/>
            <p:nvPr/>
          </p:nvSpPr>
          <p:spPr>
            <a:xfrm>
              <a:off x="5625720" y="44355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12"/>
            <p:cNvSpPr/>
            <p:nvPr/>
          </p:nvSpPr>
          <p:spPr>
            <a:xfrm>
              <a:off x="2485800" y="46292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13"/>
            <p:cNvSpPr/>
            <p:nvPr/>
          </p:nvSpPr>
          <p:spPr>
            <a:xfrm>
              <a:off x="3249360" y="46148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Line 30"/>
          <p:cNvSpPr/>
          <p:nvPr/>
        </p:nvSpPr>
        <p:spPr>
          <a:xfrm>
            <a:off x="2627280" y="2492280"/>
            <a:ext cx="3097080" cy="201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32"/>
          <p:cNvSpPr/>
          <p:nvPr/>
        </p:nvSpPr>
        <p:spPr>
          <a:xfrm>
            <a:off x="2627280" y="2492280"/>
            <a:ext cx="3097080" cy="201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3"/>
          <p:cNvSpPr/>
          <p:nvPr/>
        </p:nvSpPr>
        <p:spPr>
          <a:xfrm>
            <a:off x="2666880" y="2743200"/>
            <a:ext cx="563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1116000" y="40464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WordArt 7"/>
          <p:cNvSpPr txBox="1"/>
          <p:nvPr/>
        </p:nvSpPr>
        <p:spPr>
          <a:xfrm>
            <a:off x="179280" y="260280"/>
            <a:ext cx="4905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五、知识归类 整合评价</a:t>
            </a:r>
            <a:endParaRPr b="1" lang="en-US" sz="2400" spc="1" strike="noStrike">
              <a:ln w="1260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3340080" y="1452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三角形内角和定理的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3737520" y="2349360"/>
            <a:ext cx="161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① 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三角形的一个外角等于与它不相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的两个内角的和。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3103200" y="3716280"/>
            <a:ext cx="309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 ②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三角形的一个外角大于任何一个与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不相邻的内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2516760" y="5229360"/>
            <a:ext cx="1675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三角形的外角和是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067280" y="96120"/>
            <a:ext cx="486864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1218960" y="137160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严格性之于数学家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犹如道德之于人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由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导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执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索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是探索证明思路最基本的方法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言必有据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因果对应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是初学证明者谨记和遵循的原则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853" name="Group 4"/>
          <p:cNvGrpSpPr/>
          <p:nvPr/>
        </p:nvGrpSpPr>
        <p:grpSpPr>
          <a:xfrm>
            <a:off x="917640" y="0"/>
            <a:ext cx="2646360" cy="1547640"/>
            <a:chOff x="917640" y="0"/>
            <a:chExt cx="2646360" cy="1547640"/>
          </a:xfrm>
        </p:grpSpPr>
        <p:pic>
          <p:nvPicPr>
            <p:cNvPr id="854" name="Picture 5" descr="gif1450"/>
            <p:cNvPicPr/>
            <p:nvPr/>
          </p:nvPicPr>
          <p:blipFill>
            <a:blip r:embed="rId1"/>
            <a:stretch/>
          </p:blipFill>
          <p:spPr>
            <a:xfrm>
              <a:off x="2365560" y="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5" name="Group 6"/>
            <p:cNvGrpSpPr/>
            <p:nvPr/>
          </p:nvGrpSpPr>
          <p:grpSpPr>
            <a:xfrm>
              <a:off x="917640" y="42840"/>
              <a:ext cx="1676520" cy="1191960"/>
              <a:chOff x="917640" y="42840"/>
              <a:chExt cx="1676520" cy="1191960"/>
            </a:xfrm>
          </p:grpSpPr>
          <p:sp>
            <p:nvSpPr>
              <p:cNvPr id="856" name="AutoShape 7"/>
              <p:cNvSpPr/>
              <p:nvPr/>
            </p:nvSpPr>
            <p:spPr>
              <a:xfrm>
                <a:off x="917640" y="67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8"/>
              <p:cNvSpPr/>
              <p:nvPr/>
            </p:nvSpPr>
            <p:spPr>
              <a:xfrm>
                <a:off x="936360" y="4284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Text Box 9"/>
            <p:cNvSpPr/>
            <p:nvPr/>
          </p:nvSpPr>
          <p:spPr>
            <a:xfrm>
              <a:off x="1069920" y="380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9" name="Picture 10" descr="右开门箭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11" descr="左开门箭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861" name="Group 12"/>
          <p:cNvGrpSpPr/>
          <p:nvPr/>
        </p:nvGrpSpPr>
        <p:grpSpPr>
          <a:xfrm>
            <a:off x="2195640" y="4724280"/>
            <a:ext cx="5333400" cy="2133000"/>
            <a:chOff x="2195640" y="4724280"/>
            <a:chExt cx="5333400" cy="2133000"/>
          </a:xfrm>
        </p:grpSpPr>
        <p:grpSp>
          <p:nvGrpSpPr>
            <p:cNvPr id="862" name="Group 13"/>
            <p:cNvGrpSpPr/>
            <p:nvPr/>
          </p:nvGrpSpPr>
          <p:grpSpPr>
            <a:xfrm>
              <a:off x="2195640" y="4724280"/>
              <a:ext cx="5333400" cy="2133000"/>
              <a:chOff x="2195640" y="4724280"/>
              <a:chExt cx="5333400" cy="2133000"/>
            </a:xfrm>
          </p:grpSpPr>
          <p:sp>
            <p:nvSpPr>
              <p:cNvPr id="863" name="AutoShape 14"/>
              <p:cNvSpPr/>
              <p:nvPr/>
            </p:nvSpPr>
            <p:spPr>
              <a:xfrm>
                <a:off x="2195640" y="4724280"/>
                <a:ext cx="5333400" cy="213300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ede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  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4" name="Picture 15" descr="GTH_001"/>
              <p:cNvPicPr/>
              <p:nvPr/>
            </p:nvPicPr>
            <p:blipFill>
              <a:blip r:embed="rId5"/>
              <a:stretch/>
            </p:blipFill>
            <p:spPr>
              <a:xfrm>
                <a:off x="5632560" y="5252040"/>
                <a:ext cx="879120" cy="101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5" name="Group 16"/>
            <p:cNvGrpSpPr/>
            <p:nvPr/>
          </p:nvGrpSpPr>
          <p:grpSpPr>
            <a:xfrm>
              <a:off x="2881440" y="5028840"/>
              <a:ext cx="2971800" cy="1524240"/>
              <a:chOff x="2881440" y="5028840"/>
              <a:chExt cx="2971800" cy="1524240"/>
            </a:xfrm>
          </p:grpSpPr>
          <p:sp>
            <p:nvSpPr>
              <p:cNvPr id="866" name="WordArt 17"/>
              <p:cNvSpPr txBox="1"/>
              <p:nvPr/>
            </p:nvSpPr>
            <p:spPr>
              <a:xfrm>
                <a:off x="2881440" y="5028840"/>
                <a:ext cx="297180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Right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再    见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  <p:pic>
            <p:nvPicPr>
              <p:cNvPr id="867" name="Picture 18" descr="051（致敬）"/>
              <p:cNvPicPr/>
              <p:nvPr/>
            </p:nvPicPr>
            <p:blipFill>
              <a:blip r:embed="rId6"/>
              <a:stretch/>
            </p:blipFill>
            <p:spPr>
              <a:xfrm>
                <a:off x="3652920" y="5105160"/>
                <a:ext cx="67608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Picture 19" descr="052（致敬）"/>
              <p:cNvPicPr/>
              <p:nvPr/>
            </p:nvPicPr>
            <p:blipFill>
              <a:blip r:embed="rId7"/>
              <a:stretch/>
            </p:blipFill>
            <p:spPr>
              <a:xfrm>
                <a:off x="4481640" y="5181480"/>
                <a:ext cx="652320" cy="11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69" name="WordArt 20"/>
          <p:cNvSpPr txBox="1"/>
          <p:nvPr/>
        </p:nvSpPr>
        <p:spPr>
          <a:xfrm>
            <a:off x="3851280" y="189000"/>
            <a:ext cx="324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结束寄语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HaoSc3_145_20052493143797"/>
          <p:cNvPicPr/>
          <p:nvPr/>
        </p:nvPicPr>
        <p:blipFill>
          <a:blip r:embed="rId1"/>
          <a:stretch/>
        </p:blipFill>
        <p:spPr>
          <a:xfrm>
            <a:off x="6300720" y="549360"/>
            <a:ext cx="2057400" cy="4824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HaoSc3_145_20052493143797"/>
          <p:cNvPicPr/>
          <p:nvPr/>
        </p:nvPicPr>
        <p:blipFill>
          <a:blip r:embed="rId2"/>
          <a:stretch/>
        </p:blipFill>
        <p:spPr>
          <a:xfrm>
            <a:off x="3203640" y="1773360"/>
            <a:ext cx="2849400" cy="4319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HaoSc3_145_20052493143797"/>
          <p:cNvPicPr/>
          <p:nvPr/>
        </p:nvPicPr>
        <p:blipFill>
          <a:blip r:embed="rId3"/>
          <a:stretch/>
        </p:blipFill>
        <p:spPr>
          <a:xfrm>
            <a:off x="950760" y="549360"/>
            <a:ext cx="2057400" cy="3809880"/>
          </a:xfrm>
          <a:prstGeom prst="rect">
            <a:avLst/>
          </a:prstGeom>
          <a:ln w="0">
            <a:noFill/>
          </a:ln>
        </p:spPr>
      </p:pic>
      <p:pic>
        <p:nvPicPr>
          <p:cNvPr id="452" name="WordArt 6" descr=""/>
          <p:cNvPicPr/>
          <p:nvPr/>
        </p:nvPicPr>
        <p:blipFill>
          <a:blip r:embed="rId4"/>
          <a:stretch/>
        </p:blipFill>
        <p:spPr>
          <a:xfrm>
            <a:off x="1146240" y="2816280"/>
            <a:ext cx="6675480" cy="1871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HaoSc3_145_20052493143797"/>
          <p:cNvPicPr/>
          <p:nvPr/>
        </p:nvPicPr>
        <p:blipFill>
          <a:blip r:embed="rId5"/>
          <a:stretch/>
        </p:blipFill>
        <p:spPr>
          <a:xfrm>
            <a:off x="755640" y="476280"/>
            <a:ext cx="20574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4"/>
          <p:cNvSpPr txBox="1"/>
          <p:nvPr/>
        </p:nvSpPr>
        <p:spPr>
          <a:xfrm>
            <a:off x="539640" y="476280"/>
            <a:ext cx="32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、学习目标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79280" y="2133720"/>
            <a:ext cx="878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知识与技能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掌握三角形的内角和定理的两个推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其证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体会几何关系中不等关系的简单证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过程与方法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从内和外、相等和不等的不同角度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角形作全面的思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情感、态度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通过一题多解，初步体会思维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价值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向性，引导学生的个性化发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70"/>
          <p:cNvGrpSpPr/>
          <p:nvPr/>
        </p:nvGrpSpPr>
        <p:grpSpPr>
          <a:xfrm>
            <a:off x="4427640" y="907920"/>
            <a:ext cx="4716360" cy="3107880"/>
            <a:chOff x="4427640" y="907920"/>
            <a:chExt cx="4716360" cy="3107880"/>
          </a:xfrm>
        </p:grpSpPr>
        <p:sp>
          <p:nvSpPr>
            <p:cNvPr id="458" name="Line 12"/>
            <p:cNvSpPr/>
            <p:nvPr/>
          </p:nvSpPr>
          <p:spPr>
            <a:xfrm flipV="1">
              <a:off x="4643280" y="1267920"/>
              <a:ext cx="2446560" cy="2057400"/>
            </a:xfrm>
            <a:prstGeom prst="line">
              <a:avLst/>
            </a:prstGeom>
            <a:ln w="7632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3"/>
            <p:cNvSpPr/>
            <p:nvPr/>
          </p:nvSpPr>
          <p:spPr>
            <a:xfrm>
              <a:off x="4656240" y="3284280"/>
              <a:ext cx="4487760" cy="9720"/>
            </a:xfrm>
            <a:prstGeom prst="line">
              <a:avLst/>
            </a:prstGeom>
            <a:ln w="7632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Group 45"/>
            <p:cNvGrpSpPr/>
            <p:nvPr/>
          </p:nvGrpSpPr>
          <p:grpSpPr>
            <a:xfrm>
              <a:off x="4572360" y="1134000"/>
              <a:ext cx="2140920" cy="1983240"/>
              <a:chOff x="4572360" y="1134000"/>
              <a:chExt cx="2140920" cy="1983240"/>
            </a:xfrm>
          </p:grpSpPr>
          <p:sp>
            <p:nvSpPr>
              <p:cNvPr id="461" name="Text Box 20"/>
              <p:cNvSpPr/>
              <p:nvPr/>
            </p:nvSpPr>
            <p:spPr>
              <a:xfrm rot="19188600">
                <a:off x="4504680" y="16696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ff"/>
                    </a:solidFill>
                    <a:latin typeface="Times New Roman"/>
                  </a:rPr>
                  <a:t>不相邻内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Line 23"/>
              <p:cNvSpPr/>
              <p:nvPr/>
            </p:nvSpPr>
            <p:spPr>
              <a:xfrm>
                <a:off x="5493960" y="212688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Line 26"/>
              <p:cNvSpPr/>
              <p:nvPr/>
            </p:nvSpPr>
            <p:spPr>
              <a:xfrm>
                <a:off x="5722560" y="18982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Text Box 36"/>
            <p:cNvSpPr/>
            <p:nvPr/>
          </p:nvSpPr>
          <p:spPr>
            <a:xfrm>
              <a:off x="4427640" y="342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Group 68"/>
            <p:cNvGrpSpPr/>
            <p:nvPr/>
          </p:nvGrpSpPr>
          <p:grpSpPr>
            <a:xfrm>
              <a:off x="4518720" y="907920"/>
              <a:ext cx="4480920" cy="3107880"/>
              <a:chOff x="4518720" y="907920"/>
              <a:chExt cx="4480920" cy="3107880"/>
            </a:xfrm>
          </p:grpSpPr>
          <p:grpSp>
            <p:nvGrpSpPr>
              <p:cNvPr id="466" name="Group 41"/>
              <p:cNvGrpSpPr/>
              <p:nvPr/>
            </p:nvGrpSpPr>
            <p:grpSpPr>
              <a:xfrm>
                <a:off x="6345360" y="1032120"/>
                <a:ext cx="2074320" cy="2983680"/>
                <a:chOff x="6345360" y="1032120"/>
                <a:chExt cx="2074320" cy="2983680"/>
              </a:xfrm>
            </p:grpSpPr>
            <p:sp>
              <p:nvSpPr>
                <p:cNvPr id="467" name="AutoShape 7"/>
                <p:cNvSpPr/>
                <p:nvPr/>
              </p:nvSpPr>
              <p:spPr>
                <a:xfrm rot="11472600">
                  <a:off x="6408360" y="1135800"/>
                  <a:ext cx="1143000" cy="762120"/>
                </a:xfrm>
                <a:custGeom>
                  <a:avLst/>
                  <a:gdLst>
                    <a:gd name="textAreaLeft" fmla="*/ 134640 w 1143000"/>
                    <a:gd name="textAreaRight" fmla="*/ 1008360 w 1143000"/>
                    <a:gd name="textAreaTop" fmla="*/ 0 h 762120"/>
                    <a:gd name="textAreaBottom" fmla="*/ 16488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974" y="3326"/>
                      </a:moveTo>
                      <a:cubicBezTo>
                        <a:pt x="6638" y="2028"/>
                        <a:pt x="8689" y="1323"/>
                        <a:pt x="10800" y="1324"/>
                      </a:cubicBezTo>
                      <a:cubicBezTo>
                        <a:pt x="12910" y="1324"/>
                        <a:pt x="14961" y="2028"/>
                        <a:pt x="16625" y="3326"/>
                      </a:cubicBezTo>
                      <a:lnTo>
                        <a:pt x="17439" y="2282"/>
                      </a:lnTo>
                      <a:cubicBezTo>
                        <a:pt x="15542" y="803"/>
                        <a:pt x="13205" y="-1"/>
                        <a:pt x="10799" y="0"/>
                      </a:cubicBezTo>
                      <a:cubicBezTo>
                        <a:pt x="8394" y="0"/>
                        <a:pt x="6057" y="803"/>
                        <a:pt x="4160" y="2282"/>
                      </a:cubicBezTo>
                      <a:close/>
                    </a:path>
                  </a:pathLst>
                </a:custGeom>
                <a:solidFill>
                  <a:srgbClr val="a5644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AutoShape 10"/>
                <p:cNvSpPr/>
                <p:nvPr/>
              </p:nvSpPr>
              <p:spPr>
                <a:xfrm rot="2599800">
                  <a:off x="7170480" y="2964960"/>
                  <a:ext cx="1143000" cy="762120"/>
                </a:xfrm>
                <a:custGeom>
                  <a:avLst/>
                  <a:gdLst>
                    <a:gd name="textAreaLeft" fmla="*/ 134640 w 1143000"/>
                    <a:gd name="textAreaRight" fmla="*/ 1008360 w 1143000"/>
                    <a:gd name="textAreaTop" fmla="*/ 0 h 762120"/>
                    <a:gd name="textAreaBottom" fmla="*/ 16488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974" y="3326"/>
                      </a:moveTo>
                      <a:cubicBezTo>
                        <a:pt x="6638" y="2028"/>
                        <a:pt x="8689" y="1323"/>
                        <a:pt x="10800" y="1324"/>
                      </a:cubicBezTo>
                      <a:cubicBezTo>
                        <a:pt x="12910" y="1324"/>
                        <a:pt x="14961" y="2028"/>
                        <a:pt x="16625" y="3326"/>
                      </a:cubicBezTo>
                      <a:lnTo>
                        <a:pt x="17439" y="2282"/>
                      </a:lnTo>
                      <a:cubicBezTo>
                        <a:pt x="15542" y="803"/>
                        <a:pt x="13205" y="-1"/>
                        <a:pt x="10799" y="0"/>
                      </a:cubicBezTo>
                      <a:cubicBezTo>
                        <a:pt x="8394" y="0"/>
                        <a:pt x="6057" y="803"/>
                        <a:pt x="4160" y="2282"/>
                      </a:cubicBezTo>
                      <a:close/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Text Box 16"/>
              <p:cNvSpPr/>
              <p:nvPr/>
            </p:nvSpPr>
            <p:spPr>
              <a:xfrm>
                <a:off x="8008920" y="258444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0000"/>
                    </a:solidFill>
                    <a:latin typeface="Times New Roman"/>
                  </a:rPr>
                  <a:t>外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AutoShape 8"/>
              <p:cNvSpPr/>
              <p:nvPr/>
            </p:nvSpPr>
            <p:spPr>
              <a:xfrm rot="2545800">
                <a:off x="4655880" y="2964960"/>
                <a:ext cx="914400" cy="762120"/>
              </a:xfrm>
              <a:custGeom>
                <a:avLst/>
                <a:gdLst>
                  <a:gd name="textAreaLeft" fmla="*/ 107640 w 914400"/>
                  <a:gd name="textAreaRight" fmla="*/ 806760 w 914400"/>
                  <a:gd name="textAreaTop" fmla="*/ 0 h 762120"/>
                  <a:gd name="textAreaBottom" fmla="*/ 16488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974" y="3326"/>
                    </a:moveTo>
                    <a:cubicBezTo>
                      <a:pt x="6638" y="2028"/>
                      <a:pt x="8689" y="1323"/>
                      <a:pt x="10800" y="1324"/>
                    </a:cubicBezTo>
                    <a:cubicBezTo>
                      <a:pt x="12910" y="1324"/>
                      <a:pt x="14961" y="2028"/>
                      <a:pt x="16625" y="3326"/>
                    </a:cubicBezTo>
                    <a:lnTo>
                      <a:pt x="17439" y="2282"/>
                    </a:lnTo>
                    <a:cubicBezTo>
                      <a:pt x="15542" y="803"/>
                      <a:pt x="13205" y="-1"/>
                      <a:pt x="10799" y="0"/>
                    </a:cubicBezTo>
                    <a:cubicBezTo>
                      <a:pt x="8394" y="0"/>
                      <a:pt x="6057" y="803"/>
                      <a:pt x="4160" y="2282"/>
                    </a:cubicBezTo>
                    <a:close/>
                  </a:path>
                </a:pathLst>
              </a:custGeom>
              <a:solidFill>
                <a:srgbClr val="a5644e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AutoShape 9"/>
              <p:cNvSpPr/>
              <p:nvPr/>
            </p:nvSpPr>
            <p:spPr>
              <a:xfrm rot="18296400">
                <a:off x="7056360" y="2850480"/>
                <a:ext cx="1143000" cy="762120"/>
              </a:xfrm>
              <a:custGeom>
                <a:avLst/>
                <a:gdLst>
                  <a:gd name="textAreaLeft" fmla="*/ 134640 w 1143000"/>
                  <a:gd name="textAreaRight" fmla="*/ 1008360 w 1143000"/>
                  <a:gd name="textAreaTop" fmla="*/ 0 h 762120"/>
                  <a:gd name="textAreaBottom" fmla="*/ 16488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974" y="3326"/>
                    </a:moveTo>
                    <a:cubicBezTo>
                      <a:pt x="6638" y="2028"/>
                      <a:pt x="8689" y="1323"/>
                      <a:pt x="10800" y="1324"/>
                    </a:cubicBezTo>
                    <a:cubicBezTo>
                      <a:pt x="12910" y="1324"/>
                      <a:pt x="14961" y="2028"/>
                      <a:pt x="16625" y="3326"/>
                    </a:cubicBezTo>
                    <a:lnTo>
                      <a:pt x="17439" y="2282"/>
                    </a:lnTo>
                    <a:cubicBezTo>
                      <a:pt x="15542" y="803"/>
                      <a:pt x="13205" y="-1"/>
                      <a:pt x="10799" y="0"/>
                    </a:cubicBezTo>
                    <a:cubicBezTo>
                      <a:pt x="8394" y="0"/>
                      <a:pt x="6057" y="803"/>
                      <a:pt x="4160" y="2282"/>
                    </a:cubicBezTo>
                    <a:close/>
                  </a:path>
                </a:pathLst>
              </a:custGeom>
              <a:solidFill>
                <a:srgbClr val="4e3b30"/>
              </a:solidFill>
              <a:ln w="9360">
                <a:solidFill>
                  <a:srgbClr val="4e3b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14"/>
              <p:cNvSpPr/>
              <p:nvPr/>
            </p:nvSpPr>
            <p:spPr>
              <a:xfrm>
                <a:off x="7102440" y="1288800"/>
                <a:ext cx="684360" cy="205128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2051280"/>
                  <a:gd name="textAreaBottom" fmla="*/ 2051280 h 2051280"/>
                </a:gdLst>
                <a:ahLst/>
                <a:rect l="textAreaLeft" t="textAreaTop" r="textAreaRight" b="textAreaBottom"/>
                <a:pathLst>
                  <a:path w="497" h="2271">
                    <a:moveTo>
                      <a:pt x="0" y="0"/>
                    </a:moveTo>
                    <a:lnTo>
                      <a:pt x="497" y="2271"/>
                    </a:lnTo>
                  </a:path>
                </a:pathLst>
              </a:custGeom>
              <a:solidFill>
                <a:srgbClr val="ff00ff"/>
              </a:solidFill>
              <a:ln w="76320">
                <a:solidFill>
                  <a:srgbClr val="a5644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Group 44"/>
              <p:cNvGrpSpPr/>
              <p:nvPr/>
            </p:nvGrpSpPr>
            <p:grpSpPr>
              <a:xfrm>
                <a:off x="7185960" y="1035720"/>
                <a:ext cx="1033920" cy="1929240"/>
                <a:chOff x="7185960" y="1035720"/>
                <a:chExt cx="1033920" cy="1929240"/>
              </a:xfrm>
            </p:grpSpPr>
            <p:sp>
              <p:nvSpPr>
                <p:cNvPr id="474" name="Text Box 17"/>
                <p:cNvSpPr/>
                <p:nvPr/>
              </p:nvSpPr>
              <p:spPr>
                <a:xfrm rot="4251600">
                  <a:off x="6788520" y="1744920"/>
                  <a:ext cx="182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ff"/>
                      </a:solidFill>
                      <a:latin typeface="Times New Roman"/>
                    </a:rPr>
                    <a:t>相邻内角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29"/>
                <p:cNvSpPr/>
                <p:nvPr/>
              </p:nvSpPr>
              <p:spPr>
                <a:xfrm flipH="1">
                  <a:off x="7246440" y="2050560"/>
                  <a:ext cx="22860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Text Box 33"/>
              <p:cNvSpPr/>
              <p:nvPr/>
            </p:nvSpPr>
            <p:spPr>
              <a:xfrm>
                <a:off x="7018200" y="2660400"/>
                <a:ext cx="2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35"/>
              <p:cNvSpPr/>
              <p:nvPr/>
            </p:nvSpPr>
            <p:spPr>
              <a:xfrm>
                <a:off x="6637320" y="907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Text Box 37"/>
              <p:cNvSpPr/>
              <p:nvPr/>
            </p:nvSpPr>
            <p:spPr>
              <a:xfrm>
                <a:off x="7628040" y="3346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Text Box 38"/>
            <p:cNvSpPr/>
            <p:nvPr/>
          </p:nvSpPr>
          <p:spPr>
            <a:xfrm>
              <a:off x="868680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Text Box 30"/>
          <p:cNvSpPr/>
          <p:nvPr/>
        </p:nvSpPr>
        <p:spPr>
          <a:xfrm>
            <a:off x="324000" y="4869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2"/>
          <p:cNvSpPr/>
          <p:nvPr/>
        </p:nvSpPr>
        <p:spPr>
          <a:xfrm>
            <a:off x="468360" y="5589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46"/>
          <p:cNvSpPr/>
          <p:nvPr/>
        </p:nvSpPr>
        <p:spPr>
          <a:xfrm>
            <a:off x="3851280" y="48690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180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47"/>
          <p:cNvSpPr/>
          <p:nvPr/>
        </p:nvSpPr>
        <p:spPr>
          <a:xfrm>
            <a:off x="3708360" y="5589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180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º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62"/>
          <p:cNvSpPr/>
          <p:nvPr/>
        </p:nvSpPr>
        <p:spPr>
          <a:xfrm>
            <a:off x="0" y="1197000"/>
            <a:ext cx="62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知识回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什么是三角形的外角？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64"/>
          <p:cNvSpPr/>
          <p:nvPr/>
        </p:nvSpPr>
        <p:spPr>
          <a:xfrm>
            <a:off x="0" y="2522520"/>
            <a:ext cx="4859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三角形的一边与另一边的延长线组成的角，如图∠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C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7"/>
          <p:cNvSpPr/>
          <p:nvPr/>
        </p:nvSpPr>
        <p:spPr>
          <a:xfrm>
            <a:off x="0" y="422100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请根据图形填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1"/>
          <p:cNvSpPr/>
          <p:nvPr/>
        </p:nvSpPr>
        <p:spPr>
          <a:xfrm>
            <a:off x="4427640" y="4869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三角形内角和定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72"/>
          <p:cNvSpPr/>
          <p:nvPr/>
        </p:nvSpPr>
        <p:spPr>
          <a:xfrm>
            <a:off x="4427640" y="5661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邻补角的定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WordArt 75"/>
          <p:cNvSpPr txBox="1"/>
          <p:nvPr/>
        </p:nvSpPr>
        <p:spPr>
          <a:xfrm>
            <a:off x="324000" y="189000"/>
            <a:ext cx="36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自主学习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250920" y="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644e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a5644e"/>
                </a:solidFill>
                <a:latin typeface="Times New Roman"/>
              </a:rPr>
              <a:t>、探究新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6"/>
          <p:cNvGrpSpPr/>
          <p:nvPr/>
        </p:nvGrpSpPr>
        <p:grpSpPr>
          <a:xfrm>
            <a:off x="3537000" y="333360"/>
            <a:ext cx="5715000" cy="3107880"/>
            <a:chOff x="3537000" y="333360"/>
            <a:chExt cx="5715000" cy="3107880"/>
          </a:xfrm>
        </p:grpSpPr>
        <p:grpSp>
          <p:nvGrpSpPr>
            <p:cNvPr id="492" name="Group 7"/>
            <p:cNvGrpSpPr/>
            <p:nvPr/>
          </p:nvGrpSpPr>
          <p:grpSpPr>
            <a:xfrm>
              <a:off x="5454720" y="457560"/>
              <a:ext cx="2730240" cy="2983680"/>
              <a:chOff x="5454720" y="457560"/>
              <a:chExt cx="2730240" cy="2983680"/>
            </a:xfrm>
          </p:grpSpPr>
          <p:grpSp>
            <p:nvGrpSpPr>
              <p:cNvPr id="493" name="Group 8"/>
              <p:cNvGrpSpPr/>
              <p:nvPr/>
            </p:nvGrpSpPr>
            <p:grpSpPr>
              <a:xfrm>
                <a:off x="5454720" y="457560"/>
                <a:ext cx="2074320" cy="2983680"/>
                <a:chOff x="5454720" y="457560"/>
                <a:chExt cx="2074320" cy="2983680"/>
              </a:xfrm>
            </p:grpSpPr>
            <p:sp>
              <p:nvSpPr>
                <p:cNvPr id="494" name="AutoShape 9"/>
                <p:cNvSpPr/>
                <p:nvPr/>
              </p:nvSpPr>
              <p:spPr>
                <a:xfrm rot="11472600">
                  <a:off x="5517720" y="561240"/>
                  <a:ext cx="1143000" cy="762120"/>
                </a:xfrm>
                <a:custGeom>
                  <a:avLst/>
                  <a:gdLst>
                    <a:gd name="textAreaLeft" fmla="*/ 134640 w 1143000"/>
                    <a:gd name="textAreaRight" fmla="*/ 1008360 w 1143000"/>
                    <a:gd name="textAreaTop" fmla="*/ 0 h 762120"/>
                    <a:gd name="textAreaBottom" fmla="*/ 16488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974" y="3326"/>
                      </a:moveTo>
                      <a:cubicBezTo>
                        <a:pt x="6638" y="2028"/>
                        <a:pt x="8689" y="1323"/>
                        <a:pt x="10800" y="1324"/>
                      </a:cubicBezTo>
                      <a:cubicBezTo>
                        <a:pt x="12910" y="1324"/>
                        <a:pt x="14961" y="2028"/>
                        <a:pt x="16625" y="3326"/>
                      </a:cubicBezTo>
                      <a:lnTo>
                        <a:pt x="17439" y="2282"/>
                      </a:lnTo>
                      <a:cubicBezTo>
                        <a:pt x="15542" y="803"/>
                        <a:pt x="13205" y="-1"/>
                        <a:pt x="10799" y="0"/>
                      </a:cubicBezTo>
                      <a:cubicBezTo>
                        <a:pt x="8394" y="0"/>
                        <a:pt x="6057" y="803"/>
                        <a:pt x="4160" y="2282"/>
                      </a:cubicBezTo>
                      <a:close/>
                    </a:path>
                  </a:pathLst>
                </a:custGeom>
                <a:solidFill>
                  <a:srgbClr val="a5644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AutoShape 10"/>
                <p:cNvSpPr/>
                <p:nvPr/>
              </p:nvSpPr>
              <p:spPr>
                <a:xfrm rot="2599800">
                  <a:off x="6279840" y="2390400"/>
                  <a:ext cx="1143000" cy="762120"/>
                </a:xfrm>
                <a:custGeom>
                  <a:avLst/>
                  <a:gdLst>
                    <a:gd name="textAreaLeft" fmla="*/ 134640 w 1143000"/>
                    <a:gd name="textAreaRight" fmla="*/ 1008360 w 1143000"/>
                    <a:gd name="textAreaTop" fmla="*/ 0 h 762120"/>
                    <a:gd name="textAreaBottom" fmla="*/ 16488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974" y="3326"/>
                      </a:moveTo>
                      <a:cubicBezTo>
                        <a:pt x="6638" y="2028"/>
                        <a:pt x="8689" y="1323"/>
                        <a:pt x="10800" y="1324"/>
                      </a:cubicBezTo>
                      <a:cubicBezTo>
                        <a:pt x="12910" y="1324"/>
                        <a:pt x="14961" y="2028"/>
                        <a:pt x="16625" y="3326"/>
                      </a:cubicBezTo>
                      <a:lnTo>
                        <a:pt x="17439" y="2282"/>
                      </a:lnTo>
                      <a:cubicBezTo>
                        <a:pt x="15542" y="803"/>
                        <a:pt x="13205" y="-1"/>
                        <a:pt x="10799" y="0"/>
                      </a:cubicBezTo>
                      <a:cubicBezTo>
                        <a:pt x="8394" y="0"/>
                        <a:pt x="6057" y="803"/>
                        <a:pt x="4160" y="2282"/>
                      </a:cubicBezTo>
                      <a:close/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Text Box 11"/>
              <p:cNvSpPr/>
              <p:nvPr/>
            </p:nvSpPr>
            <p:spPr>
              <a:xfrm>
                <a:off x="7194600" y="208584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0000"/>
                    </a:solidFill>
                    <a:latin typeface="Times New Roman"/>
                  </a:rPr>
                  <a:t>外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12"/>
              <p:cNvSpPr/>
              <p:nvPr/>
            </p:nvSpPr>
            <p:spPr>
              <a:xfrm rot="4251600">
                <a:off x="5974200" y="12466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ff"/>
                    </a:solidFill>
                    <a:latin typeface="Times New Roman"/>
                  </a:rPr>
                  <a:t>相邻内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3"/>
            <p:cNvGrpSpPr/>
            <p:nvPr/>
          </p:nvGrpSpPr>
          <p:grpSpPr>
            <a:xfrm>
              <a:off x="3537000" y="333360"/>
              <a:ext cx="5715000" cy="3027960"/>
              <a:chOff x="3537000" y="333360"/>
              <a:chExt cx="5715000" cy="3027960"/>
            </a:xfrm>
          </p:grpSpPr>
          <p:sp>
            <p:nvSpPr>
              <p:cNvPr id="499" name="AutoShape 14"/>
              <p:cNvSpPr/>
              <p:nvPr/>
            </p:nvSpPr>
            <p:spPr>
              <a:xfrm rot="2545800">
                <a:off x="3765240" y="2390400"/>
                <a:ext cx="914400" cy="762120"/>
              </a:xfrm>
              <a:custGeom>
                <a:avLst/>
                <a:gdLst>
                  <a:gd name="textAreaLeft" fmla="*/ 107640 w 914400"/>
                  <a:gd name="textAreaRight" fmla="*/ 806760 w 914400"/>
                  <a:gd name="textAreaTop" fmla="*/ 0 h 762120"/>
                  <a:gd name="textAreaBottom" fmla="*/ 16488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974" y="3326"/>
                    </a:moveTo>
                    <a:cubicBezTo>
                      <a:pt x="6638" y="2028"/>
                      <a:pt x="8689" y="1323"/>
                      <a:pt x="10800" y="1324"/>
                    </a:cubicBezTo>
                    <a:cubicBezTo>
                      <a:pt x="12910" y="1324"/>
                      <a:pt x="14961" y="2028"/>
                      <a:pt x="16625" y="3326"/>
                    </a:cubicBezTo>
                    <a:lnTo>
                      <a:pt x="17439" y="2282"/>
                    </a:lnTo>
                    <a:cubicBezTo>
                      <a:pt x="15542" y="803"/>
                      <a:pt x="13205" y="-1"/>
                      <a:pt x="10799" y="0"/>
                    </a:cubicBezTo>
                    <a:cubicBezTo>
                      <a:pt x="8394" y="0"/>
                      <a:pt x="6057" y="803"/>
                      <a:pt x="4160" y="2282"/>
                    </a:cubicBezTo>
                    <a:close/>
                  </a:path>
                </a:pathLst>
              </a:custGeom>
              <a:solidFill>
                <a:srgbClr val="a5644e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AutoShape 15"/>
              <p:cNvSpPr/>
              <p:nvPr/>
            </p:nvSpPr>
            <p:spPr>
              <a:xfrm rot="18296400">
                <a:off x="6165720" y="2276280"/>
                <a:ext cx="1143000" cy="761760"/>
              </a:xfrm>
              <a:custGeom>
                <a:avLst/>
                <a:gdLst>
                  <a:gd name="textAreaLeft" fmla="*/ 134640 w 1143000"/>
                  <a:gd name="textAreaRight" fmla="*/ 1008360 w 1143000"/>
                  <a:gd name="textAreaTop" fmla="*/ 0 h 761760"/>
                  <a:gd name="textAreaBottom" fmla="*/ 16488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974" y="3326"/>
                    </a:moveTo>
                    <a:cubicBezTo>
                      <a:pt x="6638" y="2028"/>
                      <a:pt x="8689" y="1323"/>
                      <a:pt x="10800" y="1324"/>
                    </a:cubicBezTo>
                    <a:cubicBezTo>
                      <a:pt x="12910" y="1324"/>
                      <a:pt x="14961" y="2028"/>
                      <a:pt x="16625" y="3326"/>
                    </a:cubicBezTo>
                    <a:lnTo>
                      <a:pt x="17439" y="2282"/>
                    </a:lnTo>
                    <a:cubicBezTo>
                      <a:pt x="15542" y="803"/>
                      <a:pt x="13205" y="-1"/>
                      <a:pt x="10799" y="0"/>
                    </a:cubicBezTo>
                    <a:cubicBezTo>
                      <a:pt x="8394" y="0"/>
                      <a:pt x="6057" y="803"/>
                      <a:pt x="4160" y="2282"/>
                    </a:cubicBezTo>
                    <a:close/>
                  </a:path>
                </a:pathLst>
              </a:custGeom>
              <a:solidFill>
                <a:srgbClr val="4e3b30"/>
              </a:solidFill>
              <a:ln w="9360">
                <a:solidFill>
                  <a:srgbClr val="4e3b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" name="Group 16"/>
              <p:cNvGrpSpPr/>
              <p:nvPr/>
            </p:nvGrpSpPr>
            <p:grpSpPr>
              <a:xfrm>
                <a:off x="3765600" y="714240"/>
                <a:ext cx="5486400" cy="2057760"/>
                <a:chOff x="3765600" y="714240"/>
                <a:chExt cx="5486400" cy="2057760"/>
              </a:xfrm>
            </p:grpSpPr>
            <p:sp>
              <p:nvSpPr>
                <p:cNvPr id="502" name="Line 17"/>
                <p:cNvSpPr/>
                <p:nvPr/>
              </p:nvSpPr>
              <p:spPr>
                <a:xfrm flipV="1">
                  <a:off x="3765600" y="714240"/>
                  <a:ext cx="2446920" cy="2057400"/>
                </a:xfrm>
                <a:prstGeom prst="line">
                  <a:avLst/>
                </a:prstGeom>
                <a:ln w="7632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18"/>
                <p:cNvSpPr/>
                <p:nvPr/>
              </p:nvSpPr>
              <p:spPr>
                <a:xfrm>
                  <a:off x="3765600" y="2772000"/>
                  <a:ext cx="5486400" cy="0"/>
                </a:xfrm>
                <a:prstGeom prst="line">
                  <a:avLst/>
                </a:prstGeom>
                <a:ln w="7632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9"/>
                <p:cNvSpPr/>
                <p:nvPr/>
              </p:nvSpPr>
              <p:spPr>
                <a:xfrm>
                  <a:off x="6211080" y="714600"/>
                  <a:ext cx="684360" cy="205092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2050920"/>
                    <a:gd name="textAreaBottom" fmla="*/ 2051280 h 2050920"/>
                  </a:gdLst>
                  <a:ahLst/>
                  <a:rect l="textAreaLeft" t="textAreaTop" r="textAreaRight" b="textAreaBottom"/>
                  <a:pathLst>
                    <a:path w="497" h="2271">
                      <a:moveTo>
                        <a:pt x="0" y="0"/>
                      </a:moveTo>
                      <a:lnTo>
                        <a:pt x="497" y="2271"/>
                      </a:lnTo>
                    </a:path>
                  </a:pathLst>
                </a:custGeom>
                <a:solidFill>
                  <a:srgbClr val="ff00ff"/>
                </a:solidFill>
                <a:ln w="76320">
                  <a:solidFill>
                    <a:srgbClr val="a564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" name="Text Box 20"/>
              <p:cNvSpPr/>
              <p:nvPr/>
            </p:nvSpPr>
            <p:spPr>
              <a:xfrm rot="19188600">
                <a:off x="3614040" y="109512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ff"/>
                    </a:solidFill>
                    <a:latin typeface="Times New Roman"/>
                  </a:rPr>
                  <a:t>不相邻内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" name="Group 21"/>
              <p:cNvGrpSpPr/>
              <p:nvPr/>
            </p:nvGrpSpPr>
            <p:grpSpPr>
              <a:xfrm>
                <a:off x="4603680" y="1324080"/>
                <a:ext cx="1981080" cy="1219320"/>
                <a:chOff x="4603680" y="1324080"/>
                <a:chExt cx="1981080" cy="1219320"/>
              </a:xfrm>
            </p:grpSpPr>
            <p:sp>
              <p:nvSpPr>
                <p:cNvPr id="507" name="Line 22"/>
                <p:cNvSpPr/>
                <p:nvPr/>
              </p:nvSpPr>
              <p:spPr>
                <a:xfrm>
                  <a:off x="4603680" y="1552680"/>
                  <a:ext cx="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Line 23"/>
                <p:cNvSpPr/>
                <p:nvPr/>
              </p:nvSpPr>
              <p:spPr>
                <a:xfrm>
                  <a:off x="4832280" y="1324080"/>
                  <a:ext cx="990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24"/>
                <p:cNvSpPr/>
                <p:nvPr/>
              </p:nvSpPr>
              <p:spPr>
                <a:xfrm flipH="1">
                  <a:off x="6356160" y="1476360"/>
                  <a:ext cx="22860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Text Box 25"/>
              <p:cNvSpPr/>
              <p:nvPr/>
            </p:nvSpPr>
            <p:spPr>
              <a:xfrm>
                <a:off x="6127920" y="2086200"/>
                <a:ext cx="2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26"/>
              <p:cNvSpPr/>
              <p:nvPr/>
            </p:nvSpPr>
            <p:spPr>
              <a:xfrm>
                <a:off x="5746680" y="333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27"/>
              <p:cNvSpPr/>
              <p:nvPr/>
            </p:nvSpPr>
            <p:spPr>
              <a:xfrm>
                <a:off x="3537000" y="2847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28"/>
              <p:cNvSpPr/>
              <p:nvPr/>
            </p:nvSpPr>
            <p:spPr>
              <a:xfrm>
                <a:off x="6737400" y="27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Text Box 29"/>
              <p:cNvSpPr/>
              <p:nvPr/>
            </p:nvSpPr>
            <p:spPr>
              <a:xfrm>
                <a:off x="8794800" y="27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5" name="Text Box 30"/>
          <p:cNvSpPr/>
          <p:nvPr/>
        </p:nvSpPr>
        <p:spPr>
          <a:xfrm>
            <a:off x="34920" y="792000"/>
            <a:ext cx="489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∠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A+ ∠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∠ 1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∠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A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∠ 1=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2"/>
          <p:cNvSpPr/>
          <p:nvPr/>
        </p:nvSpPr>
        <p:spPr>
          <a:xfrm>
            <a:off x="0" y="299736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CD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∠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＋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3"/>
          <p:cNvSpPr/>
          <p:nvPr/>
        </p:nvSpPr>
        <p:spPr>
          <a:xfrm>
            <a:off x="1796760" y="3716280"/>
            <a:ext cx="48135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能根据上面两个等式得到什么样的式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能用自己的语言表达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34"/>
          <p:cNvSpPr/>
          <p:nvPr/>
        </p:nvSpPr>
        <p:spPr>
          <a:xfrm>
            <a:off x="324000" y="508464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结论：三角形的一个外角等于与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不相邻的两个内角的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4114800" y="4572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1"/>
          <p:cNvSpPr/>
          <p:nvPr/>
        </p:nvSpPr>
        <p:spPr>
          <a:xfrm rot="11472600">
            <a:off x="3733560" y="1161360"/>
            <a:ext cx="1143000" cy="160020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1600200"/>
              <a:gd name="textAreaBottom" fmla="*/ 346320 h 160020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6"/>
          <p:cNvSpPr/>
          <p:nvPr/>
        </p:nvSpPr>
        <p:spPr>
          <a:xfrm>
            <a:off x="4800600" y="1523880"/>
            <a:ext cx="36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4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f40000"/>
                </a:solidFill>
                <a:latin typeface="Times New Roman"/>
              </a:rPr>
              <a:t>CE//BA</a:t>
            </a:r>
            <a:r>
              <a:rPr b="1" lang="zh-CN" sz="4800" spc="-1" strike="noStrike">
                <a:solidFill>
                  <a:srgbClr val="f400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8"/>
          <p:cNvSpPr/>
          <p:nvPr/>
        </p:nvSpPr>
        <p:spPr>
          <a:xfrm flipV="1">
            <a:off x="1523880" y="1905120"/>
            <a:ext cx="2820960" cy="3581280"/>
          </a:xfrm>
          <a:prstGeom prst="line">
            <a:avLst/>
          </a:prstGeom>
          <a:ln w="7632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44956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644e"/>
                </a:solidFill>
                <a:latin typeface="Georg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35"/>
          <p:cNvSpPr/>
          <p:nvPr/>
        </p:nvSpPr>
        <p:spPr>
          <a:xfrm rot="3461400">
            <a:off x="1142640" y="4708440"/>
            <a:ext cx="1143000" cy="160020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1600200"/>
              <a:gd name="textAreaBottom" fmla="*/ 346320 h 160020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8"/>
          <p:cNvSpPr/>
          <p:nvPr/>
        </p:nvSpPr>
        <p:spPr>
          <a:xfrm>
            <a:off x="8229600" y="153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54"/>
          <p:cNvGrpSpPr/>
          <p:nvPr/>
        </p:nvGrpSpPr>
        <p:grpSpPr>
          <a:xfrm>
            <a:off x="4390200" y="1828800"/>
            <a:ext cx="3762720" cy="4622040"/>
            <a:chOff x="4390200" y="1828800"/>
            <a:chExt cx="3762720" cy="4622040"/>
          </a:xfrm>
        </p:grpSpPr>
        <p:sp>
          <p:nvSpPr>
            <p:cNvPr id="530" name="Line 55"/>
            <p:cNvSpPr/>
            <p:nvPr/>
          </p:nvSpPr>
          <p:spPr>
            <a:xfrm flipH="1">
              <a:off x="5181120" y="1828800"/>
              <a:ext cx="2971800" cy="3733920"/>
            </a:xfrm>
            <a:prstGeom prst="line">
              <a:avLst/>
            </a:prstGeom>
            <a:ln w="76320">
              <a:solidFill>
                <a:srgbClr val="f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AutoShape 56"/>
            <p:cNvSpPr/>
            <p:nvPr/>
          </p:nvSpPr>
          <p:spPr>
            <a:xfrm rot="3461400">
              <a:off x="4800240" y="4740120"/>
              <a:ext cx="1143000" cy="1600200"/>
            </a:xfrm>
            <a:custGeom>
              <a:avLst/>
              <a:gdLst>
                <a:gd name="textAreaLeft" fmla="*/ 134640 w 1143000"/>
                <a:gd name="textAreaRight" fmla="*/ 1008360 w 1143000"/>
                <a:gd name="textAreaTop" fmla="*/ 0 h 1600200"/>
                <a:gd name="textAreaBottom" fmla="*/ 3459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f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Rectangle 57" descr=""/>
          <p:cNvPicPr/>
          <p:nvPr/>
        </p:nvPicPr>
        <p:blipFill>
          <a:blip r:embed="rId1"/>
          <a:stretch/>
        </p:blipFill>
        <p:spPr>
          <a:xfrm>
            <a:off x="-401760" y="-6480"/>
            <a:ext cx="3559320" cy="16034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58"/>
          <p:cNvSpPr/>
          <p:nvPr/>
        </p:nvSpPr>
        <p:spPr>
          <a:xfrm>
            <a:off x="4419720" y="228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擅长画平行线的小明用另一种方法解释了这个性质，你知道他是怎么解释的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9"/>
          <p:cNvSpPr/>
          <p:nvPr/>
        </p:nvSpPr>
        <p:spPr>
          <a:xfrm>
            <a:off x="1523880" y="5486400"/>
            <a:ext cx="6324840" cy="0"/>
          </a:xfrm>
          <a:prstGeom prst="line">
            <a:avLst/>
          </a:prstGeom>
          <a:ln w="7632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30"/>
          <p:cNvSpPr/>
          <p:nvPr/>
        </p:nvSpPr>
        <p:spPr>
          <a:xfrm>
            <a:off x="4343400" y="1905120"/>
            <a:ext cx="789120" cy="3570120"/>
          </a:xfrm>
          <a:custGeom>
            <a:avLst/>
            <a:gdLst>
              <a:gd name="textAreaLeft" fmla="*/ 0 w 789120"/>
              <a:gd name="textAreaRight" fmla="*/ 789480 w 789120"/>
              <a:gd name="textAreaTop" fmla="*/ 0 h 3570120"/>
              <a:gd name="textAreaBottom" fmla="*/ 3570480 h 3570120"/>
            </a:gdLst>
            <a:ahLst/>
            <a:rect l="textAreaLeft" t="textAreaTop" r="textAreaRight" b="textAreaBottom"/>
            <a:pathLst>
              <a:path w="497" h="2271">
                <a:moveTo>
                  <a:pt x="0" y="0"/>
                </a:moveTo>
                <a:lnTo>
                  <a:pt x="497" y="2271"/>
                </a:lnTo>
              </a:path>
            </a:pathLst>
          </a:custGeom>
          <a:noFill/>
          <a:ln w="76320">
            <a:solidFill>
              <a:srgbClr val="a564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5105520" y="554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990720" y="5334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 47"/>
          <p:cNvGrpSpPr/>
          <p:nvPr/>
        </p:nvGrpSpPr>
        <p:grpSpPr>
          <a:xfrm>
            <a:off x="732600" y="1797120"/>
            <a:ext cx="3762720" cy="4622040"/>
            <a:chOff x="732600" y="1797120"/>
            <a:chExt cx="3762720" cy="4622040"/>
          </a:xfrm>
        </p:grpSpPr>
        <p:sp>
          <p:nvSpPr>
            <p:cNvPr id="539" name="Line 45"/>
            <p:cNvSpPr/>
            <p:nvPr/>
          </p:nvSpPr>
          <p:spPr>
            <a:xfrm flipH="1">
              <a:off x="1523520" y="1797120"/>
              <a:ext cx="2971800" cy="3733920"/>
            </a:xfrm>
            <a:prstGeom prst="line">
              <a:avLst/>
            </a:prstGeom>
            <a:ln w="76320">
              <a:solidFill>
                <a:srgbClr val="f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AutoShape 46"/>
            <p:cNvSpPr/>
            <p:nvPr/>
          </p:nvSpPr>
          <p:spPr>
            <a:xfrm rot="3461400">
              <a:off x="1142640" y="4708440"/>
              <a:ext cx="1143000" cy="1600200"/>
            </a:xfrm>
            <a:custGeom>
              <a:avLst/>
              <a:gdLst>
                <a:gd name="textAreaLeft" fmla="*/ 134640 w 1143000"/>
                <a:gd name="textAreaRight" fmla="*/ 1008360 w 1143000"/>
                <a:gd name="textAreaTop" fmla="*/ 0 h 1600200"/>
                <a:gd name="textAreaBottom" fmla="*/ 3459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f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Text Box 59"/>
          <p:cNvSpPr/>
          <p:nvPr/>
        </p:nvSpPr>
        <p:spPr>
          <a:xfrm>
            <a:off x="754380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61"/>
          <p:cNvSpPr/>
          <p:nvPr/>
        </p:nvSpPr>
        <p:spPr>
          <a:xfrm rot="837600">
            <a:off x="4647960" y="4648320"/>
            <a:ext cx="1143000" cy="160020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1600200"/>
              <a:gd name="textAreaBottom" fmla="*/ 346320 h 160020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67"/>
          <p:cNvSpPr/>
          <p:nvPr/>
        </p:nvSpPr>
        <p:spPr>
          <a:xfrm rot="18330000">
            <a:off x="4723920" y="4723920"/>
            <a:ext cx="1143000" cy="1600200"/>
          </a:xfrm>
          <a:custGeom>
            <a:avLst/>
            <a:gdLst>
              <a:gd name="textAreaLeft" fmla="*/ 135360 w 1143000"/>
              <a:gd name="textAreaRight" fmla="*/ 1007640 w 1143000"/>
              <a:gd name="textAreaTop" fmla="*/ 0 h 1600200"/>
              <a:gd name="textAreaBottom" fmla="*/ 346320 h 1600200"/>
            </a:gdLst>
            <a:ahLst/>
            <a:rect l="textAreaLeft" t="textAreaTop" r="textAreaRight" b="textAreaBottom"/>
            <a:pathLst>
              <a:path w="21600" h="21600">
                <a:moveTo>
                  <a:pt x="4974" y="3326"/>
                </a:moveTo>
                <a:cubicBezTo>
                  <a:pt x="6638" y="2028"/>
                  <a:pt x="8689" y="1323"/>
                  <a:pt x="10800" y="1324"/>
                </a:cubicBezTo>
                <a:cubicBezTo>
                  <a:pt x="12910" y="1324"/>
                  <a:pt x="14961" y="2028"/>
                  <a:pt x="16625" y="3326"/>
                </a:cubicBezTo>
                <a:lnTo>
                  <a:pt x="17439" y="2282"/>
                </a:lnTo>
                <a:cubicBezTo>
                  <a:pt x="15542" y="803"/>
                  <a:pt x="13205" y="-1"/>
                  <a:pt x="10799" y="0"/>
                </a:cubicBezTo>
                <a:cubicBezTo>
                  <a:pt x="8394" y="0"/>
                  <a:pt x="6057" y="803"/>
                  <a:pt x="4160" y="228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83"/>
          <p:cNvGrpSpPr/>
          <p:nvPr/>
        </p:nvGrpSpPr>
        <p:grpSpPr>
          <a:xfrm>
            <a:off x="4343400" y="228600"/>
            <a:ext cx="4267080" cy="1143000"/>
            <a:chOff x="4343400" y="228600"/>
            <a:chExt cx="4267080" cy="1143000"/>
          </a:xfrm>
        </p:grpSpPr>
        <p:sp>
          <p:nvSpPr>
            <p:cNvPr id="545" name="Line 75"/>
            <p:cNvSpPr/>
            <p:nvPr/>
          </p:nvSpPr>
          <p:spPr>
            <a:xfrm>
              <a:off x="4343400" y="228600"/>
              <a:ext cx="411480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79"/>
            <p:cNvSpPr/>
            <p:nvPr/>
          </p:nvSpPr>
          <p:spPr>
            <a:xfrm>
              <a:off x="8458200" y="2286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80"/>
            <p:cNvSpPr/>
            <p:nvPr/>
          </p:nvSpPr>
          <p:spPr>
            <a:xfrm>
              <a:off x="8610480" y="228600"/>
              <a:ext cx="0" cy="1143000"/>
            </a:xfrm>
            <a:prstGeom prst="line">
              <a:avLst/>
            </a:prstGeom>
            <a:ln w="936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81"/>
            <p:cNvSpPr/>
            <p:nvPr/>
          </p:nvSpPr>
          <p:spPr>
            <a:xfrm>
              <a:off x="4343400" y="228600"/>
              <a:ext cx="0" cy="1143000"/>
            </a:xfrm>
            <a:prstGeom prst="line">
              <a:avLst/>
            </a:prstGeom>
            <a:ln w="936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82"/>
            <p:cNvSpPr/>
            <p:nvPr/>
          </p:nvSpPr>
          <p:spPr>
            <a:xfrm>
              <a:off x="4343400" y="1371600"/>
              <a:ext cx="426708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76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85128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714560" y="4522680"/>
            <a:ext cx="109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0" y="37162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∠A   (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4427640" y="47973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∠B  (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395280" y="522936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论：三角形的一个外角大于任何一个与它不相邻的内角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Text Box 36"/>
          <p:cNvSpPr/>
          <p:nvPr/>
        </p:nvSpPr>
        <p:spPr>
          <a:xfrm>
            <a:off x="83059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Georg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59"/>
          <p:cNvGrpSpPr/>
          <p:nvPr/>
        </p:nvGrpSpPr>
        <p:grpSpPr>
          <a:xfrm>
            <a:off x="3179520" y="543240"/>
            <a:ext cx="5582880" cy="3480120"/>
            <a:chOff x="3179520" y="543240"/>
            <a:chExt cx="5582880" cy="3480120"/>
          </a:xfrm>
        </p:grpSpPr>
        <p:sp>
          <p:nvSpPr>
            <p:cNvPr id="559" name="AutoShape 47"/>
            <p:cNvSpPr/>
            <p:nvPr/>
          </p:nvSpPr>
          <p:spPr>
            <a:xfrm rot="11472600">
              <a:off x="5542920" y="620280"/>
              <a:ext cx="894240" cy="1017000"/>
            </a:xfrm>
            <a:custGeom>
              <a:avLst/>
              <a:gdLst>
                <a:gd name="textAreaLeft" fmla="*/ 105480 w 894240"/>
                <a:gd name="textAreaRight" fmla="*/ 788760 w 894240"/>
                <a:gd name="textAreaTop" fmla="*/ 0 h 1017000"/>
                <a:gd name="textAreaBottom" fmla="*/ 219960 h 101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AutoShape 48"/>
            <p:cNvSpPr/>
            <p:nvPr/>
          </p:nvSpPr>
          <p:spPr>
            <a:xfrm rot="3461400">
              <a:off x="3539160" y="2755440"/>
              <a:ext cx="726480" cy="1252080"/>
            </a:xfrm>
            <a:custGeom>
              <a:avLst/>
              <a:gdLst>
                <a:gd name="textAreaLeft" fmla="*/ 85680 w 726480"/>
                <a:gd name="textAreaRight" fmla="*/ 640800 w 726480"/>
                <a:gd name="textAreaTop" fmla="*/ 0 h 1252080"/>
                <a:gd name="textAreaBottom" fmla="*/ 270720 h 12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74" y="3326"/>
                  </a:moveTo>
                  <a:cubicBezTo>
                    <a:pt x="6638" y="2028"/>
                    <a:pt x="8689" y="1323"/>
                    <a:pt x="10800" y="1324"/>
                  </a:cubicBezTo>
                  <a:cubicBezTo>
                    <a:pt x="12910" y="1324"/>
                    <a:pt x="14961" y="2028"/>
                    <a:pt x="16625" y="3326"/>
                  </a:cubicBezTo>
                  <a:lnTo>
                    <a:pt x="17439" y="2282"/>
                  </a:lnTo>
                  <a:cubicBezTo>
                    <a:pt x="15542" y="803"/>
                    <a:pt x="13205" y="-1"/>
                    <a:pt x="10799" y="0"/>
                  </a:cubicBezTo>
                  <a:cubicBezTo>
                    <a:pt x="8394" y="0"/>
                    <a:pt x="6057" y="803"/>
                    <a:pt x="4160" y="2282"/>
                  </a:cubicBezTo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Group 50"/>
            <p:cNvGrpSpPr/>
            <p:nvPr/>
          </p:nvGrpSpPr>
          <p:grpSpPr>
            <a:xfrm>
              <a:off x="3396960" y="838440"/>
              <a:ext cx="5365440" cy="2991240"/>
              <a:chOff x="3396960" y="838440"/>
              <a:chExt cx="5365440" cy="2991240"/>
            </a:xfrm>
          </p:grpSpPr>
          <p:sp>
            <p:nvSpPr>
              <p:cNvPr id="562" name="Text Box 24"/>
              <p:cNvSpPr/>
              <p:nvPr/>
            </p:nvSpPr>
            <p:spPr>
              <a:xfrm>
                <a:off x="6080400" y="838440"/>
                <a:ext cx="4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Line 29"/>
              <p:cNvSpPr/>
              <p:nvPr/>
            </p:nvSpPr>
            <p:spPr>
              <a:xfrm>
                <a:off x="3812760" y="3328560"/>
                <a:ext cx="4949640" cy="0"/>
              </a:xfrm>
              <a:prstGeom prst="line">
                <a:avLst/>
              </a:prstGeom>
              <a:ln w="76320">
                <a:solidFill>
                  <a:srgbClr val="a564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30"/>
              <p:cNvSpPr/>
              <p:nvPr/>
            </p:nvSpPr>
            <p:spPr>
              <a:xfrm>
                <a:off x="6019560" y="1052280"/>
                <a:ext cx="617400" cy="226908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2269080"/>
                  <a:gd name="textAreaBottom" fmla="*/ 2269440 h 2269080"/>
                </a:gdLst>
                <a:ahLst/>
                <a:rect l="textAreaLeft" t="textAreaTop" r="textAreaRight" b="textAreaBottom"/>
                <a:pathLst>
                  <a:path w="497" h="2271">
                    <a:moveTo>
                      <a:pt x="0" y="0"/>
                    </a:moveTo>
                    <a:lnTo>
                      <a:pt x="497" y="2271"/>
                    </a:lnTo>
                  </a:path>
                </a:pathLst>
              </a:custGeom>
              <a:noFill/>
              <a:ln w="76320">
                <a:solidFill>
                  <a:srgbClr val="a5644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31"/>
              <p:cNvSpPr/>
              <p:nvPr/>
            </p:nvSpPr>
            <p:spPr>
              <a:xfrm>
                <a:off x="6614280" y="3369960"/>
                <a:ext cx="4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32"/>
              <p:cNvSpPr/>
              <p:nvPr/>
            </p:nvSpPr>
            <p:spPr>
              <a:xfrm>
                <a:off x="3396960" y="3232800"/>
                <a:ext cx="4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644e"/>
                    </a:solidFill>
                    <a:latin typeface="Georgi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46"/>
              <p:cNvSpPr/>
              <p:nvPr/>
            </p:nvSpPr>
            <p:spPr>
              <a:xfrm flipV="1">
                <a:off x="3812760" y="1080000"/>
                <a:ext cx="2207520" cy="2276280"/>
              </a:xfrm>
              <a:prstGeom prst="line">
                <a:avLst/>
              </a:prstGeom>
              <a:ln w="76320">
                <a:solidFill>
                  <a:srgbClr val="a564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AutoShape 49"/>
              <p:cNvSpPr/>
              <p:nvPr/>
            </p:nvSpPr>
            <p:spPr>
              <a:xfrm rot="2599800">
                <a:off x="6198120" y="3065760"/>
                <a:ext cx="894240" cy="484200"/>
              </a:xfrm>
              <a:custGeom>
                <a:avLst/>
                <a:gdLst>
                  <a:gd name="textAreaLeft" fmla="*/ 105480 w 894240"/>
                  <a:gd name="textAreaRight" fmla="*/ 788760 w 894240"/>
                  <a:gd name="textAreaTop" fmla="*/ 0 h 484200"/>
                  <a:gd name="textAreaBottom" fmla="*/ 1047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974" y="3326"/>
                    </a:moveTo>
                    <a:cubicBezTo>
                      <a:pt x="6638" y="2028"/>
                      <a:pt x="8689" y="1323"/>
                      <a:pt x="10800" y="1324"/>
                    </a:cubicBezTo>
                    <a:cubicBezTo>
                      <a:pt x="12910" y="1324"/>
                      <a:pt x="14961" y="2028"/>
                      <a:pt x="16625" y="3326"/>
                    </a:cubicBezTo>
                    <a:lnTo>
                      <a:pt x="17439" y="2282"/>
                    </a:lnTo>
                    <a:cubicBezTo>
                      <a:pt x="15542" y="803"/>
                      <a:pt x="13205" y="-1"/>
                      <a:pt x="10799" y="0"/>
                    </a:cubicBezTo>
                    <a:cubicBezTo>
                      <a:pt x="8394" y="0"/>
                      <a:pt x="6057" y="803"/>
                      <a:pt x="4160" y="2282"/>
                    </a:cubicBez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9" name="Text Box 51"/>
          <p:cNvSpPr/>
          <p:nvPr/>
        </p:nvSpPr>
        <p:spPr>
          <a:xfrm>
            <a:off x="1476360" y="3716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2"/>
          <p:cNvSpPr/>
          <p:nvPr/>
        </p:nvSpPr>
        <p:spPr>
          <a:xfrm>
            <a:off x="5940360" y="4653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Group 62"/>
          <p:cNvGrpSpPr/>
          <p:nvPr/>
        </p:nvGrpSpPr>
        <p:grpSpPr>
          <a:xfrm>
            <a:off x="826920" y="333360"/>
            <a:ext cx="3276720" cy="3137040"/>
            <a:chOff x="826920" y="333360"/>
            <a:chExt cx="3276720" cy="3137040"/>
          </a:xfrm>
        </p:grpSpPr>
        <p:sp>
          <p:nvSpPr>
            <p:cNvPr id="572" name="AutoShape 57"/>
            <p:cNvSpPr/>
            <p:nvPr/>
          </p:nvSpPr>
          <p:spPr>
            <a:xfrm>
              <a:off x="1512720" y="333360"/>
              <a:ext cx="2590920" cy="1143000"/>
            </a:xfrm>
            <a:prstGeom prst="cloudCallout">
              <a:avLst>
                <a:gd name="adj1" fmla="val -23958"/>
                <a:gd name="adj2" fmla="val 11125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3" name="Picture 60" descr="PE07677_"/>
            <p:cNvPicPr/>
            <p:nvPr/>
          </p:nvPicPr>
          <p:blipFill>
            <a:blip r:embed="rId1"/>
            <a:stretch/>
          </p:blipFill>
          <p:spPr>
            <a:xfrm>
              <a:off x="826920" y="2238480"/>
              <a:ext cx="12952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Text Box 63"/>
          <p:cNvSpPr/>
          <p:nvPr/>
        </p:nvSpPr>
        <p:spPr>
          <a:xfrm>
            <a:off x="1807920" y="398520"/>
            <a:ext cx="16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新知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你选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Rectangle 2" descr=""/>
          <p:cNvPicPr/>
          <p:nvPr/>
        </p:nvPicPr>
        <p:blipFill>
          <a:blip r:embed="rId1"/>
          <a:stretch/>
        </p:blipFill>
        <p:spPr>
          <a:xfrm>
            <a:off x="4522680" y="298440"/>
            <a:ext cx="4475160" cy="12492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611280" y="1447920"/>
            <a:ext cx="5180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像这样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由一个公理或定理直接推出的定理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叫做这个公理或定理的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推论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corollar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推论可以当作定理使用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684360" y="3213000"/>
            <a:ext cx="8200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三角形内角和定理的推论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推论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: 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三角形的一个外角等于和它不相邻的两个内角的和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推论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: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三角形的一个外角大于任何一个和它不相邻的内角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5" descr="右开门箭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左开门箭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7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f0a22e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8"/>
          <p:cNvGrpSpPr/>
          <p:nvPr/>
        </p:nvGrpSpPr>
        <p:grpSpPr>
          <a:xfrm>
            <a:off x="1187280" y="404640"/>
            <a:ext cx="3581280" cy="838440"/>
            <a:chOff x="1187280" y="404640"/>
            <a:chExt cx="3581280" cy="838440"/>
          </a:xfrm>
        </p:grpSpPr>
        <p:grpSp>
          <p:nvGrpSpPr>
            <p:cNvPr id="582" name="Group 9"/>
            <p:cNvGrpSpPr/>
            <p:nvPr/>
          </p:nvGrpSpPr>
          <p:grpSpPr>
            <a:xfrm>
              <a:off x="1187280" y="404640"/>
              <a:ext cx="2592000" cy="764280"/>
              <a:chOff x="1187280" y="404640"/>
              <a:chExt cx="2592000" cy="764280"/>
            </a:xfrm>
          </p:grpSpPr>
          <p:sp>
            <p:nvSpPr>
              <p:cNvPr id="583" name="Rectangle 10"/>
              <p:cNvSpPr/>
              <p:nvPr/>
            </p:nvSpPr>
            <p:spPr>
              <a:xfrm>
                <a:off x="1187280" y="604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关注▲外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11"/>
              <p:cNvSpPr/>
              <p:nvPr/>
            </p:nvSpPr>
            <p:spPr>
              <a:xfrm>
                <a:off x="3097080" y="40464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5" name="Picture 12" descr="678"/>
            <p:cNvPicPr/>
            <p:nvPr/>
          </p:nvPicPr>
          <p:blipFill>
            <a:blip r:embed="rId4"/>
            <a:stretch/>
          </p:blipFill>
          <p:spPr>
            <a:xfrm>
              <a:off x="3549240" y="557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13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187280" y="709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7" name="Group 14"/>
          <p:cNvGrpSpPr/>
          <p:nvPr/>
        </p:nvGrpSpPr>
        <p:grpSpPr>
          <a:xfrm>
            <a:off x="5257800" y="1371600"/>
            <a:ext cx="3657600" cy="2288520"/>
            <a:chOff x="5257800" y="1371600"/>
            <a:chExt cx="3657600" cy="2288520"/>
          </a:xfrm>
        </p:grpSpPr>
        <p:grpSp>
          <p:nvGrpSpPr>
            <p:cNvPr id="588" name="Group 15"/>
            <p:cNvGrpSpPr/>
            <p:nvPr/>
          </p:nvGrpSpPr>
          <p:grpSpPr>
            <a:xfrm>
              <a:off x="5257800" y="1371600"/>
              <a:ext cx="2514600" cy="2288520"/>
              <a:chOff x="5257800" y="1371600"/>
              <a:chExt cx="2514600" cy="2288520"/>
            </a:xfrm>
          </p:grpSpPr>
          <p:sp>
            <p:nvSpPr>
              <p:cNvPr id="589" name="Line 16"/>
              <p:cNvSpPr/>
              <p:nvPr/>
            </p:nvSpPr>
            <p:spPr>
              <a:xfrm>
                <a:off x="5410080" y="3276720"/>
                <a:ext cx="2057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Text Box 17"/>
              <p:cNvSpPr/>
              <p:nvPr/>
            </p:nvSpPr>
            <p:spPr>
              <a:xfrm>
                <a:off x="6705720" y="1371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8"/>
              <p:cNvSpPr/>
              <p:nvPr/>
            </p:nvSpPr>
            <p:spPr>
              <a:xfrm>
                <a:off x="525780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Text Box 19"/>
              <p:cNvSpPr/>
              <p:nvPr/>
            </p:nvSpPr>
            <p:spPr>
              <a:xfrm>
                <a:off x="731520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20"/>
              <p:cNvSpPr/>
              <p:nvPr/>
            </p:nvSpPr>
            <p:spPr>
              <a:xfrm flipV="1">
                <a:off x="5410080" y="1769760"/>
                <a:ext cx="1517760" cy="1506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21"/>
              <p:cNvSpPr/>
              <p:nvPr/>
            </p:nvSpPr>
            <p:spPr>
              <a:xfrm>
                <a:off x="6934320" y="1752480"/>
                <a:ext cx="554040" cy="1528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22"/>
            <p:cNvGrpSpPr/>
            <p:nvPr/>
          </p:nvGrpSpPr>
          <p:grpSpPr>
            <a:xfrm>
              <a:off x="7467480" y="3200400"/>
              <a:ext cx="1447920" cy="459720"/>
              <a:chOff x="7467480" y="3200400"/>
              <a:chExt cx="1447920" cy="459720"/>
            </a:xfrm>
          </p:grpSpPr>
          <p:sp>
            <p:nvSpPr>
              <p:cNvPr id="596" name="Line 23"/>
              <p:cNvSpPr/>
              <p:nvPr/>
            </p:nvSpPr>
            <p:spPr>
              <a:xfrm>
                <a:off x="7467480" y="3276720"/>
                <a:ext cx="129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24"/>
              <p:cNvSpPr/>
              <p:nvPr/>
            </p:nvSpPr>
            <p:spPr>
              <a:xfrm>
                <a:off x="845820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Text Box 25"/>
            <p:cNvSpPr/>
            <p:nvPr/>
          </p:nvSpPr>
          <p:spPr>
            <a:xfrm>
              <a:off x="731520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26"/>
            <p:cNvSpPr/>
            <p:nvPr/>
          </p:nvSpPr>
          <p:spPr>
            <a:xfrm>
              <a:off x="662940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27"/>
            <p:cNvSpPr/>
            <p:nvPr/>
          </p:nvSpPr>
          <p:spPr>
            <a:xfrm>
              <a:off x="563868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Arc 28"/>
            <p:cNvSpPr/>
            <p:nvPr/>
          </p:nvSpPr>
          <p:spPr>
            <a:xfrm>
              <a:off x="7391520" y="2971800"/>
              <a:ext cx="380880" cy="3049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rc 29"/>
            <p:cNvSpPr/>
            <p:nvPr/>
          </p:nvSpPr>
          <p:spPr>
            <a:xfrm rot="1717800">
              <a:off x="5790960" y="2895120"/>
              <a:ext cx="380880" cy="3049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rc 30"/>
            <p:cNvSpPr/>
            <p:nvPr/>
          </p:nvSpPr>
          <p:spPr>
            <a:xfrm flipV="1" rot="2520600">
              <a:off x="6629400" y="1980360"/>
              <a:ext cx="380880" cy="3049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31"/>
            <p:cNvSpPr/>
            <p:nvPr/>
          </p:nvSpPr>
          <p:spPr>
            <a:xfrm>
              <a:off x="701028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Arc 32"/>
            <p:cNvSpPr/>
            <p:nvPr/>
          </p:nvSpPr>
          <p:spPr>
            <a:xfrm flipH="1">
              <a:off x="6934320" y="2971800"/>
              <a:ext cx="380880" cy="30492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33"/>
          <p:cNvSpPr/>
          <p:nvPr/>
        </p:nvSpPr>
        <p:spPr>
          <a:xfrm>
            <a:off x="971640" y="5229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个结论跟公理和定理一样可以直接运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3"/>
          <p:cNvGrpSpPr/>
          <p:nvPr/>
        </p:nvGrpSpPr>
        <p:grpSpPr>
          <a:xfrm>
            <a:off x="468360" y="3860640"/>
            <a:ext cx="2971800" cy="1646280"/>
            <a:chOff x="468360" y="3860640"/>
            <a:chExt cx="2971800" cy="1646280"/>
          </a:xfrm>
        </p:grpSpPr>
        <p:sp>
          <p:nvSpPr>
            <p:cNvPr id="608" name="Rectangle 13"/>
            <p:cNvSpPr/>
            <p:nvPr/>
          </p:nvSpPr>
          <p:spPr>
            <a:xfrm>
              <a:off x="1915560" y="52322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32"/>
            <p:cNvSpPr/>
            <p:nvPr/>
          </p:nvSpPr>
          <p:spPr>
            <a:xfrm flipH="1">
              <a:off x="468360" y="3860640"/>
              <a:ext cx="2438640" cy="144792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3"/>
            <p:cNvSpPr/>
            <p:nvPr/>
          </p:nvSpPr>
          <p:spPr>
            <a:xfrm>
              <a:off x="2449800" y="4165560"/>
              <a:ext cx="457200" cy="114300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34"/>
            <p:cNvSpPr/>
            <p:nvPr/>
          </p:nvSpPr>
          <p:spPr>
            <a:xfrm flipH="1">
              <a:off x="468360" y="5308560"/>
              <a:ext cx="2438640" cy="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Arc 35"/>
            <p:cNvSpPr/>
            <p:nvPr/>
          </p:nvSpPr>
          <p:spPr>
            <a:xfrm>
              <a:off x="773280" y="5118120"/>
              <a:ext cx="228600" cy="190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rc 36"/>
            <p:cNvSpPr/>
            <p:nvPr/>
          </p:nvSpPr>
          <p:spPr>
            <a:xfrm flipH="1" rot="300000">
              <a:off x="2602800" y="5001840"/>
              <a:ext cx="150840" cy="29988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fill="none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</a:path>
                <a:path stroke="0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  <a:lnTo>
                    <a:pt x="0" y="212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38"/>
            <p:cNvSpPr/>
            <p:nvPr/>
          </p:nvSpPr>
          <p:spPr>
            <a:xfrm>
              <a:off x="1001880" y="49417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39"/>
            <p:cNvSpPr/>
            <p:nvPr/>
          </p:nvSpPr>
          <p:spPr>
            <a:xfrm>
              <a:off x="2678400" y="40892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40"/>
            <p:cNvSpPr/>
            <p:nvPr/>
          </p:nvSpPr>
          <p:spPr>
            <a:xfrm>
              <a:off x="2297160" y="49273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Arc 42"/>
            <p:cNvSpPr/>
            <p:nvPr/>
          </p:nvSpPr>
          <p:spPr>
            <a:xfrm flipV="1">
              <a:off x="2525760" y="4088520"/>
              <a:ext cx="76320" cy="22860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56"/>
          <p:cNvGrpSpPr/>
          <p:nvPr/>
        </p:nvGrpSpPr>
        <p:grpSpPr>
          <a:xfrm>
            <a:off x="468000" y="907920"/>
            <a:ext cx="2667240" cy="1987560"/>
            <a:chOff x="468000" y="907920"/>
            <a:chExt cx="2667240" cy="1987560"/>
          </a:xfrm>
        </p:grpSpPr>
        <p:sp>
          <p:nvSpPr>
            <p:cNvPr id="619" name="Line 45"/>
            <p:cNvSpPr/>
            <p:nvPr/>
          </p:nvSpPr>
          <p:spPr>
            <a:xfrm flipH="1">
              <a:off x="468000" y="907920"/>
              <a:ext cx="1625400" cy="198144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46"/>
            <p:cNvSpPr/>
            <p:nvPr/>
          </p:nvSpPr>
          <p:spPr>
            <a:xfrm>
              <a:off x="1306440" y="1060560"/>
              <a:ext cx="1828800" cy="182880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47"/>
            <p:cNvSpPr/>
            <p:nvPr/>
          </p:nvSpPr>
          <p:spPr>
            <a:xfrm flipH="1">
              <a:off x="468360" y="2889360"/>
              <a:ext cx="2666880" cy="0"/>
            </a:xfrm>
            <a:prstGeom prst="line">
              <a:avLst/>
            </a:prstGeom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rc 48"/>
            <p:cNvSpPr/>
            <p:nvPr/>
          </p:nvSpPr>
          <p:spPr>
            <a:xfrm>
              <a:off x="620640" y="2698920"/>
              <a:ext cx="228600" cy="190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fill="none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</a:path>
                <a:path stroke="0" w="21600" h="2695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407"/>
                    <a:pt x="21373" y="25207"/>
                    <a:pt x="20924" y="269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rc 49"/>
            <p:cNvSpPr/>
            <p:nvPr/>
          </p:nvSpPr>
          <p:spPr>
            <a:xfrm flipH="1" rot="300000">
              <a:off x="2602800" y="2582640"/>
              <a:ext cx="226800" cy="30312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0 h 303120"/>
                <a:gd name="textAreaBottom" fmla="*/ 303120 h 303120"/>
              </a:gdLst>
              <a:ahLst/>
              <a:rect l="textAreaLeft" t="textAreaTop" r="textAreaRight" b="textAreaBottom"/>
              <a:pathLst>
                <a:path fill="none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</a:path>
                <a:path stroke="0" w="21600" h="25616">
                  <a:moveTo>
                    <a:pt x="3822" y="0"/>
                  </a:moveTo>
                  <a:cubicBezTo>
                    <a:pt x="14112" y="1850"/>
                    <a:pt x="21600" y="10804"/>
                    <a:pt x="21600" y="21259"/>
                  </a:cubicBezTo>
                  <a:cubicBezTo>
                    <a:pt x="21600" y="22722"/>
                    <a:pt x="21451" y="24182"/>
                    <a:pt x="21156" y="25616"/>
                  </a:cubicBezTo>
                  <a:lnTo>
                    <a:pt x="0" y="212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51"/>
            <p:cNvSpPr/>
            <p:nvPr/>
          </p:nvSpPr>
          <p:spPr>
            <a:xfrm>
              <a:off x="696960" y="2446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52"/>
            <p:cNvSpPr/>
            <p:nvPr/>
          </p:nvSpPr>
          <p:spPr>
            <a:xfrm>
              <a:off x="2220840" y="252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53"/>
            <p:cNvSpPr/>
            <p:nvPr/>
          </p:nvSpPr>
          <p:spPr>
            <a:xfrm>
              <a:off x="1077840" y="130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Arc 55"/>
            <p:cNvSpPr/>
            <p:nvPr/>
          </p:nvSpPr>
          <p:spPr>
            <a:xfrm flipH="1" flipV="1" rot="2974200">
              <a:off x="1342440" y="1402560"/>
              <a:ext cx="381240" cy="306360"/>
            </a:xfrm>
            <a:custGeom>
              <a:avLst/>
              <a:gdLst>
                <a:gd name="textAreaLeft" fmla="*/ -360 w 381240"/>
                <a:gd name="textAreaRight" fmla="*/ 381240 w 381240"/>
                <a:gd name="textAreaTop" fmla="*/ -36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fill="none" w="21600" h="21621">
                  <a:moveTo>
                    <a:pt x="8882" y="0"/>
                  </a:moveTo>
                  <a:cubicBezTo>
                    <a:pt x="16623" y="3492"/>
                    <a:pt x="21600" y="11196"/>
                    <a:pt x="21600" y="19689"/>
                  </a:cubicBezTo>
                  <a:cubicBezTo>
                    <a:pt x="21600" y="20333"/>
                    <a:pt x="21571" y="20978"/>
                    <a:pt x="21513" y="21621"/>
                  </a:cubicBezTo>
                </a:path>
                <a:path stroke="0" w="21600" h="21621">
                  <a:moveTo>
                    <a:pt x="8882" y="0"/>
                  </a:moveTo>
                  <a:cubicBezTo>
                    <a:pt x="16623" y="3492"/>
                    <a:pt x="21600" y="11196"/>
                    <a:pt x="21600" y="19689"/>
                  </a:cubicBezTo>
                  <a:cubicBezTo>
                    <a:pt x="21600" y="20333"/>
                    <a:pt x="21571" y="20978"/>
                    <a:pt x="21513" y="21621"/>
                  </a:cubicBezTo>
                  <a:lnTo>
                    <a:pt x="0" y="1968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Text Box 62"/>
          <p:cNvSpPr/>
          <p:nvPr/>
        </p:nvSpPr>
        <p:spPr>
          <a:xfrm>
            <a:off x="4800600" y="2971800"/>
            <a:ext cx="228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4"/>
          <p:cNvSpPr/>
          <p:nvPr/>
        </p:nvSpPr>
        <p:spPr>
          <a:xfrm>
            <a:off x="468360" y="56610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=8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75"/>
          <p:cNvSpPr/>
          <p:nvPr/>
        </p:nvSpPr>
        <p:spPr>
          <a:xfrm>
            <a:off x="539640" y="299736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=9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80"/>
          <p:cNvSpPr/>
          <p:nvPr/>
        </p:nvSpPr>
        <p:spPr>
          <a:xfrm>
            <a:off x="1528560" y="16812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小试牛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Group 81"/>
          <p:cNvGrpSpPr/>
          <p:nvPr/>
        </p:nvGrpSpPr>
        <p:grpSpPr>
          <a:xfrm>
            <a:off x="3825000" y="1741320"/>
            <a:ext cx="5067720" cy="3211920"/>
            <a:chOff x="3825000" y="1741320"/>
            <a:chExt cx="5067720" cy="3211920"/>
          </a:xfrm>
        </p:grpSpPr>
        <p:sp>
          <p:nvSpPr>
            <p:cNvPr id="633" name="Text Box 82"/>
            <p:cNvSpPr/>
            <p:nvPr/>
          </p:nvSpPr>
          <p:spPr>
            <a:xfrm rot="1266000">
              <a:off x="3900960" y="3704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Group 83"/>
            <p:cNvGrpSpPr/>
            <p:nvPr/>
          </p:nvGrpSpPr>
          <p:grpSpPr>
            <a:xfrm>
              <a:off x="4349520" y="1741320"/>
              <a:ext cx="4543200" cy="3211920"/>
              <a:chOff x="4349520" y="1741320"/>
              <a:chExt cx="4543200" cy="3211920"/>
            </a:xfrm>
          </p:grpSpPr>
          <p:grpSp>
            <p:nvGrpSpPr>
              <p:cNvPr id="635" name="Group 84"/>
              <p:cNvGrpSpPr/>
              <p:nvPr/>
            </p:nvGrpSpPr>
            <p:grpSpPr>
              <a:xfrm>
                <a:off x="4349520" y="2277000"/>
                <a:ext cx="3970800" cy="2213280"/>
                <a:chOff x="4349520" y="2277000"/>
                <a:chExt cx="3970800" cy="2213280"/>
              </a:xfrm>
            </p:grpSpPr>
            <p:sp>
              <p:nvSpPr>
                <p:cNvPr id="636" name="Rectangle 85"/>
                <p:cNvSpPr/>
                <p:nvPr/>
              </p:nvSpPr>
              <p:spPr>
                <a:xfrm rot="1209600">
                  <a:off x="5467680" y="3548880"/>
                  <a:ext cx="58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Line 86"/>
                <p:cNvSpPr/>
                <p:nvPr/>
              </p:nvSpPr>
              <p:spPr>
                <a:xfrm flipH="1">
                  <a:off x="4349520" y="2277000"/>
                  <a:ext cx="3117960" cy="153360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87"/>
                <p:cNvSpPr/>
                <p:nvPr/>
              </p:nvSpPr>
              <p:spPr>
                <a:xfrm>
                  <a:off x="7467480" y="2277000"/>
                  <a:ext cx="837720" cy="220860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88"/>
                <p:cNvSpPr/>
                <p:nvPr/>
              </p:nvSpPr>
              <p:spPr>
                <a:xfrm flipH="1" flipV="1">
                  <a:off x="6159600" y="2919600"/>
                  <a:ext cx="2160720" cy="157068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Arc 89"/>
                <p:cNvSpPr/>
                <p:nvPr/>
              </p:nvSpPr>
              <p:spPr>
                <a:xfrm rot="10360800">
                  <a:off x="7299360" y="2382840"/>
                  <a:ext cx="231840" cy="20268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fill="none" w="21600" h="26959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3407"/>
                        <a:pt x="21373" y="25207"/>
                        <a:pt x="20924" y="26958"/>
                      </a:cubicBezTo>
                    </a:path>
                    <a:path stroke="0" w="21600" h="26959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3407"/>
                        <a:pt x="21373" y="25207"/>
                        <a:pt x="20924" y="26958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Arc 90"/>
                <p:cNvSpPr/>
                <p:nvPr/>
              </p:nvSpPr>
              <p:spPr>
                <a:xfrm flipH="1" flipV="1" rot="17110200">
                  <a:off x="6021720" y="2881800"/>
                  <a:ext cx="160560" cy="304560"/>
                </a:xfrm>
                <a:custGeom>
                  <a:avLst/>
                  <a:gdLst>
                    <a:gd name="textAreaLeft" fmla="*/ 360 w 160560"/>
                    <a:gd name="textAreaRight" fmla="*/ 161280 w 1605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fill="none" w="21600" h="25616">
                      <a:moveTo>
                        <a:pt x="3822" y="0"/>
                      </a:moveTo>
                      <a:cubicBezTo>
                        <a:pt x="14112" y="1850"/>
                        <a:pt x="21600" y="10804"/>
                        <a:pt x="21600" y="21259"/>
                      </a:cubicBezTo>
                      <a:cubicBezTo>
                        <a:pt x="21600" y="22722"/>
                        <a:pt x="21451" y="24182"/>
                        <a:pt x="21156" y="25616"/>
                      </a:cubicBezTo>
                    </a:path>
                    <a:path stroke="0" w="21600" h="25616">
                      <a:moveTo>
                        <a:pt x="3822" y="0"/>
                      </a:moveTo>
                      <a:cubicBezTo>
                        <a:pt x="14112" y="1850"/>
                        <a:pt x="21600" y="10804"/>
                        <a:pt x="21600" y="21259"/>
                      </a:cubicBezTo>
                      <a:cubicBezTo>
                        <a:pt x="21600" y="22722"/>
                        <a:pt x="21451" y="24182"/>
                        <a:pt x="21156" y="25616"/>
                      </a:cubicBezTo>
                      <a:lnTo>
                        <a:pt x="0" y="21259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Rectangle 91"/>
                <p:cNvSpPr/>
                <p:nvPr/>
              </p:nvSpPr>
              <p:spPr>
                <a:xfrm rot="1209600">
                  <a:off x="7157520" y="2521080"/>
                  <a:ext cx="386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92"/>
                <p:cNvSpPr/>
                <p:nvPr/>
              </p:nvSpPr>
              <p:spPr>
                <a:xfrm flipH="1">
                  <a:off x="4349520" y="3650760"/>
                  <a:ext cx="2860560" cy="15984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Rectangle 93"/>
                <p:cNvSpPr/>
                <p:nvPr/>
              </p:nvSpPr>
              <p:spPr>
                <a:xfrm rot="1209600">
                  <a:off x="5978520" y="3038400"/>
                  <a:ext cx="386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Arc 94"/>
                <p:cNvSpPr/>
                <p:nvPr/>
              </p:nvSpPr>
              <p:spPr>
                <a:xfrm flipH="1" flipV="1" rot="18201600">
                  <a:off x="7032240" y="3547800"/>
                  <a:ext cx="160560" cy="303840"/>
                </a:xfrm>
                <a:custGeom>
                  <a:avLst/>
                  <a:gdLst>
                    <a:gd name="textAreaLeft" fmla="*/ 360 w 160560"/>
                    <a:gd name="textAreaRight" fmla="*/ 161280 w 160560"/>
                    <a:gd name="textAreaTop" fmla="*/ 360 h 303840"/>
                    <a:gd name="textAreaBottom" fmla="*/ 304560 h 303840"/>
                  </a:gdLst>
                  <a:ahLst/>
                  <a:rect l="textAreaLeft" t="textAreaTop" r="textAreaRight" b="textAreaBottom"/>
                  <a:pathLst>
                    <a:path fill="none" w="21600" h="25616">
                      <a:moveTo>
                        <a:pt x="3822" y="0"/>
                      </a:moveTo>
                      <a:cubicBezTo>
                        <a:pt x="14112" y="1850"/>
                        <a:pt x="21600" y="10804"/>
                        <a:pt x="21600" y="21259"/>
                      </a:cubicBezTo>
                      <a:cubicBezTo>
                        <a:pt x="21600" y="22722"/>
                        <a:pt x="21451" y="24182"/>
                        <a:pt x="21156" y="25616"/>
                      </a:cubicBezTo>
                    </a:path>
                    <a:path stroke="0" w="21600" h="25616">
                      <a:moveTo>
                        <a:pt x="3822" y="0"/>
                      </a:moveTo>
                      <a:cubicBezTo>
                        <a:pt x="14112" y="1850"/>
                        <a:pt x="21600" y="10804"/>
                        <a:pt x="21600" y="21259"/>
                      </a:cubicBezTo>
                      <a:cubicBezTo>
                        <a:pt x="21600" y="22722"/>
                        <a:pt x="21451" y="24182"/>
                        <a:pt x="21156" y="25616"/>
                      </a:cubicBezTo>
                      <a:lnTo>
                        <a:pt x="0" y="21259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Rectangle 95"/>
                <p:cNvSpPr/>
                <p:nvPr/>
              </p:nvSpPr>
              <p:spPr>
                <a:xfrm rot="1209600">
                  <a:off x="6883560" y="3717000"/>
                  <a:ext cx="387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Text Box 96"/>
              <p:cNvSpPr/>
              <p:nvPr/>
            </p:nvSpPr>
            <p:spPr>
              <a:xfrm rot="1266000">
                <a:off x="7219440" y="18198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97"/>
              <p:cNvSpPr/>
              <p:nvPr/>
            </p:nvSpPr>
            <p:spPr>
              <a:xfrm rot="1266000">
                <a:off x="8283240" y="435384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98"/>
              <p:cNvSpPr/>
              <p:nvPr/>
            </p:nvSpPr>
            <p:spPr>
              <a:xfrm rot="1266000">
                <a:off x="5837040" y="244440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Text Box 99"/>
              <p:cNvSpPr/>
              <p:nvPr/>
            </p:nvSpPr>
            <p:spPr>
              <a:xfrm rot="1266000">
                <a:off x="7080840" y="3236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Text Box 100"/>
          <p:cNvSpPr/>
          <p:nvPr/>
        </p:nvSpPr>
        <p:spPr>
          <a:xfrm>
            <a:off x="4572000" y="620640"/>
            <a:ext cx="518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图中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按由大到小的顺序排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01"/>
          <p:cNvSpPr/>
          <p:nvPr/>
        </p:nvSpPr>
        <p:spPr>
          <a:xfrm>
            <a:off x="328320" y="981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02"/>
          <p:cNvSpPr/>
          <p:nvPr/>
        </p:nvSpPr>
        <p:spPr>
          <a:xfrm>
            <a:off x="5170320" y="4941720"/>
            <a:ext cx="26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＞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1:38:41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7:21Z</dcterms:modified>
  <cp:revision>8</cp:revision>
  <dc:subject>www.12999.com</dc:subject>
  <dc:title>www.12999.com</dc:title>
</cp:coreProperties>
</file>