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393-1679-4695-A3A5-0B104338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6F2-5944-4B1C-A8E9-CB0F0046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FDF4E-8D90-4313-AB4F-29DF7808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B662-0D5E-45EF-A9D9-D722005A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5579E-E0E6-4201-9AA9-0318908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72565-2AFA-41CE-8AD8-AFD8A84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039C1-6F5C-441E-893F-69BEEDD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AECBE-3446-4AF4-B739-5C93F4E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A22C8-DBD2-4B3A-953A-9A55752F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84BBD-E6C8-41B6-B842-E1BE9B43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11409-2B23-4B5B-AF53-E556B692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FB60D-F97E-43C4-9147-7A56289B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35D-4028-4E13-BEE3-567F0083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B04E6-1627-46F5-B405-FFF64C3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7D8A7-B5E0-4DE0-B87F-28BF5014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91B3D-EC09-4E4B-AEF6-78EC90B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52879-014D-40DB-BF90-A36C6F6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8A4D1-5ABD-44FB-9C97-EB7677A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E04FC-E425-4979-8E8F-4EE1280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B50FA-A2C7-428F-B69C-25186A8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2B6FF-68EF-4EA1-B0F0-64EB462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CCB77-606F-4E0C-B669-525F4F87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5BA0C-8CA6-4F12-8719-02A323F4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106-3AB6-4B0A-8B72-577E30A9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5E8FD-18DF-41B8-9A5F-1333B5B5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A8E8-DFDB-488F-9B3F-C2DF9F24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CB481-FCE2-4332-BEBD-6588E631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C210-E8EA-4903-B452-7CE42E0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017B9-C561-41CF-A621-5AE9717C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E26A8-53A8-48FC-A951-BFFC66A4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EDD4-5D71-4013-975E-0431EE5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25E21-B9CB-4554-B255-1FFD02C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8AF23-42D8-4713-9AB4-A1C30662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02A51-A713-44AD-944A-DB2D9BB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F4CB-2E8A-460D-BAF1-8CB516A9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DC1F-7D2E-4FBF-B93B-24A05206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3110-0D4F-47FD-8E9C-C7D87382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3F1B9-71ED-4A43-B486-581F8069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BED5F-A001-4BC1-95A5-59D1D119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646C0-21D6-4CEC-87E3-BAD3EFAD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9D854-07CD-4539-9797-C1258CE6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73F05-A03E-4409-B5A0-24127398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2DAA8-871B-4155-8B11-876AB59C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87CB1-33ED-42CA-8C60-B231A5CB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F66DC-0F22-4690-B4BC-3C58D68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2A88-A2E6-429D-A5D6-C624846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91F10-5DC5-4107-AE48-6F8CACA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C44DE-1F09-4DF4-BADD-0A72F012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98914-EDF4-439C-BAAE-01D9B8D5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D7424-E6B7-4CA2-A427-5EFF8CE7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413A6-09E1-4F29-BD56-FC41ADF4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56527-7149-4AFE-B934-3BF94DC9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F9D61-B8AD-4FEB-B211-09FD1B66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80CEF-7AF9-47A0-9ADE-19D3BD7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35B82-A357-494B-9293-A9A54CA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85B95-45DA-40B9-A9A3-844261F0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CF2F-1FEF-4B20-B009-343E1C0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F2315-18B5-4286-8E8B-42DEC9B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D874E-E42A-4319-91BC-5BF5FDE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6879E-709E-4CBA-900C-FBCC1BE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229FB-D0FC-497B-B301-C488B20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479BA-CFFC-49C1-9D0B-A1A1FF82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64F69-BAAB-4D3C-A4D6-FF1A7B74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138CC-44C3-4EE9-8A74-67AE1FDC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3EE5-BA3E-4849-9F20-E88A125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DBA2-6248-4450-9D8C-4C9ACC9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C5FC-D4BB-4520-BA7E-66510844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F066-7C2D-48CE-9E77-CF57F6B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34E-42F7-43F2-9F8F-16BEF66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BC6-951E-4AE2-8025-90B48715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9186-A908-4791-A97A-65DC968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EC40-8AFF-46B3-A55D-AC685183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F821-9AA1-4067-B463-ACC6909B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6E67-33E4-4333-9497-FF30CC84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9987-7F02-4A84-9D0E-6A94178B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83A8-DE8F-4346-BABE-07B1E15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029D-18A5-4E87-90A6-78EE600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C47E-B5AD-4A2D-86FC-DFB08CCC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0736-C745-4F39-9FC1-AF020675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611-D5D0-446E-AD2D-F2618229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ED40-87BE-449D-B8A4-D92FB2F2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7E4C-2285-416F-8D85-F01C18E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E115-2CB9-4897-B15F-2BF00CF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9185-6A0B-4AE7-A211-14420BF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F679-BE98-44EB-A580-CAE03DAF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A147-0FF2-4EB5-83CF-DB767C36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52EE-4BDE-408B-830A-5509C51E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B628-175D-4254-BD1D-54A1341E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97A5-D282-4F24-B1D7-5E1E9FE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815B-C76B-4AE3-AE13-F6D9348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11E-FF84-4D9F-8C2D-65DBEBB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C306-16E4-493E-B678-B4BB90A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601D-921C-4C76-A0D4-41228E3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F13A-5583-4736-9C79-8AAFB77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62A0-1654-4A7E-8F0F-65F3799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2A8C-216B-4760-B300-35D2F10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1419-DBCD-4342-AA78-CBDE365B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79F9-A3FB-448F-B1B7-5535004A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A074-D816-4AD7-87EF-6A711942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9FB4-B39B-4659-917F-BA4ED4EF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8020-9FAB-463D-8DCB-FE95C8A9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4CE-DDA6-4683-BE40-9D42B40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04E98-2494-4D56-8135-49AF491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CFB5-66B1-4D56-94B9-F6AC077C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FD790-D446-41A8-BE6C-8E0D1057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C8CE-F472-403E-B303-D7D7B57F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C41F5-2824-4208-B55F-07327842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AD419-94B4-40E0-8B53-4FF11FC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272D-4653-42C7-AAA8-95E2FD3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BBBA-7EEF-4545-B32E-DE91433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CBEC-C674-4B9F-94F4-422735D9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2282-B229-43B2-85C0-BDD3A08B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4A1-B270-4EEE-B9A4-8AA4966F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79DC9-CBD9-4EA2-B77C-0E2197A4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C754-6B0C-4FDC-832B-8F547B98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AE15-5B81-4DF2-8A50-89EB04E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CF974-1917-4B83-BBD6-C9389C4B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2F9E-2AF4-45F2-AFB6-EF4CBFC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965F8-F953-4E6B-965E-B71E06AF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3188-865B-439F-BA41-DFB5AA1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6C08-3A7D-45FE-89BD-5A1BF6D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B967-CF78-450C-8E8B-04660EB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6C8A-E7AE-49E4-A109-A06FEA6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67F-A2F1-4069-95CE-A3174A9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2E1C-2572-49B6-848C-A1FB65C8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06AF-60D4-49ED-8F1E-ADD3D6B3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8260C-AC0C-420E-BD49-D87053FA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FC62-EF4E-4C79-A868-EA70A4B7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64338-6A8D-417B-B9B0-A24C103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2A48-DEBA-4094-9FBC-3F55FC4B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97A4-42F9-43AD-97EF-8EA7188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020A-D0C8-4953-9330-99E8A5CE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B66E1-8DC6-4F1C-9E00-CA138A1C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63AA-F52F-4484-9746-4FBAAEE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80A-97DD-4607-990A-0C23C8D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2CF4-CFF9-4980-8FE5-3FA9517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DD5B7-EEF4-4BBE-8102-0199F0F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1DFEB-B448-4AA8-B07D-07AAA07C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0B4C-F437-4D00-993B-B8AF1F36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E936C-C36A-4264-8CC4-B4C8D402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222E3-3F95-477B-9316-3D8DF315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562E9-0723-49D6-A778-51C820A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F72E6-38B9-40FE-AEAB-E4369CD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61CC-BFFC-4801-97C8-EE0CD5BF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76597-DD97-4592-A13C-F722123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E6D-02D1-4FDD-BEEC-3500F90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311C4-77A6-4D52-AE33-D5221185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239AB-B75F-4F43-BE1E-1A45B8BD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F6709-FEEC-46D5-BB1A-F2D1FF2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B1936-038D-4CBD-97F4-8B985E6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AD24B-AF9D-42C9-B285-D545D0D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4A3D-28F1-466F-BFCA-22643C6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01D0-C6A6-430B-BC7A-85CD44D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226E7-4E9F-4254-A0D2-88F5167D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820A3-E3DC-4F28-9DA3-A7171A1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6797A-40E4-464B-82C4-F5795E5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ED86-2069-4438-B3A0-A18B7519F2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BF8-8FC5-4815-9482-1344BF6B56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E37-257D-4B86-A340-3F360FA48C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E4CB-1C78-4DDA-86B9-B486FC0E1D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C631-9242-435E-A1A4-69A84F590A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087-801C-40D1-8720-732ABCE649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746-77DA-4DF2-AAC5-7A9DE2B2ED9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6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6A0-18D3-40DB-A958-1499CDC673A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CD6B-B2DA-468F-B54C-0DCB7B17B3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2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94B-AC89-49E2-A6F1-381828DC24E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92A7-1C81-47E3-9CD0-B9941838EA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ABF-1EED-4E0F-B1AD-C998C10B72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47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5AB-3836-4B47-8581-B44650BA92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7920" y="25909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e3b30"/>
                </a:solidFill>
                <a:latin typeface="Arial"/>
                <a:ea typeface="宋体"/>
              </a:rPr>
              <a:t>三角形的内角</a:t>
            </a:r>
            <a:r>
              <a:rPr b="0" lang="zh-CN" sz="4400" spc="-1" strike="noStrike">
                <a:solidFill>
                  <a:srgbClr val="4e3b3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1330560" y="1843560"/>
            <a:ext cx="7157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5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0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4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岛的视角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e3b30"/>
                </a:solidFill>
                <a:latin typeface="Arial"/>
                <a:ea typeface="宋体"/>
              </a:rPr>
              <a:t>活动</a:t>
            </a:r>
            <a:r>
              <a:rPr b="1" lang="en-US" sz="3800" spc="-1" strike="noStrike">
                <a:solidFill>
                  <a:srgbClr val="4e3b30"/>
                </a:solidFill>
                <a:latin typeface="Arial"/>
                <a:ea typeface="宋体"/>
              </a:rPr>
              <a:t>4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1778760" y="1828800"/>
            <a:ext cx="61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平分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请你探索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量关系．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39092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5"/>
          <p:cNvSpPr/>
          <p:nvPr/>
        </p:nvSpPr>
        <p:spPr>
          <a:xfrm>
            <a:off x="1382040" y="2056320"/>
            <a:ext cx="6251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〕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有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有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1+∠2=1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平分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∠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∠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.5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e3b30"/>
                </a:solidFill>
                <a:latin typeface="Arial"/>
                <a:ea typeface="宋体"/>
              </a:rPr>
              <a:t>问题</a:t>
            </a:r>
            <a:r>
              <a:rPr b="1" lang="en-US" sz="3800" spc="-1" strike="noStrike">
                <a:solidFill>
                  <a:srgbClr val="4e3b30"/>
                </a:solidFill>
                <a:latin typeface="Arial"/>
                <a:ea typeface="宋体"/>
              </a:rPr>
              <a:t>2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3618000" y="98964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小结与作业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1615320" y="2362680"/>
            <a:ext cx="594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本节课的学习，你在知识上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收获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通过什么方法学习了这些知识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：习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2340000" y="990720"/>
            <a:ext cx="475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</a:rPr>
              <a:t>活动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380880" y="152388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橡皮筋构成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顶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定点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动点（如图），放松橡皮筋后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自动收缩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上，请同学们考察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变化时所形成的一系列的三角形：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内角会产生怎样的变化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Rectangle 29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Rectangle 32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61" name="Object 31"/>
          <p:cNvGraphicFramePr/>
          <p:nvPr/>
        </p:nvGraphicFramePr>
        <p:xfrm>
          <a:off x="1676520" y="4875120"/>
          <a:ext cx="533376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875120"/>
                    <a:ext cx="533376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5"/>
          <p:cNvSpPr/>
          <p:nvPr/>
        </p:nvSpPr>
        <p:spPr>
          <a:xfrm>
            <a:off x="1447920" y="24850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当点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远离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越来越趋近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°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逐渐趋向平行，这时，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逐渐接近为互补的同旁内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即     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→180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2362320" y="1295280"/>
            <a:ext cx="47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</a:rPr>
              <a:t>活动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1305720" y="1523160"/>
            <a:ext cx="6298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将纸片上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个内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角剪下，随意将它们拼合在一起，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几种拼合方法，经过拼合你能发现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？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6" name="Rectangle 6" descr=""/>
          <p:cNvPicPr/>
          <p:nvPr/>
        </p:nvPicPr>
        <p:blipFill>
          <a:blip r:embed="rId1"/>
          <a:stretch/>
        </p:blipFill>
        <p:spPr>
          <a:xfrm>
            <a:off x="255600" y="682560"/>
            <a:ext cx="8437680" cy="1359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2819160" cy="2330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13"/>
          <p:cNvSpPr/>
          <p:nvPr/>
        </p:nvSpPr>
        <p:spPr>
          <a:xfrm>
            <a:off x="5840640" y="51048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（课件：三角形的内角和之方法二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2226960" y="1980360"/>
            <a:ext cx="530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三个内角和的确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 .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e3b30"/>
                </a:solidFill>
                <a:latin typeface="Arial"/>
                <a:ea typeface="宋体"/>
              </a:rPr>
              <a:t>活动</a:t>
            </a:r>
            <a:r>
              <a:rPr b="1" lang="en-US" sz="3800" spc="-1" strike="noStrike">
                <a:solidFill>
                  <a:srgbClr val="4e3b30"/>
                </a:solidFill>
                <a:latin typeface="Arial"/>
                <a:ea typeface="宋体"/>
              </a:rPr>
              <a:t>2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255600" y="682560"/>
            <a:ext cx="8437680" cy="135900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5"/>
          <p:cNvSpPr/>
          <p:nvPr/>
        </p:nvSpPr>
        <p:spPr>
          <a:xfrm>
            <a:off x="2281320" y="1904400"/>
            <a:ext cx="486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说明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180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．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3" name="Picture 10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3810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533520" y="1294200"/>
            <a:ext cx="641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方案一：过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射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则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C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C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e3b30"/>
                </a:solidFill>
                <a:latin typeface="Arial"/>
                <a:ea typeface="宋体"/>
              </a:rPr>
              <a:t>活动</a:t>
            </a:r>
            <a:r>
              <a:rPr b="1" lang="en-US" sz="3800" spc="-1" strike="noStrike">
                <a:solidFill>
                  <a:srgbClr val="4e3b30"/>
                </a:solidFill>
                <a:latin typeface="Arial"/>
                <a:ea typeface="宋体"/>
              </a:rPr>
              <a:t>3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76" name="Object 6"/>
          <p:cNvGraphicFramePr/>
          <p:nvPr/>
        </p:nvGraphicFramePr>
        <p:xfrm>
          <a:off x="4495680" y="4313160"/>
          <a:ext cx="46483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313160"/>
                    <a:ext cx="46483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案二：如图，过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∴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∵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80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∴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80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e3b30"/>
                </a:solidFill>
                <a:latin typeface="Arial"/>
                <a:ea typeface="宋体"/>
              </a:rPr>
              <a:t>活动</a:t>
            </a:r>
            <a:r>
              <a:rPr b="1" lang="en-US" sz="3800" spc="-1" strike="noStrike">
                <a:solidFill>
                  <a:srgbClr val="4e3b30"/>
                </a:solidFill>
                <a:latin typeface="Arial"/>
                <a:ea typeface="宋体"/>
              </a:rPr>
              <a:t>3</a:t>
            </a:r>
            <a:endParaRPr b="1" lang="en-US" sz="3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81" name="Object 5"/>
          <p:cNvGraphicFramePr/>
          <p:nvPr/>
        </p:nvGraphicFramePr>
        <p:xfrm>
          <a:off x="5562720" y="2514600"/>
          <a:ext cx="304776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514600"/>
                    <a:ext cx="304776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255600" y="755640"/>
            <a:ext cx="8437680" cy="135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5"/>
          <p:cNvSpPr/>
          <p:nvPr/>
        </p:nvSpPr>
        <p:spPr>
          <a:xfrm>
            <a:off x="457200" y="1995120"/>
            <a:ext cx="785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如图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的北偏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向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的北偏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向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的北偏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．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岛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岛的视角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多少度？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5" name="Picture 49" descr=""/>
          <p:cNvPicPr/>
          <p:nvPr/>
        </p:nvPicPr>
        <p:blipFill>
          <a:blip r:embed="rId2"/>
          <a:stretch/>
        </p:blipFill>
        <p:spPr>
          <a:xfrm>
            <a:off x="2590920" y="365760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6:50Z</dcterms:modified>
  <cp:revision>134</cp:revision>
  <dc:subject>www.12999.com</dc:subject>
  <dc:title>www.12999.com</dc:title>
</cp:coreProperties>
</file>