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camera.wav" ContentType="audio/x-wav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59D-BA29-4818-88E0-FDC7D329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EC3-074C-43CE-869E-86C2EDD4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9E5E2-6976-4844-8D2C-494DC39A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4B4B8-EF99-4E29-B16B-4CFBAE0E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61F4E-134B-4A38-AAB1-98B63EB3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9E1F8-05DB-4AEE-A953-11CA2F99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D596F-6960-42A0-9BCF-B9F26E0F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74E02-9977-43B0-88C1-BB3B44CD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DA40E-9C77-4F4B-8DA8-B6CA72DE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B1B9C-E710-4975-9F96-5CE424B5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AEEB6-661F-4ACA-A227-BF71DF53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6A5-3845-4210-B296-F03BE619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390-CC60-4560-9AE0-FC2D68F9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FB1D-250C-4A74-B5D6-F99F88DD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8729-630F-43BA-B79A-0431688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DBCB-A924-4BDD-B432-018BE4A4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107B-EF87-48FA-B86A-823F3987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5DE-8ECA-472A-BC93-296EAD60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FBB9-C836-4569-BE9D-F5DE46EE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D878-DB90-403D-B048-8522A4A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6FB-D50C-4F88-A021-C14B14CA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C80D-C534-4882-897A-0A15F5A2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DCD-C9FB-43CB-ABF3-D8A4CF26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CBA5-6A08-4CD6-AEDC-653A3220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CCFF-85B0-4302-A42D-59085BF9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0180-7A90-4E30-B2A3-51497A9C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271D-9562-410B-8225-A07D6ADC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859B-007C-4C7C-B8F5-58E38A50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4242-D66A-42F7-9B38-1C052899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1E98-4F2C-4401-82DC-65A5C565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0EBB-0FF0-44E6-A6C1-926D724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BEE-A720-4DEB-8D74-A4788589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972A4-FAF3-4897-979C-0D0FBF8B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1BDDA-7558-4182-9C0A-A9314B78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48EF-8B56-463E-A890-88957F4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350C-9465-4240-880F-3943526C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AFCD-A423-4449-A1D2-EFE61619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5D7D-EABA-42A8-B27D-69A2196F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E3DA-AA63-4734-904A-D3C106EC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9E3B-6868-4530-BF14-2F43B187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0BE0-8126-4F3F-99D4-FC14622D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41D8-9ECB-4A00-921A-A0B0F026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20A-6C6D-4D09-A48F-A07F6C49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8E0E-DA9E-4A69-89F2-4E44932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0E80-8D56-4E86-A6EF-3652126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0E44-E43B-4B57-9677-CDCA8917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01A24-FB61-479E-96EA-E7738B9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CC76-86CF-4E56-B2DD-E3A7D10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3BF7-0B36-4EB1-BD2D-9D3B09EC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3918-2119-4E7A-9981-AC2A3D1B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3CED-8DEA-47B6-AC41-DB198FE5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A6687-228B-4FCB-8DD2-F646CFA2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2C729-B837-4BBD-81DE-7CA1C7DC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42B-4F44-4325-99B0-B3695141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9E28-908A-4296-AA47-A79CF38E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9AE4-778D-43F0-A759-53609A04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371BE-A079-4B13-869F-2BBF3D3F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82FEE-DBE5-4441-99DA-13D23967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B4F5-2F07-4D7D-AB78-E4995D81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3D2B9-3A9A-4B55-8A12-606F77C3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FEFB-563B-401D-9EC0-E8A46136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D8BD0-1030-434B-9894-8531B8D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C27A-36FA-402C-8C8D-B436BB30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21545-1C28-462A-A039-D99D53FB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155-7027-4ADC-B4B6-9636457B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B3D6-D71A-42E9-8D47-CA15685D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4E64-208B-4A6A-BFC3-98613A3D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26854-B212-4CFA-A1F3-A10B3523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5FA7F-9322-4217-8C82-DD621CBF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6B9BC-BA9C-4ECF-84AD-5FDA3499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01F0F-C3FE-4C9A-A44F-4FA94D6F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13CD2-EB43-4E6E-AAA0-CFE13F9E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4B36B-54D1-4F1D-BE92-A2026EE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353F2-8185-432F-AE74-312DA47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22027-DA94-4215-AD5E-30F143CD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E8E-1E9A-4820-9DAA-D294B43B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FB7DA-FB16-4131-8B13-EAD0AD0B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3572-CD33-4B74-952B-4F06AC6A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5FC34-6489-405F-AAEE-87D20AEE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CB504-DE9F-4532-BEE1-9770E2F1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30D83-51EB-4EB2-8623-97092B5F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5E5FA-BD23-40ED-87EF-9B0BB71A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B130-D18C-46C8-AE59-3E7ECF03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72418-298C-4FFB-A8A3-9FD9EDAC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06B14-74F1-4776-AE5E-1E69DB61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854EF-618B-42A4-86EA-748F43C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F50-0457-420E-B67E-013550B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57B3-D50C-418F-AA13-60E0CE7F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A46F-E5F3-42AA-8077-C7E13E01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ECB63-0557-4B61-89D3-0FE4F0B6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75B1D-D36E-4A10-AEC7-792B6B33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03BBB-A292-484A-9536-C5B9CD78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11700-174A-406F-8EF6-90744846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E5225-8740-4E41-8DE5-260F804A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44963-4701-4819-89B8-E9806D0E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EE7F0-A907-4DA5-A8BE-061427C5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98420-2A94-4722-BEEB-6691336B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1DA-A526-481B-9BF3-77B5942D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D55AE-DF98-4ADE-9A1F-85F497BD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F3D1D-AC58-4017-BA78-AACFA982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CBDF-A480-4B3C-B9C2-A4C48D8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0D580-3277-4EC6-B52D-F8F71EBD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88A70-64DF-4A81-9DAC-873D8421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06FB9-163E-4068-83EE-59FD9922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AD888-1391-48DB-A6B0-B4D9E7E2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F10C7-E946-4A95-9B6D-E86A2BB3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643E5-CE5D-4968-910A-5834FA45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50837-068F-4780-BF7F-6E4C75F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AB27-3E3C-4E5A-BC09-DFF9EB6A70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A563-E432-4BC2-9C08-90B6518740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5D39-6F98-4595-B311-D5E235C512C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86FF-DC34-4B4A-85A9-0C160D3B4D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F01D-0A2E-4811-A72C-797475EC3A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AB1D-B13E-4797-96EF-2075175DCC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5129-9D92-461C-BFEA-CEE791DC73D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2AE3-9A12-48D4-912C-AE76164C283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C8F9-6D08-456D-971E-DC6D8086917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5"/>
          <p:cNvSpPr txBox="1"/>
          <p:nvPr/>
        </p:nvSpPr>
        <p:spPr>
          <a:xfrm>
            <a:off x="900000" y="126828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三角形的外角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3"/>
          <p:cNvSpPr/>
          <p:nvPr/>
        </p:nvSpPr>
        <p:spPr>
          <a:xfrm>
            <a:off x="179280" y="2602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图中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 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 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按由大到小的顺序排列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194640" y="2317680"/>
            <a:ext cx="5067720" cy="3211920"/>
            <a:chOff x="3194640" y="2317680"/>
            <a:chExt cx="5067720" cy="3211920"/>
          </a:xfrm>
        </p:grpSpPr>
        <p:sp>
          <p:nvSpPr>
            <p:cNvPr id="638" name="Text Box 5"/>
            <p:cNvSpPr/>
            <p:nvPr/>
          </p:nvSpPr>
          <p:spPr>
            <a:xfrm rot="1266000">
              <a:off x="3270600" y="42807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39" name="Group 6"/>
            <p:cNvGrpSpPr/>
            <p:nvPr/>
          </p:nvGrpSpPr>
          <p:grpSpPr>
            <a:xfrm>
              <a:off x="3719160" y="2317680"/>
              <a:ext cx="4543200" cy="3211920"/>
              <a:chOff x="3719160" y="2317680"/>
              <a:chExt cx="4543200" cy="3211920"/>
            </a:xfrm>
          </p:grpSpPr>
          <p:grpSp>
            <p:nvGrpSpPr>
              <p:cNvPr id="640" name="Group 7"/>
              <p:cNvGrpSpPr/>
              <p:nvPr/>
            </p:nvGrpSpPr>
            <p:grpSpPr>
              <a:xfrm>
                <a:off x="3719160" y="2853360"/>
                <a:ext cx="3970800" cy="2213280"/>
                <a:chOff x="3719160" y="2853360"/>
                <a:chExt cx="3970800" cy="2213280"/>
              </a:xfrm>
            </p:grpSpPr>
            <p:sp>
              <p:nvSpPr>
                <p:cNvPr id="641" name="Rectangle 8"/>
                <p:cNvSpPr/>
                <p:nvPr/>
              </p:nvSpPr>
              <p:spPr>
                <a:xfrm rot="1209600">
                  <a:off x="4837320" y="4125240"/>
                  <a:ext cx="58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9"/>
                <p:cNvSpPr/>
                <p:nvPr/>
              </p:nvSpPr>
              <p:spPr>
                <a:xfrm flipH="1">
                  <a:off x="3719160" y="2853360"/>
                  <a:ext cx="3117960" cy="153360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0"/>
                <p:cNvSpPr/>
                <p:nvPr/>
              </p:nvSpPr>
              <p:spPr>
                <a:xfrm>
                  <a:off x="6837120" y="2853360"/>
                  <a:ext cx="837720" cy="220860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"/>
                <p:cNvSpPr/>
                <p:nvPr/>
              </p:nvSpPr>
              <p:spPr>
                <a:xfrm flipH="1" flipV="1">
                  <a:off x="5529240" y="3495960"/>
                  <a:ext cx="2160720" cy="157068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45" name="Arc 12"/>
                <p:cNvSpPr/>
                <p:nvPr/>
              </p:nvSpPr>
              <p:spPr>
                <a:xfrm rot="10360800">
                  <a:off x="6669000" y="2959200"/>
                  <a:ext cx="231840" cy="20268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fill="none" w="21600" h="26959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3407"/>
                        <a:pt x="21373" y="25207"/>
                        <a:pt x="20924" y="26958"/>
                      </a:cubicBezTo>
                    </a:path>
                    <a:path stroke="0" w="21600" h="26959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3407"/>
                        <a:pt x="21373" y="25207"/>
                        <a:pt x="20924" y="26958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46" name="Arc 13"/>
                <p:cNvSpPr/>
                <p:nvPr/>
              </p:nvSpPr>
              <p:spPr>
                <a:xfrm flipH="1" flipV="1" rot="17110200">
                  <a:off x="5391360" y="3458160"/>
                  <a:ext cx="160560" cy="304560"/>
                </a:xfrm>
                <a:custGeom>
                  <a:avLst/>
                  <a:gdLst>
                    <a:gd name="textAreaLeft" fmla="*/ 360 w 160560"/>
                    <a:gd name="textAreaRight" fmla="*/ 161280 w 1605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fill="none" w="21600" h="25616">
                      <a:moveTo>
                        <a:pt x="3822" y="0"/>
                      </a:moveTo>
                      <a:cubicBezTo>
                        <a:pt x="14112" y="1850"/>
                        <a:pt x="21600" y="10804"/>
                        <a:pt x="21600" y="21259"/>
                      </a:cubicBezTo>
                      <a:cubicBezTo>
                        <a:pt x="21600" y="22722"/>
                        <a:pt x="21451" y="24182"/>
                        <a:pt x="21156" y="25616"/>
                      </a:cubicBezTo>
                    </a:path>
                    <a:path stroke="0" w="21600" h="25616">
                      <a:moveTo>
                        <a:pt x="3822" y="0"/>
                      </a:moveTo>
                      <a:cubicBezTo>
                        <a:pt x="14112" y="1850"/>
                        <a:pt x="21600" y="10804"/>
                        <a:pt x="21600" y="21259"/>
                      </a:cubicBezTo>
                      <a:cubicBezTo>
                        <a:pt x="21600" y="22722"/>
                        <a:pt x="21451" y="24182"/>
                        <a:pt x="21156" y="25616"/>
                      </a:cubicBezTo>
                      <a:lnTo>
                        <a:pt x="0" y="21259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47" name="Rectangle 14"/>
                <p:cNvSpPr/>
                <p:nvPr/>
              </p:nvSpPr>
              <p:spPr>
                <a:xfrm rot="1209600">
                  <a:off x="6510960" y="3092400"/>
                  <a:ext cx="386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3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5"/>
                <p:cNvSpPr/>
                <p:nvPr/>
              </p:nvSpPr>
              <p:spPr>
                <a:xfrm flipH="1">
                  <a:off x="3719160" y="4227120"/>
                  <a:ext cx="2860560" cy="15984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49" name="Rectangle 16"/>
                <p:cNvSpPr/>
                <p:nvPr/>
              </p:nvSpPr>
              <p:spPr>
                <a:xfrm rot="1209600">
                  <a:off x="5331960" y="3610080"/>
                  <a:ext cx="386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2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50" name="Arc 17"/>
                <p:cNvSpPr/>
                <p:nvPr/>
              </p:nvSpPr>
              <p:spPr>
                <a:xfrm flipH="1" flipV="1" rot="18201600">
                  <a:off x="6401880" y="4124160"/>
                  <a:ext cx="160560" cy="303840"/>
                </a:xfrm>
                <a:custGeom>
                  <a:avLst/>
                  <a:gdLst>
                    <a:gd name="textAreaLeft" fmla="*/ 360 w 160560"/>
                    <a:gd name="textAreaRight" fmla="*/ 161280 w 160560"/>
                    <a:gd name="textAreaTop" fmla="*/ 360 h 303840"/>
                    <a:gd name="textAreaBottom" fmla="*/ 304560 h 303840"/>
                  </a:gdLst>
                  <a:ahLst/>
                  <a:rect l="textAreaLeft" t="textAreaTop" r="textAreaRight" b="textAreaBottom"/>
                  <a:pathLst>
                    <a:path fill="none" w="21600" h="25616">
                      <a:moveTo>
                        <a:pt x="3822" y="0"/>
                      </a:moveTo>
                      <a:cubicBezTo>
                        <a:pt x="14112" y="1850"/>
                        <a:pt x="21600" y="10804"/>
                        <a:pt x="21600" y="21259"/>
                      </a:cubicBezTo>
                      <a:cubicBezTo>
                        <a:pt x="21600" y="22722"/>
                        <a:pt x="21451" y="24182"/>
                        <a:pt x="21156" y="25616"/>
                      </a:cubicBezTo>
                    </a:path>
                    <a:path stroke="0" w="21600" h="25616">
                      <a:moveTo>
                        <a:pt x="3822" y="0"/>
                      </a:moveTo>
                      <a:cubicBezTo>
                        <a:pt x="14112" y="1850"/>
                        <a:pt x="21600" y="10804"/>
                        <a:pt x="21600" y="21259"/>
                      </a:cubicBezTo>
                      <a:cubicBezTo>
                        <a:pt x="21600" y="22722"/>
                        <a:pt x="21451" y="24182"/>
                        <a:pt x="21156" y="25616"/>
                      </a:cubicBezTo>
                      <a:lnTo>
                        <a:pt x="0" y="21259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51" name="Rectangle 18"/>
                <p:cNvSpPr/>
                <p:nvPr/>
              </p:nvSpPr>
              <p:spPr>
                <a:xfrm rot="1209600">
                  <a:off x="6235920" y="4285800"/>
                  <a:ext cx="386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Text Box 19"/>
              <p:cNvSpPr/>
              <p:nvPr/>
            </p:nvSpPr>
            <p:spPr>
              <a:xfrm rot="1266000">
                <a:off x="6589080" y="23961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3" name="Text Box 20"/>
              <p:cNvSpPr/>
              <p:nvPr/>
            </p:nvSpPr>
            <p:spPr>
              <a:xfrm rot="1266000">
                <a:off x="7652880" y="49302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4" name="Text Box 21"/>
              <p:cNvSpPr/>
              <p:nvPr/>
            </p:nvSpPr>
            <p:spPr>
              <a:xfrm rot="1266000">
                <a:off x="5206680" y="302076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5" name="Text Box 22"/>
              <p:cNvSpPr/>
              <p:nvPr/>
            </p:nvSpPr>
            <p:spPr>
              <a:xfrm rot="1266000">
                <a:off x="6450480" y="38127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656" name="Text Box 23"/>
          <p:cNvSpPr/>
          <p:nvPr/>
        </p:nvSpPr>
        <p:spPr>
          <a:xfrm>
            <a:off x="1295280" y="48769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Text Box 24"/>
          <p:cNvSpPr/>
          <p:nvPr/>
        </p:nvSpPr>
        <p:spPr>
          <a:xfrm>
            <a:off x="2895480" y="48769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8" name="Text Box 25"/>
          <p:cNvSpPr/>
          <p:nvPr/>
        </p:nvSpPr>
        <p:spPr>
          <a:xfrm>
            <a:off x="4495680" y="48769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9" name="Text Box 26"/>
          <p:cNvSpPr/>
          <p:nvPr/>
        </p:nvSpPr>
        <p:spPr>
          <a:xfrm>
            <a:off x="2362320" y="48769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＞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0" name="Text Box 27"/>
          <p:cNvSpPr/>
          <p:nvPr/>
        </p:nvSpPr>
        <p:spPr>
          <a:xfrm>
            <a:off x="3962520" y="48769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＞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61" name="Group 28"/>
          <p:cNvGrpSpPr/>
          <p:nvPr/>
        </p:nvGrpSpPr>
        <p:grpSpPr>
          <a:xfrm>
            <a:off x="3733920" y="3479760"/>
            <a:ext cx="3885840" cy="1549440"/>
            <a:chOff x="3733920" y="3479760"/>
            <a:chExt cx="3885840" cy="1549440"/>
          </a:xfrm>
        </p:grpSpPr>
        <p:sp>
          <p:nvSpPr>
            <p:cNvPr id="662" name="Line 29"/>
            <p:cNvSpPr/>
            <p:nvPr/>
          </p:nvSpPr>
          <p:spPr>
            <a:xfrm flipH="1" flipV="1">
              <a:off x="5486040" y="3479760"/>
              <a:ext cx="2133720" cy="154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3" name="Line 30"/>
            <p:cNvSpPr/>
            <p:nvPr/>
          </p:nvSpPr>
          <p:spPr>
            <a:xfrm flipV="1">
              <a:off x="3733920" y="3530160"/>
              <a:ext cx="1752480" cy="83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4" name="Line 31"/>
            <p:cNvSpPr/>
            <p:nvPr/>
          </p:nvSpPr>
          <p:spPr>
            <a:xfrm flipV="1">
              <a:off x="3733920" y="4228920"/>
              <a:ext cx="281916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65" name="Group 32"/>
          <p:cNvGrpSpPr/>
          <p:nvPr/>
        </p:nvGrpSpPr>
        <p:grpSpPr>
          <a:xfrm>
            <a:off x="3733920" y="2819520"/>
            <a:ext cx="3924000" cy="2221920"/>
            <a:chOff x="3733920" y="2819520"/>
            <a:chExt cx="3924000" cy="2221920"/>
          </a:xfrm>
        </p:grpSpPr>
        <p:sp>
          <p:nvSpPr>
            <p:cNvPr id="666" name="Line 33"/>
            <p:cNvSpPr/>
            <p:nvPr/>
          </p:nvSpPr>
          <p:spPr>
            <a:xfrm flipV="1">
              <a:off x="3733920" y="2844720"/>
              <a:ext cx="3124080" cy="15242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7" name="Line 34"/>
            <p:cNvSpPr/>
            <p:nvPr/>
          </p:nvSpPr>
          <p:spPr>
            <a:xfrm flipH="1" flipV="1">
              <a:off x="6819480" y="2819520"/>
              <a:ext cx="838440" cy="22096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8" name="Line 35"/>
            <p:cNvSpPr/>
            <p:nvPr/>
          </p:nvSpPr>
          <p:spPr>
            <a:xfrm flipH="1" flipV="1">
              <a:off x="5524200" y="3517560"/>
              <a:ext cx="2133720" cy="1523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69" name="Text Box 36"/>
          <p:cNvSpPr/>
          <p:nvPr/>
        </p:nvSpPr>
        <p:spPr>
          <a:xfrm>
            <a:off x="250920" y="981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试求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大小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6443640" y="3349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1" name="Text Box 38"/>
          <p:cNvSpPr/>
          <p:nvPr/>
        </p:nvSpPr>
        <p:spPr>
          <a:xfrm>
            <a:off x="4282920" y="40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2" name="Text Box 39"/>
          <p:cNvSpPr/>
          <p:nvPr/>
        </p:nvSpPr>
        <p:spPr>
          <a:xfrm>
            <a:off x="7020000" y="4357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2050920" y="1557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试计算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度数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663480" y="6080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5" name="Line 4"/>
          <p:cNvSpPr/>
          <p:nvPr/>
        </p:nvSpPr>
        <p:spPr>
          <a:xfrm flipV="1">
            <a:off x="4716360" y="3428640"/>
            <a:ext cx="230508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6" name="Line 5"/>
          <p:cNvSpPr/>
          <p:nvPr/>
        </p:nvSpPr>
        <p:spPr>
          <a:xfrm>
            <a:off x="7020000" y="3429000"/>
            <a:ext cx="1152360" cy="144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7" name="Line 6"/>
          <p:cNvSpPr/>
          <p:nvPr/>
        </p:nvSpPr>
        <p:spPr>
          <a:xfrm flipV="1">
            <a:off x="4716360" y="4436640"/>
            <a:ext cx="180036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6516720" y="4437000"/>
            <a:ext cx="1655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6648480" y="350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90º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7381800" y="4340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0º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5259240" y="4419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0º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6878520" y="2859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4300560" y="486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7937280" y="4724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5" name="Text Box 14"/>
          <p:cNvSpPr/>
          <p:nvPr/>
        </p:nvSpPr>
        <p:spPr>
          <a:xfrm>
            <a:off x="6266160" y="4365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86" name="Group 15"/>
          <p:cNvGrpSpPr/>
          <p:nvPr/>
        </p:nvGrpSpPr>
        <p:grpSpPr>
          <a:xfrm>
            <a:off x="6477120" y="3657600"/>
            <a:ext cx="1752480" cy="787320"/>
            <a:chOff x="6477120" y="3657600"/>
            <a:chExt cx="1752480" cy="787320"/>
          </a:xfrm>
        </p:grpSpPr>
        <p:sp>
          <p:nvSpPr>
            <p:cNvPr id="687" name="Line 16"/>
            <p:cNvSpPr/>
            <p:nvPr/>
          </p:nvSpPr>
          <p:spPr>
            <a:xfrm flipV="1">
              <a:off x="6477120" y="4064040"/>
              <a:ext cx="990360" cy="3808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8" name="Text Box 17"/>
            <p:cNvSpPr/>
            <p:nvPr/>
          </p:nvSpPr>
          <p:spPr>
            <a:xfrm>
              <a:off x="7620120" y="3657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89" name="Rectangle 18"/>
          <p:cNvSpPr/>
          <p:nvPr/>
        </p:nvSpPr>
        <p:spPr>
          <a:xfrm rot="11627400">
            <a:off x="7223400" y="38851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⌒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0" name="Line 19"/>
          <p:cNvSpPr/>
          <p:nvPr/>
        </p:nvSpPr>
        <p:spPr>
          <a:xfrm>
            <a:off x="73915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8077320" y="3962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宋体"/>
              </a:rPr>
              <a:t>110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3"/>
          <p:cNvSpPr/>
          <p:nvPr/>
        </p:nvSpPr>
        <p:spPr>
          <a:xfrm>
            <a:off x="1750680" y="8366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通过这节课的学习，你有什么收获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2289600" y="429264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角形的一个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外角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它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不相邻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的两个内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3142440" y="486900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角形的一个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外角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大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它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不相邻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的任何一个内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5" name="Text Box 6"/>
          <p:cNvSpPr/>
          <p:nvPr/>
        </p:nvSpPr>
        <p:spPr>
          <a:xfrm>
            <a:off x="785520" y="5516640"/>
            <a:ext cx="33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角形的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外角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360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179280" y="257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五、归纳小结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179280" y="1413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角形的外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1187280" y="198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角形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另一边的延长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成的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108000" y="2492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宋体"/>
                <a:ea typeface="宋体"/>
              </a:rPr>
              <a:t>特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点在三角形的一个顶点上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条边是三角形的一边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另一边是三角形某条边的延长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179280" y="3645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角形的一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外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它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相邻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内角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互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4"/>
          <p:cNvSpPr/>
          <p:nvPr/>
        </p:nvSpPr>
        <p:spPr>
          <a:xfrm>
            <a:off x="539640" y="765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六、布置作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684360" y="141300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必做题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题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539640" y="2708280"/>
            <a:ext cx="30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做题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324000" y="3789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，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内角（外角）平分线交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已知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=x°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试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式子表示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252360" y="189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、复习引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108000" y="981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角形的概念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108000" y="162864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角形的顶点、边、内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03" name="Group 10"/>
          <p:cNvGrpSpPr/>
          <p:nvPr/>
        </p:nvGrpSpPr>
        <p:grpSpPr>
          <a:xfrm>
            <a:off x="4788000" y="723960"/>
            <a:ext cx="2814120" cy="2059920"/>
            <a:chOff x="4788000" y="723960"/>
            <a:chExt cx="2814120" cy="2059920"/>
          </a:xfrm>
        </p:grpSpPr>
        <p:sp>
          <p:nvSpPr>
            <p:cNvPr id="404" name="Line 11"/>
            <p:cNvSpPr/>
            <p:nvPr/>
          </p:nvSpPr>
          <p:spPr>
            <a:xfrm>
              <a:off x="5091840" y="2629080"/>
              <a:ext cx="2053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6385320" y="723960"/>
              <a:ext cx="4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6" name="Text Box 13"/>
            <p:cNvSpPr/>
            <p:nvPr/>
          </p:nvSpPr>
          <p:spPr>
            <a:xfrm>
              <a:off x="4788000" y="2324160"/>
              <a:ext cx="4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7" name="Text Box 14"/>
            <p:cNvSpPr/>
            <p:nvPr/>
          </p:nvSpPr>
          <p:spPr>
            <a:xfrm>
              <a:off x="7146000" y="2324160"/>
              <a:ext cx="4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5091840" y="1122120"/>
              <a:ext cx="1515240" cy="15066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6613560" y="1105200"/>
              <a:ext cx="552960" cy="15285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10" name="Text Box 17"/>
          <p:cNvSpPr/>
          <p:nvPr/>
        </p:nvSpPr>
        <p:spPr>
          <a:xfrm>
            <a:off x="108000" y="2276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角形内角和定理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106200" y="290988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三角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一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延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得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Line 37"/>
          <p:cNvSpPr/>
          <p:nvPr/>
        </p:nvSpPr>
        <p:spPr>
          <a:xfrm flipV="1">
            <a:off x="7164360" y="2600280"/>
            <a:ext cx="1668600" cy="3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3" name="Text Box 38"/>
          <p:cNvSpPr/>
          <p:nvPr/>
        </p:nvSpPr>
        <p:spPr>
          <a:xfrm>
            <a:off x="8317080" y="2133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4" name="AutoShape 39"/>
          <p:cNvSpPr/>
          <p:nvPr/>
        </p:nvSpPr>
        <p:spPr>
          <a:xfrm rot="2599800">
            <a:off x="6516360" y="2234880"/>
            <a:ext cx="1143000" cy="76212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762120"/>
              <a:gd name="textAreaBottom" fmla="*/ 164880 h 76212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5" name="Text Box 41"/>
          <p:cNvSpPr/>
          <p:nvPr/>
        </p:nvSpPr>
        <p:spPr>
          <a:xfrm>
            <a:off x="108000" y="3500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引入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三角形的外角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6" name="Rectangle 42"/>
          <p:cNvSpPr/>
          <p:nvPr/>
        </p:nvSpPr>
        <p:spPr>
          <a:xfrm>
            <a:off x="1187280" y="3933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角形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另一边的延长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成的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Text Box 43"/>
          <p:cNvSpPr/>
          <p:nvPr/>
        </p:nvSpPr>
        <p:spPr>
          <a:xfrm>
            <a:off x="173160" y="4568760"/>
            <a:ext cx="8502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特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 (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).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顶点在三角形的一个顶点上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).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一条边是三角形的一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)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另一条边是三角形某条边的延长线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实际上三角形的一个外角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就是三角形一个内角的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邻补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9" name="Rectangle 46"/>
          <p:cNvSpPr/>
          <p:nvPr/>
        </p:nvSpPr>
        <p:spPr>
          <a:xfrm>
            <a:off x="5743440" y="2781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C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179280" y="39996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画图并思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画一个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△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你能画出它的所有外角吗？请动手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试一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同时，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想一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外角一共有几个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21" name="Group 5"/>
          <p:cNvGrpSpPr/>
          <p:nvPr/>
        </p:nvGrpSpPr>
        <p:grpSpPr>
          <a:xfrm>
            <a:off x="5029200" y="1916280"/>
            <a:ext cx="4114800" cy="3504600"/>
            <a:chOff x="5029200" y="1916280"/>
            <a:chExt cx="4114800" cy="3504600"/>
          </a:xfrm>
        </p:grpSpPr>
        <p:sp>
          <p:nvSpPr>
            <p:cNvPr id="422" name="Line 6"/>
            <p:cNvSpPr/>
            <p:nvPr/>
          </p:nvSpPr>
          <p:spPr>
            <a:xfrm>
              <a:off x="5029200" y="450684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Line 7"/>
            <p:cNvSpPr/>
            <p:nvPr/>
          </p:nvSpPr>
          <p:spPr>
            <a:xfrm>
              <a:off x="6377040" y="1992240"/>
              <a:ext cx="1979640" cy="34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6526080" y="199224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Text Box 9"/>
            <p:cNvSpPr/>
            <p:nvPr/>
          </p:nvSpPr>
          <p:spPr>
            <a:xfrm>
              <a:off x="5260320" y="44053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26" name="Group 10"/>
            <p:cNvGrpSpPr/>
            <p:nvPr/>
          </p:nvGrpSpPr>
          <p:grpSpPr>
            <a:xfrm>
              <a:off x="5270040" y="1916280"/>
              <a:ext cx="3067560" cy="3428640"/>
              <a:chOff x="5270040" y="1916280"/>
              <a:chExt cx="3067560" cy="3428640"/>
            </a:xfrm>
          </p:grpSpPr>
          <p:graphicFrame>
            <p:nvGraphicFramePr>
              <p:cNvPr id="427" name="Object 11"/>
              <p:cNvGraphicFramePr/>
              <p:nvPr/>
            </p:nvGraphicFramePr>
            <p:xfrm>
              <a:off x="5657760" y="4487760"/>
              <a:ext cx="331920" cy="244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28" name="Object 1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657760" y="4487760"/>
                        <a:ext cx="331920" cy="24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9" name="Object 12"/>
              <p:cNvGraphicFramePr/>
              <p:nvPr/>
            </p:nvGraphicFramePr>
            <p:xfrm>
              <a:off x="6553080" y="2525400"/>
              <a:ext cx="169920" cy="377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0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553080" y="2525400"/>
                        <a:ext cx="169920" cy="37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1" name="Object 13"/>
              <p:cNvGraphicFramePr/>
              <p:nvPr/>
            </p:nvGraphicFramePr>
            <p:xfrm>
              <a:off x="6819840" y="2506680"/>
              <a:ext cx="190440" cy="377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32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819840" y="2506680"/>
                        <a:ext cx="190440" cy="37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3" name="Object 14"/>
              <p:cNvGraphicFramePr/>
              <p:nvPr/>
            </p:nvGraphicFramePr>
            <p:xfrm>
              <a:off x="5562720" y="4278240"/>
              <a:ext cx="334800" cy="263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34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562720" y="4278240"/>
                        <a:ext cx="334800" cy="26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5" name="Object 15"/>
              <p:cNvGraphicFramePr/>
              <p:nvPr/>
            </p:nvGraphicFramePr>
            <p:xfrm>
              <a:off x="7620120" y="4506840"/>
              <a:ext cx="314280" cy="2170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36" name="Object 15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20120" y="4506840"/>
                        <a:ext cx="314280" cy="21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7" name="Object 16"/>
              <p:cNvGraphicFramePr/>
              <p:nvPr/>
            </p:nvGraphicFramePr>
            <p:xfrm>
              <a:off x="7696080" y="4278240"/>
              <a:ext cx="335160" cy="2394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38" name="Object 16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696080" y="4278240"/>
                        <a:ext cx="335160" cy="23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39" name="Line 17"/>
              <p:cNvSpPr/>
              <p:nvPr/>
            </p:nvSpPr>
            <p:spPr>
              <a:xfrm flipH="1">
                <a:off x="5270040" y="1916280"/>
                <a:ext cx="1979640" cy="342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0" name="Text Box 18"/>
              <p:cNvSpPr/>
              <p:nvPr/>
            </p:nvSpPr>
            <p:spPr>
              <a:xfrm>
                <a:off x="7899480" y="440532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华文中宋"/>
                    <a:ea typeface="华文中宋"/>
                  </a:rPr>
                  <a:t>C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19"/>
            <p:cNvSpPr/>
            <p:nvPr/>
          </p:nvSpPr>
          <p:spPr>
            <a:xfrm>
              <a:off x="6203520" y="2392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  <a:ea typeface="华文中宋"/>
                </a:rPr>
                <a:t>1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2" name="Text Box 20"/>
            <p:cNvSpPr/>
            <p:nvPr/>
          </p:nvSpPr>
          <p:spPr>
            <a:xfrm>
              <a:off x="6973920" y="23922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4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3" name="Text Box 21"/>
            <p:cNvSpPr/>
            <p:nvPr/>
          </p:nvSpPr>
          <p:spPr>
            <a:xfrm>
              <a:off x="7833960" y="38289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  <a:ea typeface="华文中宋"/>
                </a:rPr>
                <a:t>3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4" name="Text Box 22"/>
            <p:cNvSpPr/>
            <p:nvPr/>
          </p:nvSpPr>
          <p:spPr>
            <a:xfrm>
              <a:off x="7427520" y="4552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6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5" name="Text Box 23"/>
            <p:cNvSpPr/>
            <p:nvPr/>
          </p:nvSpPr>
          <p:spPr>
            <a:xfrm>
              <a:off x="5698800" y="4624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5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338440" y="3903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  <a:ea typeface="华文中宋"/>
                </a:rPr>
                <a:t>2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47" name="Text Box 25"/>
          <p:cNvSpPr/>
          <p:nvPr/>
        </p:nvSpPr>
        <p:spPr>
          <a:xfrm>
            <a:off x="250920" y="2133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纳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324000" y="2924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一个三角形共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外角，其中有公共顶点的两个相等，因此共有三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4"/>
          <p:cNvSpPr/>
          <p:nvPr/>
        </p:nvSpPr>
        <p:spPr>
          <a:xfrm>
            <a:off x="324000" y="260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二、探究新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250920" y="90792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图，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∠A =70°, ∠B=60 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一个外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1" name="Picture 7" descr=""/>
          <p:cNvPicPr/>
          <p:nvPr/>
        </p:nvPicPr>
        <p:blipFill>
          <a:blip r:embed="rId1"/>
          <a:stretch/>
        </p:blipFill>
        <p:spPr>
          <a:xfrm>
            <a:off x="5149800" y="1628640"/>
            <a:ext cx="3886200" cy="23050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9"/>
          <p:cNvSpPr/>
          <p:nvPr/>
        </p:nvSpPr>
        <p:spPr>
          <a:xfrm>
            <a:off x="6012000" y="2262240"/>
            <a:ext cx="10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7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5737320" y="2924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1044000" y="2205000"/>
            <a:ext cx="39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能由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求出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1605600" y="299736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CD =13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250920" y="386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能说出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什么关系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1999440" y="458136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ACD = ∠A + ∠B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324000" y="52293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※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提出命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三角形的一个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外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于与它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不相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两个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内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4"/>
          <p:cNvGrpSpPr/>
          <p:nvPr/>
        </p:nvGrpSpPr>
        <p:grpSpPr>
          <a:xfrm>
            <a:off x="4859280" y="638280"/>
            <a:ext cx="3657600" cy="2288520"/>
            <a:chOff x="4859280" y="638280"/>
            <a:chExt cx="3657600" cy="2288520"/>
          </a:xfrm>
        </p:grpSpPr>
        <p:grpSp>
          <p:nvGrpSpPr>
            <p:cNvPr id="460" name="Group 5"/>
            <p:cNvGrpSpPr/>
            <p:nvPr/>
          </p:nvGrpSpPr>
          <p:grpSpPr>
            <a:xfrm>
              <a:off x="4859280" y="638280"/>
              <a:ext cx="2514600" cy="2288520"/>
              <a:chOff x="4859280" y="638280"/>
              <a:chExt cx="2514600" cy="2288520"/>
            </a:xfrm>
          </p:grpSpPr>
          <p:sp>
            <p:nvSpPr>
              <p:cNvPr id="461" name="Line 6"/>
              <p:cNvSpPr/>
              <p:nvPr/>
            </p:nvSpPr>
            <p:spPr>
              <a:xfrm>
                <a:off x="5011560" y="2543400"/>
                <a:ext cx="2057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2" name="Text Box 7"/>
              <p:cNvSpPr/>
              <p:nvPr/>
            </p:nvSpPr>
            <p:spPr>
              <a:xfrm>
                <a:off x="6307200" y="638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3" name="Text Box 8"/>
              <p:cNvSpPr/>
              <p:nvPr/>
            </p:nvSpPr>
            <p:spPr>
              <a:xfrm>
                <a:off x="4859280" y="24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4" name="Text Box 9"/>
              <p:cNvSpPr/>
              <p:nvPr/>
            </p:nvSpPr>
            <p:spPr>
              <a:xfrm>
                <a:off x="6916680" y="24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5" name="Line 10"/>
              <p:cNvSpPr/>
              <p:nvPr/>
            </p:nvSpPr>
            <p:spPr>
              <a:xfrm flipV="1">
                <a:off x="5011560" y="1036440"/>
                <a:ext cx="1517760" cy="1506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6" name="Line 11"/>
              <p:cNvSpPr/>
              <p:nvPr/>
            </p:nvSpPr>
            <p:spPr>
              <a:xfrm>
                <a:off x="6535800" y="1019160"/>
                <a:ext cx="554040" cy="1528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2"/>
            <p:cNvGrpSpPr/>
            <p:nvPr/>
          </p:nvGrpSpPr>
          <p:grpSpPr>
            <a:xfrm>
              <a:off x="7068960" y="2467080"/>
              <a:ext cx="1447920" cy="459720"/>
              <a:chOff x="7068960" y="2467080"/>
              <a:chExt cx="1447920" cy="459720"/>
            </a:xfrm>
          </p:grpSpPr>
          <p:sp>
            <p:nvSpPr>
              <p:cNvPr id="468" name="Line 13"/>
              <p:cNvSpPr/>
              <p:nvPr/>
            </p:nvSpPr>
            <p:spPr>
              <a:xfrm>
                <a:off x="7068960" y="2543400"/>
                <a:ext cx="129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9" name="Text Box 14"/>
              <p:cNvSpPr/>
              <p:nvPr/>
            </p:nvSpPr>
            <p:spPr>
              <a:xfrm>
                <a:off x="8059680" y="24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70" name="Text Box 15"/>
            <p:cNvSpPr/>
            <p:nvPr/>
          </p:nvSpPr>
          <p:spPr>
            <a:xfrm>
              <a:off x="6916680" y="2162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Text Box 16"/>
            <p:cNvSpPr/>
            <p:nvPr/>
          </p:nvSpPr>
          <p:spPr>
            <a:xfrm>
              <a:off x="6230880" y="10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Text Box 17"/>
            <p:cNvSpPr/>
            <p:nvPr/>
          </p:nvSpPr>
          <p:spPr>
            <a:xfrm>
              <a:off x="5240160" y="21621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Arc 18"/>
            <p:cNvSpPr/>
            <p:nvPr/>
          </p:nvSpPr>
          <p:spPr>
            <a:xfrm>
              <a:off x="6993000" y="2238480"/>
              <a:ext cx="380880" cy="3049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4" name="Arc 19"/>
            <p:cNvSpPr/>
            <p:nvPr/>
          </p:nvSpPr>
          <p:spPr>
            <a:xfrm rot="1717800">
              <a:off x="5392440" y="2161800"/>
              <a:ext cx="380880" cy="3049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5" name="Arc 20"/>
            <p:cNvSpPr/>
            <p:nvPr/>
          </p:nvSpPr>
          <p:spPr>
            <a:xfrm flipV="1" rot="2520600">
              <a:off x="6230880" y="1247040"/>
              <a:ext cx="380880" cy="3049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6" name="Text Box 21"/>
            <p:cNvSpPr/>
            <p:nvPr/>
          </p:nvSpPr>
          <p:spPr>
            <a:xfrm>
              <a:off x="6611760" y="2162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Arc 22"/>
            <p:cNvSpPr/>
            <p:nvPr/>
          </p:nvSpPr>
          <p:spPr>
            <a:xfrm flipH="1">
              <a:off x="6535800" y="2238480"/>
              <a:ext cx="380880" cy="30492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8" name="Text Box 23"/>
          <p:cNvSpPr/>
          <p:nvPr/>
        </p:nvSpPr>
        <p:spPr>
          <a:xfrm>
            <a:off x="250920" y="115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证明一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Rectangle 24"/>
          <p:cNvSpPr/>
          <p:nvPr/>
        </p:nvSpPr>
        <p:spPr>
          <a:xfrm>
            <a:off x="179280" y="692280"/>
            <a:ext cx="59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∵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+∠B+∠2=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角形内角和等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),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Rectangle 25"/>
          <p:cNvSpPr/>
          <p:nvPr/>
        </p:nvSpPr>
        <p:spPr>
          <a:xfrm>
            <a:off x="395280" y="119700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+∠2=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平角的意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179280" y="162864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= ∠A+∠B.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等量代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Rectangle 27"/>
          <p:cNvSpPr/>
          <p:nvPr/>
        </p:nvSpPr>
        <p:spPr>
          <a:xfrm>
            <a:off x="431640" y="2060640"/>
            <a:ext cx="38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&gt;∠A,∠1&gt;∠B(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和大于部分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).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250920" y="2421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证明二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32"/>
          <p:cNvSpPr/>
          <p:nvPr/>
        </p:nvSpPr>
        <p:spPr>
          <a:xfrm>
            <a:off x="468360" y="29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∥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有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5" name="Group 33"/>
          <p:cNvGrpSpPr/>
          <p:nvPr/>
        </p:nvGrpSpPr>
        <p:grpSpPr>
          <a:xfrm>
            <a:off x="6718680" y="836640"/>
            <a:ext cx="1669680" cy="2110320"/>
            <a:chOff x="6718680" y="836640"/>
            <a:chExt cx="1669680" cy="2110320"/>
          </a:xfrm>
        </p:grpSpPr>
        <p:sp>
          <p:nvSpPr>
            <p:cNvPr id="486" name="Line 34"/>
            <p:cNvSpPr/>
            <p:nvPr/>
          </p:nvSpPr>
          <p:spPr>
            <a:xfrm flipH="1">
              <a:off x="7073640" y="836640"/>
              <a:ext cx="1314720" cy="1710360"/>
            </a:xfrm>
            <a:prstGeom prst="line">
              <a:avLst/>
            </a:prstGeom>
            <a:ln w="12600">
              <a:solidFill>
                <a:srgbClr val="f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7" name="AutoShape 35"/>
            <p:cNvSpPr/>
            <p:nvPr/>
          </p:nvSpPr>
          <p:spPr>
            <a:xfrm rot="3461400">
              <a:off x="6895800" y="2182320"/>
              <a:ext cx="523440" cy="707760"/>
            </a:xfrm>
            <a:custGeom>
              <a:avLst/>
              <a:gdLst>
                <a:gd name="textAreaLeft" fmla="*/ 61560 w 523440"/>
                <a:gd name="textAreaRight" fmla="*/ 461880 w 523440"/>
                <a:gd name="textAreaTop" fmla="*/ 0 h 707760"/>
                <a:gd name="textAreaBottom" fmla="*/ 153000 h 70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cc66ff"/>
            </a:solidFill>
            <a:ln w="12600">
              <a:solidFill>
                <a:srgbClr val="f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8" name="Text Box 37"/>
          <p:cNvSpPr/>
          <p:nvPr/>
        </p:nvSpPr>
        <p:spPr>
          <a:xfrm>
            <a:off x="8317080" y="620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Text Box 38"/>
          <p:cNvSpPr/>
          <p:nvPr/>
        </p:nvSpPr>
        <p:spPr>
          <a:xfrm>
            <a:off x="541440" y="335772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两直线平行，内错角相等）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Rectangle 39"/>
          <p:cNvSpPr/>
          <p:nvPr/>
        </p:nvSpPr>
        <p:spPr>
          <a:xfrm>
            <a:off x="539640" y="3716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两直线平行，同位角相等）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Text Box 40"/>
          <p:cNvSpPr/>
          <p:nvPr/>
        </p:nvSpPr>
        <p:spPr>
          <a:xfrm>
            <a:off x="303120" y="4659480"/>
            <a:ext cx="794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36360" y="407664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∵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C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Text Box 43"/>
          <p:cNvSpPr/>
          <p:nvPr/>
        </p:nvSpPr>
        <p:spPr>
          <a:xfrm>
            <a:off x="324000" y="450864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等量代换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Text Box 44"/>
          <p:cNvSpPr/>
          <p:nvPr/>
        </p:nvSpPr>
        <p:spPr>
          <a:xfrm>
            <a:off x="179280" y="4869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角形的外角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性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三角形的一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外角</a:t>
            </a:r>
            <a:r>
              <a:rPr b="1" lang="zh-CN" sz="3200" spc="-1" strike="noStrike">
                <a:solidFill>
                  <a:srgbClr val="336699"/>
                </a:solidFill>
                <a:latin typeface="Arial"/>
                <a:ea typeface="宋体"/>
              </a:rPr>
              <a:t>等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相邻的两个内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Text Box 45"/>
          <p:cNvSpPr/>
          <p:nvPr/>
        </p:nvSpPr>
        <p:spPr>
          <a:xfrm>
            <a:off x="250920" y="57340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推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三角形的一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外角</a:t>
            </a:r>
            <a:r>
              <a:rPr b="0" lang="zh-CN" sz="3200" spc="-1" strike="noStrike">
                <a:solidFill>
                  <a:srgbClr val="336699"/>
                </a:solidFill>
                <a:latin typeface="Arial"/>
                <a:ea typeface="宋体"/>
              </a:rPr>
              <a:t>大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相邻的任何一个内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4"/>
          <p:cNvSpPr/>
          <p:nvPr/>
        </p:nvSpPr>
        <p:spPr>
          <a:xfrm>
            <a:off x="324000" y="3286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三、运用新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108000" y="9079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求出下面各三角形的外角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大小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684360" y="2060640"/>
            <a:ext cx="1296720" cy="93672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1979640" y="299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Line 10"/>
          <p:cNvSpPr/>
          <p:nvPr/>
        </p:nvSpPr>
        <p:spPr>
          <a:xfrm flipH="1" flipV="1">
            <a:off x="971280" y="148392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Arc 15"/>
          <p:cNvSpPr/>
          <p:nvPr/>
        </p:nvSpPr>
        <p:spPr>
          <a:xfrm>
            <a:off x="1763640" y="270828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Arc 18"/>
          <p:cNvSpPr/>
          <p:nvPr/>
        </p:nvSpPr>
        <p:spPr>
          <a:xfrm flipH="1">
            <a:off x="1186560" y="1987560"/>
            <a:ext cx="71640" cy="289080"/>
          </a:xfrm>
          <a:custGeom>
            <a:avLst/>
            <a:gdLst>
              <a:gd name="textAreaLeft" fmla="*/ -360 w 71640"/>
              <a:gd name="textAreaRight" fmla="*/ 71640 w 716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Line 21"/>
          <p:cNvSpPr/>
          <p:nvPr/>
        </p:nvSpPr>
        <p:spPr>
          <a:xfrm flipH="1">
            <a:off x="178920" y="299736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Arc 22"/>
          <p:cNvSpPr/>
          <p:nvPr/>
        </p:nvSpPr>
        <p:spPr>
          <a:xfrm flipV="1">
            <a:off x="539640" y="299664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898560" y="19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684360" y="3068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 Box 26"/>
          <p:cNvSpPr/>
          <p:nvPr/>
        </p:nvSpPr>
        <p:spPr>
          <a:xfrm>
            <a:off x="190800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Text Box 27"/>
          <p:cNvSpPr/>
          <p:nvPr/>
        </p:nvSpPr>
        <p:spPr>
          <a:xfrm>
            <a:off x="46836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等边△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AutoShape 30"/>
          <p:cNvSpPr/>
          <p:nvPr/>
        </p:nvSpPr>
        <p:spPr>
          <a:xfrm>
            <a:off x="3348000" y="2133720"/>
            <a:ext cx="1584360" cy="50328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Arc 34"/>
          <p:cNvSpPr/>
          <p:nvPr/>
        </p:nvSpPr>
        <p:spPr>
          <a:xfrm flipV="1">
            <a:off x="3924360" y="2204280"/>
            <a:ext cx="360360" cy="71640"/>
          </a:xfrm>
          <a:custGeom>
            <a:avLst/>
            <a:gdLst>
              <a:gd name="textAreaLeft" fmla="*/ 0 w 360360"/>
              <a:gd name="textAreaRight" fmla="*/ 360720 w 36036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35"/>
          <p:cNvSpPr/>
          <p:nvPr/>
        </p:nvSpPr>
        <p:spPr>
          <a:xfrm>
            <a:off x="3851280" y="2205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30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36"/>
          <p:cNvSpPr/>
          <p:nvPr/>
        </p:nvSpPr>
        <p:spPr>
          <a:xfrm>
            <a:off x="3421080" y="3630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等腰△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Line 37"/>
          <p:cNvSpPr/>
          <p:nvPr/>
        </p:nvSpPr>
        <p:spPr>
          <a:xfrm flipH="1" flipV="1">
            <a:off x="3492360" y="155700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2700000" y="263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4859280" y="2637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Arc 40"/>
          <p:cNvSpPr/>
          <p:nvPr/>
        </p:nvSpPr>
        <p:spPr>
          <a:xfrm flipH="1">
            <a:off x="3852000" y="1916280"/>
            <a:ext cx="71640" cy="433080"/>
          </a:xfrm>
          <a:custGeom>
            <a:avLst/>
            <a:gdLst>
              <a:gd name="textAreaLeft" fmla="*/ -360 w 71640"/>
              <a:gd name="textAreaRight" fmla="*/ 71640 w 7164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Text Box 41"/>
          <p:cNvSpPr/>
          <p:nvPr/>
        </p:nvSpPr>
        <p:spPr>
          <a:xfrm>
            <a:off x="3635280" y="19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Arc 43"/>
          <p:cNvSpPr/>
          <p:nvPr/>
        </p:nvSpPr>
        <p:spPr>
          <a:xfrm flipV="1">
            <a:off x="3059280" y="263628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9" name="Text Box 44"/>
          <p:cNvSpPr/>
          <p:nvPr/>
        </p:nvSpPr>
        <p:spPr>
          <a:xfrm>
            <a:off x="3203640" y="270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Arc 45"/>
          <p:cNvSpPr/>
          <p:nvPr/>
        </p:nvSpPr>
        <p:spPr>
          <a:xfrm>
            <a:off x="4572000" y="2421000"/>
            <a:ext cx="504720" cy="21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Text Box 46"/>
          <p:cNvSpPr/>
          <p:nvPr/>
        </p:nvSpPr>
        <p:spPr>
          <a:xfrm>
            <a:off x="4788000" y="21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2" name="AutoShape 47"/>
          <p:cNvSpPr/>
          <p:nvPr/>
        </p:nvSpPr>
        <p:spPr>
          <a:xfrm>
            <a:off x="6588000" y="1698480"/>
            <a:ext cx="936720" cy="1225800"/>
          </a:xfrm>
          <a:prstGeom prst="rtTriangl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Arc 49"/>
          <p:cNvSpPr/>
          <p:nvPr/>
        </p:nvSpPr>
        <p:spPr>
          <a:xfrm flipH="1">
            <a:off x="7237440" y="2637000"/>
            <a:ext cx="71280" cy="287280"/>
          </a:xfrm>
          <a:custGeom>
            <a:avLst/>
            <a:gdLst>
              <a:gd name="textAreaLeft" fmla="*/ 360 w 71280"/>
              <a:gd name="textAreaRight" fmla="*/ 72000 w 7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Text Box 50"/>
          <p:cNvSpPr/>
          <p:nvPr/>
        </p:nvSpPr>
        <p:spPr>
          <a:xfrm>
            <a:off x="680400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3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5" name="Text Box 51"/>
          <p:cNvSpPr/>
          <p:nvPr/>
        </p:nvSpPr>
        <p:spPr>
          <a:xfrm>
            <a:off x="6300720" y="3500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角△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Line 52"/>
          <p:cNvSpPr/>
          <p:nvPr/>
        </p:nvSpPr>
        <p:spPr>
          <a:xfrm flipH="1" flipV="1">
            <a:off x="6156000" y="126828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Line 53"/>
          <p:cNvSpPr/>
          <p:nvPr/>
        </p:nvSpPr>
        <p:spPr>
          <a:xfrm>
            <a:off x="6588000" y="292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Line 54"/>
          <p:cNvSpPr/>
          <p:nvPr/>
        </p:nvSpPr>
        <p:spPr>
          <a:xfrm>
            <a:off x="7524720" y="2924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Arc 57"/>
          <p:cNvSpPr/>
          <p:nvPr/>
        </p:nvSpPr>
        <p:spPr>
          <a:xfrm flipH="1" flipV="1">
            <a:off x="6442920" y="1556640"/>
            <a:ext cx="144360" cy="576360"/>
          </a:xfrm>
          <a:custGeom>
            <a:avLst/>
            <a:gdLst>
              <a:gd name="textAreaLeft" fmla="*/ 0 w 144360"/>
              <a:gd name="textAreaRight" fmla="*/ 144360 w 1443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Text Box 58"/>
          <p:cNvSpPr/>
          <p:nvPr/>
        </p:nvSpPr>
        <p:spPr>
          <a:xfrm>
            <a:off x="6156360" y="1663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Arc 60"/>
          <p:cNvSpPr/>
          <p:nvPr/>
        </p:nvSpPr>
        <p:spPr>
          <a:xfrm flipV="1">
            <a:off x="6588000" y="2924280"/>
            <a:ext cx="216000" cy="288720"/>
          </a:xfrm>
          <a:custGeom>
            <a:avLst/>
            <a:gdLst>
              <a:gd name="textAreaLeft" fmla="*/ 0 w 216000"/>
              <a:gd name="textAreaRight" fmla="*/ 216360 w 216000"/>
              <a:gd name="textAreaTop" fmla="*/ 360 h 288720"/>
              <a:gd name="textAreaBottom" fmla="*/ 28944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Text Box 61"/>
          <p:cNvSpPr/>
          <p:nvPr/>
        </p:nvSpPr>
        <p:spPr>
          <a:xfrm>
            <a:off x="6732720" y="292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Arc 62"/>
          <p:cNvSpPr/>
          <p:nvPr/>
        </p:nvSpPr>
        <p:spPr>
          <a:xfrm>
            <a:off x="7380360" y="2708280"/>
            <a:ext cx="431640" cy="21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63"/>
          <p:cNvSpPr/>
          <p:nvPr/>
        </p:nvSpPr>
        <p:spPr>
          <a:xfrm>
            <a:off x="7451640" y="2455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Text Box 64"/>
          <p:cNvSpPr/>
          <p:nvPr/>
        </p:nvSpPr>
        <p:spPr>
          <a:xfrm>
            <a:off x="71280" y="4076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求出上图中各个三角形中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等于多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6" name="Group 65"/>
          <p:cNvGrpSpPr/>
          <p:nvPr/>
        </p:nvGrpSpPr>
        <p:grpSpPr>
          <a:xfrm>
            <a:off x="6310440" y="4653000"/>
            <a:ext cx="2869920" cy="2386800"/>
            <a:chOff x="6310440" y="4653000"/>
            <a:chExt cx="2869920" cy="2386800"/>
          </a:xfrm>
        </p:grpSpPr>
        <p:sp>
          <p:nvSpPr>
            <p:cNvPr id="537" name="Line 66"/>
            <p:cNvSpPr/>
            <p:nvPr/>
          </p:nvSpPr>
          <p:spPr>
            <a:xfrm flipH="1">
              <a:off x="6480360" y="5117400"/>
              <a:ext cx="757080" cy="162936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8" name="Line 67"/>
            <p:cNvSpPr/>
            <p:nvPr/>
          </p:nvSpPr>
          <p:spPr>
            <a:xfrm>
              <a:off x="6716880" y="6237000"/>
              <a:ext cx="24634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9" name="Line 68"/>
            <p:cNvSpPr/>
            <p:nvPr/>
          </p:nvSpPr>
          <p:spPr>
            <a:xfrm flipH="1" flipV="1">
              <a:off x="6811560" y="4761000"/>
              <a:ext cx="1752120" cy="147564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0" name="AutoShape 69"/>
            <p:cNvSpPr/>
            <p:nvPr/>
          </p:nvSpPr>
          <p:spPr>
            <a:xfrm rot="4735200">
              <a:off x="6931080" y="4834440"/>
              <a:ext cx="646200" cy="6012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601200"/>
                <a:gd name="textAreaBottom" fmla="*/ 515880 h 60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86" y="11056"/>
                  </a:moveTo>
                  <a:cubicBezTo>
                    <a:pt x="11013" y="11138"/>
                    <a:pt x="10909" y="11184"/>
                    <a:pt x="10800" y="11185"/>
                  </a:cubicBezTo>
                  <a:cubicBezTo>
                    <a:pt x="10690" y="11185"/>
                    <a:pt x="10586" y="11138"/>
                    <a:pt x="10513" y="11056"/>
                  </a:cubicBezTo>
                  <a:lnTo>
                    <a:pt x="2754" y="18004"/>
                  </a:lnTo>
                  <a:cubicBezTo>
                    <a:pt x="4803" y="20292"/>
                    <a:pt x="7728" y="21600"/>
                    <a:pt x="10800" y="21600"/>
                  </a:cubicBezTo>
                  <a:cubicBezTo>
                    <a:pt x="13871" y="21599"/>
                    <a:pt x="16796" y="20292"/>
                    <a:pt x="18845" y="18004"/>
                  </a:cubicBezTo>
                  <a:close/>
                </a:path>
              </a:pathLst>
            </a:custGeom>
            <a:solidFill>
              <a:srgbClr val="0000ff"/>
            </a:solidFill>
            <a:ln w="88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1" name="AutoShape 70"/>
            <p:cNvSpPr/>
            <p:nvPr/>
          </p:nvSpPr>
          <p:spPr>
            <a:xfrm rot="12039000">
              <a:off x="8233200" y="5879880"/>
              <a:ext cx="601200" cy="646200"/>
            </a:xfrm>
            <a:custGeom>
              <a:avLst/>
              <a:gdLst>
                <a:gd name="textAreaLeft" fmla="*/ 0 w 601200"/>
                <a:gd name="textAreaRight" fmla="*/ 601560 w 601200"/>
                <a:gd name="textAreaTop" fmla="*/ 0 h 646200"/>
                <a:gd name="textAreaBottom" fmla="*/ 436320 h 64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99cc00"/>
            </a:solidFill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AutoShape 71"/>
            <p:cNvSpPr/>
            <p:nvPr/>
          </p:nvSpPr>
          <p:spPr>
            <a:xfrm rot="19764000">
              <a:off x="6432840" y="5931720"/>
              <a:ext cx="601200" cy="646200"/>
            </a:xfrm>
            <a:custGeom>
              <a:avLst/>
              <a:gdLst>
                <a:gd name="textAreaLeft" fmla="*/ 0 w 601200"/>
                <a:gd name="textAreaRight" fmla="*/ 601560 w 601200"/>
                <a:gd name="textAreaTop" fmla="*/ 0 h 646200"/>
                <a:gd name="textAreaBottom" fmla="*/ 500400 h 64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57" y="10951"/>
                  </a:moveTo>
                  <a:cubicBezTo>
                    <a:pt x="11003" y="11043"/>
                    <a:pt x="10905" y="11098"/>
                    <a:pt x="10800" y="11099"/>
                  </a:cubicBezTo>
                  <a:cubicBezTo>
                    <a:pt x="10694" y="11099"/>
                    <a:pt x="10596" y="11043"/>
                    <a:pt x="10542" y="10951"/>
                  </a:cubicBezTo>
                  <a:lnTo>
                    <a:pt x="1494" y="16282"/>
                  </a:lnTo>
                  <a:cubicBezTo>
                    <a:pt x="3436" y="19577"/>
                    <a:pt x="6975" y="21600"/>
                    <a:pt x="10800" y="21600"/>
                  </a:cubicBezTo>
                  <a:cubicBezTo>
                    <a:pt x="14624" y="21599"/>
                    <a:pt x="18163" y="19577"/>
                    <a:pt x="20105" y="16282"/>
                  </a:cubicBezTo>
                  <a:close/>
                </a:path>
              </a:pathLst>
            </a:custGeom>
            <a:solidFill>
              <a:srgbClr val="993366"/>
            </a:solidFill>
            <a:ln w="88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Text Box 72"/>
            <p:cNvSpPr/>
            <p:nvPr/>
          </p:nvSpPr>
          <p:spPr>
            <a:xfrm>
              <a:off x="727344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4" name="Text Box 73"/>
            <p:cNvSpPr/>
            <p:nvPr/>
          </p:nvSpPr>
          <p:spPr>
            <a:xfrm>
              <a:off x="6373800" y="5874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Text Box 74"/>
            <p:cNvSpPr/>
            <p:nvPr/>
          </p:nvSpPr>
          <p:spPr>
            <a:xfrm>
              <a:off x="8458920" y="6232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Text Box 75"/>
            <p:cNvSpPr/>
            <p:nvPr/>
          </p:nvSpPr>
          <p:spPr>
            <a:xfrm>
              <a:off x="6705720" y="4959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1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Text Box 76"/>
            <p:cNvSpPr/>
            <p:nvPr/>
          </p:nvSpPr>
          <p:spPr>
            <a:xfrm>
              <a:off x="6908400" y="6458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2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Text Box 77"/>
            <p:cNvSpPr/>
            <p:nvPr/>
          </p:nvSpPr>
          <p:spPr>
            <a:xfrm>
              <a:off x="8601120" y="5416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3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9" name="Text Box 78"/>
          <p:cNvSpPr/>
          <p:nvPr/>
        </p:nvSpPr>
        <p:spPr>
          <a:xfrm>
            <a:off x="179280" y="479736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图，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三个外角，问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Text Box 79"/>
          <p:cNvSpPr/>
          <p:nvPr/>
        </p:nvSpPr>
        <p:spPr>
          <a:xfrm>
            <a:off x="468360" y="19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Text Box 80"/>
          <p:cNvSpPr/>
          <p:nvPr/>
        </p:nvSpPr>
        <p:spPr>
          <a:xfrm>
            <a:off x="826920" y="306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Text Box 81"/>
          <p:cNvSpPr/>
          <p:nvPr/>
        </p:nvSpPr>
        <p:spPr>
          <a:xfrm>
            <a:off x="1981080" y="26305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276720" y="19828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3346560" y="270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43560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5867280" y="1484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651672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716436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7956720" y="37162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6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4"/>
          <p:cNvGrpSpPr/>
          <p:nvPr/>
        </p:nvGrpSpPr>
        <p:grpSpPr>
          <a:xfrm>
            <a:off x="6029280" y="260280"/>
            <a:ext cx="3114360" cy="2782080"/>
            <a:chOff x="6029280" y="260280"/>
            <a:chExt cx="3114360" cy="2782080"/>
          </a:xfrm>
        </p:grpSpPr>
        <p:sp>
          <p:nvSpPr>
            <p:cNvPr id="561" name="Line 5"/>
            <p:cNvSpPr/>
            <p:nvPr/>
          </p:nvSpPr>
          <p:spPr>
            <a:xfrm flipH="1">
              <a:off x="6236280" y="826560"/>
              <a:ext cx="815400" cy="198720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2" name="Line 6"/>
            <p:cNvSpPr/>
            <p:nvPr/>
          </p:nvSpPr>
          <p:spPr>
            <a:xfrm>
              <a:off x="6490440" y="2192760"/>
              <a:ext cx="265320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3" name="Line 7"/>
            <p:cNvSpPr/>
            <p:nvPr/>
          </p:nvSpPr>
          <p:spPr>
            <a:xfrm flipH="1" flipV="1">
              <a:off x="6593040" y="392760"/>
              <a:ext cx="1887120" cy="180000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AutoShape 8"/>
            <p:cNvSpPr/>
            <p:nvPr/>
          </p:nvSpPr>
          <p:spPr>
            <a:xfrm rot="4735200">
              <a:off x="6675120" y="524520"/>
              <a:ext cx="788400" cy="64764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647640"/>
                <a:gd name="textAreaBottom" fmla="*/ 5554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86" y="11056"/>
                  </a:moveTo>
                  <a:cubicBezTo>
                    <a:pt x="11013" y="11138"/>
                    <a:pt x="10909" y="11184"/>
                    <a:pt x="10800" y="11185"/>
                  </a:cubicBezTo>
                  <a:cubicBezTo>
                    <a:pt x="10690" y="11185"/>
                    <a:pt x="10586" y="11138"/>
                    <a:pt x="10513" y="11056"/>
                  </a:cubicBezTo>
                  <a:lnTo>
                    <a:pt x="2754" y="18004"/>
                  </a:lnTo>
                  <a:cubicBezTo>
                    <a:pt x="4803" y="20292"/>
                    <a:pt x="7728" y="21600"/>
                    <a:pt x="10800" y="21600"/>
                  </a:cubicBezTo>
                  <a:cubicBezTo>
                    <a:pt x="13871" y="21599"/>
                    <a:pt x="16796" y="20292"/>
                    <a:pt x="18845" y="18004"/>
                  </a:cubicBezTo>
                  <a:close/>
                </a:path>
              </a:pathLst>
            </a:custGeom>
            <a:solidFill>
              <a:srgbClr val="0000ff"/>
            </a:solidFill>
            <a:ln w="88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AutoShape 9"/>
            <p:cNvSpPr/>
            <p:nvPr/>
          </p:nvSpPr>
          <p:spPr>
            <a:xfrm rot="12039000">
              <a:off x="8123040" y="1757520"/>
              <a:ext cx="647640" cy="78840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88400"/>
                <a:gd name="textAreaBottom" fmla="*/ 532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99cc00"/>
            </a:solidFill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6" name="AutoShape 10"/>
            <p:cNvSpPr/>
            <p:nvPr/>
          </p:nvSpPr>
          <p:spPr>
            <a:xfrm rot="19764000">
              <a:off x="6184800" y="1820160"/>
              <a:ext cx="647640" cy="78840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88400"/>
                <a:gd name="textAreaBottom" fmla="*/ 61056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57" y="10951"/>
                  </a:moveTo>
                  <a:cubicBezTo>
                    <a:pt x="11003" y="11043"/>
                    <a:pt x="10905" y="11098"/>
                    <a:pt x="10800" y="11099"/>
                  </a:cubicBezTo>
                  <a:cubicBezTo>
                    <a:pt x="10694" y="11099"/>
                    <a:pt x="10596" y="11043"/>
                    <a:pt x="10542" y="10951"/>
                  </a:cubicBezTo>
                  <a:lnTo>
                    <a:pt x="1494" y="16282"/>
                  </a:lnTo>
                  <a:cubicBezTo>
                    <a:pt x="3436" y="19577"/>
                    <a:pt x="6975" y="21600"/>
                    <a:pt x="10800" y="21600"/>
                  </a:cubicBezTo>
                  <a:cubicBezTo>
                    <a:pt x="14624" y="21599"/>
                    <a:pt x="18163" y="19577"/>
                    <a:pt x="20105" y="16282"/>
                  </a:cubicBezTo>
                  <a:close/>
                </a:path>
              </a:pathLst>
            </a:custGeom>
            <a:solidFill>
              <a:srgbClr val="993366"/>
            </a:solidFill>
            <a:ln w="88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7090200" y="260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8" name="Text Box 12"/>
            <p:cNvSpPr/>
            <p:nvPr/>
          </p:nvSpPr>
          <p:spPr>
            <a:xfrm>
              <a:off x="6121080" y="1750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9" name="Text Box 13"/>
            <p:cNvSpPr/>
            <p:nvPr/>
          </p:nvSpPr>
          <p:spPr>
            <a:xfrm>
              <a:off x="8366040" y="2185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0" name="Text Box 14"/>
            <p:cNvSpPr/>
            <p:nvPr/>
          </p:nvSpPr>
          <p:spPr>
            <a:xfrm>
              <a:off x="6478560" y="633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1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1" name="Text Box 15"/>
            <p:cNvSpPr/>
            <p:nvPr/>
          </p:nvSpPr>
          <p:spPr>
            <a:xfrm>
              <a:off x="6697080" y="24609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2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2" name="Text Box 16"/>
            <p:cNvSpPr/>
            <p:nvPr/>
          </p:nvSpPr>
          <p:spPr>
            <a:xfrm>
              <a:off x="8517960" y="1192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3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3" name="Text Box 17"/>
          <p:cNvSpPr/>
          <p:nvPr/>
        </p:nvSpPr>
        <p:spPr>
          <a:xfrm>
            <a:off x="108000" y="40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解一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Text Box 18"/>
          <p:cNvSpPr/>
          <p:nvPr/>
        </p:nvSpPr>
        <p:spPr>
          <a:xfrm>
            <a:off x="684360" y="90792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∵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Text Box 19"/>
          <p:cNvSpPr/>
          <p:nvPr/>
        </p:nvSpPr>
        <p:spPr>
          <a:xfrm>
            <a:off x="611280" y="20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20"/>
          <p:cNvSpPr/>
          <p:nvPr/>
        </p:nvSpPr>
        <p:spPr>
          <a:xfrm>
            <a:off x="324000" y="24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又∵ 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611280" y="278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Rectangle 22"/>
          <p:cNvSpPr/>
          <p:nvPr/>
        </p:nvSpPr>
        <p:spPr>
          <a:xfrm>
            <a:off x="389880" y="3137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解二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Text Box 26"/>
          <p:cNvSpPr/>
          <p:nvPr/>
        </p:nvSpPr>
        <p:spPr>
          <a:xfrm>
            <a:off x="539640" y="3789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∵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796320" y="4286160"/>
            <a:ext cx="19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796320" y="4718160"/>
            <a:ext cx="19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Text Box 29"/>
          <p:cNvSpPr/>
          <p:nvPr/>
        </p:nvSpPr>
        <p:spPr>
          <a:xfrm>
            <a:off x="869400" y="5157720"/>
            <a:ext cx="45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537120" y="5661000"/>
            <a:ext cx="33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又∵ 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666000" y="6165720"/>
            <a:ext cx="22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4140360" y="175752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解三：过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作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AD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平行于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4211640" y="29098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4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560520" y="2878200"/>
            <a:ext cx="3744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AutoShape 5"/>
          <p:cNvSpPr/>
          <p:nvPr/>
        </p:nvSpPr>
        <p:spPr>
          <a:xfrm rot="4735200">
            <a:off x="920520" y="8618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784440 h 914400"/>
            </a:gdLst>
            <a:ahLst/>
            <a:rect l="textAreaLeft" t="textAreaTop" r="textAreaRight" b="textAreaBottom"/>
            <a:pathLst>
              <a:path w="21600" h="21600">
                <a:moveTo>
                  <a:pt x="11086" y="11056"/>
                </a:moveTo>
                <a:cubicBezTo>
                  <a:pt x="11013" y="11138"/>
                  <a:pt x="10909" y="11184"/>
                  <a:pt x="10800" y="11185"/>
                </a:cubicBezTo>
                <a:cubicBezTo>
                  <a:pt x="10690" y="11185"/>
                  <a:pt x="10586" y="11138"/>
                  <a:pt x="10513" y="11056"/>
                </a:cubicBezTo>
                <a:lnTo>
                  <a:pt x="2754" y="18004"/>
                </a:lnTo>
                <a:cubicBezTo>
                  <a:pt x="4803" y="20292"/>
                  <a:pt x="7728" y="21600"/>
                  <a:pt x="10800" y="21600"/>
                </a:cubicBezTo>
                <a:cubicBezTo>
                  <a:pt x="13871" y="21599"/>
                  <a:pt x="16796" y="20292"/>
                  <a:pt x="18845" y="18004"/>
                </a:cubicBezTo>
                <a:close/>
              </a:path>
            </a:pathLst>
          </a:custGeom>
          <a:solidFill>
            <a:srgbClr val="0000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 flipH="1" flipV="1">
            <a:off x="704520" y="790200"/>
            <a:ext cx="2663640" cy="208764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 rot="12039000">
            <a:off x="2865600" y="2373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617760 h 914400"/>
            </a:gdLst>
            <a:ahLst/>
            <a:rect l="textAreaLeft" t="textAreaTop" r="textAreaRight" b="textAreaBottom"/>
            <a:pathLst>
              <a:path w="21600" h="21600">
                <a:moveTo>
                  <a:pt x="11580" y="11065"/>
                </a:moveTo>
                <a:cubicBezTo>
                  <a:pt x="11467" y="11400"/>
                  <a:pt x="11153" y="11624"/>
                  <a:pt x="10800" y="11625"/>
                </a:cubicBezTo>
                <a:cubicBezTo>
                  <a:pt x="10446" y="11625"/>
                  <a:pt x="10132" y="11400"/>
                  <a:pt x="10019" y="11065"/>
                </a:cubicBezTo>
                <a:lnTo>
                  <a:pt x="576" y="14281"/>
                </a:lnTo>
                <a:cubicBezTo>
                  <a:pt x="2067" y="18657"/>
                  <a:pt x="6177" y="21600"/>
                  <a:pt x="10800" y="21600"/>
                </a:cubicBezTo>
                <a:cubicBezTo>
                  <a:pt x="15422" y="21599"/>
                  <a:pt x="19532" y="18657"/>
                  <a:pt x="21023" y="14281"/>
                </a:cubicBezTo>
                <a:close/>
              </a:path>
            </a:pathLst>
          </a:custGeom>
          <a:solidFill>
            <a:srgbClr val="99cc00"/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AutoShape 8"/>
          <p:cNvSpPr/>
          <p:nvPr/>
        </p:nvSpPr>
        <p:spPr>
          <a:xfrm rot="19764000">
            <a:off x="128160" y="2457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708480 h 914400"/>
            </a:gdLst>
            <a:ahLst/>
            <a:rect l="textAreaLeft" t="textAreaTop" r="textAreaRight" b="textAreaBottom"/>
            <a:pathLst>
              <a:path w="21600" h="21600">
                <a:moveTo>
                  <a:pt x="11057" y="10951"/>
                </a:moveTo>
                <a:cubicBezTo>
                  <a:pt x="11003" y="11043"/>
                  <a:pt x="10905" y="11098"/>
                  <a:pt x="10800" y="11099"/>
                </a:cubicBezTo>
                <a:cubicBezTo>
                  <a:pt x="10694" y="11099"/>
                  <a:pt x="10596" y="11043"/>
                  <a:pt x="10542" y="10951"/>
                </a:cubicBezTo>
                <a:lnTo>
                  <a:pt x="1494" y="16282"/>
                </a:lnTo>
                <a:cubicBezTo>
                  <a:pt x="3436" y="19577"/>
                  <a:pt x="6975" y="21600"/>
                  <a:pt x="10800" y="21600"/>
                </a:cubicBezTo>
                <a:cubicBezTo>
                  <a:pt x="14624" y="21599"/>
                  <a:pt x="18163" y="19577"/>
                  <a:pt x="20105" y="16282"/>
                </a:cubicBezTo>
                <a:close/>
              </a:path>
            </a:pathLst>
          </a:custGeom>
          <a:solidFill>
            <a:srgbClr val="993366"/>
          </a:solidFill>
          <a:ln w="88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37800" y="236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PMingLiU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3206520" y="287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PMingLiU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542880" y="1069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PMingLiU"/>
              </a:rPr>
              <a:t>1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850680" y="3189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PMingLiU"/>
              </a:rPr>
              <a:t>2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3422520" y="171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PMingLiU"/>
              </a:rPr>
              <a:t>3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7" name="Group 14"/>
          <p:cNvGrpSpPr/>
          <p:nvPr/>
        </p:nvGrpSpPr>
        <p:grpSpPr>
          <a:xfrm>
            <a:off x="743040" y="620640"/>
            <a:ext cx="2028600" cy="1222920"/>
            <a:chOff x="743040" y="620640"/>
            <a:chExt cx="2028600" cy="1222920"/>
          </a:xfrm>
        </p:grpSpPr>
        <p:sp>
          <p:nvSpPr>
            <p:cNvPr id="598" name="AutoShape 15"/>
            <p:cNvSpPr/>
            <p:nvPr/>
          </p:nvSpPr>
          <p:spPr>
            <a:xfrm rot="12039000">
              <a:off x="874440" y="807840"/>
              <a:ext cx="888840" cy="90792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907920"/>
                <a:gd name="textAreaBottom" fmla="*/ 612720 h 90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4e3b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9" name="Text Box 16"/>
            <p:cNvSpPr/>
            <p:nvPr/>
          </p:nvSpPr>
          <p:spPr>
            <a:xfrm>
              <a:off x="1692360" y="6206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0" name="Text Box 17"/>
          <p:cNvSpPr/>
          <p:nvPr/>
        </p:nvSpPr>
        <p:spPr>
          <a:xfrm>
            <a:off x="1188720" y="776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PMingLiU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AutoShape 18"/>
          <p:cNvSpPr/>
          <p:nvPr/>
        </p:nvSpPr>
        <p:spPr>
          <a:xfrm rot="19764000">
            <a:off x="899640" y="852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708480 h 914400"/>
            </a:gdLst>
            <a:ahLst/>
            <a:rect l="textAreaLeft" t="textAreaTop" r="textAreaRight" b="textAreaBottom"/>
            <a:pathLst>
              <a:path w="21600" h="21600">
                <a:moveTo>
                  <a:pt x="11057" y="10951"/>
                </a:moveTo>
                <a:cubicBezTo>
                  <a:pt x="11003" y="11043"/>
                  <a:pt x="10905" y="11098"/>
                  <a:pt x="10800" y="11099"/>
                </a:cubicBezTo>
                <a:cubicBezTo>
                  <a:pt x="10694" y="11099"/>
                  <a:pt x="10596" y="11043"/>
                  <a:pt x="10542" y="10951"/>
                </a:cubicBezTo>
                <a:lnTo>
                  <a:pt x="1494" y="16282"/>
                </a:lnTo>
                <a:cubicBezTo>
                  <a:pt x="3436" y="19577"/>
                  <a:pt x="6975" y="21600"/>
                  <a:pt x="10800" y="21600"/>
                </a:cubicBezTo>
                <a:cubicBezTo>
                  <a:pt x="14624" y="21599"/>
                  <a:pt x="18163" y="19577"/>
                  <a:pt x="20105" y="16282"/>
                </a:cubicBezTo>
                <a:close/>
              </a:path>
            </a:pathLst>
          </a:custGeom>
          <a:solidFill>
            <a:srgbClr val="ffff99"/>
          </a:solidFill>
          <a:ln w="284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Text Box 19"/>
          <p:cNvSpPr/>
          <p:nvPr/>
        </p:nvSpPr>
        <p:spPr>
          <a:xfrm>
            <a:off x="4572000" y="34862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 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A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762120" y="4267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AD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4=36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04" name="Group 21"/>
          <p:cNvGrpSpPr/>
          <p:nvPr/>
        </p:nvGrpSpPr>
        <p:grpSpPr>
          <a:xfrm>
            <a:off x="7391520" y="2387520"/>
            <a:ext cx="1908000" cy="1328760"/>
            <a:chOff x="7391520" y="2387520"/>
            <a:chExt cx="1908000" cy="1328760"/>
          </a:xfrm>
        </p:grpSpPr>
        <p:grpSp>
          <p:nvGrpSpPr>
            <p:cNvPr id="605" name="Group 22"/>
            <p:cNvGrpSpPr/>
            <p:nvPr/>
          </p:nvGrpSpPr>
          <p:grpSpPr>
            <a:xfrm>
              <a:off x="7391520" y="2387520"/>
              <a:ext cx="1908000" cy="1328760"/>
              <a:chOff x="7391520" y="2387520"/>
              <a:chExt cx="1908000" cy="1328760"/>
            </a:xfrm>
          </p:grpSpPr>
          <p:sp>
            <p:nvSpPr>
              <p:cNvPr id="606" name="AutoShape 23"/>
              <p:cNvSpPr/>
              <p:nvPr/>
            </p:nvSpPr>
            <p:spPr>
              <a:xfrm>
                <a:off x="7391520" y="2387520"/>
                <a:ext cx="1908000" cy="1328760"/>
              </a:xfrm>
              <a:prstGeom prst="wedgeRoundRectCallout">
                <a:avLst>
                  <a:gd name="adj1" fmla="val -100333"/>
                  <a:gd name="adj2" fmla="val 17449"/>
                  <a:gd name="adj3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7" name="AutoShape 24"/>
              <p:cNvSpPr/>
              <p:nvPr/>
            </p:nvSpPr>
            <p:spPr>
              <a:xfrm>
                <a:off x="7680240" y="2713320"/>
                <a:ext cx="1619280" cy="1002960"/>
              </a:xfrm>
              <a:prstGeom prst="wedgeRoundRectCallout">
                <a:avLst>
                  <a:gd name="adj1" fmla="val -115981"/>
                  <a:gd name="adj2" fmla="val 47490"/>
                  <a:gd name="adj3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08" name="Text Box 25"/>
            <p:cNvSpPr/>
            <p:nvPr/>
          </p:nvSpPr>
          <p:spPr>
            <a:xfrm>
              <a:off x="7464240" y="2682720"/>
              <a:ext cx="18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66"/>
                  </a:solidFill>
                  <a:latin typeface="Arial"/>
                  <a:ea typeface="华文中宋"/>
                </a:rPr>
                <a:t>两直线平行，同位角相等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9" name="Line 26"/>
          <p:cNvSpPr/>
          <p:nvPr/>
        </p:nvSpPr>
        <p:spPr>
          <a:xfrm flipH="1">
            <a:off x="201240" y="1293840"/>
            <a:ext cx="1150920" cy="23050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0" name="Group 27"/>
          <p:cNvGrpSpPr/>
          <p:nvPr/>
        </p:nvGrpSpPr>
        <p:grpSpPr>
          <a:xfrm>
            <a:off x="1371600" y="852480"/>
            <a:ext cx="3632040" cy="520560"/>
            <a:chOff x="1371600" y="852480"/>
            <a:chExt cx="3632040" cy="520560"/>
          </a:xfrm>
        </p:grpSpPr>
        <p:sp>
          <p:nvSpPr>
            <p:cNvPr id="611" name="Text Box 28"/>
            <p:cNvSpPr/>
            <p:nvPr/>
          </p:nvSpPr>
          <p:spPr>
            <a:xfrm>
              <a:off x="4356000" y="852480"/>
              <a:ext cx="6476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2" name="Line 29"/>
            <p:cNvSpPr/>
            <p:nvPr/>
          </p:nvSpPr>
          <p:spPr>
            <a:xfrm>
              <a:off x="1371600" y="1279440"/>
              <a:ext cx="3024360" cy="15840"/>
            </a:xfrm>
            <a:prstGeom prst="line">
              <a:avLst/>
            </a:prstGeom>
            <a:ln w="7632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3" name="Text Box 31"/>
          <p:cNvSpPr/>
          <p:nvPr/>
        </p:nvSpPr>
        <p:spPr>
          <a:xfrm>
            <a:off x="250920" y="49417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归纳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Text Box 32"/>
          <p:cNvSpPr/>
          <p:nvPr/>
        </p:nvSpPr>
        <p:spPr>
          <a:xfrm>
            <a:off x="395280" y="5589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角形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外角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6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228600" y="7621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题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179280" y="1413000"/>
            <a:ext cx="8964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外角和是指三角形所有外角的和。（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外角和等于它内角和的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倍。（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一个外角等于两个内角的和。（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一个外角等于与它不相邻的两个内角的和。（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一个外角大于任何一个内角。（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一个内角小于任何一个与它不相邻的外角。（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7" name="Group 4"/>
          <p:cNvGrpSpPr/>
          <p:nvPr/>
        </p:nvGrpSpPr>
        <p:grpSpPr>
          <a:xfrm>
            <a:off x="7308720" y="2491920"/>
            <a:ext cx="304920" cy="381600"/>
            <a:chOff x="7308720" y="2491920"/>
            <a:chExt cx="304920" cy="381600"/>
          </a:xfrm>
        </p:grpSpPr>
        <p:sp>
          <p:nvSpPr>
            <p:cNvPr id="618" name="Line 5"/>
            <p:cNvSpPr/>
            <p:nvPr/>
          </p:nvSpPr>
          <p:spPr>
            <a:xfrm>
              <a:off x="7308720" y="2644920"/>
              <a:ext cx="7632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9" name="Line 6"/>
            <p:cNvSpPr/>
            <p:nvPr/>
          </p:nvSpPr>
          <p:spPr>
            <a:xfrm flipV="1">
              <a:off x="7385040" y="2491920"/>
              <a:ext cx="228600" cy="38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20" name="Group 7"/>
          <p:cNvGrpSpPr/>
          <p:nvPr/>
        </p:nvGrpSpPr>
        <p:grpSpPr>
          <a:xfrm>
            <a:off x="826920" y="4292640"/>
            <a:ext cx="304920" cy="380880"/>
            <a:chOff x="826920" y="4292640"/>
            <a:chExt cx="304920" cy="380880"/>
          </a:xfrm>
        </p:grpSpPr>
        <p:sp>
          <p:nvSpPr>
            <p:cNvPr id="621" name="Line 8"/>
            <p:cNvSpPr/>
            <p:nvPr/>
          </p:nvSpPr>
          <p:spPr>
            <a:xfrm>
              <a:off x="826920" y="4444920"/>
              <a:ext cx="7632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2" name="Line 9"/>
            <p:cNvSpPr/>
            <p:nvPr/>
          </p:nvSpPr>
          <p:spPr>
            <a:xfrm flipV="1">
              <a:off x="903240" y="4292640"/>
              <a:ext cx="22860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23" name="Group 10"/>
          <p:cNvGrpSpPr/>
          <p:nvPr/>
        </p:nvGrpSpPr>
        <p:grpSpPr>
          <a:xfrm>
            <a:off x="971640" y="6093000"/>
            <a:ext cx="304200" cy="380880"/>
            <a:chOff x="971640" y="6093000"/>
            <a:chExt cx="304200" cy="380880"/>
          </a:xfrm>
        </p:grpSpPr>
        <p:sp>
          <p:nvSpPr>
            <p:cNvPr id="624" name="Line 11"/>
            <p:cNvSpPr/>
            <p:nvPr/>
          </p:nvSpPr>
          <p:spPr>
            <a:xfrm>
              <a:off x="971640" y="6245280"/>
              <a:ext cx="7596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5" name="Line 12"/>
            <p:cNvSpPr/>
            <p:nvPr/>
          </p:nvSpPr>
          <p:spPr>
            <a:xfrm flipV="1">
              <a:off x="1047600" y="6093000"/>
              <a:ext cx="228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26" name="Group 13"/>
          <p:cNvGrpSpPr/>
          <p:nvPr/>
        </p:nvGrpSpPr>
        <p:grpSpPr>
          <a:xfrm>
            <a:off x="1042560" y="2133720"/>
            <a:ext cx="216000" cy="360000"/>
            <a:chOff x="1042560" y="2133720"/>
            <a:chExt cx="216000" cy="360000"/>
          </a:xfrm>
        </p:grpSpPr>
        <p:sp>
          <p:nvSpPr>
            <p:cNvPr id="627" name="Line 14"/>
            <p:cNvSpPr/>
            <p:nvPr/>
          </p:nvSpPr>
          <p:spPr>
            <a:xfrm>
              <a:off x="1042920" y="2133720"/>
              <a:ext cx="2156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8" name="Line 15"/>
            <p:cNvSpPr/>
            <p:nvPr/>
          </p:nvSpPr>
          <p:spPr>
            <a:xfrm flipH="1">
              <a:off x="1042560" y="2133720"/>
              <a:ext cx="2156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29" name="Group 16"/>
          <p:cNvGrpSpPr/>
          <p:nvPr/>
        </p:nvGrpSpPr>
        <p:grpSpPr>
          <a:xfrm>
            <a:off x="7451280" y="5013360"/>
            <a:ext cx="216000" cy="375840"/>
            <a:chOff x="7451280" y="5013360"/>
            <a:chExt cx="216000" cy="375840"/>
          </a:xfrm>
        </p:grpSpPr>
        <p:sp>
          <p:nvSpPr>
            <p:cNvPr id="630" name="Line 17"/>
            <p:cNvSpPr/>
            <p:nvPr/>
          </p:nvSpPr>
          <p:spPr>
            <a:xfrm>
              <a:off x="7451640" y="5013360"/>
              <a:ext cx="215640" cy="375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1" name="Line 18"/>
            <p:cNvSpPr/>
            <p:nvPr/>
          </p:nvSpPr>
          <p:spPr>
            <a:xfrm flipH="1">
              <a:off x="7451280" y="5013360"/>
              <a:ext cx="215640" cy="375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32" name="Group 19"/>
          <p:cNvGrpSpPr/>
          <p:nvPr/>
        </p:nvGrpSpPr>
        <p:grpSpPr>
          <a:xfrm>
            <a:off x="7451280" y="3213000"/>
            <a:ext cx="216000" cy="375840"/>
            <a:chOff x="7451280" y="3213000"/>
            <a:chExt cx="216000" cy="375840"/>
          </a:xfrm>
        </p:grpSpPr>
        <p:sp>
          <p:nvSpPr>
            <p:cNvPr id="633" name="Line 20"/>
            <p:cNvSpPr/>
            <p:nvPr/>
          </p:nvSpPr>
          <p:spPr>
            <a:xfrm>
              <a:off x="7451640" y="3213000"/>
              <a:ext cx="215640" cy="375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4" name="Line 21"/>
            <p:cNvSpPr/>
            <p:nvPr/>
          </p:nvSpPr>
          <p:spPr>
            <a:xfrm flipH="1">
              <a:off x="7451280" y="3213000"/>
              <a:ext cx="215640" cy="375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5" name="Rectangle 22"/>
          <p:cNvSpPr/>
          <p:nvPr/>
        </p:nvSpPr>
        <p:spPr>
          <a:xfrm>
            <a:off x="1171080" y="246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、巩固练习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8:04:13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5:47Z</dcterms:modified>
  <cp:revision>48</cp:revision>
  <dc:subject>www.12999.com</dc:subject>
  <dc:title>www.12999.com</dc:title>
</cp:coreProperties>
</file>