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arrow.wav" ContentType="audio/x-wav"/>
  <Override PartName="/ppt/media/type.wav" ContentType="audio/x-wav"/>
  <Override PartName="/ppt/media/applause.wav" ContentType="audio/x-wav"/>
  <Override PartName="/ppt/media/image1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9F5-5454-4B51-AB8A-2EAFF471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C71-E281-4429-86AA-96A7F8D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7B0D-874A-4C2F-8436-2EEB9105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4C6A9-275A-44B1-AE88-5187DEEE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0710F-0D1A-4493-BA47-6F5C9F3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12FB9-28E5-4503-A2DC-9E8AF9B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0E9C6-A5D6-4341-8E2A-F2ECCB1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1890F-52AB-41D4-9C64-3CEFF8F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BDC36-5B50-465D-88A3-970799D4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C1550-A962-405A-A782-8D2594D3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F3A35-A845-492C-A2B5-9F89706B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4A663-E424-4EA2-ACA2-E3BA898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E3D-979E-465E-83BF-BC553E6C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BC92-02A6-4B64-A65D-D3FD46AB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A0FB8-35F3-40C0-8578-02FA72A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78E44-97E5-496B-BBF5-F88456B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472C7-523A-4112-A61B-97F40E4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F5AE5-7EB3-4242-A70F-8DAFA74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96FF1-9766-42FC-9682-EF340EC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BECFB-7842-4A23-AC26-7949D47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C37DC-C18C-4354-8B27-2D47388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A338D-30CE-4DBD-83E6-3064B36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5520B-5051-4DBA-B4BD-B22AF9FA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2D5-479E-461C-B815-FDCD08D0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0F33-22E5-494B-A78B-8B0C848D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5339-613C-4B82-88B2-5AE490E2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4F07-4205-42FF-820B-80E5A65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3837-E8B6-499B-B523-8B0A3076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DBF5-EE4D-40A2-AF6D-F9AB8D8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3D0F-DE7F-44B9-9043-6374BEB2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A25-41F0-4329-BD2A-0C11AA8C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79C6-AF8E-42CE-97B2-88A5A22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CA8-CCC4-4566-B05B-060C027E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D8B3-F8B7-4827-9CD3-C51201F4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01FD-5ED0-4567-9BBE-A1F46C2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7042-6625-43D3-9548-63550B3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EB10-9ED0-420E-942A-4CD1D412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A75-266F-4D7E-AB92-468E724C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DDAA-2F6B-4484-8968-E9026447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49F8-363A-4ED3-89D0-5EBE3342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2DFD-C92B-4931-A741-E1DDA9F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1DA1-A412-40AA-A8CB-C66F9D29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B8EC-0B56-42B7-88D4-30A56F5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ED4-1BAD-4D1B-9B68-717347A0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D3BA-F436-4DC7-B2B6-B969638A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4AB0-84C4-4837-B3B6-A6FEC88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2D98-D329-4974-B0A9-F49964E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32BB-7990-4FB6-944A-B44AF72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63D3-F979-4CE0-AE40-6C1B1F0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2AF5-9C32-436C-A735-7108B722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1F12-8F98-4533-A6FA-ECC15B3D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BBC8-34A3-4793-9A6A-1A4FB660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32FC-302D-4D0A-9D71-68A5A74C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C73F-F478-48AB-911C-B1912281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5E4-8651-4295-A6FC-8F7B7FC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EFFF-2A1C-4DC9-A30B-B6AB3601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7C67-BF22-44C0-A252-931CB29F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C8E9-FEEA-4980-95CA-336F78C0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1E7F-C8F0-49F8-BC08-B1C6BA0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1B88-24DB-435D-9535-56C2C575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0770-631D-4FA9-B9FC-E67995DF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BDB3-EF74-4E1B-AFE7-BFD01D3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408D-8729-48E3-8749-381F7BEC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FA52-088B-43C6-B0D1-BA8E4E81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4E51-4463-4625-A41E-2979335C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1DD-B33B-40B3-A982-8DEB308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4AFD-A9C4-4568-9FCE-FF55DB3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113D-A9E1-493C-9DA5-B5184816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69C8-6962-4CBA-91FE-3F7B6591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851A-78CA-4A3C-A63C-AC13EF62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E7BA-B7D0-482E-9518-C43C21D5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39FF-29B5-4AE4-9E53-86E950B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48F7-FDFF-4190-BE17-9FFE3F7F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5A7A-E6EC-448D-BF33-ED141CF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A7F8-B774-48F4-A714-E449A71E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31D92-D1E5-4B4B-B7E9-94D591F9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25F-247B-4FD7-BD0E-042A153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0AAF-E12B-4419-B470-CAADDC3E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45B7-694C-4A65-8F8C-D03E6118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4DD4-5861-4A6B-8C57-FA454A49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E3B6C-A6C5-4BB6-A1EF-56527095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B642E-8217-4CA2-B822-2C79F70F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D140B-776C-424B-8FE2-CD83B9E5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71AA-5391-4252-9445-86B7BD89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B0DD-459B-485B-99B3-F1DDB54C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7B2A-D598-458F-AA74-425FA5A8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68C9-1189-4B18-AE42-6F5C97C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40E-3D42-4026-8A52-8A76BC2D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1DA3C-F842-4085-A00F-80145B94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399B-D74E-45E6-9D69-A41DE2D8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AFE1-C1E8-4E2E-94AF-AE5D1C10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B7C4-57AE-428E-ABE3-E8615BC2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BBBBA-4DFD-4A51-893B-26061F4E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7C8C-067A-4F01-B534-99A6D4D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A0FA2-6699-425C-BEF5-83BB8B9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3459B-F95B-4D15-93F9-F378F1C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85655-6EC8-463D-AA3B-10AB646E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119C-1CF4-4807-9F80-5BF885B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D55-33D1-41A3-91F2-FE3F8DD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8861C-0D13-42B3-B318-029E241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1DB6E-2EC2-4F32-B076-C20D112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5B0E-4692-44BC-969A-EF577D1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E6BFE-CE25-45F4-8E4F-94944919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CB438-D953-4384-902A-9F6004AF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0B8D-618B-4683-8452-3674006F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5F24A-965D-4333-88EE-24AC6837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A98A-F0D6-40B6-996F-6105C4C6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28F36-A955-4F4F-80EF-3C453DB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F9E81-0F2A-43F4-8D21-FDCFC272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37E-1F7A-49DE-A27A-7EDD8CC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E9AB-04B3-47BF-A909-43C5D064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39790-843D-4FAF-90ED-81A1024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5DC1-54BD-4AD8-8654-434CD7D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DB52-F346-4721-A9CF-CCAF11F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6F3B1-98AE-4859-8FAD-DF0569D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D374-ECF7-4719-B2C4-E2439F57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B59BF-7781-4DFD-A1A6-F28B6820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E6AA3-84BF-4A8E-AE31-B8F24B77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B41E5-DDB6-49A6-AD1C-137CB39A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33F51-634C-4822-8E05-BCEE7D1F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457E-5CE0-465C-AA06-822A54D538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3EF0-D6D7-432A-B8E4-20CA780740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334E-C531-4AE4-8884-32A4EAAF7C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B086-37F1-45C8-B3AF-8BB954541B7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6AC5-465A-42E1-A688-8F4100AB55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784-CA4B-4349-A6E4-5955764B1C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C9BD-5B8C-4EEB-8F9A-DB13A3CC51E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3983-3783-4EB2-9CBB-881095F54F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A9E-D299-463C-AB80-84696C54E2D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50F-ACB9-411A-ADA7-C191FD4B71A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158760" y="1547640"/>
            <a:ext cx="85471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2666880" y="274320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endParaRPr b="1" lang="en-US" sz="9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095480" y="411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685800" y="1447920"/>
            <a:ext cx="67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外角的两条性质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4014360" y="2349360"/>
            <a:ext cx="13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一个外角等于与它不相邻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内角的和。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宋体"/>
              </a:rPr>
              <a:t>  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3590280" y="371628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一个外角大于任何一个与它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相邻的内角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592200" y="5222880"/>
            <a:ext cx="6859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角形的外角和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6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WordArt 11"/>
          <p:cNvSpPr txBox="1"/>
          <p:nvPr/>
        </p:nvSpPr>
        <p:spPr>
          <a:xfrm>
            <a:off x="611280" y="2602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谈一谈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3"/>
          <p:cNvSpPr/>
          <p:nvPr/>
        </p:nvSpPr>
        <p:spPr>
          <a:xfrm>
            <a:off x="0" y="1484280"/>
            <a:ext cx="655308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如图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是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AB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B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边上一点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BAD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AD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80°,∠BAC=70°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求：（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）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的度数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）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的度数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1" name="Group 5"/>
          <p:cNvGrpSpPr/>
          <p:nvPr/>
        </p:nvGrpSpPr>
        <p:grpSpPr>
          <a:xfrm>
            <a:off x="4267080" y="762120"/>
            <a:ext cx="4190760" cy="3102840"/>
            <a:chOff x="4267080" y="762120"/>
            <a:chExt cx="4190760" cy="3102840"/>
          </a:xfrm>
        </p:grpSpPr>
        <p:grpSp>
          <p:nvGrpSpPr>
            <p:cNvPr id="622" name="Group 6"/>
            <p:cNvGrpSpPr/>
            <p:nvPr/>
          </p:nvGrpSpPr>
          <p:grpSpPr>
            <a:xfrm>
              <a:off x="4267080" y="1424160"/>
              <a:ext cx="4190760" cy="2440800"/>
              <a:chOff x="4267080" y="1424160"/>
              <a:chExt cx="4190760" cy="2440800"/>
            </a:xfrm>
          </p:grpSpPr>
          <p:sp>
            <p:nvSpPr>
              <p:cNvPr id="623" name="Text Box 7"/>
              <p:cNvSpPr/>
              <p:nvPr/>
            </p:nvSpPr>
            <p:spPr>
              <a:xfrm>
                <a:off x="7467480" y="1424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624" name="Group 8"/>
              <p:cNvGrpSpPr/>
              <p:nvPr/>
            </p:nvGrpSpPr>
            <p:grpSpPr>
              <a:xfrm>
                <a:off x="4647960" y="1652400"/>
                <a:ext cx="3352680" cy="1752480"/>
                <a:chOff x="4647960" y="1652400"/>
                <a:chExt cx="3352680" cy="1752480"/>
              </a:xfrm>
            </p:grpSpPr>
            <p:sp>
              <p:nvSpPr>
                <p:cNvPr id="625" name="Line 9"/>
                <p:cNvSpPr/>
                <p:nvPr/>
              </p:nvSpPr>
              <p:spPr>
                <a:xfrm flipH="1">
                  <a:off x="4647960" y="1652400"/>
                  <a:ext cx="2743200" cy="175248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0"/>
                <p:cNvSpPr/>
                <p:nvPr/>
              </p:nvSpPr>
              <p:spPr>
                <a:xfrm>
                  <a:off x="4647960" y="3404880"/>
                  <a:ext cx="3352680" cy="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1"/>
                <p:cNvSpPr/>
                <p:nvPr/>
              </p:nvSpPr>
              <p:spPr>
                <a:xfrm flipH="1">
                  <a:off x="6857640" y="1652400"/>
                  <a:ext cx="533520" cy="175248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"/>
                <p:cNvSpPr/>
                <p:nvPr/>
              </p:nvSpPr>
              <p:spPr>
                <a:xfrm>
                  <a:off x="7391160" y="1728720"/>
                  <a:ext cx="609480" cy="167616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Text Box 13"/>
              <p:cNvSpPr/>
              <p:nvPr/>
            </p:nvSpPr>
            <p:spPr>
              <a:xfrm>
                <a:off x="4267080" y="3328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0" name="Text Box 14"/>
              <p:cNvSpPr/>
              <p:nvPr/>
            </p:nvSpPr>
            <p:spPr>
              <a:xfrm>
                <a:off x="7924680" y="3405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6553080" y="3405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32" name="Arc 16"/>
            <p:cNvSpPr/>
            <p:nvPr/>
          </p:nvSpPr>
          <p:spPr>
            <a:xfrm>
              <a:off x="7010280" y="3024360"/>
              <a:ext cx="228600" cy="3808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3" name="Arc 17"/>
            <p:cNvSpPr/>
            <p:nvPr/>
          </p:nvSpPr>
          <p:spPr>
            <a:xfrm rot="10104000">
              <a:off x="7009560" y="1880640"/>
              <a:ext cx="228600" cy="314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fill="none" w="21600" h="2230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836"/>
                    <a:pt x="21596" y="22072"/>
                    <a:pt x="21588" y="22308"/>
                  </a:cubicBezTo>
                </a:path>
                <a:path stroke="0" w="21600" h="2230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836"/>
                    <a:pt x="21596" y="22072"/>
                    <a:pt x="21588" y="2230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4" name="Arc 18"/>
            <p:cNvSpPr/>
            <p:nvPr/>
          </p:nvSpPr>
          <p:spPr>
            <a:xfrm>
              <a:off x="5105160" y="3100320"/>
              <a:ext cx="152640" cy="304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5" name="Rectangle 19"/>
            <p:cNvSpPr/>
            <p:nvPr/>
          </p:nvSpPr>
          <p:spPr>
            <a:xfrm>
              <a:off x="7215840" y="282420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e3b30"/>
                  </a:solidFill>
                  <a:latin typeface="宋体"/>
                  <a:ea typeface="宋体"/>
                </a:rPr>
                <a:t>80</a:t>
              </a:r>
              <a:r>
                <a:rPr b="1" lang="en-US" sz="2000" spc="-1" strike="noStrike">
                  <a:solidFill>
                    <a:srgbClr val="4e3b30"/>
                  </a:solidFill>
                  <a:latin typeface="宋体"/>
                  <a:ea typeface="宋体"/>
                </a:rPr>
                <a:t>°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6" name="Arc 20"/>
            <p:cNvSpPr/>
            <p:nvPr/>
          </p:nvSpPr>
          <p:spPr>
            <a:xfrm rot="9430800">
              <a:off x="7083000" y="1719000"/>
              <a:ext cx="357120" cy="3808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5299" h="21600">
                  <a:moveTo>
                    <a:pt x="-1" y="345"/>
                  </a:moveTo>
                  <a:cubicBezTo>
                    <a:pt x="1270" y="115"/>
                    <a:pt x="2558" y="-1"/>
                    <a:pt x="3849" y="0"/>
                  </a:cubicBezTo>
                  <a:cubicBezTo>
                    <a:pt x="14796" y="0"/>
                    <a:pt x="24013" y="8190"/>
                    <a:pt x="25299" y="19061"/>
                  </a:cubicBezTo>
                </a:path>
                <a:path stroke="0" w="25299" h="21600">
                  <a:moveTo>
                    <a:pt x="-1" y="345"/>
                  </a:moveTo>
                  <a:cubicBezTo>
                    <a:pt x="1270" y="115"/>
                    <a:pt x="2558" y="-1"/>
                    <a:pt x="3849" y="0"/>
                  </a:cubicBezTo>
                  <a:cubicBezTo>
                    <a:pt x="14796" y="0"/>
                    <a:pt x="24013" y="8190"/>
                    <a:pt x="25299" y="19061"/>
                  </a:cubicBezTo>
                  <a:lnTo>
                    <a:pt x="3849" y="21600"/>
                  </a:lnTo>
                  <a:close/>
                </a:path>
              </a:pathLst>
            </a:custGeom>
            <a:noFill/>
            <a:ln w="381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7" name="Rectangle 21"/>
            <p:cNvSpPr/>
            <p:nvPr/>
          </p:nvSpPr>
          <p:spPr>
            <a:xfrm>
              <a:off x="7063560" y="76212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e3b30"/>
                  </a:solidFill>
                  <a:latin typeface="宋体"/>
                  <a:ea typeface="宋体"/>
                </a:rPr>
                <a:t>70</a:t>
              </a:r>
              <a:r>
                <a:rPr b="1" lang="en-US" sz="2000" spc="-1" strike="noStrike">
                  <a:solidFill>
                    <a:srgbClr val="4e3b30"/>
                  </a:solidFill>
                  <a:latin typeface="宋体"/>
                  <a:ea typeface="宋体"/>
                </a:rPr>
                <a:t>°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V="1">
              <a:off x="7162560" y="1195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9" name="Rectangle 23"/>
          <p:cNvSpPr/>
          <p:nvPr/>
        </p:nvSpPr>
        <p:spPr>
          <a:xfrm>
            <a:off x="5412240" y="28954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º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0" name="Rectangle 24"/>
          <p:cNvSpPr/>
          <p:nvPr/>
        </p:nvSpPr>
        <p:spPr>
          <a:xfrm>
            <a:off x="6555240" y="20574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º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Rectangle 25"/>
          <p:cNvSpPr/>
          <p:nvPr/>
        </p:nvSpPr>
        <p:spPr>
          <a:xfrm rot="18115200">
            <a:off x="7544880" y="2925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WordArt 26"/>
          <p:cNvSpPr txBox="1"/>
          <p:nvPr/>
        </p:nvSpPr>
        <p:spPr>
          <a:xfrm>
            <a:off x="539640" y="2602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2000" spc="-1" strike="noStrike">
                <a:solidFill>
                  <a:srgbClr val="4e3b30"/>
                </a:solidFill>
                <a:latin typeface="Franklin Gothic Book"/>
              </a:rPr>
              <a:t>、如图（甲），在五角星图形中，求∠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+∠B+∠C+∠D+∠E</a:t>
            </a:r>
            <a:r>
              <a:rPr b="0" lang="zh-CN" sz="2000" spc="-1" strike="noStrike">
                <a:solidFill>
                  <a:srgbClr val="4e3b30"/>
                </a:solidFill>
                <a:latin typeface="Franklin Gothic Book"/>
              </a:rPr>
              <a:t>的度数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000" spc="-1" strike="noStrike">
                <a:solidFill>
                  <a:srgbClr val="4e3b30"/>
                </a:solidFill>
                <a:latin typeface="Franklin Gothic Book"/>
              </a:rPr>
              <a:t>、把图（乙）、（丙）叫蜕化的五角星，问：它们的五角之和与五角星图形的五角之和仍相等吗？为什么？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44" name="Group 56"/>
          <p:cNvGrpSpPr/>
          <p:nvPr/>
        </p:nvGrpSpPr>
        <p:grpSpPr>
          <a:xfrm>
            <a:off x="1619280" y="1844640"/>
            <a:ext cx="5760000" cy="4561560"/>
            <a:chOff x="1619280" y="1844640"/>
            <a:chExt cx="5760000" cy="4561560"/>
          </a:xfrm>
        </p:grpSpPr>
        <p:grpSp>
          <p:nvGrpSpPr>
            <p:cNvPr id="645" name="Group 52"/>
            <p:cNvGrpSpPr/>
            <p:nvPr/>
          </p:nvGrpSpPr>
          <p:grpSpPr>
            <a:xfrm>
              <a:off x="1619280" y="1844640"/>
              <a:ext cx="5760000" cy="4561560"/>
              <a:chOff x="1619280" y="1844640"/>
              <a:chExt cx="5760000" cy="4561560"/>
            </a:xfrm>
          </p:grpSpPr>
          <p:sp>
            <p:nvSpPr>
              <p:cNvPr id="646" name="Text Box 48"/>
              <p:cNvSpPr/>
              <p:nvPr/>
            </p:nvSpPr>
            <p:spPr>
              <a:xfrm>
                <a:off x="2359440" y="5915880"/>
                <a:ext cx="57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7" name="Text Box 49"/>
              <p:cNvSpPr/>
              <p:nvPr/>
            </p:nvSpPr>
            <p:spPr>
              <a:xfrm>
                <a:off x="3839760" y="6037920"/>
                <a:ext cx="57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648" name="Group 51"/>
              <p:cNvGrpSpPr/>
              <p:nvPr/>
            </p:nvGrpSpPr>
            <p:grpSpPr>
              <a:xfrm>
                <a:off x="1619280" y="1844640"/>
                <a:ext cx="5760000" cy="4236480"/>
                <a:chOff x="1619280" y="1844640"/>
                <a:chExt cx="5760000" cy="4236480"/>
              </a:xfrm>
            </p:grpSpPr>
            <p:grpSp>
              <p:nvGrpSpPr>
                <p:cNvPr id="649" name="Group 20"/>
                <p:cNvGrpSpPr/>
                <p:nvPr/>
              </p:nvGrpSpPr>
              <p:grpSpPr>
                <a:xfrm>
                  <a:off x="2112120" y="2336400"/>
                  <a:ext cx="4704120" cy="3744720"/>
                  <a:chOff x="2112120" y="2336400"/>
                  <a:chExt cx="4704120" cy="3744720"/>
                </a:xfrm>
              </p:grpSpPr>
              <p:sp>
                <p:nvSpPr>
                  <p:cNvPr id="650" name="Line 21"/>
                  <p:cNvSpPr/>
                  <p:nvPr/>
                </p:nvSpPr>
                <p:spPr>
                  <a:xfrm flipV="1">
                    <a:off x="2507040" y="2336400"/>
                    <a:ext cx="587520" cy="177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22"/>
                  <p:cNvSpPr/>
                  <p:nvPr/>
                </p:nvSpPr>
                <p:spPr>
                  <a:xfrm>
                    <a:off x="2112120" y="2991600"/>
                    <a:ext cx="1569960" cy="114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23"/>
                  <p:cNvSpPr/>
                  <p:nvPr/>
                </p:nvSpPr>
                <p:spPr>
                  <a:xfrm flipH="1" flipV="1">
                    <a:off x="3094200" y="2353680"/>
                    <a:ext cx="590760" cy="179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24"/>
                  <p:cNvSpPr/>
                  <p:nvPr/>
                </p:nvSpPr>
                <p:spPr>
                  <a:xfrm>
                    <a:off x="2112120" y="2991600"/>
                    <a:ext cx="196200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Line 25"/>
                  <p:cNvSpPr/>
                  <p:nvPr/>
                </p:nvSpPr>
                <p:spPr>
                  <a:xfrm flipV="1">
                    <a:off x="2500200" y="2991600"/>
                    <a:ext cx="1569960" cy="112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Line 26"/>
                  <p:cNvSpPr/>
                  <p:nvPr/>
                </p:nvSpPr>
                <p:spPr>
                  <a:xfrm flipV="1">
                    <a:off x="5245920" y="2997000"/>
                    <a:ext cx="597240" cy="111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Line 27"/>
                  <p:cNvSpPr/>
                  <p:nvPr/>
                </p:nvSpPr>
                <p:spPr>
                  <a:xfrm>
                    <a:off x="4851000" y="3009240"/>
                    <a:ext cx="1569960" cy="114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Line 28"/>
                  <p:cNvSpPr/>
                  <p:nvPr/>
                </p:nvSpPr>
                <p:spPr>
                  <a:xfrm flipH="1" flipV="1">
                    <a:off x="5836320" y="3040920"/>
                    <a:ext cx="584280" cy="114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29"/>
                  <p:cNvSpPr/>
                  <p:nvPr/>
                </p:nvSpPr>
                <p:spPr>
                  <a:xfrm>
                    <a:off x="4854240" y="2997000"/>
                    <a:ext cx="1962000" cy="1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30"/>
                  <p:cNvSpPr/>
                  <p:nvPr/>
                </p:nvSpPr>
                <p:spPr>
                  <a:xfrm flipV="1">
                    <a:off x="5242680" y="3003120"/>
                    <a:ext cx="1569960" cy="112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31"/>
                  <p:cNvSpPr/>
                  <p:nvPr/>
                </p:nvSpPr>
                <p:spPr>
                  <a:xfrm flipV="1">
                    <a:off x="2689560" y="5258160"/>
                    <a:ext cx="597240" cy="78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Line 32"/>
                  <p:cNvSpPr/>
                  <p:nvPr/>
                </p:nvSpPr>
                <p:spPr>
                  <a:xfrm>
                    <a:off x="2301120" y="4933440"/>
                    <a:ext cx="1569960" cy="114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33"/>
                  <p:cNvSpPr/>
                  <p:nvPr/>
                </p:nvSpPr>
                <p:spPr>
                  <a:xfrm flipH="1" flipV="1">
                    <a:off x="3286800" y="5258160"/>
                    <a:ext cx="584280" cy="82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34"/>
                  <p:cNvSpPr/>
                  <p:nvPr/>
                </p:nvSpPr>
                <p:spPr>
                  <a:xfrm>
                    <a:off x="2301120" y="4933440"/>
                    <a:ext cx="196200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35"/>
                  <p:cNvSpPr/>
                  <p:nvPr/>
                </p:nvSpPr>
                <p:spPr>
                  <a:xfrm flipV="1">
                    <a:off x="2689560" y="4933440"/>
                    <a:ext cx="1570320" cy="112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5" name="Text Box 36"/>
                <p:cNvSpPr/>
                <p:nvPr/>
              </p:nvSpPr>
              <p:spPr>
                <a:xfrm>
                  <a:off x="2851920" y="184464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7"/>
                <p:cNvSpPr/>
                <p:nvPr/>
              </p:nvSpPr>
              <p:spPr>
                <a:xfrm>
                  <a:off x="1619280" y="270648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8"/>
                <p:cNvSpPr/>
                <p:nvPr/>
              </p:nvSpPr>
              <p:spPr>
                <a:xfrm>
                  <a:off x="1989360" y="381600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9"/>
                <p:cNvSpPr/>
                <p:nvPr/>
              </p:nvSpPr>
              <p:spPr>
                <a:xfrm>
                  <a:off x="3717000" y="394092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D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40"/>
                <p:cNvSpPr/>
                <p:nvPr/>
              </p:nvSpPr>
              <p:spPr>
                <a:xfrm>
                  <a:off x="3961800" y="270648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E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2"/>
                <p:cNvSpPr/>
                <p:nvPr/>
              </p:nvSpPr>
              <p:spPr>
                <a:xfrm>
                  <a:off x="4332240" y="270648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5689440" y="246168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3"/>
                <p:cNvSpPr/>
                <p:nvPr/>
              </p:nvSpPr>
              <p:spPr>
                <a:xfrm>
                  <a:off x="5074920" y="394092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4"/>
                <p:cNvSpPr/>
                <p:nvPr/>
              </p:nvSpPr>
              <p:spPr>
                <a:xfrm>
                  <a:off x="6185160" y="406368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D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5"/>
                <p:cNvSpPr/>
                <p:nvPr/>
              </p:nvSpPr>
              <p:spPr>
                <a:xfrm>
                  <a:off x="6802560" y="283176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E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6"/>
                <p:cNvSpPr/>
                <p:nvPr/>
              </p:nvSpPr>
              <p:spPr>
                <a:xfrm>
                  <a:off x="2974680" y="4803120"/>
                  <a:ext cx="57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7"/>
                <p:cNvSpPr/>
                <p:nvPr/>
              </p:nvSpPr>
              <p:spPr>
                <a:xfrm>
                  <a:off x="1742040" y="480312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50"/>
                <p:cNvSpPr/>
                <p:nvPr/>
              </p:nvSpPr>
              <p:spPr>
                <a:xfrm>
                  <a:off x="4332240" y="4803120"/>
                  <a:ext cx="57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E</a:t>
                  </a:r>
                  <a:endParaRPr b="1" lang="en-US" sz="1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8" name="Text Box 53"/>
            <p:cNvSpPr/>
            <p:nvPr/>
          </p:nvSpPr>
          <p:spPr>
            <a:xfrm>
              <a:off x="2806920" y="41493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甲）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9" name="Text Box 54"/>
            <p:cNvSpPr/>
            <p:nvPr/>
          </p:nvSpPr>
          <p:spPr>
            <a:xfrm>
              <a:off x="5544000" y="42210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乙）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0" name="Text Box 55"/>
            <p:cNvSpPr/>
            <p:nvPr/>
          </p:nvSpPr>
          <p:spPr>
            <a:xfrm>
              <a:off x="3022920" y="60210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丙）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1" name="WordArt 89"/>
          <p:cNvSpPr txBox="1"/>
          <p:nvPr/>
        </p:nvSpPr>
        <p:spPr>
          <a:xfrm>
            <a:off x="39528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试一试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2" name="AutoShape 90">
            <a:hlinkClick r:id="rId1" action="ppaction://hlinksldjump"/>
          </p:cNvPr>
          <p:cNvSpPr/>
          <p:nvPr/>
        </p:nvSpPr>
        <p:spPr>
          <a:xfrm>
            <a:off x="7236000" y="5084640"/>
            <a:ext cx="1008000" cy="6494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3519" h="21600">
                <a:moveTo>
                  <a:pt x="0" y="0"/>
                </a:moveTo>
                <a:lnTo>
                  <a:pt x="33519" y="0"/>
                </a:lnTo>
                <a:lnTo>
                  <a:pt x="33519" y="21600"/>
                </a:lnTo>
                <a:lnTo>
                  <a:pt x="0" y="21600"/>
                </a:lnTo>
                <a:close/>
              </a:path>
              <a:path fill="lightenLess" w="33519" h="21600">
                <a:moveTo>
                  <a:pt x="0" y="0"/>
                </a:moveTo>
                <a:lnTo>
                  <a:pt x="33519" y="0"/>
                </a:lnTo>
                <a:lnTo>
                  <a:pt x="32119" y="1400"/>
                </a:lnTo>
                <a:lnTo>
                  <a:pt x="1400" y="1400"/>
                </a:lnTo>
                <a:close/>
              </a:path>
              <a:path fill="darken" w="33519" h="21600">
                <a:moveTo>
                  <a:pt x="33519" y="0"/>
                </a:moveTo>
                <a:lnTo>
                  <a:pt x="33519" y="21600"/>
                </a:lnTo>
                <a:lnTo>
                  <a:pt x="32119" y="20200"/>
                </a:lnTo>
                <a:lnTo>
                  <a:pt x="32119" y="1400"/>
                </a:lnTo>
                <a:close/>
              </a:path>
              <a:path fill="darkenLess" w="33519" h="21600">
                <a:moveTo>
                  <a:pt x="33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9" y="20200"/>
                </a:lnTo>
                <a:close/>
              </a:path>
              <a:path fill="lighten" w="33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9" h="21600">
                <a:moveTo>
                  <a:pt x="9753" y="3794"/>
                </a:moveTo>
                <a:lnTo>
                  <a:pt x="23766" y="10800"/>
                </a:lnTo>
                <a:lnTo>
                  <a:pt x="97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764280" y="1219320"/>
            <a:ext cx="5192640" cy="4986000"/>
            <a:chOff x="764280" y="1219320"/>
            <a:chExt cx="5192640" cy="4986000"/>
          </a:xfrm>
        </p:grpSpPr>
        <p:sp>
          <p:nvSpPr>
            <p:cNvPr id="684" name="Line 3"/>
            <p:cNvSpPr/>
            <p:nvPr/>
          </p:nvSpPr>
          <p:spPr>
            <a:xfrm>
              <a:off x="3268800" y="1648080"/>
              <a:ext cx="1334880" cy="3643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5" name="Line 4"/>
            <p:cNvSpPr/>
            <p:nvPr/>
          </p:nvSpPr>
          <p:spPr>
            <a:xfrm flipH="1">
              <a:off x="977760" y="1648080"/>
              <a:ext cx="2290680" cy="412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6" name="Line 5"/>
            <p:cNvSpPr/>
            <p:nvPr/>
          </p:nvSpPr>
          <p:spPr>
            <a:xfrm flipH="1">
              <a:off x="977760" y="2859120"/>
              <a:ext cx="4599000" cy="2911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7" name="Line 6"/>
            <p:cNvSpPr/>
            <p:nvPr/>
          </p:nvSpPr>
          <p:spPr>
            <a:xfrm>
              <a:off x="1263600" y="2894040"/>
              <a:ext cx="3340080" cy="2397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2869200" y="1219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835560" y="2514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0" name="Text Box 9"/>
            <p:cNvSpPr/>
            <p:nvPr/>
          </p:nvSpPr>
          <p:spPr>
            <a:xfrm>
              <a:off x="764280" y="5684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1" name="Text Box 10"/>
            <p:cNvSpPr/>
            <p:nvPr/>
          </p:nvSpPr>
          <p:spPr>
            <a:xfrm>
              <a:off x="4499640" y="5251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5540040" y="2514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3" name="Line 12"/>
            <p:cNvSpPr/>
            <p:nvPr/>
          </p:nvSpPr>
          <p:spPr>
            <a:xfrm>
              <a:off x="1247760" y="2859120"/>
              <a:ext cx="4329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94" name="Line 15"/>
          <p:cNvSpPr/>
          <p:nvPr/>
        </p:nvSpPr>
        <p:spPr>
          <a:xfrm flipH="1">
            <a:off x="977760" y="1676520"/>
            <a:ext cx="228600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5" name="Line 16"/>
          <p:cNvSpPr/>
          <p:nvPr/>
        </p:nvSpPr>
        <p:spPr>
          <a:xfrm flipV="1">
            <a:off x="990720" y="2882520"/>
            <a:ext cx="457200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6" name="Line 17"/>
          <p:cNvSpPr/>
          <p:nvPr/>
        </p:nvSpPr>
        <p:spPr>
          <a:xfrm>
            <a:off x="3276720" y="1676520"/>
            <a:ext cx="787320" cy="213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7" name="Rectangle 18"/>
          <p:cNvSpPr/>
          <p:nvPr/>
        </p:nvSpPr>
        <p:spPr>
          <a:xfrm rot="1189800">
            <a:off x="3952800" y="32130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⌒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114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9" name="Text Box 20"/>
          <p:cNvSpPr/>
          <p:nvPr/>
        </p:nvSpPr>
        <p:spPr>
          <a:xfrm>
            <a:off x="3683160" y="2413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0" name="Line 21"/>
          <p:cNvSpPr/>
          <p:nvPr/>
        </p:nvSpPr>
        <p:spPr>
          <a:xfrm>
            <a:off x="3733920" y="2895480"/>
            <a:ext cx="838080" cy="23623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1" name="Line 22"/>
          <p:cNvSpPr/>
          <p:nvPr/>
        </p:nvSpPr>
        <p:spPr>
          <a:xfrm flipH="1" flipV="1">
            <a:off x="1218960" y="2895480"/>
            <a:ext cx="3352680" cy="23623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2" name="Line 23"/>
          <p:cNvSpPr/>
          <p:nvPr/>
        </p:nvSpPr>
        <p:spPr>
          <a:xfrm>
            <a:off x="1187280" y="2852640"/>
            <a:ext cx="43434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3" name="Rectangle 24"/>
          <p:cNvSpPr/>
          <p:nvPr/>
        </p:nvSpPr>
        <p:spPr>
          <a:xfrm rot="7432800">
            <a:off x="3749400" y="269136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⌒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4" name="Text Box 25"/>
          <p:cNvSpPr/>
          <p:nvPr/>
        </p:nvSpPr>
        <p:spPr>
          <a:xfrm>
            <a:off x="609588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+ ∠D= ∠EG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5" name="Text Box 26"/>
          <p:cNvSpPr/>
          <p:nvPr/>
        </p:nvSpPr>
        <p:spPr>
          <a:xfrm>
            <a:off x="49528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GF + ∠EF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06" name="Group 27"/>
          <p:cNvGrpSpPr/>
          <p:nvPr/>
        </p:nvGrpSpPr>
        <p:grpSpPr>
          <a:xfrm>
            <a:off x="5181480" y="1219320"/>
            <a:ext cx="3733920" cy="992880"/>
            <a:chOff x="5181480" y="1219320"/>
            <a:chExt cx="3733920" cy="992880"/>
          </a:xfrm>
        </p:grpSpPr>
        <p:sp>
          <p:nvSpPr>
            <p:cNvPr id="707" name="Text Box 28"/>
            <p:cNvSpPr/>
            <p:nvPr/>
          </p:nvSpPr>
          <p:spPr>
            <a:xfrm>
              <a:off x="5715000" y="1752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+ ∠C= ∠EFG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8" name="Text Box 29"/>
            <p:cNvSpPr/>
            <p:nvPr/>
          </p:nvSpPr>
          <p:spPr>
            <a:xfrm>
              <a:off x="5181480" y="12193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：因为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09" name="Text Box 30"/>
          <p:cNvSpPr/>
          <p:nvPr/>
        </p:nvSpPr>
        <p:spPr>
          <a:xfrm>
            <a:off x="51814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0" name="Rectangle 31"/>
          <p:cNvSpPr/>
          <p:nvPr/>
        </p:nvSpPr>
        <p:spPr>
          <a:xfrm>
            <a:off x="4398480" y="4038480"/>
            <a:ext cx="45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+ ∠B+ ∠C+ ∠D+ ∠E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8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11" name="Group 32"/>
          <p:cNvGrpSpPr/>
          <p:nvPr/>
        </p:nvGrpSpPr>
        <p:grpSpPr>
          <a:xfrm>
            <a:off x="3730680" y="2869920"/>
            <a:ext cx="1828440" cy="952560"/>
            <a:chOff x="3730680" y="2869920"/>
            <a:chExt cx="1828440" cy="952560"/>
          </a:xfrm>
        </p:grpSpPr>
        <p:sp>
          <p:nvSpPr>
            <p:cNvPr id="712" name="Line 33"/>
            <p:cNvSpPr/>
            <p:nvPr/>
          </p:nvSpPr>
          <p:spPr>
            <a:xfrm>
              <a:off x="3730680" y="2870280"/>
              <a:ext cx="317520" cy="952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3" name="Line 34"/>
            <p:cNvSpPr/>
            <p:nvPr/>
          </p:nvSpPr>
          <p:spPr>
            <a:xfrm>
              <a:off x="3730680" y="2870280"/>
              <a:ext cx="182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4" name="Line 35"/>
            <p:cNvSpPr/>
            <p:nvPr/>
          </p:nvSpPr>
          <p:spPr>
            <a:xfrm flipV="1">
              <a:off x="4048200" y="2869920"/>
              <a:ext cx="1510920" cy="952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15" name="AutoShape 36">
            <a:hlinkClick r:id="rId1" action="ppaction://hlinksldjump"/>
          </p:cNvPr>
          <p:cNvSpPr/>
          <p:nvPr/>
        </p:nvSpPr>
        <p:spPr>
          <a:xfrm>
            <a:off x="7451640" y="544500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0542" y="3794"/>
                </a:moveTo>
                <a:lnTo>
                  <a:pt x="24555" y="10800"/>
                </a:lnTo>
                <a:lnTo>
                  <a:pt x="10542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ls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fj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4"/>
          <p:cNvSpPr/>
          <p:nvPr/>
        </p:nvSpPr>
        <p:spPr>
          <a:xfrm>
            <a:off x="3505320" y="15238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a5644e"/>
                </a:solidFill>
                <a:latin typeface="Times New Roman"/>
                <a:ea typeface="幼圆"/>
              </a:rPr>
              <a:t>再见</a:t>
            </a:r>
            <a:endParaRPr b="1" lang="en-US" sz="9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小罗精彩视频.wmv" descr=""/>
          <p:cNvPicPr/>
          <p:nvPr/>
        </p:nvPicPr>
        <p:blipFill>
          <a:blip r:embed="rId1"/>
          <a:stretch/>
        </p:blipFill>
        <p:spPr>
          <a:xfrm>
            <a:off x="1887480" y="1674720"/>
            <a:ext cx="5234040" cy="3926160"/>
          </a:xfrm>
          <a:prstGeom prst="rect">
            <a:avLst/>
          </a:prstGeom>
          <a:ln w="0">
            <a:noFill/>
          </a:ln>
        </p:spPr>
      </p:pic>
      <p:sp>
        <p:nvSpPr>
          <p:cNvPr id="451" name="WordArt 7"/>
          <p:cNvSpPr txBox="1"/>
          <p:nvPr/>
        </p:nvSpPr>
        <p:spPr>
          <a:xfrm>
            <a:off x="539640" y="18900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赏一赏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225360" y="1017720"/>
            <a:ext cx="6078600" cy="11095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-324360" y="1773360"/>
            <a:ext cx="7164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3329"/>
                </a:solidFill>
                <a:latin typeface="Franklin Gothic Book"/>
              </a:rPr>
              <a:t>             </a:t>
            </a:r>
            <a:r>
              <a:rPr b="1" lang="zh-CN" sz="2800" spc="-1" strike="noStrike">
                <a:solidFill>
                  <a:srgbClr val="443329"/>
                </a:solidFill>
                <a:latin typeface="Franklin Gothic Book"/>
              </a:rPr>
              <a:t>在绿茵场上，小罗在</a:t>
            </a: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E</a:t>
            </a:r>
            <a:r>
              <a:rPr b="1" lang="zh-CN" sz="2800" spc="-1" strike="noStrike">
                <a:solidFill>
                  <a:srgbClr val="443329"/>
                </a:solidFill>
                <a:latin typeface="Franklin Gothic Book"/>
              </a:rPr>
              <a:t>处受到阻挡需要传球，请帮助作出选择，应传给在</a:t>
            </a: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B</a:t>
            </a:r>
            <a:r>
              <a:rPr b="1" lang="zh-CN" sz="2800" spc="-1" strike="noStrike">
                <a:solidFill>
                  <a:srgbClr val="443329"/>
                </a:solidFill>
                <a:latin typeface="Franklin Gothic Book"/>
              </a:rPr>
              <a:t>处的球员还是</a:t>
            </a: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C</a:t>
            </a:r>
            <a:r>
              <a:rPr b="1" lang="zh-CN" sz="2800" spc="-1" strike="noStrike">
                <a:solidFill>
                  <a:srgbClr val="443329"/>
                </a:solidFill>
                <a:latin typeface="Franklin Gothic Book"/>
              </a:rPr>
              <a:t>处的球员，其射门不易射偏。（不考虑其他因素</a:t>
            </a:r>
            <a:r>
              <a:rPr b="0" lang="zh-CN" sz="2800" spc="-1" strike="noStrike">
                <a:solidFill>
                  <a:srgbClr val="443329"/>
                </a:solidFill>
                <a:latin typeface="Franklin Gothic Book"/>
              </a:rPr>
              <a:t>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AutoShape 25">
            <a:hlinkClick r:id="rId2" action="ppaction://hlinksldjump"/>
          </p:cNvPr>
          <p:cNvSpPr/>
          <p:nvPr/>
        </p:nvSpPr>
        <p:spPr>
          <a:xfrm>
            <a:off x="781200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5" name="Group 28"/>
          <p:cNvGrpSpPr/>
          <p:nvPr/>
        </p:nvGrpSpPr>
        <p:grpSpPr>
          <a:xfrm>
            <a:off x="828720" y="3429000"/>
            <a:ext cx="6379920" cy="2673360"/>
            <a:chOff x="828720" y="3429000"/>
            <a:chExt cx="6379920" cy="2673360"/>
          </a:xfrm>
        </p:grpSpPr>
        <p:sp>
          <p:nvSpPr>
            <p:cNvPr id="456" name="Text Box 4"/>
            <p:cNvSpPr/>
            <p:nvPr/>
          </p:nvSpPr>
          <p:spPr>
            <a:xfrm>
              <a:off x="1187280" y="3789360"/>
              <a:ext cx="252108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AutoShape 14"/>
            <p:cNvSpPr/>
            <p:nvPr/>
          </p:nvSpPr>
          <p:spPr>
            <a:xfrm>
              <a:off x="3419640" y="4797360"/>
              <a:ext cx="1079280" cy="466920"/>
            </a:xfrm>
            <a:prstGeom prst="rightArrow">
              <a:avLst>
                <a:gd name="adj1" fmla="val 50000"/>
                <a:gd name="adj2" fmla="val 577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58" name="Group 24"/>
            <p:cNvGrpSpPr/>
            <p:nvPr/>
          </p:nvGrpSpPr>
          <p:grpSpPr>
            <a:xfrm>
              <a:off x="4356360" y="3718080"/>
              <a:ext cx="2852280" cy="2239560"/>
              <a:chOff x="4356360" y="3718080"/>
              <a:chExt cx="2852280" cy="2239560"/>
            </a:xfrm>
          </p:grpSpPr>
          <p:grpSp>
            <p:nvGrpSpPr>
              <p:cNvPr id="459" name="Group 10"/>
              <p:cNvGrpSpPr/>
              <p:nvPr/>
            </p:nvGrpSpPr>
            <p:grpSpPr>
              <a:xfrm>
                <a:off x="4713120" y="4149360"/>
                <a:ext cx="2087640" cy="1663560"/>
                <a:chOff x="4713120" y="4149360"/>
                <a:chExt cx="2087640" cy="1663560"/>
              </a:xfrm>
            </p:grpSpPr>
            <p:sp>
              <p:nvSpPr>
                <p:cNvPr id="460" name="Line 11"/>
                <p:cNvSpPr/>
                <p:nvPr/>
              </p:nvSpPr>
              <p:spPr>
                <a:xfrm flipH="1">
                  <a:off x="4713120" y="4158360"/>
                  <a:ext cx="758880" cy="164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2"/>
                <p:cNvSpPr/>
                <p:nvPr/>
              </p:nvSpPr>
              <p:spPr>
                <a:xfrm>
                  <a:off x="5469120" y="4149360"/>
                  <a:ext cx="1331640" cy="16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3"/>
                <p:cNvSpPr/>
                <p:nvPr/>
              </p:nvSpPr>
              <p:spPr>
                <a:xfrm>
                  <a:off x="5092560" y="4990680"/>
                  <a:ext cx="1707840" cy="82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16"/>
              <p:cNvSpPr/>
              <p:nvPr/>
            </p:nvSpPr>
            <p:spPr>
              <a:xfrm>
                <a:off x="6875640" y="55893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4" name="Text Box 17"/>
              <p:cNvSpPr/>
              <p:nvPr/>
            </p:nvSpPr>
            <p:spPr>
              <a:xfrm>
                <a:off x="4356360" y="55893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5" name="Text Box 18"/>
              <p:cNvSpPr/>
              <p:nvPr/>
            </p:nvSpPr>
            <p:spPr>
              <a:xfrm>
                <a:off x="5364360" y="3718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6" name="Text Box 20"/>
              <p:cNvSpPr/>
              <p:nvPr/>
            </p:nvSpPr>
            <p:spPr>
              <a:xfrm>
                <a:off x="4715280" y="465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23"/>
            <p:cNvGrpSpPr/>
            <p:nvPr/>
          </p:nvGrpSpPr>
          <p:grpSpPr>
            <a:xfrm>
              <a:off x="828720" y="3789360"/>
              <a:ext cx="2781000" cy="2313000"/>
              <a:chOff x="828720" y="3789360"/>
              <a:chExt cx="2781000" cy="2313000"/>
            </a:xfrm>
          </p:grpSpPr>
          <p:grpSp>
            <p:nvGrpSpPr>
              <p:cNvPr id="468" name="Group 5"/>
              <p:cNvGrpSpPr/>
              <p:nvPr/>
            </p:nvGrpSpPr>
            <p:grpSpPr>
              <a:xfrm>
                <a:off x="1185840" y="4221000"/>
                <a:ext cx="2016000" cy="1762200"/>
                <a:chOff x="1185840" y="4221000"/>
                <a:chExt cx="2016000" cy="1762200"/>
              </a:xfrm>
            </p:grpSpPr>
            <p:sp>
              <p:nvSpPr>
                <p:cNvPr id="469" name="Line 6"/>
                <p:cNvSpPr/>
                <p:nvPr/>
              </p:nvSpPr>
              <p:spPr>
                <a:xfrm flipH="1">
                  <a:off x="1185840" y="4228920"/>
                  <a:ext cx="730800" cy="15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7"/>
                <p:cNvSpPr/>
                <p:nvPr/>
              </p:nvSpPr>
              <p:spPr>
                <a:xfrm>
                  <a:off x="1188720" y="5815440"/>
                  <a:ext cx="2013120" cy="167760"/>
                </a:xfrm>
                <a:prstGeom prst="flowChartProcess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"/>
                <p:cNvSpPr/>
                <p:nvPr/>
              </p:nvSpPr>
              <p:spPr>
                <a:xfrm>
                  <a:off x="1916640" y="4221000"/>
                  <a:ext cx="1281960" cy="159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1554120" y="5022720"/>
                  <a:ext cx="1644480" cy="79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Text Box 15"/>
              <p:cNvSpPr/>
              <p:nvPr/>
            </p:nvSpPr>
            <p:spPr>
              <a:xfrm>
                <a:off x="3276720" y="5661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4" name="Text Box 19"/>
              <p:cNvSpPr/>
              <p:nvPr/>
            </p:nvSpPr>
            <p:spPr>
              <a:xfrm>
                <a:off x="1764000" y="37893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5" name="Text Box 21"/>
              <p:cNvSpPr/>
              <p:nvPr/>
            </p:nvSpPr>
            <p:spPr>
              <a:xfrm>
                <a:off x="1187640" y="472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Text Box 22"/>
              <p:cNvSpPr/>
              <p:nvPr/>
            </p:nvSpPr>
            <p:spPr>
              <a:xfrm>
                <a:off x="828720" y="573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26"/>
            <p:cNvSpPr/>
            <p:nvPr/>
          </p:nvSpPr>
          <p:spPr>
            <a:xfrm>
              <a:off x="2531160" y="34290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●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Text Box 27"/>
            <p:cNvSpPr/>
            <p:nvPr/>
          </p:nvSpPr>
          <p:spPr>
            <a:xfrm>
              <a:off x="2845080" y="342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00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3"/>
          <p:cNvGrpSpPr/>
          <p:nvPr/>
        </p:nvGrpSpPr>
        <p:grpSpPr>
          <a:xfrm>
            <a:off x="-106560" y="2295360"/>
            <a:ext cx="3661920" cy="3727800"/>
            <a:chOff x="-106560" y="2295360"/>
            <a:chExt cx="3661920" cy="3727800"/>
          </a:xfrm>
        </p:grpSpPr>
        <p:grpSp>
          <p:nvGrpSpPr>
            <p:cNvPr id="481" name="Group 4"/>
            <p:cNvGrpSpPr/>
            <p:nvPr/>
          </p:nvGrpSpPr>
          <p:grpSpPr>
            <a:xfrm>
              <a:off x="342720" y="2903400"/>
              <a:ext cx="2737080" cy="2521080"/>
              <a:chOff x="342720" y="2903400"/>
              <a:chExt cx="2737080" cy="2521080"/>
            </a:xfrm>
          </p:grpSpPr>
          <p:sp>
            <p:nvSpPr>
              <p:cNvPr id="482" name="Line 5"/>
              <p:cNvSpPr/>
              <p:nvPr/>
            </p:nvSpPr>
            <p:spPr>
              <a:xfrm flipV="1">
                <a:off x="342720" y="2904480"/>
                <a:ext cx="1800360" cy="2519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3" name="Line 6"/>
              <p:cNvSpPr/>
              <p:nvPr/>
            </p:nvSpPr>
            <p:spPr>
              <a:xfrm>
                <a:off x="342720" y="5424480"/>
                <a:ext cx="273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4" name="Line 7"/>
              <p:cNvSpPr/>
              <p:nvPr/>
            </p:nvSpPr>
            <p:spPr>
              <a:xfrm>
                <a:off x="2143080" y="2903400"/>
                <a:ext cx="936720" cy="252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8"/>
            <p:cNvSpPr/>
            <p:nvPr/>
          </p:nvSpPr>
          <p:spPr>
            <a:xfrm>
              <a:off x="2073600" y="2295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-106560" y="53197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Text Box 10"/>
            <p:cNvSpPr/>
            <p:nvPr/>
          </p:nvSpPr>
          <p:spPr>
            <a:xfrm>
              <a:off x="3008880" y="52797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8" name="Line 11"/>
          <p:cNvSpPr/>
          <p:nvPr/>
        </p:nvSpPr>
        <p:spPr>
          <a:xfrm>
            <a:off x="3060720" y="541980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934520" y="5319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AutoShape 13"/>
          <p:cNvSpPr/>
          <p:nvPr/>
        </p:nvSpPr>
        <p:spPr>
          <a:xfrm rot="2599800">
            <a:off x="2410920" y="5013000"/>
            <a:ext cx="1143000" cy="76212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762120"/>
              <a:gd name="textAreaBottom" fmla="*/ 164880 h 76212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2714400" y="6094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三角形的外角：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4114800" y="1600200"/>
            <a:ext cx="47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一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另一边的延长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组成的角．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268200" y="615960"/>
            <a:ext cx="8437680" cy="135900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3"/>
          <p:cNvGrpSpPr/>
          <p:nvPr/>
        </p:nvGrpSpPr>
        <p:grpSpPr>
          <a:xfrm>
            <a:off x="1619280" y="2637000"/>
            <a:ext cx="3117960" cy="2741760"/>
            <a:chOff x="1619280" y="2637000"/>
            <a:chExt cx="3117960" cy="2741760"/>
          </a:xfrm>
        </p:grpSpPr>
        <p:grpSp>
          <p:nvGrpSpPr>
            <p:cNvPr id="495" name="Group 4"/>
            <p:cNvGrpSpPr/>
            <p:nvPr/>
          </p:nvGrpSpPr>
          <p:grpSpPr>
            <a:xfrm>
              <a:off x="2103480" y="2951280"/>
              <a:ext cx="2064960" cy="1901880"/>
              <a:chOff x="2103480" y="2951280"/>
              <a:chExt cx="2064960" cy="1901880"/>
            </a:xfrm>
          </p:grpSpPr>
          <p:sp>
            <p:nvSpPr>
              <p:cNvPr id="496" name="Line 5"/>
              <p:cNvSpPr/>
              <p:nvPr/>
            </p:nvSpPr>
            <p:spPr>
              <a:xfrm flipV="1">
                <a:off x="2103480" y="2952360"/>
                <a:ext cx="1358280" cy="1900800"/>
              </a:xfrm>
              <a:prstGeom prst="line">
                <a:avLst/>
              </a:prstGeom>
              <a:ln w="572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7" name="Line 6"/>
              <p:cNvSpPr/>
              <p:nvPr/>
            </p:nvSpPr>
            <p:spPr>
              <a:xfrm>
                <a:off x="2103480" y="4853160"/>
                <a:ext cx="2063880" cy="0"/>
              </a:xfrm>
              <a:prstGeom prst="line">
                <a:avLst/>
              </a:prstGeom>
              <a:ln w="572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8" name="Line 7"/>
              <p:cNvSpPr/>
              <p:nvPr/>
            </p:nvSpPr>
            <p:spPr>
              <a:xfrm>
                <a:off x="3461760" y="2951280"/>
                <a:ext cx="706680" cy="1901880"/>
              </a:xfrm>
              <a:prstGeom prst="line">
                <a:avLst/>
              </a:prstGeom>
              <a:ln w="572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9" name="Text Box 8"/>
            <p:cNvSpPr/>
            <p:nvPr/>
          </p:nvSpPr>
          <p:spPr>
            <a:xfrm>
              <a:off x="3635280" y="2637000"/>
              <a:ext cx="4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d1f1f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0" name="Text Box 9"/>
            <p:cNvSpPr/>
            <p:nvPr/>
          </p:nvSpPr>
          <p:spPr>
            <a:xfrm>
              <a:off x="1619280" y="4292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d1f1f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Text Box 10"/>
            <p:cNvSpPr/>
            <p:nvPr/>
          </p:nvSpPr>
          <p:spPr>
            <a:xfrm>
              <a:off x="4284720" y="4797360"/>
              <a:ext cx="45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d1f1f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2" name="Line 11"/>
          <p:cNvSpPr/>
          <p:nvPr/>
        </p:nvSpPr>
        <p:spPr>
          <a:xfrm flipV="1">
            <a:off x="3419640" y="2133360"/>
            <a:ext cx="576000" cy="863640"/>
          </a:xfrm>
          <a:prstGeom prst="line">
            <a:avLst/>
          </a:prstGeom>
          <a:ln w="57240">
            <a:solidFill>
              <a:srgbClr val="ad1f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4140360" y="4869000"/>
            <a:ext cx="1079280" cy="0"/>
          </a:xfrm>
          <a:prstGeom prst="line">
            <a:avLst/>
          </a:prstGeom>
          <a:ln w="57240">
            <a:solidFill>
              <a:srgbClr val="ad1f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4140360" y="4869000"/>
            <a:ext cx="288720" cy="792000"/>
          </a:xfrm>
          <a:prstGeom prst="line">
            <a:avLst/>
          </a:prstGeom>
          <a:ln w="57240">
            <a:solidFill>
              <a:srgbClr val="ad1f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 flipH="1" flipV="1">
            <a:off x="3131640" y="1917360"/>
            <a:ext cx="360360" cy="1079640"/>
          </a:xfrm>
          <a:prstGeom prst="line">
            <a:avLst/>
          </a:prstGeom>
          <a:ln w="57240">
            <a:solidFill>
              <a:srgbClr val="ad1f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 flipH="1">
            <a:off x="1476000" y="4869000"/>
            <a:ext cx="576360" cy="720720"/>
          </a:xfrm>
          <a:prstGeom prst="line">
            <a:avLst/>
          </a:prstGeom>
          <a:ln w="57240">
            <a:solidFill>
              <a:srgbClr val="ad1f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 flipH="1">
            <a:off x="1186920" y="4869000"/>
            <a:ext cx="863640" cy="0"/>
          </a:xfrm>
          <a:prstGeom prst="line">
            <a:avLst/>
          </a:prstGeom>
          <a:ln w="57240">
            <a:solidFill>
              <a:srgbClr val="ad1f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AutoShape 17"/>
          <p:cNvSpPr/>
          <p:nvPr/>
        </p:nvSpPr>
        <p:spPr>
          <a:xfrm rot="2017200">
            <a:off x="3780000" y="4615920"/>
            <a:ext cx="660240" cy="757440"/>
          </a:xfrm>
          <a:custGeom>
            <a:avLst/>
            <a:gdLst>
              <a:gd name="textAreaLeft" fmla="*/ 78120 w 660240"/>
              <a:gd name="textAreaRight" fmla="*/ 582120 w 660240"/>
              <a:gd name="textAreaTop" fmla="*/ 0 h 757440"/>
              <a:gd name="textAreaBottom" fmla="*/ 163800 h 75744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AutoShape 18"/>
          <p:cNvSpPr/>
          <p:nvPr/>
        </p:nvSpPr>
        <p:spPr>
          <a:xfrm rot="13484400">
            <a:off x="3983040" y="4437000"/>
            <a:ext cx="660240" cy="757440"/>
          </a:xfrm>
          <a:custGeom>
            <a:avLst/>
            <a:gdLst>
              <a:gd name="textAreaLeft" fmla="*/ 78120 w 660240"/>
              <a:gd name="textAreaRight" fmla="*/ 582120 w 660240"/>
              <a:gd name="textAreaTop" fmla="*/ 0 h 757440"/>
              <a:gd name="textAreaBottom" fmla="*/ 163800 h 75744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AutoShape 19"/>
          <p:cNvSpPr/>
          <p:nvPr/>
        </p:nvSpPr>
        <p:spPr>
          <a:xfrm rot="6415200">
            <a:off x="2963880" y="2444040"/>
            <a:ext cx="660600" cy="757080"/>
          </a:xfrm>
          <a:custGeom>
            <a:avLst/>
            <a:gdLst>
              <a:gd name="textAreaLeft" fmla="*/ 78120 w 660600"/>
              <a:gd name="textAreaRight" fmla="*/ 582480 w 660600"/>
              <a:gd name="textAreaTop" fmla="*/ 0 h 757080"/>
              <a:gd name="textAreaBottom" fmla="*/ 163800 h 75708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AutoShape 20"/>
          <p:cNvSpPr/>
          <p:nvPr/>
        </p:nvSpPr>
        <p:spPr>
          <a:xfrm rot="16639200">
            <a:off x="3286800" y="2588400"/>
            <a:ext cx="660240" cy="757080"/>
          </a:xfrm>
          <a:custGeom>
            <a:avLst/>
            <a:gdLst>
              <a:gd name="textAreaLeft" fmla="*/ 78120 w 660240"/>
              <a:gd name="textAreaRight" fmla="*/ 582120 w 660240"/>
              <a:gd name="textAreaTop" fmla="*/ 0 h 757080"/>
              <a:gd name="textAreaBottom" fmla="*/ 163800 h 75708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AutoShape 21"/>
          <p:cNvSpPr/>
          <p:nvPr/>
        </p:nvSpPr>
        <p:spPr>
          <a:xfrm rot="20316600">
            <a:off x="1824120" y="4653000"/>
            <a:ext cx="660240" cy="757080"/>
          </a:xfrm>
          <a:custGeom>
            <a:avLst/>
            <a:gdLst>
              <a:gd name="textAreaLeft" fmla="*/ 78120 w 660240"/>
              <a:gd name="textAreaRight" fmla="*/ 582120 w 660240"/>
              <a:gd name="textAreaTop" fmla="*/ 0 h 757080"/>
              <a:gd name="textAreaBottom" fmla="*/ 163800 h 75708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AutoShape 22"/>
          <p:cNvSpPr/>
          <p:nvPr/>
        </p:nvSpPr>
        <p:spPr>
          <a:xfrm rot="9315000">
            <a:off x="1692360" y="4365360"/>
            <a:ext cx="660240" cy="757080"/>
          </a:xfrm>
          <a:custGeom>
            <a:avLst/>
            <a:gdLst>
              <a:gd name="textAreaLeft" fmla="*/ 78120 w 660240"/>
              <a:gd name="textAreaRight" fmla="*/ 582120 w 660240"/>
              <a:gd name="textAreaTop" fmla="*/ 0 h 757080"/>
              <a:gd name="textAreaBottom" fmla="*/ 163800 h 75708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WordArt 23"/>
          <p:cNvSpPr txBox="1"/>
          <p:nvPr/>
        </p:nvSpPr>
        <p:spPr>
          <a:xfrm>
            <a:off x="395280" y="2602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4716360" y="765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宋体"/>
              </a:rPr>
              <a:t>6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31"/>
          <p:cNvGrpSpPr/>
          <p:nvPr/>
        </p:nvGrpSpPr>
        <p:grpSpPr>
          <a:xfrm>
            <a:off x="685800" y="765000"/>
            <a:ext cx="3415320" cy="2864160"/>
            <a:chOff x="685800" y="765000"/>
            <a:chExt cx="3415320" cy="2864160"/>
          </a:xfrm>
        </p:grpSpPr>
        <p:sp>
          <p:nvSpPr>
            <p:cNvPr id="517" name="Text Box 2"/>
            <p:cNvSpPr/>
            <p:nvPr/>
          </p:nvSpPr>
          <p:spPr>
            <a:xfrm>
              <a:off x="1873440" y="765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3"/>
            <p:cNvSpPr/>
            <p:nvPr/>
          </p:nvSpPr>
          <p:spPr>
            <a:xfrm>
              <a:off x="685800" y="29257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Text Box 4"/>
            <p:cNvSpPr/>
            <p:nvPr/>
          </p:nvSpPr>
          <p:spPr>
            <a:xfrm>
              <a:off x="3554640" y="2923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Line 6"/>
            <p:cNvSpPr/>
            <p:nvPr/>
          </p:nvSpPr>
          <p:spPr>
            <a:xfrm flipV="1">
              <a:off x="1152360" y="1485360"/>
              <a:ext cx="934560" cy="158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Line 7"/>
            <p:cNvSpPr/>
            <p:nvPr/>
          </p:nvSpPr>
          <p:spPr>
            <a:xfrm>
              <a:off x="1152360" y="3070080"/>
              <a:ext cx="273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2087280" y="1485720"/>
              <a:ext cx="1801440" cy="158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3" name="Line 9"/>
          <p:cNvSpPr/>
          <p:nvPr/>
        </p:nvSpPr>
        <p:spPr>
          <a:xfrm>
            <a:off x="3924360" y="3051000"/>
            <a:ext cx="2520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374520" y="2854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Rectangle 21"/>
          <p:cNvSpPr/>
          <p:nvPr/>
        </p:nvSpPr>
        <p:spPr>
          <a:xfrm rot="11347200">
            <a:off x="1763280" y="14644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Rectangle 22"/>
          <p:cNvSpPr/>
          <p:nvPr/>
        </p:nvSpPr>
        <p:spPr>
          <a:xfrm rot="3087600">
            <a:off x="1150920" y="270036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 rot="1709400">
            <a:off x="3636360" y="26193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Rectangle 33"/>
          <p:cNvSpPr/>
          <p:nvPr/>
        </p:nvSpPr>
        <p:spPr>
          <a:xfrm>
            <a:off x="2771640" y="549360"/>
            <a:ext cx="568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a5644e"/>
                </a:solidFill>
                <a:latin typeface="宋体"/>
                <a:ea typeface="宋体"/>
              </a:rPr>
              <a:t>三角形的一个</a:t>
            </a: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外角</a:t>
            </a:r>
            <a:r>
              <a:rPr b="1" i="1" lang="zh-CN" sz="3600" spc="-1" strike="noStrike">
                <a:solidFill>
                  <a:srgbClr val="a5644e"/>
                </a:solidFill>
                <a:latin typeface="宋体"/>
                <a:ea typeface="宋体"/>
              </a:rPr>
              <a:t>等于</a:t>
            </a:r>
            <a:r>
              <a:rPr b="1" i="1" lang="zh-CN" sz="36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与它不相邻</a:t>
            </a:r>
            <a:r>
              <a:rPr b="1" i="1" lang="zh-CN" sz="3600" spc="-1" strike="noStrike">
                <a:solidFill>
                  <a:srgbClr val="a5644e"/>
                </a:solidFill>
                <a:latin typeface="宋体"/>
                <a:ea typeface="宋体"/>
              </a:rPr>
              <a:t>的</a:t>
            </a:r>
            <a:r>
              <a:rPr b="1" i="1" lang="zh-CN" sz="3600" spc="-1" strike="noStrike" u="sng">
                <a:solidFill>
                  <a:srgbClr val="ff3399"/>
                </a:solidFill>
                <a:uFillTx/>
                <a:latin typeface="隶书"/>
                <a:ea typeface="隶书"/>
              </a:rPr>
              <a:t>两个内角</a:t>
            </a:r>
            <a:r>
              <a:rPr b="1" i="1" lang="zh-CN" sz="3600" spc="-1" strike="noStrike">
                <a:solidFill>
                  <a:srgbClr val="a5644e"/>
                </a:solidFill>
                <a:latin typeface="宋体"/>
                <a:ea typeface="宋体"/>
              </a:rPr>
              <a:t>的和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755640" y="3645000"/>
            <a:ext cx="7848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证明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因为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+ ∠B + ∠ACB=180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  <a:ea typeface="宋体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CD + ∠ACB=180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  <a:ea typeface="宋体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所以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∠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+ ∠B= ∠A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539640" y="1557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求下列各图中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的度数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1" name="Group 3"/>
          <p:cNvGrpSpPr/>
          <p:nvPr/>
        </p:nvGrpSpPr>
        <p:grpSpPr>
          <a:xfrm>
            <a:off x="228240" y="2895480"/>
            <a:ext cx="2591280" cy="1981080"/>
            <a:chOff x="228240" y="2895480"/>
            <a:chExt cx="2591280" cy="1981080"/>
          </a:xfrm>
        </p:grpSpPr>
        <p:sp>
          <p:nvSpPr>
            <p:cNvPr id="532" name="Line 4"/>
            <p:cNvSpPr/>
            <p:nvPr/>
          </p:nvSpPr>
          <p:spPr>
            <a:xfrm flipH="1">
              <a:off x="228600" y="2895480"/>
              <a:ext cx="1625760" cy="198108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Line 5"/>
            <p:cNvSpPr/>
            <p:nvPr/>
          </p:nvSpPr>
          <p:spPr>
            <a:xfrm>
              <a:off x="1854360" y="2895480"/>
              <a:ext cx="965160" cy="99072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4" name="Line 6"/>
            <p:cNvSpPr/>
            <p:nvPr/>
          </p:nvSpPr>
          <p:spPr>
            <a:xfrm flipH="1">
              <a:off x="228240" y="3886200"/>
              <a:ext cx="2590920" cy="99036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5" name="Arc 7"/>
            <p:cNvSpPr/>
            <p:nvPr/>
          </p:nvSpPr>
          <p:spPr>
            <a:xfrm>
              <a:off x="533520" y="449568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6" name="Arc 8"/>
            <p:cNvSpPr/>
            <p:nvPr/>
          </p:nvSpPr>
          <p:spPr>
            <a:xfrm flipH="1" rot="300000">
              <a:off x="2362320" y="3636360"/>
              <a:ext cx="230040" cy="433800"/>
            </a:xfrm>
            <a:custGeom>
              <a:avLst/>
              <a:gdLst>
                <a:gd name="textAreaLeft" fmla="*/ -360 w 230040"/>
                <a:gd name="textAreaRight" fmla="*/ 230040 w 230040"/>
                <a:gd name="textAreaTop" fmla="*/ 0 h 433800"/>
                <a:gd name="textAreaBottom" fmla="*/ 434160 h 433800"/>
              </a:gdLst>
              <a:ahLst/>
              <a:rect l="textAreaLeft" t="textAreaTop" r="textAreaRight" b="textAreaBottom"/>
              <a:pathLst>
                <a:path fill="none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</a:path>
                <a:path stroke="0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  <a:lnTo>
                    <a:pt x="0" y="212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7" name="Arc 9"/>
            <p:cNvSpPr/>
            <p:nvPr/>
          </p:nvSpPr>
          <p:spPr>
            <a:xfrm flipV="1">
              <a:off x="1523880" y="3123360"/>
              <a:ext cx="533520" cy="824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82440"/>
                <a:gd name="textAreaBottom" fmla="*/ 82440 h 82440"/>
              </a:gdLst>
              <a:ahLst/>
              <a:rect l="textAreaLeft" t="textAreaTop" r="textAreaRight" b="textAreaBottom"/>
              <a:pathLst>
                <a:path fill="none" w="21600" h="21183">
                  <a:moveTo>
                    <a:pt x="4225" y="0"/>
                  </a:moveTo>
                  <a:cubicBezTo>
                    <a:pt x="14327" y="2015"/>
                    <a:pt x="21600" y="10882"/>
                    <a:pt x="21600" y="21183"/>
                  </a:cubicBezTo>
                </a:path>
                <a:path stroke="0" w="21600" h="21183">
                  <a:moveTo>
                    <a:pt x="4225" y="0"/>
                  </a:moveTo>
                  <a:cubicBezTo>
                    <a:pt x="14327" y="2015"/>
                    <a:pt x="21600" y="10882"/>
                    <a:pt x="21600" y="21183"/>
                  </a:cubicBezTo>
                  <a:lnTo>
                    <a:pt x="0" y="21183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8" name="Rectangle 10"/>
            <p:cNvSpPr/>
            <p:nvPr/>
          </p:nvSpPr>
          <p:spPr>
            <a:xfrm>
              <a:off x="685800" y="4267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Rectangle 11"/>
            <p:cNvSpPr/>
            <p:nvPr/>
          </p:nvSpPr>
          <p:spPr>
            <a:xfrm>
              <a:off x="1981080" y="3595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Rectangle 12"/>
            <p:cNvSpPr/>
            <p:nvPr/>
          </p:nvSpPr>
          <p:spPr>
            <a:xfrm>
              <a:off x="1676520" y="312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宋体"/>
                  <a:ea typeface="宋体"/>
                </a:rPr>
                <a:t>1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1" name="Group 13"/>
          <p:cNvGrpSpPr/>
          <p:nvPr/>
        </p:nvGrpSpPr>
        <p:grpSpPr>
          <a:xfrm>
            <a:off x="3124080" y="3048120"/>
            <a:ext cx="2971800" cy="1646280"/>
            <a:chOff x="3124080" y="3048120"/>
            <a:chExt cx="2971800" cy="1646280"/>
          </a:xfrm>
        </p:grpSpPr>
        <p:sp>
          <p:nvSpPr>
            <p:cNvPr id="542" name="Rectangle 14"/>
            <p:cNvSpPr/>
            <p:nvPr/>
          </p:nvSpPr>
          <p:spPr>
            <a:xfrm>
              <a:off x="4571280" y="44197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15"/>
            <p:cNvSpPr/>
            <p:nvPr/>
          </p:nvSpPr>
          <p:spPr>
            <a:xfrm flipH="1">
              <a:off x="3124080" y="3048120"/>
              <a:ext cx="2438640" cy="144792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Line 16"/>
            <p:cNvSpPr/>
            <p:nvPr/>
          </p:nvSpPr>
          <p:spPr>
            <a:xfrm>
              <a:off x="5105520" y="3353040"/>
              <a:ext cx="457200" cy="114300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Line 17"/>
            <p:cNvSpPr/>
            <p:nvPr/>
          </p:nvSpPr>
          <p:spPr>
            <a:xfrm flipH="1">
              <a:off x="3124080" y="4496040"/>
              <a:ext cx="243864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Arc 18"/>
            <p:cNvSpPr/>
            <p:nvPr/>
          </p:nvSpPr>
          <p:spPr>
            <a:xfrm>
              <a:off x="3429000" y="430560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Arc 19"/>
            <p:cNvSpPr/>
            <p:nvPr/>
          </p:nvSpPr>
          <p:spPr>
            <a:xfrm flipH="1" rot="300000">
              <a:off x="5258520" y="4189320"/>
              <a:ext cx="150840" cy="29988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fill="none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</a:path>
                <a:path stroke="0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  <a:lnTo>
                    <a:pt x="0" y="212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3657600" y="4129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5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5334120" y="32767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0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Rectangle 22"/>
            <p:cNvSpPr/>
            <p:nvPr/>
          </p:nvSpPr>
          <p:spPr>
            <a:xfrm>
              <a:off x="4952880" y="41148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宋体"/>
                  <a:ea typeface="宋体"/>
                </a:rPr>
                <a:t>1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Arc 23"/>
            <p:cNvSpPr/>
            <p:nvPr/>
          </p:nvSpPr>
          <p:spPr>
            <a:xfrm flipV="1">
              <a:off x="5181480" y="3276000"/>
              <a:ext cx="76320" cy="22860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6248160" y="2590920"/>
            <a:ext cx="2667240" cy="1986840"/>
            <a:chOff x="6248160" y="2590920"/>
            <a:chExt cx="2667240" cy="1986840"/>
          </a:xfrm>
        </p:grpSpPr>
        <p:sp>
          <p:nvSpPr>
            <p:cNvPr id="553" name="Line 25"/>
            <p:cNvSpPr/>
            <p:nvPr/>
          </p:nvSpPr>
          <p:spPr>
            <a:xfrm flipH="1">
              <a:off x="6248160" y="2590920"/>
              <a:ext cx="1625400" cy="198108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Line 26"/>
            <p:cNvSpPr/>
            <p:nvPr/>
          </p:nvSpPr>
          <p:spPr>
            <a:xfrm>
              <a:off x="7086600" y="2743200"/>
              <a:ext cx="1828800" cy="182844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Line 27"/>
            <p:cNvSpPr/>
            <p:nvPr/>
          </p:nvSpPr>
          <p:spPr>
            <a:xfrm flipH="1">
              <a:off x="6248520" y="4572000"/>
              <a:ext cx="266688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Arc 28"/>
            <p:cNvSpPr/>
            <p:nvPr/>
          </p:nvSpPr>
          <p:spPr>
            <a:xfrm>
              <a:off x="6400800" y="4381560"/>
              <a:ext cx="228600" cy="190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7" name="Arc 29"/>
            <p:cNvSpPr/>
            <p:nvPr/>
          </p:nvSpPr>
          <p:spPr>
            <a:xfrm flipH="1" rot="300000">
              <a:off x="8382960" y="4265280"/>
              <a:ext cx="226800" cy="30276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302760"/>
                <a:gd name="textAreaBottom" fmla="*/ 302760 h 302760"/>
              </a:gdLst>
              <a:ahLst/>
              <a:rect l="textAreaLeft" t="textAreaTop" r="textAreaRight" b="textAreaBottom"/>
              <a:pathLst>
                <a:path fill="none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</a:path>
                <a:path stroke="0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  <a:lnTo>
                    <a:pt x="0" y="212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8" name="Rectangle 30"/>
            <p:cNvSpPr/>
            <p:nvPr/>
          </p:nvSpPr>
          <p:spPr>
            <a:xfrm>
              <a:off x="6477120" y="412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5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Rectangle 31"/>
            <p:cNvSpPr/>
            <p:nvPr/>
          </p:nvSpPr>
          <p:spPr>
            <a:xfrm>
              <a:off x="8001000" y="42051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6858000" y="2985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宋体"/>
                  <a:ea typeface="宋体"/>
                </a:rPr>
                <a:t>1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1" name="Arc 33"/>
            <p:cNvSpPr/>
            <p:nvPr/>
          </p:nvSpPr>
          <p:spPr>
            <a:xfrm flipH="1" flipV="1" rot="2974200">
              <a:off x="7123320" y="3085200"/>
              <a:ext cx="380880" cy="30636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-36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fill="none" w="21600" h="21621">
                  <a:moveTo>
                    <a:pt x="8882" y="0"/>
                  </a:moveTo>
                  <a:cubicBezTo>
                    <a:pt x="16623" y="3492"/>
                    <a:pt x="21600" y="11196"/>
                    <a:pt x="21600" y="19689"/>
                  </a:cubicBezTo>
                  <a:cubicBezTo>
                    <a:pt x="21600" y="20333"/>
                    <a:pt x="21571" y="20978"/>
                    <a:pt x="21513" y="21621"/>
                  </a:cubicBezTo>
                </a:path>
                <a:path stroke="0" w="21600" h="21621">
                  <a:moveTo>
                    <a:pt x="8882" y="0"/>
                  </a:moveTo>
                  <a:cubicBezTo>
                    <a:pt x="16623" y="3492"/>
                    <a:pt x="21600" y="11196"/>
                    <a:pt x="21600" y="19689"/>
                  </a:cubicBezTo>
                  <a:cubicBezTo>
                    <a:pt x="21600" y="20333"/>
                    <a:pt x="21571" y="20978"/>
                    <a:pt x="21513" y="21621"/>
                  </a:cubicBezTo>
                  <a:lnTo>
                    <a:pt x="0" y="1968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2" name="Text Box 34"/>
          <p:cNvSpPr/>
          <p:nvPr/>
        </p:nvSpPr>
        <p:spPr>
          <a:xfrm>
            <a:off x="250920" y="5084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=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3276720" y="5084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=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36"/>
          <p:cNvSpPr/>
          <p:nvPr/>
        </p:nvSpPr>
        <p:spPr>
          <a:xfrm>
            <a:off x="6084720" y="5084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=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Rectangle 37"/>
          <p:cNvSpPr/>
          <p:nvPr/>
        </p:nvSpPr>
        <p:spPr>
          <a:xfrm>
            <a:off x="1449360" y="518148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0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Rectangle 38"/>
          <p:cNvSpPr/>
          <p:nvPr/>
        </p:nvSpPr>
        <p:spPr>
          <a:xfrm>
            <a:off x="4573440" y="510552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5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39"/>
          <p:cNvSpPr/>
          <p:nvPr/>
        </p:nvSpPr>
        <p:spPr>
          <a:xfrm>
            <a:off x="7316640" y="510552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5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WordArt 41"/>
          <p:cNvSpPr txBox="1"/>
          <p:nvPr/>
        </p:nvSpPr>
        <p:spPr>
          <a:xfrm>
            <a:off x="324000" y="2602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比一比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4714560" y="4522680"/>
            <a:ext cx="109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0" y="3716280"/>
            <a:ext cx="46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∠A   (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427640" y="3789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∠B  (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07640" y="4868640"/>
            <a:ext cx="608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角形的一个外角大于任何一个                  与它不相邻的内角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83059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7" name="Group 10"/>
          <p:cNvGrpSpPr/>
          <p:nvPr/>
        </p:nvGrpSpPr>
        <p:grpSpPr>
          <a:xfrm>
            <a:off x="3034800" y="471960"/>
            <a:ext cx="5582880" cy="3479760"/>
            <a:chOff x="3034800" y="471960"/>
            <a:chExt cx="5582880" cy="3479760"/>
          </a:xfrm>
        </p:grpSpPr>
        <p:sp>
          <p:nvSpPr>
            <p:cNvPr id="578" name="AutoShape 11"/>
            <p:cNvSpPr/>
            <p:nvPr/>
          </p:nvSpPr>
          <p:spPr>
            <a:xfrm rot="11472600">
              <a:off x="5398200" y="549000"/>
              <a:ext cx="894240" cy="1017000"/>
            </a:xfrm>
            <a:custGeom>
              <a:avLst/>
              <a:gdLst>
                <a:gd name="textAreaLeft" fmla="*/ 105480 w 894240"/>
                <a:gd name="textAreaRight" fmla="*/ 788760 w 894240"/>
                <a:gd name="textAreaTop" fmla="*/ 0 h 1017000"/>
                <a:gd name="textAreaBottom" fmla="*/ 219960 h 101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9" name="AutoShape 12"/>
            <p:cNvSpPr/>
            <p:nvPr/>
          </p:nvSpPr>
          <p:spPr>
            <a:xfrm rot="3461400">
              <a:off x="3394440" y="2683800"/>
              <a:ext cx="726480" cy="1252080"/>
            </a:xfrm>
            <a:custGeom>
              <a:avLst/>
              <a:gdLst>
                <a:gd name="textAreaLeft" fmla="*/ 85680 w 726480"/>
                <a:gd name="textAreaRight" fmla="*/ 640800 w 726480"/>
                <a:gd name="textAreaTop" fmla="*/ 0 h 1252080"/>
                <a:gd name="textAreaBottom" fmla="*/ 270720 h 12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80" name="Group 13"/>
            <p:cNvGrpSpPr/>
            <p:nvPr/>
          </p:nvGrpSpPr>
          <p:grpSpPr>
            <a:xfrm>
              <a:off x="3252240" y="767160"/>
              <a:ext cx="5365440" cy="2991240"/>
              <a:chOff x="3252240" y="767160"/>
              <a:chExt cx="5365440" cy="2991240"/>
            </a:xfrm>
          </p:grpSpPr>
          <p:sp>
            <p:nvSpPr>
              <p:cNvPr id="581" name="Text Box 14"/>
              <p:cNvSpPr/>
              <p:nvPr/>
            </p:nvSpPr>
            <p:spPr>
              <a:xfrm>
                <a:off x="5935680" y="76716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2" name="Line 15"/>
              <p:cNvSpPr/>
              <p:nvPr/>
            </p:nvSpPr>
            <p:spPr>
              <a:xfrm>
                <a:off x="3668040" y="3257280"/>
                <a:ext cx="4949640" cy="0"/>
              </a:xfrm>
              <a:prstGeom prst="line">
                <a:avLst/>
              </a:prstGeom>
              <a:ln w="7632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3" name="Freeform 16"/>
              <p:cNvSpPr/>
              <p:nvPr/>
            </p:nvSpPr>
            <p:spPr>
              <a:xfrm>
                <a:off x="5874840" y="981000"/>
                <a:ext cx="617400" cy="226908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2269080"/>
                  <a:gd name="textAreaBottom" fmla="*/ 2269440 h 2269080"/>
                </a:gdLst>
                <a:ahLst/>
                <a:rect l="textAreaLeft" t="textAreaTop" r="textAreaRight" b="textAreaBottom"/>
                <a:pathLst>
                  <a:path w="497" h="2271">
                    <a:moveTo>
                      <a:pt x="0" y="0"/>
                    </a:moveTo>
                    <a:lnTo>
                      <a:pt x="497" y="2271"/>
                    </a:lnTo>
                  </a:path>
                </a:pathLst>
              </a:custGeom>
              <a:noFill/>
              <a:ln w="76320">
                <a:solidFill>
                  <a:srgbClr val="a5644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4" name="Text Box 17"/>
              <p:cNvSpPr/>
              <p:nvPr/>
            </p:nvSpPr>
            <p:spPr>
              <a:xfrm>
                <a:off x="6469560" y="3298680"/>
                <a:ext cx="4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5" name="Text Box 18"/>
              <p:cNvSpPr/>
              <p:nvPr/>
            </p:nvSpPr>
            <p:spPr>
              <a:xfrm>
                <a:off x="3252240" y="316116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6" name="Line 19"/>
              <p:cNvSpPr/>
              <p:nvPr/>
            </p:nvSpPr>
            <p:spPr>
              <a:xfrm flipV="1">
                <a:off x="3668040" y="1009080"/>
                <a:ext cx="2207520" cy="2275920"/>
              </a:xfrm>
              <a:prstGeom prst="line">
                <a:avLst/>
              </a:prstGeom>
              <a:ln w="7632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7" name="AutoShape 20"/>
              <p:cNvSpPr/>
              <p:nvPr/>
            </p:nvSpPr>
            <p:spPr>
              <a:xfrm rot="2599800">
                <a:off x="6053400" y="2994480"/>
                <a:ext cx="894240" cy="484200"/>
              </a:xfrm>
              <a:custGeom>
                <a:avLst/>
                <a:gdLst>
                  <a:gd name="textAreaLeft" fmla="*/ 105480 w 894240"/>
                  <a:gd name="textAreaRight" fmla="*/ 788760 w 894240"/>
                  <a:gd name="textAreaTop" fmla="*/ 0 h 484200"/>
                  <a:gd name="textAreaBottom" fmla="*/ 1047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974" y="3326"/>
                    </a:moveTo>
                    <a:cubicBezTo>
                      <a:pt x="6638" y="2028"/>
                      <a:pt x="8689" y="1323"/>
                      <a:pt x="10800" y="1324"/>
                    </a:cubicBezTo>
                    <a:cubicBezTo>
                      <a:pt x="12910" y="1324"/>
                      <a:pt x="14961" y="2028"/>
                      <a:pt x="16625" y="3326"/>
                    </a:cubicBezTo>
                    <a:lnTo>
                      <a:pt x="17439" y="2282"/>
                    </a:lnTo>
                    <a:cubicBezTo>
                      <a:pt x="15542" y="803"/>
                      <a:pt x="13205" y="-1"/>
                      <a:pt x="10799" y="0"/>
                    </a:cubicBezTo>
                    <a:cubicBezTo>
                      <a:pt x="8394" y="0"/>
                      <a:pt x="6057" y="803"/>
                      <a:pt x="4160" y="2282"/>
                    </a:cubicBez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Text Box 21"/>
          <p:cNvSpPr/>
          <p:nvPr/>
        </p:nvSpPr>
        <p:spPr>
          <a:xfrm>
            <a:off x="1523880" y="364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6019920" y="37162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AutoShape 23"/>
          <p:cNvSpPr/>
          <p:nvPr/>
        </p:nvSpPr>
        <p:spPr>
          <a:xfrm>
            <a:off x="539640" y="1268280"/>
            <a:ext cx="3733920" cy="914400"/>
          </a:xfrm>
          <a:prstGeom prst="cloudCallout">
            <a:avLst>
              <a:gd name="adj1" fmla="val 20324"/>
              <a:gd name="adj2" fmla="val -163888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你选什么 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WordArt 24"/>
          <p:cNvSpPr txBox="1"/>
          <p:nvPr/>
        </p:nvSpPr>
        <p:spPr>
          <a:xfrm>
            <a:off x="395280" y="479736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论：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92" name="WordArt 28"/>
          <p:cNvSpPr txBox="1"/>
          <p:nvPr/>
        </p:nvSpPr>
        <p:spPr>
          <a:xfrm>
            <a:off x="539640" y="18900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3" name="AutoShape 29">
            <a:hlinkClick r:id="rId1" action="ppaction://hlinksldjump"/>
          </p:cNvPr>
          <p:cNvSpPr/>
          <p:nvPr/>
        </p:nvSpPr>
        <p:spPr>
          <a:xfrm>
            <a:off x="7667640" y="558972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594440" y="1773360"/>
            <a:ext cx="4345920" cy="3133800"/>
            <a:chOff x="1594440" y="1773360"/>
            <a:chExt cx="4345920" cy="3133800"/>
          </a:xfrm>
        </p:grpSpPr>
        <p:sp>
          <p:nvSpPr>
            <p:cNvPr id="595" name="Line 3"/>
            <p:cNvSpPr/>
            <p:nvPr/>
          </p:nvSpPr>
          <p:spPr>
            <a:xfrm flipH="1">
              <a:off x="1836360" y="2430360"/>
              <a:ext cx="1150920" cy="2305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2195280" y="4014720"/>
              <a:ext cx="3745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 flipH="1" flipV="1">
              <a:off x="2339640" y="1926720"/>
              <a:ext cx="2663640" cy="2087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 rot="4735200">
              <a:off x="2555280" y="19987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844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AutoShape 7"/>
            <p:cNvSpPr/>
            <p:nvPr/>
          </p:nvSpPr>
          <p:spPr>
            <a:xfrm rot="12039000">
              <a:off x="4500360" y="350964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617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0" name="AutoShape 8"/>
            <p:cNvSpPr/>
            <p:nvPr/>
          </p:nvSpPr>
          <p:spPr>
            <a:xfrm rot="19764000">
              <a:off x="1763280" y="35827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08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1" name="Text Box 9"/>
            <p:cNvSpPr/>
            <p:nvPr/>
          </p:nvSpPr>
          <p:spPr>
            <a:xfrm>
              <a:off x="3041280" y="1773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Text Box 10"/>
            <p:cNvSpPr/>
            <p:nvPr/>
          </p:nvSpPr>
          <p:spPr>
            <a:xfrm>
              <a:off x="1672920" y="3502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3" name="Text Box 11"/>
            <p:cNvSpPr/>
            <p:nvPr/>
          </p:nvSpPr>
          <p:spPr>
            <a:xfrm>
              <a:off x="4841640" y="4006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4" name="Text Box 12"/>
            <p:cNvSpPr/>
            <p:nvPr/>
          </p:nvSpPr>
          <p:spPr>
            <a:xfrm>
              <a:off x="2177640" y="220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5" name="Text Box 13"/>
            <p:cNvSpPr/>
            <p:nvPr/>
          </p:nvSpPr>
          <p:spPr>
            <a:xfrm>
              <a:off x="2485800" y="432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Text Box 14"/>
            <p:cNvSpPr/>
            <p:nvPr/>
          </p:nvSpPr>
          <p:spPr>
            <a:xfrm>
              <a:off x="5057640" y="2854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7" name="Text Box 21"/>
          <p:cNvSpPr/>
          <p:nvPr/>
        </p:nvSpPr>
        <p:spPr>
          <a:xfrm>
            <a:off x="1835280" y="5229360"/>
            <a:ext cx="48704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角形的外角和等于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36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8" name="Group 22"/>
          <p:cNvGrpSpPr/>
          <p:nvPr/>
        </p:nvGrpSpPr>
        <p:grpSpPr>
          <a:xfrm>
            <a:off x="3780000" y="333360"/>
            <a:ext cx="5104800" cy="1267200"/>
            <a:chOff x="3780000" y="333360"/>
            <a:chExt cx="5104800" cy="1267200"/>
          </a:xfrm>
        </p:grpSpPr>
        <p:sp>
          <p:nvSpPr>
            <p:cNvPr id="609" name="AutoShape 23"/>
            <p:cNvSpPr/>
            <p:nvPr/>
          </p:nvSpPr>
          <p:spPr>
            <a:xfrm>
              <a:off x="3780000" y="333360"/>
              <a:ext cx="5104800" cy="1174680"/>
            </a:xfrm>
            <a:prstGeom prst="wedgeRoundRectCallout">
              <a:avLst>
                <a:gd name="adj1" fmla="val -537"/>
                <a:gd name="adj2" fmla="val 161458"/>
                <a:gd name="adj3" fmla="val 16667"/>
              </a:avLst>
            </a:prstGeom>
            <a:solidFill>
              <a:srgbClr val="66ff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0" name="Text Box 24"/>
            <p:cNvSpPr/>
            <p:nvPr/>
          </p:nvSpPr>
          <p:spPr>
            <a:xfrm>
              <a:off x="3946680" y="592560"/>
              <a:ext cx="48466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∠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∠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∠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3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?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644e"/>
                  </a:solidFill>
                  <a:latin typeface="Times New Roman"/>
                  <a:ea typeface="宋体"/>
                </a:rPr>
                <a:t>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11" name="Picture 26" descr="PE01832_"/>
          <p:cNvPicPr/>
          <p:nvPr/>
        </p:nvPicPr>
        <p:blipFill>
          <a:blip r:embed="rId1"/>
          <a:stretch/>
        </p:blipFill>
        <p:spPr>
          <a:xfrm>
            <a:off x="6227640" y="2349360"/>
            <a:ext cx="1916280" cy="1737000"/>
          </a:xfrm>
          <a:prstGeom prst="rect">
            <a:avLst/>
          </a:prstGeom>
          <a:ln w="0">
            <a:noFill/>
          </a:ln>
        </p:spPr>
      </p:pic>
      <p:sp>
        <p:nvSpPr>
          <p:cNvPr id="612" name="WordArt 27"/>
          <p:cNvSpPr txBox="1"/>
          <p:nvPr/>
        </p:nvSpPr>
        <p:spPr>
          <a:xfrm>
            <a:off x="468360" y="33336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08:00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6:10Z</dcterms:modified>
  <cp:revision>35</cp:revision>
  <dc:subject>www.12999.com</dc:subject>
  <dc:title>www.12999.com</dc:title>
</cp:coreProperties>
</file>