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chimes.wav" ContentType="audio/x-wav"/>
  <Override PartName="/ppt/media/image16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3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A51-65F1-4EE6-BD74-171372D5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701-E491-4C25-B4F3-764EB295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E5200-1EF2-4F3A-939B-4603C56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140B2-A0FB-4934-A70F-2134710D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F576-EC63-4D25-9783-764263C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8FAF-CD72-46B8-A969-A2C4282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4FF1F-5733-46F5-BE07-9D690E3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3A67B-C55D-48EC-A176-409A08A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6CF9-DA0F-4A75-AEA9-66908AD8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8120-0F83-4C95-84E2-1F6AB21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70DC-5111-4D76-9484-AEEF2EDC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24A9-8054-4DEE-86F1-F25AD6BD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DBD-CA3D-4928-AE75-CCC64C43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CC2D7-0516-401F-93A7-5445799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B93ED-C05E-4D6A-A809-ABDE6331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FD67F-3C53-4D40-9D6A-049B856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2F13-E988-4D5C-8F4A-CE8D450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ABED2-FB32-4F30-9C36-3F6CA926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025C6-058A-4EFD-B46B-CDF264F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084A1-A455-46E6-8837-27D8E64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6D88C-004B-4B14-B941-ACDF4B7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EEE9F-A834-4B18-91EF-79EBB04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C3D64-79C0-4530-AB6D-94F857A7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C29-D596-4947-8C56-B1556C37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C365-F979-4960-9DBD-5D83DE8B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90D0-8A11-4F5C-B46F-18066DB6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BE7-162E-424E-986F-3982249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AB63-901A-4A67-B591-B5D39783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6734-AD2B-450B-91D8-93306B99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7507-0F9B-45DF-89FE-2CD10804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18F-3990-4633-A458-F1CD9C0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DEDB-21D1-4929-B5B8-3E60DA6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F5A-34A9-4752-A46E-B0E68AE7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7B1-0910-4B42-8679-5D52F45B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7633-4691-4F07-9FD9-F57760D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89BC-F728-4938-B5D5-5CC9CEE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8FA-282E-4862-B857-094E4F71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2C1E-EECC-4DB2-B703-CDCC9C8C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EFCE-043F-4F47-B4EF-94235015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A1AA-BC72-4625-B0FF-AB3A0D08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8FC6-3BA1-44D0-8BBE-C098B01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C95E-0192-4D80-AA5F-DC706F4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87A4-50CD-43AD-96EA-BE7E454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E2B-FD39-495E-94A7-877A7DC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A9C3-BB40-4268-A327-14831568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1082-DF8D-4ED2-9430-6F2D8AF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E068-1A43-4244-9B3C-F9FE462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3008-DE68-4C8A-A7E3-39B1D1E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DFD0-D446-45F7-A011-F719C84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7164-9DC4-4FD9-A613-A4463B4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FAFF-5F79-4CF2-BCA6-1288CABC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2E0F-72BB-4FDA-AD84-BC7FB104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6264-7909-445D-BFA6-6B38CB93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1240-1FBC-410E-8194-B178FDF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577-4EBD-447B-8870-A3B4703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E51E-B2F8-4671-8330-9AB0D41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874F-DD30-4A04-AC2D-1E5301C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18FE-7929-4E7E-BC41-A936AB3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6457-9485-4300-BCCA-256729E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1D72-F798-4505-853E-E4916C3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F4EB-2C68-44F9-9218-5C87967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51E2-F3DE-43EE-B65F-44B59CE2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7BAC-8B14-43E9-9EBB-F9F0357E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7493-0EF2-422D-9002-760CDF9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24CE-7F0F-45C9-9A6C-9CD37A51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CB0-E8CD-4191-8BD7-A0D3372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2E47-2326-440C-9CF7-B27DBEF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6AAB-FD26-4A4D-9359-78CF5749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E2C4-6F22-48E6-BA82-2F1D3B60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071FF-2325-4E4E-ADCD-B8B4D88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C388-80C6-477F-9904-76894521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898B-E2BA-4A20-B491-9DAE293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987E-B716-4E11-B3A5-3AA86F8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72267-41EB-4B59-A787-8DB4E39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48ED-7810-4D81-952E-BACF5CF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DE1A-C4BD-4A75-A462-10515A69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DBC-D548-42A9-B395-62BA4D87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4719-A8C7-4F8B-9CC2-8A3209B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3A3A-676B-4BDD-9922-9F0C48FC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5C63-FA6F-41A6-B581-797EB8B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840D-5D15-4475-B379-2C1007A0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A202-7F67-461B-8160-5E9AB30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5AAB4-93FB-4F48-8C53-6F0DA68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F32BA-583C-46D1-AA5A-98C1229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B5368-4F1D-4677-AFE5-53C7E99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62BD8-C2F3-4F2F-827F-38581123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6F23-9CFF-4C22-8C22-ADEC72C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80B-BA14-4F26-B9E1-DD0F8AF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F75A-11FA-4CC5-86CD-8964629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1040-0CB1-4DF5-9EE3-07287710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DB72-9AAD-45FB-BB2E-C35D8CE3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12D8-B1A5-4B9E-A8E0-D7BFF05B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64E7-DE3B-423F-A06A-47BC1343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8EC3F-3DFA-4060-9C28-29632A5E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C8585-8E6E-4DAA-B7AE-DE5F5F5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4800-8940-46B9-9C71-2BDB9D02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0411-547D-440A-9ACC-BE75569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76E4-27BE-4BCE-84EF-0DC9698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4EA-DC69-487F-BD48-2367BED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B7EA-CAD2-4402-BB8E-203A7FD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120B5-8284-4974-8591-636692D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2A31-BC25-43B5-A563-7525634E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68233-E338-4B44-A0FF-56F85394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F2E1D-8B99-46F4-808D-B6DA5269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3D50A-576B-4DBA-B963-9E77107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81C2-57D0-4033-9B1D-E788D4E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AF35B-3FF2-4D73-88C5-26F6428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91919-10F8-49B3-9DBD-1125DEA9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21E4F-F63D-456D-AF12-DEBFF32F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ECD-2E53-4B3F-A637-4A5AF97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123A-A14C-4AD0-B49C-6CDF99EA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CDA5-37F5-4B5A-94D5-0FBA9E0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DF50-00A0-4087-977B-19A432A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79059-17FC-4914-9B43-9598E88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1F4CF-D620-41BD-8A88-A8B97CD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810AA-131A-40EB-B50B-252C6C23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DBCC-320D-487F-923C-425A4EFD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38BFC-E72F-4797-B70E-C8D480AF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0F1D5-9735-4E5F-9B76-959D18C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4DA9-51AF-4D82-A1A7-CD647982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C8A4-471B-4D59-BC03-BB9C648C58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B59-6768-46A4-BCF9-D5737DAFA9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8E2-08FC-4128-9AC6-C103E9C0C9C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7F8-27B2-4D27-A021-412B76F67A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A4C1-5897-4FAE-B59C-7495894E0CF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E72D-523A-43CF-A5BA-96D606C0E2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42D-FC54-4E78-9EBA-506F7468A2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5EA-5E0C-4F00-BEBE-0624FA5F0A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FCFE-498C-474B-A181-11F43A800A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6B29-63BF-43A8-A7D5-1E57997A88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363_831456373"/>
          <p:cNvPicPr/>
          <p:nvPr/>
        </p:nvPicPr>
        <p:blipFill>
          <a:blip r:embed="rId1"/>
          <a:stretch/>
        </p:blipFill>
        <p:spPr>
          <a:xfrm>
            <a:off x="179280" y="135000"/>
            <a:ext cx="8856720" cy="65340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179280" y="2239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多边形的内角和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5140440" y="5791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684360" y="1484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华文行楷"/>
                <a:ea typeface="华文行楷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这节课的学习活动你有哪些收获？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539640" y="3933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华文行楷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ff9900"/>
                </a:solidFill>
                <a:latin typeface="华文行楷"/>
                <a:ea typeface="华文行楷"/>
              </a:rPr>
              <a:t>你还有什么困惑吗？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1" name="Picture 4" descr="眼睛2"/>
          <p:cNvPicPr/>
          <p:nvPr/>
        </p:nvPicPr>
        <p:blipFill>
          <a:blip r:embed="rId1"/>
          <a:stretch/>
        </p:blipFill>
        <p:spPr>
          <a:xfrm>
            <a:off x="1619280" y="333360"/>
            <a:ext cx="914400" cy="762120"/>
          </a:xfrm>
          <a:prstGeom prst="rect">
            <a:avLst/>
          </a:prstGeom>
          <a:ln w="0">
            <a:noFill/>
          </a:ln>
        </p:spPr>
      </p:pic>
      <p:sp>
        <p:nvSpPr>
          <p:cNvPr id="562" name="WordArt 5"/>
          <p:cNvSpPr txBox="1"/>
          <p:nvPr/>
        </p:nvSpPr>
        <p:spPr>
          <a:xfrm rot="21574800">
            <a:off x="2743200" y="685800"/>
            <a:ext cx="461160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24000"/>
                </a:gradFill>
                <a:latin typeface="黑体"/>
              </a:rPr>
              <a:t>感悟与反思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24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132" descr=""/>
          <p:cNvPicPr/>
          <p:nvPr/>
        </p:nvPicPr>
        <p:blipFill>
          <a:blip r:embed="rId1"/>
          <a:stretch/>
        </p:blipFill>
        <p:spPr>
          <a:xfrm>
            <a:off x="146160" y="208080"/>
            <a:ext cx="8474040" cy="140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457200" y="990720"/>
          <a:ext cx="8305920" cy="5738760"/>
        </p:xfrm>
        <a:graphic>
          <a:graphicData uri="http://schemas.openxmlformats.org/drawingml/2006/table">
            <a:tbl>
              <a:tblPr/>
              <a:tblGrid>
                <a:gridCol w="1185840"/>
                <a:gridCol w="1187640"/>
                <a:gridCol w="1185840"/>
                <a:gridCol w="1187280"/>
                <a:gridCol w="1185840"/>
                <a:gridCol w="712800"/>
                <a:gridCol w="1660680"/>
              </a:tblGrid>
              <a:tr h="15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边形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边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边数</a:t>
                      </a: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从一个顶点引出对角线的条数</a:t>
                      </a: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成三角形的个数</a:t>
                      </a: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边形的内角和</a:t>
                      </a: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4" name="Group 161"/>
          <p:cNvGrpSpPr/>
          <p:nvPr/>
        </p:nvGrpSpPr>
        <p:grpSpPr>
          <a:xfrm>
            <a:off x="2895480" y="1295280"/>
            <a:ext cx="1060560" cy="941400"/>
            <a:chOff x="2895480" y="1295280"/>
            <a:chExt cx="1060560" cy="941400"/>
          </a:xfrm>
        </p:grpSpPr>
        <p:grpSp>
          <p:nvGrpSpPr>
            <p:cNvPr id="455" name="Group 162"/>
            <p:cNvGrpSpPr/>
            <p:nvPr/>
          </p:nvGrpSpPr>
          <p:grpSpPr>
            <a:xfrm>
              <a:off x="3110400" y="1295280"/>
              <a:ext cx="757080" cy="505440"/>
              <a:chOff x="3110400" y="1295280"/>
              <a:chExt cx="757080" cy="505440"/>
            </a:xfrm>
          </p:grpSpPr>
          <p:sp>
            <p:nvSpPr>
              <p:cNvPr id="456" name="Line 163"/>
              <p:cNvSpPr/>
              <p:nvPr/>
            </p:nvSpPr>
            <p:spPr>
              <a:xfrm flipH="1">
                <a:off x="3110400" y="1302840"/>
                <a:ext cx="31176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7" name="Line 164"/>
              <p:cNvSpPr/>
              <p:nvPr/>
            </p:nvSpPr>
            <p:spPr>
              <a:xfrm>
                <a:off x="3110400" y="1541880"/>
                <a:ext cx="187200" cy="258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8" name="Freeform 165"/>
              <p:cNvSpPr/>
              <p:nvPr/>
            </p:nvSpPr>
            <p:spPr>
              <a:xfrm>
                <a:off x="3294360" y="1601640"/>
                <a:ext cx="564840" cy="19080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69" h="460">
                    <a:moveTo>
                      <a:pt x="0" y="460"/>
                    </a:moveTo>
                    <a:lnTo>
                      <a:pt x="869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9" name="Freeform 166"/>
              <p:cNvSpPr/>
              <p:nvPr/>
            </p:nvSpPr>
            <p:spPr>
              <a:xfrm>
                <a:off x="3416400" y="1295280"/>
                <a:ext cx="451080" cy="307080"/>
              </a:xfrm>
              <a:custGeom>
                <a:avLst/>
                <a:gdLst>
                  <a:gd name="textAreaLeft" fmla="*/ 0 w 451080"/>
                  <a:gd name="textAreaRight" fmla="*/ 451440 w 45108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694" h="741">
                    <a:moveTo>
                      <a:pt x="694" y="741"/>
                    </a:move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0" name="Text Box 167"/>
            <p:cNvSpPr/>
            <p:nvPr/>
          </p:nvSpPr>
          <p:spPr>
            <a:xfrm>
              <a:off x="2895480" y="1868400"/>
              <a:ext cx="10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四边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1" name="Group 170"/>
          <p:cNvGrpSpPr/>
          <p:nvPr/>
        </p:nvGrpSpPr>
        <p:grpSpPr>
          <a:xfrm>
            <a:off x="4079880" y="1126080"/>
            <a:ext cx="1097640" cy="1291320"/>
            <a:chOff x="4079880" y="1126080"/>
            <a:chExt cx="1097640" cy="1291320"/>
          </a:xfrm>
        </p:grpSpPr>
        <p:sp>
          <p:nvSpPr>
            <p:cNvPr id="462" name="AutoShape 171"/>
            <p:cNvSpPr/>
            <p:nvPr/>
          </p:nvSpPr>
          <p:spPr>
            <a:xfrm rot="20910600">
              <a:off x="4129920" y="1219320"/>
              <a:ext cx="997200" cy="604800"/>
            </a:xfrm>
            <a:prstGeom prst="pentagon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Text Box 172"/>
            <p:cNvSpPr/>
            <p:nvPr/>
          </p:nvSpPr>
          <p:spPr>
            <a:xfrm>
              <a:off x="4114800" y="2080080"/>
              <a:ext cx="8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五边形</a:t>
              </a:r>
              <a:endParaRPr b="1" lang="en-US" sz="1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4" name="Group 176"/>
          <p:cNvGrpSpPr/>
          <p:nvPr/>
        </p:nvGrpSpPr>
        <p:grpSpPr>
          <a:xfrm>
            <a:off x="5410080" y="1218240"/>
            <a:ext cx="935280" cy="1224720"/>
            <a:chOff x="5410080" y="1218240"/>
            <a:chExt cx="935280" cy="1224720"/>
          </a:xfrm>
        </p:grpSpPr>
        <p:sp>
          <p:nvSpPr>
            <p:cNvPr id="465" name="AutoShape 177"/>
            <p:cNvSpPr/>
            <p:nvPr/>
          </p:nvSpPr>
          <p:spPr>
            <a:xfrm rot="5410800">
              <a:off x="5551920" y="1202400"/>
              <a:ext cx="671760" cy="704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178"/>
            <p:cNvSpPr/>
            <p:nvPr/>
          </p:nvSpPr>
          <p:spPr>
            <a:xfrm>
              <a:off x="5410080" y="20746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六边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cxnSp>
        <p:nvCxnSpPr>
          <p:cNvPr id="467" name="AutoShape 179"/>
          <p:cNvCxnSpPr>
            <a:stCxn id="465" idx="2"/>
            <a:endCxn id="468" idx="0"/>
          </p:cNvCxnSpPr>
          <p:nvPr/>
        </p:nvCxnSpPr>
        <p:spPr>
          <a:xfrm flipH="1">
            <a:off x="5562360" y="1190520"/>
            <a:ext cx="327600" cy="55800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</a:ln>
        </p:spPr>
      </p:cxnSp>
      <p:sp>
        <p:nvSpPr>
          <p:cNvPr id="469" name="Line 180"/>
          <p:cNvSpPr/>
          <p:nvPr/>
        </p:nvSpPr>
        <p:spPr>
          <a:xfrm flipV="1">
            <a:off x="5562720" y="1371240"/>
            <a:ext cx="71892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Line 181"/>
          <p:cNvSpPr/>
          <p:nvPr/>
        </p:nvSpPr>
        <p:spPr>
          <a:xfrm>
            <a:off x="5562720" y="17524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1" name="Group 187"/>
          <p:cNvGrpSpPr/>
          <p:nvPr/>
        </p:nvGrpSpPr>
        <p:grpSpPr>
          <a:xfrm>
            <a:off x="1676520" y="1371600"/>
            <a:ext cx="1142640" cy="852480"/>
            <a:chOff x="1676520" y="1371600"/>
            <a:chExt cx="1142640" cy="852480"/>
          </a:xfrm>
        </p:grpSpPr>
        <p:grpSp>
          <p:nvGrpSpPr>
            <p:cNvPr id="472" name="Group 188"/>
            <p:cNvGrpSpPr/>
            <p:nvPr/>
          </p:nvGrpSpPr>
          <p:grpSpPr>
            <a:xfrm>
              <a:off x="1676520" y="1371600"/>
              <a:ext cx="1034280" cy="300960"/>
              <a:chOff x="1676520" y="1371600"/>
              <a:chExt cx="1034280" cy="300960"/>
            </a:xfrm>
          </p:grpSpPr>
          <p:sp>
            <p:nvSpPr>
              <p:cNvPr id="473" name="Line 189"/>
              <p:cNvSpPr/>
              <p:nvPr/>
            </p:nvSpPr>
            <p:spPr>
              <a:xfrm>
                <a:off x="1676520" y="1672560"/>
                <a:ext cx="1034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474" name="Group 190"/>
              <p:cNvGrpSpPr/>
              <p:nvPr/>
            </p:nvGrpSpPr>
            <p:grpSpPr>
              <a:xfrm>
                <a:off x="1676520" y="1371600"/>
                <a:ext cx="1033920" cy="300960"/>
                <a:chOff x="1676520" y="1371600"/>
                <a:chExt cx="1033920" cy="300960"/>
              </a:xfrm>
            </p:grpSpPr>
            <p:sp>
              <p:nvSpPr>
                <p:cNvPr id="475" name="Line 191"/>
                <p:cNvSpPr/>
                <p:nvPr/>
              </p:nvSpPr>
              <p:spPr>
                <a:xfrm flipH="1">
                  <a:off x="1676520" y="1371600"/>
                  <a:ext cx="544320" cy="300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92"/>
                <p:cNvSpPr/>
                <p:nvPr/>
              </p:nvSpPr>
              <p:spPr>
                <a:xfrm flipH="1" flipV="1">
                  <a:off x="2220840" y="1371600"/>
                  <a:ext cx="489600" cy="300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7" name="Text Box 193"/>
            <p:cNvSpPr/>
            <p:nvPr/>
          </p:nvSpPr>
          <p:spPr>
            <a:xfrm>
              <a:off x="1730880" y="1855800"/>
              <a:ext cx="10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三角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Object 194"/>
              <p:cNvSpPr txBox="1"/>
              <p:nvPr/>
            </p:nvSpPr>
            <p:spPr>
              <a:xfrm>
                <a:off x="1447920" y="182880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9" name="WordArt 199"/>
          <p:cNvSpPr txBox="1"/>
          <p:nvPr/>
        </p:nvSpPr>
        <p:spPr>
          <a:xfrm>
            <a:off x="3200400" y="5257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Rectangle 200"/>
          <p:cNvSpPr/>
          <p:nvPr/>
        </p:nvSpPr>
        <p:spPr>
          <a:xfrm>
            <a:off x="2743200" y="609588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66"/>
                </a:solidFill>
                <a:latin typeface="Arial"/>
                <a:ea typeface="宋体"/>
              </a:rPr>
              <a:t>2x180°</a:t>
            </a:r>
            <a:endParaRPr b="1" lang="en-US" sz="19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Rectangle 201"/>
          <p:cNvSpPr/>
          <p:nvPr/>
        </p:nvSpPr>
        <p:spPr>
          <a:xfrm>
            <a:off x="1523880" y="609588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66"/>
                </a:solidFill>
                <a:latin typeface="Arial"/>
                <a:ea typeface="宋体"/>
              </a:rPr>
              <a:t>1x180°</a:t>
            </a:r>
            <a:endParaRPr b="1" lang="en-US" sz="19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WordArt 202"/>
          <p:cNvSpPr txBox="1"/>
          <p:nvPr/>
        </p:nvSpPr>
        <p:spPr>
          <a:xfrm>
            <a:off x="4495680" y="5257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3" name="Rectangle 204"/>
          <p:cNvSpPr/>
          <p:nvPr/>
        </p:nvSpPr>
        <p:spPr>
          <a:xfrm>
            <a:off x="4038480" y="617220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66"/>
                </a:solidFill>
                <a:latin typeface="Arial"/>
                <a:ea typeface="宋体"/>
              </a:rPr>
              <a:t>3x180°</a:t>
            </a:r>
            <a:endParaRPr b="1" lang="en-US" sz="19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WordArt 205"/>
          <p:cNvSpPr txBox="1"/>
          <p:nvPr/>
        </p:nvSpPr>
        <p:spPr>
          <a:xfrm>
            <a:off x="5638680" y="5181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5" name="WordArt 206"/>
          <p:cNvSpPr txBox="1"/>
          <p:nvPr/>
        </p:nvSpPr>
        <p:spPr>
          <a:xfrm>
            <a:off x="5562720" y="38098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6" name="Rectangle 207"/>
          <p:cNvSpPr/>
          <p:nvPr/>
        </p:nvSpPr>
        <p:spPr>
          <a:xfrm>
            <a:off x="5181480" y="6172200"/>
            <a:ext cx="144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66"/>
                </a:solidFill>
                <a:latin typeface="Arial"/>
                <a:ea typeface="宋体"/>
              </a:rPr>
              <a:t>4x180°</a:t>
            </a:r>
            <a:endParaRPr b="1" lang="en-US" sz="19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WordArt 208"/>
          <p:cNvSpPr txBox="1"/>
          <p:nvPr/>
        </p:nvSpPr>
        <p:spPr>
          <a:xfrm>
            <a:off x="7391520" y="3886200"/>
            <a:ext cx="6858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n-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8" name="WordArt 209"/>
          <p:cNvSpPr txBox="1"/>
          <p:nvPr/>
        </p:nvSpPr>
        <p:spPr>
          <a:xfrm>
            <a:off x="7391520" y="5105520"/>
            <a:ext cx="685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n-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Rectangle 210"/>
          <p:cNvSpPr/>
          <p:nvPr/>
        </p:nvSpPr>
        <p:spPr>
          <a:xfrm>
            <a:off x="6934320" y="617220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66"/>
                </a:solidFill>
                <a:latin typeface="Arial"/>
                <a:ea typeface="宋体"/>
              </a:rPr>
              <a:t>(n-2)x180°</a:t>
            </a:r>
            <a:endParaRPr b="1" lang="en-US" sz="1900" spc="-1" strike="noStrike">
              <a:solidFill>
                <a:srgbClr val="008000"/>
              </a:solidFill>
              <a:latin typeface="Arial"/>
            </a:endParaRPr>
          </a:p>
        </p:txBody>
      </p:sp>
      <p:cxnSp>
        <p:nvCxnSpPr>
          <p:cNvPr id="490" name="AutoShape 221"/>
          <p:cNvCxnSpPr>
            <a:stCxn id="459" idx="1"/>
            <a:endCxn id="457" idx="0"/>
          </p:cNvCxnSpPr>
          <p:nvPr/>
        </p:nvCxnSpPr>
        <p:spPr>
          <a:xfrm flipH="1">
            <a:off x="3296520" y="1266480"/>
            <a:ext cx="119880" cy="5626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</a:ln>
        </p:spPr>
      </p:cxnSp>
      <p:sp>
        <p:nvSpPr>
          <p:cNvPr id="491" name="WordArt 222"/>
          <p:cNvSpPr txBox="1"/>
          <p:nvPr/>
        </p:nvSpPr>
        <p:spPr>
          <a:xfrm>
            <a:off x="3200400" y="3886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WordArt 225"/>
          <p:cNvSpPr txBox="1"/>
          <p:nvPr/>
        </p:nvSpPr>
        <p:spPr>
          <a:xfrm>
            <a:off x="4343400" y="3886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cxnSp>
        <p:nvCxnSpPr>
          <p:cNvPr id="493" name="AutoShape 228"/>
          <p:cNvCxnSpPr>
            <a:stCxn id="462" idx="0"/>
          </p:cNvCxnSpPr>
          <p:nvPr/>
        </p:nvCxnSpPr>
        <p:spPr>
          <a:xfrm flipH="1">
            <a:off x="4419360" y="1195200"/>
            <a:ext cx="141840" cy="7102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</a:ln>
        </p:spPr>
      </p:cxnSp>
      <p:cxnSp>
        <p:nvCxnSpPr>
          <p:cNvPr id="494" name="AutoShape 229"/>
          <p:cNvCxnSpPr>
            <a:stCxn id="462" idx="5"/>
          </p:cNvCxnSpPr>
          <p:nvPr/>
        </p:nvCxnSpPr>
        <p:spPr>
          <a:xfrm flipH="1">
            <a:off x="4419000" y="1346040"/>
            <a:ext cx="711720" cy="5104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</a:ln>
        </p:spPr>
      </p:cxnSp>
      <p:grpSp>
        <p:nvGrpSpPr>
          <p:cNvPr id="495" name="Group 230"/>
          <p:cNvGrpSpPr/>
          <p:nvPr/>
        </p:nvGrpSpPr>
        <p:grpSpPr>
          <a:xfrm>
            <a:off x="5410080" y="1218240"/>
            <a:ext cx="935280" cy="1224720"/>
            <a:chOff x="5410080" y="1218240"/>
            <a:chExt cx="935280" cy="1224720"/>
          </a:xfrm>
        </p:grpSpPr>
        <p:sp>
          <p:nvSpPr>
            <p:cNvPr id="496" name="AutoShape 231"/>
            <p:cNvSpPr/>
            <p:nvPr/>
          </p:nvSpPr>
          <p:spPr>
            <a:xfrm rot="5410800">
              <a:off x="5551920" y="1202400"/>
              <a:ext cx="671760" cy="704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7" name="Text Box 232"/>
            <p:cNvSpPr/>
            <p:nvPr/>
          </p:nvSpPr>
          <p:spPr>
            <a:xfrm>
              <a:off x="5410080" y="20746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六边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8" name="Line 233"/>
          <p:cNvSpPr/>
          <p:nvPr/>
        </p:nvSpPr>
        <p:spPr>
          <a:xfrm>
            <a:off x="5562720" y="17524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234"/>
          <p:cNvGrpSpPr/>
          <p:nvPr/>
        </p:nvGrpSpPr>
        <p:grpSpPr>
          <a:xfrm>
            <a:off x="5410080" y="1218240"/>
            <a:ext cx="935280" cy="1224720"/>
            <a:chOff x="5410080" y="1218240"/>
            <a:chExt cx="935280" cy="1224720"/>
          </a:xfrm>
        </p:grpSpPr>
        <p:sp>
          <p:nvSpPr>
            <p:cNvPr id="500" name="AutoShape 235"/>
            <p:cNvSpPr/>
            <p:nvPr/>
          </p:nvSpPr>
          <p:spPr>
            <a:xfrm rot="5410800">
              <a:off x="5551920" y="1202400"/>
              <a:ext cx="671760" cy="704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Text Box 236"/>
            <p:cNvSpPr/>
            <p:nvPr/>
          </p:nvSpPr>
          <p:spPr>
            <a:xfrm>
              <a:off x="5410080" y="20746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六边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2" name="Line 242"/>
          <p:cNvSpPr/>
          <p:nvPr/>
        </p:nvSpPr>
        <p:spPr>
          <a:xfrm flipV="1">
            <a:off x="5562720" y="1218960"/>
            <a:ext cx="30456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Line 243"/>
          <p:cNvSpPr/>
          <p:nvPr/>
        </p:nvSpPr>
        <p:spPr>
          <a:xfrm>
            <a:off x="5562720" y="17524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Line 244"/>
          <p:cNvSpPr/>
          <p:nvPr/>
        </p:nvSpPr>
        <p:spPr>
          <a:xfrm flipV="1">
            <a:off x="5562720" y="1371600"/>
            <a:ext cx="68580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179280" y="549360"/>
          <a:ext cx="8636040" cy="5413320"/>
        </p:xfrm>
        <a:graphic>
          <a:graphicData uri="http://schemas.openxmlformats.org/drawingml/2006/table">
            <a:tbl>
              <a:tblPr/>
              <a:tblGrid>
                <a:gridCol w="1255680"/>
                <a:gridCol w="1764000"/>
                <a:gridCol w="561636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多边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图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多边形的外角和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三角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四边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五边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边形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32"/>
          <p:cNvSpPr/>
          <p:nvPr/>
        </p:nvSpPr>
        <p:spPr>
          <a:xfrm>
            <a:off x="3564000" y="1700280"/>
            <a:ext cx="49705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3×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-(3-2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=36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07" name="Object 33"/>
          <p:cNvGraphicFramePr/>
          <p:nvPr/>
        </p:nvGraphicFramePr>
        <p:xfrm>
          <a:off x="1908000" y="5157720"/>
          <a:ext cx="8701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157720"/>
                    <a:ext cx="8701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34"/>
          <p:cNvGraphicFramePr/>
          <p:nvPr/>
        </p:nvGraphicFramePr>
        <p:xfrm>
          <a:off x="1763640" y="1341360"/>
          <a:ext cx="111276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341360"/>
                    <a:ext cx="1112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35"/>
          <p:cNvGraphicFramePr/>
          <p:nvPr/>
        </p:nvGraphicFramePr>
        <p:xfrm>
          <a:off x="1692360" y="2637000"/>
          <a:ext cx="1119240" cy="89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637000"/>
                    <a:ext cx="11192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36"/>
          <p:cNvGraphicFramePr/>
          <p:nvPr/>
        </p:nvGraphicFramePr>
        <p:xfrm>
          <a:off x="1763640" y="3573360"/>
          <a:ext cx="1079640" cy="93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3573360"/>
                    <a:ext cx="1079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37"/>
          <p:cNvSpPr/>
          <p:nvPr/>
        </p:nvSpPr>
        <p:spPr>
          <a:xfrm>
            <a:off x="3635280" y="2708280"/>
            <a:ext cx="512784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4×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-(4-2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=36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Rectangle 38"/>
          <p:cNvSpPr/>
          <p:nvPr/>
        </p:nvSpPr>
        <p:spPr>
          <a:xfrm>
            <a:off x="3733920" y="3733920"/>
            <a:ext cx="4975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5×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-(5-2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×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=36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39"/>
          <p:cNvSpPr/>
          <p:nvPr/>
        </p:nvSpPr>
        <p:spPr>
          <a:xfrm>
            <a:off x="3635280" y="5229360"/>
            <a:ext cx="53643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n×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-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(n-2)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×18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=360</a:t>
            </a:r>
            <a:r>
              <a:rPr b="1" lang="en-US" sz="3200" spc="-1" strike="noStrike" baseline="50000">
                <a:solidFill>
                  <a:srgbClr val="cc0000"/>
                </a:solidFill>
                <a:latin typeface="宋体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Text Box 40"/>
          <p:cNvSpPr/>
          <p:nvPr/>
        </p:nvSpPr>
        <p:spPr>
          <a:xfrm>
            <a:off x="3505320" y="228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探索任意多边形的外角和</a:t>
            </a:r>
            <a:r>
              <a:rPr b="1" lang="en-US" sz="2800" spc="-1" strike="noStrike">
                <a:solidFill>
                  <a:srgbClr val="9933ff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1855800" y="227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合作学习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24000" y="692280"/>
            <a:ext cx="657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闯关练习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分组抢答竞赛：</a:t>
            </a:r>
            <a:endParaRPr b="1" lang="en-US" sz="3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50920" y="2241720"/>
            <a:ext cx="871380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在老师示意开始抢答时，各小组举手抢答，   举手最多的小组获得答题权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答对者小组获得相应的分数。答错者将答题权转给对方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积分最高者为优胜组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8437680" cy="1274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快速抢答，熟悉公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685800" y="236232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边形的内角和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一个多边形的内角和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4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边    形。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3)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、正五边形的每一个外角等于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___.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每一个内角等于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如果一个多边形的每一个外角等于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30°,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则这个多边形的边数是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4343400" y="2362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1d0f"/>
                </a:solidFill>
                <a:latin typeface="Arial Black"/>
                <a:ea typeface="宋体"/>
              </a:rPr>
              <a:t>108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7086600" y="29718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宋体"/>
              </a:rPr>
              <a:t>10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3809880" y="5486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宋体"/>
              </a:rPr>
              <a:t>1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5791320" y="4038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72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1447920" y="4495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08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8437320" cy="1274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在四边形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BCD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中，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=120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度，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      = 3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求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 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。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分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如果一个四边形的一组对角互补，那么另一组对角的关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。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分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7010280" y="21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1d0f"/>
                </a:solidFill>
                <a:latin typeface="Arial Black"/>
                <a:ea typeface="宋体"/>
              </a:rPr>
              <a:t>6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648320" y="2590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1d0f"/>
                </a:solidFill>
                <a:latin typeface="Arial Black"/>
                <a:ea typeface="宋体"/>
              </a:rPr>
              <a:t>10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905120" y="2590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1d0f"/>
                </a:solidFill>
                <a:latin typeface="Arial Black"/>
                <a:ea typeface="宋体"/>
              </a:rPr>
              <a:t>8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4114800" y="373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1d0f"/>
                </a:solidFill>
                <a:latin typeface="Arial Black"/>
                <a:ea typeface="宋体"/>
              </a:rPr>
              <a:t>互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380880" y="5104080"/>
            <a:ext cx="8229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e3b30"/>
                </a:solidFill>
                <a:latin typeface="Arial"/>
                <a:ea typeface="宋体"/>
              </a:rPr>
              <a:t>4</a:t>
            </a:r>
            <a:r>
              <a:rPr b="1" lang="zh-CN" sz="2100" spc="-1" strike="noStrike">
                <a:solidFill>
                  <a:srgbClr val="4e3b30"/>
                </a:solidFill>
                <a:latin typeface="Arial"/>
                <a:ea typeface="宋体"/>
              </a:rPr>
              <a:t>、正</a:t>
            </a:r>
            <a:r>
              <a:rPr b="1" lang="en-US" sz="2100" spc="-1" strike="noStrike">
                <a:solidFill>
                  <a:srgbClr val="4e3b30"/>
                </a:solidFill>
                <a:latin typeface="Arial"/>
                <a:ea typeface="宋体"/>
              </a:rPr>
              <a:t>n</a:t>
            </a:r>
            <a:r>
              <a:rPr b="1" lang="zh-CN" sz="2100" spc="-1" strike="noStrike">
                <a:solidFill>
                  <a:srgbClr val="4e3b30"/>
                </a:solidFill>
                <a:latin typeface="Arial"/>
                <a:ea typeface="宋体"/>
              </a:rPr>
              <a:t>边形的每一个外角等于</a:t>
            </a:r>
            <a:r>
              <a:rPr b="1" lang="en-US" sz="2100" spc="-1" strike="noStrike">
                <a:solidFill>
                  <a:srgbClr val="4e3b30"/>
                </a:solidFill>
                <a:latin typeface="Arial"/>
                <a:ea typeface="宋体"/>
              </a:rPr>
              <a:t>___.</a:t>
            </a:r>
            <a:r>
              <a:rPr b="1" lang="zh-CN" sz="2100" spc="-1" strike="noStrike">
                <a:solidFill>
                  <a:srgbClr val="4e3b30"/>
                </a:solidFill>
                <a:latin typeface="Arial"/>
                <a:ea typeface="宋体"/>
              </a:rPr>
              <a:t>每一个内角等         于</a:t>
            </a:r>
            <a:r>
              <a:rPr b="1" lang="zh-CN" sz="2100" spc="-1" strike="noStrike" u="sng">
                <a:solidFill>
                  <a:srgbClr val="4e3b30"/>
                </a:solidFill>
                <a:uFillTx/>
                <a:latin typeface="Arial"/>
                <a:ea typeface="宋体"/>
              </a:rPr>
              <a:t>                                 </a:t>
            </a:r>
            <a:r>
              <a:rPr b="1" lang="en-US" sz="2100" spc="-1" strike="noStrike" u="sng">
                <a:solidFill>
                  <a:srgbClr val="4e3b30"/>
                </a:solidFill>
                <a:uFillTx/>
                <a:latin typeface="Arial"/>
                <a:ea typeface="宋体"/>
              </a:rPr>
              <a:t>,</a:t>
            </a:r>
            <a:endParaRPr b="1" lang="en-US" sz="2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533520" y="6202440"/>
            <a:ext cx="8162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533520" y="55627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一个多边形的各内角都等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它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边形。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9" name="Group 12"/>
          <p:cNvGrpSpPr/>
          <p:nvPr/>
        </p:nvGrpSpPr>
        <p:grpSpPr>
          <a:xfrm>
            <a:off x="5181480" y="4267080"/>
            <a:ext cx="1440000" cy="820080"/>
            <a:chOff x="5181480" y="4267080"/>
            <a:chExt cx="1440000" cy="820080"/>
          </a:xfrm>
        </p:grpSpPr>
        <p:sp>
          <p:nvSpPr>
            <p:cNvPr id="540" name="Text Box 13"/>
            <p:cNvSpPr/>
            <p:nvPr/>
          </p:nvSpPr>
          <p:spPr>
            <a:xfrm>
              <a:off x="5181480" y="42670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360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Line 14"/>
            <p:cNvSpPr/>
            <p:nvPr/>
          </p:nvSpPr>
          <p:spPr>
            <a:xfrm>
              <a:off x="5254560" y="4699080"/>
              <a:ext cx="719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5397480" y="46274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3" name="Group 16"/>
          <p:cNvGrpSpPr/>
          <p:nvPr/>
        </p:nvGrpSpPr>
        <p:grpSpPr>
          <a:xfrm>
            <a:off x="838080" y="5029200"/>
            <a:ext cx="2592360" cy="747000"/>
            <a:chOff x="838080" y="5029200"/>
            <a:chExt cx="2592360" cy="747000"/>
          </a:xfrm>
        </p:grpSpPr>
        <p:sp>
          <p:nvSpPr>
            <p:cNvPr id="544" name="Text Box 17"/>
            <p:cNvSpPr/>
            <p:nvPr/>
          </p:nvSpPr>
          <p:spPr>
            <a:xfrm>
              <a:off x="838080" y="50292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(n-2) ×180 °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Line 18"/>
            <p:cNvSpPr/>
            <p:nvPr/>
          </p:nvSpPr>
          <p:spPr>
            <a:xfrm flipV="1">
              <a:off x="910800" y="5414760"/>
              <a:ext cx="2086200" cy="46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19"/>
            <p:cNvSpPr/>
            <p:nvPr/>
          </p:nvSpPr>
          <p:spPr>
            <a:xfrm>
              <a:off x="1773000" y="53164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7" name="Text Box 20"/>
          <p:cNvSpPr/>
          <p:nvPr/>
        </p:nvSpPr>
        <p:spPr>
          <a:xfrm>
            <a:off x="7559640" y="5486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1d0f"/>
                </a:solidFill>
                <a:latin typeface="Arial Black"/>
                <a:ea typeface="宋体"/>
              </a:rPr>
              <a:t>6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 一个多边形当边数增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时，它的内角和增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 度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分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2340000" y="20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1d0f"/>
                </a:solidFill>
                <a:latin typeface="Arial Black"/>
                <a:ea typeface="宋体"/>
              </a:rPr>
              <a:t>18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684360" y="2781360"/>
            <a:ext cx="7416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解： 设多边形的边数为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因为它的内角和等于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n-2)•180°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当边数增加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时，内角和为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n+1-2)•180°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，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(n+1-2)•180°- (n-2)•18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=n•180°-180°- n•180°+36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= 180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内角和增加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180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 一个多边形除一个内角外其余各内角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999°,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求这个多边形的变数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分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684360" y="2781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.n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边形的内角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(n-2)×180°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多边形的外角和是  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360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.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数学思想方法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转化与化归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多边形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三角形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362320" y="37339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ff"/>
                </a:solidFill>
                <a:latin typeface="Arial"/>
                <a:ea typeface="宋体"/>
              </a:rPr>
              <a:t>对角线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2362320" y="4267080"/>
            <a:ext cx="1728720" cy="71640"/>
          </a:xfrm>
          <a:custGeom>
            <a:avLst/>
            <a:gdLst>
              <a:gd name="textAreaLeft" fmla="*/ 216000 w 1728720"/>
              <a:gd name="textAreaRight" fmla="*/ 1512720 w 172872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0a22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8:50Z</dcterms:modified>
  <cp:revision>22</cp:revision>
  <dc:subject>www.12999.com</dc:subject>
  <dc:title>www.12999.com</dc:title>
</cp:coreProperties>
</file>