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wmf" ContentType="image/x-wmf"/>
  <Override PartName="/ppt/media/image7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FE9-A18F-4C81-8550-70335D3E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AEC-6055-4BF1-8F31-FDBADA27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FEF2B-D788-4802-AE5E-41BB9645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1DBE7-39EF-4CAB-802C-9D149DDB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36C52-958D-416C-8F4A-1C92B521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2D99A-15F6-4073-8553-A2F9F07D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0A535-B0C6-465E-8B70-4A350B4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C3B7A-F6D4-4414-9D02-8E18F4CC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78ED9-D562-491B-9CD5-04F4C020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65D8B-004B-4963-B8A4-18ABAC28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304AC-C5C6-411C-98EB-3810DD22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E3D-CE8E-4EDC-BCB1-9A095FBC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8D9-91F0-4372-B511-67C296D9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BC17-FE00-45EE-81A9-9AC9913B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C1F4-39B0-4C0C-86E5-7DCA69EE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AF9F-7A76-44DE-A819-0AB49661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A082-FAAB-465B-A138-1168863B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472F-EF07-4C7B-AAE7-62842927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4769-8A00-435D-AB37-8380B3B1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A54-C82C-431F-8A87-CBC15DE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492-955F-4A99-BAFB-016C0AF7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A0A0-4D0E-4801-B3B7-E4D6040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612E-8904-4FAC-A70C-640F5ABE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F093-6E0D-44F6-A811-6A869B18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C065-23FA-4770-9223-194F10FA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2131-8C72-4D68-B4A7-B40E8B14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9A7C-2261-4F61-98A4-408451DC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28DC-C954-4A09-A500-0DCF5327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7AD4-F523-4F5C-BA9A-361D6687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D239-D380-4E76-8ED2-0ABCD518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914EA-E451-4D7E-9B23-8FE592B4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69E-0FDA-43A5-8765-C747121A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98BF-32BD-4140-AEDA-F378F8DC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83A7-9D3F-4BDA-A469-6EC5BEE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0B9D-46CB-4D37-9628-28F0C631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DC8C-D4F3-4D2A-8202-C4381168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1775-F08E-483F-9016-7884EDCB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244C-7AFC-4189-AF63-DA88423D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FBB8-3D74-4246-B5FC-0E62F718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685E0-25BB-4CEA-B10E-7BEC7D46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140F1-619D-41E8-8724-6CF7842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3CAA-D104-4904-A38D-6C645389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00A-72CE-42BE-948A-FAF58104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5FF8A-CBE4-4507-B57D-D749FF55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2BD3-C350-499E-9727-F256B141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4148-28C5-4F91-987A-7E851A12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3673F-2503-4386-AFD1-78FA238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0C20-B7A0-4DA1-A402-151C5C0D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0B20B-82C4-4F56-8883-CD17A88E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A389B-7929-4E40-8011-665D6399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DE91C-0592-4259-BFA5-561E2410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2CA18-203F-4C88-A258-86E62E8F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6FFC-2902-4A50-8CDE-79C214CE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3FC-C18E-44D0-9CCC-BAB84A98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792D2-AC0B-4681-BB3E-715BA8D5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6123C-3473-4E32-A8FA-46DF77E9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11215-7E0E-4D88-BAB6-90ABB956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A7600-69C9-4CD9-9EFC-4C06ABE9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03EE-8D44-4D75-86AA-80D8FAB8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1CC16-2A5D-4489-953A-B8577606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A06A8-2A7B-4182-B43F-F65EBDC5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CE8B-5374-4ADD-9390-4B11FE1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2A6C1-D08C-43C3-97E7-F1FB5C51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C3910-14FB-4CA8-992F-53BC3CDC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0A2-B02F-40C9-ADCE-E8094DD8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82E81-32FC-41E9-8CCF-6C024C47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46B87-6802-4A79-B1D6-693C6164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33FC4-F16D-49D0-9A67-96DCEA66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7F1F1-7B79-44C5-BA88-617709D8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C1D9A-0692-4AD7-A4CF-D0D6D434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FC114-BA7C-400C-AEEB-78E2986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C5F57-D05A-4251-82C9-9864C5A0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EC6C-C4EC-4E44-ADBC-41E88EC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39A93-AD38-4787-91D1-976E23BD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B58A3-C1CF-45AA-80DA-5DC4B83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282-8EE1-4DD3-A550-59BB9B86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6C855-9EE1-4705-B898-6CF937C7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0CA03-8B72-40CA-AA3C-C1A7BF96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2443B-1EBB-4F29-9187-C0ED660A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816D7-2289-488C-A508-4A29205E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747ED-C7FD-41CE-9F4F-4282FA50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5FD01-8113-41F6-889C-A7AF7DB1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2883E-D08F-425B-BBBE-E3E2D103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F7A9F-9DE4-4240-A5A7-55A7FC29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70388-0319-4E0F-BE51-1C8B9D4E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97FCD-C676-4977-BE49-4A6B709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63A-657C-4FA5-8AF9-EAE77A4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94D97-0780-4809-8391-268C1028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79829-C067-42C4-98F8-D4F40DC8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5758D-9001-4EAB-84EC-D7978B90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2EA60-45EB-430E-93F4-372993F3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04908-26AC-4FBD-9536-2BEB3E49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17408-F5F3-48C6-9B19-DAC2A16F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936DC-1859-44EB-9361-AA8CA52F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D44ED-0E36-4540-A410-0D289B45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B23D8-04F8-497E-B7F2-9207218C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3F157-73AA-45DE-A5B0-856CDC42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37C-5D8B-49A4-8770-D833D931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58628-94BA-48CC-AF47-93B4A4D6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6C19D-0072-4191-907C-DC62C449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E7DAB-761D-4904-815E-97535D4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AA148-CD3B-476A-AA40-D6B9B00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A32C0-3523-4EAF-9557-E8E15E42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497F4-EEA6-4AB1-A129-065312DD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7A814-5061-4506-A641-D1C0172D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2C942-1608-45FF-BE1E-5BE72B9D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E68C3-70A0-4739-987A-66F3503C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0AA82-8209-48D5-ACA6-CD953C5B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3A8A-2415-40EC-937D-D8B2BBA0728E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C9FB-1B7B-4D8F-9195-DA48CC2BD73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0C38-2D63-4A9F-A441-BD524E389913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5A02-7C1E-4B1E-BEE3-D5E759E15A9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18B9-F317-4FE1-95E1-459B63C9C929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4460-9C94-4993-BF6A-E7F31BF138B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AB06-F9F6-4816-8D75-BEC68035E90A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DDBE-6F15-4AB1-94BF-7826B4B2E8E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C246-8128-463F-AF34-C09EEFD6527E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906-7F48-4E99-A2AC-DCD65BB3292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FCBB-4D88-409F-9D93-7AA050D14C64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8DFF-E83B-484E-B594-0F6F265809B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6FA3-724E-478B-B583-DB99B8B0B19E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D500-9FF8-431D-8F56-3CE4DA334F5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4A17-10AD-4CD5-B927-31B488992557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43B-BBF2-4CB1-97CF-0B5683EA3A0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206-D7A0-4217-A96D-6E7857F599E8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7A1-226A-4716-AEBB-2457517AA54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6"/>
          <p:cNvSpPr/>
          <p:nvPr/>
        </p:nvSpPr>
        <p:spPr>
          <a:xfrm>
            <a:off x="1187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全等的判定（四）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3"/>
          <p:cNvSpPr/>
          <p:nvPr/>
        </p:nvSpPr>
        <p:spPr>
          <a:xfrm>
            <a:off x="685800" y="9810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C=A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直角，将上述条件标注在图中，你能说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等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47" name="Group 4"/>
          <p:cNvGrpSpPr/>
          <p:nvPr/>
        </p:nvGrpSpPr>
        <p:grpSpPr>
          <a:xfrm>
            <a:off x="0" y="2133720"/>
            <a:ext cx="4859280" cy="3699720"/>
            <a:chOff x="0" y="2133720"/>
            <a:chExt cx="4859280" cy="3699720"/>
          </a:xfrm>
        </p:grpSpPr>
        <p:grpSp>
          <p:nvGrpSpPr>
            <p:cNvPr id="548" name="Group 5"/>
            <p:cNvGrpSpPr/>
            <p:nvPr/>
          </p:nvGrpSpPr>
          <p:grpSpPr>
            <a:xfrm>
              <a:off x="395280" y="2492280"/>
              <a:ext cx="4038480" cy="2970360"/>
              <a:chOff x="395280" y="2492280"/>
              <a:chExt cx="4038480" cy="2970360"/>
            </a:xfrm>
          </p:grpSpPr>
          <p:pic>
            <p:nvPicPr>
              <p:cNvPr id="54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95280" y="2492280"/>
                <a:ext cx="4038480" cy="297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0" name="Group 7"/>
              <p:cNvGrpSpPr/>
              <p:nvPr/>
            </p:nvGrpSpPr>
            <p:grpSpPr>
              <a:xfrm>
                <a:off x="900000" y="2707920"/>
                <a:ext cx="503280" cy="289440"/>
                <a:chOff x="900000" y="2707920"/>
                <a:chExt cx="503280" cy="289440"/>
              </a:xfrm>
            </p:grpSpPr>
            <p:sp>
              <p:nvSpPr>
                <p:cNvPr id="551" name="Line 8"/>
                <p:cNvSpPr/>
                <p:nvPr/>
              </p:nvSpPr>
              <p:spPr>
                <a:xfrm>
                  <a:off x="900000" y="2852640"/>
                  <a:ext cx="35892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9"/>
                <p:cNvSpPr/>
                <p:nvPr/>
              </p:nvSpPr>
              <p:spPr>
                <a:xfrm flipV="1">
                  <a:off x="1258920" y="2707920"/>
                  <a:ext cx="14436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Line 10"/>
              <p:cNvSpPr/>
              <p:nvPr/>
            </p:nvSpPr>
            <p:spPr>
              <a:xfrm flipV="1">
                <a:off x="900000" y="4941360"/>
                <a:ext cx="3589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4" name="Line 11"/>
              <p:cNvSpPr/>
              <p:nvPr/>
            </p:nvSpPr>
            <p:spPr>
              <a:xfrm>
                <a:off x="1258920" y="4941720"/>
                <a:ext cx="14436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55" name="Text Box 12"/>
            <p:cNvSpPr/>
            <p:nvPr/>
          </p:nvSpPr>
          <p:spPr>
            <a:xfrm>
              <a:off x="971640" y="2133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6" name="Text Box 13"/>
            <p:cNvSpPr/>
            <p:nvPr/>
          </p:nvSpPr>
          <p:spPr>
            <a:xfrm>
              <a:off x="755640" y="5373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7" name="Text Box 14"/>
            <p:cNvSpPr/>
            <p:nvPr/>
          </p:nvSpPr>
          <p:spPr>
            <a:xfrm>
              <a:off x="0" y="35733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8" name="Text Box 15"/>
            <p:cNvSpPr/>
            <p:nvPr/>
          </p:nvSpPr>
          <p:spPr>
            <a:xfrm>
              <a:off x="4138560" y="35733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59" name="Text Box 16"/>
          <p:cNvSpPr/>
          <p:nvPr/>
        </p:nvSpPr>
        <p:spPr>
          <a:xfrm>
            <a:off x="4321080" y="252252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：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t△AC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t△AD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则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60" name="Group 17"/>
          <p:cNvGrpSpPr/>
          <p:nvPr/>
        </p:nvGrpSpPr>
        <p:grpSpPr>
          <a:xfrm>
            <a:off x="5070600" y="3132000"/>
            <a:ext cx="3744720" cy="968400"/>
            <a:chOff x="5070600" y="3132000"/>
            <a:chExt cx="3744720" cy="968400"/>
          </a:xfrm>
        </p:grpSpPr>
        <p:sp>
          <p:nvSpPr>
            <p:cNvPr id="561" name="Text Box 18"/>
            <p:cNvSpPr/>
            <p:nvPr/>
          </p:nvSpPr>
          <p:spPr>
            <a:xfrm>
              <a:off x="5070600" y="3132000"/>
              <a:ext cx="37447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B=AB,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C=A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2" name="AutoShape 19"/>
            <p:cNvSpPr/>
            <p:nvPr/>
          </p:nvSpPr>
          <p:spPr>
            <a:xfrm>
              <a:off x="5214600" y="3276360"/>
              <a:ext cx="144360" cy="719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719280"/>
                <a:gd name="textAreaBottom" fmla="*/ 70056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63" name="Text Box 20"/>
          <p:cNvSpPr/>
          <p:nvPr/>
        </p:nvSpPr>
        <p:spPr>
          <a:xfrm>
            <a:off x="4284720" y="41990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t△ACB≌Rt△ADB (HL)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319640" y="4656240"/>
            <a:ext cx="47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C=B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全等三角形对应边相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0" y="260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练一练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762120" y="5335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395280" y="260280"/>
            <a:ext cx="852012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图，两根长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的绳子，一端系在旗杆上，另一端分别固定在地面两个木桩上，两个木桩离旗杆底部的距离相等吗？请说明你的理由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5410080" y="1828800"/>
            <a:ext cx="3505320" cy="4286160"/>
            <a:chOff x="5410080" y="1828800"/>
            <a:chExt cx="3505320" cy="4286160"/>
          </a:xfrm>
        </p:grpSpPr>
        <p:grpSp>
          <p:nvGrpSpPr>
            <p:cNvPr id="569" name="Group 5"/>
            <p:cNvGrpSpPr/>
            <p:nvPr/>
          </p:nvGrpSpPr>
          <p:grpSpPr>
            <a:xfrm>
              <a:off x="5410080" y="1828800"/>
              <a:ext cx="3505320" cy="4286160"/>
              <a:chOff x="5410080" y="1828800"/>
              <a:chExt cx="3505320" cy="4286160"/>
            </a:xfrm>
          </p:grpSpPr>
          <p:graphicFrame>
            <p:nvGraphicFramePr>
              <p:cNvPr id="570" name="Object 6"/>
              <p:cNvGraphicFramePr/>
              <p:nvPr/>
            </p:nvGraphicFramePr>
            <p:xfrm>
              <a:off x="5410080" y="2476440"/>
              <a:ext cx="3505320" cy="3638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7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410080" y="2476440"/>
                        <a:ext cx="3505320" cy="363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572" name="Picture 7" descr="2"/>
              <p:cNvPicPr/>
              <p:nvPr/>
            </p:nvPicPr>
            <p:blipFill>
              <a:blip r:embed="rId3"/>
              <a:stretch/>
            </p:blipFill>
            <p:spPr>
              <a:xfrm>
                <a:off x="7029360" y="1828800"/>
                <a:ext cx="153360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3" name="Line 8"/>
            <p:cNvSpPr/>
            <p:nvPr/>
          </p:nvSpPr>
          <p:spPr>
            <a:xfrm>
              <a:off x="7102440" y="190188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4" name="Text Box 9"/>
          <p:cNvSpPr/>
          <p:nvPr/>
        </p:nvSpPr>
        <p:spPr>
          <a:xfrm>
            <a:off x="533520" y="177336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=C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为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B=∠ADC=9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=A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=A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09480" y="3429000"/>
            <a:ext cx="51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t△ABD≌Rt△ACD(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H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=C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Pict0100"/>
          <p:cNvPicPr/>
          <p:nvPr/>
        </p:nvPicPr>
        <p:blipFill>
          <a:blip r:embed="rId1"/>
          <a:stretch/>
        </p:blipFill>
        <p:spPr>
          <a:xfrm>
            <a:off x="179280" y="2924280"/>
            <a:ext cx="5327640" cy="350028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4"/>
          <p:cNvSpPr/>
          <p:nvPr/>
        </p:nvSpPr>
        <p:spPr>
          <a:xfrm>
            <a:off x="108000" y="90792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图，有两个长度相同的滑梯，左边滑梯的高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右边滑梯水平方向的长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等，两个滑梯的倾斜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DF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大小有什么关系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5454720" y="426708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BC+∠DFE=90°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179280" y="11592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议一议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Pict0100"/>
          <p:cNvPicPr/>
          <p:nvPr/>
        </p:nvPicPr>
        <p:blipFill>
          <a:blip r:embed="rId1"/>
          <a:stretch/>
        </p:blipFill>
        <p:spPr>
          <a:xfrm>
            <a:off x="34920" y="2486160"/>
            <a:ext cx="4876920" cy="28144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4648320" y="762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解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t△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t△DE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则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5181480" y="1981080"/>
            <a:ext cx="3745080" cy="968400"/>
            <a:chOff x="5181480" y="1981080"/>
            <a:chExt cx="3745080" cy="968400"/>
          </a:xfrm>
        </p:grpSpPr>
        <p:sp>
          <p:nvSpPr>
            <p:cNvPr id="583" name="Text Box 5"/>
            <p:cNvSpPr/>
            <p:nvPr/>
          </p:nvSpPr>
          <p:spPr>
            <a:xfrm>
              <a:off x="5181480" y="1981080"/>
              <a:ext cx="37450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C=EF,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C=D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4" name="AutoShape 6"/>
            <p:cNvSpPr/>
            <p:nvPr/>
          </p:nvSpPr>
          <p:spPr>
            <a:xfrm>
              <a:off x="5325840" y="2125440"/>
              <a:ext cx="144720" cy="71928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8720 h 719280"/>
                <a:gd name="textAreaBottom" fmla="*/ 70056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85" name="Text Box 7"/>
          <p:cNvSpPr/>
          <p:nvPr/>
        </p:nvSpPr>
        <p:spPr>
          <a:xfrm>
            <a:off x="4853160" y="297180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t△ABC≌Rt△DEF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H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5421240" y="3657600"/>
            <a:ext cx="3722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C=∠DE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全等三角形对应角相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5562720" y="4724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∵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F+∠DFE=90°,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53341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C+∠DFE=90°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3"/>
          <p:cNvSpPr/>
          <p:nvPr/>
        </p:nvSpPr>
        <p:spPr>
          <a:xfrm>
            <a:off x="990720" y="990720"/>
            <a:ext cx="678168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结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这节课你有什么收获呢？与你的同伴进行交流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792000" y="595440"/>
            <a:ext cx="88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判定两个三角形全等方法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5073480" y="56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S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064200" y="56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S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7128000" y="56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A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7993080" y="56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A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971640" y="3141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如图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   BE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E    BE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2743200" y="320040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⊥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1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738680" y="32004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⊥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1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836640" y="1052640"/>
            <a:ext cx="83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如图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Rt ABC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，直角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斜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15"/>
              <p:cNvSpPr txBox="1"/>
              <p:nvPr/>
            </p:nvSpPr>
            <p:spPr>
              <a:xfrm>
                <a:off x="2579760" y="1143000"/>
                <a:ext cx="2635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22"/>
          <p:cNvGrpSpPr/>
          <p:nvPr/>
        </p:nvGrpSpPr>
        <p:grpSpPr>
          <a:xfrm>
            <a:off x="826920" y="1523880"/>
            <a:ext cx="3200400" cy="1526760"/>
            <a:chOff x="826920" y="1523880"/>
            <a:chExt cx="3200400" cy="1526760"/>
          </a:xfrm>
        </p:grpSpPr>
        <p:sp>
          <p:nvSpPr>
            <p:cNvPr id="411" name="Line 16"/>
            <p:cNvSpPr/>
            <p:nvPr/>
          </p:nvSpPr>
          <p:spPr>
            <a:xfrm>
              <a:off x="1131840" y="28195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2" name="Line 17"/>
            <p:cNvSpPr/>
            <p:nvPr/>
          </p:nvSpPr>
          <p:spPr>
            <a:xfrm>
              <a:off x="3265560" y="1905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3" name="Line 18"/>
            <p:cNvSpPr/>
            <p:nvPr/>
          </p:nvSpPr>
          <p:spPr>
            <a:xfrm flipV="1">
              <a:off x="1131840" y="1905120"/>
              <a:ext cx="21337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4" name="Text Box 19"/>
            <p:cNvSpPr/>
            <p:nvPr/>
          </p:nvSpPr>
          <p:spPr>
            <a:xfrm>
              <a:off x="3112920" y="1523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5" name="Text Box 20"/>
            <p:cNvSpPr/>
            <p:nvPr/>
          </p:nvSpPr>
          <p:spPr>
            <a:xfrm>
              <a:off x="826920" y="25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6" name="Text Box 21"/>
            <p:cNvSpPr/>
            <p:nvPr/>
          </p:nvSpPr>
          <p:spPr>
            <a:xfrm>
              <a:off x="3189240" y="2514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17" name="Text Box 23"/>
          <p:cNvSpPr/>
          <p:nvPr/>
        </p:nvSpPr>
        <p:spPr>
          <a:xfrm>
            <a:off x="4889520" y="1052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8" name="Text Box 24"/>
          <p:cNvSpPr/>
          <p:nvPr/>
        </p:nvSpPr>
        <p:spPr>
          <a:xfrm>
            <a:off x="5867280" y="1027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Text Box 25"/>
          <p:cNvSpPr/>
          <p:nvPr/>
        </p:nvSpPr>
        <p:spPr>
          <a:xfrm>
            <a:off x="7596360" y="102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1042920" y="3743280"/>
            <a:ext cx="6324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若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=  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=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EF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全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简写法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7"/>
              <p:cNvSpPr txBox="1"/>
              <p:nvPr/>
            </p:nvSpPr>
            <p:spPr>
              <a:xfrm>
                <a:off x="2771640" y="378936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0"/>
              <p:cNvSpPr txBox="1"/>
              <p:nvPr/>
            </p:nvSpPr>
            <p:spPr>
              <a:xfrm>
                <a:off x="2195640" y="378936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Rectangle 31"/>
          <p:cNvSpPr/>
          <p:nvPr/>
        </p:nvSpPr>
        <p:spPr>
          <a:xfrm>
            <a:off x="1403280" y="42926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Rectangle 32"/>
          <p:cNvSpPr/>
          <p:nvPr/>
        </p:nvSpPr>
        <p:spPr>
          <a:xfrm>
            <a:off x="2522520" y="43275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25" name="Group 33"/>
          <p:cNvGrpSpPr/>
          <p:nvPr/>
        </p:nvGrpSpPr>
        <p:grpSpPr>
          <a:xfrm>
            <a:off x="5148360" y="1427040"/>
            <a:ext cx="3352320" cy="2364480"/>
            <a:chOff x="5148360" y="1427040"/>
            <a:chExt cx="3352320" cy="2364480"/>
          </a:xfrm>
        </p:grpSpPr>
        <p:sp>
          <p:nvSpPr>
            <p:cNvPr id="426" name="Line 34"/>
            <p:cNvSpPr/>
            <p:nvPr/>
          </p:nvSpPr>
          <p:spPr>
            <a:xfrm>
              <a:off x="5452920" y="2646000"/>
              <a:ext cx="251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7" name="Line 35"/>
            <p:cNvSpPr/>
            <p:nvPr/>
          </p:nvSpPr>
          <p:spPr>
            <a:xfrm>
              <a:off x="5452920" y="17316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8" name="Line 36"/>
            <p:cNvSpPr/>
            <p:nvPr/>
          </p:nvSpPr>
          <p:spPr>
            <a:xfrm>
              <a:off x="7967520" y="2646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9" name="Line 37"/>
            <p:cNvSpPr/>
            <p:nvPr/>
          </p:nvSpPr>
          <p:spPr>
            <a:xfrm>
              <a:off x="5452920" y="1731600"/>
              <a:ext cx="914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0" name="Line 38"/>
            <p:cNvSpPr/>
            <p:nvPr/>
          </p:nvSpPr>
          <p:spPr>
            <a:xfrm flipH="1" flipV="1">
              <a:off x="7052760" y="2645640"/>
              <a:ext cx="9140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1" name="Text Box 39"/>
            <p:cNvSpPr/>
            <p:nvPr/>
          </p:nvSpPr>
          <p:spPr>
            <a:xfrm>
              <a:off x="5148360" y="1427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2" name="Text Box 40"/>
            <p:cNvSpPr/>
            <p:nvPr/>
          </p:nvSpPr>
          <p:spPr>
            <a:xfrm>
              <a:off x="5148360" y="249372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3" name="Text Box 41"/>
            <p:cNvSpPr/>
            <p:nvPr/>
          </p:nvSpPr>
          <p:spPr>
            <a:xfrm>
              <a:off x="6138720" y="25700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4" name="Text Box 42"/>
            <p:cNvSpPr/>
            <p:nvPr/>
          </p:nvSpPr>
          <p:spPr>
            <a:xfrm>
              <a:off x="7815240" y="333180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7891200" y="2188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6" name="Text Box 44"/>
            <p:cNvSpPr/>
            <p:nvPr/>
          </p:nvSpPr>
          <p:spPr>
            <a:xfrm>
              <a:off x="6824520" y="226512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37" name="Text Box 45"/>
          <p:cNvSpPr/>
          <p:nvPr/>
        </p:nvSpPr>
        <p:spPr>
          <a:xfrm>
            <a:off x="3492360" y="4221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全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Text Box 46"/>
          <p:cNvSpPr/>
          <p:nvPr/>
        </p:nvSpPr>
        <p:spPr>
          <a:xfrm>
            <a:off x="1981080" y="5203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S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Box 42"/>
          <p:cNvSpPr/>
          <p:nvPr/>
        </p:nvSpPr>
        <p:spPr>
          <a:xfrm>
            <a:off x="144360" y="15876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回顾与复习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14"/>
          <p:cNvGrpSpPr/>
          <p:nvPr/>
        </p:nvGrpSpPr>
        <p:grpSpPr>
          <a:xfrm>
            <a:off x="5791320" y="533520"/>
            <a:ext cx="3352320" cy="2364480"/>
            <a:chOff x="5791320" y="533520"/>
            <a:chExt cx="3352320" cy="2364480"/>
          </a:xfrm>
        </p:grpSpPr>
        <p:sp>
          <p:nvSpPr>
            <p:cNvPr id="441" name="Line 3"/>
            <p:cNvSpPr/>
            <p:nvPr/>
          </p:nvSpPr>
          <p:spPr>
            <a:xfrm>
              <a:off x="6095880" y="1752480"/>
              <a:ext cx="251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2" name="Line 4"/>
            <p:cNvSpPr/>
            <p:nvPr/>
          </p:nvSpPr>
          <p:spPr>
            <a:xfrm>
              <a:off x="6095880" y="838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3" name="Line 5"/>
            <p:cNvSpPr/>
            <p:nvPr/>
          </p:nvSpPr>
          <p:spPr>
            <a:xfrm>
              <a:off x="8610480" y="1752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4" name="Line 6"/>
            <p:cNvSpPr/>
            <p:nvPr/>
          </p:nvSpPr>
          <p:spPr>
            <a:xfrm>
              <a:off x="6095880" y="838080"/>
              <a:ext cx="914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5" name="Line 7"/>
            <p:cNvSpPr/>
            <p:nvPr/>
          </p:nvSpPr>
          <p:spPr>
            <a:xfrm flipH="1" flipV="1">
              <a:off x="7695720" y="1752120"/>
              <a:ext cx="9140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6" name="Text Box 8"/>
            <p:cNvSpPr/>
            <p:nvPr/>
          </p:nvSpPr>
          <p:spPr>
            <a:xfrm>
              <a:off x="5791320" y="533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7" name="Text Box 9"/>
            <p:cNvSpPr/>
            <p:nvPr/>
          </p:nvSpPr>
          <p:spPr>
            <a:xfrm>
              <a:off x="5791320" y="160020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8" name="Text Box 10"/>
            <p:cNvSpPr/>
            <p:nvPr/>
          </p:nvSpPr>
          <p:spPr>
            <a:xfrm>
              <a:off x="6781680" y="1676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9" name="Text Box 11"/>
            <p:cNvSpPr/>
            <p:nvPr/>
          </p:nvSpPr>
          <p:spPr>
            <a:xfrm>
              <a:off x="8458200" y="243828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0" name="Text Box 12"/>
            <p:cNvSpPr/>
            <p:nvPr/>
          </p:nvSpPr>
          <p:spPr>
            <a:xfrm>
              <a:off x="853416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1" name="Text Box 13"/>
            <p:cNvSpPr/>
            <p:nvPr/>
          </p:nvSpPr>
          <p:spPr>
            <a:xfrm>
              <a:off x="7467480" y="137160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52" name="Text Box 16"/>
          <p:cNvSpPr/>
          <p:nvPr/>
        </p:nvSpPr>
        <p:spPr>
          <a:xfrm>
            <a:off x="152280" y="228600"/>
            <a:ext cx="556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若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=  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C=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EF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全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简写法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1295280" y="30492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905120" y="30492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Rectangle 19"/>
          <p:cNvSpPr/>
          <p:nvPr/>
        </p:nvSpPr>
        <p:spPr>
          <a:xfrm>
            <a:off x="533520" y="838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Rectangle 20"/>
          <p:cNvSpPr/>
          <p:nvPr/>
        </p:nvSpPr>
        <p:spPr>
          <a:xfrm>
            <a:off x="1600200" y="838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2860560" y="1143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A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2514600" y="685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全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533520" y="22096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152280" y="1828800"/>
            <a:ext cx="6782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=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C=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EF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全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简写法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1" name="Rectangle 25"/>
          <p:cNvSpPr/>
          <p:nvPr/>
        </p:nvSpPr>
        <p:spPr>
          <a:xfrm>
            <a:off x="53352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Rectangle 26"/>
          <p:cNvSpPr/>
          <p:nvPr/>
        </p:nvSpPr>
        <p:spPr>
          <a:xfrm>
            <a:off x="160020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251460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全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1933560" y="275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A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Text Box 30"/>
          <p:cNvSpPr/>
          <p:nvPr/>
        </p:nvSpPr>
        <p:spPr>
          <a:xfrm>
            <a:off x="152280" y="3581280"/>
            <a:ext cx="6705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=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C=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=D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EF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全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简写法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Rectangle 32"/>
          <p:cNvSpPr/>
          <p:nvPr/>
        </p:nvSpPr>
        <p:spPr>
          <a:xfrm>
            <a:off x="533520" y="4191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Rectangle 33"/>
          <p:cNvSpPr/>
          <p:nvPr/>
        </p:nvSpPr>
        <p:spPr>
          <a:xfrm>
            <a:off x="1600200" y="4191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Text Box 34"/>
          <p:cNvSpPr/>
          <p:nvPr/>
        </p:nvSpPr>
        <p:spPr>
          <a:xfrm>
            <a:off x="25146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全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Text Box 36"/>
          <p:cNvSpPr/>
          <p:nvPr/>
        </p:nvSpPr>
        <p:spPr>
          <a:xfrm>
            <a:off x="2001960" y="4508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S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3" descr="Pict0099"/>
          <p:cNvPicPr/>
          <p:nvPr/>
        </p:nvPicPr>
        <p:blipFill>
          <a:blip r:embed="rId1"/>
          <a:stretch/>
        </p:blipFill>
        <p:spPr>
          <a:xfrm>
            <a:off x="228600" y="2889360"/>
            <a:ext cx="8569440" cy="30607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4"/>
          <p:cNvSpPr/>
          <p:nvPr/>
        </p:nvSpPr>
        <p:spPr>
          <a:xfrm>
            <a:off x="108000" y="8668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，舞台背景的形状是两个直角三角形，工作人员想知道这两个直角三角形是否全等，但每个三角形都有一条直角边被花盆遮住无法测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TextBox 6"/>
          <p:cNvSpPr/>
          <p:nvPr/>
        </p:nvSpPr>
        <p:spPr>
          <a:xfrm>
            <a:off x="250920" y="26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情景问题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3"/>
          <p:cNvSpPr/>
          <p:nvPr/>
        </p:nvSpPr>
        <p:spPr>
          <a:xfrm>
            <a:off x="609480" y="266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⑵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果他只带了一个卷尺，能完成这个任务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228600" y="324324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工作人员测量了每个三角形没有被遮住的直角边和斜边，发现它们分别对应相等，于是他就肯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直角三角形是全等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相信他的结论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1332000" y="4757760"/>
            <a:ext cx="73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下面让我们一起来验证这个结论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250920" y="62064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你能帮他想个办法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7" name="Text Box 6"/>
          <p:cNvSpPr/>
          <p:nvPr/>
        </p:nvSpPr>
        <p:spPr>
          <a:xfrm>
            <a:off x="1114560" y="112536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法一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测量斜边和一个对应的锐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(AAS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1114560" y="1486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二：测量没遮住的一条直角边和一个对应的锐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(ASA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(AAS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7"/>
          <p:cNvSpPr/>
          <p:nvPr/>
        </p:nvSpPr>
        <p:spPr>
          <a:xfrm>
            <a:off x="395280" y="90792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已知线段</a:t>
            </a:r>
            <a:r>
              <a:rPr b="1" lang="en-US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c(a﹤c)</a:t>
            </a:r>
            <a:r>
              <a:rPr b="1" lang="zh-CN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和一个直角</a:t>
            </a:r>
            <a:r>
              <a:rPr b="1" lang="el-GR" sz="3200" spc="-1" strike="noStrike">
                <a:solidFill>
                  <a:srgbClr val="040400"/>
                </a:solidFill>
                <a:latin typeface="Univers Condensed"/>
                <a:ea typeface="宋体"/>
              </a:rPr>
              <a:t>α</a:t>
            </a:r>
            <a:r>
              <a:rPr b="1" lang="zh-CN" sz="3200" spc="-1" strike="noStrike">
                <a:solidFill>
                  <a:srgbClr val="040400"/>
                </a:solidFill>
                <a:latin typeface="Univers Condensed"/>
                <a:ea typeface="宋体"/>
              </a:rPr>
              <a:t>，利用尺规作</a:t>
            </a:r>
            <a:r>
              <a:rPr b="1" lang="zh-CN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一个</a:t>
            </a:r>
            <a:r>
              <a:rPr b="1" lang="en-US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Rt△ABC,</a:t>
            </a:r>
            <a:r>
              <a:rPr b="1" lang="zh-CN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使∠</a:t>
            </a:r>
            <a:r>
              <a:rPr b="1" lang="en-US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C= </a:t>
            </a:r>
            <a:r>
              <a:rPr b="1" lang="en-US" sz="3200" spc="-1" strike="noStrike">
                <a:solidFill>
                  <a:srgbClr val="040400"/>
                </a:solidFill>
                <a:latin typeface="Univers Condensed"/>
                <a:ea typeface="宋体"/>
              </a:rPr>
              <a:t>∠ </a:t>
            </a:r>
            <a:r>
              <a:rPr b="1" lang="el-GR" sz="3200" spc="-1" strike="noStrike">
                <a:solidFill>
                  <a:srgbClr val="040400"/>
                </a:solidFill>
                <a:latin typeface="Univers Condensed"/>
                <a:ea typeface="宋体"/>
              </a:rPr>
              <a:t>α</a:t>
            </a:r>
            <a:r>
              <a:rPr b="1" lang="en-US" sz="3200" spc="-1" strike="noStrike">
                <a:solidFill>
                  <a:srgbClr val="040400"/>
                </a:solidFill>
                <a:latin typeface="Univers Condensed"/>
                <a:ea typeface="宋体"/>
              </a:rPr>
              <a:t> </a:t>
            </a:r>
            <a:r>
              <a:rPr b="1" lang="zh-CN" sz="3200" spc="-1" strike="noStrike">
                <a:solidFill>
                  <a:srgbClr val="040400"/>
                </a:solidFill>
                <a:latin typeface="Univers Condensed"/>
                <a:ea typeface="宋体"/>
              </a:rPr>
              <a:t>，</a:t>
            </a:r>
            <a:r>
              <a:rPr b="1" lang="en-US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CB=a</a:t>
            </a:r>
            <a:r>
              <a:rPr b="1" lang="zh-CN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40400"/>
                </a:solidFill>
                <a:latin typeface="Times New Roman"/>
                <a:ea typeface="宋体"/>
              </a:rPr>
              <a:t>AB=c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1484280" y="2743200"/>
            <a:ext cx="1371600" cy="520560"/>
            <a:chOff x="1484280" y="2743200"/>
            <a:chExt cx="1371600" cy="520560"/>
          </a:xfrm>
        </p:grpSpPr>
        <p:sp>
          <p:nvSpPr>
            <p:cNvPr id="481" name="Line 9"/>
            <p:cNvSpPr/>
            <p:nvPr/>
          </p:nvSpPr>
          <p:spPr>
            <a:xfrm>
              <a:off x="1484280" y="32004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>
              <a:off x="1484280" y="31244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3" name="Line 11"/>
            <p:cNvSpPr/>
            <p:nvPr/>
          </p:nvSpPr>
          <p:spPr>
            <a:xfrm>
              <a:off x="2855880" y="31244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4" name="Text Box 12"/>
            <p:cNvSpPr/>
            <p:nvPr/>
          </p:nvSpPr>
          <p:spPr>
            <a:xfrm>
              <a:off x="1941480" y="2743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85" name="Group 13"/>
          <p:cNvGrpSpPr/>
          <p:nvPr/>
        </p:nvGrpSpPr>
        <p:grpSpPr>
          <a:xfrm>
            <a:off x="1332000" y="3733920"/>
            <a:ext cx="2133360" cy="581400"/>
            <a:chOff x="1332000" y="3733920"/>
            <a:chExt cx="2133360" cy="581400"/>
          </a:xfrm>
        </p:grpSpPr>
        <p:sp>
          <p:nvSpPr>
            <p:cNvPr id="486" name="Line 14"/>
            <p:cNvSpPr/>
            <p:nvPr/>
          </p:nvSpPr>
          <p:spPr>
            <a:xfrm>
              <a:off x="1332000" y="42670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7" name="Line 15"/>
            <p:cNvSpPr/>
            <p:nvPr/>
          </p:nvSpPr>
          <p:spPr>
            <a:xfrm>
              <a:off x="3465360" y="4191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8" name="Line 16"/>
            <p:cNvSpPr/>
            <p:nvPr/>
          </p:nvSpPr>
          <p:spPr>
            <a:xfrm>
              <a:off x="1332000" y="4191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9" name="Text Box 17"/>
            <p:cNvSpPr/>
            <p:nvPr/>
          </p:nvSpPr>
          <p:spPr>
            <a:xfrm>
              <a:off x="2017440" y="3733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4216320" y="2362320"/>
            <a:ext cx="1650960" cy="2087280"/>
            <a:chOff x="4216320" y="2362320"/>
            <a:chExt cx="1650960" cy="2087280"/>
          </a:xfrm>
        </p:grpSpPr>
        <p:sp>
          <p:nvSpPr>
            <p:cNvPr id="491" name="Freeform 19"/>
            <p:cNvSpPr/>
            <p:nvPr/>
          </p:nvSpPr>
          <p:spPr>
            <a:xfrm>
              <a:off x="4216320" y="2362320"/>
              <a:ext cx="1650960" cy="208728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2087280"/>
                <a:gd name="textAreaBottom" fmla="*/ 2087280 h 2087280"/>
              </a:gdLst>
              <a:ahLst/>
              <a:rect l="textAreaLeft" t="textAreaTop" r="textAreaRight" b="textAreaBottom"/>
              <a:pathLst>
                <a:path w="1088" h="1315">
                  <a:moveTo>
                    <a:pt x="0" y="0"/>
                  </a:moveTo>
                  <a:lnTo>
                    <a:pt x="0" y="1315"/>
                  </a:lnTo>
                  <a:lnTo>
                    <a:pt x="1088" y="13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4216320" y="4089240"/>
              <a:ext cx="412560" cy="3603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72" h="227">
                  <a:moveTo>
                    <a:pt x="0" y="0"/>
                  </a:moveTo>
                  <a:lnTo>
                    <a:pt x="272" y="0"/>
                  </a:lnTo>
                  <a:lnTo>
                    <a:pt x="272" y="2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3" name="Rectangle 21"/>
            <p:cNvSpPr/>
            <p:nvPr/>
          </p:nvSpPr>
          <p:spPr>
            <a:xfrm>
              <a:off x="4697280" y="3657600"/>
              <a:ext cx="4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040400"/>
                  </a:solidFill>
                  <a:latin typeface="Arial"/>
                  <a:ea typeface="宋体"/>
                </a:rPr>
                <a:t>α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94" name="AutoShape 22"/>
          <p:cNvSpPr/>
          <p:nvPr/>
        </p:nvSpPr>
        <p:spPr>
          <a:xfrm>
            <a:off x="2340000" y="5589720"/>
            <a:ext cx="4572000" cy="609480"/>
          </a:xfrm>
          <a:prstGeom prst="cloudCallout">
            <a:avLst>
              <a:gd name="adj1" fmla="val 39921"/>
              <a:gd name="adj2" fmla="val -11331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想一想，怎样画呢？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TextBox 20"/>
          <p:cNvSpPr/>
          <p:nvPr/>
        </p:nvSpPr>
        <p:spPr>
          <a:xfrm>
            <a:off x="0" y="189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做一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304920" y="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照下面的步骤做一做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250920" y="620640"/>
          <a:ext cx="8820000" cy="4896000"/>
        </p:xfrm>
        <a:graphic>
          <a:graphicData uri="http://schemas.openxmlformats.org/drawingml/2006/table">
            <a:tbl>
              <a:tblPr/>
              <a:tblGrid>
                <a:gridCol w="4410000"/>
                <a:gridCol w="4410000"/>
              </a:tblGrid>
              <a:tr h="230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14"/>
          <p:cNvSpPr/>
          <p:nvPr/>
        </p:nvSpPr>
        <p:spPr>
          <a:xfrm>
            <a:off x="539640" y="620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⑴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CN=∠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=90°;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9" name="Group 15"/>
          <p:cNvGrpSpPr/>
          <p:nvPr/>
        </p:nvGrpSpPr>
        <p:grpSpPr>
          <a:xfrm>
            <a:off x="900000" y="981000"/>
            <a:ext cx="3670200" cy="2044080"/>
            <a:chOff x="900000" y="981000"/>
            <a:chExt cx="3670200" cy="2044080"/>
          </a:xfrm>
        </p:grpSpPr>
        <p:sp>
          <p:nvSpPr>
            <p:cNvPr id="500" name="Freeform 16"/>
            <p:cNvSpPr/>
            <p:nvPr/>
          </p:nvSpPr>
          <p:spPr>
            <a:xfrm>
              <a:off x="1331640" y="1197000"/>
              <a:ext cx="2808360" cy="1368360"/>
            </a:xfrm>
            <a:custGeom>
              <a:avLst/>
              <a:gdLst>
                <a:gd name="textAreaLeft" fmla="*/ 0 w 2808360"/>
                <a:gd name="textAreaRight" fmla="*/ 2808720 w 280836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769" h="862">
                  <a:moveTo>
                    <a:pt x="0" y="0"/>
                  </a:moveTo>
                  <a:lnTo>
                    <a:pt x="0" y="862"/>
                  </a:lnTo>
                  <a:lnTo>
                    <a:pt x="1769" y="8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1" name="Text Box 17"/>
            <p:cNvSpPr/>
            <p:nvPr/>
          </p:nvSpPr>
          <p:spPr>
            <a:xfrm>
              <a:off x="971280" y="2565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900000" y="981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3" name="Text Box 19"/>
            <p:cNvSpPr/>
            <p:nvPr/>
          </p:nvSpPr>
          <p:spPr>
            <a:xfrm>
              <a:off x="4066920" y="2565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4" name="Text Box 20"/>
          <p:cNvSpPr/>
          <p:nvPr/>
        </p:nvSpPr>
        <p:spPr>
          <a:xfrm>
            <a:off x="4680000" y="692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⑵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射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截取线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B=a;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5" name="Group 21"/>
          <p:cNvGrpSpPr/>
          <p:nvPr/>
        </p:nvGrpSpPr>
        <p:grpSpPr>
          <a:xfrm>
            <a:off x="5219640" y="981000"/>
            <a:ext cx="3670200" cy="2044080"/>
            <a:chOff x="5219640" y="981000"/>
            <a:chExt cx="3670200" cy="2044080"/>
          </a:xfrm>
        </p:grpSpPr>
        <p:grpSp>
          <p:nvGrpSpPr>
            <p:cNvPr id="506" name="Group 22"/>
            <p:cNvGrpSpPr/>
            <p:nvPr/>
          </p:nvGrpSpPr>
          <p:grpSpPr>
            <a:xfrm>
              <a:off x="5219640" y="981000"/>
              <a:ext cx="3670200" cy="2044080"/>
              <a:chOff x="5219640" y="981000"/>
              <a:chExt cx="3670200" cy="2044080"/>
            </a:xfrm>
          </p:grpSpPr>
          <p:sp>
            <p:nvSpPr>
              <p:cNvPr id="507" name="Freeform 23"/>
              <p:cNvSpPr/>
              <p:nvPr/>
            </p:nvSpPr>
            <p:spPr>
              <a:xfrm>
                <a:off x="5651280" y="1197000"/>
                <a:ext cx="2808360" cy="1368360"/>
              </a:xfrm>
              <a:custGeom>
                <a:avLst/>
                <a:gdLst>
                  <a:gd name="textAreaLeft" fmla="*/ 0 w 2808360"/>
                  <a:gd name="textAreaRight" fmla="*/ 2808720 w 2808360"/>
                  <a:gd name="textAreaTop" fmla="*/ 0 h 1368360"/>
                  <a:gd name="textAreaBottom" fmla="*/ 1368720 h 1368360"/>
                </a:gdLst>
                <a:ahLst/>
                <a:rect l="textAreaLeft" t="textAreaTop" r="textAreaRight" b="textAreaBottom"/>
                <a:pathLst>
                  <a:path w="1769" h="862">
                    <a:moveTo>
                      <a:pt x="0" y="0"/>
                    </a:moveTo>
                    <a:lnTo>
                      <a:pt x="0" y="862"/>
                    </a:lnTo>
                    <a:lnTo>
                      <a:pt x="1769" y="86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8" name="Text Box 24"/>
              <p:cNvSpPr/>
              <p:nvPr/>
            </p:nvSpPr>
            <p:spPr>
              <a:xfrm>
                <a:off x="5290920" y="25653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9" name="Text Box 25"/>
              <p:cNvSpPr/>
              <p:nvPr/>
            </p:nvSpPr>
            <p:spPr>
              <a:xfrm>
                <a:off x="5219640" y="981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M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0" name="Text Box 26"/>
              <p:cNvSpPr/>
              <p:nvPr/>
            </p:nvSpPr>
            <p:spPr>
              <a:xfrm>
                <a:off x="8386560" y="25653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11" name="Arc 27"/>
            <p:cNvSpPr/>
            <p:nvPr/>
          </p:nvSpPr>
          <p:spPr>
            <a:xfrm rot="21347400">
              <a:off x="5508720" y="1484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11192" h="21600">
                  <a:moveTo>
                    <a:pt x="-1" y="0"/>
                  </a:moveTo>
                  <a:cubicBezTo>
                    <a:pt x="3946" y="0"/>
                    <a:pt x="7816" y="1081"/>
                    <a:pt x="11192" y="3125"/>
                  </a:cubicBezTo>
                </a:path>
                <a:path stroke="0" w="11192" h="21600">
                  <a:moveTo>
                    <a:pt x="-1" y="0"/>
                  </a:moveTo>
                  <a:cubicBezTo>
                    <a:pt x="3946" y="0"/>
                    <a:pt x="7816" y="1081"/>
                    <a:pt x="11192" y="3125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2" name="Text Box 28"/>
            <p:cNvSpPr/>
            <p:nvPr/>
          </p:nvSpPr>
          <p:spPr>
            <a:xfrm>
              <a:off x="5219640" y="141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13" name="Text Box 29"/>
          <p:cNvSpPr/>
          <p:nvPr/>
        </p:nvSpPr>
        <p:spPr>
          <a:xfrm>
            <a:off x="395280" y="29973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⑶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圆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半径画弧，交射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于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;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4" name="Group 30"/>
          <p:cNvGrpSpPr/>
          <p:nvPr/>
        </p:nvGrpSpPr>
        <p:grpSpPr>
          <a:xfrm>
            <a:off x="971640" y="3573360"/>
            <a:ext cx="3670200" cy="2044080"/>
            <a:chOff x="971640" y="3573360"/>
            <a:chExt cx="3670200" cy="2044080"/>
          </a:xfrm>
        </p:grpSpPr>
        <p:grpSp>
          <p:nvGrpSpPr>
            <p:cNvPr id="515" name="Group 31"/>
            <p:cNvGrpSpPr/>
            <p:nvPr/>
          </p:nvGrpSpPr>
          <p:grpSpPr>
            <a:xfrm>
              <a:off x="971640" y="3573360"/>
              <a:ext cx="3670200" cy="2044080"/>
              <a:chOff x="971640" y="3573360"/>
              <a:chExt cx="3670200" cy="2044080"/>
            </a:xfrm>
          </p:grpSpPr>
          <p:grpSp>
            <p:nvGrpSpPr>
              <p:cNvPr id="516" name="Group 32"/>
              <p:cNvGrpSpPr/>
              <p:nvPr/>
            </p:nvGrpSpPr>
            <p:grpSpPr>
              <a:xfrm>
                <a:off x="971640" y="3573360"/>
                <a:ext cx="3670200" cy="2044080"/>
                <a:chOff x="971640" y="3573360"/>
                <a:chExt cx="3670200" cy="2044080"/>
              </a:xfrm>
            </p:grpSpPr>
            <p:sp>
              <p:nvSpPr>
                <p:cNvPr id="517" name="Freeform 33"/>
                <p:cNvSpPr/>
                <p:nvPr/>
              </p:nvSpPr>
              <p:spPr>
                <a:xfrm>
                  <a:off x="1403280" y="3789360"/>
                  <a:ext cx="2808360" cy="1368360"/>
                </a:xfrm>
                <a:custGeom>
                  <a:avLst/>
                  <a:gdLst>
                    <a:gd name="textAreaLeft" fmla="*/ 0 w 2808360"/>
                    <a:gd name="textAreaRight" fmla="*/ 2808720 w 2808360"/>
                    <a:gd name="textAreaTop" fmla="*/ 0 h 1368360"/>
                    <a:gd name="textAreaBottom" fmla="*/ 1368720 h 1368360"/>
                  </a:gdLst>
                  <a:ahLst/>
                  <a:rect l="textAreaLeft" t="textAreaTop" r="textAreaRight" b="textAreaBottom"/>
                  <a:pathLst>
                    <a:path w="1769" h="862">
                      <a:moveTo>
                        <a:pt x="0" y="0"/>
                      </a:moveTo>
                      <a:lnTo>
                        <a:pt x="0" y="862"/>
                      </a:lnTo>
                      <a:lnTo>
                        <a:pt x="1769" y="862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18" name="Text Box 34"/>
                <p:cNvSpPr/>
                <p:nvPr/>
              </p:nvSpPr>
              <p:spPr>
                <a:xfrm>
                  <a:off x="1042920" y="51577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C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19" name="Text Box 35"/>
                <p:cNvSpPr/>
                <p:nvPr/>
              </p:nvSpPr>
              <p:spPr>
                <a:xfrm>
                  <a:off x="971640" y="357336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M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20" name="Text Box 36"/>
                <p:cNvSpPr/>
                <p:nvPr/>
              </p:nvSpPr>
              <p:spPr>
                <a:xfrm>
                  <a:off x="4138560" y="51577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N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Arc 37"/>
              <p:cNvSpPr/>
              <p:nvPr/>
            </p:nvSpPr>
            <p:spPr>
              <a:xfrm rot="21347400">
                <a:off x="1260720" y="4076640"/>
                <a:ext cx="215640" cy="21600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fill="none" w="11192" h="21600">
                    <a:moveTo>
                      <a:pt x="-1" y="0"/>
                    </a:moveTo>
                    <a:cubicBezTo>
                      <a:pt x="3946" y="0"/>
                      <a:pt x="7816" y="1081"/>
                      <a:pt x="11192" y="3125"/>
                    </a:cubicBezTo>
                  </a:path>
                  <a:path stroke="0" w="11192" h="21600">
                    <a:moveTo>
                      <a:pt x="-1" y="0"/>
                    </a:moveTo>
                    <a:cubicBezTo>
                      <a:pt x="3946" y="0"/>
                      <a:pt x="7816" y="1081"/>
                      <a:pt x="11192" y="3125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2" name="Text Box 38"/>
              <p:cNvSpPr/>
              <p:nvPr/>
            </p:nvSpPr>
            <p:spPr>
              <a:xfrm>
                <a:off x="971640" y="400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23" name="Arc 39"/>
            <p:cNvSpPr/>
            <p:nvPr/>
          </p:nvSpPr>
          <p:spPr>
            <a:xfrm flipV="1" rot="20652000">
              <a:off x="3132360" y="5012640"/>
              <a:ext cx="268200" cy="187200"/>
            </a:xfrm>
            <a:custGeom>
              <a:avLst/>
              <a:gdLst>
                <a:gd name="textAreaLeft" fmla="*/ 0 w 268200"/>
                <a:gd name="textAreaRight" fmla="*/ 268200 w 268200"/>
                <a:gd name="textAreaTop" fmla="*/ 360 h 187200"/>
                <a:gd name="textAreaBottom" fmla="*/ 187920 h 187200"/>
              </a:gdLst>
              <a:ahLst/>
              <a:rect l="textAreaLeft" t="textAreaTop" r="textAreaRight" b="textAreaBottom"/>
              <a:pathLst>
                <a:path fill="none" w="23470" h="21600">
                  <a:moveTo>
                    <a:pt x="-1" y="83"/>
                  </a:moveTo>
                  <a:cubicBezTo>
                    <a:pt x="631" y="27"/>
                    <a:pt x="1265" y="-1"/>
                    <a:pt x="1899" y="0"/>
                  </a:cubicBezTo>
                  <a:cubicBezTo>
                    <a:pt x="13394" y="0"/>
                    <a:pt x="22875" y="9003"/>
                    <a:pt x="23470" y="20482"/>
                  </a:cubicBezTo>
                </a:path>
                <a:path stroke="0" w="23470" h="21600">
                  <a:moveTo>
                    <a:pt x="-1" y="83"/>
                  </a:moveTo>
                  <a:cubicBezTo>
                    <a:pt x="631" y="27"/>
                    <a:pt x="1265" y="-1"/>
                    <a:pt x="1899" y="0"/>
                  </a:cubicBezTo>
                  <a:cubicBezTo>
                    <a:pt x="13394" y="0"/>
                    <a:pt x="22875" y="9003"/>
                    <a:pt x="23470" y="20482"/>
                  </a:cubicBezTo>
                  <a:lnTo>
                    <a:pt x="1899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4" name="Text Box 40"/>
            <p:cNvSpPr/>
            <p:nvPr/>
          </p:nvSpPr>
          <p:spPr>
            <a:xfrm>
              <a:off x="3276720" y="5157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5" name="Text Box 41"/>
          <p:cNvSpPr/>
          <p:nvPr/>
        </p:nvSpPr>
        <p:spPr>
          <a:xfrm>
            <a:off x="4788000" y="2997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⑷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连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26" name="Group 42"/>
          <p:cNvGrpSpPr/>
          <p:nvPr/>
        </p:nvGrpSpPr>
        <p:grpSpPr>
          <a:xfrm>
            <a:off x="5076720" y="3500280"/>
            <a:ext cx="3670200" cy="2044080"/>
            <a:chOff x="5076720" y="3500280"/>
            <a:chExt cx="3670200" cy="2044080"/>
          </a:xfrm>
        </p:grpSpPr>
        <p:grpSp>
          <p:nvGrpSpPr>
            <p:cNvPr id="527" name="Group 43"/>
            <p:cNvGrpSpPr/>
            <p:nvPr/>
          </p:nvGrpSpPr>
          <p:grpSpPr>
            <a:xfrm>
              <a:off x="5076720" y="3500280"/>
              <a:ext cx="3670200" cy="2044080"/>
              <a:chOff x="5076720" y="3500280"/>
              <a:chExt cx="3670200" cy="2044080"/>
            </a:xfrm>
          </p:grpSpPr>
          <p:grpSp>
            <p:nvGrpSpPr>
              <p:cNvPr id="528" name="Group 44"/>
              <p:cNvGrpSpPr/>
              <p:nvPr/>
            </p:nvGrpSpPr>
            <p:grpSpPr>
              <a:xfrm>
                <a:off x="5076720" y="3500280"/>
                <a:ext cx="3670200" cy="2044080"/>
                <a:chOff x="5076720" y="3500280"/>
                <a:chExt cx="3670200" cy="2044080"/>
              </a:xfrm>
            </p:grpSpPr>
            <p:grpSp>
              <p:nvGrpSpPr>
                <p:cNvPr id="529" name="Group 45"/>
                <p:cNvGrpSpPr/>
                <p:nvPr/>
              </p:nvGrpSpPr>
              <p:grpSpPr>
                <a:xfrm>
                  <a:off x="5076720" y="3500280"/>
                  <a:ext cx="3670200" cy="2044080"/>
                  <a:chOff x="5076720" y="3500280"/>
                  <a:chExt cx="3670200" cy="2044080"/>
                </a:xfrm>
              </p:grpSpPr>
              <p:sp>
                <p:nvSpPr>
                  <p:cNvPr id="530" name="Freeform 46"/>
                  <p:cNvSpPr/>
                  <p:nvPr/>
                </p:nvSpPr>
                <p:spPr>
                  <a:xfrm>
                    <a:off x="5508360" y="3716280"/>
                    <a:ext cx="2808360" cy="1368360"/>
                  </a:xfrm>
                  <a:custGeom>
                    <a:avLst/>
                    <a:gdLst>
                      <a:gd name="textAreaLeft" fmla="*/ 0 w 2808360"/>
                      <a:gd name="textAreaRight" fmla="*/ 2808720 w 2808360"/>
                      <a:gd name="textAreaTop" fmla="*/ 0 h 1368360"/>
                      <a:gd name="textAreaBottom" fmla="*/ 1368720 h 1368360"/>
                    </a:gdLst>
                    <a:ahLst/>
                    <a:rect l="textAreaLeft" t="textAreaTop" r="textAreaRight" b="textAreaBottom"/>
                    <a:pathLst>
                      <a:path w="1769" h="862">
                        <a:moveTo>
                          <a:pt x="0" y="0"/>
                        </a:moveTo>
                        <a:lnTo>
                          <a:pt x="0" y="862"/>
                        </a:lnTo>
                        <a:lnTo>
                          <a:pt x="1769" y="862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47"/>
                  <p:cNvSpPr/>
                  <p:nvPr/>
                </p:nvSpPr>
                <p:spPr>
                  <a:xfrm>
                    <a:off x="5148000" y="5084640"/>
                    <a:ext cx="503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C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48"/>
                  <p:cNvSpPr/>
                  <p:nvPr/>
                </p:nvSpPr>
                <p:spPr>
                  <a:xfrm>
                    <a:off x="5076720" y="3500280"/>
                    <a:ext cx="503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M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Text Box 49"/>
                  <p:cNvSpPr/>
                  <p:nvPr/>
                </p:nvSpPr>
                <p:spPr>
                  <a:xfrm>
                    <a:off x="8243640" y="5084640"/>
                    <a:ext cx="503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N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4" name="Arc 50"/>
                <p:cNvSpPr/>
                <p:nvPr/>
              </p:nvSpPr>
              <p:spPr>
                <a:xfrm rot="21347400">
                  <a:off x="5365800" y="4003560"/>
                  <a:ext cx="215640" cy="2160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fill="none" w="11192" h="21600">
                      <a:moveTo>
                        <a:pt x="-1" y="0"/>
                      </a:moveTo>
                      <a:cubicBezTo>
                        <a:pt x="3946" y="0"/>
                        <a:pt x="7816" y="1081"/>
                        <a:pt x="11192" y="3125"/>
                      </a:cubicBezTo>
                    </a:path>
                    <a:path stroke="0" w="11192" h="21600">
                      <a:moveTo>
                        <a:pt x="-1" y="0"/>
                      </a:moveTo>
                      <a:cubicBezTo>
                        <a:pt x="3946" y="0"/>
                        <a:pt x="7816" y="1081"/>
                        <a:pt x="11192" y="3125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35" name="Text Box 51"/>
                <p:cNvSpPr/>
                <p:nvPr/>
              </p:nvSpPr>
              <p:spPr>
                <a:xfrm>
                  <a:off x="5076720" y="3932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Arc 52"/>
              <p:cNvSpPr/>
              <p:nvPr/>
            </p:nvSpPr>
            <p:spPr>
              <a:xfrm flipV="1" rot="20652000">
                <a:off x="7237440" y="4939560"/>
                <a:ext cx="268200" cy="187200"/>
              </a:xfrm>
              <a:custGeom>
                <a:avLst/>
                <a:gdLst>
                  <a:gd name="textAreaLeft" fmla="*/ 0 w 268200"/>
                  <a:gd name="textAreaRight" fmla="*/ 268200 w 268200"/>
                  <a:gd name="textAreaTop" fmla="*/ 360 h 187200"/>
                  <a:gd name="textAreaBottom" fmla="*/ 187920 h 187200"/>
                </a:gdLst>
                <a:ahLst/>
                <a:rect l="textAreaLeft" t="textAreaTop" r="textAreaRight" b="textAreaBottom"/>
                <a:pathLst>
                  <a:path fill="none" w="23470" h="21600">
                    <a:moveTo>
                      <a:pt x="-1" y="83"/>
                    </a:moveTo>
                    <a:cubicBezTo>
                      <a:pt x="631" y="27"/>
                      <a:pt x="1265" y="-1"/>
                      <a:pt x="1899" y="0"/>
                    </a:cubicBezTo>
                    <a:cubicBezTo>
                      <a:pt x="13394" y="0"/>
                      <a:pt x="22875" y="9003"/>
                      <a:pt x="23470" y="20482"/>
                    </a:cubicBezTo>
                  </a:path>
                  <a:path stroke="0" w="23470" h="21600">
                    <a:moveTo>
                      <a:pt x="-1" y="83"/>
                    </a:moveTo>
                    <a:cubicBezTo>
                      <a:pt x="631" y="27"/>
                      <a:pt x="1265" y="-1"/>
                      <a:pt x="1899" y="0"/>
                    </a:cubicBezTo>
                    <a:cubicBezTo>
                      <a:pt x="13394" y="0"/>
                      <a:pt x="22875" y="9003"/>
                      <a:pt x="23470" y="20482"/>
                    </a:cubicBezTo>
                    <a:lnTo>
                      <a:pt x="189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7" name="Text Box 53"/>
              <p:cNvSpPr/>
              <p:nvPr/>
            </p:nvSpPr>
            <p:spPr>
              <a:xfrm>
                <a:off x="7381800" y="5084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38" name="Line 54"/>
            <p:cNvSpPr/>
            <p:nvPr/>
          </p:nvSpPr>
          <p:spPr>
            <a:xfrm>
              <a:off x="5508720" y="4003560"/>
              <a:ext cx="194292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9" name="Text Box 55"/>
          <p:cNvSpPr/>
          <p:nvPr/>
        </p:nvSpPr>
        <p:spPr>
          <a:xfrm>
            <a:off x="324000" y="55166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⑴ 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就是所求作的三角形吗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0" name="Text Box 56"/>
          <p:cNvSpPr/>
          <p:nvPr/>
        </p:nvSpPr>
        <p:spPr>
          <a:xfrm>
            <a:off x="324000" y="589104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⑵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剪下这个三角形，和其他同学所作的三角形进行比较，它们能重合吗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AutoShape 3"/>
          <p:cNvSpPr/>
          <p:nvPr/>
        </p:nvSpPr>
        <p:spPr>
          <a:xfrm>
            <a:off x="1828800" y="549360"/>
            <a:ext cx="51814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直角三角形全等的条件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609480" y="213372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斜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条直角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应相等的两个直角三角形全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简写成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斜边、直角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”或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”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6"/>
          <p:cNvSpPr/>
          <p:nvPr/>
        </p:nvSpPr>
        <p:spPr>
          <a:xfrm>
            <a:off x="990720" y="11970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能够用几种方法说明两个直角三角形全等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762120" y="2708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直角三角形是特殊的三角形，所以不仅有一般三角形判定全等的方法</a:t>
            </a:r>
            <a:r>
              <a:rPr b="1" lang="en-US" sz="3200" spc="-1" strike="noStrike">
                <a:solidFill>
                  <a:srgbClr val="4e3b30"/>
                </a:solidFill>
                <a:latin typeface="Arial"/>
                <a:ea typeface="宋体"/>
              </a:rPr>
              <a:t>:SAS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4e3b30"/>
                </a:solidFill>
                <a:latin typeface="Arial"/>
                <a:ea typeface="宋体"/>
              </a:rPr>
              <a:t>ASA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4e3b30"/>
                </a:solidFill>
                <a:latin typeface="Arial"/>
                <a:ea typeface="宋体"/>
              </a:rPr>
              <a:t>AAS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4e3b30"/>
                </a:solidFill>
                <a:latin typeface="Arial"/>
                <a:ea typeface="宋体"/>
              </a:rPr>
              <a:t>SSS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，还有直角三角形特殊的判定方法</a:t>
            </a:r>
            <a:r>
              <a:rPr b="1" lang="en-US" sz="3200" spc="-1" strike="noStrike">
                <a:solidFill>
                  <a:srgbClr val="4e3b30"/>
                </a:solidFill>
                <a:latin typeface="Arial"/>
                <a:ea typeface="宋体"/>
              </a:rPr>
              <a:t>——“</a:t>
            </a:r>
            <a:r>
              <a:rPr b="1" lang="en-US" sz="3200" spc="-1" strike="noStrike">
                <a:solidFill>
                  <a:srgbClr val="4e3b30"/>
                </a:solidFill>
                <a:latin typeface="Arial"/>
                <a:ea typeface="宋体"/>
              </a:rPr>
              <a:t>HL”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TextBox 4"/>
          <p:cNvSpPr/>
          <p:nvPr/>
        </p:nvSpPr>
        <p:spPr>
          <a:xfrm>
            <a:off x="179280" y="333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一想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12:39:57Z</dcterms:created>
  <dc:creator>http://zhdduya100.taobao.com/</dc:creator>
  <dc:description>http://zhdduya100.taobao.com/</dc:description>
  <cp:keywords>http://zhdduya100.taobao.com/</cp:keywords>
  <dc:language>en-US</dc:language>
  <cp:lastModifiedBy>Administrator</cp:lastModifiedBy>
  <dcterms:modified xsi:type="dcterms:W3CDTF">2014-07-19T01:29:19Z</dcterms:modified>
  <cp:revision>25</cp:revision>
  <dc:subject>http://zhdduya100.taobao.com/</dc:subject>
  <dc:title>http://zhdduya100.taobao.com/</dc:title>
</cp:coreProperties>
</file>