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579-F3DC-429A-B814-20C3E075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11A-83D6-4488-8611-16D4A759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99CD7-1F9C-4FBD-972C-40F8FEF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7B0D7-2AC8-4299-BAE0-EA7B7B2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F8FDD-88F0-449C-8916-9ADADD0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8303F-3BAE-45D2-9143-730EB0B0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F79B5-F4C4-446D-B122-2A472C9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A78B7-A447-4127-8970-0D0D0FA1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FBB1-E49D-47D7-953A-E374407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4939F-BA22-4A9B-846B-A38B708C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5554-FAE3-42A8-8737-E628762A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AD1-FCCB-4987-892B-74FCDEC9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081-3D2E-4C3F-A09F-51D7A41C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3D6A-8801-4757-8BC3-ABCA3BFE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48A-CE47-43B1-908D-3546A0F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F46B-915E-4B49-9091-0C4F3C75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7BB9-C60B-497D-9905-148DFD86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13A-E380-4269-8307-38E73BC3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D4A-EB33-4A50-AE5A-E9AFF86A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E109-4076-4B3B-B8AB-81F4465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734-7771-46C2-9865-7D62C2C9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BAD9-0708-42E0-A253-2957B37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8C97-241A-4E73-B396-8314C28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154-E66E-49D7-BC7C-9DBB17F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5D8E-2B0C-4866-BAB9-EA3707D7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0D5-EF59-4E92-A2E3-90A7B230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E10B-E214-4E15-94CD-C87E8677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DCD0-A5A2-425E-B350-D598B4D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F046-0252-4AE5-8F7F-3D059192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2195-AECF-4A2A-9DC4-12299F6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290E-8629-4144-B6EB-DFBE9618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7B5-A739-4049-898F-30BDF28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935A-F1C5-443B-8B5F-EC161FDB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0676-BCDB-43AD-98F3-FE0FE30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CAB3-BBCE-44C4-9CA0-2E6F9CD8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0C9E-2DB2-463E-8B00-39A31E3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ECB8-B267-4E5D-A277-1C1251CF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50C5-FF12-4657-B525-EBDBBC75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9EBF-9E51-42BB-83AB-A280B5CB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08BE-C41E-49E2-B03C-C4D4759C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A816-0236-4D84-BFB0-DD9D573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AA48-CD2A-47AE-AEBD-884F2EC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81D-E622-4635-9EDA-D5F63AB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0A77-19F5-4F17-B4CB-410A6F2C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32B8-B27A-47E0-AB60-4277A48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22DB-558D-408F-8EE5-38DFC97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0BDA-C223-491C-ACF8-8EF22C4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8EA3-8B5F-4446-B9EF-801B460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7F41-ECBD-4F41-8052-5BB94A4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6ABB-2BBD-43BD-A963-5DC23974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0485-7082-46FC-8284-B7F97982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43EC-E4F2-4D9A-BFDA-69EBC68E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B4CFC-960A-43EB-8BA9-132E606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0C9-FF8B-4D77-9D18-14136C1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4F69-73DC-4F21-86D9-E3FF1E3C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653D-74C9-4D0E-82F2-9588B5FE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3F37-EDAB-46B8-A2D0-2BA31ECF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F560E-929F-44F5-9C22-19D03316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C227-14F8-4181-A5F6-217800A0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C5CA-82C4-415E-9BDA-3A86558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6583-5BEF-45AF-8404-8489C76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C19F-17C5-49D0-899B-22953B29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6E50-3AD0-4324-9EE7-1CBB8239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E058-30ED-4CFD-A216-6F00DBF8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167-729E-41C1-8A2B-1F4908E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532A-FF32-4934-86B3-F0E901DB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FD94-EF27-4BF8-930A-EAACD177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336A-98CB-43C7-8122-A81B956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4A380-E43A-4FFE-8D31-5BC187A3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BA6C-8CBA-4303-BF82-1E63144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23EAD-E466-45CB-A4E5-8A54D50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6877-1A19-4184-894B-24D3F5D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C2B7-1557-4B65-9FCB-4A7F135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CB12-9697-4982-B797-49168CA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4109-5A03-475F-85C7-D232635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806-7152-4658-8B35-FE80AAF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98B8-CF12-4D5D-A4F4-371E6C7E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93D2-66AE-46D6-847B-95C9C4C9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24C1-52E7-447D-A9E3-B5FACE7D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E5F5-CED3-4FDB-A6D5-F89414EA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B218-1AC1-4951-92AA-FCC64CC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CEC3-737C-4026-AFE5-DF304BF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EC25-FBCC-4B99-8945-9B923F6C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0BA7-9A22-4155-86D3-E6D7A24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456F4-C1D0-410E-88C3-8233D5C8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F61B-1ACB-4FFE-967C-8D9736A0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FF8-CF52-4DE2-9FE4-6DB60DA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2153-0BF5-47DE-B154-281EAF8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55E2F-B9C2-4AB5-A6CC-9B42094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27AA-A385-49BD-A024-E7EE9837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7B25-5CB4-4CE9-970E-D8658560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C766-9BBE-4281-967A-055A2622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1757-20C6-4F98-A75A-23C60495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B045A-2DC3-4F40-918E-EE0E2148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29419-682A-4930-9BAC-958FB9A2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B39B5-0960-4DED-97D6-D431722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A59E7-F896-4663-A6AD-6207698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928-AB2D-4757-8388-489CDBC1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17B3C-DAAA-4158-9963-C6A20A7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4113-009E-4C2B-93A8-2E9890C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6F28-102B-4CF6-97D9-92F6701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5D0A4-5777-4ACE-8732-7F532D1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F96E-5885-42CA-B530-52004C9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1067-E4EF-4D33-BEF0-3A2F2A6C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6F9F-283A-45DF-A29C-5B33062C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A9CDC-7422-4D46-9200-B0EAF73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AC4AD-6FB2-414B-8369-4C569B78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20998-C97E-4333-9DBD-0424799A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2E1-1C2E-4488-B865-621AAF9D028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9F3-27A7-43FA-8D32-E4287B43D7D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B9C-F794-4F9D-848F-0B169963C44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44F-439F-4844-A7F4-9F42023F8A1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AE59-2B94-4642-9153-796E51537A4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A21-553B-4581-81A9-E48590CB44C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D6A-35A9-4570-9603-DB5492A0CD1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6A8E-4E70-43C0-86E0-A0EC3531832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C0BA-EC20-499E-9EC6-DB9455A2472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258920" y="177336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2771640" y="3213000"/>
            <a:ext cx="4114800" cy="1218960"/>
            <a:chOff x="2771640" y="3213000"/>
            <a:chExt cx="4114800" cy="1218960"/>
          </a:xfrm>
        </p:grpSpPr>
        <p:sp>
          <p:nvSpPr>
            <p:cNvPr id="401" name="AutoShape 5"/>
            <p:cNvSpPr/>
            <p:nvPr/>
          </p:nvSpPr>
          <p:spPr>
            <a:xfrm>
              <a:off x="2771640" y="3213000"/>
              <a:ext cx="1676160" cy="1218960"/>
            </a:xfrm>
            <a:prstGeom prst="triangle">
              <a:avLst>
                <a:gd name="adj" fmla="val 50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2" name="AutoShape 6"/>
            <p:cNvSpPr/>
            <p:nvPr/>
          </p:nvSpPr>
          <p:spPr>
            <a:xfrm>
              <a:off x="5209920" y="3213000"/>
              <a:ext cx="1676520" cy="1218960"/>
            </a:xfrm>
            <a:prstGeom prst="triangle">
              <a:avLst>
                <a:gd name="adj" fmla="val 500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3" name="Oval 11"/>
          <p:cNvSpPr/>
          <p:nvPr/>
        </p:nvSpPr>
        <p:spPr>
          <a:xfrm>
            <a:off x="1547640" y="2492280"/>
            <a:ext cx="6934320" cy="2362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258920" y="16416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全等的判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1476360" y="-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1332000" y="134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新魏"/>
                <a:ea typeface="华文新魏"/>
              </a:rPr>
              <a:t>课堂练习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971640" y="2637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1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练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446040" y="177948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学习了角边角、角角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注意角角边、角边角中两角与边的区别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会根据已知两角及一边画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进一步学会用推理证明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539640" y="692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结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7620120" y="36576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7848720" y="5562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3599280" y="304920"/>
            <a:ext cx="34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是全等三角形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33520" y="1219320"/>
            <a:ext cx="7772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定两个三角形全等要具备什么条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AutoShape 6">
            <a:hlinkClick r:id="" action="ppaction://hlinkshowjump?jump=nextslide"/>
          </p:cNvPr>
          <p:cNvSpPr/>
          <p:nvPr/>
        </p:nvSpPr>
        <p:spPr>
          <a:xfrm>
            <a:off x="179280" y="18900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华文行楷"/>
                <a:ea typeface="华文行楷"/>
              </a:rPr>
              <a:t>复习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228600" y="2637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边对应相等的两个三角形全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19890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边边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991440" y="3359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角边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1258920" y="414972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两边和它们夹角对应相等的两个三角形全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341280" y="121932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张教学用的三角形硬纸板不小心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被撕坏了，如图，你能制作一张与原来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样大小的新教具？能恢复原来三角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貌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5148360" y="49320"/>
            <a:ext cx="3962160" cy="12189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3244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怎么办？可以帮帮我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7" name="Picture 10" descr="0025"/>
          <p:cNvPicPr/>
          <p:nvPr/>
        </p:nvPicPr>
        <p:blipFill>
          <a:blip r:embed="rId1"/>
          <a:stretch/>
        </p:blipFill>
        <p:spPr>
          <a:xfrm>
            <a:off x="6616800" y="1371600"/>
            <a:ext cx="2419200" cy="1523880"/>
          </a:xfrm>
          <a:prstGeom prst="rect">
            <a:avLst/>
          </a:prstGeom>
          <a:ln w="0">
            <a:noFill/>
          </a:ln>
        </p:spPr>
      </p:pic>
      <p:sp>
        <p:nvSpPr>
          <p:cNvPr id="418" name="Line 11"/>
          <p:cNvSpPr/>
          <p:nvPr/>
        </p:nvSpPr>
        <p:spPr>
          <a:xfrm>
            <a:off x="5410080" y="312408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Line 12"/>
          <p:cNvSpPr/>
          <p:nvPr/>
        </p:nvSpPr>
        <p:spPr>
          <a:xfrm flipH="1">
            <a:off x="4495680" y="312408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Line 13"/>
          <p:cNvSpPr/>
          <p:nvPr/>
        </p:nvSpPr>
        <p:spPr>
          <a:xfrm flipH="1" flipV="1">
            <a:off x="4419360" y="5943600"/>
            <a:ext cx="9903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Freeform 16"/>
          <p:cNvSpPr/>
          <p:nvPr/>
        </p:nvSpPr>
        <p:spPr>
          <a:xfrm>
            <a:off x="4343400" y="4267080"/>
            <a:ext cx="533520" cy="1757520"/>
          </a:xfrm>
          <a:custGeom>
            <a:avLst/>
            <a:gdLst>
              <a:gd name="textAreaLeft" fmla="*/ 0 w 533520"/>
              <a:gd name="textAreaRight" fmla="*/ 533880 w 53352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336" h="1107">
                <a:moveTo>
                  <a:pt x="101" y="0"/>
                </a:moveTo>
                <a:cubicBezTo>
                  <a:pt x="102" y="0"/>
                  <a:pt x="195" y="19"/>
                  <a:pt x="203" y="23"/>
                </a:cubicBezTo>
                <a:cubicBezTo>
                  <a:pt x="227" y="35"/>
                  <a:pt x="271" y="68"/>
                  <a:pt x="271" y="68"/>
                </a:cubicBezTo>
                <a:cubicBezTo>
                  <a:pt x="321" y="145"/>
                  <a:pt x="271" y="216"/>
                  <a:pt x="203" y="260"/>
                </a:cubicBezTo>
                <a:cubicBezTo>
                  <a:pt x="210" y="275"/>
                  <a:pt x="213" y="293"/>
                  <a:pt x="225" y="305"/>
                </a:cubicBezTo>
                <a:cubicBezTo>
                  <a:pt x="336" y="416"/>
                  <a:pt x="220" y="249"/>
                  <a:pt x="293" y="362"/>
                </a:cubicBezTo>
                <a:cubicBezTo>
                  <a:pt x="234" y="381"/>
                  <a:pt x="184" y="414"/>
                  <a:pt x="124" y="430"/>
                </a:cubicBezTo>
                <a:cubicBezTo>
                  <a:pt x="46" y="482"/>
                  <a:pt x="82" y="467"/>
                  <a:pt x="22" y="486"/>
                </a:cubicBezTo>
                <a:cubicBezTo>
                  <a:pt x="51" y="496"/>
                  <a:pt x="84" y="496"/>
                  <a:pt x="112" y="509"/>
                </a:cubicBezTo>
                <a:cubicBezTo>
                  <a:pt x="137" y="520"/>
                  <a:pt x="180" y="554"/>
                  <a:pt x="180" y="554"/>
                </a:cubicBezTo>
                <a:cubicBezTo>
                  <a:pt x="208" y="595"/>
                  <a:pt x="241" y="617"/>
                  <a:pt x="282" y="644"/>
                </a:cubicBezTo>
                <a:cubicBezTo>
                  <a:pt x="265" y="712"/>
                  <a:pt x="276" y="674"/>
                  <a:pt x="248" y="757"/>
                </a:cubicBezTo>
                <a:cubicBezTo>
                  <a:pt x="239" y="783"/>
                  <a:pt x="203" y="787"/>
                  <a:pt x="180" y="802"/>
                </a:cubicBezTo>
                <a:cubicBezTo>
                  <a:pt x="170" y="809"/>
                  <a:pt x="157" y="809"/>
                  <a:pt x="146" y="814"/>
                </a:cubicBezTo>
                <a:cubicBezTo>
                  <a:pt x="93" y="837"/>
                  <a:pt x="57" y="862"/>
                  <a:pt x="0" y="881"/>
                </a:cubicBezTo>
                <a:cubicBezTo>
                  <a:pt x="4" y="892"/>
                  <a:pt x="4" y="906"/>
                  <a:pt x="11" y="915"/>
                </a:cubicBezTo>
                <a:cubicBezTo>
                  <a:pt x="19" y="926"/>
                  <a:pt x="38" y="926"/>
                  <a:pt x="45" y="938"/>
                </a:cubicBezTo>
                <a:cubicBezTo>
                  <a:pt x="58" y="962"/>
                  <a:pt x="60" y="991"/>
                  <a:pt x="67" y="1017"/>
                </a:cubicBezTo>
                <a:cubicBezTo>
                  <a:pt x="62" y="1040"/>
                  <a:pt x="38" y="1107"/>
                  <a:pt x="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Rectangle 22"/>
          <p:cNvSpPr/>
          <p:nvPr/>
        </p:nvSpPr>
        <p:spPr>
          <a:xfrm>
            <a:off x="939240" y="324000"/>
            <a:ext cx="25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创设情景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实例引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3"/>
          <p:cNvGrpSpPr/>
          <p:nvPr/>
        </p:nvGrpSpPr>
        <p:grpSpPr>
          <a:xfrm>
            <a:off x="5146560" y="990720"/>
            <a:ext cx="2625840" cy="5257800"/>
            <a:chOff x="5146560" y="990720"/>
            <a:chExt cx="2625840" cy="5257800"/>
          </a:xfrm>
        </p:grpSpPr>
        <p:sp>
          <p:nvSpPr>
            <p:cNvPr id="424" name="Line 2"/>
            <p:cNvSpPr/>
            <p:nvPr/>
          </p:nvSpPr>
          <p:spPr>
            <a:xfrm flipV="1">
              <a:off x="5181480" y="990720"/>
              <a:ext cx="18288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Line 3"/>
            <p:cNvSpPr/>
            <p:nvPr/>
          </p:nvSpPr>
          <p:spPr>
            <a:xfrm>
              <a:off x="7010280" y="990720"/>
              <a:ext cx="762120" cy="52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Line 4"/>
            <p:cNvSpPr/>
            <p:nvPr/>
          </p:nvSpPr>
          <p:spPr>
            <a:xfrm flipH="1" flipV="1">
              <a:off x="5943600" y="5866920"/>
              <a:ext cx="1828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Freeform 8"/>
            <p:cNvSpPr/>
            <p:nvPr/>
          </p:nvSpPr>
          <p:spPr>
            <a:xfrm>
              <a:off x="5146560" y="2817720"/>
              <a:ext cx="1216080" cy="313524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3135240"/>
                <a:gd name="textAreaBottom" fmla="*/ 3135600 h 3135240"/>
              </a:gdLst>
              <a:ahLst/>
              <a:rect l="textAreaLeft" t="textAreaTop" r="textAreaRight" b="textAreaBottom"/>
              <a:pathLst>
                <a:path w="766" h="1975">
                  <a:moveTo>
                    <a:pt x="73" y="0"/>
                  </a:moveTo>
                  <a:cubicBezTo>
                    <a:pt x="174" y="68"/>
                    <a:pt x="116" y="38"/>
                    <a:pt x="249" y="82"/>
                  </a:cubicBezTo>
                  <a:cubicBezTo>
                    <a:pt x="266" y="88"/>
                    <a:pt x="279" y="103"/>
                    <a:pt x="296" y="106"/>
                  </a:cubicBezTo>
                  <a:cubicBezTo>
                    <a:pt x="374" y="119"/>
                    <a:pt x="531" y="129"/>
                    <a:pt x="531" y="129"/>
                  </a:cubicBezTo>
                  <a:cubicBezTo>
                    <a:pt x="432" y="163"/>
                    <a:pt x="354" y="236"/>
                    <a:pt x="261" y="282"/>
                  </a:cubicBezTo>
                  <a:cubicBezTo>
                    <a:pt x="225" y="354"/>
                    <a:pt x="188" y="425"/>
                    <a:pt x="120" y="470"/>
                  </a:cubicBezTo>
                  <a:cubicBezTo>
                    <a:pt x="116" y="482"/>
                    <a:pt x="115" y="495"/>
                    <a:pt x="108" y="505"/>
                  </a:cubicBezTo>
                  <a:cubicBezTo>
                    <a:pt x="99" y="519"/>
                    <a:pt x="70" y="525"/>
                    <a:pt x="73" y="541"/>
                  </a:cubicBezTo>
                  <a:cubicBezTo>
                    <a:pt x="76" y="558"/>
                    <a:pt x="103" y="559"/>
                    <a:pt x="120" y="564"/>
                  </a:cubicBezTo>
                  <a:cubicBezTo>
                    <a:pt x="166" y="579"/>
                    <a:pt x="261" y="600"/>
                    <a:pt x="261" y="600"/>
                  </a:cubicBezTo>
                  <a:cubicBezTo>
                    <a:pt x="249" y="694"/>
                    <a:pt x="237" y="757"/>
                    <a:pt x="155" y="811"/>
                  </a:cubicBezTo>
                  <a:cubicBezTo>
                    <a:pt x="288" y="838"/>
                    <a:pt x="421" y="835"/>
                    <a:pt x="555" y="858"/>
                  </a:cubicBezTo>
                  <a:cubicBezTo>
                    <a:pt x="575" y="917"/>
                    <a:pt x="590" y="993"/>
                    <a:pt x="625" y="1046"/>
                  </a:cubicBezTo>
                  <a:cubicBezTo>
                    <a:pt x="510" y="1075"/>
                    <a:pt x="407" y="1115"/>
                    <a:pt x="296" y="1152"/>
                  </a:cubicBezTo>
                  <a:cubicBezTo>
                    <a:pt x="265" y="1162"/>
                    <a:pt x="231" y="1162"/>
                    <a:pt x="202" y="1176"/>
                  </a:cubicBezTo>
                  <a:cubicBezTo>
                    <a:pt x="94" y="1230"/>
                    <a:pt x="142" y="1215"/>
                    <a:pt x="61" y="1234"/>
                  </a:cubicBezTo>
                  <a:cubicBezTo>
                    <a:pt x="45" y="1242"/>
                    <a:pt x="18" y="1241"/>
                    <a:pt x="14" y="1258"/>
                  </a:cubicBezTo>
                  <a:cubicBezTo>
                    <a:pt x="0" y="1316"/>
                    <a:pt x="107" y="1400"/>
                    <a:pt x="132" y="1411"/>
                  </a:cubicBezTo>
                  <a:cubicBezTo>
                    <a:pt x="175" y="1431"/>
                    <a:pt x="226" y="1426"/>
                    <a:pt x="273" y="1434"/>
                  </a:cubicBezTo>
                  <a:cubicBezTo>
                    <a:pt x="296" y="1438"/>
                    <a:pt x="343" y="1446"/>
                    <a:pt x="343" y="1446"/>
                  </a:cubicBezTo>
                  <a:cubicBezTo>
                    <a:pt x="355" y="1454"/>
                    <a:pt x="378" y="1455"/>
                    <a:pt x="379" y="1469"/>
                  </a:cubicBezTo>
                  <a:cubicBezTo>
                    <a:pt x="386" y="1547"/>
                    <a:pt x="352" y="1597"/>
                    <a:pt x="296" y="1634"/>
                  </a:cubicBezTo>
                  <a:cubicBezTo>
                    <a:pt x="447" y="1683"/>
                    <a:pt x="305" y="1644"/>
                    <a:pt x="578" y="1669"/>
                  </a:cubicBezTo>
                  <a:cubicBezTo>
                    <a:pt x="641" y="1675"/>
                    <a:pt x="705" y="1702"/>
                    <a:pt x="766" y="1716"/>
                  </a:cubicBezTo>
                  <a:cubicBezTo>
                    <a:pt x="716" y="1733"/>
                    <a:pt x="665" y="1739"/>
                    <a:pt x="614" y="1752"/>
                  </a:cubicBezTo>
                  <a:cubicBezTo>
                    <a:pt x="602" y="1760"/>
                    <a:pt x="587" y="1764"/>
                    <a:pt x="578" y="1775"/>
                  </a:cubicBezTo>
                  <a:cubicBezTo>
                    <a:pt x="559" y="1796"/>
                    <a:pt x="531" y="1846"/>
                    <a:pt x="531" y="1846"/>
                  </a:cubicBezTo>
                  <a:cubicBezTo>
                    <a:pt x="523" y="1869"/>
                    <a:pt x="518" y="1894"/>
                    <a:pt x="508" y="1916"/>
                  </a:cubicBezTo>
                  <a:cubicBezTo>
                    <a:pt x="496" y="1943"/>
                    <a:pt x="459" y="1975"/>
                    <a:pt x="508" y="1928"/>
                  </a:cubicBezTo>
                  <a:lnTo>
                    <a:pt x="550" y="18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28" name="Line 11"/>
          <p:cNvSpPr/>
          <p:nvPr/>
        </p:nvSpPr>
        <p:spPr>
          <a:xfrm flipH="1">
            <a:off x="2742840" y="2819520"/>
            <a:ext cx="24382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 flipH="1" flipV="1">
            <a:off x="2743200" y="5105520"/>
            <a:ext cx="32004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22096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7620120" y="6095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57150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6629400" y="533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464832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179280" y="765000"/>
            <a:ext cx="797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=DE, ∠A= ∠D, ∠B= ∠E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529560" y="260280"/>
            <a:ext cx="12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探究</a:t>
            </a: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1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7" name="Group 31"/>
          <p:cNvGrpSpPr/>
          <p:nvPr/>
        </p:nvGrpSpPr>
        <p:grpSpPr>
          <a:xfrm>
            <a:off x="1008000" y="1484280"/>
            <a:ext cx="2484000" cy="1899720"/>
            <a:chOff x="1008000" y="1484280"/>
            <a:chExt cx="2484000" cy="1899720"/>
          </a:xfrm>
        </p:grpSpPr>
        <p:grpSp>
          <p:nvGrpSpPr>
            <p:cNvPr id="438" name="Group 15"/>
            <p:cNvGrpSpPr/>
            <p:nvPr/>
          </p:nvGrpSpPr>
          <p:grpSpPr>
            <a:xfrm>
              <a:off x="1150560" y="1844640"/>
              <a:ext cx="1944360" cy="1152720"/>
              <a:chOff x="1150560" y="1844640"/>
              <a:chExt cx="1944360" cy="1152720"/>
            </a:xfrm>
          </p:grpSpPr>
          <p:sp>
            <p:nvSpPr>
              <p:cNvPr id="439" name="Line 6"/>
              <p:cNvSpPr/>
              <p:nvPr/>
            </p:nvSpPr>
            <p:spPr>
              <a:xfrm flipH="1">
                <a:off x="1150560" y="1844640"/>
                <a:ext cx="151272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0" name="Line 7"/>
              <p:cNvSpPr/>
              <p:nvPr/>
            </p:nvSpPr>
            <p:spPr>
              <a:xfrm>
                <a:off x="1150560" y="299736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1" name="Line 8"/>
              <p:cNvSpPr/>
              <p:nvPr/>
            </p:nvSpPr>
            <p:spPr>
              <a:xfrm>
                <a:off x="2663280" y="1844640"/>
                <a:ext cx="43128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42" name="Text Box 9"/>
            <p:cNvSpPr/>
            <p:nvPr/>
          </p:nvSpPr>
          <p:spPr>
            <a:xfrm>
              <a:off x="2411280" y="14842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008000" y="2924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Text Box 14"/>
            <p:cNvSpPr/>
            <p:nvPr/>
          </p:nvSpPr>
          <p:spPr>
            <a:xfrm>
              <a:off x="2987280" y="28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45" name="Group 21"/>
          <p:cNvGrpSpPr/>
          <p:nvPr/>
        </p:nvGrpSpPr>
        <p:grpSpPr>
          <a:xfrm>
            <a:off x="3852720" y="1484280"/>
            <a:ext cx="2663640" cy="1756440"/>
            <a:chOff x="3852720" y="1484280"/>
            <a:chExt cx="2663640" cy="1756440"/>
          </a:xfrm>
        </p:grpSpPr>
        <p:sp>
          <p:nvSpPr>
            <p:cNvPr id="446" name="Text Box 11"/>
            <p:cNvSpPr/>
            <p:nvPr/>
          </p:nvSpPr>
          <p:spPr>
            <a:xfrm>
              <a:off x="6011640" y="278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3852720" y="278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5437080" y="1484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49" name="Group 16"/>
            <p:cNvGrpSpPr/>
            <p:nvPr/>
          </p:nvGrpSpPr>
          <p:grpSpPr>
            <a:xfrm>
              <a:off x="4211640" y="1844640"/>
              <a:ext cx="1944360" cy="1152360"/>
              <a:chOff x="4211640" y="1844640"/>
              <a:chExt cx="1944360" cy="1152360"/>
            </a:xfrm>
          </p:grpSpPr>
          <p:sp>
            <p:nvSpPr>
              <p:cNvPr id="450" name="Line 17"/>
              <p:cNvSpPr/>
              <p:nvPr/>
            </p:nvSpPr>
            <p:spPr>
              <a:xfrm flipH="1">
                <a:off x="4211640" y="1844640"/>
                <a:ext cx="151272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1" name="Line 18"/>
              <p:cNvSpPr/>
              <p:nvPr/>
            </p:nvSpPr>
            <p:spPr>
              <a:xfrm>
                <a:off x="4211640" y="299700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2" name="Line 19"/>
              <p:cNvSpPr/>
              <p:nvPr/>
            </p:nvSpPr>
            <p:spPr>
              <a:xfrm>
                <a:off x="5724360" y="1844640"/>
                <a:ext cx="43128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Text Box 22"/>
          <p:cNvSpPr/>
          <p:nvPr/>
        </p:nvSpPr>
        <p:spPr>
          <a:xfrm>
            <a:off x="108000" y="357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角边角公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角和它们的夹边对应相等的两个三角形全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(ASA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23"/>
          <p:cNvSpPr/>
          <p:nvPr/>
        </p:nvSpPr>
        <p:spPr>
          <a:xfrm>
            <a:off x="53964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几何语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340000" y="4221000"/>
            <a:ext cx="6408720" cy="2128320"/>
            <a:chOff x="2340000" y="4221000"/>
            <a:chExt cx="6408720" cy="2128320"/>
          </a:xfrm>
        </p:grpSpPr>
        <p:sp>
          <p:nvSpPr>
            <p:cNvPr id="456" name="Text Box 24"/>
            <p:cNvSpPr/>
            <p:nvPr/>
          </p:nvSpPr>
          <p:spPr>
            <a:xfrm>
              <a:off x="2340000" y="4221000"/>
              <a:ext cx="64087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△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F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△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C≌△DE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AutoShape 25"/>
            <p:cNvSpPr/>
            <p:nvPr/>
          </p:nvSpPr>
          <p:spPr>
            <a:xfrm>
              <a:off x="2771640" y="4725720"/>
              <a:ext cx="216000" cy="1152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Rectangle 26"/>
            <p:cNvSpPr/>
            <p:nvPr/>
          </p:nvSpPr>
          <p:spPr>
            <a:xfrm>
              <a:off x="2894400" y="465408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= ∠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Rectangle 27"/>
            <p:cNvSpPr/>
            <p:nvPr/>
          </p:nvSpPr>
          <p:spPr>
            <a:xfrm>
              <a:off x="2981880" y="515736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=D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Rectangle 28"/>
            <p:cNvSpPr/>
            <p:nvPr/>
          </p:nvSpPr>
          <p:spPr>
            <a:xfrm>
              <a:off x="3066840" y="558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= ∠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Rectangle 29"/>
            <p:cNvSpPr/>
            <p:nvPr/>
          </p:nvSpPr>
          <p:spPr>
            <a:xfrm>
              <a:off x="2676240" y="58780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∴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711E-006 L -0.33455 -0.00162 E">
                                      <p:cBhvr>
                                        <p:cTn id="6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1366920" y="739800"/>
            <a:ext cx="2484000" cy="1899720"/>
            <a:chOff x="1366920" y="739800"/>
            <a:chExt cx="2484000" cy="1899720"/>
          </a:xfrm>
        </p:grpSpPr>
        <p:grpSp>
          <p:nvGrpSpPr>
            <p:cNvPr id="463" name="Group 5"/>
            <p:cNvGrpSpPr/>
            <p:nvPr/>
          </p:nvGrpSpPr>
          <p:grpSpPr>
            <a:xfrm>
              <a:off x="1509480" y="1100160"/>
              <a:ext cx="1944360" cy="1152720"/>
              <a:chOff x="1509480" y="1100160"/>
              <a:chExt cx="1944360" cy="1152720"/>
            </a:xfrm>
          </p:grpSpPr>
          <p:sp>
            <p:nvSpPr>
              <p:cNvPr id="464" name="Line 6"/>
              <p:cNvSpPr/>
              <p:nvPr/>
            </p:nvSpPr>
            <p:spPr>
              <a:xfrm flipH="1">
                <a:off x="1509480" y="1100160"/>
                <a:ext cx="151272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5" name="Line 7"/>
              <p:cNvSpPr/>
              <p:nvPr/>
            </p:nvSpPr>
            <p:spPr>
              <a:xfrm>
                <a:off x="1509480" y="225288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6" name="Line 8"/>
              <p:cNvSpPr/>
              <p:nvPr/>
            </p:nvSpPr>
            <p:spPr>
              <a:xfrm>
                <a:off x="3022200" y="1100160"/>
                <a:ext cx="43128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67" name="Text Box 9"/>
            <p:cNvSpPr/>
            <p:nvPr/>
          </p:nvSpPr>
          <p:spPr>
            <a:xfrm>
              <a:off x="2770200" y="7398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1366920" y="217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3346200" y="210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0" name="Group 12"/>
          <p:cNvGrpSpPr/>
          <p:nvPr/>
        </p:nvGrpSpPr>
        <p:grpSpPr>
          <a:xfrm>
            <a:off x="4284720" y="666720"/>
            <a:ext cx="2663640" cy="1756440"/>
            <a:chOff x="4284720" y="666720"/>
            <a:chExt cx="2663640" cy="1756440"/>
          </a:xfrm>
        </p:grpSpPr>
        <p:sp>
          <p:nvSpPr>
            <p:cNvPr id="471" name="Text Box 13"/>
            <p:cNvSpPr/>
            <p:nvPr/>
          </p:nvSpPr>
          <p:spPr>
            <a:xfrm>
              <a:off x="6443640" y="1963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Text Box 14"/>
            <p:cNvSpPr/>
            <p:nvPr/>
          </p:nvSpPr>
          <p:spPr>
            <a:xfrm>
              <a:off x="4284720" y="1963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Text Box 15"/>
            <p:cNvSpPr/>
            <p:nvPr/>
          </p:nvSpPr>
          <p:spPr>
            <a:xfrm>
              <a:off x="5869080" y="666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74" name="Group 16"/>
            <p:cNvGrpSpPr/>
            <p:nvPr/>
          </p:nvGrpSpPr>
          <p:grpSpPr>
            <a:xfrm>
              <a:off x="4643640" y="1027080"/>
              <a:ext cx="1944360" cy="1152360"/>
              <a:chOff x="4643640" y="1027080"/>
              <a:chExt cx="1944360" cy="1152360"/>
            </a:xfrm>
          </p:grpSpPr>
          <p:sp>
            <p:nvSpPr>
              <p:cNvPr id="475" name="Line 17"/>
              <p:cNvSpPr/>
              <p:nvPr/>
            </p:nvSpPr>
            <p:spPr>
              <a:xfrm flipH="1">
                <a:off x="4643640" y="1027080"/>
                <a:ext cx="151272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Line 18"/>
              <p:cNvSpPr/>
              <p:nvPr/>
            </p:nvSpPr>
            <p:spPr>
              <a:xfrm>
                <a:off x="4643640" y="217944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Line 19"/>
              <p:cNvSpPr/>
              <p:nvPr/>
            </p:nvSpPr>
            <p:spPr>
              <a:xfrm>
                <a:off x="6156360" y="1027080"/>
                <a:ext cx="43128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20"/>
          <p:cNvSpPr/>
          <p:nvPr/>
        </p:nvSpPr>
        <p:spPr>
          <a:xfrm>
            <a:off x="395280" y="26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试一试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399480" y="2852640"/>
            <a:ext cx="13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 ∠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>
            <a:off x="900000" y="3789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1" name="Group 38"/>
          <p:cNvGrpSpPr/>
          <p:nvPr/>
        </p:nvGrpSpPr>
        <p:grpSpPr>
          <a:xfrm>
            <a:off x="468360" y="2924280"/>
            <a:ext cx="1871640" cy="1396080"/>
            <a:chOff x="468360" y="2924280"/>
            <a:chExt cx="1871640" cy="1396080"/>
          </a:xfrm>
        </p:grpSpPr>
        <p:sp>
          <p:nvSpPr>
            <p:cNvPr id="482" name="Rectangle 21"/>
            <p:cNvSpPr/>
            <p:nvPr/>
          </p:nvSpPr>
          <p:spPr>
            <a:xfrm>
              <a:off x="805320" y="292428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= ∠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Rectangle 23"/>
            <p:cNvSpPr/>
            <p:nvPr/>
          </p:nvSpPr>
          <p:spPr>
            <a:xfrm>
              <a:off x="869040" y="3860640"/>
              <a:ext cx="14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= ∠E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AutoShape 26"/>
            <p:cNvSpPr/>
            <p:nvPr/>
          </p:nvSpPr>
          <p:spPr>
            <a:xfrm>
              <a:off x="468360" y="3141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Text Box 28"/>
            <p:cNvSpPr/>
            <p:nvPr/>
          </p:nvSpPr>
          <p:spPr>
            <a:xfrm>
              <a:off x="971640" y="3357720"/>
              <a:ext cx="1368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6" name="Rectangle 29"/>
          <p:cNvSpPr/>
          <p:nvPr/>
        </p:nvSpPr>
        <p:spPr>
          <a:xfrm>
            <a:off x="902520" y="3357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=D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7" name="Group 39"/>
          <p:cNvGrpSpPr/>
          <p:nvPr/>
        </p:nvGrpSpPr>
        <p:grpSpPr>
          <a:xfrm>
            <a:off x="3203640" y="3141720"/>
            <a:ext cx="1658160" cy="1107360"/>
            <a:chOff x="3203640" y="3141720"/>
            <a:chExt cx="1658160" cy="1107360"/>
          </a:xfrm>
        </p:grpSpPr>
        <p:sp>
          <p:nvSpPr>
            <p:cNvPr id="488" name="AutoShape 30"/>
            <p:cNvSpPr/>
            <p:nvPr/>
          </p:nvSpPr>
          <p:spPr>
            <a:xfrm>
              <a:off x="3203640" y="3141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9" name="Rectangle 31"/>
            <p:cNvSpPr/>
            <p:nvPr/>
          </p:nvSpPr>
          <p:spPr>
            <a:xfrm>
              <a:off x="3617280" y="378936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Ｃ＝ ∠Ｆ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492360" y="378936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1" name="Text Box 34"/>
          <p:cNvSpPr/>
          <p:nvPr/>
        </p:nvSpPr>
        <p:spPr>
          <a:xfrm>
            <a:off x="3276720" y="34034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ＡＣ＝Ｄ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2" name="Group 40"/>
          <p:cNvGrpSpPr/>
          <p:nvPr/>
        </p:nvGrpSpPr>
        <p:grpSpPr>
          <a:xfrm>
            <a:off x="5724360" y="2852640"/>
            <a:ext cx="1681920" cy="1467720"/>
            <a:chOff x="5724360" y="2852640"/>
            <a:chExt cx="1681920" cy="1467720"/>
          </a:xfrm>
        </p:grpSpPr>
        <p:sp>
          <p:nvSpPr>
            <p:cNvPr id="493" name="Rectangle 24"/>
            <p:cNvSpPr/>
            <p:nvPr/>
          </p:nvSpPr>
          <p:spPr>
            <a:xfrm>
              <a:off x="5982120" y="3860640"/>
              <a:ext cx="14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= ∠E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4" name="Line 33"/>
            <p:cNvSpPr/>
            <p:nvPr/>
          </p:nvSpPr>
          <p:spPr>
            <a:xfrm>
              <a:off x="6084720" y="378936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5" name="AutoShape 35"/>
            <p:cNvSpPr/>
            <p:nvPr/>
          </p:nvSpPr>
          <p:spPr>
            <a:xfrm>
              <a:off x="5724360" y="2997360"/>
              <a:ext cx="216000" cy="1223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6" name="Rectangle 36"/>
            <p:cNvSpPr/>
            <p:nvPr/>
          </p:nvSpPr>
          <p:spPr>
            <a:xfrm>
              <a:off x="6064920" y="285264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Ｃ＝ ∠Ｆ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7" name="Text Box 37"/>
          <p:cNvSpPr/>
          <p:nvPr/>
        </p:nvSpPr>
        <p:spPr>
          <a:xfrm>
            <a:off x="5867280" y="3357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ＢＣ＝Ｅ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41"/>
          <p:cNvSpPr/>
          <p:nvPr/>
        </p:nvSpPr>
        <p:spPr>
          <a:xfrm>
            <a:off x="2610000" y="5084640"/>
            <a:ext cx="32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△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BC≌△DEF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Rectangle 42"/>
          <p:cNvSpPr/>
          <p:nvPr/>
        </p:nvSpPr>
        <p:spPr>
          <a:xfrm>
            <a:off x="1469520" y="5300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43"/>
          <p:cNvSpPr/>
          <p:nvPr/>
        </p:nvSpPr>
        <p:spPr>
          <a:xfrm>
            <a:off x="2484360" y="33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44"/>
          <p:cNvSpPr/>
          <p:nvPr/>
        </p:nvSpPr>
        <p:spPr>
          <a:xfrm>
            <a:off x="5076720" y="35002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3"/>
          <p:cNvSpPr/>
          <p:nvPr/>
        </p:nvSpPr>
        <p:spPr>
          <a:xfrm>
            <a:off x="311040" y="109692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=∠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=∠4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=A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4952880" y="380880"/>
            <a:ext cx="3733920" cy="3733560"/>
            <a:chOff x="4952880" y="380880"/>
            <a:chExt cx="3733920" cy="3733560"/>
          </a:xfrm>
        </p:grpSpPr>
        <p:pic>
          <p:nvPicPr>
            <p:cNvPr id="504" name="Picture 15" descr=""/>
            <p:cNvPicPr/>
            <p:nvPr/>
          </p:nvPicPr>
          <p:blipFill>
            <a:blip r:embed="rId1"/>
            <a:stretch/>
          </p:blipFill>
          <p:spPr>
            <a:xfrm>
              <a:off x="4952880" y="380880"/>
              <a:ext cx="373392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 Box 16"/>
            <p:cNvSpPr/>
            <p:nvPr/>
          </p:nvSpPr>
          <p:spPr>
            <a:xfrm>
              <a:off x="5454720" y="187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Text Box 17"/>
            <p:cNvSpPr/>
            <p:nvPr/>
          </p:nvSpPr>
          <p:spPr>
            <a:xfrm>
              <a:off x="5475600" y="21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Text Box 18"/>
            <p:cNvSpPr/>
            <p:nvPr/>
          </p:nvSpPr>
          <p:spPr>
            <a:xfrm>
              <a:off x="6874200" y="177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8" name="Text Box 19"/>
            <p:cNvSpPr/>
            <p:nvPr/>
          </p:nvSpPr>
          <p:spPr>
            <a:xfrm>
              <a:off x="6877080" y="217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9" name="Text Box 21"/>
          <p:cNvSpPr/>
          <p:nvPr/>
        </p:nvSpPr>
        <p:spPr>
          <a:xfrm>
            <a:off x="0" y="2602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用一用，懂了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1187280" y="2709720"/>
            <a:ext cx="598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=∠2, ∠D=∠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A=∠BC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=∠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=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公共边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A=∠BC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≌△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443160" y="2627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AutoShape 28"/>
          <p:cNvSpPr/>
          <p:nvPr/>
        </p:nvSpPr>
        <p:spPr>
          <a:xfrm>
            <a:off x="3635280" y="0"/>
            <a:ext cx="3672000" cy="1052640"/>
          </a:xfrm>
          <a:prstGeom prst="wedgeEllipseCallout">
            <a:avLst>
              <a:gd name="adj1" fmla="val -41916"/>
              <a:gd name="adj2" fmla="val 61009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思考：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S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条件可以证明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1109160" y="27082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Rectangle 30"/>
          <p:cNvSpPr/>
          <p:nvPr/>
        </p:nvSpPr>
        <p:spPr>
          <a:xfrm>
            <a:off x="948240" y="32846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AutoShape 31"/>
          <p:cNvSpPr/>
          <p:nvPr/>
        </p:nvSpPr>
        <p:spPr>
          <a:xfrm>
            <a:off x="1116000" y="450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3"/>
          <p:cNvSpPr/>
          <p:nvPr/>
        </p:nvSpPr>
        <p:spPr>
          <a:xfrm>
            <a:off x="539640" y="62064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有两角和它们中的一边对应相等的两个三角形全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简写成“角角边”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AS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5">
            <a:hlinkClick r:id="" action="ppaction://hlinkshowjump?jump=previousslide"/>
          </p:cNvPr>
          <p:cNvSpPr/>
          <p:nvPr/>
        </p:nvSpPr>
        <p:spPr>
          <a:xfrm>
            <a:off x="6553080" y="4648320"/>
            <a:ext cx="2590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1"/>
          <a:stretch/>
        </p:blipFill>
        <p:spPr>
          <a:xfrm>
            <a:off x="3429000" y="1557360"/>
            <a:ext cx="57150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9"/>
          <p:cNvGrpSpPr/>
          <p:nvPr/>
        </p:nvGrpSpPr>
        <p:grpSpPr>
          <a:xfrm>
            <a:off x="76320" y="1897200"/>
            <a:ext cx="4647600" cy="2669400"/>
            <a:chOff x="76320" y="1897200"/>
            <a:chExt cx="4647600" cy="2669400"/>
          </a:xfrm>
        </p:grpSpPr>
        <p:sp>
          <p:nvSpPr>
            <p:cNvPr id="520" name="AutoShape 10"/>
            <p:cNvSpPr/>
            <p:nvPr/>
          </p:nvSpPr>
          <p:spPr>
            <a:xfrm>
              <a:off x="457200" y="2583000"/>
              <a:ext cx="75600" cy="152388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21" name="Group 11"/>
            <p:cNvGrpSpPr/>
            <p:nvPr/>
          </p:nvGrpSpPr>
          <p:grpSpPr>
            <a:xfrm>
              <a:off x="76320" y="1897200"/>
              <a:ext cx="4647600" cy="2669400"/>
              <a:chOff x="76320" y="1897200"/>
              <a:chExt cx="4647600" cy="2669400"/>
            </a:xfrm>
          </p:grpSpPr>
          <p:sp>
            <p:nvSpPr>
              <p:cNvPr id="522" name="Text Box 12"/>
              <p:cNvSpPr/>
              <p:nvPr/>
            </p:nvSpPr>
            <p:spPr>
              <a:xfrm>
                <a:off x="609480" y="2506680"/>
                <a:ext cx="411444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E=A’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已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）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∠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=∠A’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已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） 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∠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B=∠C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已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）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3" name="Text Box 13"/>
              <p:cNvSpPr/>
              <p:nvPr/>
            </p:nvSpPr>
            <p:spPr>
              <a:xfrm>
                <a:off x="228240" y="1897200"/>
                <a:ext cx="449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几何语言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：在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△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BE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和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△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’C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中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4" name="Text Box 14"/>
              <p:cNvSpPr/>
              <p:nvPr/>
            </p:nvSpPr>
            <p:spPr>
              <a:xfrm>
                <a:off x="76320" y="4106880"/>
                <a:ext cx="45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∴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△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B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≌△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’C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S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）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026"/>
          <p:cNvSpPr/>
          <p:nvPr/>
        </p:nvSpPr>
        <p:spPr>
          <a:xfrm>
            <a:off x="468360" y="260280"/>
            <a:ext cx="255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实际应用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6" name="Picture 1032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581640" cy="330660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3">
            <a:hlinkClick r:id="rId2" action="ppaction://hlinksldjump"/>
          </p:cNvPr>
          <p:cNvSpPr/>
          <p:nvPr/>
        </p:nvSpPr>
        <p:spPr>
          <a:xfrm>
            <a:off x="5562720" y="5257800"/>
            <a:ext cx="35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8" name="Group 1035"/>
          <p:cNvGrpSpPr/>
          <p:nvPr/>
        </p:nvGrpSpPr>
        <p:grpSpPr>
          <a:xfrm>
            <a:off x="450720" y="907920"/>
            <a:ext cx="8008920" cy="1595880"/>
            <a:chOff x="450720" y="907920"/>
            <a:chExt cx="8008920" cy="1595880"/>
          </a:xfrm>
        </p:grpSpPr>
        <p:sp>
          <p:nvSpPr>
            <p:cNvPr id="529" name="Text Box 1027"/>
            <p:cNvSpPr/>
            <p:nvPr/>
          </p:nvSpPr>
          <p:spPr>
            <a:xfrm>
              <a:off x="915840" y="907920"/>
              <a:ext cx="7543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已知：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，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相交于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=A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=∠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求证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：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AD=A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Rectangle 1034"/>
            <p:cNvSpPr/>
            <p:nvPr/>
          </p:nvSpPr>
          <p:spPr>
            <a:xfrm>
              <a:off x="450720" y="9079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1" name="AutoShape 1038">
            <a:hlinkClick r:id="rId3" action="ppaction://hlinksldjump"/>
          </p:cNvPr>
          <p:cNvSpPr/>
          <p:nvPr/>
        </p:nvSpPr>
        <p:spPr>
          <a:xfrm>
            <a:off x="0" y="61722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15:56:00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9:27Z</dcterms:modified>
  <cp:revision>61</cp:revision>
  <dc:subject>http://zhdduya100.taobao.com/</dc:subject>
  <dc:title>http://zhdduya100.taobao.com/</dc:title>
</cp:coreProperties>
</file>