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image4.jpeg" ContentType="image/jpeg"/>
  <Override PartName="/ppt/media/cashreg.wav" ContentType="audio/x-wav"/>
  <Override PartName="/ppt/media/image5.jpeg" ContentType="image/jpeg"/>
  <Override PartName="/ppt/media/image6.jpeg" ContentType="image/jpeg"/>
  <Override PartName="/ppt/media/chimes.wav" ContentType="audio/x-wav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E31-4A7B-45E7-910F-3BE96A1E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245-636A-4F17-86CD-D7B930E9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FFD64-40E6-45BD-B4BF-753A6435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E92B7-6469-47E7-9B79-E9FF7830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B96B6-6F70-417C-8D9D-B3C0AD94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9D8C0-8788-44C6-B307-11F9CAFC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5772B-13EE-4796-ADA5-521AE3B0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AE7B7-08BB-4876-A261-A48A121E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BC6F5-0025-46E1-A125-D8C56DF4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1FD34-F750-4A9F-9971-5AD64FAE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66533-B96E-49F7-81FC-9D110405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782-41C0-4B43-9C36-BE2E1B3C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691-D562-4F8A-8418-01CBA462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203E-132A-4853-8FB6-480BA833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1DE8-B3AA-4C9D-9CE0-A68D5F15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807C-296A-4E5C-9B5C-65C9C22E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04C1-0C19-4F4F-AA02-F22F85ED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4618-6292-49B8-91ED-60021EF0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18E1-28F9-47EF-B10A-461ECFBD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AF1C-B6AB-4B36-8238-A78910DD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921-D4F3-412C-8D0F-86A61438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409B-B61B-4ADA-8B65-128B52DC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6673-679F-4E54-A305-CE1DFBFD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BE13-EC26-4730-852B-21355BDF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2888-BDCF-4D05-8821-3C98ABA1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84CD-1672-459B-8CB1-CD4D415F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8F337-FD20-4013-9A11-0B0E4CC3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622DD-94BE-4215-BB76-B1B6D657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AC766-10CF-4FCD-90C8-2FF646D2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FFFC-BE23-4CC1-8D59-92BF82B4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7EF6-92DF-4C1C-8DD8-A791DD77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620-8F96-494B-85BE-A8A21B4B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E49D-8628-4BD9-82AA-6F6057B7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8581-D480-4682-8893-A19391F6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7EF3-8262-4D1F-A35D-6B7B42C2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4CAD0-086C-4532-A64F-4D3EB1F7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478D-C657-4A68-80EC-ADD4A7C2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84469-549D-468F-8E3B-9F32045A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6045-FC2D-47D9-AE2F-C7BF4351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A783-37D1-49F6-ADEE-057D9BE2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C1B8F-271F-4835-9388-DC850DCC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DFB5-5AAE-4723-8242-FD8F955A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387-5CDB-4B10-9E40-2B397115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4F59E-1C16-4E63-8C58-6A9AB8B4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5EFB2-1C43-4B00-AE03-B89D9FCF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92A45-BE44-497E-B156-1C7752FD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0BC1D-F0BE-4300-AB81-42F11528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E8DDE-B1B2-42FA-869D-DC607BDA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1472D-C208-4290-AE77-1C81A2DD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92CB-5EE2-4990-8DEB-1339357F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7C065-93FE-41AC-B342-FF59BFB5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7C35F-C0ED-4183-B19F-9A3C4920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567A8-1A09-4F5A-8FF5-8E7C60EE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FAB-DC19-44C9-8B76-997E6907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A75F-D901-406F-BAC7-8D674B36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46525-7FB4-494D-B564-4F0B79A1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7FF8A-6422-4C39-AD4E-77E50A3D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60DF9-56BD-4A0E-B0E6-6B527D7B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11214-7882-4623-A70E-300EF93D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850A8-F522-4FF2-B6C8-623E4C5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B9164-64F2-4810-8285-80BA1696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0B415-3CD5-490D-823C-C1565A9A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C5EF-8CD0-4F58-B07F-F94A7394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69C8C-39FF-4BD0-AC31-67567BE2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64E-92CF-40C2-A009-E4B03933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ABDD4-CD6A-434B-BB4D-71E72513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36660-142A-4EAF-ADDC-B3D4E4F1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8E5A2-2847-428F-AC8A-8DC61353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7D1A8-AA3B-400E-9B48-A9FE7540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206BE-597C-4631-8814-E8737746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6158C-6B9D-4024-B281-B5933E65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6B3B-4A5A-47C1-9900-DA77AD75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2DCD3-3F94-4BA1-B561-01CCF5B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F1990-1D8E-4DFE-B898-C93AD983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4E31-2742-4D6F-A30D-A824C04B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B60-4B84-4EDC-B12A-705875A7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69E16-53BE-4E7E-BEDA-42EFA379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EDF6E-1063-4A9E-A99B-0D8C7A17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EDCA1-0706-4548-B019-933A5ED0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947A3-56BC-4706-9F9A-9897714C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27FF5-26EA-42AB-A0A1-06F7BA12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64F2B-5D1A-43EC-B16E-F8FB39F3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F2496-BC01-4CE6-AD12-D6941AA3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43AB7-2962-4BF0-A23A-C6ED566C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87DF4-D6CF-418A-9DD0-A4BDC0C6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20BB5-43E4-43E6-BED8-1758AD38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0E9-1A90-46E3-8CEA-4D621AEC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6C796-9575-40A7-AC08-EF83750C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66695-4FEE-44A3-A04B-6E97C406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6DDFA-4B19-4B67-A3D6-81007609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5AF72-3A08-4608-AAD3-7C3B6B29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F1781-E1F2-4BF5-B504-DB0B81F9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65119-64D9-4D53-AA85-24D1FFE3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F7A41-54DD-4393-936B-D3B75539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26DEA-8932-4606-BFA9-CEC62273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68B55-7597-4E55-A2C7-9BA2C273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C223B-8DBF-4CE1-AE12-B08A832B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36C-EF82-48C6-A2C0-6BA84710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121CA-53F0-4A92-AEF9-BA16A5FC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3E044-B155-4A4D-8CA2-1BA2AFEE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54620-AB5B-4B1B-9889-B319A632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1FDB0-4B1A-43DB-8025-AFCE6B56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2D0E-8E54-47E5-A52F-9AD954DF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7BD49-BEEE-40D9-9ABF-7CE1BBB2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2232A-A10B-4F74-AE25-D17C2DFA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996D1-5BA8-4076-ADFE-32176B71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ACAC6-D408-46A5-9373-0AABFC67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923CF-5855-4583-9F98-CEB60040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94DF-F101-4BE9-864D-C29E3D8B4BC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A0F6-10C2-40E7-951D-760655BCB9BC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9AF9-817A-4B07-94FE-5E8C735489A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E348-F184-4B79-ADC6-7E11E723ADC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06AB-FC04-426E-BF19-1A8E01D9163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0942-7EE8-43D2-A934-B1FA686DD47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75D1-D6B7-471B-AE42-B2CB49C9CDE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55DC-E64A-4B63-9E80-FC7961A9CEF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E330-74C4-45F2-88AF-1EB4EBBB071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1403280" y="278136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三角形全等的判定</a:t>
            </a:r>
            <a:r>
              <a:rPr b="1" lang="en-US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</a:t>
            </a:r>
            <a:r>
              <a:rPr b="1" lang="en-US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5"/>
          <p:cNvSpPr/>
          <p:nvPr/>
        </p:nvSpPr>
        <p:spPr>
          <a:xfrm>
            <a:off x="250920" y="836640"/>
            <a:ext cx="843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=F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C=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一条直线上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=F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如图），要用“边边边”证明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 ≌△ F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除了已知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=F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C=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外，还应该有什么条件？怎样才能得到这个条件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476360" y="-11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2" name="Picture 6" descr="http://www.pep.com.cn/images/200410/pic_204329.jpg"/>
          <p:cNvPicPr/>
          <p:nvPr/>
        </p:nvPicPr>
        <p:blipFill>
          <a:blip r:embed="rId1"/>
          <a:srcRect l="63541" t="47885" r="9385" b="38085"/>
          <a:stretch/>
        </p:blipFill>
        <p:spPr>
          <a:xfrm>
            <a:off x="5486400" y="2852640"/>
            <a:ext cx="3657600" cy="282600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8"/>
          <p:cNvSpPr/>
          <p:nvPr/>
        </p:nvSpPr>
        <p:spPr>
          <a:xfrm>
            <a:off x="457200" y="29242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解：要证明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BC ≌△ FD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还应该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B=DF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这个条件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609480" y="4076640"/>
            <a:ext cx="48769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∵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F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公共部分，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D=B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∴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D+DB=BF+D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即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B=D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TextBox 9"/>
          <p:cNvSpPr/>
          <p:nvPr/>
        </p:nvSpPr>
        <p:spPr>
          <a:xfrm>
            <a:off x="179280" y="1159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练一练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4"/>
          <p:cNvSpPr/>
          <p:nvPr/>
        </p:nvSpPr>
        <p:spPr>
          <a:xfrm>
            <a:off x="179280" y="40464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E=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D=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证：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EB ≌ △ AD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0" y="1828800"/>
            <a:ext cx="6248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证明：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D=C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  ∴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D-ED=CE-E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E=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914400" y="3392640"/>
            <a:ext cx="5715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E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D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中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B=A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E=A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E=C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∴  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EB ≌ △ AD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9" name="Group 31"/>
          <p:cNvGrpSpPr/>
          <p:nvPr/>
        </p:nvGrpSpPr>
        <p:grpSpPr>
          <a:xfrm>
            <a:off x="6012000" y="1052640"/>
            <a:ext cx="2895120" cy="2212200"/>
            <a:chOff x="6012000" y="1052640"/>
            <a:chExt cx="2895120" cy="2212200"/>
          </a:xfrm>
        </p:grpSpPr>
        <p:sp>
          <p:nvSpPr>
            <p:cNvPr id="540" name="Text Box 16"/>
            <p:cNvSpPr/>
            <p:nvPr/>
          </p:nvSpPr>
          <p:spPr>
            <a:xfrm>
              <a:off x="7916760" y="28051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1" name="Line 6"/>
            <p:cNvSpPr/>
            <p:nvPr/>
          </p:nvSpPr>
          <p:spPr>
            <a:xfrm flipV="1">
              <a:off x="6621480" y="1433520"/>
              <a:ext cx="99000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2" name="Line 7"/>
            <p:cNvSpPr/>
            <p:nvPr/>
          </p:nvSpPr>
          <p:spPr>
            <a:xfrm>
              <a:off x="7611840" y="1433520"/>
              <a:ext cx="761760" cy="13716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Line 8"/>
            <p:cNvSpPr/>
            <p:nvPr/>
          </p:nvSpPr>
          <p:spPr>
            <a:xfrm flipH="1">
              <a:off x="7154280" y="1433520"/>
              <a:ext cx="456840" cy="13716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4" name="Line 10"/>
            <p:cNvSpPr/>
            <p:nvPr/>
          </p:nvSpPr>
          <p:spPr>
            <a:xfrm>
              <a:off x="7611840" y="1433520"/>
              <a:ext cx="22824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7230960" y="10526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6012000" y="25765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7" name="Text Box 17"/>
            <p:cNvSpPr/>
            <p:nvPr/>
          </p:nvSpPr>
          <p:spPr>
            <a:xfrm>
              <a:off x="7154640" y="280512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Text Box 18"/>
            <p:cNvSpPr/>
            <p:nvPr/>
          </p:nvSpPr>
          <p:spPr>
            <a:xfrm>
              <a:off x="6697440" y="28051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>
              <a:off x="6621480" y="280512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>
              <a:off x="7154640" y="2805120"/>
              <a:ext cx="121896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51" name="TextBox 22"/>
          <p:cNvSpPr/>
          <p:nvPr/>
        </p:nvSpPr>
        <p:spPr>
          <a:xfrm>
            <a:off x="2627280" y="407664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华文楷体"/>
                <a:ea typeface="华文楷体"/>
              </a:rPr>
              <a:t>{</a:t>
            </a:r>
            <a:endParaRPr b="1" lang="en-US" sz="9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ectangle 2" descr=""/>
          <p:cNvPicPr/>
          <p:nvPr/>
        </p:nvPicPr>
        <p:blipFill>
          <a:blip r:embed="rId1"/>
          <a:stretch/>
        </p:blipFill>
        <p:spPr>
          <a:xfrm>
            <a:off x="-115920" y="396720"/>
            <a:ext cx="8437680" cy="18162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5616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证明：在△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BD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和△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CDB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5943600" y="2571840"/>
            <a:ext cx="2514600" cy="914400"/>
          </a:xfrm>
          <a:prstGeom prst="parallelogram">
            <a:avLst>
              <a:gd name="adj" fmla="val 68750"/>
            </a:avLst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Line 5"/>
          <p:cNvSpPr/>
          <p:nvPr/>
        </p:nvSpPr>
        <p:spPr>
          <a:xfrm>
            <a:off x="6553080" y="2571840"/>
            <a:ext cx="1274760" cy="90144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6156360" y="2060640"/>
            <a:ext cx="54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6174360" y="215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5526720" y="3402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7900920" y="325764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8406360" y="224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1" name="AutoShape 12"/>
          <p:cNvSpPr/>
          <p:nvPr/>
        </p:nvSpPr>
        <p:spPr>
          <a:xfrm>
            <a:off x="1619280" y="3284640"/>
            <a:ext cx="433440" cy="115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05"/>
                </a:lnTo>
                <a:cubicBezTo>
                  <a:pt x="10800" y="9705"/>
                  <a:pt x="5400" y="10605"/>
                  <a:pt x="0" y="10605"/>
                </a:cubicBezTo>
                <a:cubicBezTo>
                  <a:pt x="5400" y="10605"/>
                  <a:pt x="10800" y="11505"/>
                  <a:pt x="10800" y="124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1979640" y="2924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B=C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3" name="Text Box 14"/>
          <p:cNvSpPr/>
          <p:nvPr/>
        </p:nvSpPr>
        <p:spPr>
          <a:xfrm>
            <a:off x="1979640" y="357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D=C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1979640" y="422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D=D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755640" y="479736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∴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BD≌△AC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S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370836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已知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Text Box 18"/>
          <p:cNvSpPr/>
          <p:nvPr/>
        </p:nvSpPr>
        <p:spPr>
          <a:xfrm>
            <a:off x="3708360" y="357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已知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3780000" y="422100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公共边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Text Box 20"/>
          <p:cNvSpPr/>
          <p:nvPr/>
        </p:nvSpPr>
        <p:spPr>
          <a:xfrm>
            <a:off x="971640" y="5516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∴ 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= ∠ 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全等三角形的对应角相等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250920" y="1628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你能说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B∥C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D∥B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468360" y="404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如图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图中有几组全等的三角形？它们全等的条件是什么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2" name="Line 3"/>
          <p:cNvSpPr/>
          <p:nvPr/>
        </p:nvSpPr>
        <p:spPr>
          <a:xfrm flipH="1">
            <a:off x="6665760" y="1565280"/>
            <a:ext cx="881280" cy="22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3" name="Line 4"/>
          <p:cNvSpPr/>
          <p:nvPr/>
        </p:nvSpPr>
        <p:spPr>
          <a:xfrm>
            <a:off x="7547040" y="1565280"/>
            <a:ext cx="992160" cy="2328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>
            <a:off x="6667560" y="383220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Line 6"/>
          <p:cNvSpPr/>
          <p:nvPr/>
        </p:nvSpPr>
        <p:spPr>
          <a:xfrm>
            <a:off x="7547040" y="1565280"/>
            <a:ext cx="55440" cy="22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Line 7"/>
          <p:cNvSpPr/>
          <p:nvPr/>
        </p:nvSpPr>
        <p:spPr>
          <a:xfrm flipH="1">
            <a:off x="6665760" y="3159000"/>
            <a:ext cx="936720" cy="67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Line 8"/>
          <p:cNvSpPr/>
          <p:nvPr/>
        </p:nvSpPr>
        <p:spPr>
          <a:xfrm>
            <a:off x="7602480" y="3159000"/>
            <a:ext cx="936720" cy="67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7435800" y="38307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7601040" y="27892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Text Box 11"/>
          <p:cNvSpPr/>
          <p:nvPr/>
        </p:nvSpPr>
        <p:spPr>
          <a:xfrm>
            <a:off x="8427960" y="37162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6300720" y="3645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7381800" y="1197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539640" y="1700280"/>
            <a:ext cx="489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解：有三组。　　　　　　　　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在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B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和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C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中                               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B=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H=C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H=A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∴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BH≌△AC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S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395280" y="5300640"/>
            <a:ext cx="48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D=C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H=C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H=DH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∴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BH≌△DC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S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　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611280" y="3357720"/>
            <a:ext cx="514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在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B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和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C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B=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D=C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D=A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∴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BD≌△AC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S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611280" y="4724280"/>
            <a:ext cx="37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在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B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和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C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4"/>
          <p:cNvSpPr/>
          <p:nvPr/>
        </p:nvSpPr>
        <p:spPr>
          <a:xfrm>
            <a:off x="0" y="1989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解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762120" y="20606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①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别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中点（      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826920" y="3141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又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B=C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3492360" y="3141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E=C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0" y="40766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在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D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与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BF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中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3924360" y="407664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E=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4572000" y="4581360"/>
            <a:ext cx="7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324000" y="51577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∴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DE≌△CBF  (         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971640" y="25653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E=    AB    CF=    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                     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6" name="Group 15"/>
          <p:cNvGrpSpPr/>
          <p:nvPr/>
        </p:nvGrpSpPr>
        <p:grpSpPr>
          <a:xfrm>
            <a:off x="2395440" y="2349360"/>
            <a:ext cx="533520" cy="901440"/>
            <a:chOff x="2395440" y="2349360"/>
            <a:chExt cx="533520" cy="901440"/>
          </a:xfrm>
        </p:grpSpPr>
        <p:sp>
          <p:nvSpPr>
            <p:cNvPr id="597" name="Line 16"/>
            <p:cNvSpPr/>
            <p:nvPr/>
          </p:nvSpPr>
          <p:spPr>
            <a:xfrm>
              <a:off x="2471760" y="2806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8" name="Text Box 17"/>
            <p:cNvSpPr/>
            <p:nvPr/>
          </p:nvSpPr>
          <p:spPr>
            <a:xfrm>
              <a:off x="2395440" y="2349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9" name="Text Box 18"/>
            <p:cNvSpPr/>
            <p:nvPr/>
          </p:nvSpPr>
          <p:spPr>
            <a:xfrm>
              <a:off x="2395440" y="273024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00" name="Group 19"/>
          <p:cNvGrpSpPr/>
          <p:nvPr/>
        </p:nvGrpSpPr>
        <p:grpSpPr>
          <a:xfrm>
            <a:off x="4253040" y="2349360"/>
            <a:ext cx="533160" cy="901440"/>
            <a:chOff x="4253040" y="2349360"/>
            <a:chExt cx="533160" cy="901440"/>
          </a:xfrm>
        </p:grpSpPr>
        <p:sp>
          <p:nvSpPr>
            <p:cNvPr id="601" name="Line 20"/>
            <p:cNvSpPr/>
            <p:nvPr/>
          </p:nvSpPr>
          <p:spPr>
            <a:xfrm>
              <a:off x="4329000" y="28065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2" name="Text Box 21"/>
            <p:cNvSpPr/>
            <p:nvPr/>
          </p:nvSpPr>
          <p:spPr>
            <a:xfrm>
              <a:off x="4253040" y="2349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3" name="Text Box 22"/>
            <p:cNvSpPr/>
            <p:nvPr/>
          </p:nvSpPr>
          <p:spPr>
            <a:xfrm>
              <a:off x="4253040" y="27302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4" name="Text Box 23"/>
          <p:cNvSpPr/>
          <p:nvPr/>
        </p:nvSpPr>
        <p:spPr>
          <a:xfrm>
            <a:off x="0" y="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补充练习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179280" y="4762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=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=C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，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=B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说出下列判断成立的理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6" name="Text Box 25"/>
          <p:cNvSpPr/>
          <p:nvPr/>
        </p:nvSpPr>
        <p:spPr>
          <a:xfrm>
            <a:off x="539640" y="1484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①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E≌△CB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4140360" y="1484280"/>
            <a:ext cx="25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②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=∠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8" name="Text Box 27"/>
          <p:cNvSpPr/>
          <p:nvPr/>
        </p:nvSpPr>
        <p:spPr>
          <a:xfrm>
            <a:off x="5076720" y="25653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线段中点的定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5003640" y="407664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0" name="Text Box 29"/>
          <p:cNvSpPr/>
          <p:nvPr/>
        </p:nvSpPr>
        <p:spPr>
          <a:xfrm>
            <a:off x="3995640" y="36450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1" name="Text Box 30"/>
          <p:cNvSpPr/>
          <p:nvPr/>
        </p:nvSpPr>
        <p:spPr>
          <a:xfrm>
            <a:off x="3924360" y="45813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2" name="Text Box 31"/>
          <p:cNvSpPr/>
          <p:nvPr/>
        </p:nvSpPr>
        <p:spPr>
          <a:xfrm>
            <a:off x="5003640" y="458136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3" name="Text Box 32"/>
          <p:cNvSpPr/>
          <p:nvPr/>
        </p:nvSpPr>
        <p:spPr>
          <a:xfrm>
            <a:off x="3564000" y="5157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SS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1403280" y="5877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DE≌△CB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5" name="Text Box 34"/>
          <p:cNvSpPr/>
          <p:nvPr/>
        </p:nvSpPr>
        <p:spPr>
          <a:xfrm>
            <a:off x="6732720" y="5877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全等三角形对应角相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6" name="Rectangle 35"/>
          <p:cNvSpPr/>
          <p:nvPr/>
        </p:nvSpPr>
        <p:spPr>
          <a:xfrm>
            <a:off x="7058880" y="2117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已知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7" name="Group 36"/>
          <p:cNvGrpSpPr/>
          <p:nvPr/>
        </p:nvGrpSpPr>
        <p:grpSpPr>
          <a:xfrm>
            <a:off x="6300720" y="3357720"/>
            <a:ext cx="2666880" cy="1739520"/>
            <a:chOff x="6300720" y="3357720"/>
            <a:chExt cx="2666880" cy="1739520"/>
          </a:xfrm>
        </p:grpSpPr>
        <p:grpSp>
          <p:nvGrpSpPr>
            <p:cNvPr id="618" name="Group 37"/>
            <p:cNvGrpSpPr/>
            <p:nvPr/>
          </p:nvGrpSpPr>
          <p:grpSpPr>
            <a:xfrm>
              <a:off x="6529320" y="3738600"/>
              <a:ext cx="2209680" cy="837720"/>
              <a:chOff x="6529320" y="3738600"/>
              <a:chExt cx="2209680" cy="837720"/>
            </a:xfrm>
          </p:grpSpPr>
          <p:sp>
            <p:nvSpPr>
              <p:cNvPr id="619" name="Line 38"/>
              <p:cNvSpPr/>
              <p:nvPr/>
            </p:nvSpPr>
            <p:spPr>
              <a:xfrm>
                <a:off x="6529320" y="373860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0" name="Line 39"/>
              <p:cNvSpPr/>
              <p:nvPr/>
            </p:nvSpPr>
            <p:spPr>
              <a:xfrm>
                <a:off x="6986520" y="457632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1" name="Line 40"/>
              <p:cNvSpPr/>
              <p:nvPr/>
            </p:nvSpPr>
            <p:spPr>
              <a:xfrm>
                <a:off x="6529320" y="3738600"/>
                <a:ext cx="457200" cy="83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2" name="Line 41"/>
              <p:cNvSpPr/>
              <p:nvPr/>
            </p:nvSpPr>
            <p:spPr>
              <a:xfrm>
                <a:off x="8281800" y="3738600"/>
                <a:ext cx="457200" cy="83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3" name="Line 42"/>
              <p:cNvSpPr/>
              <p:nvPr/>
            </p:nvSpPr>
            <p:spPr>
              <a:xfrm>
                <a:off x="6529320" y="3738600"/>
                <a:ext cx="1371600" cy="83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4" name="Line 43"/>
              <p:cNvSpPr/>
              <p:nvPr/>
            </p:nvSpPr>
            <p:spPr>
              <a:xfrm>
                <a:off x="7367400" y="3738600"/>
                <a:ext cx="1371600" cy="83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25" name="Text Box 44"/>
            <p:cNvSpPr/>
            <p:nvPr/>
          </p:nvSpPr>
          <p:spPr>
            <a:xfrm>
              <a:off x="6681600" y="4500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6" name="Text Box 45"/>
            <p:cNvSpPr/>
            <p:nvPr/>
          </p:nvSpPr>
          <p:spPr>
            <a:xfrm>
              <a:off x="6300720" y="33577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7" name="Text Box 46"/>
            <p:cNvSpPr/>
            <p:nvPr/>
          </p:nvSpPr>
          <p:spPr>
            <a:xfrm>
              <a:off x="8434080" y="4500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8" name="Text Box 47"/>
            <p:cNvSpPr/>
            <p:nvPr/>
          </p:nvSpPr>
          <p:spPr>
            <a:xfrm>
              <a:off x="8053200" y="33577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9" name="Text Box 48"/>
            <p:cNvSpPr/>
            <p:nvPr/>
          </p:nvSpPr>
          <p:spPr>
            <a:xfrm>
              <a:off x="7138800" y="33577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0" name="Text Box 49"/>
            <p:cNvSpPr/>
            <p:nvPr/>
          </p:nvSpPr>
          <p:spPr>
            <a:xfrm>
              <a:off x="7596000" y="4576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31" name="Text Box 50"/>
          <p:cNvSpPr/>
          <p:nvPr/>
        </p:nvSpPr>
        <p:spPr>
          <a:xfrm>
            <a:off x="5003640" y="36450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457200" y="58770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② ∵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4267080" y="5877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∴ 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=∠C  (                     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Text Box 54"/>
          <p:cNvSpPr/>
          <p:nvPr/>
        </p:nvSpPr>
        <p:spPr>
          <a:xfrm>
            <a:off x="4643280" y="3645000"/>
            <a:ext cx="3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5" name="AutoShape 55"/>
          <p:cNvSpPr/>
          <p:nvPr/>
        </p:nvSpPr>
        <p:spPr>
          <a:xfrm>
            <a:off x="3564000" y="3789360"/>
            <a:ext cx="433440" cy="115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05"/>
                </a:lnTo>
                <a:cubicBezTo>
                  <a:pt x="10800" y="9705"/>
                  <a:pt x="5400" y="10605"/>
                  <a:pt x="0" y="10605"/>
                </a:cubicBezTo>
                <a:cubicBezTo>
                  <a:pt x="5400" y="10605"/>
                  <a:pt x="10800" y="11505"/>
                  <a:pt x="10800" y="124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7"/>
          <p:cNvSpPr/>
          <p:nvPr/>
        </p:nvSpPr>
        <p:spPr>
          <a:xfrm>
            <a:off x="1908000" y="3645000"/>
            <a:ext cx="936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2700360" y="3645000"/>
            <a:ext cx="1081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8" name="Rectangle 10"/>
          <p:cNvSpPr/>
          <p:nvPr/>
        </p:nvSpPr>
        <p:spPr>
          <a:xfrm>
            <a:off x="6300720" y="3141720"/>
            <a:ext cx="12240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△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DC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835280" y="5661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  <a:ea typeface="宋体"/>
              </a:rPr>
              <a:t>BF=D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3564000" y="5661000"/>
            <a:ext cx="1728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 Black"/>
                <a:ea typeface="宋体"/>
              </a:rPr>
              <a:t>或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  <a:ea typeface="宋体"/>
              </a:rPr>
              <a:t>BD=F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1" name="AutoShape 14"/>
          <p:cNvSpPr/>
          <p:nvPr/>
        </p:nvSpPr>
        <p:spPr>
          <a:xfrm>
            <a:off x="1979640" y="2852640"/>
            <a:ext cx="87120" cy="1079640"/>
          </a:xfrm>
          <a:custGeom>
            <a:avLst/>
            <a:gdLst>
              <a:gd name="textAreaLeft" fmla="*/ 55800 w 87120"/>
              <a:gd name="textAreaRight" fmla="*/ 87480 w 8712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42" name="Group 16"/>
          <p:cNvGrpSpPr/>
          <p:nvPr/>
        </p:nvGrpSpPr>
        <p:grpSpPr>
          <a:xfrm>
            <a:off x="5796000" y="1628280"/>
            <a:ext cx="2501640" cy="936720"/>
            <a:chOff x="5796000" y="1628280"/>
            <a:chExt cx="2501640" cy="936720"/>
          </a:xfrm>
        </p:grpSpPr>
        <p:sp>
          <p:nvSpPr>
            <p:cNvPr id="643" name="Line 17"/>
            <p:cNvSpPr/>
            <p:nvPr/>
          </p:nvSpPr>
          <p:spPr>
            <a:xfrm flipH="1">
              <a:off x="5804280" y="1632960"/>
              <a:ext cx="623520" cy="93204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4" name="Line 18"/>
            <p:cNvSpPr/>
            <p:nvPr/>
          </p:nvSpPr>
          <p:spPr>
            <a:xfrm flipV="1">
              <a:off x="5796000" y="2556360"/>
              <a:ext cx="2484360" cy="43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5" name="Line 19"/>
            <p:cNvSpPr/>
            <p:nvPr/>
          </p:nvSpPr>
          <p:spPr>
            <a:xfrm>
              <a:off x="6428160" y="1632960"/>
              <a:ext cx="1869480" cy="93204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6" name="Line 20"/>
            <p:cNvSpPr/>
            <p:nvPr/>
          </p:nvSpPr>
          <p:spPr>
            <a:xfrm flipV="1">
              <a:off x="5796000" y="1628280"/>
              <a:ext cx="1869840" cy="93204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7" name="Line 21"/>
            <p:cNvSpPr/>
            <p:nvPr/>
          </p:nvSpPr>
          <p:spPr>
            <a:xfrm flipH="1" flipV="1">
              <a:off x="7665840" y="1628280"/>
              <a:ext cx="622800" cy="93204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48" name="Text Box 22"/>
          <p:cNvSpPr/>
          <p:nvPr/>
        </p:nvSpPr>
        <p:spPr>
          <a:xfrm>
            <a:off x="5940360" y="1413000"/>
            <a:ext cx="504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黑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5364000" y="2492280"/>
            <a:ext cx="5032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8244000" y="2421000"/>
            <a:ext cx="5760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7667640" y="1484280"/>
            <a:ext cx="5763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2" name="Text Box 27"/>
          <p:cNvSpPr/>
          <p:nvPr/>
        </p:nvSpPr>
        <p:spPr>
          <a:xfrm>
            <a:off x="468360" y="1916280"/>
            <a:ext cx="4753080" cy="2837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解： 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BC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△DC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理由如下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B = C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C = B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=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3" name="Rectangle 28"/>
          <p:cNvSpPr/>
          <p:nvPr/>
        </p:nvSpPr>
        <p:spPr>
          <a:xfrm>
            <a:off x="4890600" y="3141720"/>
            <a:ext cx="39952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BD  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         ）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4" name="Text Box 30"/>
          <p:cNvSpPr/>
          <p:nvPr/>
        </p:nvSpPr>
        <p:spPr>
          <a:xfrm>
            <a:off x="7272360" y="3141720"/>
            <a:ext cx="1871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S S S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5" name="Rectangle 31"/>
          <p:cNvSpPr/>
          <p:nvPr/>
        </p:nvSpPr>
        <p:spPr>
          <a:xfrm>
            <a:off x="755640" y="734400"/>
            <a:ext cx="75963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如图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B=C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=B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否全等？试说明理由。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6" name="Rectangle 33"/>
          <p:cNvSpPr/>
          <p:nvPr/>
        </p:nvSpPr>
        <p:spPr>
          <a:xfrm>
            <a:off x="179280" y="4023000"/>
            <a:ext cx="676908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）如图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F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是线段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BC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上的两点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B=C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F=D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要使△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BF≌△ECD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还需要条件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?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          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57" name="Group 34"/>
          <p:cNvGrpSpPr/>
          <p:nvPr/>
        </p:nvGrpSpPr>
        <p:grpSpPr>
          <a:xfrm>
            <a:off x="6443640" y="4581360"/>
            <a:ext cx="2383920" cy="1008000"/>
            <a:chOff x="6443640" y="4581360"/>
            <a:chExt cx="2383920" cy="1008000"/>
          </a:xfrm>
        </p:grpSpPr>
        <p:sp>
          <p:nvSpPr>
            <p:cNvPr id="658" name="Line 35"/>
            <p:cNvSpPr/>
            <p:nvPr/>
          </p:nvSpPr>
          <p:spPr>
            <a:xfrm flipH="1">
              <a:off x="6448680" y="4586040"/>
              <a:ext cx="396360" cy="10033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9" name="Line 36"/>
            <p:cNvSpPr/>
            <p:nvPr/>
          </p:nvSpPr>
          <p:spPr>
            <a:xfrm>
              <a:off x="6443640" y="5584320"/>
              <a:ext cx="23788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0" name="Line 37"/>
            <p:cNvSpPr/>
            <p:nvPr/>
          </p:nvSpPr>
          <p:spPr>
            <a:xfrm>
              <a:off x="6845400" y="4586040"/>
              <a:ext cx="1189080" cy="10033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1" name="Line 38"/>
            <p:cNvSpPr/>
            <p:nvPr/>
          </p:nvSpPr>
          <p:spPr>
            <a:xfrm flipV="1">
              <a:off x="7236360" y="4581360"/>
              <a:ext cx="1189080" cy="100296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2" name="Line 39"/>
            <p:cNvSpPr/>
            <p:nvPr/>
          </p:nvSpPr>
          <p:spPr>
            <a:xfrm flipH="1" flipV="1">
              <a:off x="8431560" y="4585680"/>
              <a:ext cx="396000" cy="10033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63" name="Text Box 40"/>
          <p:cNvSpPr/>
          <p:nvPr/>
        </p:nvSpPr>
        <p:spPr>
          <a:xfrm>
            <a:off x="6372360" y="4149720"/>
            <a:ext cx="7189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4" name="Text Box 41"/>
          <p:cNvSpPr/>
          <p:nvPr/>
        </p:nvSpPr>
        <p:spPr>
          <a:xfrm>
            <a:off x="7956720" y="4149720"/>
            <a:ext cx="7905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Narrow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5" name="Rectangle 42"/>
          <p:cNvSpPr/>
          <p:nvPr/>
        </p:nvSpPr>
        <p:spPr>
          <a:xfrm>
            <a:off x="6370560" y="4756680"/>
            <a:ext cx="2773440" cy="1922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宋体"/>
                <a:ea typeface="宋体"/>
              </a:rPr>
              <a:t>B    D    F   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6" name="Line 46"/>
          <p:cNvSpPr/>
          <p:nvPr/>
        </p:nvSpPr>
        <p:spPr>
          <a:xfrm>
            <a:off x="3708360" y="3357720"/>
            <a:ext cx="863640" cy="0"/>
          </a:xfrm>
          <a:prstGeom prst="line">
            <a:avLst/>
          </a:prstGeom>
          <a:ln w="57240">
            <a:solidFill>
              <a:srgbClr val="0000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4"/>
          <p:cNvSpPr/>
          <p:nvPr/>
        </p:nvSpPr>
        <p:spPr>
          <a:xfrm>
            <a:off x="2556000" y="62064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小结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611280" y="28526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边对应相等的两个三角形全等（边边边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S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684360" y="4292640"/>
            <a:ext cx="799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书写格式：①准备条件；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全等书写的三步骤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539640" y="1484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知道三角形三条边的长度怎样画三角形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"/>
          <p:cNvSpPr/>
          <p:nvPr/>
        </p:nvSpPr>
        <p:spPr>
          <a:xfrm>
            <a:off x="1332000" y="29264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习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1.2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复习巩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2" name="TextBox 4"/>
          <p:cNvSpPr/>
          <p:nvPr/>
        </p:nvSpPr>
        <p:spPr>
          <a:xfrm>
            <a:off x="900000" y="1557360"/>
            <a:ext cx="45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作业布置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3"/>
          <p:cNvSpPr/>
          <p:nvPr/>
        </p:nvSpPr>
        <p:spPr>
          <a:xfrm>
            <a:off x="1447920" y="47242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B=DE      ② BC=EF     ③ CA=FD    ④ ∠A= ∠D  ⑤ ∠B=∠E ⑥ ∠C= ∠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01" name="Group 23"/>
          <p:cNvGrpSpPr/>
          <p:nvPr/>
        </p:nvGrpSpPr>
        <p:grpSpPr>
          <a:xfrm>
            <a:off x="838080" y="2637000"/>
            <a:ext cx="3353040" cy="1983600"/>
            <a:chOff x="838080" y="2637000"/>
            <a:chExt cx="3353040" cy="1983600"/>
          </a:xfrm>
        </p:grpSpPr>
        <p:sp>
          <p:nvSpPr>
            <p:cNvPr id="402" name="Line 16"/>
            <p:cNvSpPr/>
            <p:nvPr/>
          </p:nvSpPr>
          <p:spPr>
            <a:xfrm flipH="1">
              <a:off x="1371240" y="301788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3" name="Line 17"/>
            <p:cNvSpPr/>
            <p:nvPr/>
          </p:nvSpPr>
          <p:spPr>
            <a:xfrm>
              <a:off x="1371600" y="423720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4" name="Line 19"/>
            <p:cNvSpPr/>
            <p:nvPr/>
          </p:nvSpPr>
          <p:spPr>
            <a:xfrm>
              <a:off x="2057400" y="3017880"/>
              <a:ext cx="1676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5" name="Text Box 20"/>
            <p:cNvSpPr/>
            <p:nvPr/>
          </p:nvSpPr>
          <p:spPr>
            <a:xfrm>
              <a:off x="1676520" y="2637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6" name="Text Box 21"/>
            <p:cNvSpPr/>
            <p:nvPr/>
          </p:nvSpPr>
          <p:spPr>
            <a:xfrm>
              <a:off x="838080" y="4160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7" name="Text Box 22"/>
            <p:cNvSpPr/>
            <p:nvPr/>
          </p:nvSpPr>
          <p:spPr>
            <a:xfrm>
              <a:off x="3429000" y="4160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8" name="Group 31"/>
          <p:cNvGrpSpPr/>
          <p:nvPr/>
        </p:nvGrpSpPr>
        <p:grpSpPr>
          <a:xfrm>
            <a:off x="4495680" y="2708280"/>
            <a:ext cx="3353040" cy="1983600"/>
            <a:chOff x="4495680" y="2708280"/>
            <a:chExt cx="3353040" cy="1983600"/>
          </a:xfrm>
        </p:grpSpPr>
        <p:sp>
          <p:nvSpPr>
            <p:cNvPr id="409" name="Line 25"/>
            <p:cNvSpPr/>
            <p:nvPr/>
          </p:nvSpPr>
          <p:spPr>
            <a:xfrm flipH="1">
              <a:off x="5028840" y="308916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0" name="Line 26"/>
            <p:cNvSpPr/>
            <p:nvPr/>
          </p:nvSpPr>
          <p:spPr>
            <a:xfrm>
              <a:off x="5029200" y="430848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5715000" y="3089160"/>
              <a:ext cx="1676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2" name="Text Box 28"/>
            <p:cNvSpPr/>
            <p:nvPr/>
          </p:nvSpPr>
          <p:spPr>
            <a:xfrm>
              <a:off x="5334120" y="2708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4495680" y="42321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4" name="Text Box 30"/>
            <p:cNvSpPr/>
            <p:nvPr/>
          </p:nvSpPr>
          <p:spPr>
            <a:xfrm>
              <a:off x="7086600" y="42321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15" name="Text Box 32"/>
          <p:cNvSpPr/>
          <p:nvPr/>
        </p:nvSpPr>
        <p:spPr>
          <a:xfrm>
            <a:off x="2362320" y="380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 什么叫全等三角形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6" name="Text Box 33"/>
          <p:cNvSpPr/>
          <p:nvPr/>
        </p:nvSpPr>
        <p:spPr>
          <a:xfrm>
            <a:off x="1547640" y="121932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a5644e"/>
                </a:solidFill>
                <a:uFillTx/>
                <a:latin typeface="Times New Roman"/>
                <a:ea typeface="宋体"/>
              </a:rPr>
              <a:t>能够完全重合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的两个三角形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全等三角形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Text Box 34"/>
          <p:cNvSpPr/>
          <p:nvPr/>
        </p:nvSpPr>
        <p:spPr>
          <a:xfrm>
            <a:off x="1066680" y="1989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 全等三角形有什么性质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8" name="TextBox 22"/>
          <p:cNvSpPr/>
          <p:nvPr/>
        </p:nvSpPr>
        <p:spPr>
          <a:xfrm>
            <a:off x="0" y="1890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知识回顾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4"/>
          <p:cNvSpPr/>
          <p:nvPr/>
        </p:nvSpPr>
        <p:spPr>
          <a:xfrm>
            <a:off x="0" y="0"/>
            <a:ext cx="31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情境问题</a:t>
            </a:r>
            <a:r>
              <a:rPr b="0" lang="en-US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: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95280" y="981000"/>
            <a:ext cx="739152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明家的衣橱上镶有两块全等的三角形玻璃装饰物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其中一块被打碎了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妈妈让小明到玻璃店配一块回来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你说说小明该怎么办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4"/>
          <p:cNvSpPr/>
          <p:nvPr/>
        </p:nvSpPr>
        <p:spPr>
          <a:xfrm>
            <a:off x="1143000" y="838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给一个条件（一组对应边相等或一组对应角相等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066680" y="1523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给一条边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23" name="Group 37"/>
          <p:cNvGrpSpPr/>
          <p:nvPr/>
        </p:nvGrpSpPr>
        <p:grpSpPr>
          <a:xfrm>
            <a:off x="1371600" y="2362320"/>
            <a:ext cx="5715000" cy="1218960"/>
            <a:chOff x="1371600" y="2362320"/>
            <a:chExt cx="5715000" cy="1218960"/>
          </a:xfrm>
        </p:grpSpPr>
        <p:sp>
          <p:nvSpPr>
            <p:cNvPr id="424" name="Line 8"/>
            <p:cNvSpPr/>
            <p:nvPr/>
          </p:nvSpPr>
          <p:spPr>
            <a:xfrm>
              <a:off x="1371600" y="35812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5" name="Line 9"/>
            <p:cNvSpPr/>
            <p:nvPr/>
          </p:nvSpPr>
          <p:spPr>
            <a:xfrm>
              <a:off x="3581280" y="35812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 flipV="1">
              <a:off x="1371600" y="2362320"/>
              <a:ext cx="838080" cy="1218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7" name="Line 11"/>
            <p:cNvSpPr/>
            <p:nvPr/>
          </p:nvSpPr>
          <p:spPr>
            <a:xfrm>
              <a:off x="2209680" y="2362320"/>
              <a:ext cx="609840" cy="1218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8" name="Line 12"/>
            <p:cNvSpPr/>
            <p:nvPr/>
          </p:nvSpPr>
          <p:spPr>
            <a:xfrm flipH="1" flipV="1">
              <a:off x="3276720" y="2819520"/>
              <a:ext cx="30456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9" name="Line 13"/>
            <p:cNvSpPr/>
            <p:nvPr/>
          </p:nvSpPr>
          <p:spPr>
            <a:xfrm>
              <a:off x="3276720" y="2819520"/>
              <a:ext cx="175248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0" name="Line 14"/>
            <p:cNvSpPr/>
            <p:nvPr/>
          </p:nvSpPr>
          <p:spPr>
            <a:xfrm>
              <a:off x="5638680" y="35812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1" name="Line 16"/>
            <p:cNvSpPr/>
            <p:nvPr/>
          </p:nvSpPr>
          <p:spPr>
            <a:xfrm flipV="1">
              <a:off x="5638680" y="2666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2" name="Line 17"/>
            <p:cNvSpPr/>
            <p:nvPr/>
          </p:nvSpPr>
          <p:spPr>
            <a:xfrm>
              <a:off x="5638680" y="266688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33" name="Text Box 19"/>
          <p:cNvSpPr/>
          <p:nvPr/>
        </p:nvSpPr>
        <p:spPr>
          <a:xfrm>
            <a:off x="1143000" y="3962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给一个角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34" name="Group 47"/>
          <p:cNvGrpSpPr/>
          <p:nvPr/>
        </p:nvGrpSpPr>
        <p:grpSpPr>
          <a:xfrm>
            <a:off x="1447920" y="4647960"/>
            <a:ext cx="5790960" cy="1374480"/>
            <a:chOff x="1447920" y="4647960"/>
            <a:chExt cx="5790960" cy="1374480"/>
          </a:xfrm>
        </p:grpSpPr>
        <p:sp>
          <p:nvSpPr>
            <p:cNvPr id="435" name="Line 28"/>
            <p:cNvSpPr/>
            <p:nvPr/>
          </p:nvSpPr>
          <p:spPr>
            <a:xfrm flipV="1">
              <a:off x="3581280" y="4647960"/>
              <a:ext cx="99072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 flipH="1">
              <a:off x="4495680" y="4648320"/>
              <a:ext cx="76320" cy="129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7" name="Line 21"/>
            <p:cNvSpPr/>
            <p:nvPr/>
          </p:nvSpPr>
          <p:spPr>
            <a:xfrm>
              <a:off x="1447920" y="594396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8" name="Line 23"/>
            <p:cNvSpPr/>
            <p:nvPr/>
          </p:nvSpPr>
          <p:spPr>
            <a:xfrm>
              <a:off x="3581280" y="594396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 flipV="1">
              <a:off x="1447920" y="472428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0" name="Line 27"/>
            <p:cNvSpPr/>
            <p:nvPr/>
          </p:nvSpPr>
          <p:spPr>
            <a:xfrm>
              <a:off x="2133720" y="4724640"/>
              <a:ext cx="83808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1" name="Line 34"/>
            <p:cNvSpPr/>
            <p:nvPr/>
          </p:nvSpPr>
          <p:spPr>
            <a:xfrm>
              <a:off x="5715000" y="594396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2" name="Line 35"/>
            <p:cNvSpPr/>
            <p:nvPr/>
          </p:nvSpPr>
          <p:spPr>
            <a:xfrm flipV="1">
              <a:off x="5715000" y="5334120"/>
              <a:ext cx="30492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3" name="Line 36"/>
            <p:cNvSpPr/>
            <p:nvPr/>
          </p:nvSpPr>
          <p:spPr>
            <a:xfrm>
              <a:off x="6019920" y="5334120"/>
              <a:ext cx="1218960" cy="609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4" name="Text Box 39"/>
            <p:cNvSpPr/>
            <p:nvPr/>
          </p:nvSpPr>
          <p:spPr>
            <a:xfrm>
              <a:off x="57913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°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5" name="Text Box 40"/>
            <p:cNvSpPr/>
            <p:nvPr/>
          </p:nvSpPr>
          <p:spPr>
            <a:xfrm>
              <a:off x="365760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°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6" name="Text Box 41"/>
            <p:cNvSpPr/>
            <p:nvPr/>
          </p:nvSpPr>
          <p:spPr>
            <a:xfrm>
              <a:off x="1600200" y="5562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°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47" name="Text Box 48"/>
          <p:cNvSpPr/>
          <p:nvPr/>
        </p:nvSpPr>
        <p:spPr>
          <a:xfrm>
            <a:off x="324000" y="189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探究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/>
          <p:cNvSpPr/>
          <p:nvPr/>
        </p:nvSpPr>
        <p:spPr>
          <a:xfrm>
            <a:off x="685800" y="228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给出两个条件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1295280" y="990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066680" y="914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边一内角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1143000" y="2743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内角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1066680" y="4648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边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3" name="Group 60"/>
          <p:cNvGrpSpPr/>
          <p:nvPr/>
        </p:nvGrpSpPr>
        <p:grpSpPr>
          <a:xfrm>
            <a:off x="1676520" y="1371240"/>
            <a:ext cx="5715000" cy="1222200"/>
            <a:chOff x="1676520" y="1371240"/>
            <a:chExt cx="5715000" cy="1222200"/>
          </a:xfrm>
        </p:grpSpPr>
        <p:sp>
          <p:nvSpPr>
            <p:cNvPr id="454" name="Line 10"/>
            <p:cNvSpPr/>
            <p:nvPr/>
          </p:nvSpPr>
          <p:spPr>
            <a:xfrm>
              <a:off x="1676520" y="2514600"/>
              <a:ext cx="137160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5" name="Line 14"/>
            <p:cNvSpPr/>
            <p:nvPr/>
          </p:nvSpPr>
          <p:spPr>
            <a:xfrm flipV="1">
              <a:off x="1676520" y="175212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6" name="Line 17"/>
            <p:cNvSpPr/>
            <p:nvPr/>
          </p:nvSpPr>
          <p:spPr>
            <a:xfrm>
              <a:off x="6019920" y="2514600"/>
              <a:ext cx="137160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7" name="Line 18"/>
            <p:cNvSpPr/>
            <p:nvPr/>
          </p:nvSpPr>
          <p:spPr>
            <a:xfrm flipV="1">
              <a:off x="6019920" y="160020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58" name="Group 24"/>
            <p:cNvGrpSpPr/>
            <p:nvPr/>
          </p:nvGrpSpPr>
          <p:grpSpPr>
            <a:xfrm>
              <a:off x="3809880" y="1371240"/>
              <a:ext cx="1752840" cy="1143360"/>
              <a:chOff x="3809880" y="1371240"/>
              <a:chExt cx="1752840" cy="1143360"/>
            </a:xfrm>
          </p:grpSpPr>
          <p:sp>
            <p:nvSpPr>
              <p:cNvPr id="459" name="Line 20"/>
              <p:cNvSpPr/>
              <p:nvPr/>
            </p:nvSpPr>
            <p:spPr>
              <a:xfrm>
                <a:off x="3809880" y="2514600"/>
                <a:ext cx="1371600" cy="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0" name="Line 21"/>
              <p:cNvSpPr/>
              <p:nvPr/>
            </p:nvSpPr>
            <p:spPr>
              <a:xfrm flipV="1">
                <a:off x="3809880" y="1371240"/>
                <a:ext cx="175284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61" name="Line 22"/>
            <p:cNvSpPr/>
            <p:nvPr/>
          </p:nvSpPr>
          <p:spPr>
            <a:xfrm>
              <a:off x="2819520" y="175248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2" name="Line 23"/>
            <p:cNvSpPr/>
            <p:nvPr/>
          </p:nvSpPr>
          <p:spPr>
            <a:xfrm flipH="1">
              <a:off x="5181120" y="1371600"/>
              <a:ext cx="3812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3" name="Line 25"/>
            <p:cNvSpPr/>
            <p:nvPr/>
          </p:nvSpPr>
          <p:spPr>
            <a:xfrm>
              <a:off x="7391520" y="1600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4" name="Text Box 27"/>
            <p:cNvSpPr/>
            <p:nvPr/>
          </p:nvSpPr>
          <p:spPr>
            <a:xfrm>
              <a:off x="6324480" y="21337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°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5" name="Text Box 31"/>
            <p:cNvSpPr/>
            <p:nvPr/>
          </p:nvSpPr>
          <p:spPr>
            <a:xfrm>
              <a:off x="4114800" y="2133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°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6" name="Text Box 32"/>
            <p:cNvSpPr/>
            <p:nvPr/>
          </p:nvSpPr>
          <p:spPr>
            <a:xfrm>
              <a:off x="1981080" y="21337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°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7" name="Group 61"/>
          <p:cNvGrpSpPr/>
          <p:nvPr/>
        </p:nvGrpSpPr>
        <p:grpSpPr>
          <a:xfrm>
            <a:off x="1676520" y="3124080"/>
            <a:ext cx="4876560" cy="1297800"/>
            <a:chOff x="1676520" y="3124080"/>
            <a:chExt cx="4876560" cy="1297800"/>
          </a:xfrm>
        </p:grpSpPr>
        <p:sp>
          <p:nvSpPr>
            <p:cNvPr id="468" name="Line 34"/>
            <p:cNvSpPr/>
            <p:nvPr/>
          </p:nvSpPr>
          <p:spPr>
            <a:xfrm>
              <a:off x="1676520" y="434304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Line 35"/>
            <p:cNvSpPr/>
            <p:nvPr/>
          </p:nvSpPr>
          <p:spPr>
            <a:xfrm flipV="1">
              <a:off x="1676520" y="3581280"/>
              <a:ext cx="99036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0" name="Line 36"/>
            <p:cNvSpPr/>
            <p:nvPr/>
          </p:nvSpPr>
          <p:spPr>
            <a:xfrm>
              <a:off x="2666880" y="3581280"/>
              <a:ext cx="45720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1" name="Line 39"/>
            <p:cNvSpPr/>
            <p:nvPr/>
          </p:nvSpPr>
          <p:spPr>
            <a:xfrm>
              <a:off x="4267080" y="4343040"/>
              <a:ext cx="22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Line 40"/>
            <p:cNvSpPr/>
            <p:nvPr/>
          </p:nvSpPr>
          <p:spPr>
            <a:xfrm flipV="1">
              <a:off x="4267080" y="3124080"/>
              <a:ext cx="151128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3" name="Line 41"/>
            <p:cNvSpPr/>
            <p:nvPr/>
          </p:nvSpPr>
          <p:spPr>
            <a:xfrm>
              <a:off x="5778360" y="3124080"/>
              <a:ext cx="69876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4" name="Text Box 42"/>
            <p:cNvSpPr/>
            <p:nvPr/>
          </p:nvSpPr>
          <p:spPr>
            <a:xfrm>
              <a:off x="1905120" y="39621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°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5" name="Text Box 43"/>
            <p:cNvSpPr/>
            <p:nvPr/>
          </p:nvSpPr>
          <p:spPr>
            <a:xfrm>
              <a:off x="4495680" y="39621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°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6" name="Text Box 44"/>
            <p:cNvSpPr/>
            <p:nvPr/>
          </p:nvSpPr>
          <p:spPr>
            <a:xfrm>
              <a:off x="5715000" y="38858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0°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7" name="Text Box 45"/>
            <p:cNvSpPr/>
            <p:nvPr/>
          </p:nvSpPr>
          <p:spPr>
            <a:xfrm>
              <a:off x="2438280" y="39621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0°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8" name="Group 62"/>
          <p:cNvGrpSpPr/>
          <p:nvPr/>
        </p:nvGrpSpPr>
        <p:grpSpPr>
          <a:xfrm>
            <a:off x="1066680" y="5333760"/>
            <a:ext cx="6095880" cy="1145520"/>
            <a:chOff x="1066680" y="5333760"/>
            <a:chExt cx="6095880" cy="1145520"/>
          </a:xfrm>
        </p:grpSpPr>
        <p:sp>
          <p:nvSpPr>
            <p:cNvPr id="479" name="Text Box 53"/>
            <p:cNvSpPr/>
            <p:nvPr/>
          </p:nvSpPr>
          <p:spPr>
            <a:xfrm>
              <a:off x="1066680" y="5639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cm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0" name="Line 46"/>
            <p:cNvSpPr/>
            <p:nvPr/>
          </p:nvSpPr>
          <p:spPr>
            <a:xfrm>
              <a:off x="1904760" y="6096240"/>
              <a:ext cx="160020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1" name="Line 47"/>
            <p:cNvSpPr/>
            <p:nvPr/>
          </p:nvSpPr>
          <p:spPr>
            <a:xfrm>
              <a:off x="5562360" y="6096240"/>
              <a:ext cx="160020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2" name="Line 48"/>
            <p:cNvSpPr/>
            <p:nvPr/>
          </p:nvSpPr>
          <p:spPr>
            <a:xfrm flipH="1" flipV="1">
              <a:off x="1600200" y="5333760"/>
              <a:ext cx="304560" cy="76212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3" name="Line 49"/>
            <p:cNvSpPr/>
            <p:nvPr/>
          </p:nvSpPr>
          <p:spPr>
            <a:xfrm flipV="1">
              <a:off x="5562360" y="5333760"/>
              <a:ext cx="0" cy="76212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4" name="Line 50"/>
            <p:cNvSpPr/>
            <p:nvPr/>
          </p:nvSpPr>
          <p:spPr>
            <a:xfrm>
              <a:off x="1600200" y="5334120"/>
              <a:ext cx="1904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5" name="Line 51"/>
            <p:cNvSpPr/>
            <p:nvPr/>
          </p:nvSpPr>
          <p:spPr>
            <a:xfrm>
              <a:off x="5562360" y="533412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6" name="Text Box 54"/>
            <p:cNvSpPr/>
            <p:nvPr/>
          </p:nvSpPr>
          <p:spPr>
            <a:xfrm>
              <a:off x="4952880" y="5639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cm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7" name="Text Box 55"/>
            <p:cNvSpPr/>
            <p:nvPr/>
          </p:nvSpPr>
          <p:spPr>
            <a:xfrm>
              <a:off x="5943600" y="6080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cm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8" name="Text Box 56"/>
            <p:cNvSpPr/>
            <p:nvPr/>
          </p:nvSpPr>
          <p:spPr>
            <a:xfrm>
              <a:off x="2286000" y="6080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cm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9" name="Text Box 59"/>
          <p:cNvSpPr/>
          <p:nvPr/>
        </p:nvSpPr>
        <p:spPr>
          <a:xfrm>
            <a:off x="6553080" y="3124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可以发现按这些条件画的三角形都不能保证一定全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6"/>
          <p:cNvSpPr/>
          <p:nvPr/>
        </p:nvSpPr>
        <p:spPr>
          <a:xfrm>
            <a:off x="762120" y="34290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611280" y="3645000"/>
            <a:ext cx="7848360" cy="106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三边对应相等的两个三角形全等（可以简写为“边边边”或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SS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468360" y="981000"/>
            <a:ext cx="75708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已知三角形三条边分别是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4cm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5cm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7cm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画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出这个三角形，把所画的三角形分别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剪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下来，并与同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比一比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，发现什么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3" name="TextBox 8"/>
          <p:cNvSpPr/>
          <p:nvPr/>
        </p:nvSpPr>
        <p:spPr>
          <a:xfrm>
            <a:off x="179280" y="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探究新知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7"/>
          <p:cNvSpPr/>
          <p:nvPr/>
        </p:nvSpPr>
        <p:spPr>
          <a:xfrm>
            <a:off x="468360" y="564192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思考：你能用“边边边”解释三角形具有稳定性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395280" y="4437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两个三角形全等的推理过程，叫做证明三角形全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826920" y="1700280"/>
            <a:ext cx="3505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=D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C=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=F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7" name="Group 14"/>
          <p:cNvGrpSpPr/>
          <p:nvPr/>
        </p:nvGrpSpPr>
        <p:grpSpPr>
          <a:xfrm>
            <a:off x="5334120" y="152280"/>
            <a:ext cx="3352320" cy="1983600"/>
            <a:chOff x="5334120" y="152280"/>
            <a:chExt cx="3352320" cy="1983600"/>
          </a:xfrm>
        </p:grpSpPr>
        <p:sp>
          <p:nvSpPr>
            <p:cNvPr id="498" name="Line 15"/>
            <p:cNvSpPr/>
            <p:nvPr/>
          </p:nvSpPr>
          <p:spPr>
            <a:xfrm flipH="1">
              <a:off x="5867280" y="533160"/>
              <a:ext cx="68544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9" name="Line 16"/>
            <p:cNvSpPr/>
            <p:nvPr/>
          </p:nvSpPr>
          <p:spPr>
            <a:xfrm>
              <a:off x="5867280" y="175248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553080" y="533160"/>
              <a:ext cx="16761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6172200" y="15228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2" name="Text Box 19"/>
            <p:cNvSpPr/>
            <p:nvPr/>
          </p:nvSpPr>
          <p:spPr>
            <a:xfrm>
              <a:off x="5334120" y="167616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3" name="Text Box 20"/>
            <p:cNvSpPr/>
            <p:nvPr/>
          </p:nvSpPr>
          <p:spPr>
            <a:xfrm>
              <a:off x="7924680" y="16761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4" name="Group 21"/>
          <p:cNvGrpSpPr/>
          <p:nvPr/>
        </p:nvGrpSpPr>
        <p:grpSpPr>
          <a:xfrm>
            <a:off x="5486400" y="2362320"/>
            <a:ext cx="3352320" cy="1983600"/>
            <a:chOff x="5486400" y="2362320"/>
            <a:chExt cx="3352320" cy="1983600"/>
          </a:xfrm>
        </p:grpSpPr>
        <p:sp>
          <p:nvSpPr>
            <p:cNvPr id="505" name="Line 22"/>
            <p:cNvSpPr/>
            <p:nvPr/>
          </p:nvSpPr>
          <p:spPr>
            <a:xfrm flipH="1">
              <a:off x="6019560" y="2743200"/>
              <a:ext cx="68544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6" name="Line 23"/>
            <p:cNvSpPr/>
            <p:nvPr/>
          </p:nvSpPr>
          <p:spPr>
            <a:xfrm>
              <a:off x="6019560" y="396252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7" name="Line 24"/>
            <p:cNvSpPr/>
            <p:nvPr/>
          </p:nvSpPr>
          <p:spPr>
            <a:xfrm>
              <a:off x="6705360" y="2743200"/>
              <a:ext cx="16761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8" name="Text Box 25"/>
            <p:cNvSpPr/>
            <p:nvPr/>
          </p:nvSpPr>
          <p:spPr>
            <a:xfrm>
              <a:off x="6324480" y="236232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9" name="Text Box 26"/>
            <p:cNvSpPr/>
            <p:nvPr/>
          </p:nvSpPr>
          <p:spPr>
            <a:xfrm>
              <a:off x="5486400" y="388620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0" name="Text Box 27"/>
            <p:cNvSpPr/>
            <p:nvPr/>
          </p:nvSpPr>
          <p:spPr>
            <a:xfrm>
              <a:off x="8076960" y="3886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11" name="Text Box 29"/>
          <p:cNvSpPr/>
          <p:nvPr/>
        </p:nvSpPr>
        <p:spPr>
          <a:xfrm>
            <a:off x="304920" y="457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 数学语言表述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Text Box 33"/>
          <p:cNvSpPr/>
          <p:nvPr/>
        </p:nvSpPr>
        <p:spPr>
          <a:xfrm>
            <a:off x="1295280" y="11430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Text Box 35"/>
          <p:cNvSpPr/>
          <p:nvPr/>
        </p:nvSpPr>
        <p:spPr>
          <a:xfrm>
            <a:off x="457200" y="3733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 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 ≌△ 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S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TextBox 28"/>
          <p:cNvSpPr/>
          <p:nvPr/>
        </p:nvSpPr>
        <p:spPr>
          <a:xfrm>
            <a:off x="1692360" y="1700280"/>
            <a:ext cx="287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华文楷体"/>
                <a:ea typeface="华文楷体"/>
              </a:rPr>
              <a:t>{</a:t>
            </a:r>
            <a:endParaRPr b="1" lang="en-US" sz="10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5"/>
          <p:cNvSpPr/>
          <p:nvPr/>
        </p:nvSpPr>
        <p:spPr>
          <a:xfrm>
            <a:off x="1371600" y="12574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4114800" y="2971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1066680" y="1066680"/>
            <a:ext cx="716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a5644e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下图，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刚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=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连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支架。                       求证：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≌ △ AC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1476360" y="-11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9" name="Picture 10" descr="http://www.pep.com.cn/images/200410/pic_204328.jpg"/>
          <p:cNvPicPr/>
          <p:nvPr/>
        </p:nvPicPr>
        <p:blipFill>
          <a:blip r:embed="rId1"/>
          <a:srcRect l="9385" t="76396" r="66103" b="16157"/>
          <a:stretch/>
        </p:blipFill>
        <p:spPr>
          <a:xfrm>
            <a:off x="5181480" y="2286000"/>
            <a:ext cx="3657600" cy="207792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12"/>
          <p:cNvSpPr/>
          <p:nvPr/>
        </p:nvSpPr>
        <p:spPr>
          <a:xfrm>
            <a:off x="228600" y="2819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析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要证明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≌ △ A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先看这两个三角形的三条边是否对应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533520" y="4952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结论：从这题的证明中可以看出，证明是由题设（已知）出发，经过一步步的推理，最后推出结论正确的过程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2" name="TextBox 12"/>
          <p:cNvSpPr/>
          <p:nvPr/>
        </p:nvSpPr>
        <p:spPr>
          <a:xfrm>
            <a:off x="179280" y="26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应用迁移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5"/>
          <p:cNvSpPr/>
          <p:nvPr/>
        </p:nvSpPr>
        <p:spPr>
          <a:xfrm>
            <a:off x="1371600" y="16765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准备条件：证全等时要用的间接条件要先证好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1371600" y="29718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全等书写三步骤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1523880" y="38098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在哪两个三角形中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6" name="Text Box 18"/>
          <p:cNvSpPr/>
          <p:nvPr/>
        </p:nvSpPr>
        <p:spPr>
          <a:xfrm>
            <a:off x="1457280" y="4648320"/>
            <a:ext cx="59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摆出三个条件用大括号括起来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Text Box 19"/>
          <p:cNvSpPr/>
          <p:nvPr/>
        </p:nvSpPr>
        <p:spPr>
          <a:xfrm>
            <a:off x="1143000" y="5364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全等结论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Text Box 20"/>
          <p:cNvSpPr/>
          <p:nvPr/>
        </p:nvSpPr>
        <p:spPr>
          <a:xfrm>
            <a:off x="212400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的书写步骤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TextBox 10"/>
          <p:cNvSpPr/>
          <p:nvPr/>
        </p:nvSpPr>
        <p:spPr>
          <a:xfrm>
            <a:off x="34920" y="442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归纳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3:33:24Z</dcterms:created>
  <dc:creator>http://zhdduya100.taobao.com/</dc:creator>
  <dc:description>http://zhdduya100.taobao.com/</dc:description>
  <cp:keywords>http://zhdduya100.taobao.com/</cp:keywords>
  <dc:language>en-US</dc:language>
  <cp:lastModifiedBy>Administrator</cp:lastModifiedBy>
  <dcterms:modified xsi:type="dcterms:W3CDTF">2014-07-19T01:29:47Z</dcterms:modified>
  <cp:revision>41</cp:revision>
  <dc:subject>http://zhdduya100.taobao.com/</dc:subject>
  <dc:title>http://zhdduya100.taobao.com/</dc:title>
</cp:coreProperties>
</file>