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B65A6-3C4C-4D36-B350-3333CDB8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C01ED-361C-4A33-80DE-AD0D1ADE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DE834-3D0D-4C9E-8402-6D917DF9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448DB-F961-4AF5-8CA7-E8416319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A2D8-877B-43A4-9802-1DBEC5A2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94C63-6009-4A41-AA8A-0D23F39E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2C450-D4D3-42F5-98C3-574C5AE6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F0E6A-1464-4FA6-AE98-EF7D4685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7E7F-D724-4B7F-ADC5-FFC5BF3D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A3073-FFF4-423E-B105-EB09D155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F85F-3D16-4CE0-A233-6E98A855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BC0F3-F2CF-45B4-A9AC-A5FF3C42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9FEE9-2F83-4017-AB36-E6C0DF48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2686C-E82E-4EA6-ABF8-F0BD2CEB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DB498-3ED6-4C1B-8625-9E358E51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0989-C5C1-40A9-9A77-7EE7225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21906-A60D-49F7-BE11-9DEC978D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8682-02A3-4B97-A71C-54109A2E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9EE96-B49F-43B8-8EED-AC22F519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EC369-D63A-44A5-A49D-1679757C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B2C59-57C9-4123-BE7C-F3ED5C3D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DB09C-23DD-4CFC-8876-841A2F50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E8319-693F-401F-A695-6AC638B7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49EA3-D8A7-4749-8389-862BC500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84F6A-28A8-4BAF-9C12-EE9498D1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DEF2E-4498-4E70-A5B4-41508C1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207FA-820E-4755-9995-0E3F191A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9EF4E-491B-48C3-B8E0-0189AB2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09BC9-D473-40E2-AEBF-F0D268B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6271D-4CA3-4839-9E79-D30B8D2E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54F-889D-43DD-BC26-BEFA2C4E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798A7-749D-43CE-8537-10A31CD2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39858-9852-43C9-A3C5-BCFAB54A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3D38E-ADFE-4452-9743-DDD524F1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4F242-5E0D-4177-B2EE-875EEB50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5C113-DEF0-4A3E-9EE6-70F7CB45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5258B-DF4E-408F-8A48-AE8894DB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A925-18A6-4553-B317-5D98CD8F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14590-0E7B-437B-A58C-3D223955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6671D-77EE-4B5C-A256-4405791D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9531D-A2A3-4228-ABD3-D16CC2D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F11-0767-4E15-8EA4-2FF54E01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06432-8FC5-4672-A626-7E86C81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A98F5-9B15-4E4E-9195-7BE4F41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84D1B-DE7F-4E3E-9FB4-F503DBC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FE25D-4A2F-4A8A-B6A6-3BE4BB40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A259-DC7F-484B-9964-D17D890B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F62A0-1B3A-4B1B-B668-AEC37AA8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427B0-12E1-4FB4-BA1C-2CFDF9D0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300BF-BA1A-4D14-809D-582DF3D1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871B3-BC69-438C-84DF-C185DB03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DE4D5-D8AF-468F-AD4B-E356DD07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527-3106-496A-8122-8C28FE63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1EAF1-8D86-419D-9F41-62667333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9B0B9-5CE9-49F4-8B68-14DEA17E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B1184-ED11-48EA-AFBF-CD89C578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8D703-A55B-42F8-ABD8-E05B396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C4238-1067-41ED-8C75-CE944A05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E606A-6665-4A9B-A80B-78C640DC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F3A62-8E59-4305-A079-46AD3E7B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B415E-4D27-4B99-8A2B-65FF8258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186F0-1C39-4E5B-B484-7E2E119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49AB3-43DC-4BFA-B4D5-5763342A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03F-8C81-4C77-84C3-7DBB3A3E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406C5-95B7-4546-A0D4-A969CB42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D06A2-EE07-4A1D-8EC8-C3B89BC2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836D5-53CE-4254-B20E-BFA7172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47407-31F1-4BBA-9078-F43AEC4F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6C032-0B12-40DD-BD9A-41C8916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57A53-E3F3-4640-87C9-06BB7C1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96B00-551A-4F22-A7DD-B80D353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E1FB0-AD6E-458B-AD21-F174753E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356B7-86DC-478E-8035-157B1CB8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5CA-F19B-43FB-AFCC-D951C100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CD7-4701-4E98-A74A-845D8CD1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BE5-7B05-47D5-99EE-1E08121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CB8-0FCF-44AE-81C2-B3A0F6C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CE9-4DB9-4B4F-A6BE-9297B1EB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6EB-908C-4FA4-9C13-70893CB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B30-D8D8-42C8-A535-AE37FBA6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F02-0371-43D2-8667-CD5D75CB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1AD4-DB4F-43FE-AC48-71D6175B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E58A-EC79-48F2-8C12-F782592E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2C4-DEFB-4AD2-AE49-5C542C76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56C5-ADE4-43D7-BF48-7196E42C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3248-931C-4A46-BF50-373C3DF7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4779-F272-4FF7-92EA-5DD73FF6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63C-125D-43AC-A772-4346B139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6575-A21E-4943-A4B5-884DDB3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D201-679C-4377-8B52-FFCF59EB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50D5-E714-4EA1-A9E8-15D1138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CA9-6C5A-4F2E-A15D-830621B5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1EC8-FF6C-413D-A77B-67F84657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0E19-7A15-45AF-A6C1-6D9872A8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14A8-688C-4575-BB28-2BABE034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7023-BF06-4355-81EE-61B9DC4B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114B-1B06-47EC-98E1-A60FD30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B06B-9EA8-47AE-85DB-51459999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B94D-30A9-49DD-848C-6E4D0B1E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85C4-8924-4EF0-8340-D4F3892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DEEB-881A-40DD-A4FE-3A70974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E723-95D5-48C9-AB49-5DEC2DBA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3A34-2F2E-4035-9DD5-B6FACE43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0F7F-4F04-415F-A48A-A62F9A70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0FD7-1AFF-4DFA-93DF-CAE1EC16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A655-8366-4790-BB7E-3931D72D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B573-2B47-49BB-8298-A05DA51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61F8-25C5-4B9E-805E-9ACFE4DC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9F3FA-D5E7-4404-AF92-6CB20CA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5661-3C65-4843-967A-A22756D0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ECF4-D4F1-4155-9AD2-AE0E2D0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B407-E389-489F-B9AD-195941D8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3318-E8EE-4CAC-AB80-1455BB3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C550-BE6C-4300-B608-66CE8699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9C5A-F75F-4CF9-95BC-ABCD3A82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4284-5FB9-4E3B-BB4F-CDCFA7CE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9308D-7346-4CB0-A969-7C8A98D9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E0C7-E1CF-4E48-95AC-631D1406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8113-4460-4210-A0C6-E3E2825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0A3E-81CA-4B93-AA83-CF832888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B7D70-C542-4B95-8F79-371C0C59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86373-BF60-4EA1-A4D3-C9B47010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85392-53A1-4A1C-90E6-3F6AD871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B490-699B-46ED-9F88-D2A6500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5CBC-135D-4EEB-880F-24AE48F5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349A-BBAE-44C7-9876-E96B92D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6BAF-07C1-4800-91F5-FDDA303A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FAFBD-A7E2-489F-9CE3-2B570106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F7B0-C206-40E9-B24D-F519319E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D4E87-47A3-4831-9B24-C7466C2D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A374-85F3-48A2-99EA-44FFCEEB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E1A4-3335-4346-A945-D8D4F4E9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B54D1-0E42-49DF-845E-72DFF924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C4F5-C3B8-46CA-9E52-25DBC05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C96C-9AFE-4789-BBF0-A0E93BCE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60062-AD68-4F72-A551-0ADFE0A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9C08-8343-4980-B4A8-630B37A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DFB5B-082E-4473-AF2D-23666EA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12CD-DB82-481C-A869-4A543ED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93C9-0CA6-4AB0-9263-F7AE8751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901C6-6434-4E69-8CDD-81A67B65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03245-F3B3-4420-9FCA-E2C72FBB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BF968-EBA3-44AF-B055-9129B845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0CF7D-8D82-4D75-801F-9AAB5C74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C18BB-1C61-4271-9C41-BC191B2F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1389-714F-41CC-9504-6F57B79B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B64DC-773E-4382-8396-65EB5956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1142F-F333-48FE-B97D-E081EB3C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A3A6E-03B9-4D53-991F-D638F626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8EB2B-2D11-474D-817D-8FF60F5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815B-9420-4A00-89D2-9D85FC5C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E6D64-6DC9-4541-AD8E-68F8D37A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202B1-4754-422C-88CD-4ADE723B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979EA-8DC3-4506-B5A4-32EF3562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C5017-52E4-4DE3-8A10-945BED9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169DE-631E-42E8-90EB-7289A456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3122280" y="632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中学生学习报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周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6280200" y="6162840"/>
            <a:ext cx="243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家级优秀教辅读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O900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际质量管理体系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43080" y="16344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课标八年级  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4" descr="英格教育"/>
          <p:cNvPicPr/>
          <p:nvPr/>
        </p:nvPicPr>
        <p:blipFill>
          <a:blip r:embed="rId2"/>
          <a:stretch/>
        </p:blipFill>
        <p:spPr>
          <a:xfrm>
            <a:off x="0" y="6021360"/>
            <a:ext cx="1619280" cy="816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5" descr="知识改变命运"/>
          <p:cNvPicPr/>
          <p:nvPr/>
        </p:nvPicPr>
        <p:blipFill>
          <a:blip r:embed="rId3"/>
          <a:stretch/>
        </p:blipFill>
        <p:spPr>
          <a:xfrm>
            <a:off x="5435640" y="73080"/>
            <a:ext cx="3551040" cy="691920"/>
          </a:xfrm>
          <a:prstGeom prst="rect">
            <a:avLst/>
          </a:prstGeom>
          <a:ln w="0">
            <a:noFill/>
          </a:ln>
        </p:spPr>
      </p:pic>
      <p:sp>
        <p:nvSpPr>
          <p:cNvPr id="5" name="Line 1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17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20C-6B4B-4B9C-BF8F-09F51020316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5970-5EBF-4F74-B1E1-A734E25A24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1404-7835-4F86-B707-3A2BF5F3CA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5DF-65C3-4F08-9711-96D9875A54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3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6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99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BD4-95CB-4CA0-8E6D-1A41DF70A8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77F5-C19A-4E17-B9DF-CEB1375840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1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2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2FBD-4F37-4B98-8FE7-DFE03F4255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8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1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4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C650-DB38-4171-914A-7C527023E8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8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441C-0576-4E22-86DB-195446782C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3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B612-1FB7-405D-B0A2-E4DD3AFB9A1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82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8E64-F14C-46DC-84E7-02AC2D43883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6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3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EDBA-9B80-4BD8-8A3E-5EF87B0FDA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8AF-0B4A-4512-822C-6831470DE6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3"/>
          <p:cNvSpPr/>
          <p:nvPr/>
        </p:nvSpPr>
        <p:spPr>
          <a:xfrm>
            <a:off x="1619280" y="2637000"/>
            <a:ext cx="6264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形全等的判定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AutoShape 2"/>
          <p:cNvSpPr/>
          <p:nvPr/>
        </p:nvSpPr>
        <p:spPr>
          <a:xfrm>
            <a:off x="2560680" y="3306600"/>
            <a:ext cx="3184560" cy="2484720"/>
          </a:xfrm>
          <a:prstGeom prst="triangle">
            <a:avLst>
              <a:gd name="adj" fmla="val 50000"/>
            </a:avLst>
          </a:prstGeom>
          <a:solidFill>
            <a:srgbClr val="ad1f1f"/>
          </a:solidFill>
          <a:ln w="936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3"/>
          <p:cNvSpPr/>
          <p:nvPr/>
        </p:nvSpPr>
        <p:spPr>
          <a:xfrm>
            <a:off x="5729400" y="4100400"/>
            <a:ext cx="2011320" cy="1690920"/>
          </a:xfrm>
          <a:prstGeom prst="triangle">
            <a:avLst>
              <a:gd name="adj" fmla="val 50000"/>
            </a:avLst>
          </a:prstGeom>
          <a:solidFill>
            <a:srgbClr val="4e3b3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4"/>
          <p:cNvSpPr/>
          <p:nvPr/>
        </p:nvSpPr>
        <p:spPr>
          <a:xfrm>
            <a:off x="4175280" y="3306600"/>
            <a:ext cx="3612960" cy="250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2514600" y="5851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5538960" y="5805360"/>
            <a:ext cx="4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7802640" y="5622840"/>
            <a:ext cx="3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3794040" y="2941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6523200" y="374976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"/>
          <p:cNvSpPr/>
          <p:nvPr/>
        </p:nvSpPr>
        <p:spPr>
          <a:xfrm flipV="1">
            <a:off x="2575080" y="4114440"/>
            <a:ext cx="413064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11"/>
          <p:cNvSpPr/>
          <p:nvPr/>
        </p:nvSpPr>
        <p:spPr>
          <a:xfrm>
            <a:off x="884160" y="260280"/>
            <a:ext cx="7648560" cy="2640240"/>
          </a:xfrm>
          <a:prstGeom prst="cloudCallout">
            <a:avLst>
              <a:gd name="adj1" fmla="val -43754"/>
              <a:gd name="adj2" fmla="val -13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已知，如图等边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E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等 边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线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同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证：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2" descr="Q_011"/>
          <p:cNvPicPr/>
          <p:nvPr/>
        </p:nvPicPr>
        <p:blipFill>
          <a:blip r:embed="rId1"/>
          <a:stretch/>
        </p:blipFill>
        <p:spPr>
          <a:xfrm>
            <a:off x="6588000" y="1765440"/>
            <a:ext cx="82260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AutoShape 2"/>
          <p:cNvSpPr/>
          <p:nvPr/>
        </p:nvSpPr>
        <p:spPr>
          <a:xfrm rot="14400">
            <a:off x="971640" y="404280"/>
            <a:ext cx="6850080" cy="1798920"/>
          </a:xfrm>
          <a:prstGeom prst="wedgeEllipseCallout">
            <a:avLst>
              <a:gd name="adj1" fmla="val 21138"/>
              <a:gd name="adj2" fmla="val 978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已知如图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均为等边三角形，求证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385080" y="3133080"/>
            <a:ext cx="5400000" cy="3726360"/>
            <a:chOff x="3385080" y="3133080"/>
            <a:chExt cx="5400000" cy="3726360"/>
          </a:xfrm>
        </p:grpSpPr>
        <p:sp>
          <p:nvSpPr>
            <p:cNvPr id="743" name="Text Box 4"/>
            <p:cNvSpPr/>
            <p:nvPr/>
          </p:nvSpPr>
          <p:spPr>
            <a:xfrm>
              <a:off x="3598920" y="60339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3385080" y="3133080"/>
              <a:ext cx="5400000" cy="3193920"/>
              <a:chOff x="3385080" y="3133080"/>
              <a:chExt cx="5400000" cy="3193920"/>
            </a:xfrm>
          </p:grpSpPr>
          <p:sp>
            <p:nvSpPr>
              <p:cNvPr id="745" name="Text Box 6"/>
              <p:cNvSpPr/>
              <p:nvPr/>
            </p:nvSpPr>
            <p:spPr>
              <a:xfrm>
                <a:off x="6384960" y="3992400"/>
                <a:ext cx="41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7"/>
              <p:cNvSpPr/>
              <p:nvPr/>
            </p:nvSpPr>
            <p:spPr>
              <a:xfrm>
                <a:off x="7650000" y="5867280"/>
                <a:ext cx="44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8"/>
              <p:cNvSpPr/>
              <p:nvPr/>
            </p:nvSpPr>
            <p:spPr>
              <a:xfrm>
                <a:off x="4021200" y="3340080"/>
                <a:ext cx="74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9"/>
              <p:cNvSpPr/>
              <p:nvPr/>
            </p:nvSpPr>
            <p:spPr>
              <a:xfrm>
                <a:off x="7910640" y="384192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10"/>
              <p:cNvSpPr/>
              <p:nvPr/>
            </p:nvSpPr>
            <p:spPr>
              <a:xfrm>
                <a:off x="4543560" y="4559400"/>
                <a:ext cx="3017880" cy="1609560"/>
              </a:xfrm>
              <a:prstGeom prst="triangle">
                <a:avLst>
                  <a:gd name="adj" fmla="val 65019"/>
                </a:avLst>
              </a:prstGeom>
              <a:solidFill>
                <a:srgbClr val="fad8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11"/>
              <p:cNvSpPr/>
              <p:nvPr/>
            </p:nvSpPr>
            <p:spPr>
              <a:xfrm rot="3472200">
                <a:off x="6678360" y="4224240"/>
                <a:ext cx="1927080" cy="1489320"/>
              </a:xfrm>
              <a:prstGeom prst="triangle">
                <a:avLst>
                  <a:gd name="adj" fmla="val 50000"/>
                </a:avLst>
              </a:prstGeom>
              <a:solidFill>
                <a:srgbClr val="ddd98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12"/>
              <p:cNvSpPr/>
              <p:nvPr/>
            </p:nvSpPr>
            <p:spPr>
              <a:xfrm rot="19246800">
                <a:off x="3686040" y="3718080"/>
                <a:ext cx="2508480" cy="1846080"/>
              </a:xfrm>
              <a:prstGeom prst="triangle">
                <a:avLst>
                  <a:gd name="adj" fmla="val 50000"/>
                </a:avLst>
              </a:prstGeom>
              <a:solidFill>
                <a:srgbClr val="e534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13"/>
              <p:cNvSpPr/>
              <p:nvPr/>
            </p:nvSpPr>
            <p:spPr>
              <a:xfrm>
                <a:off x="4419720" y="3951360"/>
                <a:ext cx="3120840" cy="22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V="1">
                <a:off x="4572000" y="4614480"/>
                <a:ext cx="3686040" cy="155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AutoShape 15"/>
          <p:cNvSpPr/>
          <p:nvPr/>
        </p:nvSpPr>
        <p:spPr>
          <a:xfrm>
            <a:off x="1441440" y="2655720"/>
            <a:ext cx="2541600" cy="2330640"/>
          </a:xfrm>
          <a:prstGeom prst="cloudCallout">
            <a:avLst>
              <a:gd name="adj1" fmla="val -592"/>
              <a:gd name="adj2" fmla="val 89305"/>
            </a:avLst>
          </a:prstGeom>
          <a:solidFill>
            <a:srgbClr val="fad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还能写出哪些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6" descr="Q_005"/>
          <p:cNvPicPr/>
          <p:nvPr/>
        </p:nvPicPr>
        <p:blipFill>
          <a:blip r:embed="rId1"/>
          <a:stretch/>
        </p:blipFill>
        <p:spPr>
          <a:xfrm>
            <a:off x="3286080" y="3159000"/>
            <a:ext cx="2635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579600" y="1197000"/>
            <a:ext cx="76644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边角边的内容是什么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边角边的作用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</a:rPr>
              <a:t>（证明两个三角形全等，也可间接证明线段，角相等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怎样找已知条件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</a:rPr>
              <a:t>一是已知中给出的，二是图形中隐含的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</a:rPr>
              <a:t>如：公共边 、公共角、对顶角、邻补角，外角、平角等）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ad1f1f"/>
                </a:solidFill>
                <a:latin typeface="Times New Roman"/>
              </a:rPr>
              <a:t>总结：已知中</a:t>
            </a:r>
            <a:r>
              <a:rPr b="1" lang="zh-CN" sz="4000" spc="-1" strike="noStrike" u="sng">
                <a:solidFill>
                  <a:srgbClr val="ad1f1f"/>
                </a:solidFill>
                <a:uFillTx/>
                <a:latin typeface="Times New Roman"/>
              </a:rPr>
              <a:t>找</a:t>
            </a:r>
            <a:r>
              <a:rPr b="1" lang="en-US" sz="4000" spc="-1" strike="noStrike">
                <a:solidFill>
                  <a:srgbClr val="ad1f1f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ad1f1f"/>
                </a:solidFill>
                <a:latin typeface="Times New Roman"/>
              </a:rPr>
              <a:t>图形中</a:t>
            </a:r>
            <a:r>
              <a:rPr b="1" lang="zh-CN" sz="4000" spc="-1" strike="noStrike" u="sng">
                <a:solidFill>
                  <a:srgbClr val="ad1f1f"/>
                </a:solidFill>
                <a:uFillTx/>
                <a:latin typeface="Times New Roman"/>
              </a:rPr>
              <a:t>看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757" name="Group 5"/>
          <p:cNvGrpSpPr/>
          <p:nvPr/>
        </p:nvGrpSpPr>
        <p:grpSpPr>
          <a:xfrm>
            <a:off x="179280" y="189000"/>
            <a:ext cx="2881080" cy="836640"/>
            <a:chOff x="179280" y="189000"/>
            <a:chExt cx="2881080" cy="836640"/>
          </a:xfrm>
        </p:grpSpPr>
        <p:pic>
          <p:nvPicPr>
            <p:cNvPr id="758" name="Picture 6" descr="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7"/>
            <p:cNvSpPr/>
            <p:nvPr/>
          </p:nvSpPr>
          <p:spPr>
            <a:xfrm>
              <a:off x="914040" y="221040"/>
              <a:ext cx="2146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小结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971640" y="1817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一节我们探究了两个三角形满足三条边对应相等时，这两个三角形全等，你认为还有其他情况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4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45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6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思考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704880" y="1413000"/>
            <a:ext cx="7970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任意画出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画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画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剪下，放到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它们全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179280" y="189000"/>
            <a:ext cx="2881080" cy="836640"/>
            <a:chOff x="179280" y="189000"/>
            <a:chExt cx="2881080" cy="836640"/>
          </a:xfrm>
        </p:grpSpPr>
        <p:pic>
          <p:nvPicPr>
            <p:cNvPr id="649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Text Box 6"/>
            <p:cNvSpPr/>
            <p:nvPr/>
          </p:nvSpPr>
          <p:spPr>
            <a:xfrm>
              <a:off x="914040" y="221040"/>
              <a:ext cx="2146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探究</a:t>
              </a:r>
              <a:r>
                <a:rPr b="1" lang="en-US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395280" y="1058760"/>
            <a:ext cx="677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任意 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画一个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53960" y="25369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画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670040" y="2546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673280" y="307980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截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截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712880" y="4368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521000" y="4997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所要画的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00000" y="5851440"/>
            <a:ext cx="54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：通过实验可以发现什么事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9"/>
          <p:cNvGrpSpPr/>
          <p:nvPr/>
        </p:nvGrpSpPr>
        <p:grpSpPr>
          <a:xfrm>
            <a:off x="250920" y="115920"/>
            <a:ext cx="2881080" cy="836640"/>
            <a:chOff x="250920" y="115920"/>
            <a:chExt cx="2881080" cy="836640"/>
          </a:xfrm>
        </p:grpSpPr>
        <p:pic>
          <p:nvPicPr>
            <p:cNvPr id="659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1592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Text Box 11"/>
            <p:cNvSpPr/>
            <p:nvPr/>
          </p:nvSpPr>
          <p:spPr>
            <a:xfrm>
              <a:off x="985680" y="147960"/>
              <a:ext cx="2146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画法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857960" y="1608120"/>
            <a:ext cx="54583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反映的规律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两边和它们的夹角对应相等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两个三角形全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简写成“边角边”或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S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179280" y="189000"/>
            <a:ext cx="2881080" cy="836640"/>
            <a:chOff x="179280" y="189000"/>
            <a:chExt cx="2881080" cy="836640"/>
          </a:xfrm>
        </p:grpSpPr>
        <p:pic>
          <p:nvPicPr>
            <p:cNvPr id="663" name="Picture 4" descr="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5"/>
            <p:cNvSpPr/>
            <p:nvPr/>
          </p:nvSpPr>
          <p:spPr>
            <a:xfrm>
              <a:off x="914040" y="221040"/>
              <a:ext cx="2146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规律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179280" y="907920"/>
            <a:ext cx="85694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有一池塘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要测池塘端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的距离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可先在平地上取一个可以直接到达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的点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，连结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并延长到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使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CD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CA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连结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并延长到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使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CE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CB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连结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DE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那么量出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的长，就是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4e3b3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4e3b3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的距离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</a:rPr>
              <a:t>为什么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3414600" y="3645000"/>
            <a:ext cx="5729040" cy="2761200"/>
            <a:chOff x="3414600" y="3645000"/>
            <a:chExt cx="5729040" cy="2761200"/>
          </a:xfrm>
        </p:grpSpPr>
        <p:sp>
          <p:nvSpPr>
            <p:cNvPr id="667" name="AutoShape 5"/>
            <p:cNvSpPr/>
            <p:nvPr/>
          </p:nvSpPr>
          <p:spPr>
            <a:xfrm rot="10800000">
              <a:off x="5531400" y="4217040"/>
              <a:ext cx="3174480" cy="1026000"/>
            </a:xfrm>
            <a:prstGeom prst="triangle">
              <a:avLst>
                <a:gd name="adj" fmla="val 75009"/>
              </a:avLst>
            </a:prstGeom>
            <a:solidFill>
              <a:srgbClr val="4e3b3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6"/>
            <p:cNvSpPr/>
            <p:nvPr/>
          </p:nvSpPr>
          <p:spPr>
            <a:xfrm rot="223800">
              <a:off x="3916800" y="5187960"/>
              <a:ext cx="3194640" cy="1115280"/>
            </a:xfrm>
            <a:prstGeom prst="triangle">
              <a:avLst>
                <a:gd name="adj" fmla="val 75009"/>
              </a:avLst>
            </a:prstGeom>
            <a:solidFill>
              <a:srgbClr val="4e3b3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4973400" y="4002480"/>
              <a:ext cx="71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8748360" y="405216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9"/>
            <p:cNvSpPr/>
            <p:nvPr/>
          </p:nvSpPr>
          <p:spPr>
            <a:xfrm>
              <a:off x="6562800" y="4903920"/>
              <a:ext cx="3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0"/>
            <p:cNvSpPr/>
            <p:nvPr/>
          </p:nvSpPr>
          <p:spPr>
            <a:xfrm>
              <a:off x="3414600" y="582264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1"/>
            <p:cNvSpPr/>
            <p:nvPr/>
          </p:nvSpPr>
          <p:spPr>
            <a:xfrm>
              <a:off x="7077960" y="5908320"/>
              <a:ext cx="47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5473440" y="3645000"/>
              <a:ext cx="3405600" cy="1027440"/>
            </a:xfrm>
            <a:custGeom>
              <a:avLst/>
              <a:gdLst>
                <a:gd name="textAreaLeft" fmla="*/ 0 w 3405600"/>
                <a:gd name="textAreaRight" fmla="*/ 3405960 w 34056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473" h="923">
                  <a:moveTo>
                    <a:pt x="28" y="415"/>
                  </a:moveTo>
                  <a:cubicBezTo>
                    <a:pt x="59" y="370"/>
                    <a:pt x="50" y="322"/>
                    <a:pt x="67" y="271"/>
                  </a:cubicBezTo>
                  <a:cubicBezTo>
                    <a:pt x="70" y="261"/>
                    <a:pt x="67" y="246"/>
                    <a:pt x="76" y="242"/>
                  </a:cubicBezTo>
                  <a:cubicBezTo>
                    <a:pt x="138" y="218"/>
                    <a:pt x="268" y="194"/>
                    <a:pt x="268" y="194"/>
                  </a:cubicBezTo>
                  <a:cubicBezTo>
                    <a:pt x="299" y="164"/>
                    <a:pt x="339" y="147"/>
                    <a:pt x="374" y="118"/>
                  </a:cubicBezTo>
                  <a:cubicBezTo>
                    <a:pt x="381" y="112"/>
                    <a:pt x="384" y="100"/>
                    <a:pt x="393" y="98"/>
                  </a:cubicBezTo>
                  <a:cubicBezTo>
                    <a:pt x="440" y="90"/>
                    <a:pt x="489" y="92"/>
                    <a:pt x="537" y="89"/>
                  </a:cubicBezTo>
                  <a:cubicBezTo>
                    <a:pt x="554" y="78"/>
                    <a:pt x="565" y="56"/>
                    <a:pt x="585" y="50"/>
                  </a:cubicBezTo>
                  <a:cubicBezTo>
                    <a:pt x="735" y="5"/>
                    <a:pt x="899" y="35"/>
                    <a:pt x="1056" y="31"/>
                  </a:cubicBezTo>
                  <a:cubicBezTo>
                    <a:pt x="1062" y="21"/>
                    <a:pt x="1064" y="4"/>
                    <a:pt x="1075" y="2"/>
                  </a:cubicBezTo>
                  <a:cubicBezTo>
                    <a:pt x="1087" y="0"/>
                    <a:pt x="1093" y="17"/>
                    <a:pt x="1104" y="22"/>
                  </a:cubicBezTo>
                  <a:cubicBezTo>
                    <a:pt x="1159" y="47"/>
                    <a:pt x="1215" y="64"/>
                    <a:pt x="1267" y="98"/>
                  </a:cubicBezTo>
                  <a:cubicBezTo>
                    <a:pt x="1523" y="74"/>
                    <a:pt x="1779" y="76"/>
                    <a:pt x="2035" y="89"/>
                  </a:cubicBezTo>
                  <a:cubicBezTo>
                    <a:pt x="2055" y="102"/>
                    <a:pt x="2083" y="103"/>
                    <a:pt x="2102" y="118"/>
                  </a:cubicBezTo>
                  <a:cubicBezTo>
                    <a:pt x="2175" y="176"/>
                    <a:pt x="2048" y="116"/>
                    <a:pt x="2121" y="175"/>
                  </a:cubicBezTo>
                  <a:cubicBezTo>
                    <a:pt x="2131" y="183"/>
                    <a:pt x="2147" y="181"/>
                    <a:pt x="2160" y="185"/>
                  </a:cubicBezTo>
                  <a:cubicBezTo>
                    <a:pt x="2276" y="217"/>
                    <a:pt x="2193" y="201"/>
                    <a:pt x="2361" y="214"/>
                  </a:cubicBezTo>
                  <a:cubicBezTo>
                    <a:pt x="2473" y="287"/>
                    <a:pt x="2419" y="392"/>
                    <a:pt x="2352" y="540"/>
                  </a:cubicBezTo>
                  <a:cubicBezTo>
                    <a:pt x="2341" y="564"/>
                    <a:pt x="2300" y="551"/>
                    <a:pt x="2275" y="559"/>
                  </a:cubicBezTo>
                  <a:cubicBezTo>
                    <a:pt x="2252" y="567"/>
                    <a:pt x="2230" y="578"/>
                    <a:pt x="2208" y="588"/>
                  </a:cubicBezTo>
                  <a:cubicBezTo>
                    <a:pt x="2181" y="614"/>
                    <a:pt x="2134" y="616"/>
                    <a:pt x="2112" y="646"/>
                  </a:cubicBezTo>
                  <a:cubicBezTo>
                    <a:pt x="2097" y="666"/>
                    <a:pt x="2109" y="698"/>
                    <a:pt x="2102" y="722"/>
                  </a:cubicBezTo>
                  <a:cubicBezTo>
                    <a:pt x="2093" y="751"/>
                    <a:pt x="2026" y="758"/>
                    <a:pt x="2016" y="761"/>
                  </a:cubicBezTo>
                  <a:cubicBezTo>
                    <a:pt x="1743" y="923"/>
                    <a:pt x="1597" y="841"/>
                    <a:pt x="1190" y="847"/>
                  </a:cubicBezTo>
                  <a:cubicBezTo>
                    <a:pt x="854" y="876"/>
                    <a:pt x="509" y="822"/>
                    <a:pt x="172" y="809"/>
                  </a:cubicBezTo>
                  <a:cubicBezTo>
                    <a:pt x="147" y="806"/>
                    <a:pt x="110" y="821"/>
                    <a:pt x="96" y="799"/>
                  </a:cubicBezTo>
                  <a:cubicBezTo>
                    <a:pt x="20" y="677"/>
                    <a:pt x="137" y="657"/>
                    <a:pt x="19" y="598"/>
                  </a:cubicBezTo>
                  <a:cubicBezTo>
                    <a:pt x="4" y="540"/>
                    <a:pt x="0" y="544"/>
                    <a:pt x="19" y="463"/>
                  </a:cubicBezTo>
                  <a:cubicBezTo>
                    <a:pt x="20" y="458"/>
                    <a:pt x="54" y="417"/>
                    <a:pt x="48" y="406"/>
                  </a:cubicBezTo>
                  <a:cubicBezTo>
                    <a:pt x="45" y="400"/>
                    <a:pt x="35" y="412"/>
                    <a:pt x="28" y="415"/>
                  </a:cubicBezTo>
                  <a:close/>
                </a:path>
              </a:pathLst>
            </a:custGeom>
            <a:solidFill>
              <a:srgbClr val="a5644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911560" y="3896640"/>
              <a:ext cx="2181240" cy="609840"/>
            </a:xfrm>
            <a:custGeom>
              <a:avLst/>
              <a:gdLst>
                <a:gd name="textAreaLeft" fmla="*/ 0 w 2181240"/>
                <a:gd name="textAreaRight" fmla="*/ 2181600 w 218124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584" h="548">
                  <a:moveTo>
                    <a:pt x="21" y="234"/>
                  </a:moveTo>
                  <a:cubicBezTo>
                    <a:pt x="117" y="92"/>
                    <a:pt x="225" y="145"/>
                    <a:pt x="415" y="138"/>
                  </a:cubicBezTo>
                  <a:cubicBezTo>
                    <a:pt x="446" y="127"/>
                    <a:pt x="470" y="110"/>
                    <a:pt x="501" y="100"/>
                  </a:cubicBezTo>
                  <a:cubicBezTo>
                    <a:pt x="646" y="0"/>
                    <a:pt x="851" y="60"/>
                    <a:pt x="1020" y="80"/>
                  </a:cubicBezTo>
                  <a:cubicBezTo>
                    <a:pt x="1121" y="76"/>
                    <a:pt x="1335" y="57"/>
                    <a:pt x="1442" y="90"/>
                  </a:cubicBezTo>
                  <a:cubicBezTo>
                    <a:pt x="1468" y="98"/>
                    <a:pt x="1481" y="129"/>
                    <a:pt x="1500" y="148"/>
                  </a:cubicBezTo>
                  <a:cubicBezTo>
                    <a:pt x="1510" y="157"/>
                    <a:pt x="1529" y="176"/>
                    <a:pt x="1529" y="176"/>
                  </a:cubicBezTo>
                  <a:cubicBezTo>
                    <a:pt x="1545" y="228"/>
                    <a:pt x="1556" y="230"/>
                    <a:pt x="1567" y="292"/>
                  </a:cubicBezTo>
                  <a:cubicBezTo>
                    <a:pt x="1564" y="333"/>
                    <a:pt x="1584" y="385"/>
                    <a:pt x="1557" y="416"/>
                  </a:cubicBezTo>
                  <a:cubicBezTo>
                    <a:pt x="1531" y="445"/>
                    <a:pt x="1442" y="436"/>
                    <a:pt x="1442" y="436"/>
                  </a:cubicBezTo>
                  <a:cubicBezTo>
                    <a:pt x="1326" y="548"/>
                    <a:pt x="1003" y="525"/>
                    <a:pt x="885" y="532"/>
                  </a:cubicBezTo>
                  <a:cubicBezTo>
                    <a:pt x="626" y="526"/>
                    <a:pt x="366" y="538"/>
                    <a:pt x="108" y="512"/>
                  </a:cubicBezTo>
                  <a:cubicBezTo>
                    <a:pt x="97" y="511"/>
                    <a:pt x="95" y="493"/>
                    <a:pt x="89" y="484"/>
                  </a:cubicBezTo>
                  <a:cubicBezTo>
                    <a:pt x="78" y="430"/>
                    <a:pt x="75" y="426"/>
                    <a:pt x="31" y="397"/>
                  </a:cubicBezTo>
                  <a:cubicBezTo>
                    <a:pt x="24" y="375"/>
                    <a:pt x="0" y="311"/>
                    <a:pt x="41" y="311"/>
                  </a:cubicBezTo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6350760" y="4023360"/>
              <a:ext cx="1209240" cy="27504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878" h="247">
                  <a:moveTo>
                    <a:pt x="0" y="115"/>
                  </a:moveTo>
                  <a:cubicBezTo>
                    <a:pt x="41" y="101"/>
                    <a:pt x="72" y="75"/>
                    <a:pt x="105" y="48"/>
                  </a:cubicBezTo>
                  <a:cubicBezTo>
                    <a:pt x="112" y="42"/>
                    <a:pt x="116" y="31"/>
                    <a:pt x="125" y="28"/>
                  </a:cubicBezTo>
                  <a:cubicBezTo>
                    <a:pt x="149" y="21"/>
                    <a:pt x="176" y="22"/>
                    <a:pt x="201" y="19"/>
                  </a:cubicBezTo>
                  <a:cubicBezTo>
                    <a:pt x="253" y="1"/>
                    <a:pt x="304" y="12"/>
                    <a:pt x="355" y="28"/>
                  </a:cubicBezTo>
                  <a:cubicBezTo>
                    <a:pt x="365" y="25"/>
                    <a:pt x="374" y="22"/>
                    <a:pt x="384" y="19"/>
                  </a:cubicBezTo>
                  <a:cubicBezTo>
                    <a:pt x="403" y="13"/>
                    <a:pt x="441" y="0"/>
                    <a:pt x="441" y="0"/>
                  </a:cubicBezTo>
                  <a:cubicBezTo>
                    <a:pt x="510" y="22"/>
                    <a:pt x="424" y="0"/>
                    <a:pt x="509" y="0"/>
                  </a:cubicBezTo>
                  <a:cubicBezTo>
                    <a:pt x="579" y="0"/>
                    <a:pt x="650" y="6"/>
                    <a:pt x="720" y="9"/>
                  </a:cubicBezTo>
                  <a:cubicBezTo>
                    <a:pt x="829" y="27"/>
                    <a:pt x="826" y="7"/>
                    <a:pt x="873" y="76"/>
                  </a:cubicBezTo>
                  <a:cubicBezTo>
                    <a:pt x="869" y="118"/>
                    <a:pt x="878" y="166"/>
                    <a:pt x="854" y="201"/>
                  </a:cubicBezTo>
                  <a:cubicBezTo>
                    <a:pt x="843" y="217"/>
                    <a:pt x="803" y="229"/>
                    <a:pt x="787" y="230"/>
                  </a:cubicBezTo>
                  <a:cubicBezTo>
                    <a:pt x="701" y="236"/>
                    <a:pt x="614" y="237"/>
                    <a:pt x="528" y="240"/>
                  </a:cubicBezTo>
                  <a:cubicBezTo>
                    <a:pt x="378" y="234"/>
                    <a:pt x="227" y="247"/>
                    <a:pt x="77" y="240"/>
                  </a:cubicBezTo>
                  <a:cubicBezTo>
                    <a:pt x="68" y="240"/>
                    <a:pt x="64" y="227"/>
                    <a:pt x="57" y="220"/>
                  </a:cubicBezTo>
                  <a:cubicBezTo>
                    <a:pt x="50" y="198"/>
                    <a:pt x="51" y="172"/>
                    <a:pt x="38" y="153"/>
                  </a:cubicBezTo>
                  <a:cubicBezTo>
                    <a:pt x="32" y="143"/>
                    <a:pt x="17" y="142"/>
                    <a:pt x="9" y="134"/>
                  </a:cubicBezTo>
                  <a:cubicBezTo>
                    <a:pt x="4" y="129"/>
                    <a:pt x="3" y="121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4e3b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5"/>
            <p:cNvSpPr/>
            <p:nvPr/>
          </p:nvSpPr>
          <p:spPr>
            <a:xfrm flipV="1">
              <a:off x="6326280" y="4176720"/>
              <a:ext cx="2458080" cy="1058760"/>
            </a:xfrm>
            <a:prstGeom prst="line">
              <a:avLst/>
            </a:prstGeom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6"/>
            <p:cNvSpPr/>
            <p:nvPr/>
          </p:nvSpPr>
          <p:spPr>
            <a:xfrm flipH="1" flipV="1">
              <a:off x="5464800" y="4167000"/>
              <a:ext cx="848520" cy="1078560"/>
            </a:xfrm>
            <a:prstGeom prst="line">
              <a:avLst/>
            </a:prstGeom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7"/>
            <p:cNvSpPr/>
            <p:nvPr/>
          </p:nvSpPr>
          <p:spPr>
            <a:xfrm>
              <a:off x="5490000" y="4189320"/>
              <a:ext cx="3280320" cy="0"/>
            </a:xfrm>
            <a:prstGeom prst="line">
              <a:avLst/>
            </a:prstGeom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21"/>
          <p:cNvGrpSpPr/>
          <p:nvPr/>
        </p:nvGrpSpPr>
        <p:grpSpPr>
          <a:xfrm>
            <a:off x="250920" y="115920"/>
            <a:ext cx="3744720" cy="836640"/>
            <a:chOff x="250920" y="115920"/>
            <a:chExt cx="3744720" cy="836640"/>
          </a:xfrm>
        </p:grpSpPr>
        <p:pic>
          <p:nvPicPr>
            <p:cNvPr id="681" name="Picture 19" descr=""/>
            <p:cNvPicPr/>
            <p:nvPr/>
          </p:nvPicPr>
          <p:blipFill>
            <a:blip r:embed="rId1"/>
            <a:stretch/>
          </p:blipFill>
          <p:spPr>
            <a:xfrm>
              <a:off x="250920" y="11592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20"/>
            <p:cNvSpPr/>
            <p:nvPr/>
          </p:nvSpPr>
          <p:spPr>
            <a:xfrm>
              <a:off x="985680" y="147600"/>
              <a:ext cx="3009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例题解析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684360" y="1216080"/>
            <a:ext cx="7561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知道，两边和它们的夹角对应相等的两个三角形全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“两边及其中一边的对角对应相等”的条件能判定两个三角形全等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4"/>
          <p:cNvSpPr/>
          <p:nvPr/>
        </p:nvSpPr>
        <p:spPr>
          <a:xfrm flipH="1">
            <a:off x="4211280" y="4581360"/>
            <a:ext cx="655560" cy="137160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"/>
          <p:cNvSpPr/>
          <p:nvPr/>
        </p:nvSpPr>
        <p:spPr>
          <a:xfrm flipV="1">
            <a:off x="2028960" y="4592520"/>
            <a:ext cx="2822400" cy="137160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6"/>
          <p:cNvSpPr/>
          <p:nvPr/>
        </p:nvSpPr>
        <p:spPr>
          <a:xfrm>
            <a:off x="2028960" y="5983200"/>
            <a:ext cx="4152600" cy="0"/>
          </a:xfrm>
          <a:prstGeom prst="line">
            <a:avLst/>
          </a:prstGeom>
          <a:ln w="936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7"/>
          <p:cNvSpPr/>
          <p:nvPr/>
        </p:nvSpPr>
        <p:spPr>
          <a:xfrm>
            <a:off x="4851360" y="4572000"/>
            <a:ext cx="635040" cy="141120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4859640" y="429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1636920" y="584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4003920" y="594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5266440" y="594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2"/>
          <p:cNvSpPr/>
          <p:nvPr/>
        </p:nvSpPr>
        <p:spPr>
          <a:xfrm>
            <a:off x="4859280" y="4581360"/>
            <a:ext cx="432000" cy="155448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3"/>
          <p:cNvSpPr/>
          <p:nvPr/>
        </p:nvSpPr>
        <p:spPr>
          <a:xfrm>
            <a:off x="4859280" y="4653000"/>
            <a:ext cx="217440" cy="158436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4"/>
          <p:cNvSpPr/>
          <p:nvPr/>
        </p:nvSpPr>
        <p:spPr>
          <a:xfrm>
            <a:off x="4859280" y="4581360"/>
            <a:ext cx="0" cy="165600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5"/>
          <p:cNvSpPr/>
          <p:nvPr/>
        </p:nvSpPr>
        <p:spPr>
          <a:xfrm flipH="1">
            <a:off x="4643280" y="4581360"/>
            <a:ext cx="216000" cy="158436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6"/>
          <p:cNvSpPr/>
          <p:nvPr/>
        </p:nvSpPr>
        <p:spPr>
          <a:xfrm flipH="1">
            <a:off x="4427280" y="4632480"/>
            <a:ext cx="431640" cy="151272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7"/>
          <p:cNvSpPr/>
          <p:nvPr/>
        </p:nvSpPr>
        <p:spPr>
          <a:xfrm flipH="1">
            <a:off x="4235040" y="4600440"/>
            <a:ext cx="623880" cy="139068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8"/>
          <p:cNvGrpSpPr/>
          <p:nvPr/>
        </p:nvGrpSpPr>
        <p:grpSpPr>
          <a:xfrm>
            <a:off x="179280" y="189000"/>
            <a:ext cx="2881080" cy="836640"/>
            <a:chOff x="179280" y="189000"/>
            <a:chExt cx="2881080" cy="836640"/>
          </a:xfrm>
        </p:grpSpPr>
        <p:pic>
          <p:nvPicPr>
            <p:cNvPr id="699" name="Picture 19" descr="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20"/>
            <p:cNvSpPr/>
            <p:nvPr/>
          </p:nvSpPr>
          <p:spPr>
            <a:xfrm>
              <a:off x="914040" y="221040"/>
              <a:ext cx="2146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探究</a:t>
              </a:r>
              <a:r>
                <a:rPr b="1" lang="en-US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7780320" cy="36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已知：如图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B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C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D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E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, 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BAC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DA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求证： △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BD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≌△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证明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:∵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BAC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DAE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（已知）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           ∠</a:t>
            </a:r>
            <a:r>
              <a:rPr b="1" i="1" lang="zh-CN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BAC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+ 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 CAD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 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DAE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+ ∠ 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          ∴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BAD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CA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在△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BD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与△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B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C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（已知）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           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BAD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 ∠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CAE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（已证）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D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E</a:t>
            </a: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（已知）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Times New Roman"/>
              </a:rPr>
              <a:t>           ∴△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BD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≌△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</a:rPr>
              <a:t>ACE</a:t>
            </a:r>
            <a:r>
              <a:rPr b="1" i="1" lang="zh-CN" sz="2000" spc="-1" strike="noStrike">
                <a:solidFill>
                  <a:srgbClr val="4e3b3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SA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3"/>
              <p:cNvSpPr txBox="1"/>
              <p:nvPr/>
            </p:nvSpPr>
            <p:spPr>
              <a:xfrm>
                <a:off x="998640" y="4908600"/>
                <a:ext cx="404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703" name="AutoShape 4"/>
          <p:cNvSpPr/>
          <p:nvPr/>
        </p:nvSpPr>
        <p:spPr>
          <a:xfrm>
            <a:off x="6013440" y="3068640"/>
            <a:ext cx="2576520" cy="1981080"/>
          </a:xfrm>
          <a:prstGeom prst="triangle">
            <a:avLst>
              <a:gd name="adj" fmla="val 91435"/>
            </a:avLst>
          </a:prstGeom>
          <a:solidFill>
            <a:srgbClr val="ad1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5"/>
          <p:cNvSpPr/>
          <p:nvPr/>
        </p:nvSpPr>
        <p:spPr>
          <a:xfrm rot="888000">
            <a:off x="5785920" y="2781000"/>
            <a:ext cx="2576520" cy="1981080"/>
          </a:xfrm>
          <a:prstGeom prst="triangle">
            <a:avLst>
              <a:gd name="adj" fmla="val 91435"/>
            </a:avLst>
          </a:prstGeom>
          <a:solidFill>
            <a:srgbClr val="ddd9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6"/>
          <p:cNvSpPr/>
          <p:nvPr/>
        </p:nvSpPr>
        <p:spPr>
          <a:xfrm flipH="1">
            <a:off x="6026040" y="3075120"/>
            <a:ext cx="2347920" cy="1985760"/>
          </a:xfrm>
          <a:prstGeom prst="line">
            <a:avLst/>
          </a:prstGeom>
          <a:ln w="936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8364600" y="25081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5219640" y="4213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7672320" y="510048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5865840" y="520380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8439120" y="508464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6"/>
          <p:cNvGrpSpPr/>
          <p:nvPr/>
        </p:nvGrpSpPr>
        <p:grpSpPr>
          <a:xfrm>
            <a:off x="179280" y="189000"/>
            <a:ext cx="2881080" cy="836640"/>
            <a:chOff x="179280" y="189000"/>
            <a:chExt cx="2881080" cy="836640"/>
          </a:xfrm>
        </p:grpSpPr>
        <p:pic>
          <p:nvPicPr>
            <p:cNvPr id="712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18"/>
            <p:cNvSpPr/>
            <p:nvPr/>
          </p:nvSpPr>
          <p:spPr>
            <a:xfrm>
              <a:off x="914040" y="221040"/>
              <a:ext cx="2146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练习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AutoShape 4"/>
          <p:cNvSpPr/>
          <p:nvPr/>
        </p:nvSpPr>
        <p:spPr>
          <a:xfrm rot="14911800">
            <a:off x="5120280" y="3841920"/>
            <a:ext cx="4616280" cy="681120"/>
          </a:xfrm>
          <a:prstGeom prst="triangle">
            <a:avLst>
              <a:gd name="adj" fmla="val 59764"/>
            </a:avLst>
          </a:prstGeom>
          <a:solidFill>
            <a:srgbClr val="a564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 rot="20260200">
            <a:off x="4331880" y="4041360"/>
            <a:ext cx="4616640" cy="681120"/>
          </a:xfrm>
          <a:prstGeom prst="triangle">
            <a:avLst>
              <a:gd name="adj" fmla="val 59764"/>
            </a:avLst>
          </a:prstGeom>
          <a:solidFill>
            <a:srgbClr val="ad1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 rot="10538400">
            <a:off x="6918120" y="35917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 flipV="1">
            <a:off x="6835680" y="4005000"/>
            <a:ext cx="2034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570120" y="2452680"/>
            <a:ext cx="6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>
            <a:off x="6951600" y="3889440"/>
            <a:ext cx="42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6778800" y="4035600"/>
            <a:ext cx="5688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6518160" y="3105000"/>
            <a:ext cx="5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4767120" y="547200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7178760" y="1738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8491680" y="320832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7694640" y="6067440"/>
            <a:ext cx="79704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6"/>
          <p:cNvSpPr/>
          <p:nvPr/>
        </p:nvSpPr>
        <p:spPr>
          <a:xfrm>
            <a:off x="581040" y="378000"/>
            <a:ext cx="7520040" cy="1395360"/>
          </a:xfrm>
          <a:prstGeom prst="wedgeRoundRectCallout">
            <a:avLst>
              <a:gd name="adj1" fmla="val -41259"/>
              <a:gd name="adj2" fmla="val 99259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已知：如图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证： ⑴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7"/>
          <p:cNvSpPr/>
          <p:nvPr/>
        </p:nvSpPr>
        <p:spPr>
          <a:xfrm>
            <a:off x="1503360" y="2517840"/>
            <a:ext cx="3844800" cy="2781360"/>
          </a:xfrm>
          <a:prstGeom prst="cloudCallout">
            <a:avLst>
              <a:gd name="adj1" fmla="val -50662"/>
              <a:gd name="adj2" fmla="val 100800"/>
            </a:avLst>
          </a:prstGeom>
          <a:solidFill>
            <a:srgbClr val="e534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∠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∠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8"/>
          <p:cNvSpPr/>
          <p:nvPr/>
        </p:nvSpPr>
        <p:spPr>
          <a:xfrm>
            <a:off x="7904160" y="417204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6977160" y="455940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51:42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7:51Z</dcterms:modified>
  <cp:revision>110</cp:revision>
  <dc:subject>http://zhdduya100.taobao.com/</dc:subject>
  <dc:title>http://zhdduya100.taobao.com/</dc:title>
</cp:coreProperties>
</file>