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gif" ContentType="image/gif"/>
  <Override PartName="/ppt/media/image8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8CED2-2A21-4B45-9007-7CFE5A23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317EF-CD9F-425A-B95E-DB450931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8DC54-F23A-4E66-8886-C759BC84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6F1D1-A20A-45E1-9374-94E1FFAA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51C5F-6A38-42D6-839E-390A87FC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1034A-0DFC-436B-9D0E-7946F58C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17DA2-8A33-404A-A9A0-CF43D7DC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64EA6-698B-4140-AA61-6E140500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A876E-0E78-43CD-A3D8-72B61B89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7D9C4-8AE2-42BD-9D2E-667954BF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D72D6-88FE-43F8-AB21-6B677998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8816B-2AC8-49C6-A918-79D1C1C8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BF8C9-5220-4D89-B422-1F9FE60D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2C8BD-EF1C-4272-AF02-6642694D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36CC3-A30F-42FE-A770-E90D164D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19BDA-C880-472C-89DE-08583118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3DDCC-E30A-4725-99F4-8FEDA10D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BC39F-4C58-45FE-AFBC-1B080064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22721-3E54-44F3-919E-E27CF146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50ED2-ADD9-49C0-AB9F-FA4D2B3D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5BDDE-83E8-4DE8-ADAC-3A9A379C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B7D97-4F79-48E9-B419-AC50DD83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068A1-6DDC-43B9-8F90-25DC9FC0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295B8-E28C-4352-9C7D-3D1F703D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DBA45-5952-4A11-9DB9-08D18D64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D8DEC-77DF-4A86-82FD-9D89D520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1A212-EFA7-4682-A25C-7CC740D5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6C615-720B-421C-B258-0328BF52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68A70-6926-4DBF-BF52-2C4A6850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8BB22-2C6E-49E8-85B8-7105ACA0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318D-5C9F-42E8-B908-FAD860FB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AA83B-3C33-4D91-9D73-95FE4FB2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DFD68-65A2-4081-80A7-8AD65E21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77AD3-A1B7-447B-9E18-845C16BB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94D25-AAF3-40A7-9206-94BC81CD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0705B-A8E0-42D9-AB61-BC2620F1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8CBEB-1153-478F-8927-04DE21E5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6E726-4717-403F-AA00-A77AF6D1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95631-2500-46CE-B492-6BDE8884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C53CF-51E9-4824-B122-088873B2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AA5D7-F9FB-4D43-9EE1-44491BB7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D856-E1ED-4D02-A441-76BEDDDE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78522-CC4A-4091-A7D0-9B651A07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60011-DCB7-4189-933B-51E88DE7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0F35A-87D7-4CFD-B96C-0E2967CC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E76BA-0CE8-4EEC-8A47-D19E623B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0059F-6B96-40DF-B63A-768741B8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A286E-A95B-41D5-840D-2C99F6E9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8C328-5382-4FE7-9475-1966F99B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AD91B-AD97-4BC4-B059-3F134ED6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B2D94-2DD8-4125-A932-01438F7A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0B2AC-E627-4580-A77F-85E73B9F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6BA0-E000-45D0-9FFC-61F41C3E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2D927-AACC-44E6-99AA-E0B062FE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C3AF8-1EA1-4AE3-86D2-ED891BD6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6104C-AC29-4A9B-9893-487B50F0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AE468-E35B-4D7D-9A0E-49B2BCD5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7B8F1-3060-456D-925A-706EF5AC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8C8FD-FA8F-44E7-A330-14CF2B08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875AC-D710-4219-875F-C256F736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45B1-0A0C-49EE-BBD2-D1A9EDD8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4D40-D1CF-4444-9F35-AF9229F3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AA11-B491-417E-BA53-4928DCF4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AAF-4DB2-46A9-B330-74696BCA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5DE-52F0-4BB2-AB34-11E3F640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DCF2-F428-4A04-9566-EBD434BC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2F86-04F6-4296-B9F7-F4F1ECD5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9263-28FD-4C75-B232-F55F1B77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C489-EA46-4D2E-886F-69584458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EFC5-1318-4726-AC9F-5A1A22F3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F1FF-20BE-4AE1-95AD-25A8749A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0761-1654-4184-9037-E769548F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6A6E-697B-4582-9C6B-84FEBBC9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0A4D-A4C4-4A48-9C27-40243F57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B95B-C969-427B-8950-34A035B9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F8F2-CB6A-49B7-836B-253E4EF1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B954-5579-4215-ACE6-A784902A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738A-0C67-486D-82F5-2418EF21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81A6-122E-4C3F-8CF6-C4B3770D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653B-C64C-4611-900B-686D7ABA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A0DF-F01B-460F-8689-FA0089E7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934F9-179E-4623-8D09-A9BA10B7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CDC55-139E-4081-BFC7-8F481D90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9A0DD-249B-4458-8770-2D689FAD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933E-0FC3-4152-AD9C-CB330583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6532B-2461-43F7-BE49-7302CAB4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272CE-F26D-4E12-9672-62920EC5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30367-E045-4322-8DF6-EDE32C38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82E72-2DA6-4298-870B-5B9D569B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DC75B-38F2-46AB-AD55-C3823DBD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A8E2F-BF7D-47C6-A309-35255E6F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8EF4F-341B-4AB2-82FD-37B2C32C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69E14-24FE-4DAF-9BC4-E958A298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0B051-B74B-4543-9686-B41B9A33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6F241-21E2-4D7D-8F4A-586ED51D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B976B-9B9A-4A9E-8254-B27F208B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86DAF-BEC9-4C5C-BAFC-3E88AF1A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77DCF-9141-4E30-A373-D9BEB54D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282DE-7997-4B45-8861-4BDDCF5A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AE968-1E88-4B5B-B5BC-C6709E8D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3736F-F863-4FC0-BAA6-03AE93FB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D1F9A-88A4-4E6D-916E-38EE409A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E92F5-D6F2-448B-AD2B-75D97FCD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77EFC-664A-4495-AAA1-3BCA3A4B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62DC2-A555-4B7B-96F4-CB8DB8BD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FC0EE-D5D5-4236-8F6E-AC992630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807D7-148A-43F2-8749-8D86FD15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9CFB6-5B5A-416D-B626-75C15FC4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37F82-4B38-467E-8A91-4B4E564D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6111C-A130-433F-9FA1-4D650B3E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E555D-F32B-4576-9D90-486DDC5E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CB2A3-99AD-4A8C-B6A1-1094FD6E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DB927-392B-44E7-ACA1-DD0A3840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6A022-CC44-4F85-ADDC-5F1B8EC7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80F2C-74BE-484D-8877-6814ABB5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97F05-9CDB-4C48-805C-BE3DE0A6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50173-8A2C-4D2B-BE47-A71A02ED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C2D66-1161-4FD9-98B4-11611990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020E3-1548-4517-8A1C-CAE688D6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B54D7-9FAA-4560-9560-5627B43E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E8C6C-0154-45AB-8196-C06F324B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5A82A-DEBA-4CEC-9D91-4D2A9E3A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8ACAC-5FF9-4586-83F5-4AD6A76B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005DD-59FA-4D13-A95B-F78373AC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B3290-5EB2-445F-8618-9C87D23A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8FDB2-728F-46F7-8CD2-0B3EE7A9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7FDD7-ED6E-4379-BB57-23D9FAC2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E3A9C-1600-43EB-B7A4-E8C8F468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63AF0-A1D5-4A23-8A5A-F468D598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F8B3B-272C-4909-A9F5-24F404BE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701E3-1D6A-407D-A3F2-C206EF69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15CE5-ECF3-4944-8F2D-1F947D27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5E58D-9CBB-4D8B-85AA-09F20C88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08A37-594D-438C-9320-99287BA8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31C17-07F0-4704-B3C7-AADB48C4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E90AD-5A45-429A-9B01-D22CA53B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DC1A2-203B-4728-BA88-1B4D158E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B3797-0824-445A-917C-BFD59D78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D8898-291E-473F-9192-86396A3A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6C95B-520B-4337-9A57-D53AC4CE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D1D9E-4E18-4B68-9921-CA3E328C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5A4E9-0FCA-46BC-B9E5-972E880F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7662D-18C4-4EFE-8C20-B9C614BF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8DD6E-A5D2-4447-BFF5-9CBA8ECC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3122280" y="63216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中学生学习报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学周刊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6280200" y="6162840"/>
            <a:ext cx="2431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国家级优秀教辅读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SO900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国际质量管理体系认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343080" y="16344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教课标八年级  上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4" descr="英格教育"/>
          <p:cNvPicPr/>
          <p:nvPr/>
        </p:nvPicPr>
        <p:blipFill>
          <a:blip r:embed="rId2"/>
          <a:stretch/>
        </p:blipFill>
        <p:spPr>
          <a:xfrm>
            <a:off x="0" y="6021360"/>
            <a:ext cx="1619280" cy="8161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5" descr="知识改变命运"/>
          <p:cNvPicPr/>
          <p:nvPr/>
        </p:nvPicPr>
        <p:blipFill>
          <a:blip r:embed="rId3"/>
          <a:stretch/>
        </p:blipFill>
        <p:spPr>
          <a:xfrm>
            <a:off x="5435640" y="73080"/>
            <a:ext cx="3551040" cy="691920"/>
          </a:xfrm>
          <a:prstGeom prst="rect">
            <a:avLst/>
          </a:prstGeom>
          <a:ln w="0">
            <a:noFill/>
          </a:ln>
        </p:spPr>
      </p:pic>
      <p:sp>
        <p:nvSpPr>
          <p:cNvPr id="5" name="Line 12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417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DCC9-5B97-4316-AD3E-B4612A827F6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C9BD-A873-4DC8-892D-9DAAD271406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2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5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08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B851-8DC6-4F0F-8056-0C380E07A96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4B4B-AB18-4ADD-AAD4-8778AEF71CB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ECBA-FCAF-46E6-A3AA-0967EEFA2A7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1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2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5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7CC5-5AAC-4CEB-892D-4D25CC87E74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8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1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4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B142-B52F-4628-A071-03B9F8D99B2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88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BC06-7750-4ED8-8E53-2DB79DD18C2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32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35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38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1D11-B3EE-4F69-8321-456A30EBF4F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82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BDA9-73F4-43D3-B41C-3064EBCA2AA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26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2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3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8064-DC12-4A33-B0B0-E0C76D22239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CCB7-2169-49E8-800E-CA48DF705F2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3"/>
          <p:cNvSpPr/>
          <p:nvPr/>
        </p:nvSpPr>
        <p:spPr>
          <a:xfrm>
            <a:off x="1763640" y="2637000"/>
            <a:ext cx="6624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Times New Roman"/>
                <a:ea typeface="黑体"/>
              </a:rPr>
              <a:t>三角形全等的判定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431640" y="1368360"/>
            <a:ext cx="831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，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 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全等吗？能利用角边角条件证明你的结论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3"/>
          <p:cNvGrpSpPr/>
          <p:nvPr/>
        </p:nvGrpSpPr>
        <p:grpSpPr>
          <a:xfrm>
            <a:off x="1042920" y="3665520"/>
            <a:ext cx="3433320" cy="2528280"/>
            <a:chOff x="1042920" y="3665520"/>
            <a:chExt cx="3433320" cy="2528280"/>
          </a:xfrm>
        </p:grpSpPr>
        <p:grpSp>
          <p:nvGrpSpPr>
            <p:cNvPr id="645" name="Group 4"/>
            <p:cNvGrpSpPr/>
            <p:nvPr/>
          </p:nvGrpSpPr>
          <p:grpSpPr>
            <a:xfrm>
              <a:off x="1367280" y="4032000"/>
              <a:ext cx="2770200" cy="1994760"/>
              <a:chOff x="1367280" y="4032000"/>
              <a:chExt cx="2770200" cy="1994760"/>
            </a:xfrm>
          </p:grpSpPr>
          <p:sp>
            <p:nvSpPr>
              <p:cNvPr id="646" name="Line 5"/>
              <p:cNvSpPr/>
              <p:nvPr/>
            </p:nvSpPr>
            <p:spPr>
              <a:xfrm flipH="1">
                <a:off x="1367280" y="4032000"/>
                <a:ext cx="1753920" cy="199476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6"/>
              <p:cNvSpPr/>
              <p:nvPr/>
            </p:nvSpPr>
            <p:spPr>
              <a:xfrm flipV="1">
                <a:off x="1367280" y="5240160"/>
                <a:ext cx="2770200" cy="78660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7"/>
              <p:cNvSpPr/>
              <p:nvPr/>
            </p:nvSpPr>
            <p:spPr>
              <a:xfrm flipH="1" flipV="1">
                <a:off x="3120840" y="4032000"/>
                <a:ext cx="1016280" cy="120852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Text Box 8"/>
            <p:cNvSpPr/>
            <p:nvPr/>
          </p:nvSpPr>
          <p:spPr>
            <a:xfrm>
              <a:off x="3157920" y="3665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9"/>
            <p:cNvSpPr/>
            <p:nvPr/>
          </p:nvSpPr>
          <p:spPr>
            <a:xfrm>
              <a:off x="1042920" y="5734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10"/>
            <p:cNvSpPr/>
            <p:nvPr/>
          </p:nvSpPr>
          <p:spPr>
            <a:xfrm>
              <a:off x="4092840" y="4960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11"/>
          <p:cNvGrpSpPr/>
          <p:nvPr/>
        </p:nvGrpSpPr>
        <p:grpSpPr>
          <a:xfrm>
            <a:off x="4637160" y="3449520"/>
            <a:ext cx="3583800" cy="2094840"/>
            <a:chOff x="4637160" y="3449520"/>
            <a:chExt cx="3583800" cy="2094840"/>
          </a:xfrm>
        </p:grpSpPr>
        <p:grpSp>
          <p:nvGrpSpPr>
            <p:cNvPr id="653" name="Group 12"/>
            <p:cNvGrpSpPr/>
            <p:nvPr/>
          </p:nvGrpSpPr>
          <p:grpSpPr>
            <a:xfrm>
              <a:off x="5003280" y="3716280"/>
              <a:ext cx="2880360" cy="1441440"/>
              <a:chOff x="5003280" y="3716280"/>
              <a:chExt cx="2880360" cy="1441440"/>
            </a:xfrm>
          </p:grpSpPr>
          <p:sp>
            <p:nvSpPr>
              <p:cNvPr id="654" name="Line 13"/>
              <p:cNvSpPr/>
              <p:nvPr/>
            </p:nvSpPr>
            <p:spPr>
              <a:xfrm flipH="1">
                <a:off x="5003280" y="3716280"/>
                <a:ext cx="2232360" cy="14400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14"/>
              <p:cNvSpPr/>
              <p:nvPr/>
            </p:nvSpPr>
            <p:spPr>
              <a:xfrm flipV="1">
                <a:off x="5003640" y="5156280"/>
                <a:ext cx="2880000" cy="14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15"/>
              <p:cNvSpPr/>
              <p:nvPr/>
            </p:nvSpPr>
            <p:spPr>
              <a:xfrm flipH="1" flipV="1">
                <a:off x="7235640" y="3716280"/>
                <a:ext cx="647640" cy="14400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Text Box 16"/>
            <p:cNvSpPr/>
            <p:nvPr/>
          </p:nvSpPr>
          <p:spPr>
            <a:xfrm>
              <a:off x="7325280" y="3449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17"/>
            <p:cNvSpPr/>
            <p:nvPr/>
          </p:nvSpPr>
          <p:spPr>
            <a:xfrm>
              <a:off x="4637160" y="5084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18"/>
            <p:cNvSpPr/>
            <p:nvPr/>
          </p:nvSpPr>
          <p:spPr>
            <a:xfrm>
              <a:off x="7837560" y="488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19"/>
          <p:cNvGrpSpPr/>
          <p:nvPr/>
        </p:nvGrpSpPr>
        <p:grpSpPr>
          <a:xfrm>
            <a:off x="250920" y="144360"/>
            <a:ext cx="2736720" cy="836640"/>
            <a:chOff x="250920" y="144360"/>
            <a:chExt cx="2736720" cy="836640"/>
          </a:xfrm>
        </p:grpSpPr>
        <p:pic>
          <p:nvPicPr>
            <p:cNvPr id="661" name="Picture 20" descr=""/>
            <p:cNvPicPr/>
            <p:nvPr/>
          </p:nvPicPr>
          <p:blipFill>
            <a:blip r:embed="rId1"/>
            <a:stretch/>
          </p:blipFill>
          <p:spPr>
            <a:xfrm>
              <a:off x="250920" y="144360"/>
              <a:ext cx="7426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Text Box 21"/>
            <p:cNvSpPr/>
            <p:nvPr/>
          </p:nvSpPr>
          <p:spPr>
            <a:xfrm>
              <a:off x="985680" y="176400"/>
              <a:ext cx="20019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探究</a:t>
              </a:r>
              <a:r>
                <a:rPr b="1" lang="en-US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6</a:t>
              </a:r>
              <a:endParaRPr b="1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4"/>
          <p:cNvSpPr/>
          <p:nvPr/>
        </p:nvSpPr>
        <p:spPr>
          <a:xfrm>
            <a:off x="611280" y="10144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：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，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交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证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C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5"/>
          <p:cNvGrpSpPr/>
          <p:nvPr/>
        </p:nvGrpSpPr>
        <p:grpSpPr>
          <a:xfrm>
            <a:off x="324000" y="2654280"/>
            <a:ext cx="6781680" cy="3738960"/>
            <a:chOff x="324000" y="2654280"/>
            <a:chExt cx="6781680" cy="3738960"/>
          </a:xfrm>
        </p:grpSpPr>
        <p:sp>
          <p:nvSpPr>
            <p:cNvPr id="665" name="Text Box 6"/>
            <p:cNvSpPr/>
            <p:nvPr/>
          </p:nvSpPr>
          <p:spPr>
            <a:xfrm>
              <a:off x="324000" y="2654280"/>
              <a:ext cx="67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证明 ：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在△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D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和△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E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7"/>
            <p:cNvSpPr/>
            <p:nvPr/>
          </p:nvSpPr>
          <p:spPr>
            <a:xfrm>
              <a:off x="1314360" y="3111480"/>
              <a:ext cx="75960" cy="16002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8"/>
            <p:cNvSpPr/>
            <p:nvPr/>
          </p:nvSpPr>
          <p:spPr>
            <a:xfrm>
              <a:off x="1542960" y="3111480"/>
              <a:ext cx="342864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∠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公共角）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已知）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∠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已知）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9"/>
            <p:cNvSpPr/>
            <p:nvPr/>
          </p:nvSpPr>
          <p:spPr>
            <a:xfrm>
              <a:off x="857160" y="4821120"/>
              <a:ext cx="594324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∴△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C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≌△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BE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S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∴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全等三角形的对应边相等）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又∵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已知）    ∴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9" name="Picture 10" descr=""/>
          <p:cNvPicPr/>
          <p:nvPr/>
        </p:nvPicPr>
        <p:blipFill>
          <a:blip r:embed="rId1"/>
          <a:stretch/>
        </p:blipFill>
        <p:spPr>
          <a:xfrm>
            <a:off x="5505480" y="2349360"/>
            <a:ext cx="3581280" cy="3230640"/>
          </a:xfrm>
          <a:prstGeom prst="rect">
            <a:avLst/>
          </a:prstGeom>
          <a:ln w="0">
            <a:noFill/>
          </a:ln>
        </p:spPr>
      </p:pic>
      <p:grpSp>
        <p:nvGrpSpPr>
          <p:cNvPr id="670" name="Group 14"/>
          <p:cNvGrpSpPr/>
          <p:nvPr/>
        </p:nvGrpSpPr>
        <p:grpSpPr>
          <a:xfrm>
            <a:off x="179280" y="144360"/>
            <a:ext cx="3673440" cy="836640"/>
            <a:chOff x="179280" y="144360"/>
            <a:chExt cx="3673440" cy="836640"/>
          </a:xfrm>
        </p:grpSpPr>
        <p:pic>
          <p:nvPicPr>
            <p:cNvPr id="671" name="Picture 15" descr=""/>
            <p:cNvPicPr/>
            <p:nvPr/>
          </p:nvPicPr>
          <p:blipFill>
            <a:blip r:embed="rId2"/>
            <a:stretch/>
          </p:blipFill>
          <p:spPr>
            <a:xfrm>
              <a:off x="179280" y="144360"/>
              <a:ext cx="7426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Text Box 16"/>
            <p:cNvSpPr/>
            <p:nvPr/>
          </p:nvSpPr>
          <p:spPr>
            <a:xfrm>
              <a:off x="914040" y="176400"/>
              <a:ext cx="29386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例题解析</a:t>
              </a:r>
              <a:endParaRPr b="1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3"/>
          <p:cNvSpPr/>
          <p:nvPr/>
        </p:nvSpPr>
        <p:spPr>
          <a:xfrm>
            <a:off x="431640" y="1187280"/>
            <a:ext cx="82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，要测量河两岸相对的两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距离，可以在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垂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取两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定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垂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一条直线上，这时测得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长就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1979640" y="3952800"/>
            <a:ext cx="3744720" cy="2620440"/>
            <a:chOff x="1979640" y="3952800"/>
            <a:chExt cx="3744720" cy="2620440"/>
          </a:xfrm>
        </p:grpSpPr>
        <p:sp>
          <p:nvSpPr>
            <p:cNvPr id="675" name="Line 5"/>
            <p:cNvSpPr/>
            <p:nvPr/>
          </p:nvSpPr>
          <p:spPr>
            <a:xfrm>
              <a:off x="3348000" y="429264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6"/>
            <p:cNvSpPr/>
            <p:nvPr/>
          </p:nvSpPr>
          <p:spPr>
            <a:xfrm>
              <a:off x="3348000" y="4292640"/>
              <a:ext cx="936720" cy="20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7"/>
            <p:cNvSpPr/>
            <p:nvPr/>
          </p:nvSpPr>
          <p:spPr>
            <a:xfrm>
              <a:off x="3348000" y="537372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8"/>
            <p:cNvSpPr/>
            <p:nvPr/>
          </p:nvSpPr>
          <p:spPr>
            <a:xfrm flipV="1">
              <a:off x="4284720" y="5373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9"/>
            <p:cNvSpPr/>
            <p:nvPr/>
          </p:nvSpPr>
          <p:spPr>
            <a:xfrm>
              <a:off x="1979640" y="4581360"/>
              <a:ext cx="3744720" cy="503280"/>
            </a:xfrm>
            <a:prstGeom prst="ellipse">
              <a:avLst/>
            </a:prstGeom>
            <a:solidFill>
              <a:srgbClr val="99ccff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0"/>
            <p:cNvSpPr/>
            <p:nvPr/>
          </p:nvSpPr>
          <p:spPr>
            <a:xfrm>
              <a:off x="3348000" y="4581360"/>
              <a:ext cx="0" cy="50328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1"/>
            <p:cNvSpPr/>
            <p:nvPr/>
          </p:nvSpPr>
          <p:spPr>
            <a:xfrm>
              <a:off x="3476520" y="4572000"/>
              <a:ext cx="222480" cy="50328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12"/>
            <p:cNvSpPr/>
            <p:nvPr/>
          </p:nvSpPr>
          <p:spPr>
            <a:xfrm>
              <a:off x="2938680" y="3952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ff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13"/>
            <p:cNvSpPr/>
            <p:nvPr/>
          </p:nvSpPr>
          <p:spPr>
            <a:xfrm>
              <a:off x="3011760" y="5105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ff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14"/>
            <p:cNvSpPr/>
            <p:nvPr/>
          </p:nvSpPr>
          <p:spPr>
            <a:xfrm>
              <a:off x="3732480" y="5033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ff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15"/>
            <p:cNvSpPr/>
            <p:nvPr/>
          </p:nvSpPr>
          <p:spPr>
            <a:xfrm>
              <a:off x="4301280" y="5033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ff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16"/>
            <p:cNvSpPr/>
            <p:nvPr/>
          </p:nvSpPr>
          <p:spPr>
            <a:xfrm>
              <a:off x="4237200" y="6113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ff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17"/>
            <p:cNvSpPr/>
            <p:nvPr/>
          </p:nvSpPr>
          <p:spPr>
            <a:xfrm>
              <a:off x="5172120" y="5105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Group 18"/>
          <p:cNvGrpSpPr/>
          <p:nvPr/>
        </p:nvGrpSpPr>
        <p:grpSpPr>
          <a:xfrm>
            <a:off x="250920" y="71280"/>
            <a:ext cx="2017080" cy="836640"/>
            <a:chOff x="250920" y="71280"/>
            <a:chExt cx="2017080" cy="836640"/>
          </a:xfrm>
        </p:grpSpPr>
        <p:pic>
          <p:nvPicPr>
            <p:cNvPr id="689" name="Picture 19" descr=""/>
            <p:cNvPicPr/>
            <p:nvPr/>
          </p:nvPicPr>
          <p:blipFill>
            <a:blip r:embed="rId1"/>
            <a:stretch/>
          </p:blipFill>
          <p:spPr>
            <a:xfrm>
              <a:off x="250920" y="71280"/>
              <a:ext cx="74304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Text Box 20"/>
            <p:cNvSpPr/>
            <p:nvPr/>
          </p:nvSpPr>
          <p:spPr>
            <a:xfrm>
              <a:off x="985680" y="102960"/>
              <a:ext cx="1282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练习</a:t>
              </a:r>
              <a:endParaRPr b="1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2"/>
          <p:cNvSpPr/>
          <p:nvPr/>
        </p:nvSpPr>
        <p:spPr>
          <a:xfrm>
            <a:off x="468360" y="1089000"/>
            <a:ext cx="8136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=∠2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3"/>
          <p:cNvGrpSpPr/>
          <p:nvPr/>
        </p:nvGrpSpPr>
        <p:grpSpPr>
          <a:xfrm>
            <a:off x="4644720" y="2349360"/>
            <a:ext cx="2987280" cy="3394440"/>
            <a:chOff x="4644720" y="2349360"/>
            <a:chExt cx="2987280" cy="3394440"/>
          </a:xfrm>
        </p:grpSpPr>
        <p:sp>
          <p:nvSpPr>
            <p:cNvPr id="693" name="Line 4"/>
            <p:cNvSpPr/>
            <p:nvPr/>
          </p:nvSpPr>
          <p:spPr>
            <a:xfrm>
              <a:off x="6154560" y="2957400"/>
              <a:ext cx="0" cy="2232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5"/>
            <p:cNvSpPr/>
            <p:nvPr/>
          </p:nvSpPr>
          <p:spPr>
            <a:xfrm flipV="1">
              <a:off x="6154560" y="4686120"/>
              <a:ext cx="1009800" cy="5032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6"/>
            <p:cNvSpPr/>
            <p:nvPr/>
          </p:nvSpPr>
          <p:spPr>
            <a:xfrm flipH="1" flipV="1">
              <a:off x="6154200" y="2957400"/>
              <a:ext cx="1009800" cy="1728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7"/>
            <p:cNvSpPr/>
            <p:nvPr/>
          </p:nvSpPr>
          <p:spPr>
            <a:xfrm flipH="1">
              <a:off x="5149440" y="2957400"/>
              <a:ext cx="1004760" cy="176688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8"/>
            <p:cNvSpPr/>
            <p:nvPr/>
          </p:nvSpPr>
          <p:spPr>
            <a:xfrm>
              <a:off x="5145120" y="4728960"/>
              <a:ext cx="1009440" cy="4604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9"/>
            <p:cNvSpPr/>
            <p:nvPr/>
          </p:nvSpPr>
          <p:spPr>
            <a:xfrm>
              <a:off x="5968800" y="234936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10"/>
            <p:cNvSpPr/>
            <p:nvPr/>
          </p:nvSpPr>
          <p:spPr>
            <a:xfrm>
              <a:off x="4644720" y="430056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11"/>
            <p:cNvSpPr/>
            <p:nvPr/>
          </p:nvSpPr>
          <p:spPr>
            <a:xfrm>
              <a:off x="5889600" y="504036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12"/>
            <p:cNvSpPr/>
            <p:nvPr/>
          </p:nvSpPr>
          <p:spPr>
            <a:xfrm>
              <a:off x="7085520" y="42606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13"/>
            <p:cNvSpPr/>
            <p:nvPr/>
          </p:nvSpPr>
          <p:spPr>
            <a:xfrm>
              <a:off x="5800680" y="32083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14"/>
            <p:cNvSpPr/>
            <p:nvPr/>
          </p:nvSpPr>
          <p:spPr>
            <a:xfrm>
              <a:off x="6087960" y="31654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15"/>
          <p:cNvGrpSpPr/>
          <p:nvPr/>
        </p:nvGrpSpPr>
        <p:grpSpPr>
          <a:xfrm>
            <a:off x="250920" y="71280"/>
            <a:ext cx="2017080" cy="836640"/>
            <a:chOff x="250920" y="71280"/>
            <a:chExt cx="2017080" cy="836640"/>
          </a:xfrm>
        </p:grpSpPr>
        <p:pic>
          <p:nvPicPr>
            <p:cNvPr id="705" name="Picture 16" descr=""/>
            <p:cNvPicPr/>
            <p:nvPr/>
          </p:nvPicPr>
          <p:blipFill>
            <a:blip r:embed="rId1"/>
            <a:stretch/>
          </p:blipFill>
          <p:spPr>
            <a:xfrm>
              <a:off x="250920" y="71280"/>
              <a:ext cx="74304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Text Box 17"/>
            <p:cNvSpPr/>
            <p:nvPr/>
          </p:nvSpPr>
          <p:spPr>
            <a:xfrm>
              <a:off x="985680" y="102960"/>
              <a:ext cx="1282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练习</a:t>
              </a:r>
              <a:endParaRPr b="1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7"/>
          <p:cNvSpPr/>
          <p:nvPr/>
        </p:nvSpPr>
        <p:spPr>
          <a:xfrm>
            <a:off x="2259000" y="2158920"/>
            <a:ext cx="448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能总结出我们学过哪些判定三角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全等的方法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8"/>
          <p:cNvSpPr/>
          <p:nvPr/>
        </p:nvSpPr>
        <p:spPr>
          <a:xfrm>
            <a:off x="1850040" y="3565440"/>
            <a:ext cx="37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根据题意选择适当的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2276640" y="4530600"/>
            <a:ext cx="448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证明线段或角相等，就是证明它们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的两个三角形全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10"/>
          <p:cNvGrpSpPr/>
          <p:nvPr/>
        </p:nvGrpSpPr>
        <p:grpSpPr>
          <a:xfrm>
            <a:off x="250920" y="71280"/>
            <a:ext cx="2017080" cy="836640"/>
            <a:chOff x="250920" y="71280"/>
            <a:chExt cx="2017080" cy="836640"/>
          </a:xfrm>
        </p:grpSpPr>
        <p:pic>
          <p:nvPicPr>
            <p:cNvPr id="711" name="Picture 11" descr=""/>
            <p:cNvPicPr/>
            <p:nvPr/>
          </p:nvPicPr>
          <p:blipFill>
            <a:blip r:embed="rId1"/>
            <a:stretch/>
          </p:blipFill>
          <p:spPr>
            <a:xfrm>
              <a:off x="250920" y="71280"/>
              <a:ext cx="74304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Text Box 12"/>
            <p:cNvSpPr/>
            <p:nvPr/>
          </p:nvSpPr>
          <p:spPr>
            <a:xfrm>
              <a:off x="985680" y="102960"/>
              <a:ext cx="1282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小结</a:t>
              </a:r>
              <a:endParaRPr b="1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WordArt 4"/>
          <p:cNvSpPr txBox="1"/>
          <p:nvPr/>
        </p:nvSpPr>
        <p:spPr>
          <a:xfrm>
            <a:off x="1692360" y="1989000"/>
            <a:ext cx="6192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13"/>
          <p:cNvSpPr/>
          <p:nvPr/>
        </p:nvSpPr>
        <p:spPr>
          <a:xfrm>
            <a:off x="1990440" y="2060640"/>
            <a:ext cx="38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什么样的图形是全等三角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4"/>
          <p:cNvSpPr/>
          <p:nvPr/>
        </p:nvSpPr>
        <p:spPr>
          <a:xfrm>
            <a:off x="2125800" y="3763800"/>
            <a:ext cx="48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判定两个三角形全等要具备什么条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15"/>
          <p:cNvGrpSpPr/>
          <p:nvPr/>
        </p:nvGrpSpPr>
        <p:grpSpPr>
          <a:xfrm>
            <a:off x="250920" y="216000"/>
            <a:ext cx="2017080" cy="836640"/>
            <a:chOff x="250920" y="216000"/>
            <a:chExt cx="2017080" cy="836640"/>
          </a:xfrm>
        </p:grpSpPr>
        <p:pic>
          <p:nvPicPr>
            <p:cNvPr id="596" name="Picture 16" descr=""/>
            <p:cNvPicPr/>
            <p:nvPr/>
          </p:nvPicPr>
          <p:blipFill>
            <a:blip r:embed="rId1"/>
            <a:stretch/>
          </p:blipFill>
          <p:spPr>
            <a:xfrm>
              <a:off x="250920" y="216000"/>
              <a:ext cx="74304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Text Box 17"/>
            <p:cNvSpPr/>
            <p:nvPr/>
          </p:nvSpPr>
          <p:spPr>
            <a:xfrm>
              <a:off x="985680" y="247680"/>
              <a:ext cx="1282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思考</a:t>
              </a:r>
              <a:endParaRPr b="1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3"/>
          <p:cNvSpPr/>
          <p:nvPr/>
        </p:nvSpPr>
        <p:spPr>
          <a:xfrm>
            <a:off x="1619280" y="2924280"/>
            <a:ext cx="5688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有</a:t>
            </a:r>
            <a:r>
              <a:rPr b="0" lang="zh-CN" sz="4400" spc="-1" strike="noStrike">
                <a:solidFill>
                  <a:srgbClr val="ff66cc"/>
                </a:solidFill>
                <a:latin typeface="Times New Roman"/>
                <a:ea typeface="华文新魏"/>
              </a:rPr>
              <a:t>三边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对应相等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两个三角形全等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3517920" y="11970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琥珀"/>
                <a:ea typeface="华文琥珀"/>
              </a:rPr>
              <a:t>边边边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>
            <a:hlinkClick r:id="" action="ppaction://hlinkshowjump?jump=previousslide"/>
          </p:cNvPr>
          <p:cNvSpPr/>
          <p:nvPr/>
        </p:nvSpPr>
        <p:spPr>
          <a:xfrm>
            <a:off x="6553080" y="4648320"/>
            <a:ext cx="2590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3"/>
          <p:cNvSpPr/>
          <p:nvPr/>
        </p:nvSpPr>
        <p:spPr>
          <a:xfrm>
            <a:off x="1403280" y="2852640"/>
            <a:ext cx="64803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有</a:t>
            </a:r>
            <a:r>
              <a:rPr b="0" lang="zh-CN" sz="4400" spc="-1" strike="noStrike">
                <a:solidFill>
                  <a:srgbClr val="ff66cc"/>
                </a:solidFill>
                <a:latin typeface="Times New Roman"/>
                <a:ea typeface="华文新魏"/>
              </a:rPr>
              <a:t>两边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和它们</a:t>
            </a:r>
            <a:r>
              <a:rPr b="0" lang="zh-CN" sz="4400" spc="-1" strike="noStrike">
                <a:solidFill>
                  <a:srgbClr val="ff66cc"/>
                </a:solidFill>
                <a:latin typeface="Times New Roman"/>
                <a:ea typeface="华文新魏"/>
              </a:rPr>
              <a:t>夹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对应相等的两个三角形全等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3568680" y="11970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琥珀"/>
                <a:ea typeface="华文琥珀"/>
              </a:rPr>
              <a:t>边角边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">
            <a:hlinkClick r:id="" action="ppaction://hlinkshowjump?jump=previousslide"/>
          </p:cNvPr>
          <p:cNvSpPr/>
          <p:nvPr/>
        </p:nvSpPr>
        <p:spPr>
          <a:xfrm>
            <a:off x="6553080" y="4648320"/>
            <a:ext cx="2590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3"/>
          <p:cNvSpPr/>
          <p:nvPr/>
        </p:nvSpPr>
        <p:spPr>
          <a:xfrm>
            <a:off x="395280" y="1852560"/>
            <a:ext cx="496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张教学用的三角形硬纸板不小心被撕坏了，如图，你能制作一张与原来同样大小的新教具？能恢复原来三角形的原貌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7"/>
          <p:cNvSpPr/>
          <p:nvPr/>
        </p:nvSpPr>
        <p:spPr>
          <a:xfrm>
            <a:off x="7956720" y="2349360"/>
            <a:ext cx="0" cy="320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8"/>
          <p:cNvSpPr/>
          <p:nvPr/>
        </p:nvSpPr>
        <p:spPr>
          <a:xfrm flipH="1">
            <a:off x="7042320" y="2349360"/>
            <a:ext cx="91440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9"/>
          <p:cNvSpPr/>
          <p:nvPr/>
        </p:nvSpPr>
        <p:spPr>
          <a:xfrm flipH="1" flipV="1">
            <a:off x="6966000" y="5168880"/>
            <a:ext cx="9907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10"/>
          <p:cNvSpPr/>
          <p:nvPr/>
        </p:nvSpPr>
        <p:spPr>
          <a:xfrm>
            <a:off x="6877080" y="3456000"/>
            <a:ext cx="533520" cy="1757520"/>
          </a:xfrm>
          <a:custGeom>
            <a:avLst/>
            <a:gdLst>
              <a:gd name="textAreaLeft" fmla="*/ 0 w 533520"/>
              <a:gd name="textAreaRight" fmla="*/ 533880 w 533520"/>
              <a:gd name="textAreaTop" fmla="*/ 0 h 1757520"/>
              <a:gd name="textAreaBottom" fmla="*/ 1757880 h 1757520"/>
            </a:gdLst>
            <a:ahLst/>
            <a:rect l="textAreaLeft" t="textAreaTop" r="textAreaRight" b="textAreaBottom"/>
            <a:pathLst>
              <a:path w="336" h="1107">
                <a:moveTo>
                  <a:pt x="101" y="0"/>
                </a:moveTo>
                <a:cubicBezTo>
                  <a:pt x="102" y="0"/>
                  <a:pt x="195" y="19"/>
                  <a:pt x="203" y="23"/>
                </a:cubicBezTo>
                <a:cubicBezTo>
                  <a:pt x="227" y="35"/>
                  <a:pt x="271" y="68"/>
                  <a:pt x="271" y="68"/>
                </a:cubicBezTo>
                <a:cubicBezTo>
                  <a:pt x="321" y="145"/>
                  <a:pt x="271" y="216"/>
                  <a:pt x="203" y="260"/>
                </a:cubicBezTo>
                <a:cubicBezTo>
                  <a:pt x="210" y="275"/>
                  <a:pt x="213" y="293"/>
                  <a:pt x="225" y="305"/>
                </a:cubicBezTo>
                <a:cubicBezTo>
                  <a:pt x="336" y="416"/>
                  <a:pt x="220" y="249"/>
                  <a:pt x="293" y="362"/>
                </a:cubicBezTo>
                <a:cubicBezTo>
                  <a:pt x="234" y="381"/>
                  <a:pt x="184" y="414"/>
                  <a:pt x="124" y="430"/>
                </a:cubicBezTo>
                <a:cubicBezTo>
                  <a:pt x="46" y="482"/>
                  <a:pt x="82" y="467"/>
                  <a:pt x="22" y="486"/>
                </a:cubicBezTo>
                <a:cubicBezTo>
                  <a:pt x="51" y="496"/>
                  <a:pt x="84" y="496"/>
                  <a:pt x="112" y="509"/>
                </a:cubicBezTo>
                <a:cubicBezTo>
                  <a:pt x="137" y="520"/>
                  <a:pt x="180" y="554"/>
                  <a:pt x="180" y="554"/>
                </a:cubicBezTo>
                <a:cubicBezTo>
                  <a:pt x="208" y="595"/>
                  <a:pt x="241" y="617"/>
                  <a:pt x="282" y="644"/>
                </a:cubicBezTo>
                <a:cubicBezTo>
                  <a:pt x="265" y="712"/>
                  <a:pt x="276" y="674"/>
                  <a:pt x="248" y="757"/>
                </a:cubicBezTo>
                <a:cubicBezTo>
                  <a:pt x="239" y="783"/>
                  <a:pt x="203" y="787"/>
                  <a:pt x="180" y="802"/>
                </a:cubicBezTo>
                <a:cubicBezTo>
                  <a:pt x="170" y="809"/>
                  <a:pt x="157" y="809"/>
                  <a:pt x="146" y="814"/>
                </a:cubicBezTo>
                <a:cubicBezTo>
                  <a:pt x="93" y="837"/>
                  <a:pt x="57" y="862"/>
                  <a:pt x="0" y="881"/>
                </a:cubicBezTo>
                <a:cubicBezTo>
                  <a:pt x="4" y="892"/>
                  <a:pt x="4" y="906"/>
                  <a:pt x="11" y="915"/>
                </a:cubicBezTo>
                <a:cubicBezTo>
                  <a:pt x="19" y="926"/>
                  <a:pt x="38" y="926"/>
                  <a:pt x="45" y="938"/>
                </a:cubicBezTo>
                <a:cubicBezTo>
                  <a:pt x="58" y="962"/>
                  <a:pt x="60" y="991"/>
                  <a:pt x="67" y="1017"/>
                </a:cubicBezTo>
                <a:cubicBezTo>
                  <a:pt x="62" y="1040"/>
                  <a:pt x="38" y="1107"/>
                  <a:pt x="90" y="110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11"/>
          <p:cNvSpPr/>
          <p:nvPr/>
        </p:nvSpPr>
        <p:spPr>
          <a:xfrm>
            <a:off x="8381880" y="6400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13"/>
          <p:cNvGrpSpPr/>
          <p:nvPr/>
        </p:nvGrpSpPr>
        <p:grpSpPr>
          <a:xfrm>
            <a:off x="250920" y="216000"/>
            <a:ext cx="2017080" cy="836640"/>
            <a:chOff x="250920" y="216000"/>
            <a:chExt cx="2017080" cy="836640"/>
          </a:xfrm>
        </p:grpSpPr>
        <p:pic>
          <p:nvPicPr>
            <p:cNvPr id="611" name="Picture 14" descr=""/>
            <p:cNvPicPr/>
            <p:nvPr/>
          </p:nvPicPr>
          <p:blipFill>
            <a:blip r:embed="rId1"/>
            <a:stretch/>
          </p:blipFill>
          <p:spPr>
            <a:xfrm>
              <a:off x="250920" y="216000"/>
              <a:ext cx="74304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Text Box 15"/>
            <p:cNvSpPr/>
            <p:nvPr/>
          </p:nvSpPr>
          <p:spPr>
            <a:xfrm>
              <a:off x="985680" y="247680"/>
              <a:ext cx="1282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引例</a:t>
              </a:r>
              <a:endParaRPr b="1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2"/>
          <p:cNvGrpSpPr/>
          <p:nvPr/>
        </p:nvGrpSpPr>
        <p:grpSpPr>
          <a:xfrm>
            <a:off x="5146560" y="990720"/>
            <a:ext cx="2625840" cy="5257800"/>
            <a:chOff x="5146560" y="990720"/>
            <a:chExt cx="2625840" cy="5257800"/>
          </a:xfrm>
        </p:grpSpPr>
        <p:sp>
          <p:nvSpPr>
            <p:cNvPr id="614" name="Line 3"/>
            <p:cNvSpPr/>
            <p:nvPr/>
          </p:nvSpPr>
          <p:spPr>
            <a:xfrm flipV="1">
              <a:off x="5181480" y="990720"/>
              <a:ext cx="18288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4"/>
            <p:cNvSpPr/>
            <p:nvPr/>
          </p:nvSpPr>
          <p:spPr>
            <a:xfrm>
              <a:off x="7010280" y="990720"/>
              <a:ext cx="762120" cy="525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5"/>
            <p:cNvSpPr/>
            <p:nvPr/>
          </p:nvSpPr>
          <p:spPr>
            <a:xfrm flipH="1" flipV="1">
              <a:off x="5943600" y="5866920"/>
              <a:ext cx="1828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>
              <a:off x="5146560" y="2817720"/>
              <a:ext cx="1216080" cy="313524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3135240"/>
                <a:gd name="textAreaBottom" fmla="*/ 3135600 h 3135240"/>
              </a:gdLst>
              <a:ahLst/>
              <a:rect l="textAreaLeft" t="textAreaTop" r="textAreaRight" b="textAreaBottom"/>
              <a:pathLst>
                <a:path w="766" h="1975">
                  <a:moveTo>
                    <a:pt x="73" y="0"/>
                  </a:moveTo>
                  <a:cubicBezTo>
                    <a:pt x="174" y="68"/>
                    <a:pt x="116" y="38"/>
                    <a:pt x="249" y="82"/>
                  </a:cubicBezTo>
                  <a:cubicBezTo>
                    <a:pt x="266" y="88"/>
                    <a:pt x="279" y="103"/>
                    <a:pt x="296" y="106"/>
                  </a:cubicBezTo>
                  <a:cubicBezTo>
                    <a:pt x="374" y="119"/>
                    <a:pt x="531" y="129"/>
                    <a:pt x="531" y="129"/>
                  </a:cubicBezTo>
                  <a:cubicBezTo>
                    <a:pt x="432" y="163"/>
                    <a:pt x="354" y="236"/>
                    <a:pt x="261" y="282"/>
                  </a:cubicBezTo>
                  <a:cubicBezTo>
                    <a:pt x="225" y="354"/>
                    <a:pt x="188" y="425"/>
                    <a:pt x="120" y="470"/>
                  </a:cubicBezTo>
                  <a:cubicBezTo>
                    <a:pt x="116" y="482"/>
                    <a:pt x="115" y="495"/>
                    <a:pt x="108" y="505"/>
                  </a:cubicBezTo>
                  <a:cubicBezTo>
                    <a:pt x="99" y="519"/>
                    <a:pt x="70" y="525"/>
                    <a:pt x="73" y="541"/>
                  </a:cubicBezTo>
                  <a:cubicBezTo>
                    <a:pt x="76" y="558"/>
                    <a:pt x="103" y="559"/>
                    <a:pt x="120" y="564"/>
                  </a:cubicBezTo>
                  <a:cubicBezTo>
                    <a:pt x="166" y="579"/>
                    <a:pt x="261" y="600"/>
                    <a:pt x="261" y="600"/>
                  </a:cubicBezTo>
                  <a:cubicBezTo>
                    <a:pt x="249" y="694"/>
                    <a:pt x="237" y="757"/>
                    <a:pt x="155" y="811"/>
                  </a:cubicBezTo>
                  <a:cubicBezTo>
                    <a:pt x="288" y="838"/>
                    <a:pt x="421" y="835"/>
                    <a:pt x="555" y="858"/>
                  </a:cubicBezTo>
                  <a:cubicBezTo>
                    <a:pt x="575" y="917"/>
                    <a:pt x="590" y="993"/>
                    <a:pt x="625" y="1046"/>
                  </a:cubicBezTo>
                  <a:cubicBezTo>
                    <a:pt x="510" y="1075"/>
                    <a:pt x="407" y="1115"/>
                    <a:pt x="296" y="1152"/>
                  </a:cubicBezTo>
                  <a:cubicBezTo>
                    <a:pt x="265" y="1162"/>
                    <a:pt x="231" y="1162"/>
                    <a:pt x="202" y="1176"/>
                  </a:cubicBezTo>
                  <a:cubicBezTo>
                    <a:pt x="94" y="1230"/>
                    <a:pt x="142" y="1215"/>
                    <a:pt x="61" y="1234"/>
                  </a:cubicBezTo>
                  <a:cubicBezTo>
                    <a:pt x="45" y="1242"/>
                    <a:pt x="18" y="1241"/>
                    <a:pt x="14" y="1258"/>
                  </a:cubicBezTo>
                  <a:cubicBezTo>
                    <a:pt x="0" y="1316"/>
                    <a:pt x="107" y="1400"/>
                    <a:pt x="132" y="1411"/>
                  </a:cubicBezTo>
                  <a:cubicBezTo>
                    <a:pt x="175" y="1431"/>
                    <a:pt x="226" y="1426"/>
                    <a:pt x="273" y="1434"/>
                  </a:cubicBezTo>
                  <a:cubicBezTo>
                    <a:pt x="296" y="1438"/>
                    <a:pt x="343" y="1446"/>
                    <a:pt x="343" y="1446"/>
                  </a:cubicBezTo>
                  <a:cubicBezTo>
                    <a:pt x="355" y="1454"/>
                    <a:pt x="378" y="1455"/>
                    <a:pt x="379" y="1469"/>
                  </a:cubicBezTo>
                  <a:cubicBezTo>
                    <a:pt x="386" y="1547"/>
                    <a:pt x="352" y="1597"/>
                    <a:pt x="296" y="1634"/>
                  </a:cubicBezTo>
                  <a:cubicBezTo>
                    <a:pt x="447" y="1683"/>
                    <a:pt x="305" y="1644"/>
                    <a:pt x="578" y="1669"/>
                  </a:cubicBezTo>
                  <a:cubicBezTo>
                    <a:pt x="641" y="1675"/>
                    <a:pt x="705" y="1702"/>
                    <a:pt x="766" y="1716"/>
                  </a:cubicBezTo>
                  <a:cubicBezTo>
                    <a:pt x="716" y="1733"/>
                    <a:pt x="665" y="1739"/>
                    <a:pt x="614" y="1752"/>
                  </a:cubicBezTo>
                  <a:cubicBezTo>
                    <a:pt x="602" y="1760"/>
                    <a:pt x="587" y="1764"/>
                    <a:pt x="578" y="1775"/>
                  </a:cubicBezTo>
                  <a:cubicBezTo>
                    <a:pt x="559" y="1796"/>
                    <a:pt x="531" y="1846"/>
                    <a:pt x="531" y="1846"/>
                  </a:cubicBezTo>
                  <a:cubicBezTo>
                    <a:pt x="523" y="1869"/>
                    <a:pt x="518" y="1894"/>
                    <a:pt x="508" y="1916"/>
                  </a:cubicBezTo>
                  <a:cubicBezTo>
                    <a:pt x="496" y="1943"/>
                    <a:pt x="459" y="1975"/>
                    <a:pt x="508" y="1928"/>
                  </a:cubicBezTo>
                  <a:lnTo>
                    <a:pt x="550" y="187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Line 7"/>
          <p:cNvSpPr/>
          <p:nvPr/>
        </p:nvSpPr>
        <p:spPr>
          <a:xfrm flipH="1">
            <a:off x="2742840" y="2819520"/>
            <a:ext cx="243828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8"/>
          <p:cNvSpPr/>
          <p:nvPr/>
        </p:nvSpPr>
        <p:spPr>
          <a:xfrm flipH="1" flipV="1">
            <a:off x="2743200" y="5105520"/>
            <a:ext cx="32004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2209680" y="49528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7620120" y="6095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1"/>
          <p:cNvSpPr/>
          <p:nvPr/>
        </p:nvSpPr>
        <p:spPr>
          <a:xfrm>
            <a:off x="5715000" y="6019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2"/>
          <p:cNvSpPr/>
          <p:nvPr/>
        </p:nvSpPr>
        <p:spPr>
          <a:xfrm>
            <a:off x="6629400" y="533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464832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900000" y="1446120"/>
            <a:ext cx="79711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先任意画出一个△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再画一个△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使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 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把画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△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剪下，放到△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上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它们全等吗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7"/>
          <p:cNvGrpSpPr/>
          <p:nvPr/>
        </p:nvGrpSpPr>
        <p:grpSpPr>
          <a:xfrm>
            <a:off x="250920" y="144360"/>
            <a:ext cx="2736720" cy="836640"/>
            <a:chOff x="250920" y="144360"/>
            <a:chExt cx="2736720" cy="836640"/>
          </a:xfrm>
        </p:grpSpPr>
        <p:pic>
          <p:nvPicPr>
            <p:cNvPr id="627" name="Picture 5" descr=""/>
            <p:cNvPicPr/>
            <p:nvPr/>
          </p:nvPicPr>
          <p:blipFill>
            <a:blip r:embed="rId1"/>
            <a:stretch/>
          </p:blipFill>
          <p:spPr>
            <a:xfrm>
              <a:off x="250920" y="144360"/>
              <a:ext cx="7426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Text Box 6"/>
            <p:cNvSpPr/>
            <p:nvPr/>
          </p:nvSpPr>
          <p:spPr>
            <a:xfrm>
              <a:off x="985680" y="176400"/>
              <a:ext cx="20019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探究</a:t>
              </a:r>
              <a:r>
                <a:rPr b="1" lang="en-US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5</a:t>
              </a:r>
              <a:endParaRPr b="1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684360" y="1116000"/>
            <a:ext cx="6778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：任意 △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画一个△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755640" y="25509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画法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1979640" y="33433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同旁画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交于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1979640" y="262260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画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1898640" y="47815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是所要画的三角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826920" y="57340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：通过实验可以发现什么事实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8"/>
          <p:cNvGrpSpPr/>
          <p:nvPr/>
        </p:nvGrpSpPr>
        <p:grpSpPr>
          <a:xfrm>
            <a:off x="250920" y="71280"/>
            <a:ext cx="2017080" cy="836640"/>
            <a:chOff x="250920" y="71280"/>
            <a:chExt cx="2017080" cy="836640"/>
          </a:xfrm>
        </p:grpSpPr>
        <p:pic>
          <p:nvPicPr>
            <p:cNvPr id="636" name="Picture 9" descr=""/>
            <p:cNvPicPr/>
            <p:nvPr/>
          </p:nvPicPr>
          <p:blipFill>
            <a:blip r:embed="rId1"/>
            <a:stretch/>
          </p:blipFill>
          <p:spPr>
            <a:xfrm>
              <a:off x="250920" y="71280"/>
              <a:ext cx="74304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Text Box 10"/>
            <p:cNvSpPr/>
            <p:nvPr/>
          </p:nvSpPr>
          <p:spPr>
            <a:xfrm>
              <a:off x="985680" y="102960"/>
              <a:ext cx="1282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画法</a:t>
              </a:r>
              <a:endParaRPr b="1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3"/>
          <p:cNvSpPr/>
          <p:nvPr/>
        </p:nvSpPr>
        <p:spPr>
          <a:xfrm>
            <a:off x="826920" y="2638440"/>
            <a:ext cx="769644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有两角和它们夹边对应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相等的两个三角形全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简写成“角边角”或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SA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275120" y="1432080"/>
            <a:ext cx="34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探究</a:t>
            </a:r>
            <a:r>
              <a:rPr b="1" lang="en-US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反映的规律是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7"/>
          <p:cNvGrpSpPr/>
          <p:nvPr/>
        </p:nvGrpSpPr>
        <p:grpSpPr>
          <a:xfrm>
            <a:off x="250920" y="71280"/>
            <a:ext cx="2017080" cy="836640"/>
            <a:chOff x="250920" y="71280"/>
            <a:chExt cx="2017080" cy="836640"/>
          </a:xfrm>
        </p:grpSpPr>
        <p:pic>
          <p:nvPicPr>
            <p:cNvPr id="641" name="Picture 8" descr=""/>
            <p:cNvPicPr/>
            <p:nvPr/>
          </p:nvPicPr>
          <p:blipFill>
            <a:blip r:embed="rId1"/>
            <a:stretch/>
          </p:blipFill>
          <p:spPr>
            <a:xfrm>
              <a:off x="250920" y="71280"/>
              <a:ext cx="74304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Text Box 9"/>
            <p:cNvSpPr/>
            <p:nvPr/>
          </p:nvSpPr>
          <p:spPr>
            <a:xfrm>
              <a:off x="985680" y="102960"/>
              <a:ext cx="1282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规律</a:t>
              </a:r>
              <a:endParaRPr b="1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06:51:42Z</dcterms:created>
  <dc:creator>http://zhdduya100.taobao.com/</dc:creator>
  <dc:description>http://zhdduya100.taobao.com/</dc:description>
  <cp:keywords>http://zhdduya100.taobao.com/</cp:keywords>
  <dc:language>en-US</dc:language>
  <cp:lastModifiedBy>Administrator</cp:lastModifiedBy>
  <dcterms:modified xsi:type="dcterms:W3CDTF">2014-07-19T01:28:01Z</dcterms:modified>
  <cp:revision>110</cp:revision>
  <dc:subject>http://zhdduya100.taobao.com/</dc:subject>
  <dc:title>http://zhdduya100.taobao.com/</dc:title>
</cp:coreProperties>
</file>