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gif" ContentType="image/gif"/>
  <Override PartName="/ppt/media/projctor.wav" ContentType="audio/x-wav"/>
  <Override PartName="/ppt/media/image9.png" ContentType="image/png"/>
  <Override PartName="/ppt/media/laser.wav" ContentType="audio/x-wav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B0558-8892-4E9A-8C26-57B11601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1E447-213C-4816-9F81-7A9CD225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B2E7F-66F3-4C4D-8503-93D49F6B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AB133-B269-484F-BC4C-22E91EFC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37F6C-4752-476C-B8ED-340675BC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1C9A0-6B3F-4751-AB5C-B2348697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B8441-6474-4FED-8428-469CA45F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E571-B910-493A-A00E-4DC9501B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549E1-C217-4556-BF2D-60FE3B5D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80B58-6672-41B0-86FA-B32FE93D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E59F8-056B-4AFF-A858-144323DF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AAA1A-F383-4255-A8D8-37273F71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822E8-BD6B-4C61-813E-0B5B1EB4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3340A-4FE6-4313-8391-13C99EB5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A2BD4-E761-4195-B88D-FC3FDF35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F0C3D-0CD1-44EB-AE52-7F116E1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3810A-BF99-4D97-84CE-689205C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FAEED-7DEA-4C56-9C80-5C19BD00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8BA11-F8E7-47A5-BD89-26C519B4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7A61A-5603-4D9E-838E-0E52D898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B5999-101C-4BF2-9573-50E10975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8FA30-2A8A-4305-A39B-9742FCFA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A931F-C18E-4906-A626-97F34C0C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CF9AE-4D55-475D-86F1-E6441E86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A8277-C652-4134-90A0-BD96809E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78227-0ECB-475B-950E-193D87E3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F17C8-AC65-47E1-87D9-C1E4729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C9047-CD05-4414-A7AA-81A857D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206D0-30B1-44EB-A543-F97176CD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DDC97-9235-492A-B58F-60098EF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AD1-47DC-4897-AFAB-4186C21F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86901-C402-4039-8989-280B3DD3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BD74A-26BA-4CE1-B100-76DAF5CE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F47B6-979F-4EB8-BCEE-DC3B84FA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C5047-FD0A-4AEE-BE35-DABCEE4B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C19D9-CA2B-4909-825A-3AA92C77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796F7-552F-4A5C-BE11-9ABD141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B4446-AAB9-4824-B6EA-1AF7F0F7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0BE4D-BB7F-487E-B387-E2D5A21A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7A8D8-03A8-435A-B470-2689179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2A58-B672-407B-92DA-6DECE1ED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443-1269-465E-B910-59A46933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72A4-3C86-4B59-A85F-90353806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FBA33-B881-4A9A-B011-B4B86C52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BEBEB-9146-468F-B58C-31FCF25C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2F53D-1C0E-45F3-9216-E03E9116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FD340-EAF0-47F1-B628-BA0F4778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B5A67-1C05-4A15-B43B-7AFC5023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4D86E-3158-41F3-BA46-68B595C1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BD1F5-8384-47F3-BC9F-315E44F3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9479E-175B-4056-AC55-4B1F4D40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4393F-8717-4B62-9F08-E69AE80D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15B-2E9F-449C-AF68-7D3E3D01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8D018-FCCC-45BD-AC68-BD71296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C70DC-6257-4026-9254-EEB76F2F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E8C95-7223-44C2-9383-6D83ED1B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27D99-20EF-4B8F-A1B0-0377E073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B00EE-609E-4AD7-BFD6-97F0AC5E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8706D-2971-47F6-8806-ADB5DCEB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88FC1-735D-4BF1-872A-81665EDD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19A-DD5D-44BB-A902-B283443A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41A-B711-46F3-A713-F25916DD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DF5-1DA9-447F-9C75-C160CF73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97D-1D70-4C44-8E16-41BEA1C5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223-8FCA-422E-94B6-13BA3C2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8D5-2341-4D87-8ABC-8FCC139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03C-89F6-4401-9878-348B9AAF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763-3FE7-4684-9AFC-477B9130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C26-9B21-4D17-A98C-25D2E75D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D785-5B14-4A84-AA0B-5153BC4E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C271-0093-4EA9-BF73-B63476C4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1528-6803-401B-A72C-A0BBC4C8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A9D-503E-4D6E-8620-B75EA0E7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DEC-007A-4922-BE1F-2E5BCE5F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D378-7087-434E-BE87-992C831A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C08B-234E-40E8-A4FD-12A3FEBA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2C44-9FDE-4FB0-926F-37F2669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06A8-EC34-4D44-96F3-AD9C432C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6F66-EF67-45E2-B255-DB247747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C549-25E8-4300-9887-D3FE2E10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DF60-99AF-4AED-83B3-ACB4697B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E5D2-BEEF-4072-A3E2-21E00850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4466-6050-48C4-B131-60B40F5B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9D8E-6A17-454D-A0A4-64188C66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0DA7-9193-4498-9231-F62A2EB8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E3D8-6339-40D9-854F-4F7A06A0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B9BD-7E23-4006-823A-FC51501B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1DEB-9E14-4B60-8E7A-32613D18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ED3D-20C3-4170-ACF8-2BCF43AC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5DCD-56BF-478B-AEC0-4620B3D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0BA8-1938-42A3-8276-A1B33648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CF53-B356-4DDC-9BD7-25FDB7FB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957F-D974-4CC7-8F35-295BDAE1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4F1F-2361-4F47-8001-AC7FCA80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DB8D-F8D3-454F-9FE8-372386C9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46DA8-75A3-4A8C-80E1-2BFFAE48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AFED0-37E8-461B-9362-6D0DC81D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81AF-912B-4CA4-88E1-6DB25F17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D6F5-A1C5-465E-8446-BC6D67F8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3011-CA3F-41D9-A551-0DEAB50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EEC1-A79F-4873-B139-DDA3215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A3212-81FE-42B0-9F86-A2421310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BB92C-4C65-4987-A4D2-407940BB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FA92C-5EA9-47FE-A47B-EE05D2F7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D3C8-D517-4E81-AC0C-AFCD648E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B4AD-4B5A-4957-A044-8230FCA3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15F68-2D67-4819-A068-7C6DDBE7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342D9-A2F1-44C3-B69B-4C47DE6C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7AB93-34D5-43FE-A25E-CB72D0D2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1EAD4-EF6B-4949-A068-376FEA3B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1E3C-DA92-4BFD-8042-51BE9576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C953A-8968-42D3-95F3-086B8E7B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91ED6-F5CF-4619-9044-FE088E2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4FF82-8196-4A8E-9103-0AA4C0E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4AEDE-770F-4374-808E-8BC594B0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DD9C-480E-4D8E-8F48-C310B19F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2C2CE-2164-47A2-ABFA-9C7700DA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864C-BAB6-492F-AEEB-95D76F46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4C5C4-DD21-4618-A2A9-CF7711AC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8DEC8-4A8B-4FFC-87A3-139FB95C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3FD68-6D98-4E64-B819-8E0EE1A5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E5B89-6265-41B6-B5E9-1ECF1827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C8A11-3B40-4067-BD88-E2CC24F1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7BC3C-18EE-490A-8503-D030186D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B77B-2463-41BE-B8FF-37CC04E7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02031-AB4B-4CF9-B0E9-646C9B9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736D-5633-4D00-BDC1-49809124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B2497-139A-427E-9D63-BBA1EB13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ABB41-1A09-479C-A688-34C3FECB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4C409-0AAC-4778-9D1D-AFA0CA38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282AA-6047-4F33-A425-53264C5B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B7900-CD16-49C5-889E-B097FE89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44F6C-099B-4F80-9BAD-50EFB96F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90554-A202-4E16-BB84-BE06B0A5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DEDC1-E096-440A-8691-6F003AFA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EAA14-73F4-4CA8-ABF5-8C416BF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81F91-511D-40CC-AEFD-0209624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63D06-04C5-4DD9-B62B-741E5B0D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10562-7169-4A31-96E3-AB426202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5B83-B8C6-4257-97B0-CE41BC7F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B8F7-BC18-47F8-B0D9-0B793E21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4F4E3-BF74-4C7C-9C88-332C6ACB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247B4-F11A-47D3-AF10-FE3CA68B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E3F10-77F3-4BC2-9C1D-E8B51E2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3122280" y="6321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中学生学习报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周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6280200" y="6162840"/>
            <a:ext cx="243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家级优秀教辅读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O900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际质量管理体系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43080" y="16344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教课标八年级  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4" descr="英格教育"/>
          <p:cNvPicPr/>
          <p:nvPr/>
        </p:nvPicPr>
        <p:blipFill>
          <a:blip r:embed="rId2"/>
          <a:stretch/>
        </p:blipFill>
        <p:spPr>
          <a:xfrm>
            <a:off x="0" y="6021360"/>
            <a:ext cx="1619280" cy="816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5" descr="知识改变命运"/>
          <p:cNvPicPr/>
          <p:nvPr/>
        </p:nvPicPr>
        <p:blipFill>
          <a:blip r:embed="rId3"/>
          <a:stretch/>
        </p:blipFill>
        <p:spPr>
          <a:xfrm>
            <a:off x="5435640" y="73080"/>
            <a:ext cx="3551040" cy="691920"/>
          </a:xfrm>
          <a:prstGeom prst="rect">
            <a:avLst/>
          </a:prstGeom>
          <a:ln w="0">
            <a:noFill/>
          </a:ln>
        </p:spPr>
      </p:pic>
      <p:sp>
        <p:nvSpPr>
          <p:cNvPr id="5" name="Line 1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17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E826-BE8C-450C-857D-1F5EFB4814F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B3EB-91F9-453E-98FF-764F2D2A337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5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8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ACA-05E6-49A8-960B-CC17808807E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7381-51C9-44B8-908D-50DB0E36174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B58-86F7-4AFC-82C5-C1AB5BB2684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1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2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C213-87A9-43EB-945B-0DAD483039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8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1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4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C62B-68D1-4D56-9396-988DC0D7FC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8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E8B7-8B66-4986-9CDF-9A1D5F5AD8D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3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35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38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055F-89C1-4906-8743-BA38864F20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82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6744-D86D-41EE-9EF2-B6169FCF292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26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2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3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8667-04D6-4CC7-9C93-B33D50AC42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1F94-EA83-430A-A8BA-485808B64A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3"/>
          <p:cNvSpPr/>
          <p:nvPr/>
        </p:nvSpPr>
        <p:spPr>
          <a:xfrm>
            <a:off x="1547640" y="2637000"/>
            <a:ext cx="6264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Times New Roman"/>
                <a:ea typeface="黑体"/>
              </a:rPr>
              <a:t>全等三角形的判定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08000" y="11970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知：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同一条直线上，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证明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F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≌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应有什么条件？怎样才能得到这个条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3370320" y="3678120"/>
            <a:ext cx="2133720" cy="1523880"/>
            <a:chOff x="3370320" y="3678120"/>
            <a:chExt cx="2133720" cy="1523880"/>
          </a:xfrm>
        </p:grpSpPr>
        <p:sp>
          <p:nvSpPr>
            <p:cNvPr id="720" name="Line 4"/>
            <p:cNvSpPr/>
            <p:nvPr/>
          </p:nvSpPr>
          <p:spPr>
            <a:xfrm>
              <a:off x="3370320" y="3678120"/>
              <a:ext cx="15238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5"/>
            <p:cNvSpPr/>
            <p:nvPr/>
          </p:nvSpPr>
          <p:spPr>
            <a:xfrm>
              <a:off x="3370320" y="36781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"/>
            <p:cNvSpPr/>
            <p:nvPr/>
          </p:nvSpPr>
          <p:spPr>
            <a:xfrm flipH="1">
              <a:off x="4894200" y="3678120"/>
              <a:ext cx="6098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7"/>
          <p:cNvGrpSpPr/>
          <p:nvPr/>
        </p:nvGrpSpPr>
        <p:grpSpPr>
          <a:xfrm>
            <a:off x="3675240" y="4592880"/>
            <a:ext cx="2133360" cy="1523880"/>
            <a:chOff x="3675240" y="4592880"/>
            <a:chExt cx="2133360" cy="1523880"/>
          </a:xfrm>
        </p:grpSpPr>
        <p:sp>
          <p:nvSpPr>
            <p:cNvPr id="724" name="Line 8"/>
            <p:cNvSpPr/>
            <p:nvPr/>
          </p:nvSpPr>
          <p:spPr>
            <a:xfrm flipH="1" flipV="1">
              <a:off x="4285080" y="4592880"/>
              <a:ext cx="15235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 flipH="1">
              <a:off x="3675240" y="61167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 flipV="1">
              <a:off x="3675960" y="459288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 Box 11"/>
          <p:cNvSpPr/>
          <p:nvPr/>
        </p:nvSpPr>
        <p:spPr>
          <a:xfrm>
            <a:off x="2836800" y="3281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2"/>
          <p:cNvSpPr/>
          <p:nvPr/>
        </p:nvSpPr>
        <p:spPr>
          <a:xfrm>
            <a:off x="5580000" y="3357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3"/>
          <p:cNvSpPr/>
          <p:nvPr/>
        </p:nvSpPr>
        <p:spPr>
          <a:xfrm>
            <a:off x="3294000" y="5948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808600" y="5902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3751200" y="4363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70520" y="482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17"/>
          <p:cNvGrpSpPr/>
          <p:nvPr/>
        </p:nvGrpSpPr>
        <p:grpSpPr>
          <a:xfrm>
            <a:off x="3373560" y="3700440"/>
            <a:ext cx="2438280" cy="2438280"/>
            <a:chOff x="3373560" y="3700440"/>
            <a:chExt cx="2438280" cy="2438280"/>
          </a:xfrm>
        </p:grpSpPr>
        <p:sp>
          <p:nvSpPr>
            <p:cNvPr id="734" name="Line 18"/>
            <p:cNvSpPr/>
            <p:nvPr/>
          </p:nvSpPr>
          <p:spPr>
            <a:xfrm>
              <a:off x="3373560" y="37004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>
              <a:off x="3678480" y="613872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0"/>
          <p:cNvGrpSpPr/>
          <p:nvPr/>
        </p:nvGrpSpPr>
        <p:grpSpPr>
          <a:xfrm>
            <a:off x="3370320" y="3678120"/>
            <a:ext cx="2438280" cy="2438280"/>
            <a:chOff x="3370320" y="3678120"/>
            <a:chExt cx="2438280" cy="2438280"/>
          </a:xfrm>
        </p:grpSpPr>
        <p:sp>
          <p:nvSpPr>
            <p:cNvPr id="737" name="Line 21"/>
            <p:cNvSpPr/>
            <p:nvPr/>
          </p:nvSpPr>
          <p:spPr>
            <a:xfrm>
              <a:off x="3370320" y="3678120"/>
              <a:ext cx="914400" cy="91440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4894200" y="5202000"/>
              <a:ext cx="914400" cy="91440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Line 23"/>
          <p:cNvSpPr/>
          <p:nvPr/>
        </p:nvSpPr>
        <p:spPr>
          <a:xfrm>
            <a:off x="4284720" y="459252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24"/>
          <p:cNvGrpSpPr/>
          <p:nvPr/>
        </p:nvGrpSpPr>
        <p:grpSpPr>
          <a:xfrm>
            <a:off x="3354480" y="3662280"/>
            <a:ext cx="2437920" cy="2438640"/>
            <a:chOff x="3354480" y="3662280"/>
            <a:chExt cx="2437920" cy="2438640"/>
          </a:xfrm>
        </p:grpSpPr>
        <p:sp>
          <p:nvSpPr>
            <p:cNvPr id="741" name="Line 25"/>
            <p:cNvSpPr/>
            <p:nvPr/>
          </p:nvSpPr>
          <p:spPr>
            <a:xfrm>
              <a:off x="3354480" y="3662280"/>
              <a:ext cx="914040" cy="91440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6"/>
            <p:cNvSpPr/>
            <p:nvPr/>
          </p:nvSpPr>
          <p:spPr>
            <a:xfrm>
              <a:off x="4878360" y="5186520"/>
              <a:ext cx="914040" cy="91440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Line 27"/>
          <p:cNvSpPr/>
          <p:nvPr/>
        </p:nvSpPr>
        <p:spPr>
          <a:xfrm>
            <a:off x="4284720" y="459252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3674880" y="3662280"/>
            <a:ext cx="1829160" cy="2438640"/>
            <a:chOff x="3674880" y="3662280"/>
            <a:chExt cx="1829160" cy="2438640"/>
          </a:xfrm>
        </p:grpSpPr>
        <p:sp>
          <p:nvSpPr>
            <p:cNvPr id="745" name="Line 29"/>
            <p:cNvSpPr/>
            <p:nvPr/>
          </p:nvSpPr>
          <p:spPr>
            <a:xfrm flipH="1">
              <a:off x="3674880" y="4576680"/>
              <a:ext cx="609480" cy="1524240"/>
            </a:xfrm>
            <a:prstGeom prst="line">
              <a:avLst/>
            </a:prstGeom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 flipH="1">
              <a:off x="4894200" y="3662280"/>
              <a:ext cx="609840" cy="1524240"/>
            </a:xfrm>
            <a:prstGeom prst="line">
              <a:avLst/>
            </a:prstGeom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31"/>
          <p:cNvGrpSpPr/>
          <p:nvPr/>
        </p:nvGrpSpPr>
        <p:grpSpPr>
          <a:xfrm>
            <a:off x="3674880" y="3662280"/>
            <a:ext cx="1829160" cy="2438640"/>
            <a:chOff x="3674880" y="3662280"/>
            <a:chExt cx="1829160" cy="2438640"/>
          </a:xfrm>
        </p:grpSpPr>
        <p:sp>
          <p:nvSpPr>
            <p:cNvPr id="748" name="Line 32"/>
            <p:cNvSpPr/>
            <p:nvPr/>
          </p:nvSpPr>
          <p:spPr>
            <a:xfrm flipH="1">
              <a:off x="3674880" y="4576680"/>
              <a:ext cx="609480" cy="1524240"/>
            </a:xfrm>
            <a:prstGeom prst="line">
              <a:avLst/>
            </a:prstGeom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3"/>
            <p:cNvSpPr/>
            <p:nvPr/>
          </p:nvSpPr>
          <p:spPr>
            <a:xfrm flipH="1">
              <a:off x="4894200" y="3662280"/>
              <a:ext cx="609840" cy="1524240"/>
            </a:xfrm>
            <a:prstGeom prst="line">
              <a:avLst/>
            </a:prstGeom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35"/>
          <p:cNvGrpSpPr/>
          <p:nvPr/>
        </p:nvGrpSpPr>
        <p:grpSpPr>
          <a:xfrm>
            <a:off x="250920" y="144360"/>
            <a:ext cx="3384360" cy="836640"/>
            <a:chOff x="250920" y="144360"/>
            <a:chExt cx="3384360" cy="836640"/>
          </a:xfrm>
        </p:grpSpPr>
        <p:pic>
          <p:nvPicPr>
            <p:cNvPr id="751" name="Picture 36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Text Box 37"/>
            <p:cNvSpPr/>
            <p:nvPr/>
          </p:nvSpPr>
          <p:spPr>
            <a:xfrm>
              <a:off x="985680" y="176040"/>
              <a:ext cx="26496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268200" y="981000"/>
            <a:ext cx="869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已知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同一条直线上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：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289080" y="26938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：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593640" y="35481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371520" y="40766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1046160" y="441180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1057320" y="534816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1057320" y="48909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3346560" y="4556160"/>
            <a:ext cx="51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≌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3346560" y="51325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等三角形对应角相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11"/>
          <p:cNvSpPr/>
          <p:nvPr/>
        </p:nvSpPr>
        <p:spPr>
          <a:xfrm>
            <a:off x="752400" y="458640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14"/>
          <p:cNvGrpSpPr/>
          <p:nvPr/>
        </p:nvGrpSpPr>
        <p:grpSpPr>
          <a:xfrm>
            <a:off x="4916520" y="2184480"/>
            <a:ext cx="4114800" cy="2212200"/>
            <a:chOff x="4916520" y="2184480"/>
            <a:chExt cx="4114800" cy="2212200"/>
          </a:xfrm>
        </p:grpSpPr>
        <p:sp>
          <p:nvSpPr>
            <p:cNvPr id="764" name="Text Box 15"/>
            <p:cNvSpPr/>
            <p:nvPr/>
          </p:nvSpPr>
          <p:spPr>
            <a:xfrm>
              <a:off x="8345520" y="3936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16"/>
            <p:cNvSpPr/>
            <p:nvPr/>
          </p:nvSpPr>
          <p:spPr>
            <a:xfrm>
              <a:off x="5129280" y="3500280"/>
              <a:ext cx="359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7"/>
            <p:cNvSpPr/>
            <p:nvPr/>
          </p:nvSpPr>
          <p:spPr>
            <a:xfrm>
              <a:off x="5297400" y="386064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8"/>
            <p:cNvSpPr/>
            <p:nvPr/>
          </p:nvSpPr>
          <p:spPr>
            <a:xfrm flipV="1">
              <a:off x="5297400" y="2641680"/>
              <a:ext cx="14479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"/>
            <p:cNvSpPr/>
            <p:nvPr/>
          </p:nvSpPr>
          <p:spPr>
            <a:xfrm>
              <a:off x="6745320" y="2641680"/>
              <a:ext cx="10666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0"/>
            <p:cNvSpPr/>
            <p:nvPr/>
          </p:nvSpPr>
          <p:spPr>
            <a:xfrm flipV="1">
              <a:off x="6364080" y="2717280"/>
              <a:ext cx="1447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1"/>
            <p:cNvSpPr/>
            <p:nvPr/>
          </p:nvSpPr>
          <p:spPr>
            <a:xfrm>
              <a:off x="7812000" y="2717640"/>
              <a:ext cx="914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22"/>
            <p:cNvSpPr/>
            <p:nvPr/>
          </p:nvSpPr>
          <p:spPr>
            <a:xfrm>
              <a:off x="6364080" y="2184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23"/>
            <p:cNvSpPr/>
            <p:nvPr/>
          </p:nvSpPr>
          <p:spPr>
            <a:xfrm>
              <a:off x="4916520" y="3784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24"/>
            <p:cNvSpPr/>
            <p:nvPr/>
          </p:nvSpPr>
          <p:spPr>
            <a:xfrm>
              <a:off x="6135480" y="3936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25"/>
            <p:cNvSpPr/>
            <p:nvPr/>
          </p:nvSpPr>
          <p:spPr>
            <a:xfrm>
              <a:off x="7431120" y="3936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26"/>
            <p:cNvSpPr/>
            <p:nvPr/>
          </p:nvSpPr>
          <p:spPr>
            <a:xfrm>
              <a:off x="7735680" y="2260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Text Box 27"/>
          <p:cNvSpPr/>
          <p:nvPr/>
        </p:nvSpPr>
        <p:spPr>
          <a:xfrm>
            <a:off x="36360" y="5945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经典特宋简"/>
              </a:rPr>
              <a:t>小结：欲证角相等，转化为证三角形全等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经典特宋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8"/>
          <p:cNvSpPr/>
          <p:nvPr/>
        </p:nvSpPr>
        <p:spPr>
          <a:xfrm>
            <a:off x="1116000" y="31161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9"/>
          <p:cNvGrpSpPr/>
          <p:nvPr/>
        </p:nvGrpSpPr>
        <p:grpSpPr>
          <a:xfrm>
            <a:off x="250920" y="144360"/>
            <a:ext cx="3384360" cy="836640"/>
            <a:chOff x="250920" y="144360"/>
            <a:chExt cx="3384360" cy="836640"/>
          </a:xfrm>
        </p:grpSpPr>
        <p:pic>
          <p:nvPicPr>
            <p:cNvPr id="779" name="Picture 30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 Box 31"/>
            <p:cNvSpPr/>
            <p:nvPr/>
          </p:nvSpPr>
          <p:spPr>
            <a:xfrm>
              <a:off x="985680" y="176040"/>
              <a:ext cx="26496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3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468360" y="1978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“SSS”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三角形的稳定性及其应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57200" y="24112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468360" y="3716280"/>
            <a:ext cx="8229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证角（或线段）相等转化为证角（或线段）所在的三角形全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0" y="40114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0" y="454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9"/>
          <p:cNvSpPr/>
          <p:nvPr/>
        </p:nvSpPr>
        <p:spPr>
          <a:xfrm>
            <a:off x="974880" y="570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0"/>
          <p:cNvGrpSpPr/>
          <p:nvPr/>
        </p:nvGrpSpPr>
        <p:grpSpPr>
          <a:xfrm>
            <a:off x="250920" y="144360"/>
            <a:ext cx="3384360" cy="836640"/>
            <a:chOff x="250920" y="144360"/>
            <a:chExt cx="3384360" cy="836640"/>
          </a:xfrm>
        </p:grpSpPr>
        <p:pic>
          <p:nvPicPr>
            <p:cNvPr id="788" name="Picture 11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Text Box 12"/>
            <p:cNvSpPr/>
            <p:nvPr/>
          </p:nvSpPr>
          <p:spPr>
            <a:xfrm>
              <a:off x="985680" y="176040"/>
              <a:ext cx="26496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小结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3"/>
          <p:cNvSpPr/>
          <p:nvPr/>
        </p:nvSpPr>
        <p:spPr>
          <a:xfrm>
            <a:off x="1187280" y="29242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页练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.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5"/>
          <p:cNvGrpSpPr/>
          <p:nvPr/>
        </p:nvGrpSpPr>
        <p:grpSpPr>
          <a:xfrm>
            <a:off x="250920" y="144360"/>
            <a:ext cx="3384360" cy="836640"/>
            <a:chOff x="250920" y="144360"/>
            <a:chExt cx="3384360" cy="836640"/>
          </a:xfrm>
        </p:grpSpPr>
        <p:pic>
          <p:nvPicPr>
            <p:cNvPr id="792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Text Box 7"/>
            <p:cNvSpPr/>
            <p:nvPr/>
          </p:nvSpPr>
          <p:spPr>
            <a:xfrm>
              <a:off x="985680" y="176040"/>
              <a:ext cx="26496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作业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3"/>
          <p:cNvSpPr/>
          <p:nvPr/>
        </p:nvSpPr>
        <p:spPr>
          <a:xfrm>
            <a:off x="395280" y="11253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角形全等的性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144360" y="4183200"/>
            <a:ext cx="8820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两个三角形满足三条边对应相等，三个角对应相等，那么，这两个三角形全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5"/>
          <p:cNvGrpSpPr/>
          <p:nvPr/>
        </p:nvGrpSpPr>
        <p:grpSpPr>
          <a:xfrm>
            <a:off x="1289160" y="2141280"/>
            <a:ext cx="1553760" cy="1792080"/>
            <a:chOff x="1289160" y="2141280"/>
            <a:chExt cx="1553760" cy="1792080"/>
          </a:xfrm>
        </p:grpSpPr>
        <p:grpSp>
          <p:nvGrpSpPr>
            <p:cNvPr id="596" name="Group 6"/>
            <p:cNvGrpSpPr/>
            <p:nvPr/>
          </p:nvGrpSpPr>
          <p:grpSpPr>
            <a:xfrm>
              <a:off x="1380600" y="2141280"/>
              <a:ext cx="1462320" cy="682560"/>
              <a:chOff x="1380600" y="2141280"/>
              <a:chExt cx="1462320" cy="682560"/>
            </a:xfrm>
          </p:grpSpPr>
          <p:sp>
            <p:nvSpPr>
              <p:cNvPr id="597" name="Line 7"/>
              <p:cNvSpPr/>
              <p:nvPr/>
            </p:nvSpPr>
            <p:spPr>
              <a:xfrm flipH="1">
                <a:off x="1380600" y="2141640"/>
                <a:ext cx="531360" cy="6822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8"/>
              <p:cNvSpPr/>
              <p:nvPr/>
            </p:nvSpPr>
            <p:spPr>
              <a:xfrm>
                <a:off x="1380600" y="2823840"/>
                <a:ext cx="146232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 flipH="1" flipV="1">
                <a:off x="1911600" y="2141280"/>
                <a:ext cx="930600" cy="68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10"/>
              <p:cNvSpPr/>
              <p:nvPr/>
            </p:nvSpPr>
            <p:spPr>
              <a:xfrm>
                <a:off x="1521720" y="2628720"/>
                <a:ext cx="99360" cy="1947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72" h="192">
                    <a:moveTo>
                      <a:pt x="0" y="0"/>
                    </a:moveTo>
                    <a:cubicBezTo>
                      <a:pt x="8" y="24"/>
                      <a:pt x="23" y="23"/>
                      <a:pt x="42" y="42"/>
                    </a:cubicBezTo>
                    <a:cubicBezTo>
                      <a:pt x="69" y="124"/>
                      <a:pt x="72" y="91"/>
                      <a:pt x="72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"/>
            <p:cNvGrpSpPr/>
            <p:nvPr/>
          </p:nvGrpSpPr>
          <p:grpSpPr>
            <a:xfrm>
              <a:off x="1289160" y="3250080"/>
              <a:ext cx="1462320" cy="683280"/>
              <a:chOff x="1289160" y="3250080"/>
              <a:chExt cx="1462320" cy="683280"/>
            </a:xfrm>
          </p:grpSpPr>
          <p:sp>
            <p:nvSpPr>
              <p:cNvPr id="602" name="Line 12"/>
              <p:cNvSpPr/>
              <p:nvPr/>
            </p:nvSpPr>
            <p:spPr>
              <a:xfrm flipH="1">
                <a:off x="1289160" y="3250440"/>
                <a:ext cx="531360" cy="6829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3"/>
              <p:cNvSpPr/>
              <p:nvPr/>
            </p:nvSpPr>
            <p:spPr>
              <a:xfrm>
                <a:off x="1289160" y="3933360"/>
                <a:ext cx="146232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4"/>
              <p:cNvSpPr/>
              <p:nvPr/>
            </p:nvSpPr>
            <p:spPr>
              <a:xfrm flipH="1" flipV="1">
                <a:off x="1820160" y="3250080"/>
                <a:ext cx="930600" cy="68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5"/>
              <p:cNvSpPr/>
              <p:nvPr/>
            </p:nvSpPr>
            <p:spPr>
              <a:xfrm>
                <a:off x="1430280" y="3737880"/>
                <a:ext cx="99360" cy="19512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72" h="192">
                    <a:moveTo>
                      <a:pt x="0" y="0"/>
                    </a:moveTo>
                    <a:cubicBezTo>
                      <a:pt x="8" y="24"/>
                      <a:pt x="23" y="23"/>
                      <a:pt x="42" y="42"/>
                    </a:cubicBezTo>
                    <a:cubicBezTo>
                      <a:pt x="69" y="124"/>
                      <a:pt x="72" y="91"/>
                      <a:pt x="72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6" name="Group 16"/>
          <p:cNvGrpSpPr/>
          <p:nvPr/>
        </p:nvGrpSpPr>
        <p:grpSpPr>
          <a:xfrm>
            <a:off x="3924360" y="2141640"/>
            <a:ext cx="1492920" cy="1791000"/>
            <a:chOff x="3924360" y="2141640"/>
            <a:chExt cx="1492920" cy="1791000"/>
          </a:xfrm>
        </p:grpSpPr>
        <p:grpSp>
          <p:nvGrpSpPr>
            <p:cNvPr id="607" name="Group 17"/>
            <p:cNvGrpSpPr/>
            <p:nvPr/>
          </p:nvGrpSpPr>
          <p:grpSpPr>
            <a:xfrm>
              <a:off x="3924360" y="3159360"/>
              <a:ext cx="1492920" cy="773280"/>
              <a:chOff x="3924360" y="3159360"/>
              <a:chExt cx="1492920" cy="773280"/>
            </a:xfrm>
          </p:grpSpPr>
          <p:sp>
            <p:nvSpPr>
              <p:cNvPr id="608" name="Line 18"/>
              <p:cNvSpPr/>
              <p:nvPr/>
            </p:nvSpPr>
            <p:spPr>
              <a:xfrm flipH="1">
                <a:off x="3924360" y="3159360"/>
                <a:ext cx="1033200" cy="76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19"/>
              <p:cNvSpPr/>
              <p:nvPr/>
            </p:nvSpPr>
            <p:spPr>
              <a:xfrm>
                <a:off x="3924360" y="3921840"/>
                <a:ext cx="14929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20"/>
              <p:cNvSpPr/>
              <p:nvPr/>
            </p:nvSpPr>
            <p:spPr>
              <a:xfrm flipH="1" flipV="1">
                <a:off x="4957560" y="3159360"/>
                <a:ext cx="459360" cy="76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1"/>
              <p:cNvSpPr/>
              <p:nvPr/>
            </p:nvSpPr>
            <p:spPr>
              <a:xfrm>
                <a:off x="4153680" y="3784320"/>
                <a:ext cx="86040" cy="1483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36" h="84">
                    <a:moveTo>
                      <a:pt x="0" y="0"/>
                    </a:moveTo>
                    <a:cubicBezTo>
                      <a:pt x="18" y="27"/>
                      <a:pt x="36" y="50"/>
                      <a:pt x="36" y="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2"/>
              <p:cNvSpPr/>
              <p:nvPr/>
            </p:nvSpPr>
            <p:spPr>
              <a:xfrm>
                <a:off x="5235480" y="3787920"/>
                <a:ext cx="76320" cy="1411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32" h="80">
                    <a:moveTo>
                      <a:pt x="32" y="0"/>
                    </a:moveTo>
                    <a:cubicBezTo>
                      <a:pt x="28" y="1"/>
                      <a:pt x="22" y="1"/>
                      <a:pt x="20" y="4"/>
                    </a:cubicBezTo>
                    <a:cubicBezTo>
                      <a:pt x="10" y="18"/>
                      <a:pt x="0" y="61"/>
                      <a:pt x="0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3"/>
              <p:cNvSpPr/>
              <p:nvPr/>
            </p:nvSpPr>
            <p:spPr>
              <a:xfrm>
                <a:off x="5139360" y="3731400"/>
                <a:ext cx="143640" cy="197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60" h="112">
                    <a:moveTo>
                      <a:pt x="60" y="0"/>
                    </a:moveTo>
                    <a:cubicBezTo>
                      <a:pt x="31" y="10"/>
                      <a:pt x="42" y="2"/>
                      <a:pt x="24" y="20"/>
                    </a:cubicBezTo>
                    <a:cubicBezTo>
                      <a:pt x="17" y="41"/>
                      <a:pt x="0" y="94"/>
                      <a:pt x="0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24"/>
            <p:cNvGrpSpPr/>
            <p:nvPr/>
          </p:nvGrpSpPr>
          <p:grpSpPr>
            <a:xfrm>
              <a:off x="3924360" y="2141640"/>
              <a:ext cx="1492920" cy="773280"/>
              <a:chOff x="3924360" y="2141640"/>
              <a:chExt cx="1492920" cy="773280"/>
            </a:xfrm>
          </p:grpSpPr>
          <p:sp>
            <p:nvSpPr>
              <p:cNvPr id="615" name="Line 25"/>
              <p:cNvSpPr/>
              <p:nvPr/>
            </p:nvSpPr>
            <p:spPr>
              <a:xfrm flipH="1">
                <a:off x="3924360" y="2141640"/>
                <a:ext cx="1033200" cy="76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26"/>
              <p:cNvSpPr/>
              <p:nvPr/>
            </p:nvSpPr>
            <p:spPr>
              <a:xfrm>
                <a:off x="3924360" y="2904120"/>
                <a:ext cx="14929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27"/>
              <p:cNvSpPr/>
              <p:nvPr/>
            </p:nvSpPr>
            <p:spPr>
              <a:xfrm flipH="1" flipV="1">
                <a:off x="4957560" y="2141640"/>
                <a:ext cx="459360" cy="76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8"/>
              <p:cNvSpPr/>
              <p:nvPr/>
            </p:nvSpPr>
            <p:spPr>
              <a:xfrm>
                <a:off x="4153680" y="2766600"/>
                <a:ext cx="86040" cy="1483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36" h="84">
                    <a:moveTo>
                      <a:pt x="0" y="0"/>
                    </a:moveTo>
                    <a:cubicBezTo>
                      <a:pt x="18" y="27"/>
                      <a:pt x="36" y="50"/>
                      <a:pt x="36" y="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9"/>
              <p:cNvSpPr/>
              <p:nvPr/>
            </p:nvSpPr>
            <p:spPr>
              <a:xfrm>
                <a:off x="5235480" y="2770200"/>
                <a:ext cx="76320" cy="1411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32" h="80">
                    <a:moveTo>
                      <a:pt x="32" y="0"/>
                    </a:moveTo>
                    <a:cubicBezTo>
                      <a:pt x="28" y="1"/>
                      <a:pt x="22" y="1"/>
                      <a:pt x="20" y="4"/>
                    </a:cubicBezTo>
                    <a:cubicBezTo>
                      <a:pt x="10" y="18"/>
                      <a:pt x="0" y="61"/>
                      <a:pt x="0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0"/>
              <p:cNvSpPr/>
              <p:nvPr/>
            </p:nvSpPr>
            <p:spPr>
              <a:xfrm>
                <a:off x="5139360" y="2713680"/>
                <a:ext cx="143640" cy="197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60" h="112">
                    <a:moveTo>
                      <a:pt x="60" y="0"/>
                    </a:moveTo>
                    <a:cubicBezTo>
                      <a:pt x="31" y="10"/>
                      <a:pt x="42" y="2"/>
                      <a:pt x="24" y="20"/>
                    </a:cubicBezTo>
                    <a:cubicBezTo>
                      <a:pt x="17" y="41"/>
                      <a:pt x="0" y="94"/>
                      <a:pt x="0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1" name="Group 31"/>
          <p:cNvGrpSpPr/>
          <p:nvPr/>
        </p:nvGrpSpPr>
        <p:grpSpPr>
          <a:xfrm>
            <a:off x="6195600" y="2133360"/>
            <a:ext cx="1905120" cy="1799640"/>
            <a:chOff x="6195600" y="2133360"/>
            <a:chExt cx="1905120" cy="1799640"/>
          </a:xfrm>
        </p:grpSpPr>
        <p:grpSp>
          <p:nvGrpSpPr>
            <p:cNvPr id="622" name="Group 32"/>
            <p:cNvGrpSpPr/>
            <p:nvPr/>
          </p:nvGrpSpPr>
          <p:grpSpPr>
            <a:xfrm>
              <a:off x="6347880" y="2133360"/>
              <a:ext cx="1752840" cy="733680"/>
              <a:chOff x="6347880" y="2133360"/>
              <a:chExt cx="1752840" cy="733680"/>
            </a:xfrm>
          </p:grpSpPr>
          <p:sp>
            <p:nvSpPr>
              <p:cNvPr id="623" name="Line 33"/>
              <p:cNvSpPr/>
              <p:nvPr/>
            </p:nvSpPr>
            <p:spPr>
              <a:xfrm flipH="1">
                <a:off x="6347880" y="2133720"/>
                <a:ext cx="11430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34"/>
              <p:cNvSpPr/>
              <p:nvPr/>
            </p:nvSpPr>
            <p:spPr>
              <a:xfrm>
                <a:off x="6348240" y="281952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35"/>
              <p:cNvSpPr/>
              <p:nvPr/>
            </p:nvSpPr>
            <p:spPr>
              <a:xfrm flipH="1" flipV="1">
                <a:off x="7490880" y="2133360"/>
                <a:ext cx="609480" cy="6858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6"/>
              <p:cNvSpPr/>
              <p:nvPr/>
            </p:nvSpPr>
            <p:spPr>
              <a:xfrm>
                <a:off x="6630840" y="2692440"/>
                <a:ext cx="72720" cy="17460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46" h="110">
                    <a:moveTo>
                      <a:pt x="0" y="0"/>
                    </a:moveTo>
                    <a:cubicBezTo>
                      <a:pt x="30" y="43"/>
                      <a:pt x="16" y="17"/>
                      <a:pt x="37" y="82"/>
                    </a:cubicBezTo>
                    <a:cubicBezTo>
                      <a:pt x="40" y="91"/>
                      <a:pt x="46" y="110"/>
                      <a:pt x="46" y="1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7"/>
              <p:cNvSpPr/>
              <p:nvPr/>
            </p:nvSpPr>
            <p:spPr>
              <a:xfrm>
                <a:off x="7814880" y="2604960"/>
                <a:ext cx="108000" cy="2476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8" h="156">
                    <a:moveTo>
                      <a:pt x="68" y="0"/>
                    </a:moveTo>
                    <a:cubicBezTo>
                      <a:pt x="0" y="23"/>
                      <a:pt x="4" y="96"/>
                      <a:pt x="4" y="1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38"/>
              <p:cNvSpPr/>
              <p:nvPr/>
            </p:nvSpPr>
            <p:spPr>
              <a:xfrm>
                <a:off x="7718040" y="2548080"/>
                <a:ext cx="117720" cy="31896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74" h="201">
                    <a:moveTo>
                      <a:pt x="74" y="0"/>
                    </a:moveTo>
                    <a:cubicBezTo>
                      <a:pt x="62" y="18"/>
                      <a:pt x="50" y="36"/>
                      <a:pt x="38" y="54"/>
                    </a:cubicBezTo>
                    <a:cubicBezTo>
                      <a:pt x="32" y="63"/>
                      <a:pt x="19" y="82"/>
                      <a:pt x="19" y="82"/>
                    </a:cubicBezTo>
                    <a:cubicBezTo>
                      <a:pt x="0" y="138"/>
                      <a:pt x="10" y="100"/>
                      <a:pt x="10" y="2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39"/>
            <p:cNvGrpSpPr/>
            <p:nvPr/>
          </p:nvGrpSpPr>
          <p:grpSpPr>
            <a:xfrm>
              <a:off x="6195600" y="3200400"/>
              <a:ext cx="1752840" cy="732600"/>
              <a:chOff x="6195600" y="3200400"/>
              <a:chExt cx="1752840" cy="732600"/>
            </a:xfrm>
          </p:grpSpPr>
          <p:sp>
            <p:nvSpPr>
              <p:cNvPr id="630" name="Line 40"/>
              <p:cNvSpPr/>
              <p:nvPr/>
            </p:nvSpPr>
            <p:spPr>
              <a:xfrm flipH="1">
                <a:off x="6195600" y="3200400"/>
                <a:ext cx="114300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195960" y="388584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 flipH="1" flipV="1">
                <a:off x="7338600" y="3200400"/>
                <a:ext cx="609480" cy="685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"/>
              <p:cNvSpPr/>
              <p:nvPr/>
            </p:nvSpPr>
            <p:spPr>
              <a:xfrm>
                <a:off x="6478560" y="3758760"/>
                <a:ext cx="72720" cy="17424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46" h="110">
                    <a:moveTo>
                      <a:pt x="0" y="0"/>
                    </a:moveTo>
                    <a:cubicBezTo>
                      <a:pt x="30" y="43"/>
                      <a:pt x="16" y="17"/>
                      <a:pt x="37" y="82"/>
                    </a:cubicBezTo>
                    <a:cubicBezTo>
                      <a:pt x="40" y="91"/>
                      <a:pt x="46" y="110"/>
                      <a:pt x="46" y="1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4"/>
              <p:cNvSpPr/>
              <p:nvPr/>
            </p:nvSpPr>
            <p:spPr>
              <a:xfrm>
                <a:off x="7662600" y="3671280"/>
                <a:ext cx="108000" cy="2473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68" h="156">
                    <a:moveTo>
                      <a:pt x="68" y="0"/>
                    </a:moveTo>
                    <a:cubicBezTo>
                      <a:pt x="0" y="23"/>
                      <a:pt x="4" y="96"/>
                      <a:pt x="4" y="1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5"/>
              <p:cNvSpPr/>
              <p:nvPr/>
            </p:nvSpPr>
            <p:spPr>
              <a:xfrm>
                <a:off x="7565760" y="3614400"/>
                <a:ext cx="117720" cy="3186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74" h="201">
                    <a:moveTo>
                      <a:pt x="74" y="0"/>
                    </a:moveTo>
                    <a:cubicBezTo>
                      <a:pt x="62" y="18"/>
                      <a:pt x="50" y="36"/>
                      <a:pt x="38" y="54"/>
                    </a:cubicBezTo>
                    <a:cubicBezTo>
                      <a:pt x="32" y="63"/>
                      <a:pt x="19" y="82"/>
                      <a:pt x="19" y="82"/>
                    </a:cubicBezTo>
                    <a:cubicBezTo>
                      <a:pt x="0" y="138"/>
                      <a:pt x="10" y="100"/>
                      <a:pt x="10" y="2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Text Box 48"/>
          <p:cNvSpPr/>
          <p:nvPr/>
        </p:nvSpPr>
        <p:spPr>
          <a:xfrm>
            <a:off x="179280" y="5335560"/>
            <a:ext cx="867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两个三角形满足上述六个条件中的一部分，是否也能保证两个三角形全等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49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38" name="Picture 50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51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复习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395280" y="1484280"/>
            <a:ext cx="82454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任意画出一个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再画一个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使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满足上述六个条件中的一个或两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画出的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定全等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1066680" y="4267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10"/>
          <p:cNvGrpSpPr/>
          <p:nvPr/>
        </p:nvGrpSpPr>
        <p:grpSpPr>
          <a:xfrm>
            <a:off x="250920" y="144360"/>
            <a:ext cx="2736720" cy="836640"/>
            <a:chOff x="250920" y="144360"/>
            <a:chExt cx="2736720" cy="836640"/>
          </a:xfrm>
        </p:grpSpPr>
        <p:pic>
          <p:nvPicPr>
            <p:cNvPr id="643" name="Picture 8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 Box 9"/>
            <p:cNvSpPr/>
            <p:nvPr/>
          </p:nvSpPr>
          <p:spPr>
            <a:xfrm>
              <a:off x="985680" y="176400"/>
              <a:ext cx="20019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r>
                <a:rPr b="1" lang="en-US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287280" y="1700280"/>
            <a:ext cx="85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任意画出一个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再画一个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=A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画好的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剪下，放到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，它们全等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1066680" y="4267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7"/>
          <p:cNvGrpSpPr/>
          <p:nvPr/>
        </p:nvGrpSpPr>
        <p:grpSpPr>
          <a:xfrm>
            <a:off x="250920" y="144360"/>
            <a:ext cx="2736720" cy="836640"/>
            <a:chOff x="250920" y="144360"/>
            <a:chExt cx="2736720" cy="836640"/>
          </a:xfrm>
        </p:grpSpPr>
        <p:pic>
          <p:nvPicPr>
            <p:cNvPr id="648" name="Picture 8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9"/>
            <p:cNvSpPr/>
            <p:nvPr/>
          </p:nvSpPr>
          <p:spPr>
            <a:xfrm>
              <a:off x="985680" y="176400"/>
              <a:ext cx="20019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r>
                <a:rPr b="1" lang="en-US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79280" y="871560"/>
            <a:ext cx="8856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任意 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画一个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’B’C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’B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’C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’C’=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3276720" y="26226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画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4317840" y="27097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线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’C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4356000" y="3208320"/>
            <a:ext cx="4680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圆心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半径画弧，两弧相交于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4392720" y="47102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’B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’C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4067280" y="528624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’B’C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所要画的三角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8"/>
          <p:cNvGrpSpPr/>
          <p:nvPr/>
        </p:nvGrpSpPr>
        <p:grpSpPr>
          <a:xfrm>
            <a:off x="438480" y="2384280"/>
            <a:ext cx="3273480" cy="1839240"/>
            <a:chOff x="438480" y="2384280"/>
            <a:chExt cx="3273480" cy="1839240"/>
          </a:xfrm>
        </p:grpSpPr>
        <p:grpSp>
          <p:nvGrpSpPr>
            <p:cNvPr id="657" name="Group 9"/>
            <p:cNvGrpSpPr/>
            <p:nvPr/>
          </p:nvGrpSpPr>
          <p:grpSpPr>
            <a:xfrm>
              <a:off x="704520" y="2715120"/>
              <a:ext cx="2569680" cy="1323360"/>
              <a:chOff x="704520" y="2715120"/>
              <a:chExt cx="2569680" cy="1323360"/>
            </a:xfrm>
          </p:grpSpPr>
          <p:sp>
            <p:nvSpPr>
              <p:cNvPr id="658" name="Line 10"/>
              <p:cNvSpPr/>
              <p:nvPr/>
            </p:nvSpPr>
            <p:spPr>
              <a:xfrm>
                <a:off x="704520" y="3983040"/>
                <a:ext cx="256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1"/>
              <p:cNvSpPr/>
              <p:nvPr/>
            </p:nvSpPr>
            <p:spPr>
              <a:xfrm flipV="1">
                <a:off x="704520" y="2715120"/>
                <a:ext cx="1927080" cy="12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2"/>
              <p:cNvSpPr/>
              <p:nvPr/>
            </p:nvSpPr>
            <p:spPr>
              <a:xfrm>
                <a:off x="2631600" y="2715120"/>
                <a:ext cx="642240" cy="13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Text Box 13"/>
            <p:cNvSpPr/>
            <p:nvPr/>
          </p:nvSpPr>
          <p:spPr>
            <a:xfrm>
              <a:off x="2526120" y="238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4"/>
            <p:cNvSpPr/>
            <p:nvPr/>
          </p:nvSpPr>
          <p:spPr>
            <a:xfrm>
              <a:off x="438480" y="370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5"/>
            <p:cNvSpPr/>
            <p:nvPr/>
          </p:nvSpPr>
          <p:spPr>
            <a:xfrm>
              <a:off x="3328560" y="3763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Text Box 21"/>
          <p:cNvSpPr/>
          <p:nvPr/>
        </p:nvSpPr>
        <p:spPr>
          <a:xfrm>
            <a:off x="258264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30"/>
          <p:cNvGrpSpPr/>
          <p:nvPr/>
        </p:nvGrpSpPr>
        <p:grpSpPr>
          <a:xfrm>
            <a:off x="252360" y="5457960"/>
            <a:ext cx="3670200" cy="494640"/>
            <a:chOff x="252360" y="5457960"/>
            <a:chExt cx="3670200" cy="494640"/>
          </a:xfrm>
        </p:grpSpPr>
        <p:sp>
          <p:nvSpPr>
            <p:cNvPr id="666" name="Line 18"/>
            <p:cNvSpPr/>
            <p:nvPr/>
          </p:nvSpPr>
          <p:spPr>
            <a:xfrm>
              <a:off x="739800" y="5678640"/>
              <a:ext cx="26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22"/>
            <p:cNvSpPr/>
            <p:nvPr/>
          </p:nvSpPr>
          <p:spPr>
            <a:xfrm>
              <a:off x="252360" y="5492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23"/>
            <p:cNvSpPr/>
            <p:nvPr/>
          </p:nvSpPr>
          <p:spPr>
            <a:xfrm>
              <a:off x="3436920" y="5457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438120" y="5877000"/>
            <a:ext cx="69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：通过实验可以发现什么事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27"/>
          <p:cNvGrpSpPr/>
          <p:nvPr/>
        </p:nvGrpSpPr>
        <p:grpSpPr>
          <a:xfrm>
            <a:off x="250920" y="144360"/>
            <a:ext cx="2736720" cy="836640"/>
            <a:chOff x="250920" y="144360"/>
            <a:chExt cx="2736720" cy="836640"/>
          </a:xfrm>
        </p:grpSpPr>
        <p:pic>
          <p:nvPicPr>
            <p:cNvPr id="671" name="Picture 28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29"/>
            <p:cNvSpPr/>
            <p:nvPr/>
          </p:nvSpPr>
          <p:spPr>
            <a:xfrm>
              <a:off x="985680" y="176400"/>
              <a:ext cx="20019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画法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Line 19"/>
          <p:cNvSpPr/>
          <p:nvPr/>
        </p:nvSpPr>
        <p:spPr>
          <a:xfrm flipV="1">
            <a:off x="739800" y="4408560"/>
            <a:ext cx="1950840" cy="12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rc 31"/>
          <p:cNvSpPr/>
          <p:nvPr/>
        </p:nvSpPr>
        <p:spPr>
          <a:xfrm rot="20335800">
            <a:off x="2482920" y="4292280"/>
            <a:ext cx="360360" cy="43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0"/>
          <p:cNvSpPr/>
          <p:nvPr/>
        </p:nvSpPr>
        <p:spPr>
          <a:xfrm>
            <a:off x="2690640" y="4365720"/>
            <a:ext cx="649440" cy="13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rc 32"/>
          <p:cNvSpPr/>
          <p:nvPr/>
        </p:nvSpPr>
        <p:spPr>
          <a:xfrm flipH="1" rot="628200">
            <a:off x="2484360" y="4294080"/>
            <a:ext cx="432000" cy="50328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75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75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75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431640" y="9349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探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映的规律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三条边对应相等的两个三角形全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简写成“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边边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或“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S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539640" y="271476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角形的三边长度固定，这个三角形的形状大小就完全确定，这个性质叫三角形的稳定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80880" y="5300640"/>
            <a:ext cx="8763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小结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上面的结论可以判断两个三角形全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两个三角形全等的推理过程，叫做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证明三角形全等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8" descr="meilida037"/>
          <p:cNvPicPr/>
          <p:nvPr/>
        </p:nvPicPr>
        <p:blipFill>
          <a:blip r:embed="rId1"/>
          <a:stretch/>
        </p:blipFill>
        <p:spPr>
          <a:xfrm>
            <a:off x="5292720" y="2565360"/>
            <a:ext cx="3124080" cy="2025720"/>
          </a:xfrm>
          <a:prstGeom prst="rect">
            <a:avLst/>
          </a:prstGeom>
          <a:ln w="0">
            <a:noFill/>
          </a:ln>
        </p:spPr>
      </p:pic>
      <p:grpSp>
        <p:nvGrpSpPr>
          <p:cNvPr id="681" name="Group 9"/>
          <p:cNvGrpSpPr/>
          <p:nvPr/>
        </p:nvGrpSpPr>
        <p:grpSpPr>
          <a:xfrm>
            <a:off x="250920" y="144360"/>
            <a:ext cx="2736720" cy="836640"/>
            <a:chOff x="250920" y="144360"/>
            <a:chExt cx="2736720" cy="836640"/>
          </a:xfrm>
        </p:grpSpPr>
        <p:pic>
          <p:nvPicPr>
            <p:cNvPr id="682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Text Box 11"/>
            <p:cNvSpPr/>
            <p:nvPr/>
          </p:nvSpPr>
          <p:spPr>
            <a:xfrm>
              <a:off x="985680" y="176400"/>
              <a:ext cx="20019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规律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3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Rectangle 2" descr=""/>
          <p:cNvPicPr/>
          <p:nvPr/>
        </p:nvPicPr>
        <p:blipFill>
          <a:blip r:embed="rId1"/>
          <a:stretch/>
        </p:blipFill>
        <p:spPr>
          <a:xfrm>
            <a:off x="-115920" y="1116000"/>
            <a:ext cx="9266400" cy="1451160"/>
          </a:xfrm>
          <a:prstGeom prst="rect">
            <a:avLst/>
          </a:prstGeom>
          <a:ln w="0">
            <a:noFill/>
          </a:ln>
        </p:spPr>
      </p:pic>
      <p:grpSp>
        <p:nvGrpSpPr>
          <p:cNvPr id="685" name="Group 3"/>
          <p:cNvGrpSpPr/>
          <p:nvPr/>
        </p:nvGrpSpPr>
        <p:grpSpPr>
          <a:xfrm>
            <a:off x="4127400" y="2155680"/>
            <a:ext cx="3710160" cy="2427120"/>
            <a:chOff x="4127400" y="2155680"/>
            <a:chExt cx="3710160" cy="2427120"/>
          </a:xfrm>
        </p:grpSpPr>
        <p:grpSp>
          <p:nvGrpSpPr>
            <p:cNvPr id="686" name="Group 4"/>
            <p:cNvGrpSpPr/>
            <p:nvPr/>
          </p:nvGrpSpPr>
          <p:grpSpPr>
            <a:xfrm>
              <a:off x="4127400" y="2155680"/>
              <a:ext cx="3710160" cy="2427120"/>
              <a:chOff x="4127400" y="2155680"/>
              <a:chExt cx="3710160" cy="2427120"/>
            </a:xfrm>
          </p:grpSpPr>
          <p:sp>
            <p:nvSpPr>
              <p:cNvPr id="687" name="AutoShape 5"/>
              <p:cNvSpPr/>
              <p:nvPr/>
            </p:nvSpPr>
            <p:spPr>
              <a:xfrm>
                <a:off x="4423320" y="2519640"/>
                <a:ext cx="3413880" cy="14569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6"/>
              <p:cNvSpPr/>
              <p:nvPr/>
            </p:nvSpPr>
            <p:spPr>
              <a:xfrm>
                <a:off x="6130440" y="2519640"/>
                <a:ext cx="0" cy="145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Text Box 7"/>
              <p:cNvSpPr/>
              <p:nvPr/>
            </p:nvSpPr>
            <p:spPr>
              <a:xfrm>
                <a:off x="6075360" y="21556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Text Box 8"/>
              <p:cNvSpPr/>
              <p:nvPr/>
            </p:nvSpPr>
            <p:spPr>
              <a:xfrm>
                <a:off x="4127400" y="3904200"/>
                <a:ext cx="29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Text Box 9"/>
              <p:cNvSpPr/>
              <p:nvPr/>
            </p:nvSpPr>
            <p:spPr>
              <a:xfrm>
                <a:off x="7553160" y="4123080"/>
                <a:ext cx="28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Text Box 10"/>
            <p:cNvSpPr/>
            <p:nvPr/>
          </p:nvSpPr>
          <p:spPr>
            <a:xfrm>
              <a:off x="6007320" y="3943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26"/>
          <p:cNvSpPr/>
          <p:nvPr/>
        </p:nvSpPr>
        <p:spPr>
          <a:xfrm>
            <a:off x="539640" y="4941720"/>
            <a:ext cx="7920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证明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D≌ △ A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首先看这两个三角形的三条边是否对应相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28"/>
          <p:cNvGrpSpPr/>
          <p:nvPr/>
        </p:nvGrpSpPr>
        <p:grpSpPr>
          <a:xfrm>
            <a:off x="250920" y="144360"/>
            <a:ext cx="3384360" cy="836640"/>
            <a:chOff x="250920" y="144360"/>
            <a:chExt cx="3384360" cy="836640"/>
          </a:xfrm>
        </p:grpSpPr>
        <p:pic>
          <p:nvPicPr>
            <p:cNvPr id="695" name="Picture 29" descr=""/>
            <p:cNvPicPr/>
            <p:nvPr/>
          </p:nvPicPr>
          <p:blipFill>
            <a:blip r:embed="rId2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30"/>
            <p:cNvSpPr/>
            <p:nvPr/>
          </p:nvSpPr>
          <p:spPr>
            <a:xfrm>
              <a:off x="985680" y="176040"/>
              <a:ext cx="26496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题解析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Rectangle 2" descr=""/>
          <p:cNvPicPr/>
          <p:nvPr/>
        </p:nvPicPr>
        <p:blipFill>
          <a:blip r:embed="rId1"/>
          <a:stretch/>
        </p:blipFill>
        <p:spPr>
          <a:xfrm>
            <a:off x="523800" y="1047600"/>
            <a:ext cx="8626680" cy="138456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11"/>
          <p:cNvSpPr/>
          <p:nvPr/>
        </p:nvSpPr>
        <p:spPr>
          <a:xfrm>
            <a:off x="-36360" y="2239920"/>
            <a:ext cx="5562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：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中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=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2"/>
          <p:cNvSpPr/>
          <p:nvPr/>
        </p:nvSpPr>
        <p:spPr>
          <a:xfrm>
            <a:off x="1187280" y="3681360"/>
            <a:ext cx="2667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3"/>
          <p:cNvSpPr/>
          <p:nvPr/>
        </p:nvSpPr>
        <p:spPr>
          <a:xfrm>
            <a:off x="971640" y="3814920"/>
            <a:ext cx="215640" cy="10555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7360 h 1055520"/>
              <a:gd name="textAreaBottom" fmla="*/ 1028160 h 105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4"/>
          <p:cNvSpPr/>
          <p:nvPr/>
        </p:nvSpPr>
        <p:spPr>
          <a:xfrm>
            <a:off x="2916360" y="448452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△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≌ 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22"/>
          <p:cNvGrpSpPr/>
          <p:nvPr/>
        </p:nvGrpSpPr>
        <p:grpSpPr>
          <a:xfrm>
            <a:off x="4500720" y="2011320"/>
            <a:ext cx="3709440" cy="2427120"/>
            <a:chOff x="4500720" y="2011320"/>
            <a:chExt cx="3709440" cy="2427120"/>
          </a:xfrm>
        </p:grpSpPr>
        <p:grpSp>
          <p:nvGrpSpPr>
            <p:cNvPr id="703" name="Group 23"/>
            <p:cNvGrpSpPr/>
            <p:nvPr/>
          </p:nvGrpSpPr>
          <p:grpSpPr>
            <a:xfrm>
              <a:off x="4500720" y="2011320"/>
              <a:ext cx="3709440" cy="2427120"/>
              <a:chOff x="4500720" y="2011320"/>
              <a:chExt cx="3709440" cy="2427120"/>
            </a:xfrm>
          </p:grpSpPr>
          <p:sp>
            <p:nvSpPr>
              <p:cNvPr id="704" name="AutoShape 24"/>
              <p:cNvSpPr/>
              <p:nvPr/>
            </p:nvSpPr>
            <p:spPr>
              <a:xfrm>
                <a:off x="4796640" y="2375280"/>
                <a:ext cx="3413520" cy="14569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25"/>
              <p:cNvSpPr/>
              <p:nvPr/>
            </p:nvSpPr>
            <p:spPr>
              <a:xfrm>
                <a:off x="6503760" y="2375280"/>
                <a:ext cx="0" cy="145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 Box 26"/>
              <p:cNvSpPr/>
              <p:nvPr/>
            </p:nvSpPr>
            <p:spPr>
              <a:xfrm>
                <a:off x="6448320" y="2011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Text Box 27"/>
              <p:cNvSpPr/>
              <p:nvPr/>
            </p:nvSpPr>
            <p:spPr>
              <a:xfrm>
                <a:off x="4500720" y="3759840"/>
                <a:ext cx="29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28"/>
              <p:cNvSpPr/>
              <p:nvPr/>
            </p:nvSpPr>
            <p:spPr>
              <a:xfrm>
                <a:off x="7926120" y="3978720"/>
                <a:ext cx="28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Text Box 29"/>
            <p:cNvSpPr/>
            <p:nvPr/>
          </p:nvSpPr>
          <p:spPr>
            <a:xfrm>
              <a:off x="6380280" y="3799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Text Box 30"/>
          <p:cNvSpPr/>
          <p:nvPr/>
        </p:nvSpPr>
        <p:spPr>
          <a:xfrm>
            <a:off x="324000" y="5084640"/>
            <a:ext cx="81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论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</a:rPr>
              <a:t>：从这题的证明中可以看出，证明是由题设（已知）出发，经过一步步的推理，最后推出结论正确的过程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31"/>
          <p:cNvGrpSpPr/>
          <p:nvPr/>
        </p:nvGrpSpPr>
        <p:grpSpPr>
          <a:xfrm>
            <a:off x="250920" y="144360"/>
            <a:ext cx="3384360" cy="836640"/>
            <a:chOff x="250920" y="144360"/>
            <a:chExt cx="3384360" cy="836640"/>
          </a:xfrm>
        </p:grpSpPr>
        <p:pic>
          <p:nvPicPr>
            <p:cNvPr id="712" name="Picture 32" descr=""/>
            <p:cNvPicPr/>
            <p:nvPr/>
          </p:nvPicPr>
          <p:blipFill>
            <a:blip r:embed="rId2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33"/>
            <p:cNvSpPr/>
            <p:nvPr/>
          </p:nvSpPr>
          <p:spPr>
            <a:xfrm>
              <a:off x="985680" y="176040"/>
              <a:ext cx="26496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题解析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3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3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3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3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3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3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3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539640" y="1484280"/>
            <a:ext cx="7812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工人师傅常用角尺平分一个任意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法如下：已知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任意角，在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分别取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移动角尺，使角尺两边相同的刻度分别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角尺顶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射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便是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平分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5"/>
          <p:cNvGrpSpPr/>
          <p:nvPr/>
        </p:nvGrpSpPr>
        <p:grpSpPr>
          <a:xfrm>
            <a:off x="250920" y="144360"/>
            <a:ext cx="3384360" cy="836640"/>
            <a:chOff x="250920" y="144360"/>
            <a:chExt cx="3384360" cy="836640"/>
          </a:xfrm>
        </p:grpSpPr>
        <p:pic>
          <p:nvPicPr>
            <p:cNvPr id="716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7"/>
            <p:cNvSpPr/>
            <p:nvPr/>
          </p:nvSpPr>
          <p:spPr>
            <a:xfrm>
              <a:off x="985680" y="176040"/>
              <a:ext cx="26496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6:51:42Z</dcterms:created>
  <dc:creator>http://zhdduya100.taobao.com/</dc:creator>
  <dc:description>http://zhdduya100.taobao.com/</dc:description>
  <cp:keywords>http://zhdduya100.taobao.com/</cp:keywords>
  <dc:language>en-US</dc:language>
  <cp:lastModifiedBy>Administrator</cp:lastModifiedBy>
  <dcterms:modified xsi:type="dcterms:W3CDTF">2014-07-19T01:29:37Z</dcterms:modified>
  <cp:revision>110</cp:revision>
  <dc:subject>http://zhdduya100.taobao.com/</dc:subject>
  <dc:title>http://zhdduya100.taobao.com/</dc:title>
</cp:coreProperties>
</file>