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2EF3B-47A4-4FE0-BB99-556F253A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ECCED-8427-4654-9762-08797475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7E533-7520-4AF0-8494-95016AC1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8D015-F221-431F-801F-BE1F3B1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83BB5-E131-48B1-93A0-AD0A3F0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68F5D-D3C8-42C3-8B74-C4FF2165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CB03E-5919-47AC-AA6B-9B5B95B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A9B82-A5D3-47D0-85EB-C24931F8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043C-5D9D-4826-A716-F864D748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BECA-2F32-4E0D-BE70-D09EAB93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40B6E-9DDF-4745-A547-685960A2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0FF96-89DE-4A8B-AFFA-B6FC0F4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FEA0-4F3D-4122-BABD-C0626292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D7258-A847-41A8-9111-0A503649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8AD6-AEF4-4618-A40F-E1F608C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2DC03-21F5-4AD8-9E4E-F1BF22D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F58EB-C975-4ED2-86F7-716A9FC4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346D8-A227-41D1-9CDC-B7D6C5A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FAD25-2753-4B74-A623-D32D2824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F6136-06FD-4A16-B05C-FC0ED918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0EA09-5312-4BA8-9360-BD76DCF9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2ACB-A1A8-47AF-9183-41FFF222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41D68-2E2F-4E66-A978-F7A523FF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79E8F-E4F2-409C-B3FD-E4DC229E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6E44F-9BCB-4639-9BB2-F9D7410D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14ED-5F94-46BB-8655-35439469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53129-5BB4-4B7F-BD44-8439DB3A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2DF4C-083D-447B-B9E4-4F90F27A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4BFDF-DA37-4584-9169-BC2A142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6A48C-A00B-4DAB-B473-4DDEB874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D43-C801-495E-9C79-2ADF4635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2F507-3050-4891-9E2F-8707C72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76727-F6A3-4CE7-8F48-0AC850F2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36D4D-F930-40B1-AA7A-6DFD00BE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2FD6F-191B-48EF-8AEC-FF4FACDE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EEF7-08FC-44E7-A97C-69E956C8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80390-7C79-4A16-AB76-BF636FC3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71513-CA15-48F7-86BA-DBEFBDD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F7E85-2225-42FE-B45F-8564499C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46D3-5D5F-4438-B53C-B3C4769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57A9A-B623-40B8-AC4A-E388C530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93E-0838-41FD-B27C-A99EFC0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70903-B4E8-4F2A-8D07-D34537CC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5DBE9-1F9C-4786-87D9-77EF6C2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EF465-1978-4E1B-BADF-7FCA413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7771C-24C7-4625-9185-7BC15B46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D9B66-8C11-4E81-9943-2FADF905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97CBE-695C-4B62-A67F-4F3A9FFC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7B707-A64B-4E2E-9872-AEFE8ED6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E3566-BF0B-407F-B8A2-BF1995AF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B4AF8-3C22-44D6-A626-3B7A0B8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905CA-E8CC-464F-9F0E-21C845AA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04D-A5B2-46BD-85F7-58DCFC7C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872D6-17F8-4834-8523-F38174F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C0008-179D-4C15-B38F-5E80EED8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22510-809D-4CB2-A5C4-8E05FC11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B3CE1-F916-4773-875E-EF168F6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5D322-B04E-4052-8950-9C93B469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7AD58-4AD1-477B-9B59-7ED37B2C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35946-5819-49CA-A451-D264A952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B70-E22A-4DC0-A4EE-11D21E96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5E1-1079-4D99-9161-BFAF1DC1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337-8D52-436F-A7F6-63F4BB12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165-EC91-4EAD-A202-760E68C6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C13-3EC6-4B39-8A39-B3BE108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9B9-CD8F-4DAE-8759-4373840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6D3-45BA-4463-9221-D9BDC371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5D4-DA41-41B1-B68C-A353865E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A3C-0E6F-4D85-A8F8-68966580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70A4-88A2-45BB-8533-61CB8F9A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CACD-F6DA-465E-8B64-40C948B1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6682-32A4-4422-AF1E-F9EA7AC2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2710-A4B3-401D-94B9-D623F583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D338-B417-471F-9D62-9AA27A88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C0A1-E2F1-4571-99DE-6D9E9308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6078-6A26-4735-94B5-A0308342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60B4-23AF-46D5-912E-2A93D13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E945-5BEF-4109-8815-090A254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CD09-0C0A-4A53-8879-807CB04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0895-34AC-49FA-B547-B76B903A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588D-03A2-4C4A-8A9E-CF51C601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F59B-15BB-46E9-9D1E-AAEE4EAA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9424-9EF1-4085-A843-01BE106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36B6-9493-401D-B375-ADE3E27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D039-E142-4618-8F00-E7907E73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611B-615C-4693-9E21-14FFA306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47FD-A04C-4BA6-9B62-91485DA2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AFA8-051E-4B9C-9A73-3179D9F0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2234-3A0A-4A36-8589-639EB6B0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74EB-7557-4F2D-8394-F501BFFD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D0E4-DDEB-48E1-A752-A1566D5B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A820-6204-437C-B20E-384A3BEB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A279-D9BB-4FCD-9717-4E095F06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4B32-105C-4A55-83B4-6B56FCAD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F55C-E6A3-4969-89D2-557BA797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A910-D95E-4B6C-9E6A-52614D37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4A20-C928-4D2F-8209-350044FF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F01CE-1272-44CA-9173-62CAA527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605ED-084B-448C-854A-5913AE87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26B9-C13F-43B1-B854-D433B399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A295-E83C-4DE1-82AC-99BA814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7A0DF-A353-455F-8237-3EF564F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CC26-3885-46FA-BF48-F4B55BF5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3CBA-D143-4E44-830E-CC1340EF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115D-005B-4D58-861F-34358B45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FA085-A5B4-4C26-B36A-14FB0C2B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639F-8C55-458D-9B4A-738BDFF9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35634-DDAA-45A6-A1F1-761EF02D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C2711-7B52-4581-AFDB-66A8D563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0363-4102-4B3A-A39D-E54DF2BC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FF73-616D-4977-8A56-93E5E61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2BD0-0AC0-4391-B790-0E2375D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6DFB9-185F-4661-86AD-07BB3BB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70FF-9EF0-42A4-A2CC-3EB0FB0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1389-4597-4500-B888-349D9E1D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1963A-E31C-4661-BC6A-7134BA63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FB87-E6B8-4BFD-B7B5-5706285C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4812-0982-478C-A34D-05E4FDAB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6236-28B5-4CB9-A0D9-289A6CF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29E8B-4CE8-458A-9534-FBF95484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139A-0896-4A43-B932-AED35CA3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5FF16-EEF8-47E6-85D5-8F6DB987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222EE-DCEF-4609-99BC-009C1F7B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17389-332D-4814-A8EF-B7C1B82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92619-E976-463C-A75A-4734DCD0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5CD5-48A9-4939-9282-644598CC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2F1F8-873A-458D-8496-AE8B1FD0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DA5D-0BA9-4A8E-9829-1B14A441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8CBF7-F9E9-4A59-9288-ED1E534A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738E7-3AF6-4AF0-9DB4-43FEC64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AE945-8A57-4061-8E6B-DD75534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FB73-7CE7-412C-871C-0208FA67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3A36A-7DDE-45B4-8220-7D2CF971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8B2CA-8000-4610-9483-485941F8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1D738-08F4-4781-A0E7-DBF061A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6B7C-931F-44D2-B872-D141CF5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DCC1-586F-4F17-8FE5-A62B9DA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73D2-AB3A-4E17-A542-5E2F662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4442-FDD5-4073-95F9-406BB68B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432BB-07CD-4911-8019-06654C6C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6EEB6-6E1F-4836-8021-4E543DE0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C5D8-8AFE-4B20-B0E5-D9CF629F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B1E2-A40B-486C-8A42-E5666E47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AA7A2-807D-46BF-AB2B-50B36DBE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3122280" y="632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中学生学习报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周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6280200" y="6162840"/>
            <a:ext cx="243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家级优秀教辅读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O900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际质量管理体系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43080" y="16344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课标八年级  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4" descr="英格教育"/>
          <p:cNvPicPr/>
          <p:nvPr/>
        </p:nvPicPr>
        <p:blipFill>
          <a:blip r:embed="rId3"/>
          <a:stretch/>
        </p:blipFill>
        <p:spPr>
          <a:xfrm>
            <a:off x="0" y="6021360"/>
            <a:ext cx="1619280" cy="816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5" descr="知识改变命运"/>
          <p:cNvPicPr/>
          <p:nvPr/>
        </p:nvPicPr>
        <p:blipFill>
          <a:blip r:embed="rId4"/>
          <a:stretch/>
        </p:blipFill>
        <p:spPr>
          <a:xfrm>
            <a:off x="5435640" y="73080"/>
            <a:ext cx="3551040" cy="691920"/>
          </a:xfrm>
          <a:prstGeom prst="rect">
            <a:avLst/>
          </a:prstGeom>
          <a:ln w="0">
            <a:noFill/>
          </a:ln>
        </p:spPr>
      </p:pic>
      <p:sp>
        <p:nvSpPr>
          <p:cNvPr id="5" name="Line 1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17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851-7AC5-49E3-B7F8-405E9197FC2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A6A4-6994-487C-8BD3-F2CCD7E7737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FA00-83CB-46B3-A3DA-00AC81D0C4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FC6C-41A8-434F-9D51-5D97D75584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9456-586D-4817-8C2E-CC3E8FF01C3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1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2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C2A-367C-40DA-9DE5-84DB717EC6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8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1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4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EF8-ACB4-4D10-8D26-3D329E8DA7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8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A6E-D702-4A74-994E-2B6CD966944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3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C68-C1B6-4701-A809-3D6986A75A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82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2929-E32B-420F-AC6B-FEFFFCD0C3B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6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3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D57-3D74-4AFB-8B98-D0030CBA4BB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0230-EB01-4D7B-AF84-3DD1C6F26B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"/>
          <p:cNvSpPr/>
          <p:nvPr/>
        </p:nvSpPr>
        <p:spPr>
          <a:xfrm>
            <a:off x="1547640" y="2637000"/>
            <a:ext cx="648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形全等的判定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"/>
          <p:cNvSpPr/>
          <p:nvPr/>
        </p:nvSpPr>
        <p:spPr>
          <a:xfrm>
            <a:off x="755640" y="2421000"/>
            <a:ext cx="7391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由实践证明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L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真命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"/>
          <p:cNvSpPr/>
          <p:nvPr/>
        </p:nvSpPr>
        <p:spPr>
          <a:xfrm>
            <a:off x="8381880" y="6172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7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85" name="Picture 8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9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小结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6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88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Text Box 8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作业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 Box 9"/>
          <p:cNvSpPr/>
          <p:nvPr/>
        </p:nvSpPr>
        <p:spPr>
          <a:xfrm>
            <a:off x="900000" y="299736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页习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.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757080" y="126828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两个直角三角形，除了直角相等的条件，还要满足几个条件，这两个直角三角形就全等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1476360" y="4005360"/>
            <a:ext cx="2449440" cy="1800000"/>
          </a:xfrm>
          <a:prstGeom prst="rtTriangl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5148360" y="3933720"/>
            <a:ext cx="2449440" cy="1800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1171800" y="369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113040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3735720" y="5708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5075640" y="355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8438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754884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13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03" name="Picture 14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15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思考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692280" y="1268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两个直角三角形，如果满足，斜边和一条直角边对应相等，这两个直角三角形全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1476360" y="4005360"/>
            <a:ext cx="2449440" cy="1800000"/>
          </a:xfrm>
          <a:prstGeom prst="rtTriangl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5148360" y="3933720"/>
            <a:ext cx="2449440" cy="1800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138320" y="3646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067040" y="563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3857760" y="5702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5058360" y="350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4723200" y="5486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7531200" y="5486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468360" y="151776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任意画出一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再画一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画好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剪下，放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，它们全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250920" y="216000"/>
            <a:ext cx="3025800" cy="836640"/>
            <a:chOff x="250920" y="216000"/>
            <a:chExt cx="3025800" cy="836640"/>
          </a:xfrm>
        </p:grpSpPr>
        <p:pic>
          <p:nvPicPr>
            <p:cNvPr id="616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21600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7"/>
            <p:cNvSpPr/>
            <p:nvPr/>
          </p:nvSpPr>
          <p:spPr>
            <a:xfrm>
              <a:off x="985680" y="248040"/>
              <a:ext cx="22910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r>
                <a:rPr b="1" lang="en-US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8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"/>
          <p:cNvSpPr/>
          <p:nvPr/>
        </p:nvSpPr>
        <p:spPr>
          <a:xfrm>
            <a:off x="0" y="11383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79320" y="230976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682560" y="28432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截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722160" y="41324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611280" y="4925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所要画的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755640" y="5589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：通过实验可以发现什么事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1495800" y="351324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圆心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半径画弧，交射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0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26" name="Picture 11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12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画法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75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75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75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3"/>
          <p:cNvSpPr/>
          <p:nvPr/>
        </p:nvSpPr>
        <p:spPr>
          <a:xfrm>
            <a:off x="763560" y="25830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有斜边和一条直角边对应相等的两个直角三角形全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简写成“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边、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角边”或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L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1346400" y="1432080"/>
            <a:ext cx="34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探究</a:t>
            </a:r>
            <a:r>
              <a:rPr b="1" lang="en-US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反映的规律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>
            <a:hlinkClick r:id="" action="ppaction://hlinkshowjump?jump=previousslide"/>
          </p:cNvPr>
          <p:cNvSpPr/>
          <p:nvPr/>
        </p:nvSpPr>
        <p:spPr>
          <a:xfrm>
            <a:off x="6553080" y="4648320"/>
            <a:ext cx="2590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8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32" name="Picture 9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10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规律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4"/>
          <p:cNvGrpSpPr/>
          <p:nvPr/>
        </p:nvGrpSpPr>
        <p:grpSpPr>
          <a:xfrm>
            <a:off x="541080" y="1332000"/>
            <a:ext cx="8352000" cy="1169280"/>
            <a:chOff x="541080" y="1332000"/>
            <a:chExt cx="8352000" cy="1169280"/>
          </a:xfrm>
        </p:grpSpPr>
        <p:sp>
          <p:nvSpPr>
            <p:cNvPr id="635" name="Text Box 5"/>
            <p:cNvSpPr/>
            <p:nvPr/>
          </p:nvSpPr>
          <p:spPr>
            <a:xfrm>
              <a:off x="1349280" y="1332000"/>
              <a:ext cx="7543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已知：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证：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>
              <a:off x="541080" y="1332000"/>
              <a:ext cx="74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9"/>
          <p:cNvGrpSpPr/>
          <p:nvPr/>
        </p:nvGrpSpPr>
        <p:grpSpPr>
          <a:xfrm>
            <a:off x="4573800" y="2708280"/>
            <a:ext cx="3428280" cy="2678040"/>
            <a:chOff x="4573800" y="2708280"/>
            <a:chExt cx="3428280" cy="2678040"/>
          </a:xfrm>
        </p:grpSpPr>
        <p:sp>
          <p:nvSpPr>
            <p:cNvPr id="638" name="AutoShape 10"/>
            <p:cNvSpPr/>
            <p:nvPr/>
          </p:nvSpPr>
          <p:spPr>
            <a:xfrm flipV="1" rot="1861200">
              <a:off x="5136840" y="3521520"/>
              <a:ext cx="2303280" cy="1368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11"/>
            <p:cNvSpPr/>
            <p:nvPr/>
          </p:nvSpPr>
          <p:spPr>
            <a:xfrm flipH="1" flipV="1" rot="19743000">
              <a:off x="5134320" y="3521520"/>
              <a:ext cx="2303640" cy="1368360"/>
            </a:xfrm>
            <a:prstGeom prst="rtTriangle">
              <a:avLst/>
            </a:prstGeom>
            <a:noFill/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2"/>
            <p:cNvSpPr/>
            <p:nvPr/>
          </p:nvSpPr>
          <p:spPr>
            <a:xfrm>
              <a:off x="4573800" y="401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3"/>
            <p:cNvSpPr/>
            <p:nvPr/>
          </p:nvSpPr>
          <p:spPr>
            <a:xfrm>
              <a:off x="7618680" y="4003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4"/>
            <p:cNvSpPr/>
            <p:nvPr/>
          </p:nvSpPr>
          <p:spPr>
            <a:xfrm>
              <a:off x="6961320" y="2800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5"/>
            <p:cNvSpPr/>
            <p:nvPr/>
          </p:nvSpPr>
          <p:spPr>
            <a:xfrm>
              <a:off x="5244120" y="27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9"/>
          <p:cNvGrpSpPr/>
          <p:nvPr/>
        </p:nvGrpSpPr>
        <p:grpSpPr>
          <a:xfrm>
            <a:off x="250920" y="144360"/>
            <a:ext cx="3744720" cy="836640"/>
            <a:chOff x="250920" y="144360"/>
            <a:chExt cx="3744720" cy="836640"/>
          </a:xfrm>
        </p:grpSpPr>
        <p:pic>
          <p:nvPicPr>
            <p:cNvPr id="645" name="Picture 17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18"/>
            <p:cNvSpPr/>
            <p:nvPr/>
          </p:nvSpPr>
          <p:spPr>
            <a:xfrm>
              <a:off x="985680" y="176400"/>
              <a:ext cx="3009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题解析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4"/>
          <p:cNvSpPr/>
          <p:nvPr/>
        </p:nvSpPr>
        <p:spPr>
          <a:xfrm>
            <a:off x="468360" y="1100160"/>
            <a:ext cx="826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路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中点，两人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时出发，以相同的速度分别  沿两条直线行走，并同时到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地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路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相等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>
            <a:hlinkClick r:id="rId1" action="ppaction://hlinksldjump"/>
          </p:cNvPr>
          <p:cNvSpPr/>
          <p:nvPr/>
        </p:nvSpPr>
        <p:spPr>
          <a:xfrm>
            <a:off x="5334120" y="4952880"/>
            <a:ext cx="3809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8381880" y="6172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7"/>
          <p:cNvGrpSpPr/>
          <p:nvPr/>
        </p:nvGrpSpPr>
        <p:grpSpPr>
          <a:xfrm>
            <a:off x="2681280" y="3648240"/>
            <a:ext cx="3679200" cy="3188520"/>
            <a:chOff x="2681280" y="3648240"/>
            <a:chExt cx="3679200" cy="3188520"/>
          </a:xfrm>
        </p:grpSpPr>
        <p:sp>
          <p:nvSpPr>
            <p:cNvPr id="651" name="Line 8"/>
            <p:cNvSpPr/>
            <p:nvPr/>
          </p:nvSpPr>
          <p:spPr>
            <a:xfrm flipH="1">
              <a:off x="3082320" y="3765600"/>
              <a:ext cx="1007640" cy="10080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082680" y="4773600"/>
              <a:ext cx="172692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 flipV="1">
              <a:off x="4809960" y="5565600"/>
              <a:ext cx="1152000" cy="934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 flipH="1">
              <a:off x="3946320" y="3765600"/>
              <a:ext cx="144000" cy="18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 flipV="1">
              <a:off x="3946320" y="5565960"/>
              <a:ext cx="201564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4199040" y="3648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4"/>
            <p:cNvSpPr/>
            <p:nvPr/>
          </p:nvSpPr>
          <p:spPr>
            <a:xfrm>
              <a:off x="2681280" y="457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5"/>
            <p:cNvSpPr/>
            <p:nvPr/>
          </p:nvSpPr>
          <p:spPr>
            <a:xfrm>
              <a:off x="3610080" y="5513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6"/>
            <p:cNvSpPr/>
            <p:nvPr/>
          </p:nvSpPr>
          <p:spPr>
            <a:xfrm>
              <a:off x="4481280" y="637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7"/>
            <p:cNvSpPr/>
            <p:nvPr/>
          </p:nvSpPr>
          <p:spPr>
            <a:xfrm>
              <a:off x="5994000" y="5303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8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62" name="Picture 19" descr=""/>
            <p:cNvPicPr/>
            <p:nvPr/>
          </p:nvPicPr>
          <p:blipFill>
            <a:blip r:embed="rId2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 Box 20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6"/>
          <p:cNvSpPr/>
          <p:nvPr/>
        </p:nvSpPr>
        <p:spPr>
          <a:xfrm>
            <a:off x="539640" y="1295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7"/>
          <p:cNvGrpSpPr/>
          <p:nvPr/>
        </p:nvGrpSpPr>
        <p:grpSpPr>
          <a:xfrm>
            <a:off x="3186360" y="2900520"/>
            <a:ext cx="4047480" cy="2907360"/>
            <a:chOff x="3186360" y="2900520"/>
            <a:chExt cx="4047480" cy="2907360"/>
          </a:xfrm>
        </p:grpSpPr>
        <p:sp>
          <p:nvSpPr>
            <p:cNvPr id="666" name="Line 8"/>
            <p:cNvSpPr/>
            <p:nvPr/>
          </p:nvSpPr>
          <p:spPr>
            <a:xfrm flipH="1">
              <a:off x="5035680" y="5543640"/>
              <a:ext cx="1800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"/>
            <p:cNvSpPr/>
            <p:nvPr/>
          </p:nvSpPr>
          <p:spPr>
            <a:xfrm flipV="1">
              <a:off x="5035680" y="4751280"/>
              <a:ext cx="647640" cy="79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0"/>
            <p:cNvSpPr/>
            <p:nvPr/>
          </p:nvSpPr>
          <p:spPr>
            <a:xfrm>
              <a:off x="3666960" y="3311280"/>
              <a:ext cx="17272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1"/>
            <p:cNvSpPr/>
            <p:nvPr/>
          </p:nvSpPr>
          <p:spPr>
            <a:xfrm flipH="1">
              <a:off x="4746240" y="3311280"/>
              <a:ext cx="647640" cy="7920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2"/>
            <p:cNvSpPr/>
            <p:nvPr/>
          </p:nvSpPr>
          <p:spPr>
            <a:xfrm>
              <a:off x="3697200" y="3319200"/>
              <a:ext cx="1077840" cy="7873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3"/>
            <p:cNvSpPr/>
            <p:nvPr/>
          </p:nvSpPr>
          <p:spPr>
            <a:xfrm>
              <a:off x="4757760" y="4092480"/>
              <a:ext cx="94608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4"/>
            <p:cNvSpPr/>
            <p:nvPr/>
          </p:nvSpPr>
          <p:spPr>
            <a:xfrm>
              <a:off x="5673600" y="4732200"/>
              <a:ext cx="1162080" cy="81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5"/>
            <p:cNvSpPr/>
            <p:nvPr/>
          </p:nvSpPr>
          <p:spPr>
            <a:xfrm>
              <a:off x="3186360" y="2971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6"/>
            <p:cNvSpPr/>
            <p:nvPr/>
          </p:nvSpPr>
          <p:spPr>
            <a:xfrm>
              <a:off x="5337720" y="29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17"/>
            <p:cNvSpPr/>
            <p:nvPr/>
          </p:nvSpPr>
          <p:spPr>
            <a:xfrm>
              <a:off x="4346640" y="3979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8"/>
            <p:cNvSpPr/>
            <p:nvPr/>
          </p:nvSpPr>
          <p:spPr>
            <a:xfrm>
              <a:off x="5570640" y="4195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9"/>
            <p:cNvSpPr/>
            <p:nvPr/>
          </p:nvSpPr>
          <p:spPr>
            <a:xfrm>
              <a:off x="4707000" y="534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0"/>
            <p:cNvSpPr/>
            <p:nvPr/>
          </p:nvSpPr>
          <p:spPr>
            <a:xfrm>
              <a:off x="6867360" y="5276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21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80" name="Picture 22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23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51:42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8:52Z</dcterms:modified>
  <cp:revision>107</cp:revision>
  <dc:subject>http://zhdduya100.taobao.com/</dc:subject>
  <dc:title>http://zhdduya100.taobao.com/</dc:title>
</cp:coreProperties>
</file>