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camera.wav" ContentType="audio/x-wav"/>
  <Override PartName="/ppt/media/image22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breeze.wav" ContentType="audio/x-wav"/>
  <Override PartName="/ppt/media/arrow.wav" ContentType="audio/x-wav"/>
  <Override PartName="/ppt/media/coin.wav" ContentType="audio/x-wav"/>
  <Override PartName="/ppt/media/push.wav" ContentType="audio/x-wav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whoosh.wav" ContentType="audio/x-wav"/>
  <Override PartName="/ppt/media/image12.wmf" ContentType="image/x-wmf"/>
  <Override PartName="/ppt/media/click.wav" ContentType="audio/x-wav"/>
  <Override PartName="/ppt/media/image3.png" ContentType="image/png"/>
  <Override PartName="/ppt/media/image11.wmf" ContentType="image/x-wmf"/>
  <Override PartName="/ppt/media/image15.wmf" ContentType="image/x-wmf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57C-FAF3-4D6B-9988-96E72FA4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13D-C854-4097-88EE-EFDE105D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6B18A-5968-4C0B-90CD-CF632C99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E23C1-EA34-4066-9CAE-0323FB5D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45CC4-7571-4EDF-8012-CB26A6B0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7AAB6-958E-482E-AD44-DE704E2C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BD2C9-E6D8-45E6-9AE3-1674767D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B4083-3B62-4061-99DB-2C20FDA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B470F-88A5-47D4-826D-BA59E8C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5E859-E816-4484-A3BE-454C6604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9C3FE-C22C-4472-9CE5-B6256DF1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5416C-DD96-4664-BBAB-BD735A5F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941-5B4C-4A5B-BE22-99977A07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D0B44-09E7-48E9-8070-2F390C3D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9B1E3-3211-456B-9D4F-C8927F5A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CC29E-EC09-41E8-9794-B31B0845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555B2-3420-4C98-8437-11C520D8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6CDE-4D92-4266-B6ED-D5E705E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C1DDB-7A8A-4D42-8534-1AEF4F8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6D14C-1C00-4729-8A2E-98AB4C11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1E33F-9938-445F-B369-0BD55B0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AC42-C9B8-43D3-BC5F-D7545A81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9912D-31B7-43C6-A58A-0B07ED09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3A7-7210-40E2-B689-6A226B6D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F6F6C-1512-4E38-BEE4-A04F0F6E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62DED-6FF4-4143-9FCF-AF221DB8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64038-4822-4621-AA3A-DCD4C3AD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F621B-409C-4594-8F33-8AF3E397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2086F-1266-4981-A04D-289E7228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4FC00-F8AE-4ACB-9A8B-821DCD88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681C1-D792-413D-86C2-B83C6A37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2BEA-A807-494E-9449-D6F72FD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79422-29C3-4196-A723-BC54899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EA502-083F-4AE8-A465-1532B9CA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0C4E-553A-4A8A-9446-27915263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C3536-2902-4586-B47F-2CCA0783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2ECDC-98BF-4A67-A66D-E5C846B5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F6315-4843-4E37-9544-2E34D677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5AF9-7B25-44BA-8112-74BC1064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FCCA-AC7C-4E70-B8D1-2BA929E5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93B4-C39E-4987-966C-F0B4A4C9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1D1C-64AC-4153-84A0-8EE08F6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34F7-18DA-46B7-852C-1583778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BE3E-FBED-4511-9CFA-077FF17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18F-52AD-4C28-B6D0-D6C0C445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472B-88FB-439E-8D1C-00B45DA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004E-B067-49BC-BA5F-DE9ED79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EFAD-188B-4B8C-AE2C-6F71DD32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9D50-0448-455B-918C-95EE3C68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0A6-9DBA-42F6-983B-7CEF565F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C677-38C9-4485-AE3B-9AE4C14D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89E3-1EC6-4BA6-A208-66B94093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9335-7D23-4187-A62E-942F5F6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849E9-787C-4EF2-9501-8A04A209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BE9F-DAE7-4BC2-887B-8D2A40EC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C9F-BF6E-4049-90DE-DDB700D2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0EB5-2EC0-47AE-982A-A7CB5370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5E87-7ACA-4387-8CA6-16ED0937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6530-942D-4E03-87E5-46D592FB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E370-2E8A-4FAF-BD74-A38B7DA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59E0-B590-4A9F-B569-9B48C29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9E02-5D7F-4931-BB07-390198C6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AE5A-0CAB-4332-BB20-C3BF5519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AB3A-7011-434C-BC80-577B787F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BEB95-264B-44CC-A267-6DBBDCA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68FC6-B152-4480-85F1-3A600874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645-4C09-4D4C-9EAB-147FE376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FD53-31BF-4836-8921-12DB3990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BF91-69BA-46B9-B136-7F401D90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9029-1625-4169-B2CD-44DBC12D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3508-F6E0-4292-9138-1A1B707C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1AF8-D0C9-4F5C-8E7D-20BD4344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7C4C-FF5C-4B61-B602-890A84F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9451-5CC1-49DE-8AC8-29E47FF3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2E3F-C649-4E42-AA4F-91179D9C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A577D-D72D-4439-80FE-64229535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4B681-37DA-4DD5-B5E2-D93AB50C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121-0F26-4332-A3D9-31536BFE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241E-A9B8-4F9A-9210-A9ED9A7A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F90A5-5E5B-4698-B264-F4D77A3E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1D3B3-BEA4-4CAB-AC54-E0725C45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FDDD1-CFE5-4486-AA12-BFC4ECAB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6679-5ADA-49CC-B12A-560A0EF2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FAB3-19DE-403B-8C10-4F54FBC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5325-24EF-4CC9-87F7-1BA35E2A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5A45B-C9A7-4208-B135-44848EE1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D68D-881C-436A-9A5D-5991EF9A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037E-52A7-4A02-A79F-1177C643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4BB-6165-40E8-9772-903083A8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8613-2606-4D56-8023-63FECD61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C68A-EA0A-45C4-91D9-BAC0C7AA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068A-5527-4220-B476-B78CDE50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5A5A7-8260-4DDE-AF46-DA0CEBB2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F4428-26CA-4742-B4F8-34C12599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DC00-2C8B-49B7-B168-4C88DC20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0CFE5-F81B-4ADA-A716-AA31C69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B691F-30BE-40BC-BCD1-6230BBA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C02F-3096-416B-A35E-54B3B47A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46415-0EFC-4F97-8842-168F7A61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60E-6714-4F8C-B39A-254FE2C0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5A075-C697-4A50-A291-5EFCA970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A30F5-2871-4C1F-A08F-8CFE1D42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B5CF3-CA11-4E3A-A432-CF637539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93BB-EDCD-4BB0-9168-BA0A4EDD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89540-7CFB-43F4-8D60-9B9CB8E2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E10F-DF99-494F-97D2-08580F0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5DE33-09A2-40C5-A876-7EA55C4C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3CAB2-3DA6-4F18-AFE7-14D20060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77649-39E6-43CA-996C-6ADB3674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F60BB-32EA-4FAC-B34F-2EB890C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C56-4B77-4D80-9000-127E4C2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A3C59-2F2C-4288-985F-C2C42F3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734FB-BE81-42F3-AA2C-0CD97EF0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0B92B-3E5E-43CA-8997-F98A0513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10861-2936-4A7F-82A7-74E4CFBE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5BEAE-863A-43BC-8BEC-C96786A4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55C3D-88A6-4C61-858F-3777ACA5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13A2A-1CD4-4D4B-9C50-07382744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A9F9A-E1F1-4CE9-97FD-00AD802D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1A165-9A6D-4302-8FA0-124C8673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EBE2-A6D1-4C84-9AF6-0623F781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43F-9DF2-4D1E-829E-EC5A89FA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12DC2-26D4-4160-9531-ED816672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9D06F-AA42-453F-B86F-17C6633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31CA-6416-4F01-A2C3-740109E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1F3B7-B2BC-426E-B8C2-AF1868D4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ED9B3-1F60-4C7C-A27E-AA45DA92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BD1E2-0C7F-4283-BF26-1D1CF453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78843-FA16-47E8-A34B-2A746392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9941B-F67E-480B-9489-98C81460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AE306-0FC9-4C3E-BD98-A01361DA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7653E-BD6C-4273-AB6C-660BD068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B0C38623-DB0B-475B-97A1-E795BFEC1161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E48-D263-4C58-81CC-DB3739A479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2E294C55-C34F-4A58-9EDE-E5A293C35896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671A-0910-4602-8E05-2F62334D905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0B8D3848-D70E-4B5A-8D4E-BA0A62DE2423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191A-16DC-44E1-9E87-B46FDD871B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4EA62265-BEBC-4BDE-9E26-2D94B55A4466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3F8-A3AB-4CA4-B0BF-B5D4994EE7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9078A5F3-9A54-4E03-980D-1331DA4F282F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5028-A243-4D99-A283-CACA385F3A9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7768D783-F9E9-453B-A609-EDFABA488A64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060C-4573-4EF3-9C39-E7A5F17A76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61B75125-DBA6-4A0B-AAAA-0DB731B79F62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D41B-90D2-420B-AD95-ECBCF74DD4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EF70570C-5B4E-4A00-9EFB-8504FA1C8623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82C7-F982-4CFA-806E-3719F216EEA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70A2986C-C99C-4CCA-BAA7-4959F717DB41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5C51-E441-473C-B187-11D1E8301D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A689B374-4728-4937-A29A-5E56359A21EF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13E0-C144-4460-A284-0F1C29CDF25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 </a:t>
            </a:r>
            <a:fld id="{021E50D8-1554-4B3B-A5D8-0615D0C2644D}" type="datetime10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04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52C-2E52-43B0-9B64-D4A69F5B13C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lick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395280" y="105228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两个三角形的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两条边及其夹角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对应相等时，两个三角形一定全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SAS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395280" y="227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两个三角形的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两条边及其中一边的对角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对应相等时，两个三角形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未必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全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WordArt 7"/>
          <p:cNvSpPr txBox="1"/>
          <p:nvPr/>
        </p:nvSpPr>
        <p:spPr>
          <a:xfrm>
            <a:off x="611280" y="189000"/>
            <a:ext cx="304776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8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温故而知新</a:t>
            </a:r>
            <a:endParaRPr b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008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1876320" y="5985000"/>
            <a:ext cx="15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V="1">
            <a:off x="1876320" y="3904920"/>
            <a:ext cx="2540160" cy="207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1638360" y="5902200"/>
            <a:ext cx="5540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3384720" y="5873760"/>
            <a:ext cx="5554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940200" y="3544920"/>
            <a:ext cx="5540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2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Arc 13"/>
          <p:cNvSpPr/>
          <p:nvPr/>
        </p:nvSpPr>
        <p:spPr>
          <a:xfrm flipH="1" flipV="1" rot="5400000">
            <a:off x="2625840" y="4627440"/>
            <a:ext cx="965520" cy="1190520"/>
          </a:xfrm>
          <a:custGeom>
            <a:avLst/>
            <a:gdLst>
              <a:gd name="textAreaLeft" fmla="*/ 360 w 965520"/>
              <a:gd name="textAreaRight" fmla="*/ 966240 w 96552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fill="none" w="22761" h="21600">
                <a:moveTo>
                  <a:pt x="-1" y="32"/>
                </a:moveTo>
                <a:cubicBezTo>
                  <a:pt x="396" y="10"/>
                  <a:pt x="793" y="-1"/>
                  <a:pt x="1190" y="0"/>
                </a:cubicBezTo>
                <a:cubicBezTo>
                  <a:pt x="12684" y="0"/>
                  <a:pt x="22165" y="9001"/>
                  <a:pt x="22760" y="20481"/>
                </a:cubicBezTo>
              </a:path>
              <a:path stroke="0" w="22761" h="21600">
                <a:moveTo>
                  <a:pt x="-1" y="32"/>
                </a:moveTo>
                <a:cubicBezTo>
                  <a:pt x="396" y="10"/>
                  <a:pt x="793" y="-1"/>
                  <a:pt x="1190" y="0"/>
                </a:cubicBezTo>
                <a:cubicBezTo>
                  <a:pt x="12684" y="0"/>
                  <a:pt x="22165" y="9001"/>
                  <a:pt x="22760" y="20481"/>
                </a:cubicBezTo>
                <a:lnTo>
                  <a:pt x="119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Line 14"/>
          <p:cNvSpPr/>
          <p:nvPr/>
        </p:nvSpPr>
        <p:spPr>
          <a:xfrm>
            <a:off x="2511360" y="5403960"/>
            <a:ext cx="95256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Line 15"/>
          <p:cNvSpPr/>
          <p:nvPr/>
        </p:nvSpPr>
        <p:spPr>
          <a:xfrm>
            <a:off x="3303720" y="4819680"/>
            <a:ext cx="160200" cy="116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2114640" y="5070600"/>
            <a:ext cx="5540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17"/>
          <p:cNvSpPr/>
          <p:nvPr/>
        </p:nvSpPr>
        <p:spPr>
          <a:xfrm>
            <a:off x="2987640" y="4292640"/>
            <a:ext cx="79380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7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2" name="Group 18"/>
          <p:cNvGrpSpPr/>
          <p:nvPr/>
        </p:nvGrpSpPr>
        <p:grpSpPr>
          <a:xfrm>
            <a:off x="1619280" y="5084640"/>
            <a:ext cx="2301120" cy="1347120"/>
            <a:chOff x="1619280" y="5084640"/>
            <a:chExt cx="2301120" cy="1347120"/>
          </a:xfrm>
        </p:grpSpPr>
        <p:grpSp>
          <p:nvGrpSpPr>
            <p:cNvPr id="513" name="Group 19"/>
            <p:cNvGrpSpPr/>
            <p:nvPr/>
          </p:nvGrpSpPr>
          <p:grpSpPr>
            <a:xfrm>
              <a:off x="2490840" y="5917320"/>
              <a:ext cx="79920" cy="249120"/>
              <a:chOff x="2490840" y="5917320"/>
              <a:chExt cx="79920" cy="249120"/>
            </a:xfrm>
          </p:grpSpPr>
          <p:sp>
            <p:nvSpPr>
              <p:cNvPr id="514" name="Line 20"/>
              <p:cNvSpPr/>
              <p:nvPr/>
            </p:nvSpPr>
            <p:spPr>
              <a:xfrm>
                <a:off x="2490840" y="5917320"/>
                <a:ext cx="0" cy="249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5" name="Line 21"/>
              <p:cNvSpPr/>
              <p:nvPr/>
            </p:nvSpPr>
            <p:spPr>
              <a:xfrm>
                <a:off x="2570760" y="5917320"/>
                <a:ext cx="0" cy="249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22"/>
            <p:cNvGrpSpPr/>
            <p:nvPr/>
          </p:nvGrpSpPr>
          <p:grpSpPr>
            <a:xfrm>
              <a:off x="1619280" y="5084640"/>
              <a:ext cx="2301120" cy="1347120"/>
              <a:chOff x="1619280" y="5084640"/>
              <a:chExt cx="2301120" cy="1347120"/>
            </a:xfrm>
          </p:grpSpPr>
          <p:sp>
            <p:nvSpPr>
              <p:cNvPr id="517" name="Freeform 23"/>
              <p:cNvSpPr/>
              <p:nvPr/>
            </p:nvSpPr>
            <p:spPr>
              <a:xfrm>
                <a:off x="1857240" y="5418360"/>
                <a:ext cx="1586880" cy="580680"/>
              </a:xfrm>
              <a:custGeom>
                <a:avLst/>
                <a:gdLst>
                  <a:gd name="textAreaLeft" fmla="*/ 0 w 1586880"/>
                  <a:gd name="textAreaRight" fmla="*/ 1587240 w 1586880"/>
                  <a:gd name="textAreaTop" fmla="*/ 0 h 580680"/>
                  <a:gd name="textAreaBottom" fmla="*/ 581040 h 580680"/>
                </a:gdLst>
                <a:ahLst/>
                <a:rect l="textAreaLeft" t="textAreaTop" r="textAreaRight" b="textAreaBottom"/>
                <a:pathLst>
                  <a:path w="907" h="317">
                    <a:moveTo>
                      <a:pt x="408" y="0"/>
                    </a:moveTo>
                    <a:lnTo>
                      <a:pt x="907" y="317"/>
                    </a:lnTo>
                    <a:lnTo>
                      <a:pt x="0" y="317"/>
                    </a:lnTo>
                    <a:lnTo>
                      <a:pt x="408" y="0"/>
                    </a:ln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8" name="Text Box 24"/>
              <p:cNvSpPr/>
              <p:nvPr/>
            </p:nvSpPr>
            <p:spPr>
              <a:xfrm>
                <a:off x="1619280" y="5916960"/>
                <a:ext cx="554760" cy="5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27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9" name="Text Box 25"/>
              <p:cNvSpPr/>
              <p:nvPr/>
            </p:nvSpPr>
            <p:spPr>
              <a:xfrm>
                <a:off x="3365640" y="5887440"/>
                <a:ext cx="554760" cy="5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27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0" name="Text Box 26"/>
              <p:cNvSpPr/>
              <p:nvPr/>
            </p:nvSpPr>
            <p:spPr>
              <a:xfrm>
                <a:off x="2094840" y="5084640"/>
                <a:ext cx="554760" cy="5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27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21" name="Line 27"/>
            <p:cNvSpPr/>
            <p:nvPr/>
          </p:nvSpPr>
          <p:spPr>
            <a:xfrm flipH="1">
              <a:off x="2809440" y="5585400"/>
              <a:ext cx="159120" cy="16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2" name="Arc 28"/>
            <p:cNvSpPr/>
            <p:nvPr/>
          </p:nvSpPr>
          <p:spPr>
            <a:xfrm>
              <a:off x="2095200" y="5834880"/>
              <a:ext cx="78840" cy="1645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3" name="Group 29"/>
          <p:cNvGrpSpPr/>
          <p:nvPr/>
        </p:nvGrpSpPr>
        <p:grpSpPr>
          <a:xfrm>
            <a:off x="1638000" y="4292640"/>
            <a:ext cx="2200680" cy="2125080"/>
            <a:chOff x="1638000" y="4292640"/>
            <a:chExt cx="2200680" cy="2125080"/>
          </a:xfrm>
        </p:grpSpPr>
        <p:sp>
          <p:nvSpPr>
            <p:cNvPr id="524" name="Line 30"/>
            <p:cNvSpPr/>
            <p:nvPr/>
          </p:nvSpPr>
          <p:spPr>
            <a:xfrm flipH="1">
              <a:off x="3225960" y="5320080"/>
              <a:ext cx="23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25" name="Group 31"/>
            <p:cNvGrpSpPr/>
            <p:nvPr/>
          </p:nvGrpSpPr>
          <p:grpSpPr>
            <a:xfrm>
              <a:off x="1638000" y="4292640"/>
              <a:ext cx="2200680" cy="2125080"/>
              <a:chOff x="1638000" y="4292640"/>
              <a:chExt cx="2200680" cy="2125080"/>
            </a:xfrm>
          </p:grpSpPr>
          <p:sp>
            <p:nvSpPr>
              <p:cNvPr id="526" name="Freeform 32"/>
              <p:cNvSpPr/>
              <p:nvPr/>
            </p:nvSpPr>
            <p:spPr>
              <a:xfrm>
                <a:off x="1876320" y="4820760"/>
                <a:ext cx="1586880" cy="1164600"/>
              </a:xfrm>
              <a:custGeom>
                <a:avLst/>
                <a:gdLst>
                  <a:gd name="textAreaLeft" fmla="*/ 0 w 1586880"/>
                  <a:gd name="textAreaRight" fmla="*/ 1587240 w 1586880"/>
                  <a:gd name="textAreaTop" fmla="*/ 0 h 1164600"/>
                  <a:gd name="textAreaBottom" fmla="*/ 1164960 h 1164600"/>
                </a:gdLst>
                <a:ahLst/>
                <a:rect l="textAreaLeft" t="textAreaTop" r="textAreaRight" b="textAreaBottom"/>
                <a:pathLst>
                  <a:path w="907" h="635">
                    <a:moveTo>
                      <a:pt x="816" y="0"/>
                    </a:moveTo>
                    <a:lnTo>
                      <a:pt x="0" y="635"/>
                    </a:lnTo>
                    <a:lnTo>
                      <a:pt x="907" y="635"/>
                    </a:lnTo>
                    <a:lnTo>
                      <a:pt x="816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7" name="Rectangle 33"/>
              <p:cNvSpPr/>
              <p:nvPr/>
            </p:nvSpPr>
            <p:spPr>
              <a:xfrm>
                <a:off x="1638000" y="5902920"/>
                <a:ext cx="453600" cy="5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27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8" name="Rectangle 34"/>
              <p:cNvSpPr/>
              <p:nvPr/>
            </p:nvSpPr>
            <p:spPr>
              <a:xfrm>
                <a:off x="3385080" y="5873400"/>
                <a:ext cx="453600" cy="5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27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9" name="Rectangle 35"/>
              <p:cNvSpPr/>
              <p:nvPr/>
            </p:nvSpPr>
            <p:spPr>
              <a:xfrm>
                <a:off x="2988000" y="4292640"/>
                <a:ext cx="453600" cy="5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960" rIns="102960" tIns="51480" bIns="5148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27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36"/>
            <p:cNvGrpSpPr/>
            <p:nvPr/>
          </p:nvGrpSpPr>
          <p:grpSpPr>
            <a:xfrm>
              <a:off x="2511360" y="5903280"/>
              <a:ext cx="78480" cy="249120"/>
              <a:chOff x="2511360" y="5903280"/>
              <a:chExt cx="78480" cy="249120"/>
            </a:xfrm>
          </p:grpSpPr>
          <p:sp>
            <p:nvSpPr>
              <p:cNvPr id="531" name="Line 37"/>
              <p:cNvSpPr/>
              <p:nvPr/>
            </p:nvSpPr>
            <p:spPr>
              <a:xfrm>
                <a:off x="2511360" y="5903280"/>
                <a:ext cx="0" cy="249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2" name="Line 38"/>
              <p:cNvSpPr/>
              <p:nvPr/>
            </p:nvSpPr>
            <p:spPr>
              <a:xfrm>
                <a:off x="2589840" y="5903280"/>
                <a:ext cx="0" cy="249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33" name="Arc 39"/>
            <p:cNvSpPr/>
            <p:nvPr/>
          </p:nvSpPr>
          <p:spPr>
            <a:xfrm>
              <a:off x="2035440" y="5820840"/>
              <a:ext cx="157320" cy="1645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4" name="Rectangle 40"/>
          <p:cNvSpPr/>
          <p:nvPr/>
        </p:nvSpPr>
        <p:spPr>
          <a:xfrm>
            <a:off x="181080" y="5845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1 -0.04915 L 0.27608 0.03751 E">
                                      <p:cBhvr>
                                        <p:cTn id="62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00417 L 0.30451 -0.1037 E">
                                      <p:cBhvr>
                                        <p:cTn id="79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530280" cy="42498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1042920" y="46832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角边角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5724360" y="5084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角角边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2"/>
          <a:stretch/>
        </p:blipFill>
        <p:spPr>
          <a:xfrm>
            <a:off x="2411280" y="2997360"/>
            <a:ext cx="178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6"/>
          <p:cNvGrpSpPr/>
          <p:nvPr/>
        </p:nvGrpSpPr>
        <p:grpSpPr>
          <a:xfrm>
            <a:off x="4788000" y="2565360"/>
            <a:ext cx="1780920" cy="895320"/>
            <a:chOff x="4788000" y="2565360"/>
            <a:chExt cx="1780920" cy="895320"/>
          </a:xfrm>
        </p:grpSpPr>
        <p:pic>
          <p:nvPicPr>
            <p:cNvPr id="616" name="Picture 7" descr=""/>
            <p:cNvPicPr/>
            <p:nvPr/>
          </p:nvPicPr>
          <p:blipFill>
            <a:blip r:embed="rId3"/>
            <a:stretch/>
          </p:blipFill>
          <p:spPr>
            <a:xfrm>
              <a:off x="4788000" y="2565360"/>
              <a:ext cx="178092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12"/>
          <p:cNvGrpSpPr/>
          <p:nvPr/>
        </p:nvGrpSpPr>
        <p:grpSpPr>
          <a:xfrm>
            <a:off x="6659640" y="2565360"/>
            <a:ext cx="1780920" cy="895320"/>
            <a:chOff x="6659640" y="2565360"/>
            <a:chExt cx="1780920" cy="895320"/>
          </a:xfrm>
        </p:grpSpPr>
        <p:pic>
          <p:nvPicPr>
            <p:cNvPr id="618" name="Picture 13" descr=""/>
            <p:cNvPicPr/>
            <p:nvPr/>
          </p:nvPicPr>
          <p:blipFill>
            <a:blip r:embed="rId4"/>
            <a:stretch/>
          </p:blipFill>
          <p:spPr>
            <a:xfrm>
              <a:off x="6659640" y="2565360"/>
              <a:ext cx="178092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Group 18"/>
          <p:cNvGrpSpPr/>
          <p:nvPr/>
        </p:nvGrpSpPr>
        <p:grpSpPr>
          <a:xfrm>
            <a:off x="4859280" y="3789360"/>
            <a:ext cx="1780920" cy="895320"/>
            <a:chOff x="4859280" y="3789360"/>
            <a:chExt cx="1780920" cy="895320"/>
          </a:xfrm>
        </p:grpSpPr>
        <p:pic>
          <p:nvPicPr>
            <p:cNvPr id="620" name="Picture 19" descr=""/>
            <p:cNvPicPr/>
            <p:nvPr/>
          </p:nvPicPr>
          <p:blipFill>
            <a:blip r:embed="rId5"/>
            <a:stretch/>
          </p:blipFill>
          <p:spPr>
            <a:xfrm>
              <a:off x="4859280" y="3789360"/>
              <a:ext cx="178092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1" name="Group 24"/>
          <p:cNvGrpSpPr/>
          <p:nvPr/>
        </p:nvGrpSpPr>
        <p:grpSpPr>
          <a:xfrm>
            <a:off x="6732720" y="3789360"/>
            <a:ext cx="1780920" cy="895320"/>
            <a:chOff x="6732720" y="3789360"/>
            <a:chExt cx="1780920" cy="895320"/>
          </a:xfrm>
        </p:grpSpPr>
        <p:pic>
          <p:nvPicPr>
            <p:cNvPr id="622" name="Picture 25" descr=""/>
            <p:cNvPicPr/>
            <p:nvPr/>
          </p:nvPicPr>
          <p:blipFill>
            <a:blip r:embed="rId6"/>
            <a:stretch/>
          </p:blipFill>
          <p:spPr>
            <a:xfrm>
              <a:off x="6732720" y="3789360"/>
              <a:ext cx="178092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34"/>
          <p:cNvGrpSpPr/>
          <p:nvPr/>
        </p:nvGrpSpPr>
        <p:grpSpPr>
          <a:xfrm>
            <a:off x="324000" y="2997360"/>
            <a:ext cx="3587040" cy="895320"/>
            <a:chOff x="324000" y="2997360"/>
            <a:chExt cx="3587040" cy="895320"/>
          </a:xfrm>
        </p:grpSpPr>
        <p:pic>
          <p:nvPicPr>
            <p:cNvPr id="624" name="Picture 35" descr=""/>
            <p:cNvPicPr/>
            <p:nvPr/>
          </p:nvPicPr>
          <p:blipFill>
            <a:blip r:embed="rId7"/>
            <a:stretch/>
          </p:blipFill>
          <p:spPr>
            <a:xfrm>
              <a:off x="324000" y="2997360"/>
              <a:ext cx="35870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WordArt 46"/>
          <p:cNvSpPr txBox="1"/>
          <p:nvPr/>
        </p:nvSpPr>
        <p:spPr>
          <a:xfrm>
            <a:off x="5580000" y="1125360"/>
            <a:ext cx="266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latin typeface="黑体"/>
              </a:rPr>
              <a:t>两角一边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cc00"/>
              </a:solidFill>
              <a:latin typeface="黑体"/>
              <a:ea typeface="黑体"/>
            </a:endParaRPr>
          </a:p>
        </p:txBody>
      </p:sp>
      <p:grpSp>
        <p:nvGrpSpPr>
          <p:cNvPr id="626" name="Group 47"/>
          <p:cNvGrpSpPr/>
          <p:nvPr/>
        </p:nvGrpSpPr>
        <p:grpSpPr>
          <a:xfrm>
            <a:off x="0" y="260280"/>
            <a:ext cx="6048360" cy="792000"/>
            <a:chOff x="0" y="260280"/>
            <a:chExt cx="6048360" cy="792000"/>
          </a:xfrm>
        </p:grpSpPr>
        <p:sp>
          <p:nvSpPr>
            <p:cNvPr id="627" name="desk1"/>
            <p:cNvSpPr/>
            <p:nvPr/>
          </p:nvSpPr>
          <p:spPr>
            <a:xfrm>
              <a:off x="0" y="260280"/>
              <a:ext cx="6048360" cy="792000"/>
            </a:xfrm>
            <a:custGeom>
              <a:avLst/>
              <a:gdLst>
                <a:gd name="textAreaLeft" fmla="*/ 279360 w 6048360"/>
                <a:gd name="textAreaRight" fmla="*/ 5769000 w 6048360"/>
                <a:gd name="textAreaTop" fmla="*/ 36360 h 792000"/>
                <a:gd name="textAreaBottom" fmla="*/ 75564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8" name="Text Box 49"/>
            <p:cNvSpPr/>
            <p:nvPr/>
          </p:nvSpPr>
          <p:spPr>
            <a:xfrm>
              <a:off x="611280" y="331560"/>
              <a:ext cx="43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Arial"/>
                  <a:ea typeface="宋体"/>
                </a:rPr>
                <a:t>三角形全等的判定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29" name="Ink 30"/>
          <p:cNvSpPr/>
          <p:nvPr/>
        </p:nvSpPr>
        <p:spPr>
          <a:xfrm>
            <a:off x="5133960" y="323208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14263" y="8979"/>
                </a:moveTo>
                <a:cubicBezTo>
                  <a:pt x="14288" y="8979"/>
                  <a:pt x="14296" y="8979"/>
                  <a:pt x="14312" y="8979"/>
                </a:cubicBezTo>
                <a:cubicBezTo>
                  <a:pt x="14312" y="9004"/>
                  <a:pt x="14312" y="9029"/>
                  <a:pt x="14312" y="9054"/>
                </a:cubicBezTo>
                <a:cubicBezTo>
                  <a:pt x="14350" y="9067"/>
                  <a:pt x="14337" y="9083"/>
                  <a:pt x="14337" y="9128"/>
                </a:cubicBezTo>
                <a:cubicBezTo>
                  <a:pt x="14299" y="9141"/>
                  <a:pt x="14312" y="9158"/>
                  <a:pt x="14312" y="9203"/>
                </a:cubicBezTo>
                <a:cubicBezTo>
                  <a:pt x="14312" y="9240"/>
                  <a:pt x="14288" y="9224"/>
                  <a:pt x="14288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0" name="Ink 31"/>
          <p:cNvSpPr/>
          <p:nvPr/>
        </p:nvSpPr>
        <p:spPr>
          <a:xfrm>
            <a:off x="5224320" y="4438800"/>
            <a:ext cx="44640" cy="115560"/>
          </a:xfrm>
          <a:custGeom>
            <a:avLst/>
            <a:gdLst/>
            <a:ahLst/>
            <a:rect l="l" t="t" r="r" b="b"/>
            <a:pathLst>
              <a:path w="125" h="323">
                <a:moveTo>
                  <a:pt x="14511" y="12328"/>
                </a:moveTo>
                <a:cubicBezTo>
                  <a:pt x="14519" y="12328"/>
                  <a:pt x="14528" y="12328"/>
                  <a:pt x="14536" y="12328"/>
                </a:cubicBezTo>
                <a:cubicBezTo>
                  <a:pt x="14549" y="12368"/>
                  <a:pt x="14547" y="12338"/>
                  <a:pt x="14560" y="12378"/>
                </a:cubicBezTo>
                <a:cubicBezTo>
                  <a:pt x="14595" y="12389"/>
                  <a:pt x="14585" y="12385"/>
                  <a:pt x="14585" y="12427"/>
                </a:cubicBezTo>
                <a:cubicBezTo>
                  <a:pt x="14623" y="12440"/>
                  <a:pt x="14610" y="12457"/>
                  <a:pt x="14610" y="12502"/>
                </a:cubicBezTo>
                <a:cubicBezTo>
                  <a:pt x="14648" y="12514"/>
                  <a:pt x="14635" y="12531"/>
                  <a:pt x="14635" y="12576"/>
                </a:cubicBezTo>
                <a:cubicBezTo>
                  <a:pt x="14635" y="12601"/>
                  <a:pt x="14635" y="12625"/>
                  <a:pt x="14635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1" name="Ink 32"/>
          <p:cNvSpPr/>
          <p:nvPr/>
        </p:nvSpPr>
        <p:spPr>
          <a:xfrm>
            <a:off x="7000920" y="3205080"/>
            <a:ext cx="27000" cy="125640"/>
          </a:xfrm>
          <a:custGeom>
            <a:avLst/>
            <a:gdLst/>
            <a:ahLst/>
            <a:rect l="l" t="t" r="r" b="b"/>
            <a:pathLst>
              <a:path w="75" h="348">
                <a:moveTo>
                  <a:pt x="19447" y="8905"/>
                </a:moveTo>
                <a:cubicBezTo>
                  <a:pt x="19447" y="8913"/>
                  <a:pt x="19447" y="8922"/>
                  <a:pt x="19447" y="8930"/>
                </a:cubicBezTo>
                <a:cubicBezTo>
                  <a:pt x="19485" y="8942"/>
                  <a:pt x="19472" y="8959"/>
                  <a:pt x="19472" y="9004"/>
                </a:cubicBezTo>
                <a:cubicBezTo>
                  <a:pt x="19472" y="9012"/>
                  <a:pt x="19472" y="9021"/>
                  <a:pt x="19472" y="9029"/>
                </a:cubicBezTo>
                <a:cubicBezTo>
                  <a:pt x="19511" y="9042"/>
                  <a:pt x="19482" y="9041"/>
                  <a:pt x="19521" y="9054"/>
                </a:cubicBezTo>
                <a:cubicBezTo>
                  <a:pt x="19521" y="9111"/>
                  <a:pt x="19541" y="9237"/>
                  <a:pt x="19496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2" name="Ink 33"/>
          <p:cNvSpPr/>
          <p:nvPr/>
        </p:nvSpPr>
        <p:spPr>
          <a:xfrm>
            <a:off x="7099200" y="4411800"/>
            <a:ext cx="27000" cy="125280"/>
          </a:xfrm>
          <a:custGeom>
            <a:avLst/>
            <a:gdLst/>
            <a:ahLst/>
            <a:rect l="l" t="t" r="r" b="b"/>
            <a:pathLst>
              <a:path w="75" h="348">
                <a:moveTo>
                  <a:pt x="19745" y="12353"/>
                </a:moveTo>
                <a:lnTo>
                  <a:pt x="19745" y="12353"/>
                </a:lnTo>
              </a:path>
              <a:path w="75" h="348">
                <a:moveTo>
                  <a:pt x="19720" y="12254"/>
                </a:moveTo>
                <a:cubicBezTo>
                  <a:pt x="19728" y="12254"/>
                  <a:pt x="19737" y="12254"/>
                  <a:pt x="19745" y="12254"/>
                </a:cubicBezTo>
                <a:cubicBezTo>
                  <a:pt x="19745" y="12295"/>
                  <a:pt x="19735" y="12291"/>
                  <a:pt x="19769" y="12303"/>
                </a:cubicBezTo>
                <a:cubicBezTo>
                  <a:pt x="19769" y="12346"/>
                  <a:pt x="19759" y="12341"/>
                  <a:pt x="19794" y="12353"/>
                </a:cubicBezTo>
                <a:cubicBezTo>
                  <a:pt x="19794" y="12427"/>
                  <a:pt x="19794" y="12502"/>
                  <a:pt x="19794" y="12576"/>
                </a:cubicBezTo>
                <a:cubicBezTo>
                  <a:pt x="19769" y="12576"/>
                  <a:pt x="19761" y="12576"/>
                  <a:pt x="19769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3" name="Ink 36"/>
          <p:cNvSpPr/>
          <p:nvPr/>
        </p:nvSpPr>
        <p:spPr>
          <a:xfrm>
            <a:off x="731880" y="3616200"/>
            <a:ext cx="54000" cy="152640"/>
          </a:xfrm>
          <a:custGeom>
            <a:avLst/>
            <a:gdLst/>
            <a:ahLst/>
            <a:rect l="l" t="t" r="r" b="b"/>
            <a:pathLst>
              <a:path w="150" h="423">
                <a:moveTo>
                  <a:pt x="2034" y="10046"/>
                </a:moveTo>
                <a:cubicBezTo>
                  <a:pt x="2034" y="10054"/>
                  <a:pt x="2034" y="10063"/>
                  <a:pt x="2034" y="10071"/>
                </a:cubicBezTo>
                <a:cubicBezTo>
                  <a:pt x="2077" y="10071"/>
                  <a:pt x="2072" y="10061"/>
                  <a:pt x="2084" y="10096"/>
                </a:cubicBezTo>
                <a:cubicBezTo>
                  <a:pt x="2118" y="10107"/>
                  <a:pt x="2108" y="10103"/>
                  <a:pt x="2108" y="10145"/>
                </a:cubicBezTo>
                <a:cubicBezTo>
                  <a:pt x="2143" y="10157"/>
                  <a:pt x="2133" y="10152"/>
                  <a:pt x="2133" y="10195"/>
                </a:cubicBezTo>
                <a:cubicBezTo>
                  <a:pt x="2171" y="10208"/>
                  <a:pt x="2158" y="10224"/>
                  <a:pt x="2158" y="10269"/>
                </a:cubicBezTo>
                <a:cubicBezTo>
                  <a:pt x="2196" y="10282"/>
                  <a:pt x="2183" y="10299"/>
                  <a:pt x="2183" y="10344"/>
                </a:cubicBezTo>
                <a:cubicBezTo>
                  <a:pt x="2183" y="10368"/>
                  <a:pt x="2183" y="10377"/>
                  <a:pt x="2183" y="10393"/>
                </a:cubicBezTo>
                <a:cubicBezTo>
                  <a:pt x="2125" y="10412"/>
                  <a:pt x="2193" y="10440"/>
                  <a:pt x="2158" y="10468"/>
                </a:cubicBezTo>
                <a:cubicBezTo>
                  <a:pt x="2150" y="10468"/>
                  <a:pt x="2141" y="10468"/>
                  <a:pt x="2133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Ink 37"/>
          <p:cNvSpPr/>
          <p:nvPr/>
        </p:nvSpPr>
        <p:spPr>
          <a:xfrm>
            <a:off x="1312920" y="3697200"/>
            <a:ext cx="17280" cy="187560"/>
          </a:xfrm>
          <a:custGeom>
            <a:avLst/>
            <a:gdLst/>
            <a:ahLst/>
            <a:rect l="l" t="t" r="r" b="b"/>
            <a:pathLst>
              <a:path w="51" h="522">
                <a:moveTo>
                  <a:pt x="3646" y="10269"/>
                </a:moveTo>
                <a:cubicBezTo>
                  <a:pt x="3646" y="10368"/>
                  <a:pt x="3646" y="10468"/>
                  <a:pt x="3646" y="10567"/>
                </a:cubicBezTo>
                <a:cubicBezTo>
                  <a:pt x="3684" y="10580"/>
                  <a:pt x="3671" y="10596"/>
                  <a:pt x="3671" y="10641"/>
                </a:cubicBezTo>
                <a:cubicBezTo>
                  <a:pt x="3671" y="10674"/>
                  <a:pt x="3671" y="10707"/>
                  <a:pt x="3671" y="10740"/>
                </a:cubicBezTo>
                <a:cubicBezTo>
                  <a:pt x="3706" y="10752"/>
                  <a:pt x="3696" y="10747"/>
                  <a:pt x="3696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Ink 38"/>
          <p:cNvSpPr/>
          <p:nvPr/>
        </p:nvSpPr>
        <p:spPr>
          <a:xfrm>
            <a:off x="1731960" y="3571920"/>
            <a:ext cx="9036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5060" y="9922"/>
                </a:moveTo>
                <a:cubicBezTo>
                  <a:pt x="5016" y="9922"/>
                  <a:pt x="5000" y="9937"/>
                  <a:pt x="4961" y="9947"/>
                </a:cubicBezTo>
                <a:cubicBezTo>
                  <a:pt x="4961" y="9999"/>
                  <a:pt x="4963" y="9996"/>
                  <a:pt x="4911" y="9996"/>
                </a:cubicBezTo>
                <a:cubicBezTo>
                  <a:pt x="4900" y="10031"/>
                  <a:pt x="4904" y="10021"/>
                  <a:pt x="4862" y="10021"/>
                </a:cubicBezTo>
                <a:cubicBezTo>
                  <a:pt x="4849" y="10059"/>
                  <a:pt x="4837" y="10042"/>
                  <a:pt x="4837" y="10096"/>
                </a:cubicBezTo>
                <a:cubicBezTo>
                  <a:pt x="4837" y="10104"/>
                  <a:pt x="4837" y="10112"/>
                  <a:pt x="4837" y="10120"/>
                </a:cubicBezTo>
                <a:cubicBezTo>
                  <a:pt x="4799" y="10133"/>
                  <a:pt x="4812" y="10150"/>
                  <a:pt x="4812" y="10195"/>
                </a:cubicBezTo>
                <a:cubicBezTo>
                  <a:pt x="4812" y="10220"/>
                  <a:pt x="4812" y="10244"/>
                  <a:pt x="4812" y="10269"/>
                </a:cubicBezTo>
                <a:cubicBezTo>
                  <a:pt x="4850" y="10282"/>
                  <a:pt x="4837" y="10299"/>
                  <a:pt x="4837" y="10344"/>
                </a:cubicBezTo>
                <a:cubicBezTo>
                  <a:pt x="4872" y="10355"/>
                  <a:pt x="4862" y="10351"/>
                  <a:pt x="4862" y="10393"/>
                </a:cubicBezTo>
                <a:cubicBezTo>
                  <a:pt x="4901" y="10406"/>
                  <a:pt x="4872" y="10405"/>
                  <a:pt x="4911" y="10418"/>
                </a:cubicBezTo>
              </a:path>
              <a:path w="249" h="522">
                <a:moveTo>
                  <a:pt x="4887" y="10418"/>
                </a:moveTo>
                <a:cubicBezTo>
                  <a:pt x="4932" y="10418"/>
                  <a:pt x="4948" y="10405"/>
                  <a:pt x="4961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Ink 39"/>
          <p:cNvSpPr/>
          <p:nvPr/>
        </p:nvSpPr>
        <p:spPr>
          <a:xfrm>
            <a:off x="2857680" y="3581280"/>
            <a:ext cx="90360" cy="196920"/>
          </a:xfrm>
          <a:custGeom>
            <a:avLst/>
            <a:gdLst/>
            <a:ahLst/>
            <a:rect l="l" t="t" r="r" b="b"/>
            <a:pathLst>
              <a:path w="249" h="546">
                <a:moveTo>
                  <a:pt x="7938" y="9947"/>
                </a:moveTo>
                <a:cubicBezTo>
                  <a:pt x="7946" y="9947"/>
                  <a:pt x="7954" y="9947"/>
                  <a:pt x="7962" y="9947"/>
                </a:cubicBezTo>
                <a:cubicBezTo>
                  <a:pt x="7975" y="9983"/>
                  <a:pt x="7993" y="9971"/>
                  <a:pt x="8037" y="9971"/>
                </a:cubicBezTo>
                <a:cubicBezTo>
                  <a:pt x="8037" y="10014"/>
                  <a:pt x="8027" y="10009"/>
                  <a:pt x="8062" y="10021"/>
                </a:cubicBezTo>
                <a:cubicBezTo>
                  <a:pt x="8062" y="10073"/>
                  <a:pt x="8059" y="10071"/>
                  <a:pt x="8111" y="10071"/>
                </a:cubicBezTo>
                <a:cubicBezTo>
                  <a:pt x="8111" y="10113"/>
                  <a:pt x="8101" y="10109"/>
                  <a:pt x="8136" y="10120"/>
                </a:cubicBezTo>
                <a:cubicBezTo>
                  <a:pt x="8136" y="10163"/>
                  <a:pt x="8126" y="10158"/>
                  <a:pt x="8161" y="10170"/>
                </a:cubicBezTo>
                <a:cubicBezTo>
                  <a:pt x="8161" y="10211"/>
                  <a:pt x="8161" y="10253"/>
                  <a:pt x="8161" y="10294"/>
                </a:cubicBezTo>
                <a:cubicBezTo>
                  <a:pt x="8199" y="10307"/>
                  <a:pt x="8186" y="10323"/>
                  <a:pt x="8186" y="10368"/>
                </a:cubicBezTo>
                <a:cubicBezTo>
                  <a:pt x="8186" y="10393"/>
                  <a:pt x="8186" y="10418"/>
                  <a:pt x="8186" y="10443"/>
                </a:cubicBezTo>
                <a:cubicBezTo>
                  <a:pt x="8151" y="10455"/>
                  <a:pt x="8161" y="10450"/>
                  <a:pt x="8161" y="10492"/>
                </a:cubicBezTo>
                <a:cubicBezTo>
                  <a:pt x="8136" y="10492"/>
                  <a:pt x="8128" y="10492"/>
                  <a:pt x="8136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Ink 40"/>
          <p:cNvSpPr/>
          <p:nvPr/>
        </p:nvSpPr>
        <p:spPr>
          <a:xfrm>
            <a:off x="3367080" y="3732120"/>
            <a:ext cx="7920" cy="125640"/>
          </a:xfrm>
          <a:custGeom>
            <a:avLst/>
            <a:gdLst/>
            <a:ahLst/>
            <a:rect l="l" t="t" r="r" b="b"/>
            <a:pathLst>
              <a:path w="26" h="349">
                <a:moveTo>
                  <a:pt x="9351" y="10368"/>
                </a:moveTo>
                <a:cubicBezTo>
                  <a:pt x="9351" y="10418"/>
                  <a:pt x="9351" y="10467"/>
                  <a:pt x="9351" y="10517"/>
                </a:cubicBezTo>
                <a:cubicBezTo>
                  <a:pt x="9389" y="10530"/>
                  <a:pt x="9376" y="10547"/>
                  <a:pt x="9376" y="10592"/>
                </a:cubicBezTo>
                <a:cubicBezTo>
                  <a:pt x="9376" y="10633"/>
                  <a:pt x="9376" y="10675"/>
                  <a:pt x="9376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Ink 41"/>
          <p:cNvSpPr/>
          <p:nvPr/>
        </p:nvSpPr>
        <p:spPr>
          <a:xfrm>
            <a:off x="3813120" y="3581280"/>
            <a:ext cx="98640" cy="177840"/>
          </a:xfrm>
          <a:custGeom>
            <a:avLst/>
            <a:gdLst/>
            <a:ahLst/>
            <a:rect l="l" t="t" r="r" b="b"/>
            <a:pathLst>
              <a:path w="273" h="497">
                <a:moveTo>
                  <a:pt x="10864" y="9947"/>
                </a:moveTo>
                <a:cubicBezTo>
                  <a:pt x="10856" y="9947"/>
                  <a:pt x="10848" y="9947"/>
                  <a:pt x="10840" y="9947"/>
                </a:cubicBezTo>
                <a:cubicBezTo>
                  <a:pt x="10840" y="9989"/>
                  <a:pt x="10850" y="9984"/>
                  <a:pt x="10815" y="9996"/>
                </a:cubicBezTo>
                <a:cubicBezTo>
                  <a:pt x="10804" y="10028"/>
                  <a:pt x="10781" y="10036"/>
                  <a:pt x="10740" y="10046"/>
                </a:cubicBezTo>
                <a:cubicBezTo>
                  <a:pt x="10740" y="10098"/>
                  <a:pt x="10743" y="10096"/>
                  <a:pt x="10691" y="10096"/>
                </a:cubicBezTo>
                <a:cubicBezTo>
                  <a:pt x="10678" y="10135"/>
                  <a:pt x="10679" y="10106"/>
                  <a:pt x="10666" y="10145"/>
                </a:cubicBezTo>
                <a:cubicBezTo>
                  <a:pt x="10628" y="10158"/>
                  <a:pt x="10641" y="10175"/>
                  <a:pt x="10641" y="10220"/>
                </a:cubicBezTo>
                <a:cubicBezTo>
                  <a:pt x="10601" y="10233"/>
                  <a:pt x="10631" y="10231"/>
                  <a:pt x="10592" y="10244"/>
                </a:cubicBezTo>
                <a:cubicBezTo>
                  <a:pt x="10592" y="10302"/>
                  <a:pt x="10592" y="10360"/>
                  <a:pt x="10592" y="10418"/>
                </a:cubicBezTo>
                <a:cubicBezTo>
                  <a:pt x="10631" y="10431"/>
                  <a:pt x="10602" y="10430"/>
                  <a:pt x="10641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9" name="Ink 42"/>
          <p:cNvSpPr/>
          <p:nvPr/>
        </p:nvSpPr>
        <p:spPr>
          <a:xfrm>
            <a:off x="1401840" y="3679920"/>
            <a:ext cx="19080" cy="195120"/>
          </a:xfrm>
          <a:custGeom>
            <a:avLst/>
            <a:gdLst/>
            <a:ahLst/>
            <a:rect l="l" t="t" r="r" b="b"/>
            <a:pathLst>
              <a:path w="51" h="546">
                <a:moveTo>
                  <a:pt x="3894" y="10220"/>
                </a:moveTo>
                <a:cubicBezTo>
                  <a:pt x="3894" y="10278"/>
                  <a:pt x="3894" y="10335"/>
                  <a:pt x="3894" y="10393"/>
                </a:cubicBezTo>
                <a:cubicBezTo>
                  <a:pt x="3932" y="10406"/>
                  <a:pt x="3919" y="10423"/>
                  <a:pt x="3919" y="10468"/>
                </a:cubicBezTo>
                <a:cubicBezTo>
                  <a:pt x="3919" y="10542"/>
                  <a:pt x="3919" y="10617"/>
                  <a:pt x="3919" y="10691"/>
                </a:cubicBezTo>
                <a:cubicBezTo>
                  <a:pt x="3957" y="10704"/>
                  <a:pt x="3944" y="10720"/>
                  <a:pt x="3944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0" name="Ink 43"/>
          <p:cNvSpPr/>
          <p:nvPr/>
        </p:nvSpPr>
        <p:spPr>
          <a:xfrm>
            <a:off x="3446640" y="3705120"/>
            <a:ext cx="9360" cy="169920"/>
          </a:xfrm>
          <a:custGeom>
            <a:avLst/>
            <a:gdLst/>
            <a:ahLst/>
            <a:rect l="l" t="t" r="r" b="b"/>
            <a:pathLst>
              <a:path w="25" h="472">
                <a:moveTo>
                  <a:pt x="9599" y="10294"/>
                </a:moveTo>
                <a:cubicBezTo>
                  <a:pt x="9599" y="10385"/>
                  <a:pt x="9599" y="10476"/>
                  <a:pt x="9599" y="10567"/>
                </a:cubicBezTo>
                <a:cubicBezTo>
                  <a:pt x="9563" y="10580"/>
                  <a:pt x="9575" y="10597"/>
                  <a:pt x="9575" y="10641"/>
                </a:cubicBezTo>
                <a:cubicBezTo>
                  <a:pt x="9575" y="10682"/>
                  <a:pt x="9575" y="10724"/>
                  <a:pt x="9575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Ink 44"/>
          <p:cNvSpPr/>
          <p:nvPr/>
        </p:nvSpPr>
        <p:spPr>
          <a:xfrm>
            <a:off x="2813040" y="3616200"/>
            <a:ext cx="27000" cy="162000"/>
          </a:xfrm>
          <a:custGeom>
            <a:avLst/>
            <a:gdLst/>
            <a:ahLst/>
            <a:rect l="l" t="t" r="r" b="b"/>
            <a:pathLst>
              <a:path w="76" h="447">
                <a:moveTo>
                  <a:pt x="7813" y="10046"/>
                </a:moveTo>
                <a:cubicBezTo>
                  <a:pt x="7813" y="10071"/>
                  <a:pt x="7813" y="10079"/>
                  <a:pt x="7813" y="10096"/>
                </a:cubicBezTo>
                <a:cubicBezTo>
                  <a:pt x="7848" y="10107"/>
                  <a:pt x="7838" y="10103"/>
                  <a:pt x="7838" y="10145"/>
                </a:cubicBezTo>
                <a:cubicBezTo>
                  <a:pt x="7876" y="10158"/>
                  <a:pt x="7863" y="10175"/>
                  <a:pt x="7863" y="10220"/>
                </a:cubicBezTo>
                <a:cubicBezTo>
                  <a:pt x="7863" y="10245"/>
                  <a:pt x="7863" y="10269"/>
                  <a:pt x="7863" y="10294"/>
                </a:cubicBezTo>
                <a:cubicBezTo>
                  <a:pt x="7901" y="10307"/>
                  <a:pt x="7888" y="10323"/>
                  <a:pt x="7888" y="10368"/>
                </a:cubicBezTo>
                <a:cubicBezTo>
                  <a:pt x="7888" y="10401"/>
                  <a:pt x="7888" y="10435"/>
                  <a:pt x="7888" y="10468"/>
                </a:cubicBezTo>
                <a:cubicBezTo>
                  <a:pt x="7848" y="10481"/>
                  <a:pt x="7878" y="10479"/>
                  <a:pt x="7838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2" name="Ink 45"/>
          <p:cNvSpPr/>
          <p:nvPr/>
        </p:nvSpPr>
        <p:spPr>
          <a:xfrm>
            <a:off x="795240" y="3571920"/>
            <a:ext cx="54000" cy="223920"/>
          </a:xfrm>
          <a:custGeom>
            <a:avLst/>
            <a:gdLst/>
            <a:ahLst/>
            <a:rect l="l" t="t" r="r" b="b"/>
            <a:pathLst>
              <a:path w="149" h="621">
                <a:moveTo>
                  <a:pt x="2208" y="9922"/>
                </a:moveTo>
                <a:cubicBezTo>
                  <a:pt x="2208" y="9930"/>
                  <a:pt x="2208" y="9939"/>
                  <a:pt x="2208" y="9947"/>
                </a:cubicBezTo>
                <a:cubicBezTo>
                  <a:pt x="2247" y="9960"/>
                  <a:pt x="2217" y="9958"/>
                  <a:pt x="2257" y="9971"/>
                </a:cubicBezTo>
                <a:cubicBezTo>
                  <a:pt x="2270" y="10011"/>
                  <a:pt x="2269" y="9981"/>
                  <a:pt x="2282" y="10021"/>
                </a:cubicBezTo>
                <a:cubicBezTo>
                  <a:pt x="2317" y="10033"/>
                  <a:pt x="2307" y="10028"/>
                  <a:pt x="2307" y="10071"/>
                </a:cubicBezTo>
                <a:cubicBezTo>
                  <a:pt x="2345" y="10084"/>
                  <a:pt x="2332" y="10100"/>
                  <a:pt x="2332" y="10145"/>
                </a:cubicBezTo>
                <a:cubicBezTo>
                  <a:pt x="2368" y="10158"/>
                  <a:pt x="2356" y="10176"/>
                  <a:pt x="2356" y="10220"/>
                </a:cubicBezTo>
                <a:cubicBezTo>
                  <a:pt x="2356" y="10311"/>
                  <a:pt x="2356" y="10401"/>
                  <a:pt x="2356" y="10492"/>
                </a:cubicBezTo>
                <a:cubicBezTo>
                  <a:pt x="2322" y="10504"/>
                  <a:pt x="2332" y="10500"/>
                  <a:pt x="2332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Ink 26"/>
          <p:cNvSpPr/>
          <p:nvPr/>
        </p:nvSpPr>
        <p:spPr>
          <a:xfrm>
            <a:off x="7169040" y="4383000"/>
            <a:ext cx="61920" cy="179640"/>
          </a:xfrm>
          <a:custGeom>
            <a:avLst/>
            <a:gdLst/>
            <a:ahLst/>
            <a:rect l="l" t="t" r="r" b="b"/>
            <a:pathLst>
              <a:path w="174" h="497">
                <a:moveTo>
                  <a:pt x="14511" y="12576"/>
                </a:moveTo>
                <a:cubicBezTo>
                  <a:pt x="14536" y="12576"/>
                  <a:pt x="14544" y="12576"/>
                  <a:pt x="14560" y="12576"/>
                </a:cubicBezTo>
                <a:cubicBezTo>
                  <a:pt x="14573" y="12614"/>
                  <a:pt x="14585" y="12597"/>
                  <a:pt x="14585" y="12650"/>
                </a:cubicBezTo>
                <a:cubicBezTo>
                  <a:pt x="14625" y="12663"/>
                  <a:pt x="14595" y="12662"/>
                  <a:pt x="14635" y="12675"/>
                </a:cubicBezTo>
                <a:cubicBezTo>
                  <a:pt x="14635" y="12718"/>
                  <a:pt x="14625" y="12713"/>
                  <a:pt x="14660" y="12725"/>
                </a:cubicBezTo>
                <a:cubicBezTo>
                  <a:pt x="14660" y="12767"/>
                  <a:pt x="14650" y="12763"/>
                  <a:pt x="14684" y="12774"/>
                </a:cubicBezTo>
                <a:cubicBezTo>
                  <a:pt x="14684" y="12857"/>
                  <a:pt x="14684" y="12939"/>
                  <a:pt x="14684" y="13022"/>
                </a:cubicBezTo>
                <a:cubicBezTo>
                  <a:pt x="14639" y="13038"/>
                  <a:pt x="14681" y="13057"/>
                  <a:pt x="14635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4" name="Ink 27"/>
          <p:cNvSpPr/>
          <p:nvPr/>
        </p:nvSpPr>
        <p:spPr>
          <a:xfrm>
            <a:off x="8186760" y="4365720"/>
            <a:ext cx="61920" cy="204840"/>
          </a:xfrm>
          <a:custGeom>
            <a:avLst/>
            <a:gdLst/>
            <a:ahLst/>
            <a:rect l="l" t="t" r="r" b="b"/>
            <a:pathLst>
              <a:path w="175" h="572">
                <a:moveTo>
                  <a:pt x="17512" y="12526"/>
                </a:moveTo>
                <a:cubicBezTo>
                  <a:pt x="17504" y="12526"/>
                  <a:pt x="17495" y="12526"/>
                  <a:pt x="17487" y="12526"/>
                </a:cubicBezTo>
                <a:cubicBezTo>
                  <a:pt x="17474" y="12566"/>
                  <a:pt x="17475" y="12536"/>
                  <a:pt x="17462" y="12576"/>
                </a:cubicBezTo>
                <a:cubicBezTo>
                  <a:pt x="17423" y="12589"/>
                  <a:pt x="17452" y="12588"/>
                  <a:pt x="17413" y="12601"/>
                </a:cubicBezTo>
                <a:cubicBezTo>
                  <a:pt x="17413" y="12643"/>
                  <a:pt x="17423" y="12639"/>
                  <a:pt x="17388" y="12650"/>
                </a:cubicBezTo>
                <a:cubicBezTo>
                  <a:pt x="17388" y="12693"/>
                  <a:pt x="17398" y="12688"/>
                  <a:pt x="17363" y="12700"/>
                </a:cubicBezTo>
                <a:cubicBezTo>
                  <a:pt x="17363" y="12743"/>
                  <a:pt x="17373" y="12738"/>
                  <a:pt x="17338" y="12750"/>
                </a:cubicBezTo>
                <a:cubicBezTo>
                  <a:pt x="17338" y="12849"/>
                  <a:pt x="17338" y="12948"/>
                  <a:pt x="17338" y="13047"/>
                </a:cubicBezTo>
                <a:cubicBezTo>
                  <a:pt x="17370" y="13058"/>
                  <a:pt x="17377" y="13065"/>
                  <a:pt x="17388" y="13097"/>
                </a:cubicBezTo>
                <a:cubicBezTo>
                  <a:pt x="17388" y="13072"/>
                  <a:pt x="17388" y="13064"/>
                  <a:pt x="17388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5" name="Ink 28"/>
          <p:cNvSpPr/>
          <p:nvPr/>
        </p:nvSpPr>
        <p:spPr>
          <a:xfrm>
            <a:off x="7364520" y="4151160"/>
            <a:ext cx="108000" cy="11592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15056" y="11931"/>
                </a:moveTo>
                <a:cubicBezTo>
                  <a:pt x="15064" y="11931"/>
                  <a:pt x="15073" y="11931"/>
                  <a:pt x="15081" y="11931"/>
                </a:cubicBezTo>
                <a:cubicBezTo>
                  <a:pt x="15094" y="11971"/>
                  <a:pt x="15093" y="11941"/>
                  <a:pt x="15106" y="11981"/>
                </a:cubicBezTo>
                <a:cubicBezTo>
                  <a:pt x="15146" y="11994"/>
                  <a:pt x="15116" y="11992"/>
                  <a:pt x="15156" y="12005"/>
                </a:cubicBezTo>
                <a:cubicBezTo>
                  <a:pt x="15168" y="12042"/>
                  <a:pt x="15180" y="12027"/>
                  <a:pt x="15180" y="12080"/>
                </a:cubicBezTo>
                <a:cubicBezTo>
                  <a:pt x="15220" y="12093"/>
                  <a:pt x="15190" y="12092"/>
                  <a:pt x="15230" y="12105"/>
                </a:cubicBezTo>
                <a:cubicBezTo>
                  <a:pt x="15243" y="12144"/>
                  <a:pt x="15242" y="12115"/>
                  <a:pt x="15255" y="12154"/>
                </a:cubicBezTo>
                <a:cubicBezTo>
                  <a:pt x="15294" y="12167"/>
                  <a:pt x="15265" y="12166"/>
                  <a:pt x="15304" y="12179"/>
                </a:cubicBezTo>
                <a:cubicBezTo>
                  <a:pt x="15315" y="12212"/>
                  <a:pt x="15344" y="12209"/>
                  <a:pt x="15354" y="12229"/>
                </a:cubicBezTo>
                <a:cubicBezTo>
                  <a:pt x="15372" y="12266"/>
                  <a:pt x="15349" y="12236"/>
                  <a:pt x="15329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Ink 29"/>
          <p:cNvSpPr/>
          <p:nvPr/>
        </p:nvSpPr>
        <p:spPr>
          <a:xfrm>
            <a:off x="7435800" y="402588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5255" y="11584"/>
                </a:moveTo>
                <a:cubicBezTo>
                  <a:pt x="15255" y="11592"/>
                  <a:pt x="15255" y="11601"/>
                  <a:pt x="15255" y="11609"/>
                </a:cubicBezTo>
                <a:cubicBezTo>
                  <a:pt x="15290" y="11620"/>
                  <a:pt x="15280" y="11616"/>
                  <a:pt x="15280" y="11658"/>
                </a:cubicBezTo>
                <a:cubicBezTo>
                  <a:pt x="15318" y="11671"/>
                  <a:pt x="15306" y="11699"/>
                  <a:pt x="15329" y="11733"/>
                </a:cubicBezTo>
                <a:cubicBezTo>
                  <a:pt x="15352" y="11755"/>
                  <a:pt x="15360" y="11760"/>
                  <a:pt x="15354" y="11782"/>
                </a:cubicBezTo>
                <a:cubicBezTo>
                  <a:pt x="15389" y="11794"/>
                  <a:pt x="15379" y="11789"/>
                  <a:pt x="15379" y="11832"/>
                </a:cubicBezTo>
                <a:cubicBezTo>
                  <a:pt x="15419" y="11845"/>
                  <a:pt x="15389" y="11844"/>
                  <a:pt x="15429" y="11857"/>
                </a:cubicBezTo>
                <a:cubicBezTo>
                  <a:pt x="15442" y="11896"/>
                  <a:pt x="15440" y="11866"/>
                  <a:pt x="15453" y="11906"/>
                </a:cubicBezTo>
                <a:cubicBezTo>
                  <a:pt x="15488" y="11918"/>
                  <a:pt x="15478" y="11913"/>
                  <a:pt x="15478" y="11956"/>
                </a:cubicBezTo>
                <a:cubicBezTo>
                  <a:pt x="15516" y="11969"/>
                  <a:pt x="15499" y="11981"/>
                  <a:pt x="15553" y="11981"/>
                </a:cubicBezTo>
                <a:cubicBezTo>
                  <a:pt x="15566" y="12020"/>
                  <a:pt x="15564" y="11990"/>
                  <a:pt x="15577" y="12030"/>
                </a:cubicBezTo>
                <a:cubicBezTo>
                  <a:pt x="15612" y="12042"/>
                  <a:pt x="15602" y="12037"/>
                  <a:pt x="15602" y="12080"/>
                </a:cubicBezTo>
                <a:cubicBezTo>
                  <a:pt x="15645" y="12080"/>
                  <a:pt x="15640" y="12070"/>
                  <a:pt x="15652" y="12105"/>
                </a:cubicBezTo>
                <a:cubicBezTo>
                  <a:pt x="15652" y="12080"/>
                  <a:pt x="15652" y="12072"/>
                  <a:pt x="15627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7" name="Ink 20"/>
          <p:cNvSpPr/>
          <p:nvPr/>
        </p:nvSpPr>
        <p:spPr>
          <a:xfrm>
            <a:off x="5295960" y="4383000"/>
            <a:ext cx="61920" cy="179640"/>
          </a:xfrm>
          <a:custGeom>
            <a:avLst/>
            <a:gdLst/>
            <a:ahLst/>
            <a:rect l="l" t="t" r="r" b="b"/>
            <a:pathLst>
              <a:path w="174" h="497">
                <a:moveTo>
                  <a:pt x="14511" y="12576"/>
                </a:moveTo>
                <a:cubicBezTo>
                  <a:pt x="14536" y="12576"/>
                  <a:pt x="14544" y="12576"/>
                  <a:pt x="14560" y="12576"/>
                </a:cubicBezTo>
                <a:cubicBezTo>
                  <a:pt x="14573" y="12614"/>
                  <a:pt x="14585" y="12597"/>
                  <a:pt x="14585" y="12650"/>
                </a:cubicBezTo>
                <a:cubicBezTo>
                  <a:pt x="14625" y="12663"/>
                  <a:pt x="14595" y="12662"/>
                  <a:pt x="14635" y="12675"/>
                </a:cubicBezTo>
                <a:cubicBezTo>
                  <a:pt x="14635" y="12718"/>
                  <a:pt x="14625" y="12713"/>
                  <a:pt x="14660" y="12725"/>
                </a:cubicBezTo>
                <a:cubicBezTo>
                  <a:pt x="14660" y="12767"/>
                  <a:pt x="14650" y="12763"/>
                  <a:pt x="14684" y="12774"/>
                </a:cubicBezTo>
                <a:cubicBezTo>
                  <a:pt x="14684" y="12857"/>
                  <a:pt x="14684" y="12939"/>
                  <a:pt x="14684" y="13022"/>
                </a:cubicBezTo>
                <a:cubicBezTo>
                  <a:pt x="14639" y="13038"/>
                  <a:pt x="14681" y="13057"/>
                  <a:pt x="14635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Ink 21"/>
          <p:cNvSpPr/>
          <p:nvPr/>
        </p:nvSpPr>
        <p:spPr>
          <a:xfrm>
            <a:off x="6313320" y="4365720"/>
            <a:ext cx="61920" cy="204840"/>
          </a:xfrm>
          <a:custGeom>
            <a:avLst/>
            <a:gdLst/>
            <a:ahLst/>
            <a:rect l="l" t="t" r="r" b="b"/>
            <a:pathLst>
              <a:path w="175" h="572">
                <a:moveTo>
                  <a:pt x="17512" y="12526"/>
                </a:moveTo>
                <a:cubicBezTo>
                  <a:pt x="17504" y="12526"/>
                  <a:pt x="17495" y="12526"/>
                  <a:pt x="17487" y="12526"/>
                </a:cubicBezTo>
                <a:cubicBezTo>
                  <a:pt x="17474" y="12566"/>
                  <a:pt x="17475" y="12536"/>
                  <a:pt x="17462" y="12576"/>
                </a:cubicBezTo>
                <a:cubicBezTo>
                  <a:pt x="17423" y="12589"/>
                  <a:pt x="17452" y="12588"/>
                  <a:pt x="17413" y="12601"/>
                </a:cubicBezTo>
                <a:cubicBezTo>
                  <a:pt x="17413" y="12643"/>
                  <a:pt x="17423" y="12639"/>
                  <a:pt x="17388" y="12650"/>
                </a:cubicBezTo>
                <a:cubicBezTo>
                  <a:pt x="17388" y="12693"/>
                  <a:pt x="17398" y="12688"/>
                  <a:pt x="17363" y="12700"/>
                </a:cubicBezTo>
                <a:cubicBezTo>
                  <a:pt x="17363" y="12743"/>
                  <a:pt x="17373" y="12738"/>
                  <a:pt x="17338" y="12750"/>
                </a:cubicBezTo>
                <a:cubicBezTo>
                  <a:pt x="17338" y="12849"/>
                  <a:pt x="17338" y="12948"/>
                  <a:pt x="17338" y="13047"/>
                </a:cubicBezTo>
                <a:cubicBezTo>
                  <a:pt x="17370" y="13058"/>
                  <a:pt x="17377" y="13065"/>
                  <a:pt x="17388" y="13097"/>
                </a:cubicBezTo>
                <a:cubicBezTo>
                  <a:pt x="17388" y="13072"/>
                  <a:pt x="17388" y="13064"/>
                  <a:pt x="17388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Ink 22"/>
          <p:cNvSpPr/>
          <p:nvPr/>
        </p:nvSpPr>
        <p:spPr>
          <a:xfrm>
            <a:off x="5491080" y="4151160"/>
            <a:ext cx="108000" cy="11592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15056" y="11931"/>
                </a:moveTo>
                <a:cubicBezTo>
                  <a:pt x="15064" y="11931"/>
                  <a:pt x="15073" y="11931"/>
                  <a:pt x="15081" y="11931"/>
                </a:cubicBezTo>
                <a:cubicBezTo>
                  <a:pt x="15094" y="11971"/>
                  <a:pt x="15093" y="11941"/>
                  <a:pt x="15106" y="11981"/>
                </a:cubicBezTo>
                <a:cubicBezTo>
                  <a:pt x="15146" y="11994"/>
                  <a:pt x="15116" y="11992"/>
                  <a:pt x="15156" y="12005"/>
                </a:cubicBezTo>
                <a:cubicBezTo>
                  <a:pt x="15168" y="12042"/>
                  <a:pt x="15180" y="12027"/>
                  <a:pt x="15180" y="12080"/>
                </a:cubicBezTo>
                <a:cubicBezTo>
                  <a:pt x="15220" y="12093"/>
                  <a:pt x="15190" y="12092"/>
                  <a:pt x="15230" y="12105"/>
                </a:cubicBezTo>
                <a:cubicBezTo>
                  <a:pt x="15243" y="12144"/>
                  <a:pt x="15242" y="12115"/>
                  <a:pt x="15255" y="12154"/>
                </a:cubicBezTo>
                <a:cubicBezTo>
                  <a:pt x="15294" y="12167"/>
                  <a:pt x="15265" y="12166"/>
                  <a:pt x="15304" y="12179"/>
                </a:cubicBezTo>
                <a:cubicBezTo>
                  <a:pt x="15315" y="12212"/>
                  <a:pt x="15344" y="12209"/>
                  <a:pt x="15354" y="12229"/>
                </a:cubicBezTo>
                <a:cubicBezTo>
                  <a:pt x="15372" y="12266"/>
                  <a:pt x="15349" y="12236"/>
                  <a:pt x="15329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Ink 23"/>
          <p:cNvSpPr/>
          <p:nvPr/>
        </p:nvSpPr>
        <p:spPr>
          <a:xfrm>
            <a:off x="5562720" y="402588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5255" y="11584"/>
                </a:moveTo>
                <a:cubicBezTo>
                  <a:pt x="15255" y="11592"/>
                  <a:pt x="15255" y="11601"/>
                  <a:pt x="15255" y="11609"/>
                </a:cubicBezTo>
                <a:cubicBezTo>
                  <a:pt x="15290" y="11620"/>
                  <a:pt x="15280" y="11616"/>
                  <a:pt x="15280" y="11658"/>
                </a:cubicBezTo>
                <a:cubicBezTo>
                  <a:pt x="15318" y="11671"/>
                  <a:pt x="15306" y="11699"/>
                  <a:pt x="15329" y="11733"/>
                </a:cubicBezTo>
                <a:cubicBezTo>
                  <a:pt x="15352" y="11755"/>
                  <a:pt x="15360" y="11760"/>
                  <a:pt x="15354" y="11782"/>
                </a:cubicBezTo>
                <a:cubicBezTo>
                  <a:pt x="15389" y="11794"/>
                  <a:pt x="15379" y="11789"/>
                  <a:pt x="15379" y="11832"/>
                </a:cubicBezTo>
                <a:cubicBezTo>
                  <a:pt x="15419" y="11845"/>
                  <a:pt x="15389" y="11844"/>
                  <a:pt x="15429" y="11857"/>
                </a:cubicBezTo>
                <a:cubicBezTo>
                  <a:pt x="15442" y="11896"/>
                  <a:pt x="15440" y="11866"/>
                  <a:pt x="15453" y="11906"/>
                </a:cubicBezTo>
                <a:cubicBezTo>
                  <a:pt x="15488" y="11918"/>
                  <a:pt x="15478" y="11913"/>
                  <a:pt x="15478" y="11956"/>
                </a:cubicBezTo>
                <a:cubicBezTo>
                  <a:pt x="15516" y="11969"/>
                  <a:pt x="15499" y="11981"/>
                  <a:pt x="15553" y="11981"/>
                </a:cubicBezTo>
                <a:cubicBezTo>
                  <a:pt x="15566" y="12020"/>
                  <a:pt x="15564" y="11990"/>
                  <a:pt x="15577" y="12030"/>
                </a:cubicBezTo>
                <a:cubicBezTo>
                  <a:pt x="15612" y="12042"/>
                  <a:pt x="15602" y="12037"/>
                  <a:pt x="15602" y="12080"/>
                </a:cubicBezTo>
                <a:cubicBezTo>
                  <a:pt x="15645" y="12080"/>
                  <a:pt x="15640" y="12070"/>
                  <a:pt x="15652" y="12105"/>
                </a:cubicBezTo>
                <a:cubicBezTo>
                  <a:pt x="15652" y="12080"/>
                  <a:pt x="15652" y="12072"/>
                  <a:pt x="15627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Ink 14"/>
          <p:cNvSpPr/>
          <p:nvPr/>
        </p:nvSpPr>
        <p:spPr>
          <a:xfrm>
            <a:off x="7086600" y="3157560"/>
            <a:ext cx="54000" cy="179280"/>
          </a:xfrm>
          <a:custGeom>
            <a:avLst/>
            <a:gdLst/>
            <a:ahLst/>
            <a:rect l="l" t="t" r="r" b="b"/>
            <a:pathLst>
              <a:path w="150" h="498">
                <a:moveTo>
                  <a:pt x="14684" y="9971"/>
                </a:moveTo>
                <a:cubicBezTo>
                  <a:pt x="14684" y="9979"/>
                  <a:pt x="14684" y="9988"/>
                  <a:pt x="14684" y="9996"/>
                </a:cubicBezTo>
                <a:cubicBezTo>
                  <a:pt x="14724" y="10009"/>
                  <a:pt x="14694" y="10008"/>
                  <a:pt x="14734" y="10021"/>
                </a:cubicBezTo>
                <a:cubicBezTo>
                  <a:pt x="14747" y="10059"/>
                  <a:pt x="14759" y="10042"/>
                  <a:pt x="14759" y="10096"/>
                </a:cubicBezTo>
                <a:cubicBezTo>
                  <a:pt x="14794" y="10107"/>
                  <a:pt x="14784" y="10103"/>
                  <a:pt x="14784" y="10145"/>
                </a:cubicBezTo>
                <a:cubicBezTo>
                  <a:pt x="14818" y="10157"/>
                  <a:pt x="14808" y="10153"/>
                  <a:pt x="14808" y="10195"/>
                </a:cubicBezTo>
                <a:cubicBezTo>
                  <a:pt x="14846" y="10208"/>
                  <a:pt x="14833" y="10224"/>
                  <a:pt x="14833" y="10269"/>
                </a:cubicBezTo>
                <a:cubicBezTo>
                  <a:pt x="14833" y="10327"/>
                  <a:pt x="14833" y="10385"/>
                  <a:pt x="14833" y="10443"/>
                </a:cubicBezTo>
                <a:cubicBezTo>
                  <a:pt x="14808" y="10443"/>
                  <a:pt x="14800" y="10443"/>
                  <a:pt x="14808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2" name="Ink 15"/>
          <p:cNvSpPr/>
          <p:nvPr/>
        </p:nvSpPr>
        <p:spPr>
          <a:xfrm>
            <a:off x="8050320" y="3139920"/>
            <a:ext cx="11736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17686" y="9922"/>
                </a:moveTo>
                <a:cubicBezTo>
                  <a:pt x="17655" y="9945"/>
                  <a:pt x="17598" y="9980"/>
                  <a:pt x="17562" y="9996"/>
                </a:cubicBezTo>
                <a:cubicBezTo>
                  <a:pt x="17554" y="9996"/>
                  <a:pt x="17545" y="9996"/>
                  <a:pt x="17537" y="9996"/>
                </a:cubicBezTo>
                <a:cubicBezTo>
                  <a:pt x="17525" y="10031"/>
                  <a:pt x="17530" y="10021"/>
                  <a:pt x="17487" y="10021"/>
                </a:cubicBezTo>
                <a:cubicBezTo>
                  <a:pt x="17474" y="10059"/>
                  <a:pt x="17462" y="10042"/>
                  <a:pt x="17462" y="10096"/>
                </a:cubicBezTo>
                <a:cubicBezTo>
                  <a:pt x="17423" y="10109"/>
                  <a:pt x="17453" y="10107"/>
                  <a:pt x="17413" y="10120"/>
                </a:cubicBezTo>
                <a:cubicBezTo>
                  <a:pt x="17400" y="10158"/>
                  <a:pt x="17388" y="10141"/>
                  <a:pt x="17388" y="10195"/>
                </a:cubicBezTo>
                <a:cubicBezTo>
                  <a:pt x="17388" y="10220"/>
                  <a:pt x="17388" y="10228"/>
                  <a:pt x="17388" y="10244"/>
                </a:cubicBezTo>
                <a:cubicBezTo>
                  <a:pt x="17350" y="10257"/>
                  <a:pt x="17363" y="10274"/>
                  <a:pt x="17363" y="10319"/>
                </a:cubicBezTo>
                <a:cubicBezTo>
                  <a:pt x="17363" y="10352"/>
                  <a:pt x="17363" y="10385"/>
                  <a:pt x="17363" y="10418"/>
                </a:cubicBezTo>
                <a:cubicBezTo>
                  <a:pt x="17410" y="10434"/>
                  <a:pt x="17366" y="10452"/>
                  <a:pt x="17413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Ink 16"/>
          <p:cNvSpPr/>
          <p:nvPr/>
        </p:nvSpPr>
        <p:spPr>
          <a:xfrm>
            <a:off x="7907400" y="281952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7363" y="9029"/>
                </a:moveTo>
                <a:cubicBezTo>
                  <a:pt x="17363" y="9037"/>
                  <a:pt x="17363" y="9046"/>
                  <a:pt x="17363" y="9054"/>
                </a:cubicBezTo>
                <a:cubicBezTo>
                  <a:pt x="17328" y="9066"/>
                  <a:pt x="17338" y="9061"/>
                  <a:pt x="17338" y="9103"/>
                </a:cubicBezTo>
                <a:cubicBezTo>
                  <a:pt x="17299" y="9116"/>
                  <a:pt x="17328" y="9115"/>
                  <a:pt x="17289" y="9128"/>
                </a:cubicBezTo>
                <a:cubicBezTo>
                  <a:pt x="17282" y="9158"/>
                  <a:pt x="17271" y="9173"/>
                  <a:pt x="17264" y="9203"/>
                </a:cubicBezTo>
                <a:cubicBezTo>
                  <a:pt x="17247" y="9208"/>
                  <a:pt x="17203" y="9225"/>
                  <a:pt x="17190" y="9252"/>
                </a:cubicBezTo>
                <a:cubicBezTo>
                  <a:pt x="17190" y="9260"/>
                  <a:pt x="17190" y="9269"/>
                  <a:pt x="17190" y="9277"/>
                </a:cubicBezTo>
                <a:cubicBezTo>
                  <a:pt x="17155" y="9289"/>
                  <a:pt x="17165" y="9284"/>
                  <a:pt x="17165" y="9327"/>
                </a:cubicBezTo>
                <a:cubicBezTo>
                  <a:pt x="17123" y="9327"/>
                  <a:pt x="17127" y="9317"/>
                  <a:pt x="17115" y="9351"/>
                </a:cubicBezTo>
                <a:cubicBezTo>
                  <a:pt x="17077" y="9364"/>
                  <a:pt x="17090" y="9381"/>
                  <a:pt x="17090" y="9426"/>
                </a:cubicBezTo>
                <a:cubicBezTo>
                  <a:pt x="17038" y="9439"/>
                  <a:pt x="17040" y="9464"/>
                  <a:pt x="17016" y="9500"/>
                </a:cubicBezTo>
                <a:cubicBezTo>
                  <a:pt x="16992" y="9536"/>
                  <a:pt x="16997" y="9540"/>
                  <a:pt x="16966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Ink 17"/>
          <p:cNvSpPr/>
          <p:nvPr/>
        </p:nvSpPr>
        <p:spPr>
          <a:xfrm>
            <a:off x="7970760" y="2871720"/>
            <a:ext cx="13356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7512" y="9178"/>
                </a:moveTo>
                <a:cubicBezTo>
                  <a:pt x="17512" y="9186"/>
                  <a:pt x="17512" y="9195"/>
                  <a:pt x="17512" y="9203"/>
                </a:cubicBezTo>
                <a:cubicBezTo>
                  <a:pt x="17475" y="9215"/>
                  <a:pt x="17490" y="9227"/>
                  <a:pt x="17438" y="9227"/>
                </a:cubicBezTo>
                <a:cubicBezTo>
                  <a:pt x="17438" y="9270"/>
                  <a:pt x="17448" y="9265"/>
                  <a:pt x="17413" y="9277"/>
                </a:cubicBezTo>
                <a:cubicBezTo>
                  <a:pt x="17400" y="9317"/>
                  <a:pt x="17401" y="9287"/>
                  <a:pt x="17388" y="9327"/>
                </a:cubicBezTo>
                <a:cubicBezTo>
                  <a:pt x="17346" y="9327"/>
                  <a:pt x="17350" y="9317"/>
                  <a:pt x="17338" y="9351"/>
                </a:cubicBezTo>
                <a:cubicBezTo>
                  <a:pt x="17299" y="9364"/>
                  <a:pt x="17328" y="9363"/>
                  <a:pt x="17289" y="9376"/>
                </a:cubicBezTo>
                <a:cubicBezTo>
                  <a:pt x="17289" y="9419"/>
                  <a:pt x="17299" y="9414"/>
                  <a:pt x="17264" y="9426"/>
                </a:cubicBezTo>
                <a:cubicBezTo>
                  <a:pt x="17251" y="9464"/>
                  <a:pt x="17239" y="9446"/>
                  <a:pt x="17239" y="9500"/>
                </a:cubicBezTo>
                <a:cubicBezTo>
                  <a:pt x="17200" y="9513"/>
                  <a:pt x="17229" y="9512"/>
                  <a:pt x="17190" y="9525"/>
                </a:cubicBezTo>
                <a:cubicBezTo>
                  <a:pt x="17190" y="9568"/>
                  <a:pt x="17200" y="9563"/>
                  <a:pt x="17165" y="9575"/>
                </a:cubicBezTo>
                <a:cubicBezTo>
                  <a:pt x="17152" y="9614"/>
                  <a:pt x="17153" y="9585"/>
                  <a:pt x="17140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Ink 8"/>
          <p:cNvSpPr/>
          <p:nvPr/>
        </p:nvSpPr>
        <p:spPr>
          <a:xfrm>
            <a:off x="5214960" y="3157560"/>
            <a:ext cx="54000" cy="179280"/>
          </a:xfrm>
          <a:custGeom>
            <a:avLst/>
            <a:gdLst/>
            <a:ahLst/>
            <a:rect l="l" t="t" r="r" b="b"/>
            <a:pathLst>
              <a:path w="150" h="498">
                <a:moveTo>
                  <a:pt x="14684" y="9971"/>
                </a:moveTo>
                <a:cubicBezTo>
                  <a:pt x="14684" y="9979"/>
                  <a:pt x="14684" y="9988"/>
                  <a:pt x="14684" y="9996"/>
                </a:cubicBezTo>
                <a:cubicBezTo>
                  <a:pt x="14724" y="10009"/>
                  <a:pt x="14694" y="10008"/>
                  <a:pt x="14734" y="10021"/>
                </a:cubicBezTo>
                <a:cubicBezTo>
                  <a:pt x="14747" y="10059"/>
                  <a:pt x="14759" y="10042"/>
                  <a:pt x="14759" y="10096"/>
                </a:cubicBezTo>
                <a:cubicBezTo>
                  <a:pt x="14794" y="10107"/>
                  <a:pt x="14784" y="10103"/>
                  <a:pt x="14784" y="10145"/>
                </a:cubicBezTo>
                <a:cubicBezTo>
                  <a:pt x="14818" y="10157"/>
                  <a:pt x="14808" y="10153"/>
                  <a:pt x="14808" y="10195"/>
                </a:cubicBezTo>
                <a:cubicBezTo>
                  <a:pt x="14846" y="10208"/>
                  <a:pt x="14833" y="10224"/>
                  <a:pt x="14833" y="10269"/>
                </a:cubicBezTo>
                <a:cubicBezTo>
                  <a:pt x="14833" y="10327"/>
                  <a:pt x="14833" y="10385"/>
                  <a:pt x="14833" y="10443"/>
                </a:cubicBezTo>
                <a:cubicBezTo>
                  <a:pt x="14808" y="10443"/>
                  <a:pt x="14800" y="10443"/>
                  <a:pt x="14808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Ink 9"/>
          <p:cNvSpPr/>
          <p:nvPr/>
        </p:nvSpPr>
        <p:spPr>
          <a:xfrm>
            <a:off x="6178680" y="3139920"/>
            <a:ext cx="11736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17686" y="9922"/>
                </a:moveTo>
                <a:cubicBezTo>
                  <a:pt x="17655" y="9945"/>
                  <a:pt x="17598" y="9980"/>
                  <a:pt x="17562" y="9996"/>
                </a:cubicBezTo>
                <a:cubicBezTo>
                  <a:pt x="17554" y="9996"/>
                  <a:pt x="17545" y="9996"/>
                  <a:pt x="17537" y="9996"/>
                </a:cubicBezTo>
                <a:cubicBezTo>
                  <a:pt x="17525" y="10031"/>
                  <a:pt x="17530" y="10021"/>
                  <a:pt x="17487" y="10021"/>
                </a:cubicBezTo>
                <a:cubicBezTo>
                  <a:pt x="17474" y="10059"/>
                  <a:pt x="17462" y="10042"/>
                  <a:pt x="17462" y="10096"/>
                </a:cubicBezTo>
                <a:cubicBezTo>
                  <a:pt x="17423" y="10109"/>
                  <a:pt x="17453" y="10107"/>
                  <a:pt x="17413" y="10120"/>
                </a:cubicBezTo>
                <a:cubicBezTo>
                  <a:pt x="17400" y="10158"/>
                  <a:pt x="17388" y="10141"/>
                  <a:pt x="17388" y="10195"/>
                </a:cubicBezTo>
                <a:cubicBezTo>
                  <a:pt x="17388" y="10220"/>
                  <a:pt x="17388" y="10228"/>
                  <a:pt x="17388" y="10244"/>
                </a:cubicBezTo>
                <a:cubicBezTo>
                  <a:pt x="17350" y="10257"/>
                  <a:pt x="17363" y="10274"/>
                  <a:pt x="17363" y="10319"/>
                </a:cubicBezTo>
                <a:cubicBezTo>
                  <a:pt x="17363" y="10352"/>
                  <a:pt x="17363" y="10385"/>
                  <a:pt x="17363" y="10418"/>
                </a:cubicBezTo>
                <a:cubicBezTo>
                  <a:pt x="17410" y="10434"/>
                  <a:pt x="17366" y="10452"/>
                  <a:pt x="17413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Ink 10"/>
          <p:cNvSpPr/>
          <p:nvPr/>
        </p:nvSpPr>
        <p:spPr>
          <a:xfrm>
            <a:off x="6035760" y="281952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7363" y="9029"/>
                </a:moveTo>
                <a:cubicBezTo>
                  <a:pt x="17363" y="9037"/>
                  <a:pt x="17363" y="9046"/>
                  <a:pt x="17363" y="9054"/>
                </a:cubicBezTo>
                <a:cubicBezTo>
                  <a:pt x="17328" y="9066"/>
                  <a:pt x="17338" y="9061"/>
                  <a:pt x="17338" y="9103"/>
                </a:cubicBezTo>
                <a:cubicBezTo>
                  <a:pt x="17299" y="9116"/>
                  <a:pt x="17328" y="9115"/>
                  <a:pt x="17289" y="9128"/>
                </a:cubicBezTo>
                <a:cubicBezTo>
                  <a:pt x="17282" y="9158"/>
                  <a:pt x="17271" y="9173"/>
                  <a:pt x="17264" y="9203"/>
                </a:cubicBezTo>
                <a:cubicBezTo>
                  <a:pt x="17247" y="9208"/>
                  <a:pt x="17203" y="9225"/>
                  <a:pt x="17190" y="9252"/>
                </a:cubicBezTo>
                <a:cubicBezTo>
                  <a:pt x="17190" y="9260"/>
                  <a:pt x="17190" y="9269"/>
                  <a:pt x="17190" y="9277"/>
                </a:cubicBezTo>
                <a:cubicBezTo>
                  <a:pt x="17155" y="9289"/>
                  <a:pt x="17165" y="9284"/>
                  <a:pt x="17165" y="9327"/>
                </a:cubicBezTo>
                <a:cubicBezTo>
                  <a:pt x="17123" y="9327"/>
                  <a:pt x="17127" y="9317"/>
                  <a:pt x="17115" y="9351"/>
                </a:cubicBezTo>
                <a:cubicBezTo>
                  <a:pt x="17077" y="9364"/>
                  <a:pt x="17090" y="9381"/>
                  <a:pt x="17090" y="9426"/>
                </a:cubicBezTo>
                <a:cubicBezTo>
                  <a:pt x="17038" y="9439"/>
                  <a:pt x="17040" y="9464"/>
                  <a:pt x="17016" y="9500"/>
                </a:cubicBezTo>
                <a:cubicBezTo>
                  <a:pt x="16992" y="9536"/>
                  <a:pt x="16997" y="9540"/>
                  <a:pt x="16966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8" name="Ink 11"/>
          <p:cNvSpPr/>
          <p:nvPr/>
        </p:nvSpPr>
        <p:spPr>
          <a:xfrm>
            <a:off x="6099120" y="2871720"/>
            <a:ext cx="13356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7512" y="9178"/>
                </a:moveTo>
                <a:cubicBezTo>
                  <a:pt x="17512" y="9186"/>
                  <a:pt x="17512" y="9195"/>
                  <a:pt x="17512" y="9203"/>
                </a:cubicBezTo>
                <a:cubicBezTo>
                  <a:pt x="17475" y="9215"/>
                  <a:pt x="17490" y="9227"/>
                  <a:pt x="17438" y="9227"/>
                </a:cubicBezTo>
                <a:cubicBezTo>
                  <a:pt x="17438" y="9270"/>
                  <a:pt x="17448" y="9265"/>
                  <a:pt x="17413" y="9277"/>
                </a:cubicBezTo>
                <a:cubicBezTo>
                  <a:pt x="17400" y="9317"/>
                  <a:pt x="17401" y="9287"/>
                  <a:pt x="17388" y="9327"/>
                </a:cubicBezTo>
                <a:cubicBezTo>
                  <a:pt x="17346" y="9327"/>
                  <a:pt x="17350" y="9317"/>
                  <a:pt x="17338" y="9351"/>
                </a:cubicBezTo>
                <a:cubicBezTo>
                  <a:pt x="17299" y="9364"/>
                  <a:pt x="17328" y="9363"/>
                  <a:pt x="17289" y="9376"/>
                </a:cubicBezTo>
                <a:cubicBezTo>
                  <a:pt x="17289" y="9419"/>
                  <a:pt x="17299" y="9414"/>
                  <a:pt x="17264" y="9426"/>
                </a:cubicBezTo>
                <a:cubicBezTo>
                  <a:pt x="17251" y="9464"/>
                  <a:pt x="17239" y="9446"/>
                  <a:pt x="17239" y="9500"/>
                </a:cubicBezTo>
                <a:cubicBezTo>
                  <a:pt x="17200" y="9513"/>
                  <a:pt x="17229" y="9512"/>
                  <a:pt x="17190" y="9525"/>
                </a:cubicBezTo>
                <a:cubicBezTo>
                  <a:pt x="17190" y="9568"/>
                  <a:pt x="17200" y="9563"/>
                  <a:pt x="17165" y="9575"/>
                </a:cubicBezTo>
                <a:cubicBezTo>
                  <a:pt x="17152" y="9614"/>
                  <a:pt x="17153" y="9585"/>
                  <a:pt x="17140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Object 2"/>
          <p:cNvGraphicFramePr/>
          <p:nvPr/>
        </p:nvGraphicFramePr>
        <p:xfrm>
          <a:off x="5003640" y="2852640"/>
          <a:ext cx="35895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852640"/>
                    <a:ext cx="35895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Rectangle 3"/>
          <p:cNvSpPr/>
          <p:nvPr/>
        </p:nvSpPr>
        <p:spPr>
          <a:xfrm>
            <a:off x="611280" y="1670760"/>
            <a:ext cx="752472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已知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判断图中的两个三角形是否全等，并说明理由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324000" y="2997360"/>
            <a:ext cx="47005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全等。因为虽然有两组内角相等，且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都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个三角形两组内角的夹边，所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全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3" name="WordArt 5"/>
          <p:cNvSpPr txBox="1"/>
          <p:nvPr/>
        </p:nvSpPr>
        <p:spPr>
          <a:xfrm rot="20267400">
            <a:off x="394920" y="33300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想一想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Oval 19"/>
          <p:cNvSpPr/>
          <p:nvPr/>
        </p:nvSpPr>
        <p:spPr>
          <a:xfrm>
            <a:off x="0" y="0"/>
            <a:ext cx="2340000" cy="1484280"/>
          </a:xfrm>
          <a:prstGeom prst="ellipse">
            <a:avLst/>
          </a:prstGeom>
          <a:solidFill>
            <a:srgbClr val="a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宋体"/>
              </a:rPr>
              <a:t>例题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2811960" y="404640"/>
            <a:ext cx="54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 = ∠2,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= ∠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5547960" y="1484280"/>
            <a:ext cx="3596040" cy="3400560"/>
            <a:chOff x="5547960" y="1484280"/>
            <a:chExt cx="3596040" cy="3400560"/>
          </a:xfrm>
        </p:grpSpPr>
        <p:sp>
          <p:nvSpPr>
            <p:cNvPr id="667" name="Freeform 4"/>
            <p:cNvSpPr/>
            <p:nvPr/>
          </p:nvSpPr>
          <p:spPr>
            <a:xfrm>
              <a:off x="5867280" y="1747440"/>
              <a:ext cx="3276720" cy="1295280"/>
            </a:xfrm>
            <a:custGeom>
              <a:avLst/>
              <a:gdLst>
                <a:gd name="textAreaLeft" fmla="*/ 0 w 3276720"/>
                <a:gd name="textAreaRight" fmla="*/ 3277080 w 327672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2064" h="816">
                  <a:moveTo>
                    <a:pt x="2064" y="816"/>
                  </a:moveTo>
                  <a:lnTo>
                    <a:pt x="0" y="816"/>
                  </a:lnTo>
                  <a:lnTo>
                    <a:pt x="1392" y="0"/>
                  </a:lnTo>
                  <a:lnTo>
                    <a:pt x="960" y="81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8" name="Freeform 5"/>
            <p:cNvSpPr/>
            <p:nvPr/>
          </p:nvSpPr>
          <p:spPr>
            <a:xfrm flipV="1">
              <a:off x="5867280" y="3042360"/>
              <a:ext cx="3276720" cy="1294920"/>
            </a:xfrm>
            <a:custGeom>
              <a:avLst/>
              <a:gdLst>
                <a:gd name="textAreaLeft" fmla="*/ 0 w 3276720"/>
                <a:gd name="textAreaRight" fmla="*/ 3277080 w 3276720"/>
                <a:gd name="textAreaTop" fmla="*/ -360 h 1294920"/>
                <a:gd name="textAreaBottom" fmla="*/ 1294920 h 1294920"/>
              </a:gdLst>
              <a:ahLst/>
              <a:rect l="textAreaLeft" t="textAreaTop" r="textAreaRight" b="textAreaBottom"/>
              <a:pathLst>
                <a:path w="2064" h="816">
                  <a:moveTo>
                    <a:pt x="2064" y="816"/>
                  </a:moveTo>
                  <a:lnTo>
                    <a:pt x="0" y="816"/>
                  </a:lnTo>
                  <a:lnTo>
                    <a:pt x="1392" y="0"/>
                  </a:lnTo>
                  <a:lnTo>
                    <a:pt x="960" y="81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9" name="Text Box 6"/>
            <p:cNvSpPr/>
            <p:nvPr/>
          </p:nvSpPr>
          <p:spPr>
            <a:xfrm>
              <a:off x="5547960" y="30081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0" name="Text Box 7"/>
            <p:cNvSpPr/>
            <p:nvPr/>
          </p:nvSpPr>
          <p:spPr>
            <a:xfrm>
              <a:off x="7148160" y="30081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1" name="Text Box 8"/>
            <p:cNvSpPr/>
            <p:nvPr/>
          </p:nvSpPr>
          <p:spPr>
            <a:xfrm>
              <a:off x="8138880" y="14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2" name="Text Box 9"/>
            <p:cNvSpPr/>
            <p:nvPr/>
          </p:nvSpPr>
          <p:spPr>
            <a:xfrm>
              <a:off x="8062920" y="4303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>
              <a:off x="6153120" y="2890440"/>
              <a:ext cx="44640" cy="171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8" h="108">
                  <a:moveTo>
                    <a:pt x="0" y="0"/>
                  </a:moveTo>
                  <a:cubicBezTo>
                    <a:pt x="8" y="24"/>
                    <a:pt x="16" y="48"/>
                    <a:pt x="24" y="72"/>
                  </a:cubicBezTo>
                  <a:cubicBezTo>
                    <a:pt x="28" y="84"/>
                    <a:pt x="12" y="108"/>
                    <a:pt x="12" y="10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4" name="Freeform 11"/>
            <p:cNvSpPr/>
            <p:nvPr/>
          </p:nvSpPr>
          <p:spPr>
            <a:xfrm>
              <a:off x="6095880" y="3043080"/>
              <a:ext cx="76320" cy="1137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8" h="72">
                  <a:moveTo>
                    <a:pt x="0" y="72"/>
                  </a:moveTo>
                  <a:cubicBezTo>
                    <a:pt x="12" y="60"/>
                    <a:pt x="27" y="50"/>
                    <a:pt x="36" y="36"/>
                  </a:cubicBezTo>
                  <a:cubicBezTo>
                    <a:pt x="43" y="25"/>
                    <a:pt x="48" y="0"/>
                    <a:pt x="48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5" name="Text Box 12"/>
            <p:cNvSpPr/>
            <p:nvPr/>
          </p:nvSpPr>
          <p:spPr>
            <a:xfrm>
              <a:off x="6269040" y="2733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6" name="Text Box 13"/>
            <p:cNvSpPr/>
            <p:nvPr/>
          </p:nvSpPr>
          <p:spPr>
            <a:xfrm>
              <a:off x="6269040" y="302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77" name="Text Box 14"/>
          <p:cNvSpPr/>
          <p:nvPr/>
        </p:nvSpPr>
        <p:spPr>
          <a:xfrm>
            <a:off x="324000" y="2349360"/>
            <a:ext cx="7848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在△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= ∠2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= 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∴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≌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A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全等三角形对应边相等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276720" y="404640"/>
            <a:ext cx="5616360" cy="204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如图：△</a:t>
            </a:r>
            <a:r>
              <a:rPr b="1" i="1" lang="en-US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ABC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是等腰三角形，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AD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、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BE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分别是∠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、∠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的角平分线，△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ABD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和△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BAE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全等吗？试说明理由</a:t>
            </a:r>
            <a:r>
              <a:rPr b="1" lang="en-GB" sz="3200" spc="-1" strike="noStrike">
                <a:solidFill>
                  <a:srgbClr val="a5644e"/>
                </a:solidFill>
                <a:latin typeface="隶书"/>
                <a:ea typeface="隶书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9" name="Line 3"/>
          <p:cNvSpPr/>
          <p:nvPr/>
        </p:nvSpPr>
        <p:spPr>
          <a:xfrm>
            <a:off x="3203640" y="0"/>
            <a:ext cx="0" cy="6335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0" name="Oval 4"/>
          <p:cNvSpPr/>
          <p:nvPr/>
        </p:nvSpPr>
        <p:spPr>
          <a:xfrm>
            <a:off x="250920" y="189000"/>
            <a:ext cx="2808360" cy="1008000"/>
          </a:xfrm>
          <a:prstGeom prst="ellipse">
            <a:avLst/>
          </a:prstGeom>
          <a:solidFill>
            <a:srgbClr val="a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4356000" y="414972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24000" y="333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题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83" name="Picture 7" descr="7"/>
          <p:cNvPicPr/>
          <p:nvPr/>
        </p:nvPicPr>
        <p:blipFill>
          <a:blip r:embed="rId1"/>
          <a:stretch/>
        </p:blipFill>
        <p:spPr>
          <a:xfrm>
            <a:off x="611280" y="5157720"/>
            <a:ext cx="1224000" cy="11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4" name="Object 8"/>
          <p:cNvGraphicFramePr/>
          <p:nvPr/>
        </p:nvGraphicFramePr>
        <p:xfrm>
          <a:off x="395280" y="1627200"/>
          <a:ext cx="2473200" cy="32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627200"/>
                    <a:ext cx="24732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Text Box 9"/>
          <p:cNvSpPr/>
          <p:nvPr/>
        </p:nvSpPr>
        <p:spPr>
          <a:xfrm>
            <a:off x="3276720" y="2565360"/>
            <a:ext cx="5616360" cy="15562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变式</a:t>
            </a:r>
            <a:r>
              <a:rPr b="1" lang="en-GB" sz="3200" spc="-1" strike="noStrike">
                <a:solidFill>
                  <a:srgbClr val="a5644e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：若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D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BE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  <a:ea typeface="宋体"/>
              </a:rPr>
              <a:t>改为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分别是两腰上的中线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，△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ABD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和△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BAE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全等吗？试说明理由</a:t>
            </a:r>
            <a:r>
              <a:rPr b="1" lang="en-GB" sz="3200" spc="-1" strike="noStrike">
                <a:solidFill>
                  <a:srgbClr val="a5644e"/>
                </a:solidFill>
                <a:latin typeface="隶书"/>
                <a:ea typeface="隶书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3348000" y="4437000"/>
            <a:ext cx="5616720" cy="15562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变式</a:t>
            </a:r>
            <a:r>
              <a:rPr b="1" lang="en-GB" sz="3200" spc="-1" strike="noStrike">
                <a:solidFill>
                  <a:srgbClr val="a5644e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：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  <a:ea typeface="宋体"/>
              </a:rPr>
              <a:t>若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D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BE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  <a:ea typeface="宋体"/>
              </a:rPr>
              <a:t>改为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分别是两腰上的高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，△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ABD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和△</a:t>
            </a:r>
            <a:r>
              <a:rPr b="1" i="1" lang="en-GB" sz="3200" spc="-1" strike="noStrike">
                <a:solidFill>
                  <a:srgbClr val="a5644e"/>
                </a:solidFill>
                <a:latin typeface="Times New Roman"/>
                <a:ea typeface="隶书"/>
              </a:rPr>
              <a:t>BAE</a:t>
            </a:r>
            <a:r>
              <a:rPr b="1" lang="zh-CN" sz="3200" spc="-1" strike="noStrike">
                <a:solidFill>
                  <a:srgbClr val="a5644e"/>
                </a:solidFill>
                <a:latin typeface="隶书"/>
                <a:ea typeface="隶书"/>
              </a:rPr>
              <a:t>全等吗？试说明理由</a:t>
            </a:r>
            <a:r>
              <a:rPr b="1" lang="en-GB" sz="3200" spc="-1" strike="noStrike">
                <a:solidFill>
                  <a:srgbClr val="a5644e"/>
                </a:solidFill>
                <a:latin typeface="隶书"/>
                <a:ea typeface="隶书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7"/>
          <p:cNvSpPr/>
          <p:nvPr/>
        </p:nvSpPr>
        <p:spPr>
          <a:xfrm>
            <a:off x="6330960" y="4316400"/>
            <a:ext cx="16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2205000"/>
            <a:ext cx="766620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已知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MB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＝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ND</a:t>
            </a:r>
            <a:r>
              <a:rPr b="1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,∠1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＝∠</a:t>
            </a:r>
            <a:r>
              <a:rPr b="1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2,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列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不能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判定△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BM</a:t>
            </a:r>
            <a:r>
              <a:rPr b="1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≌△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DN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的条件（　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．∠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M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＝∠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N</a:t>
            </a:r>
            <a:r>
              <a:rPr b="1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．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＝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D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．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M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＝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N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　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．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M</a:t>
            </a:r>
            <a:r>
              <a:rPr b="1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∥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5003640" y="2565360"/>
            <a:ext cx="534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-51480" bIns="-51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252960" cy="109368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13"/>
          <p:cNvSpPr/>
          <p:nvPr/>
        </p:nvSpPr>
        <p:spPr>
          <a:xfrm>
            <a:off x="179280" y="1341360"/>
            <a:ext cx="72723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华文行楷"/>
                <a:ea typeface="华文行楷"/>
              </a:rPr>
              <a:t>先独立思考，再小组讨论交流</a:t>
            </a:r>
            <a:r>
              <a:rPr b="1" lang="en-US" sz="4000" spc="-1" strike="noStrike">
                <a:solidFill>
                  <a:srgbClr val="cc3300"/>
                </a:solidFill>
                <a:latin typeface="华文行楷"/>
                <a:ea typeface="华文行楷"/>
              </a:rPr>
              <a:t>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4" name="Picture 15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56400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要使下列各对三角形全等，还需要增加什么条件？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(1)∠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=∠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，∠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=∠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(2)∠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＝∠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，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＝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124000" y="2924280"/>
            <a:ext cx="6120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＝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DF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或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AC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＝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DE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或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BC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＝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EF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</a:t>
            </a:r>
            <a:r>
              <a:rPr b="1" lang="en-US" sz="2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2414160" y="3451320"/>
            <a:ext cx="56764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DF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＝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AC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或∠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＝∠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F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或∠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＝∠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E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8" name="Picture 6" descr=""/>
          <p:cNvPicPr/>
          <p:nvPr/>
        </p:nvPicPr>
        <p:blipFill>
          <a:blip r:embed="rId1"/>
          <a:stretch/>
        </p:blipFill>
        <p:spPr>
          <a:xfrm>
            <a:off x="611280" y="3886200"/>
            <a:ext cx="7561080" cy="25750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252960" cy="1093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WordArt 2"/>
          <p:cNvSpPr txBox="1"/>
          <p:nvPr/>
        </p:nvSpPr>
        <p:spPr>
          <a:xfrm>
            <a:off x="1763640" y="2924280"/>
            <a:ext cx="42861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谈谈本节课的收获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01" name="WordArt 3" descr=""/>
          <p:cNvPicPr/>
          <p:nvPr/>
        </p:nvPicPr>
        <p:blipFill>
          <a:blip r:embed="rId1"/>
          <a:stretch/>
        </p:blipFill>
        <p:spPr>
          <a:xfrm>
            <a:off x="1316160" y="1335240"/>
            <a:ext cx="2652480" cy="1182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0" y="981000"/>
            <a:ext cx="8763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要得到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≌ 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经隐含有条件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所给的判定方法，在下列横线上写出还需要的两个条件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                               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 2 )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2270160" y="3798720"/>
            <a:ext cx="4394880" cy="3111480"/>
            <a:chOff x="2270160" y="3798720"/>
            <a:chExt cx="4394880" cy="3111480"/>
          </a:xfrm>
        </p:grpSpPr>
        <p:grpSp>
          <p:nvGrpSpPr>
            <p:cNvPr id="537" name="Group 6"/>
            <p:cNvGrpSpPr/>
            <p:nvPr/>
          </p:nvGrpSpPr>
          <p:grpSpPr>
            <a:xfrm>
              <a:off x="2801520" y="4255560"/>
              <a:ext cx="3505320" cy="2209680"/>
              <a:chOff x="2801520" y="4255560"/>
              <a:chExt cx="3505320" cy="2209680"/>
            </a:xfrm>
          </p:grpSpPr>
          <p:sp>
            <p:nvSpPr>
              <p:cNvPr id="538" name="Line 7"/>
              <p:cNvSpPr/>
              <p:nvPr/>
            </p:nvSpPr>
            <p:spPr>
              <a:xfrm>
                <a:off x="2801520" y="5322600"/>
                <a:ext cx="35053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9" name="Line 8"/>
              <p:cNvSpPr/>
              <p:nvPr/>
            </p:nvSpPr>
            <p:spPr>
              <a:xfrm flipV="1">
                <a:off x="2801520" y="4255560"/>
                <a:ext cx="1067040" cy="10666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0" name="Line 9"/>
              <p:cNvSpPr/>
              <p:nvPr/>
            </p:nvSpPr>
            <p:spPr>
              <a:xfrm>
                <a:off x="3868560" y="4255920"/>
                <a:ext cx="2438280" cy="10666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1" name="Line 10"/>
              <p:cNvSpPr/>
              <p:nvPr/>
            </p:nvSpPr>
            <p:spPr>
              <a:xfrm>
                <a:off x="2801520" y="5322600"/>
                <a:ext cx="1067040" cy="11426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2" name="Line 11"/>
              <p:cNvSpPr/>
              <p:nvPr/>
            </p:nvSpPr>
            <p:spPr>
              <a:xfrm flipV="1">
                <a:off x="3868560" y="5322600"/>
                <a:ext cx="2438280" cy="114264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43" name="Text Box 12"/>
            <p:cNvSpPr/>
            <p:nvPr/>
          </p:nvSpPr>
          <p:spPr>
            <a:xfrm>
              <a:off x="2270160" y="4987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248160" y="5094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3717720" y="3798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657960" y="6389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7" name="Text Box 16"/>
          <p:cNvSpPr/>
          <p:nvPr/>
        </p:nvSpPr>
        <p:spPr>
          <a:xfrm>
            <a:off x="1837080" y="141300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B=A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334880" y="2567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C=A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2843280" y="256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A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261800" y="32860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C=B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2771640" y="3284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B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= 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B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WordArt 21"/>
          <p:cNvSpPr txBox="1"/>
          <p:nvPr/>
        </p:nvSpPr>
        <p:spPr>
          <a:xfrm>
            <a:off x="239760" y="227160"/>
            <a:ext cx="23623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8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温故而知新</a:t>
            </a:r>
            <a:endParaRPr b="1" lang="en-US" sz="1400" spc="1" strike="noStrike">
              <a:ln w="9360">
                <a:solidFill>
                  <a:srgbClr val="ff6600"/>
                </a:solidFill>
                <a:miter/>
              </a:ln>
              <a:solidFill>
                <a:srgbClr val="008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181080" y="5845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1985760" y="1483920"/>
            <a:ext cx="5118480" cy="1191240"/>
          </a:xfrm>
          <a:prstGeom prst="rect">
            <a:avLst/>
          </a:prstGeom>
          <a:solidFill>
            <a:srgbClr val="e5b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如果两个三角形有两个角、一条边分别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对应相等，那么这两个三角形能全等吗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0" y="2805120"/>
            <a:ext cx="18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56" name="Object 6"/>
          <p:cNvGraphicFramePr/>
          <p:nvPr/>
        </p:nvGraphicFramePr>
        <p:xfrm>
          <a:off x="468360" y="2997360"/>
          <a:ext cx="784872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997360"/>
                    <a:ext cx="7848720" cy="2879640"/>
                  </a:xfrm>
                  <a:prstGeom prst="rect">
                    <a:avLst/>
                  </a:prstGeom>
                  <a:ln w="9360">
                    <a:solidFill>
                      <a:srgbClr val="ff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58" name="WordArt 8" descr=""/>
          <p:cNvPicPr/>
          <p:nvPr/>
        </p:nvPicPr>
        <p:blipFill>
          <a:blip r:embed="rId3"/>
          <a:stretch/>
        </p:blipFill>
        <p:spPr>
          <a:xfrm>
            <a:off x="360360" y="-85680"/>
            <a:ext cx="2651040" cy="139068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9"/>
          <p:cNvSpPr/>
          <p:nvPr/>
        </p:nvSpPr>
        <p:spPr>
          <a:xfrm>
            <a:off x="181080" y="5845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2103840" y="1269000"/>
            <a:ext cx="5301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9.2.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已知两个角和一条线段，以这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角为内角，以这条线段为这两个角的夹边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一个三角形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61" name="Object 4"/>
          <p:cNvGraphicFramePr/>
          <p:nvPr/>
        </p:nvGraphicFramePr>
        <p:xfrm>
          <a:off x="1258920" y="2852640"/>
          <a:ext cx="619272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52640"/>
                    <a:ext cx="619272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WordArt 7"/>
          <p:cNvSpPr txBox="1"/>
          <p:nvPr/>
        </p:nvSpPr>
        <p:spPr>
          <a:xfrm rot="20711400">
            <a:off x="324000" y="188640"/>
            <a:ext cx="253368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7128000"/>
                </a:gradFill>
                <a:latin typeface="宋体"/>
              </a:rPr>
              <a:t>做一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7128000"/>
              </a:gradFill>
              <a:latin typeface="宋体"/>
              <a:ea typeface="宋体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81080" y="5845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468360" y="155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如果两个三角形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两个角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及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夹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分别对应相等，那么这两个三角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全等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．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468360" y="76500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归  纳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11280" y="27075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简记为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.S.A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或角边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8" name="Picture 5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247840" cy="13622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826920" y="4941720"/>
            <a:ext cx="2257560" cy="14288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7"/>
          <p:cNvSpPr/>
          <p:nvPr/>
        </p:nvSpPr>
        <p:spPr>
          <a:xfrm>
            <a:off x="2763720" y="3500280"/>
            <a:ext cx="1521000" cy="302436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符 号 语 言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1" name="Group 66"/>
          <p:cNvGrpSpPr/>
          <p:nvPr/>
        </p:nvGrpSpPr>
        <p:grpSpPr>
          <a:xfrm>
            <a:off x="4356000" y="3645000"/>
            <a:ext cx="4595760" cy="2670480"/>
            <a:chOff x="4356000" y="3645000"/>
            <a:chExt cx="4595760" cy="2670480"/>
          </a:xfrm>
        </p:grpSpPr>
        <p:graphicFrame>
          <p:nvGraphicFramePr>
            <p:cNvPr id="572" name="Object 9"/>
            <p:cNvGraphicFramePr/>
            <p:nvPr/>
          </p:nvGraphicFramePr>
          <p:xfrm>
            <a:off x="4356000" y="3645000"/>
            <a:ext cx="4595760" cy="26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56000" y="3645000"/>
                      <a:ext cx="4595760" cy="26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4" name="Rectangle 10"/>
            <p:cNvSpPr/>
            <p:nvPr/>
          </p:nvSpPr>
          <p:spPr>
            <a:xfrm>
              <a:off x="5975280" y="5734080"/>
              <a:ext cx="52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≌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75" name="Group 17"/>
          <p:cNvGrpSpPr/>
          <p:nvPr/>
        </p:nvGrpSpPr>
        <p:grpSpPr>
          <a:xfrm>
            <a:off x="0" y="0"/>
            <a:ext cx="6048360" cy="792000"/>
            <a:chOff x="0" y="0"/>
            <a:chExt cx="6048360" cy="792000"/>
          </a:xfrm>
        </p:grpSpPr>
        <p:sp>
          <p:nvSpPr>
            <p:cNvPr id="576" name="desk1"/>
            <p:cNvSpPr/>
            <p:nvPr/>
          </p:nvSpPr>
          <p:spPr>
            <a:xfrm>
              <a:off x="0" y="0"/>
              <a:ext cx="6048360" cy="792000"/>
            </a:xfrm>
            <a:custGeom>
              <a:avLst/>
              <a:gdLst>
                <a:gd name="textAreaLeft" fmla="*/ 279360 w 6048360"/>
                <a:gd name="textAreaRight" fmla="*/ 5769000 w 6048360"/>
                <a:gd name="textAreaTop" fmla="*/ 36360 h 792000"/>
                <a:gd name="textAreaBottom" fmla="*/ 75564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7" name="Text Box 19"/>
            <p:cNvSpPr/>
            <p:nvPr/>
          </p:nvSpPr>
          <p:spPr>
            <a:xfrm>
              <a:off x="611280" y="71280"/>
              <a:ext cx="43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Arial"/>
                  <a:ea typeface="宋体"/>
                </a:rPr>
                <a:t>三角形全等的判定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  <a:ea typeface="宋体"/>
                </a:rPr>
                <a:t>2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8" name="Ink 11"/>
          <p:cNvSpPr/>
          <p:nvPr/>
        </p:nvSpPr>
        <p:spPr>
          <a:xfrm>
            <a:off x="1347840" y="4419720"/>
            <a:ext cx="36360" cy="98280"/>
          </a:xfrm>
          <a:custGeom>
            <a:avLst/>
            <a:gdLst/>
            <a:ahLst/>
            <a:rect l="l" t="t" r="r" b="b"/>
            <a:pathLst>
              <a:path w="100" h="274">
                <a:moveTo>
                  <a:pt x="3746" y="12278"/>
                </a:moveTo>
                <a:cubicBezTo>
                  <a:pt x="3754" y="12278"/>
                  <a:pt x="3762" y="12278"/>
                  <a:pt x="3770" y="12278"/>
                </a:cubicBezTo>
                <a:cubicBezTo>
                  <a:pt x="3781" y="12312"/>
                  <a:pt x="3805" y="12309"/>
                  <a:pt x="3820" y="12353"/>
                </a:cubicBezTo>
                <a:cubicBezTo>
                  <a:pt x="3820" y="12378"/>
                  <a:pt x="3820" y="12386"/>
                  <a:pt x="3820" y="12402"/>
                </a:cubicBezTo>
                <a:cubicBezTo>
                  <a:pt x="3858" y="12415"/>
                  <a:pt x="3845" y="12432"/>
                  <a:pt x="3845" y="12477"/>
                </a:cubicBezTo>
                <a:cubicBezTo>
                  <a:pt x="3845" y="12502"/>
                  <a:pt x="3845" y="12526"/>
                  <a:pt x="3845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Ink 12"/>
          <p:cNvSpPr/>
          <p:nvPr/>
        </p:nvSpPr>
        <p:spPr>
          <a:xfrm>
            <a:off x="1455840" y="5911920"/>
            <a:ext cx="9828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4043" y="16421"/>
                </a:moveTo>
                <a:cubicBezTo>
                  <a:pt x="4084" y="16421"/>
                  <a:pt x="4126" y="16421"/>
                  <a:pt x="4167" y="16421"/>
                </a:cubicBezTo>
                <a:cubicBezTo>
                  <a:pt x="4179" y="16456"/>
                  <a:pt x="4205" y="16447"/>
                  <a:pt x="4217" y="16495"/>
                </a:cubicBezTo>
                <a:cubicBezTo>
                  <a:pt x="4256" y="16508"/>
                  <a:pt x="4227" y="16507"/>
                  <a:pt x="4266" y="16520"/>
                </a:cubicBezTo>
                <a:cubicBezTo>
                  <a:pt x="4274" y="16544"/>
                  <a:pt x="4275" y="16566"/>
                  <a:pt x="4291" y="16594"/>
                </a:cubicBezTo>
                <a:cubicBezTo>
                  <a:pt x="4314" y="16635"/>
                  <a:pt x="4316" y="16643"/>
                  <a:pt x="4316" y="16694"/>
                </a:cubicBezTo>
                <a:cubicBezTo>
                  <a:pt x="4316" y="16719"/>
                  <a:pt x="4316" y="16743"/>
                  <a:pt x="4316" y="16768"/>
                </a:cubicBezTo>
              </a:path>
              <a:path w="274" h="348">
                <a:moveTo>
                  <a:pt x="4167" y="16421"/>
                </a:moveTo>
                <a:cubicBezTo>
                  <a:pt x="4167" y="16429"/>
                  <a:pt x="4167" y="16438"/>
                  <a:pt x="4167" y="16446"/>
                </a:cubicBezTo>
                <a:cubicBezTo>
                  <a:pt x="4205" y="16458"/>
                  <a:pt x="4192" y="16475"/>
                  <a:pt x="4192" y="16520"/>
                </a:cubicBezTo>
                <a:cubicBezTo>
                  <a:pt x="4192" y="16545"/>
                  <a:pt x="4192" y="16569"/>
                  <a:pt x="4192" y="16594"/>
                </a:cubicBezTo>
                <a:cubicBezTo>
                  <a:pt x="4227" y="16606"/>
                  <a:pt x="4217" y="16601"/>
                  <a:pt x="4217" y="16644"/>
                </a:cubicBezTo>
                <a:cubicBezTo>
                  <a:pt x="4256" y="16657"/>
                  <a:pt x="4227" y="16656"/>
                  <a:pt x="4266" y="16669"/>
                </a:cubicBezTo>
                <a:cubicBezTo>
                  <a:pt x="4266" y="16694"/>
                  <a:pt x="4266" y="16718"/>
                  <a:pt x="4266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Ink 13"/>
          <p:cNvSpPr/>
          <p:nvPr/>
        </p:nvSpPr>
        <p:spPr>
          <a:xfrm>
            <a:off x="2133720" y="5991120"/>
            <a:ext cx="36360" cy="162000"/>
          </a:xfrm>
          <a:custGeom>
            <a:avLst/>
            <a:gdLst/>
            <a:ahLst/>
            <a:rect l="l" t="t" r="r" b="b"/>
            <a:pathLst>
              <a:path w="101" h="447">
                <a:moveTo>
                  <a:pt x="6028" y="16644"/>
                </a:moveTo>
                <a:cubicBezTo>
                  <a:pt x="6028" y="16669"/>
                  <a:pt x="6028" y="16677"/>
                  <a:pt x="6028" y="16694"/>
                </a:cubicBezTo>
                <a:cubicBezTo>
                  <a:pt x="5990" y="16706"/>
                  <a:pt x="6003" y="16723"/>
                  <a:pt x="6003" y="16768"/>
                </a:cubicBezTo>
                <a:cubicBezTo>
                  <a:pt x="6003" y="16776"/>
                  <a:pt x="6003" y="16785"/>
                  <a:pt x="6003" y="16793"/>
                </a:cubicBezTo>
                <a:cubicBezTo>
                  <a:pt x="5981" y="16800"/>
                  <a:pt x="5964" y="16835"/>
                  <a:pt x="5953" y="16867"/>
                </a:cubicBezTo>
                <a:cubicBezTo>
                  <a:pt x="5935" y="16920"/>
                  <a:pt x="5953" y="17010"/>
                  <a:pt x="5953" y="17066"/>
                </a:cubicBezTo>
                <a:cubicBezTo>
                  <a:pt x="5928" y="17066"/>
                  <a:pt x="5920" y="17066"/>
                  <a:pt x="5928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Ink 14"/>
          <p:cNvSpPr/>
          <p:nvPr/>
        </p:nvSpPr>
        <p:spPr>
          <a:xfrm>
            <a:off x="2562120" y="5902200"/>
            <a:ext cx="117720" cy="13500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7441" y="16520"/>
                </a:moveTo>
                <a:cubicBezTo>
                  <a:pt x="7416" y="16520"/>
                  <a:pt x="7392" y="16520"/>
                  <a:pt x="7367" y="16520"/>
                </a:cubicBezTo>
                <a:cubicBezTo>
                  <a:pt x="7354" y="16558"/>
                  <a:pt x="7342" y="16541"/>
                  <a:pt x="7342" y="16594"/>
                </a:cubicBezTo>
                <a:cubicBezTo>
                  <a:pt x="7290" y="16594"/>
                  <a:pt x="7293" y="16592"/>
                  <a:pt x="7293" y="16644"/>
                </a:cubicBezTo>
                <a:cubicBezTo>
                  <a:pt x="7293" y="16689"/>
                  <a:pt x="7306" y="16706"/>
                  <a:pt x="7268" y="16718"/>
                </a:cubicBezTo>
                <a:cubicBezTo>
                  <a:pt x="7276" y="16726"/>
                  <a:pt x="7285" y="16735"/>
                  <a:pt x="7293" y="16743"/>
                </a:cubicBezTo>
              </a:path>
              <a:path w="323" h="373">
                <a:moveTo>
                  <a:pt x="7243" y="16396"/>
                </a:moveTo>
                <a:cubicBezTo>
                  <a:pt x="7218" y="16396"/>
                  <a:pt x="7210" y="16396"/>
                  <a:pt x="7193" y="16396"/>
                </a:cubicBezTo>
                <a:cubicBezTo>
                  <a:pt x="7181" y="16433"/>
                  <a:pt x="7169" y="16418"/>
                  <a:pt x="7169" y="16470"/>
                </a:cubicBezTo>
                <a:cubicBezTo>
                  <a:pt x="7131" y="16483"/>
                  <a:pt x="7144" y="16500"/>
                  <a:pt x="7144" y="16545"/>
                </a:cubicBezTo>
                <a:cubicBezTo>
                  <a:pt x="7144" y="16553"/>
                  <a:pt x="7144" y="16562"/>
                  <a:pt x="7144" y="16570"/>
                </a:cubicBezTo>
                <a:cubicBezTo>
                  <a:pt x="7106" y="16582"/>
                  <a:pt x="7119" y="16599"/>
                  <a:pt x="7119" y="16644"/>
                </a:cubicBezTo>
                <a:cubicBezTo>
                  <a:pt x="7119" y="16666"/>
                  <a:pt x="7119" y="16802"/>
                  <a:pt x="7119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Ink 15"/>
          <p:cNvSpPr/>
          <p:nvPr/>
        </p:nvSpPr>
        <p:spPr>
          <a:xfrm>
            <a:off x="2438280" y="437508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7169" y="12303"/>
                </a:moveTo>
                <a:cubicBezTo>
                  <a:pt x="7144" y="12303"/>
                  <a:pt x="7119" y="12303"/>
                  <a:pt x="7094" y="12303"/>
                </a:cubicBezTo>
                <a:cubicBezTo>
                  <a:pt x="7081" y="12343"/>
                  <a:pt x="7082" y="12313"/>
                  <a:pt x="7069" y="12353"/>
                </a:cubicBezTo>
                <a:cubicBezTo>
                  <a:pt x="7018" y="12353"/>
                  <a:pt x="7020" y="12351"/>
                  <a:pt x="7020" y="12402"/>
                </a:cubicBezTo>
                <a:cubicBezTo>
                  <a:pt x="7020" y="12410"/>
                  <a:pt x="7020" y="12419"/>
                  <a:pt x="7020" y="12427"/>
                </a:cubicBezTo>
                <a:cubicBezTo>
                  <a:pt x="6982" y="12440"/>
                  <a:pt x="6995" y="12457"/>
                  <a:pt x="6995" y="12502"/>
                </a:cubicBezTo>
                <a:cubicBezTo>
                  <a:pt x="6995" y="12526"/>
                  <a:pt x="6995" y="12535"/>
                  <a:pt x="6995" y="12551"/>
                </a:cubicBezTo>
              </a:path>
              <a:path w="398" h="398">
                <a:moveTo>
                  <a:pt x="6970" y="12154"/>
                </a:moveTo>
                <a:cubicBezTo>
                  <a:pt x="6945" y="12154"/>
                  <a:pt x="6921" y="12154"/>
                  <a:pt x="6896" y="12154"/>
                </a:cubicBezTo>
                <a:cubicBezTo>
                  <a:pt x="6883" y="12194"/>
                  <a:pt x="6884" y="12164"/>
                  <a:pt x="6871" y="12204"/>
                </a:cubicBezTo>
                <a:cubicBezTo>
                  <a:pt x="6819" y="12204"/>
                  <a:pt x="6821" y="12202"/>
                  <a:pt x="6821" y="12254"/>
                </a:cubicBezTo>
                <a:cubicBezTo>
                  <a:pt x="6786" y="12265"/>
                  <a:pt x="6796" y="12261"/>
                  <a:pt x="6796" y="12303"/>
                </a:cubicBezTo>
                <a:cubicBezTo>
                  <a:pt x="6760" y="12316"/>
                  <a:pt x="6772" y="12334"/>
                  <a:pt x="6772" y="12378"/>
                </a:cubicBezTo>
                <a:cubicBezTo>
                  <a:pt x="6772" y="12436"/>
                  <a:pt x="6772" y="12493"/>
                  <a:pt x="6772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Ink 16"/>
          <p:cNvSpPr/>
          <p:nvPr/>
        </p:nvSpPr>
        <p:spPr>
          <a:xfrm>
            <a:off x="1963800" y="4429080"/>
            <a:ext cx="1908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5482" y="12477"/>
                </a:moveTo>
                <a:cubicBezTo>
                  <a:pt x="5482" y="12510"/>
                  <a:pt x="5482" y="12543"/>
                  <a:pt x="5482" y="12576"/>
                </a:cubicBezTo>
                <a:cubicBezTo>
                  <a:pt x="5444" y="12589"/>
                  <a:pt x="5457" y="12605"/>
                  <a:pt x="5457" y="12650"/>
                </a:cubicBezTo>
                <a:cubicBezTo>
                  <a:pt x="5457" y="12708"/>
                  <a:pt x="5457" y="12766"/>
                  <a:pt x="5457" y="12824"/>
                </a:cubicBezTo>
              </a:path>
              <a:path w="51" h="522">
                <a:moveTo>
                  <a:pt x="5507" y="12303"/>
                </a:moveTo>
                <a:cubicBezTo>
                  <a:pt x="5507" y="12361"/>
                  <a:pt x="5507" y="12419"/>
                  <a:pt x="5507" y="12477"/>
                </a:cubicBezTo>
                <a:cubicBezTo>
                  <a:pt x="5469" y="12490"/>
                  <a:pt x="5482" y="12506"/>
                  <a:pt x="5482" y="12551"/>
                </a:cubicBezTo>
                <a:cubicBezTo>
                  <a:pt x="5482" y="12584"/>
                  <a:pt x="5482" y="12617"/>
                  <a:pt x="5482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reeform 2"/>
          <p:cNvSpPr/>
          <p:nvPr/>
        </p:nvSpPr>
        <p:spPr>
          <a:xfrm>
            <a:off x="3708360" y="2708280"/>
            <a:ext cx="1371600" cy="1278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864" h="805">
                <a:moveTo>
                  <a:pt x="0" y="549"/>
                </a:moveTo>
                <a:lnTo>
                  <a:pt x="280" y="685"/>
                </a:lnTo>
                <a:lnTo>
                  <a:pt x="480" y="541"/>
                </a:lnTo>
                <a:lnTo>
                  <a:pt x="728" y="805"/>
                </a:lnTo>
                <a:lnTo>
                  <a:pt x="864" y="293"/>
                </a:lnTo>
                <a:lnTo>
                  <a:pt x="815" y="0"/>
                </a:lnTo>
                <a:lnTo>
                  <a:pt x="552" y="8"/>
                </a:lnTo>
                <a:lnTo>
                  <a:pt x="344" y="264"/>
                </a:lnTo>
                <a:lnTo>
                  <a:pt x="88" y="221"/>
                </a:lnTo>
                <a:lnTo>
                  <a:pt x="0" y="54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Freeform 3"/>
          <p:cNvSpPr/>
          <p:nvPr/>
        </p:nvSpPr>
        <p:spPr>
          <a:xfrm>
            <a:off x="1476360" y="1197000"/>
            <a:ext cx="1170000" cy="273060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30600"/>
              <a:gd name="textAreaBottom" fmla="*/ 2730600 h 2730600"/>
            </a:gdLst>
            <a:ahLst/>
            <a:rect l="textAreaLeft" t="textAreaTop" r="textAreaRight" b="textAreaBottom"/>
            <a:pathLst>
              <a:path w="737" h="1720">
                <a:moveTo>
                  <a:pt x="0" y="1681"/>
                </a:moveTo>
                <a:lnTo>
                  <a:pt x="266" y="1720"/>
                </a:lnTo>
                <a:lnTo>
                  <a:pt x="466" y="1464"/>
                </a:lnTo>
                <a:lnTo>
                  <a:pt x="737" y="1456"/>
                </a:lnTo>
                <a:lnTo>
                  <a:pt x="418" y="0"/>
                </a:lnTo>
                <a:lnTo>
                  <a:pt x="0" y="168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Freeform 4"/>
          <p:cNvSpPr/>
          <p:nvPr/>
        </p:nvSpPr>
        <p:spPr>
          <a:xfrm>
            <a:off x="5651640" y="2492280"/>
            <a:ext cx="1942920" cy="129564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224" h="816">
                <a:moveTo>
                  <a:pt x="1224" y="816"/>
                </a:moveTo>
                <a:lnTo>
                  <a:pt x="0" y="816"/>
                </a:lnTo>
                <a:lnTo>
                  <a:pt x="177" y="215"/>
                </a:lnTo>
                <a:lnTo>
                  <a:pt x="465" y="367"/>
                </a:lnTo>
                <a:lnTo>
                  <a:pt x="673" y="223"/>
                </a:lnTo>
                <a:lnTo>
                  <a:pt x="907" y="499"/>
                </a:lnTo>
                <a:lnTo>
                  <a:pt x="1043" y="0"/>
                </a:lnTo>
                <a:lnTo>
                  <a:pt x="1224" y="81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1715040" y="45086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4067280" y="4437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6300720" y="4365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3661200" y="5229360"/>
            <a:ext cx="221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如果只需拿一块破碎玻璃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，你会选择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拿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一块呢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6300720" y="4365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WordArt 10"/>
          <p:cNvSpPr txBox="1"/>
          <p:nvPr/>
        </p:nvSpPr>
        <p:spPr>
          <a:xfrm rot="20711400">
            <a:off x="324000" y="188640"/>
            <a:ext cx="253368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7128000"/>
                </a:gradFill>
                <a:latin typeface="宋体"/>
              </a:rPr>
              <a:t>想一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7128000"/>
              </a:gradFill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5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Oval 15"/>
          <p:cNvSpPr/>
          <p:nvPr/>
        </p:nvSpPr>
        <p:spPr>
          <a:xfrm>
            <a:off x="0" y="0"/>
            <a:ext cx="2340000" cy="1484280"/>
          </a:xfrm>
          <a:prstGeom prst="ellipse">
            <a:avLst/>
          </a:prstGeom>
          <a:solidFill>
            <a:srgbClr val="a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宋体"/>
              </a:rPr>
              <a:t>例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1619280" y="475200"/>
            <a:ext cx="860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9.2.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 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≌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95" name="Object 5"/>
          <p:cNvGraphicFramePr/>
          <p:nvPr/>
        </p:nvGraphicFramePr>
        <p:xfrm>
          <a:off x="0" y="2781360"/>
          <a:ext cx="305928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05928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Rectangle 7"/>
          <p:cNvSpPr/>
          <p:nvPr/>
        </p:nvSpPr>
        <p:spPr>
          <a:xfrm>
            <a:off x="2987640" y="3067560"/>
            <a:ext cx="55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C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B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2268360" y="220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证明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3889080" y="2276640"/>
            <a:ext cx="33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C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2987640" y="45086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∴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≌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C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   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6734520" y="501336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A.S.A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4"/>
          <p:cNvSpPr/>
          <p:nvPr/>
        </p:nvSpPr>
        <p:spPr>
          <a:xfrm>
            <a:off x="1403280" y="5464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两个三角形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两个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其中一个角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对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对应相等，那么这两个三角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是否一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全等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03" name="Object 5"/>
          <p:cNvGraphicFramePr/>
          <p:nvPr/>
        </p:nvGraphicFramePr>
        <p:xfrm>
          <a:off x="463680" y="3228840"/>
          <a:ext cx="1736640" cy="28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228840"/>
                    <a:ext cx="1736640" cy="28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6"/>
          <p:cNvSpPr/>
          <p:nvPr/>
        </p:nvSpPr>
        <p:spPr>
          <a:xfrm>
            <a:off x="2346480" y="1699560"/>
            <a:ext cx="57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已知：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＝∠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′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＝∠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B′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C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′C′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1332000" y="22042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求证：△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BC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≌△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′B′C′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3391560" y="2848680"/>
            <a:ext cx="423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证明：∵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＝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′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，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＝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且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＋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＋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＝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180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同理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′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＋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′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＋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C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′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＝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180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            ∴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　∠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＝∠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C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′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在△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和△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′B′C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′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           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＝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            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C</a:t>
            </a:r>
            <a:r>
              <a:rPr b="1" i="1" lang="zh-CN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＝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A′C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           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宋体"/>
              </a:rPr>
              <a:t>＝∠</a:t>
            </a:r>
            <a:r>
              <a:rPr b="1" i="1" lang="en-US" sz="2400" spc="-1" strike="noStrike">
                <a:solidFill>
                  <a:srgbClr val="6600ff"/>
                </a:solidFill>
                <a:latin typeface="Times New Roman"/>
                <a:ea typeface="宋体"/>
              </a:rPr>
              <a:t>C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宋体"/>
              </a:rPr>
              <a:t>′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∴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≌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.S.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8" name="WordArt 9" descr=""/>
          <p:cNvPicPr/>
          <p:nvPr/>
        </p:nvPicPr>
        <p:blipFill>
          <a:blip r:embed="rId3"/>
          <a:stretch/>
        </p:blipFill>
        <p:spPr>
          <a:xfrm>
            <a:off x="-19080" y="-324000"/>
            <a:ext cx="2360520" cy="1622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4"/>
          <p:cNvSpPr/>
          <p:nvPr/>
        </p:nvSpPr>
        <p:spPr>
          <a:xfrm>
            <a:off x="344520" y="1111680"/>
            <a:ext cx="879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Gungsuh"/>
                <a:ea typeface="Gungsuh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Gungsuh"/>
                <a:ea typeface="Gungsuh"/>
              </a:rPr>
              <a:t>定理：</a:t>
            </a:r>
            <a:r>
              <a:rPr b="1" lang="zh-CN" sz="3600" spc="-1" strike="noStrike">
                <a:solidFill>
                  <a:srgbClr val="ff0066"/>
                </a:solidFill>
                <a:latin typeface="Gungsuh"/>
                <a:ea typeface="Gungsuh"/>
              </a:rPr>
              <a:t>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如果两个三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宋体"/>
              </a:rPr>
              <a:t>角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形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宋体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有</a:t>
            </a:r>
            <a:r>
              <a:rPr b="1" lang="zh-CN" sz="3600" spc="-1" strike="noStrike">
                <a:solidFill>
                  <a:srgbClr val="ff3300"/>
                </a:solidFill>
                <a:latin typeface="Gungsuh"/>
                <a:ea typeface="Gungsuh"/>
              </a:rPr>
              <a:t>两个</a:t>
            </a:r>
            <a:r>
              <a:rPr b="1" lang="zh-CN" sz="3600" spc="-1" strike="noStrike">
                <a:solidFill>
                  <a:srgbClr val="ff3300"/>
                </a:solidFill>
                <a:latin typeface="Gungsuh"/>
                <a:ea typeface="宋体"/>
              </a:rPr>
              <a:t>角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Gungsuh"/>
                <a:ea typeface="Gungsuh"/>
              </a:rPr>
              <a:t>其中一个</a:t>
            </a:r>
            <a:r>
              <a:rPr b="1" lang="zh-CN" sz="3600" spc="-1" strike="noStrike">
                <a:solidFill>
                  <a:srgbClr val="ff3300"/>
                </a:solidFill>
                <a:latin typeface="Gungsuh"/>
                <a:ea typeface="宋体"/>
              </a:rPr>
              <a:t>角</a:t>
            </a:r>
            <a:r>
              <a:rPr b="1" lang="zh-CN" sz="3600" spc="-1" strike="noStrike">
                <a:solidFill>
                  <a:srgbClr val="ff3300"/>
                </a:solidFill>
                <a:latin typeface="Gungsuh"/>
                <a:ea typeface="Gungsuh"/>
              </a:rPr>
              <a:t>的对边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分别对应相等，那么这两个三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宋体"/>
              </a:rPr>
              <a:t>角形</a:t>
            </a:r>
            <a:r>
              <a:rPr b="1" lang="zh-CN" sz="3600" spc="-1" strike="noStrike">
                <a:solidFill>
                  <a:srgbClr val="ff3300"/>
                </a:solidFill>
                <a:latin typeface="Gungsuh"/>
                <a:ea typeface="Gungsuh"/>
              </a:rPr>
              <a:t>全等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．简记为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Gungsuh"/>
              </a:rPr>
              <a:t>A.A.S.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（或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宋体"/>
              </a:rPr>
              <a:t>角角</a:t>
            </a:r>
            <a:r>
              <a:rPr b="1" lang="zh-CN" sz="3600" spc="-1" strike="noStrike">
                <a:solidFill>
                  <a:srgbClr val="000000"/>
                </a:solidFill>
                <a:latin typeface="Gungsuh"/>
                <a:ea typeface="Gungsuh"/>
              </a:rPr>
              <a:t>边）．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2843280" y="18900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归  纳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1:43:02Z</dcterms:created>
  <dc:creator>http://zhdduya100.taobao.com/</dc:creator>
  <dc:description>http://zhdduya100.taobao.com/</dc:description>
  <cp:keywords>http://zhdduya100.taobao.com/</cp:keywords>
  <dc:language>en-US</dc:language>
  <cp:lastModifiedBy>Administrator</cp:lastModifiedBy>
  <dcterms:modified xsi:type="dcterms:W3CDTF">2014-07-19T01:29:02Z</dcterms:modified>
  <cp:revision>5</cp:revision>
  <dc:subject>http://zhdduya100.taobao.com/</dc:subject>
  <dc:title>http://zhdduya100.taobao.com/</dc:title>
</cp:coreProperties>
</file>