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8.png" ContentType="image/png"/>
  <Override PartName="/ppt/media/hammer.wav" ContentType="audio/x-wav"/>
  <Override PartName="/ppt/media/cashreg.wav" ContentType="audio/x-wav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17.png" ContentType="image/png"/>
  <Override PartName="/ppt/media/image12.png" ContentType="image/png"/>
  <Override PartName="/ppt/media/image16.png" ContentType="image/png"/>
  <Override PartName="/ppt/media/chimes.wav" ContentType="audio/x-wav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A4FA-913B-4349-A23D-235753246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50F-46D8-46AB-926E-D146F5128B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C467-3A74-44F9-B9ED-1C298A118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C17E-533C-447E-B648-28907815C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7DB-B2A0-499D-BEF7-4003FAB3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2CE-6EE4-4A33-A686-6DB8734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6B027-B273-4430-87EA-2A42E837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8F9CE-CD97-4745-9500-6BA414D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1F30-864B-4302-BE31-72730BDE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24B34-AD26-4536-99AF-B5A8BB2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D1956-40F6-43DA-8F6E-1A2F399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DE7F5-016F-456D-82C5-194F4C44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CF610-A819-4B18-ABC9-591CA24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AF901-3B95-46F3-B100-095F712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DD4C7-4EC3-435A-860D-A99FFCCD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61B-36E1-4A3B-B20C-EEEC4FEA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156-1916-4D6F-8105-3CFD9EE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2F05-593E-4E2E-94D3-B9AFD49A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900E-E193-43CA-A8F7-269BBB8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D2D-E4E7-4334-8BA3-E60E39E6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9F7F-CFF7-4765-BF79-258FFD1C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308-BE17-4EAF-B3AA-2DEE4BF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171B-5361-43EC-9A0B-79F2D9F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E71-BEE0-4B27-86AB-024BF31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9FD-20AE-41A0-B1DC-D90A2AA0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D71-7264-4BB4-AD0A-0498606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3794-4941-4FB1-862A-BB5100C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DF64-C839-449B-B28B-0F4441F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B55-BC56-4AAD-BF2F-3319B3AA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CAB4-CF6B-4F45-9174-D9CC0044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E897-90D6-40AC-BAE6-08DE9839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CB57-33AA-4E4F-819C-9390763F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9A7E-D840-42DF-9EFC-B26576D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B38A-6C68-400D-B3F6-4675CBCB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B8B3-8947-4D79-8727-9FF359D1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226-0A18-46B7-824D-C8EE02F8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7153-DD37-40CD-AE4B-AFA8DFC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5C2A8-311B-4BEF-9D44-58A865C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D1D9-7B8A-4A0A-AE3B-09E25B8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90F2-6FDE-4C46-8DD8-73F67FE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52A5-6C0E-49C7-B9F1-D2F0D52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D524-0F59-4C81-9A6F-EA9363BB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0B11-854D-4264-908B-866931D1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099F-8A20-443F-A444-0C004D1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23DB-6894-4FF0-8BB5-F35DDD4D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687F-0D06-40AF-969A-EE811E8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E6B-8DEF-4DC6-8235-3FF9904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E454-FC50-4A3B-A765-EAF201B3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1BDD-CCE7-4D98-9139-2C16F177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7D57-AA5F-4598-BCDB-79E2088E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3A78-4F99-48FD-8D4E-81445F4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E666-1B91-47A0-B0BF-5FAAAC7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6262-7F4A-4BDD-9FAB-4D89D1A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0417-DA86-41EA-9608-2CD6137F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C7DC-D6C5-489C-AE09-DC86ED39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E1AA-8E81-466F-859A-BB7C06E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7733-EA3F-47FF-ADDC-C825E7F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45C-9851-4E23-B8E6-60BF3DE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06F8-711C-462F-AC2F-3D3D308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81AA-96B4-4DF6-B19D-208BFBF2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F942-5CF7-45D4-8064-70F9D75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48EF-0E31-4BCB-AC28-F2DC64BF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D031-3C2E-47CF-9E2C-0D04FB3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DB809-1FB8-4D75-BACF-72F1C91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B5CE-5D48-46D0-A865-4A25419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BDD3-8AAA-47B6-B40B-BC193E1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19A6-858B-4C0D-BC6A-0B98BAC6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74B9-848E-4767-BE24-C51B3ABC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219-A46C-4CF2-94A0-6C9BDA9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D15B-3A47-4BDA-8086-9BE107EE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DFFBD-FD9F-4D96-914E-704AA5A1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089B-3B17-45F4-A7AE-17180D03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5474-FA84-4698-8B2D-DDBE207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D1F3-9CE5-49B0-8BCB-0CBB4AFE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C2F8-5418-47A5-B446-9C53E955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D04C-C1FF-4B30-99C5-DE68C95D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85F5-7EEC-45B9-BC88-25BCA5C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9B7EE-1B1E-4F93-8300-BEE5FEA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1B44-F078-442F-A241-3D6ABE8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D26-057A-4754-94FB-C2F84CB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7A32-3E28-4578-8F7E-824B82F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23B14-04C5-404E-89A1-CF1E69BE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D66A-0088-4685-8E4D-DA2E35DA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3F70-674D-47A3-B9F6-5E522E48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EECA-F7E9-422F-94E9-48E80C0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3B5B2-AC27-4FAB-81FE-3092AD0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E35D-0171-4800-BA4B-8481BBEB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A13D6-3837-4800-B285-BAC61A29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DB9B-C5A6-4514-A3CA-A7CBF7DE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822A-114F-4110-9119-87FC7334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446-8F1F-4911-8EEB-967F381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7AE1-258F-42B2-B08D-9E6388C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F35A-E6A7-4119-B526-22DB919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D8B3-8483-440A-97F2-96387926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D90F-D9FE-46B8-B5B4-2DDE7ADB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C353-1909-4DFF-96E3-2F72D81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03661-765B-48DD-A798-FB9CB469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50594-8FD6-427A-B0D7-C4C6BD5E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49D6A-A05F-49E9-B588-67601A0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8398-2B6A-4D3F-8139-1A79DDC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B32A9-E96B-4FDF-B268-C5238F90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9B3-C177-4225-B481-0C0E129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FABB-4707-4794-B3B5-6B4C02F3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759B-4900-4A08-BB4E-FDEC60E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8B42-A376-45AB-8F40-9F16C94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FCDB-046D-491C-A95F-EB853F2B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6400-B154-4C8D-A14B-C92B460A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1DB5-674A-4380-B79C-B1D4C5BC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B4FE-BD53-4D2F-BA61-413B242F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55E81-E776-4809-8E35-928A0309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70D9-7C61-450F-96CD-B7FC9A9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3DBA-B8B4-4A4B-B839-BAECED27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5D0-800C-4349-ADCD-B05E8554FD0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6B6-5E52-45DE-A8A1-50B7BDDF86C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3EE2-B18B-4CEE-9ACF-3ECDA0DA4D4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67C-EB26-414C-BE7B-DE4ECB86919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185-CF5A-42DF-9E2F-5CED81CD531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4CD-0F01-43C0-8D5C-DEE949F2E36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0D02-BD50-44A6-A97F-E0537694E5A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5922-47A6-4DA5-9129-D8F6D180325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319B-95D7-415D-9703-CB6397B22BC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7"/>
          <p:cNvGrpSpPr/>
          <p:nvPr/>
        </p:nvGrpSpPr>
        <p:grpSpPr>
          <a:xfrm>
            <a:off x="1700640" y="3466800"/>
            <a:ext cx="1321200" cy="2268000"/>
            <a:chOff x="1700640" y="3466800"/>
            <a:chExt cx="1321200" cy="2268000"/>
          </a:xfrm>
        </p:grpSpPr>
        <p:grpSp>
          <p:nvGrpSpPr>
            <p:cNvPr id="407" name="Line 28"/>
            <p:cNvGrpSpPr/>
            <p:nvPr/>
          </p:nvGrpSpPr>
          <p:grpSpPr>
            <a:xfrm>
              <a:off x="1895760" y="3466800"/>
              <a:ext cx="913320" cy="2268000"/>
              <a:chOff x="1895760" y="3466800"/>
              <a:chExt cx="913320" cy="2268000"/>
            </a:xfrm>
          </p:grpSpPr>
          <p:pic>
            <p:nvPicPr>
              <p:cNvPr id="408" name="Line 28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895760" y="3466440"/>
                <a:ext cx="912960" cy="226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 rot="7357800">
                <a:off x="2747520" y="3520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0" name="Line 29"/>
            <p:cNvSpPr/>
            <p:nvPr/>
          </p:nvSpPr>
          <p:spPr>
            <a:xfrm flipV="1">
              <a:off x="2647800" y="3523320"/>
              <a:ext cx="374040" cy="177408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 flipH="1">
              <a:off x="1700640" y="5297400"/>
              <a:ext cx="947160" cy="2880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2" name="Group 44"/>
          <p:cNvGrpSpPr/>
          <p:nvPr/>
        </p:nvGrpSpPr>
        <p:grpSpPr>
          <a:xfrm>
            <a:off x="2207520" y="3463200"/>
            <a:ext cx="1310760" cy="2273400"/>
            <a:chOff x="2207520" y="3463200"/>
            <a:chExt cx="1310760" cy="2273400"/>
          </a:xfrm>
        </p:grpSpPr>
        <p:grpSp>
          <p:nvGrpSpPr>
            <p:cNvPr id="413" name="Line 45"/>
            <p:cNvGrpSpPr/>
            <p:nvPr/>
          </p:nvGrpSpPr>
          <p:grpSpPr>
            <a:xfrm>
              <a:off x="2401920" y="3463200"/>
              <a:ext cx="910080" cy="2273400"/>
              <a:chOff x="2401920" y="3463200"/>
              <a:chExt cx="910080" cy="2273400"/>
            </a:xfrm>
          </p:grpSpPr>
          <p:pic>
            <p:nvPicPr>
              <p:cNvPr id="414" name="Line 45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2401920" y="3462840"/>
                <a:ext cx="90972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7340400">
                <a:off x="3249000" y="3515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6" name="Line 46"/>
            <p:cNvSpPr/>
            <p:nvPr/>
          </p:nvSpPr>
          <p:spPr>
            <a:xfrm flipV="1">
              <a:off x="3156120" y="3518640"/>
              <a:ext cx="362160" cy="177768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47"/>
            <p:cNvSpPr/>
            <p:nvPr/>
          </p:nvSpPr>
          <p:spPr>
            <a:xfrm flipH="1">
              <a:off x="2207520" y="5296320"/>
              <a:ext cx="948600" cy="29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8" name="TextBox 13"/>
          <p:cNvSpPr/>
          <p:nvPr/>
        </p:nvSpPr>
        <p:spPr>
          <a:xfrm>
            <a:off x="1017720" y="2001960"/>
            <a:ext cx="69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60414"/>
                </a:solidFill>
                <a:latin typeface="宋体"/>
                <a:ea typeface="宋体"/>
              </a:rPr>
              <a:t>全等三角形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6622920" y="523800"/>
            <a:ext cx="2210040" cy="1371240"/>
            <a:chOff x="6622920" y="523800"/>
            <a:chExt cx="2210040" cy="1371240"/>
          </a:xfrm>
        </p:grpSpPr>
        <p:sp>
          <p:nvSpPr>
            <p:cNvPr id="594" name="Line 3"/>
            <p:cNvSpPr/>
            <p:nvPr/>
          </p:nvSpPr>
          <p:spPr>
            <a:xfrm flipH="1">
              <a:off x="6662160" y="545760"/>
              <a:ext cx="698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 flipH="1">
              <a:off x="8134920" y="523800"/>
              <a:ext cx="697680" cy="1348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7320600" y="545760"/>
              <a:ext cx="81396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7" name="Line 6"/>
            <p:cNvSpPr/>
            <p:nvPr/>
          </p:nvSpPr>
          <p:spPr>
            <a:xfrm flipV="1">
              <a:off x="6622920" y="545760"/>
              <a:ext cx="2210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8" name="Rectangle 7"/>
          <p:cNvSpPr/>
          <p:nvPr/>
        </p:nvSpPr>
        <p:spPr>
          <a:xfrm>
            <a:off x="0" y="333360"/>
            <a:ext cx="68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OC≌△BO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6912000" y="856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8174160" y="153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7488000" y="123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6284880" y="1568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8775720" y="4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4" name="Group 13"/>
          <p:cNvGrpSpPr/>
          <p:nvPr/>
        </p:nvGrpSpPr>
        <p:grpSpPr>
          <a:xfrm>
            <a:off x="6857640" y="2449440"/>
            <a:ext cx="1752480" cy="1676520"/>
            <a:chOff x="6857640" y="2449440"/>
            <a:chExt cx="1752480" cy="1676520"/>
          </a:xfrm>
        </p:grpSpPr>
        <p:sp>
          <p:nvSpPr>
            <p:cNvPr id="605" name="Line 14"/>
            <p:cNvSpPr/>
            <p:nvPr/>
          </p:nvSpPr>
          <p:spPr>
            <a:xfrm>
              <a:off x="7731360" y="2449440"/>
              <a:ext cx="0" cy="1257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15"/>
            <p:cNvSpPr/>
            <p:nvPr/>
          </p:nvSpPr>
          <p:spPr>
            <a:xfrm flipH="1">
              <a:off x="6870240" y="2449440"/>
              <a:ext cx="86076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 flipH="1">
              <a:off x="6857640" y="3706560"/>
              <a:ext cx="86076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>
              <a:off x="7718760" y="3706560"/>
              <a:ext cx="86112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>
              <a:off x="7749360" y="2449440"/>
              <a:ext cx="86076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0" name="Rectangle 19"/>
          <p:cNvSpPr/>
          <p:nvPr/>
        </p:nvSpPr>
        <p:spPr>
          <a:xfrm>
            <a:off x="0" y="1989000"/>
            <a:ext cx="70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BD≌△A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7453080" y="191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6462720" y="3763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8596080" y="3763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7529400" y="3611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5" name="Group 24"/>
          <p:cNvGrpSpPr/>
          <p:nvPr/>
        </p:nvGrpSpPr>
        <p:grpSpPr>
          <a:xfrm>
            <a:off x="6400800" y="4960800"/>
            <a:ext cx="2467080" cy="1295640"/>
            <a:chOff x="6400800" y="4960800"/>
            <a:chExt cx="2467080" cy="1295640"/>
          </a:xfrm>
        </p:grpSpPr>
        <p:sp>
          <p:nvSpPr>
            <p:cNvPr id="616" name="AutoShape 25"/>
            <p:cNvSpPr/>
            <p:nvPr/>
          </p:nvSpPr>
          <p:spPr>
            <a:xfrm>
              <a:off x="6400800" y="4960800"/>
              <a:ext cx="2467080" cy="1295640"/>
            </a:xfrm>
            <a:prstGeom prst="parallelogram">
              <a:avLst>
                <a:gd name="adj" fmla="val 4760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7034040" y="4960800"/>
              <a:ext cx="1292040" cy="1295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8" name="Rectangle 27"/>
          <p:cNvSpPr/>
          <p:nvPr/>
        </p:nvSpPr>
        <p:spPr>
          <a:xfrm>
            <a:off x="0" y="350028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BC≌△CDA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应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690960" y="44370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6013440" y="592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8272440" y="6018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874080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179280" y="5229360"/>
            <a:ext cx="5508720" cy="10688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以上你能总结出找全等三角形的对应边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应角的规律吗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2"/>
          <p:cNvGraphicFramePr/>
          <p:nvPr/>
        </p:nvGraphicFramePr>
        <p:xfrm>
          <a:off x="609480" y="1676520"/>
          <a:ext cx="28195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2819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3"/>
          <p:cNvGraphicFramePr/>
          <p:nvPr/>
        </p:nvGraphicFramePr>
        <p:xfrm>
          <a:off x="762120" y="1676520"/>
          <a:ext cx="245736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76520"/>
                    <a:ext cx="2457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"/>
          <p:cNvGraphicFramePr/>
          <p:nvPr/>
        </p:nvGraphicFramePr>
        <p:xfrm>
          <a:off x="762120" y="1752480"/>
          <a:ext cx="250020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752480"/>
                    <a:ext cx="2500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5"/>
          <p:cNvGraphicFramePr/>
          <p:nvPr/>
        </p:nvGraphicFramePr>
        <p:xfrm>
          <a:off x="762120" y="1752480"/>
          <a:ext cx="2412720" cy="259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752480"/>
                    <a:ext cx="2412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Text Box 6"/>
          <p:cNvSpPr/>
          <p:nvPr/>
        </p:nvSpPr>
        <p:spPr>
          <a:xfrm>
            <a:off x="4042800" y="496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找一找：请指出下列全等三角形的对应边和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3708360" y="10746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ABE ≌ △ AC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564000" y="1557360"/>
            <a:ext cx="5105160" cy="1191240"/>
          </a:xfrm>
          <a:prstGeom prst="rect">
            <a:avLst/>
          </a:prstGeom>
          <a:solidFill>
            <a:srgbClr val="f2f8f2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角是：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C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E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F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应边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C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708360" y="3068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BCE ≌ △ CB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36" name="Object 10"/>
          <p:cNvGraphicFramePr/>
          <p:nvPr/>
        </p:nvGraphicFramePr>
        <p:xfrm>
          <a:off x="685800" y="1752480"/>
          <a:ext cx="256392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1752480"/>
                    <a:ext cx="256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11"/>
          <p:cNvGraphicFramePr/>
          <p:nvPr/>
        </p:nvGraphicFramePr>
        <p:xfrm>
          <a:off x="685800" y="1676520"/>
          <a:ext cx="2548080" cy="27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1676520"/>
                    <a:ext cx="254808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12"/>
          <p:cNvGraphicFramePr/>
          <p:nvPr/>
        </p:nvGraphicFramePr>
        <p:xfrm>
          <a:off x="685800" y="1676520"/>
          <a:ext cx="2630520" cy="281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1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1676520"/>
                    <a:ext cx="2630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13"/>
          <p:cNvSpPr/>
          <p:nvPr/>
        </p:nvSpPr>
        <p:spPr>
          <a:xfrm>
            <a:off x="3708360" y="3500280"/>
            <a:ext cx="4359240" cy="1191240"/>
          </a:xfrm>
          <a:prstGeom prst="rect">
            <a:avLst/>
          </a:prstGeom>
          <a:solidFill>
            <a:srgbClr val="f2f3f8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角是：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应边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0" y="47242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BOF ≌ △ CO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44" name="Object 15"/>
          <p:cNvGraphicFramePr/>
          <p:nvPr/>
        </p:nvGraphicFramePr>
        <p:xfrm>
          <a:off x="685800" y="1523880"/>
          <a:ext cx="2714760" cy="289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5800" y="1523880"/>
                    <a:ext cx="27147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Rectangle 2" descr=""/>
          <p:cNvPicPr/>
          <p:nvPr/>
        </p:nvPicPr>
        <p:blipFill>
          <a:blip r:embed="rId1"/>
          <a:stretch/>
        </p:blipFill>
        <p:spPr>
          <a:xfrm>
            <a:off x="298440" y="762120"/>
            <a:ext cx="8852040" cy="4687920"/>
          </a:xfrm>
          <a:prstGeom prst="rect">
            <a:avLst/>
          </a:prstGeom>
          <a:ln w="0">
            <a:noFill/>
          </a:ln>
        </p:spPr>
      </p:pic>
      <p:pic>
        <p:nvPicPr>
          <p:cNvPr id="647" name="Group 10" descr=""/>
          <p:cNvPicPr/>
          <p:nvPr/>
        </p:nvPicPr>
        <p:blipFill>
          <a:blip r:embed="rId2"/>
          <a:stretch/>
        </p:blipFill>
        <p:spPr>
          <a:xfrm>
            <a:off x="208080" y="396720"/>
            <a:ext cx="3114720" cy="7988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2"/>
          <p:cNvSpPr/>
          <p:nvPr/>
        </p:nvSpPr>
        <p:spPr>
          <a:xfrm>
            <a:off x="2916360" y="112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5651640" y="119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等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6372360" y="170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C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3635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5364000" y="213372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176364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F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7885080" y="299736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7667640" y="350208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687708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6877080" y="40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611280" y="1268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△ABC≌△DBF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图中的对应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应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826920" y="2347920"/>
            <a:ext cx="3167280" cy="3339360"/>
            <a:chOff x="826920" y="2347920"/>
            <a:chExt cx="3167280" cy="3339360"/>
          </a:xfrm>
        </p:grpSpPr>
        <p:grpSp>
          <p:nvGrpSpPr>
            <p:cNvPr id="660" name="Group 6"/>
            <p:cNvGrpSpPr/>
            <p:nvPr/>
          </p:nvGrpSpPr>
          <p:grpSpPr>
            <a:xfrm>
              <a:off x="1042560" y="2779920"/>
              <a:ext cx="2448360" cy="2376000"/>
              <a:chOff x="1042560" y="2779920"/>
              <a:chExt cx="2448360" cy="2376000"/>
            </a:xfrm>
          </p:grpSpPr>
          <p:sp>
            <p:nvSpPr>
              <p:cNvPr id="661" name="Line 7"/>
              <p:cNvSpPr/>
              <p:nvPr/>
            </p:nvSpPr>
            <p:spPr>
              <a:xfrm flipH="1">
                <a:off x="1042560" y="2779920"/>
                <a:ext cx="1152360" cy="2376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2" name="Line 8"/>
              <p:cNvSpPr/>
              <p:nvPr/>
            </p:nvSpPr>
            <p:spPr>
              <a:xfrm>
                <a:off x="2195280" y="2779920"/>
                <a:ext cx="1295640" cy="2302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3" name="Line 9"/>
              <p:cNvSpPr/>
              <p:nvPr/>
            </p:nvSpPr>
            <p:spPr>
              <a:xfrm flipV="1">
                <a:off x="1042920" y="3670560"/>
                <a:ext cx="1655640" cy="1485360"/>
              </a:xfrm>
              <a:prstGeom prst="line">
                <a:avLst/>
              </a:prstGeom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4" name="Line 10"/>
              <p:cNvSpPr/>
              <p:nvPr/>
            </p:nvSpPr>
            <p:spPr>
              <a:xfrm flipH="1" flipV="1">
                <a:off x="1762200" y="3670560"/>
                <a:ext cx="1728720" cy="1411200"/>
              </a:xfrm>
              <a:prstGeom prst="line">
                <a:avLst/>
              </a:prstGeom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11"/>
            <p:cNvSpPr/>
            <p:nvPr/>
          </p:nvSpPr>
          <p:spPr>
            <a:xfrm>
              <a:off x="1977840" y="23479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6" name="Text Box 12"/>
            <p:cNvSpPr/>
            <p:nvPr/>
          </p:nvSpPr>
          <p:spPr>
            <a:xfrm>
              <a:off x="1330200" y="335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7" name="Text Box 13"/>
            <p:cNvSpPr/>
            <p:nvPr/>
          </p:nvSpPr>
          <p:spPr>
            <a:xfrm>
              <a:off x="2914560" y="34988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8" name="Text Box 14"/>
            <p:cNvSpPr/>
            <p:nvPr/>
          </p:nvSpPr>
          <p:spPr>
            <a:xfrm>
              <a:off x="826920" y="5227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9" name="Text Box 15"/>
            <p:cNvSpPr/>
            <p:nvPr/>
          </p:nvSpPr>
          <p:spPr>
            <a:xfrm>
              <a:off x="3419280" y="51562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0" name="Text Box 16"/>
          <p:cNvSpPr/>
          <p:nvPr/>
        </p:nvSpPr>
        <p:spPr>
          <a:xfrm>
            <a:off x="3851280" y="2276640"/>
            <a:ext cx="48974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答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:∠B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    ∠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    ∠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BA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2805"/>
                </a:solidFill>
                <a:latin typeface="Arial"/>
                <a:ea typeface="宋体"/>
              </a:rPr>
              <a:t>    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4427640" y="3789360"/>
            <a:ext cx="345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AB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A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B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2" name="Text Box 36"/>
          <p:cNvSpPr/>
          <p:nvPr/>
        </p:nvSpPr>
        <p:spPr>
          <a:xfrm>
            <a:off x="6516720" y="2347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3" name="Text Box 37"/>
          <p:cNvSpPr/>
          <p:nvPr/>
        </p:nvSpPr>
        <p:spPr>
          <a:xfrm>
            <a:off x="6588000" y="28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4" name="Text Box 38"/>
          <p:cNvSpPr/>
          <p:nvPr/>
        </p:nvSpPr>
        <p:spPr>
          <a:xfrm>
            <a:off x="687708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5" name="Text Box 39"/>
          <p:cNvSpPr/>
          <p:nvPr/>
        </p:nvSpPr>
        <p:spPr>
          <a:xfrm>
            <a:off x="6659640" y="3573360"/>
            <a:ext cx="64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6" name="Text Box 40"/>
          <p:cNvSpPr/>
          <p:nvPr/>
        </p:nvSpPr>
        <p:spPr>
          <a:xfrm>
            <a:off x="6588000" y="4363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DF</a:t>
            </a: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7" name="Text Box 41"/>
          <p:cNvSpPr/>
          <p:nvPr/>
        </p:nvSpPr>
        <p:spPr>
          <a:xfrm>
            <a:off x="665964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F</a:t>
            </a: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TextBox 25"/>
          <p:cNvSpPr/>
          <p:nvPr/>
        </p:nvSpPr>
        <p:spPr>
          <a:xfrm>
            <a:off x="0" y="549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1" name="type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77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84328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</a:rPr>
              <a:t>小结提高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79280" y="17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1302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781302"/>
                </a:solidFill>
                <a:latin typeface="Arial"/>
                <a:ea typeface="宋体"/>
              </a:rPr>
              <a:t>、回忆这节课，学习了全等三角形的哪些知识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68360" y="220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全等三角形的概念、性质、表示方法、对应写法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17928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1302"/>
                </a:solidFill>
                <a:latin typeface="Arial"/>
                <a:ea typeface="宋体"/>
              </a:rPr>
              <a:t>２、找全等三角形对应边、对应角的方法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Rectangle 2" descr=""/>
          <p:cNvPicPr/>
          <p:nvPr/>
        </p:nvPicPr>
        <p:blipFill>
          <a:blip r:embed="rId1"/>
          <a:stretch/>
        </p:blipFill>
        <p:spPr>
          <a:xfrm>
            <a:off x="-182520" y="542880"/>
            <a:ext cx="8729640" cy="12366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在两个全等三角形中，最长边对最长边；最小边对最小边；最大角对最大角；最小角对最小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公共角、对顶角必为对应角；公共边必为对应边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对应角的对边为对应边；对应边的对角为对应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根据书写规范，按照对应顶点找对应边或对应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BJ_042"/>
          <p:cNvPicPr/>
          <p:nvPr/>
        </p:nvPicPr>
        <p:blipFill>
          <a:blip r:embed="rId1"/>
          <a:stretch/>
        </p:blipFill>
        <p:spPr>
          <a:xfrm>
            <a:off x="0" y="1924200"/>
            <a:ext cx="292104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BJ_042"/>
          <p:cNvPicPr/>
          <p:nvPr/>
        </p:nvPicPr>
        <p:blipFill>
          <a:blip r:embed="rId2"/>
          <a:stretch/>
        </p:blipFill>
        <p:spPr>
          <a:xfrm>
            <a:off x="6222960" y="1924200"/>
            <a:ext cx="292104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571760" y="1000080"/>
            <a:ext cx="64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同一张底片洗出的照片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51927 -0.00023 E">
                                      <p:cBhvr>
                                        <p:cTn id="11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3203640" y="54936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156360" y="54936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979640" y="76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2195640" y="198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3276720" y="1700280"/>
            <a:ext cx="86364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6372360" y="1700280"/>
            <a:ext cx="86364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6836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3276720" y="3068640"/>
            <a:ext cx="1081080" cy="13669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AutoShape 12"/>
          <p:cNvSpPr/>
          <p:nvPr/>
        </p:nvSpPr>
        <p:spPr>
          <a:xfrm>
            <a:off x="6516720" y="3141720"/>
            <a:ext cx="1081080" cy="13669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468360" y="4437000"/>
            <a:ext cx="194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-281880" y="494172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思考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692360" y="48751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每组的两个图形有什么特点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250920" y="5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观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1403280" y="5516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能够重合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大小相同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形状相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1" name="hammer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ext Box 4" descr=""/>
          <p:cNvPicPr/>
          <p:nvPr/>
        </p:nvPicPr>
        <p:blipFill>
          <a:blip r:embed="rId1"/>
          <a:stretch/>
        </p:blipFill>
        <p:spPr>
          <a:xfrm>
            <a:off x="-182520" y="542880"/>
            <a:ext cx="7673760" cy="12366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7162920" y="843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全等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26920" y="39337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全等图形的特征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250920" y="2565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还能说出生活中全等图形的例子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828800" y="2422440"/>
            <a:ext cx="91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4249080" y="328464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两个图形全等，它们的形状大小一定都相同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611280" y="465300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图形的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小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都相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395280" y="162864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S UI Gothic"/>
                <a:ea typeface="MS UI Gothic"/>
              </a:rPr>
              <a:t>议一议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4"/>
          <p:cNvSpPr/>
          <p:nvPr/>
        </p:nvSpPr>
        <p:spPr>
          <a:xfrm>
            <a:off x="6402240" y="2143080"/>
            <a:ext cx="1955880" cy="854280"/>
          </a:xfrm>
          <a:prstGeom prst="leftArrowCallout">
            <a:avLst>
              <a:gd name="adj1" fmla="val 25002"/>
              <a:gd name="adj2" fmla="val 25000"/>
              <a:gd name="adj3" fmla="val 45801"/>
              <a:gd name="adj4" fmla="val 66673"/>
            </a:avLst>
          </a:prstGeom>
          <a:noFill/>
          <a:ln w="9360">
            <a:solidFill>
              <a:srgbClr val="a5644e"/>
            </a:solidFill>
            <a:miter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形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相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138240" y="4221000"/>
            <a:ext cx="1523880" cy="914400"/>
          </a:xfrm>
          <a:prstGeom prst="rightArrowCallout">
            <a:avLst>
              <a:gd name="adj1" fmla="val 25002"/>
              <a:gd name="adj2" fmla="val 25000"/>
              <a:gd name="adj3" fmla="val 27776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小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相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714240" y="1197000"/>
            <a:ext cx="9001080" cy="4430520"/>
            <a:chOff x="714240" y="1197000"/>
            <a:chExt cx="9001080" cy="4430520"/>
          </a:xfrm>
        </p:grpSpPr>
        <p:sp>
          <p:nvSpPr>
            <p:cNvPr id="447" name="AutoShape 18"/>
            <p:cNvSpPr/>
            <p:nvPr/>
          </p:nvSpPr>
          <p:spPr>
            <a:xfrm>
              <a:off x="5208840" y="1898640"/>
              <a:ext cx="1261800" cy="135108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AutoShape 19"/>
            <p:cNvSpPr/>
            <p:nvPr/>
          </p:nvSpPr>
          <p:spPr>
            <a:xfrm>
              <a:off x="2449080" y="2151720"/>
              <a:ext cx="867240" cy="92844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49" name="Group 20"/>
            <p:cNvGrpSpPr/>
            <p:nvPr/>
          </p:nvGrpSpPr>
          <p:grpSpPr>
            <a:xfrm>
              <a:off x="2133360" y="3756240"/>
              <a:ext cx="1576800" cy="1772640"/>
              <a:chOff x="2133360" y="3756240"/>
              <a:chExt cx="1576800" cy="1772640"/>
            </a:xfrm>
          </p:grpSpPr>
          <p:sp>
            <p:nvSpPr>
              <p:cNvPr id="450" name="Rectangle 21"/>
              <p:cNvSpPr/>
              <p:nvPr/>
            </p:nvSpPr>
            <p:spPr>
              <a:xfrm>
                <a:off x="2133360" y="3756240"/>
                <a:ext cx="788400" cy="88776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1" name="Rectangle 22"/>
              <p:cNvSpPr/>
              <p:nvPr/>
            </p:nvSpPr>
            <p:spPr>
              <a:xfrm>
                <a:off x="2921760" y="3756240"/>
                <a:ext cx="788400" cy="88776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2" name="Rectangle 23"/>
              <p:cNvSpPr/>
              <p:nvPr/>
            </p:nvSpPr>
            <p:spPr>
              <a:xfrm>
                <a:off x="2133360" y="4642560"/>
                <a:ext cx="788400" cy="88632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24"/>
            <p:cNvGrpSpPr/>
            <p:nvPr/>
          </p:nvGrpSpPr>
          <p:grpSpPr>
            <a:xfrm>
              <a:off x="4656960" y="4009320"/>
              <a:ext cx="2444040" cy="928080"/>
              <a:chOff x="4656960" y="4009320"/>
              <a:chExt cx="2444040" cy="928080"/>
            </a:xfrm>
          </p:grpSpPr>
          <p:sp>
            <p:nvSpPr>
              <p:cNvPr id="454" name="Rectangle 25"/>
              <p:cNvSpPr/>
              <p:nvPr/>
            </p:nvSpPr>
            <p:spPr>
              <a:xfrm>
                <a:off x="6287400" y="4009320"/>
                <a:ext cx="81360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Rectangle 26"/>
              <p:cNvSpPr/>
              <p:nvPr/>
            </p:nvSpPr>
            <p:spPr>
              <a:xfrm>
                <a:off x="5470560" y="4009320"/>
                <a:ext cx="81648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6" name="Rectangle 27"/>
              <p:cNvSpPr/>
              <p:nvPr/>
            </p:nvSpPr>
            <p:spPr>
              <a:xfrm>
                <a:off x="4656960" y="4009320"/>
                <a:ext cx="81360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57" name="Text Box 28"/>
            <p:cNvSpPr/>
            <p:nvPr/>
          </p:nvSpPr>
          <p:spPr>
            <a:xfrm>
              <a:off x="714240" y="1197000"/>
              <a:ext cx="90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观察下面两组图形，它们是不是全等图形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Rectangle 29"/>
            <p:cNvSpPr/>
            <p:nvPr/>
          </p:nvSpPr>
          <p:spPr>
            <a:xfrm>
              <a:off x="3931560" y="280080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1 )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Rectangle 30"/>
            <p:cNvSpPr/>
            <p:nvPr/>
          </p:nvSpPr>
          <p:spPr>
            <a:xfrm>
              <a:off x="3710520" y="5106960"/>
              <a:ext cx="12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2 )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0" name="Text Box 33"/>
          <p:cNvSpPr/>
          <p:nvPr/>
        </p:nvSpPr>
        <p:spPr>
          <a:xfrm>
            <a:off x="498600" y="476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及时反馈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4"/>
          <p:cNvGrpSpPr/>
          <p:nvPr/>
        </p:nvGrpSpPr>
        <p:grpSpPr>
          <a:xfrm>
            <a:off x="1403280" y="1052640"/>
            <a:ext cx="3240000" cy="1742040"/>
            <a:chOff x="1403280" y="1052640"/>
            <a:chExt cx="3240000" cy="1742040"/>
          </a:xfrm>
        </p:grpSpPr>
        <p:grpSp>
          <p:nvGrpSpPr>
            <p:cNvPr id="462" name="Group 5"/>
            <p:cNvGrpSpPr/>
            <p:nvPr/>
          </p:nvGrpSpPr>
          <p:grpSpPr>
            <a:xfrm>
              <a:off x="1763640" y="1382040"/>
              <a:ext cx="2374920" cy="1099800"/>
              <a:chOff x="1763640" y="1382040"/>
              <a:chExt cx="2374920" cy="1099800"/>
            </a:xfrm>
          </p:grpSpPr>
          <p:sp>
            <p:nvSpPr>
              <p:cNvPr id="463" name="Line 6"/>
              <p:cNvSpPr/>
              <p:nvPr/>
            </p:nvSpPr>
            <p:spPr>
              <a:xfrm flipH="1">
                <a:off x="1763640" y="1382040"/>
                <a:ext cx="1440000" cy="1099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Line 7"/>
              <p:cNvSpPr/>
              <p:nvPr/>
            </p:nvSpPr>
            <p:spPr>
              <a:xfrm>
                <a:off x="1763640" y="248184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3203640" y="1382040"/>
                <a:ext cx="934920" cy="10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9"/>
            <p:cNvSpPr/>
            <p:nvPr/>
          </p:nvSpPr>
          <p:spPr>
            <a:xfrm>
              <a:off x="2987640" y="105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1403280" y="2372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4211640" y="24264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4932360" y="1125360"/>
            <a:ext cx="3168720" cy="1728720"/>
            <a:chOff x="4932360" y="1125360"/>
            <a:chExt cx="3168720" cy="1728720"/>
          </a:xfrm>
        </p:grpSpPr>
        <p:grpSp>
          <p:nvGrpSpPr>
            <p:cNvPr id="470" name="Group 13"/>
            <p:cNvGrpSpPr/>
            <p:nvPr/>
          </p:nvGrpSpPr>
          <p:grpSpPr>
            <a:xfrm>
              <a:off x="5149800" y="1397160"/>
              <a:ext cx="2374920" cy="1087200"/>
              <a:chOff x="5149800" y="1397160"/>
              <a:chExt cx="2374920" cy="1087200"/>
            </a:xfrm>
          </p:grpSpPr>
          <p:sp>
            <p:nvSpPr>
              <p:cNvPr id="471" name="Line 14"/>
              <p:cNvSpPr/>
              <p:nvPr/>
            </p:nvSpPr>
            <p:spPr>
              <a:xfrm flipH="1">
                <a:off x="5149800" y="1397160"/>
                <a:ext cx="1440000" cy="10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2" name="Line 15"/>
              <p:cNvSpPr/>
              <p:nvPr/>
            </p:nvSpPr>
            <p:spPr>
              <a:xfrm>
                <a:off x="5149800" y="248436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3" name="Line 16"/>
              <p:cNvSpPr/>
              <p:nvPr/>
            </p:nvSpPr>
            <p:spPr>
              <a:xfrm>
                <a:off x="6589800" y="1397160"/>
                <a:ext cx="934920" cy="108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17"/>
            <p:cNvSpPr/>
            <p:nvPr/>
          </p:nvSpPr>
          <p:spPr>
            <a:xfrm>
              <a:off x="4932360" y="2485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Text Box 18"/>
            <p:cNvSpPr/>
            <p:nvPr/>
          </p:nvSpPr>
          <p:spPr>
            <a:xfrm>
              <a:off x="6445440" y="112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7669440" y="2429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7" name="Text Box 21"/>
          <p:cNvSpPr/>
          <p:nvPr/>
        </p:nvSpPr>
        <p:spPr>
          <a:xfrm>
            <a:off x="468360" y="4287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够完全重合的两个三角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叫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8" name="Group 64" descr=""/>
          <p:cNvPicPr/>
          <p:nvPr/>
        </p:nvPicPr>
        <p:blipFill>
          <a:blip r:embed="rId1"/>
          <a:stretch/>
        </p:blipFill>
        <p:spPr>
          <a:xfrm>
            <a:off x="237960" y="2706840"/>
            <a:ext cx="3834000" cy="16459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23"/>
          <p:cNvSpPr/>
          <p:nvPr/>
        </p:nvSpPr>
        <p:spPr>
          <a:xfrm>
            <a:off x="7151760" y="2935440"/>
            <a:ext cx="90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24"/>
          <p:cNvSpPr/>
          <p:nvPr/>
        </p:nvSpPr>
        <p:spPr>
          <a:xfrm>
            <a:off x="6848640" y="2935440"/>
            <a:ext cx="1591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772320" y="2935440"/>
            <a:ext cx="166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2" name="Group 67" descr=""/>
          <p:cNvPicPr/>
          <p:nvPr/>
        </p:nvPicPr>
        <p:blipFill>
          <a:blip r:embed="rId2"/>
          <a:stretch/>
        </p:blipFill>
        <p:spPr>
          <a:xfrm>
            <a:off x="4346640" y="2554200"/>
            <a:ext cx="4559400" cy="19684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0"/>
          <p:cNvSpPr/>
          <p:nvPr/>
        </p:nvSpPr>
        <p:spPr>
          <a:xfrm>
            <a:off x="6051600" y="428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全等三角形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61"/>
          <p:cNvSpPr/>
          <p:nvPr/>
        </p:nvSpPr>
        <p:spPr>
          <a:xfrm>
            <a:off x="324000" y="5013360"/>
            <a:ext cx="7777080" cy="703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三角形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应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等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应角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63"/>
          <p:cNvSpPr/>
          <p:nvPr/>
        </p:nvSpPr>
        <p:spPr>
          <a:xfrm>
            <a:off x="179280" y="4221000"/>
            <a:ext cx="39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三角形的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68"/>
          <p:cNvSpPr/>
          <p:nvPr/>
        </p:nvSpPr>
        <p:spPr>
          <a:xfrm>
            <a:off x="3769200" y="1197000"/>
            <a:ext cx="127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平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hammer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 rot="10792800">
            <a:off x="577080" y="159516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 rot="21592800">
            <a:off x="2157480" y="33624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 rot="11383800">
            <a:off x="711000" y="14364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 rot="11964600">
            <a:off x="899640" y="12920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 rot="12468600">
            <a:off x="1115640" y="134064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 rot="13078800">
            <a:off x="1258560" y="12675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 rot="13590000">
            <a:off x="1464120" y="125712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 rot="14169000">
            <a:off x="1681560" y="125712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AutoShape 10"/>
          <p:cNvSpPr/>
          <p:nvPr/>
        </p:nvSpPr>
        <p:spPr>
          <a:xfrm rot="15461400">
            <a:off x="2040480" y="151812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 rot="16998000">
            <a:off x="2473920" y="19054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AutoShape 12"/>
          <p:cNvSpPr/>
          <p:nvPr/>
        </p:nvSpPr>
        <p:spPr>
          <a:xfrm rot="18609600">
            <a:off x="2593080" y="24102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utoShape 13"/>
          <p:cNvSpPr/>
          <p:nvPr/>
        </p:nvSpPr>
        <p:spPr>
          <a:xfrm rot="20427000">
            <a:off x="2410920" y="30686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1757160" y="501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5491080" y="506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3301920" y="303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218880" y="1100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4106880" y="117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5364000" y="476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OC≌△BO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5215680" y="9810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应边是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Line 22"/>
          <p:cNvSpPr/>
          <p:nvPr/>
        </p:nvSpPr>
        <p:spPr>
          <a:xfrm>
            <a:off x="6877080" y="1484280"/>
            <a:ext cx="1584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Line 23"/>
          <p:cNvSpPr/>
          <p:nvPr/>
        </p:nvSpPr>
        <p:spPr>
          <a:xfrm>
            <a:off x="5508720" y="1989000"/>
            <a:ext cx="288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5957640" y="2205000"/>
            <a:ext cx="24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∠A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Line 25"/>
          <p:cNvSpPr/>
          <p:nvPr/>
        </p:nvSpPr>
        <p:spPr>
          <a:xfrm>
            <a:off x="6730920" y="3141720"/>
            <a:ext cx="2089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6327360" y="3284640"/>
            <a:ext cx="16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6877080" y="98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A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5543640" y="155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C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D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3092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BO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6732720" y="378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Line 31"/>
          <p:cNvSpPr/>
          <p:nvPr/>
        </p:nvSpPr>
        <p:spPr>
          <a:xfrm>
            <a:off x="6659640" y="4292640"/>
            <a:ext cx="180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6" name="Group 32"/>
          <p:cNvGrpSpPr/>
          <p:nvPr/>
        </p:nvGrpSpPr>
        <p:grpSpPr>
          <a:xfrm>
            <a:off x="252360" y="1125360"/>
            <a:ext cx="5724360" cy="4543920"/>
            <a:chOff x="252360" y="1125360"/>
            <a:chExt cx="5724360" cy="4543920"/>
          </a:xfrm>
        </p:grpSpPr>
        <p:sp>
          <p:nvSpPr>
            <p:cNvPr id="517" name="AutoShape 33"/>
            <p:cNvSpPr/>
            <p:nvPr/>
          </p:nvSpPr>
          <p:spPr>
            <a:xfrm rot="10792800">
              <a:off x="610560" y="162036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AutoShape 34"/>
            <p:cNvSpPr/>
            <p:nvPr/>
          </p:nvSpPr>
          <p:spPr>
            <a:xfrm rot="21581400">
              <a:off x="2162160" y="3408120"/>
              <a:ext cx="3429000" cy="177660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Text Box 35"/>
            <p:cNvSpPr/>
            <p:nvPr/>
          </p:nvSpPr>
          <p:spPr>
            <a:xfrm>
              <a:off x="1790640" y="5041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Text Box 36"/>
            <p:cNvSpPr/>
            <p:nvPr/>
          </p:nvSpPr>
          <p:spPr>
            <a:xfrm>
              <a:off x="5524560" y="5087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37"/>
            <p:cNvSpPr/>
            <p:nvPr/>
          </p:nvSpPr>
          <p:spPr>
            <a:xfrm>
              <a:off x="3335400" y="306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Text Box 38"/>
            <p:cNvSpPr/>
            <p:nvPr/>
          </p:nvSpPr>
          <p:spPr>
            <a:xfrm>
              <a:off x="252360" y="1125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Text Box 39"/>
            <p:cNvSpPr/>
            <p:nvPr/>
          </p:nvSpPr>
          <p:spPr>
            <a:xfrm>
              <a:off x="4140360" y="119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4" name="Text Box 40"/>
          <p:cNvSpPr/>
          <p:nvPr/>
        </p:nvSpPr>
        <p:spPr>
          <a:xfrm>
            <a:off x="455760" y="2924280"/>
            <a:ext cx="1277640" cy="122400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旋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5" name="Picture 43" descr="看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812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46"/>
          <p:cNvSpPr/>
          <p:nvPr/>
        </p:nvSpPr>
        <p:spPr>
          <a:xfrm>
            <a:off x="5003640" y="115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三角形关系：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/>
          <p:cNvSpPr/>
          <p:nvPr/>
        </p:nvSpPr>
        <p:spPr>
          <a:xfrm rot="21581400">
            <a:off x="546120" y="5954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AutoShape 3"/>
          <p:cNvSpPr/>
          <p:nvPr/>
        </p:nvSpPr>
        <p:spPr>
          <a:xfrm rot="21581400">
            <a:off x="545760" y="922320"/>
            <a:ext cx="3429000" cy="147168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 rot="21581400">
            <a:off x="547200" y="1303200"/>
            <a:ext cx="3429000" cy="107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 rot="21581400">
            <a:off x="547200" y="1608120"/>
            <a:ext cx="3429000" cy="7621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 rot="21581400">
            <a:off x="566280" y="1836720"/>
            <a:ext cx="3429000" cy="53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AutoShape 7"/>
          <p:cNvSpPr/>
          <p:nvPr/>
        </p:nvSpPr>
        <p:spPr>
          <a:xfrm rot="21581400">
            <a:off x="526680" y="2141640"/>
            <a:ext cx="3429000" cy="228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AutoShape 8"/>
          <p:cNvSpPr/>
          <p:nvPr/>
        </p:nvSpPr>
        <p:spPr>
          <a:xfrm flipV="1" rot="18600">
            <a:off x="565200" y="23860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AutoShape 9"/>
          <p:cNvSpPr/>
          <p:nvPr/>
        </p:nvSpPr>
        <p:spPr>
          <a:xfrm flipV="1" rot="18600">
            <a:off x="564840" y="2363760"/>
            <a:ext cx="3429000" cy="147168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AutoShape 10"/>
          <p:cNvSpPr/>
          <p:nvPr/>
        </p:nvSpPr>
        <p:spPr>
          <a:xfrm flipV="1" rot="18600">
            <a:off x="566280" y="2382840"/>
            <a:ext cx="3429000" cy="107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AutoShape 11"/>
          <p:cNvSpPr/>
          <p:nvPr/>
        </p:nvSpPr>
        <p:spPr>
          <a:xfrm flipV="1" rot="18600">
            <a:off x="566280" y="2386800"/>
            <a:ext cx="3429000" cy="7621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AutoShape 12"/>
          <p:cNvSpPr/>
          <p:nvPr/>
        </p:nvSpPr>
        <p:spPr>
          <a:xfrm flipV="1" rot="18600">
            <a:off x="585360" y="2388600"/>
            <a:ext cx="3429000" cy="53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AutoShape 13"/>
          <p:cNvSpPr/>
          <p:nvPr/>
        </p:nvSpPr>
        <p:spPr>
          <a:xfrm flipV="1" rot="18600">
            <a:off x="545760" y="2386800"/>
            <a:ext cx="3429000" cy="228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180720" y="2128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99744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1333440" y="11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1333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AutoShape 18"/>
          <p:cNvSpPr/>
          <p:nvPr/>
        </p:nvSpPr>
        <p:spPr>
          <a:xfrm>
            <a:off x="4427640" y="2349360"/>
            <a:ext cx="433440" cy="287640"/>
          </a:xfrm>
          <a:prstGeom prst="rightArrow">
            <a:avLst>
              <a:gd name="adj1" fmla="val 50000"/>
              <a:gd name="adj2" fmla="val 3767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AutoShape 19"/>
          <p:cNvSpPr/>
          <p:nvPr/>
        </p:nvSpPr>
        <p:spPr>
          <a:xfrm flipV="1" rot="18600">
            <a:off x="5219640" y="26020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AutoShape 20"/>
          <p:cNvSpPr/>
          <p:nvPr/>
        </p:nvSpPr>
        <p:spPr>
          <a:xfrm rot="21581400">
            <a:off x="5219640" y="42876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4788000" y="2492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4788000" y="184464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839016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85820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608616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5581800" y="11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27"/>
          <p:cNvSpPr/>
          <p:nvPr/>
        </p:nvSpPr>
        <p:spPr>
          <a:xfrm>
            <a:off x="2697480" y="450864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D≌△A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872280" y="5084640"/>
            <a:ext cx="52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边是　　　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边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29"/>
          <p:cNvSpPr/>
          <p:nvPr/>
        </p:nvSpPr>
        <p:spPr>
          <a:xfrm>
            <a:off x="699480" y="568008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⑵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Line 30"/>
          <p:cNvSpPr/>
          <p:nvPr/>
        </p:nvSpPr>
        <p:spPr>
          <a:xfrm>
            <a:off x="3059280" y="551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Line 31"/>
          <p:cNvSpPr/>
          <p:nvPr/>
        </p:nvSpPr>
        <p:spPr>
          <a:xfrm>
            <a:off x="6589800" y="551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Line 32"/>
          <p:cNvSpPr/>
          <p:nvPr/>
        </p:nvSpPr>
        <p:spPr>
          <a:xfrm>
            <a:off x="3635280" y="616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3206520" y="50846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6787800" y="4981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3767400" y="56800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C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156960" y="115920"/>
            <a:ext cx="4268880" cy="4542120"/>
            <a:chOff x="156960" y="115920"/>
            <a:chExt cx="4268880" cy="4542120"/>
          </a:xfrm>
        </p:grpSpPr>
        <p:sp>
          <p:nvSpPr>
            <p:cNvPr id="562" name="AutoShape 37"/>
            <p:cNvSpPr/>
            <p:nvPr/>
          </p:nvSpPr>
          <p:spPr>
            <a:xfrm rot="21581400">
              <a:off x="522360" y="59544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AutoShape 38"/>
            <p:cNvSpPr/>
            <p:nvPr/>
          </p:nvSpPr>
          <p:spPr>
            <a:xfrm flipV="1" rot="18600">
              <a:off x="541440" y="238608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Text Box 39"/>
            <p:cNvSpPr/>
            <p:nvPr/>
          </p:nvSpPr>
          <p:spPr>
            <a:xfrm>
              <a:off x="156960" y="2129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Text Box 40"/>
            <p:cNvSpPr/>
            <p:nvPr/>
          </p:nvSpPr>
          <p:spPr>
            <a:xfrm>
              <a:off x="397368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Text Box 41"/>
            <p:cNvSpPr/>
            <p:nvPr/>
          </p:nvSpPr>
          <p:spPr>
            <a:xfrm>
              <a:off x="1309680" y="115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42"/>
            <p:cNvSpPr/>
            <p:nvPr/>
          </p:nvSpPr>
          <p:spPr>
            <a:xfrm>
              <a:off x="1309680" y="407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8" name="Text Box 43"/>
          <p:cNvSpPr/>
          <p:nvPr/>
        </p:nvSpPr>
        <p:spPr>
          <a:xfrm>
            <a:off x="3192840" y="620640"/>
            <a:ext cx="1277640" cy="122400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翻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45"/>
          <p:cNvSpPr/>
          <p:nvPr/>
        </p:nvSpPr>
        <p:spPr>
          <a:xfrm>
            <a:off x="395280" y="4581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三角形关系：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75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25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75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905120" y="132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1" name="Group 7"/>
          <p:cNvGrpSpPr/>
          <p:nvPr/>
        </p:nvGrpSpPr>
        <p:grpSpPr>
          <a:xfrm>
            <a:off x="1115640" y="873000"/>
            <a:ext cx="2879640" cy="1176480"/>
            <a:chOff x="1115640" y="873000"/>
            <a:chExt cx="2879640" cy="1176480"/>
          </a:xfrm>
        </p:grpSpPr>
        <p:sp>
          <p:nvSpPr>
            <p:cNvPr id="572" name="Line 8"/>
            <p:cNvSpPr/>
            <p:nvPr/>
          </p:nvSpPr>
          <p:spPr>
            <a:xfrm>
              <a:off x="1116000" y="2040840"/>
              <a:ext cx="287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Line 9"/>
            <p:cNvSpPr/>
            <p:nvPr/>
          </p:nvSpPr>
          <p:spPr>
            <a:xfrm flipH="1">
              <a:off x="1115640" y="873000"/>
              <a:ext cx="199332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Line 10"/>
            <p:cNvSpPr/>
            <p:nvPr/>
          </p:nvSpPr>
          <p:spPr>
            <a:xfrm>
              <a:off x="3109320" y="873000"/>
              <a:ext cx="88596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5" name="Text Box 11"/>
          <p:cNvSpPr/>
          <p:nvPr/>
        </p:nvSpPr>
        <p:spPr>
          <a:xfrm>
            <a:off x="2916360" y="225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685800" y="2031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3857760" y="20001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7021440" y="1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788000" y="202572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8102880" y="1954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990720" y="528624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3124080" y="28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611280" y="585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1219320" y="47530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0" y="28177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已知△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C≌△DEF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对应边有：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_____;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应角有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;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214200" y="34653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E,B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F,A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2050920" y="447660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8" name="Group 26"/>
          <p:cNvGrpSpPr/>
          <p:nvPr/>
        </p:nvGrpSpPr>
        <p:grpSpPr>
          <a:xfrm>
            <a:off x="5219280" y="873000"/>
            <a:ext cx="2879640" cy="1176480"/>
            <a:chOff x="5219280" y="873000"/>
            <a:chExt cx="2879640" cy="1176480"/>
          </a:xfrm>
        </p:grpSpPr>
        <p:sp>
          <p:nvSpPr>
            <p:cNvPr id="589" name="Line 27"/>
            <p:cNvSpPr/>
            <p:nvPr/>
          </p:nvSpPr>
          <p:spPr>
            <a:xfrm>
              <a:off x="5219640" y="2040840"/>
              <a:ext cx="287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28"/>
            <p:cNvSpPr/>
            <p:nvPr/>
          </p:nvSpPr>
          <p:spPr>
            <a:xfrm flipH="1">
              <a:off x="5219280" y="873000"/>
              <a:ext cx="199332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29"/>
            <p:cNvSpPr/>
            <p:nvPr/>
          </p:nvSpPr>
          <p:spPr>
            <a:xfrm>
              <a:off x="7212960" y="873000"/>
              <a:ext cx="88596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2" name="Text Box 30"/>
          <p:cNvSpPr/>
          <p:nvPr/>
        </p:nvSpPr>
        <p:spPr>
          <a:xfrm>
            <a:off x="250920" y="5265720"/>
            <a:ext cx="73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同学们认真想一想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全等三角形的对应边与对应角之间有什么关系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2:44:1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1:28Z</dcterms:modified>
  <cp:revision>59</cp:revision>
  <dc:subject>www.12999.com</dc:subject>
  <dc:title>www.12999.com</dc:title>
</cp:coreProperties>
</file>