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06C-CF81-4287-9DAC-DD42ACBE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41B-DB03-4070-99B4-B7CE32EB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259AF-569A-4245-9789-FC7BBACD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D4415-F389-43BF-B467-5EE769C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7DB6D-B7F5-44FC-A032-E688AA11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7E76-3A02-4E41-9F17-55D9257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F7353-F57A-4C11-91FB-50D9576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DE77C-A93A-4D5B-9CD8-8A1CAA5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E463-2B3F-4CE8-BB36-C191BF6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9A39B-5999-4F5D-915D-0E28C303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F6D6D-71D1-4D43-8A10-AF9494F6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466-122C-4ED7-AB34-A27BC6BC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2F9-0914-41AD-ABE0-E9E1E985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1D5-F9A5-4D73-A604-0EF80E99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9F9-4A57-4765-A935-17F989D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F6DD-BD24-4601-BA66-B8D352A3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A032-AC77-45EB-8F44-4BB19940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BA8-F8B0-4310-A6DC-415980EC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9F62-F319-42FC-A3F6-96DDE4CD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632A-FFD9-4A3C-BCFE-0D61067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BF3-66B0-4899-ACD8-5AE00440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38DE-2659-456D-9369-40D9A22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78F4-CECF-41DA-AECA-83183EF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A04F-FA36-455F-9E59-AFE60821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40C9-3189-4617-B018-40ED953E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7B87-82E0-4D17-9564-F6E65248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84F5-24E7-426C-864E-D4A009C3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0C9F-C9D3-4544-B2BF-36629513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5419-61CD-4336-A585-E46A9B8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BB18-2262-4610-B591-E75B294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9E77-7EC6-43C3-86CE-9520787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2EA-8159-40E5-AE9F-E97DF02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AEEC-840D-4C1F-A983-0F823792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BAF5-56ED-47B8-898C-6DB6DA5B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9BFA-2711-4265-83CE-4C21A26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EEE8-30F2-4BFA-A90D-7408FD9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3988-4C16-456D-8DD1-15C7A7A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40C2-F03A-4359-88E1-2CD11A64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0954-C6FD-4243-AA48-7B7815BD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4BE9-5A87-43A4-B42A-7738F910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BBC3-7831-4B44-A913-4F67EE8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97D5-3247-480D-B584-9907F1D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38A-3414-4C13-8346-9083611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CABB-F37A-4A5E-B1AF-897FE6CB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937B-1EB7-4CB8-BC2B-28ED3AC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4450-AA46-464F-B583-91754B26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52B2-B844-447E-80FB-9EBAA61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955C-EE40-48D9-9D05-2FCE06C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2695-EEAE-4FFF-8FC3-8DB7D2A6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6B08-FD53-49E0-9FE7-458CA036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9407-E123-42ED-A28D-90C39CF9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774E-29C8-498A-94C9-C1790F2F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2FFF-11DC-469D-A430-A3C7DE78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28F-BF55-4942-93CC-D9F00697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EB5A-B6B7-41CE-B2D7-C10BA2B2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D24F-891B-496B-9AEC-B240B8D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2C6F-D5AE-408A-BD47-2DC260C9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A21D0-8BF9-4F3F-A8AE-A8F8A092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0AA9B-C4D2-4BE5-AB0E-B6427ABC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1CB1-25C9-4B58-B968-DAF7FDF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8445-6B61-47FA-B0A5-BA37875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3B13-AAEC-4914-89C0-1077170E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6082-2E39-464C-865E-E02E625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625E3-443C-4FD7-AEC6-66EAE084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9A3-F2FF-4186-B382-4037034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2604-1014-4D80-BE3A-704BA3E1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1785-22EB-4B1A-A142-B0232722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3F29-5FF7-45CF-80C4-7D6D8E28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4CE5D-A484-475A-8CBC-A1BB18B5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8DF3C-A846-4D33-9A92-F50141D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32B3-F3C3-4D25-A202-BB394CDE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A96F-0641-4770-B616-7E269E46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08FE1-7CAC-4A65-B53F-4D13044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EC7F-9968-4428-B34D-A4100E8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6963-4CD9-4F51-8F54-8A09B01C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9E4-90F4-45D8-91BD-C35BE0D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CE76-F640-42F9-A5AE-5634F49C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4D9D-42FA-459E-9008-9B22FAB7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A187-49B2-47F4-861B-A7F613DF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A6A4-8255-4A11-AF2A-510FC092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4D4A-2A31-4443-A53E-E66CE26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1999-34CC-4857-8AC3-336DBDF0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B932-76E8-419E-BF74-0BAED3B4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C19D-5750-48F8-B4A4-ED58DDA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663F-8CA5-4E97-8648-A207B19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F935-3FF6-4561-AA4B-1D2EC07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092-349D-4B65-9412-89EC53E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D5C6-1C13-4DC5-B8E6-D55D4219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24FF-0F65-46DE-B591-A6143EF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2E20-72D4-456C-A371-14C3010C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9B44-D153-4C98-9E38-D8D202A9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50DC-7D3D-429C-8560-A9D24E5C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42F8D-1E55-494E-8ACA-8919FCEF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D736-ED46-47C7-A943-77358C44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7448A-64A5-45F2-B79E-6487C0B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996C-82C5-4629-AD46-84574AF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F8075-F695-437C-9186-CE0A085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E4D-8D37-4EA0-9186-15477C03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B028B-B490-4951-9936-FE5CEC1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8C8E0-F633-45E5-8E34-BAD8BF1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2FFF-43AF-4A9F-AE5C-9DA56AA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271D9-639D-481F-8B3F-CD0E2D5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CE79B-7AA8-4294-8E08-C545FF4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79E03-A88E-45F9-94BF-78EBEBB8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4B7F-20F1-4F4B-B8A3-8D08C575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81C0-50D9-43EB-B6C9-C84F9D3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28233-5B4D-4AAF-AB4E-BC912966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AA1DD-96A4-41A4-97A2-B9CEA36B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9C8-A102-4443-8EDD-7CC1AC915A9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6FC1-A7CD-4B10-9098-90FF538C6DE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BCA-98D2-40E3-8FD7-AF94D3B3AB7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0DB-DF5B-40A7-926F-E6AA5151BD9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1E71-6CBC-4D72-8869-956FAA81EEA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6ACF-3663-4531-8163-8938FCB5EC2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EEE-34F3-41B1-A0A5-96ECA9C6CE8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41A7-5101-412F-BAE0-ACB6079042F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AABC-98A9-42DC-B3AD-D73F4E9E2D2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547640" y="1844640"/>
            <a:ext cx="61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611280" y="620640"/>
            <a:ext cx="367344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611280" y="620640"/>
            <a:ext cx="0" cy="352908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2" name="Picture 14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28195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82560" y="1341360"/>
            <a:ext cx="7705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ΔDEF≌ΔABC, ∠A=70°,∠B=5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对应点是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,AB=DE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么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度数等于（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50°   B.60°   C.50° 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都不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611280" y="4221000"/>
            <a:ext cx="83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=70°,∠B=5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知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∠C=6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Δ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不等边三角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对应点是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,AB=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知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∠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对应角是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(60°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2270520" y="3255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1f1f"/>
                </a:solidFill>
                <a:latin typeface="Arial"/>
                <a:ea typeface="宋体"/>
              </a:rPr>
              <a:t>B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51445E-007 L 0.48038 -0.08393 E">
                                      <p:cBhvr>
                                        <p:cTn id="24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11280" y="1268280"/>
            <a:ext cx="80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2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如图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若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ΔOAD≌ΔOBC,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且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=65°,∠C=20°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则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AD=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6" name="Picture 7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2880000" cy="23493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8"/>
          <p:cNvSpPr/>
          <p:nvPr/>
        </p:nvSpPr>
        <p:spPr>
          <a:xfrm>
            <a:off x="4284720" y="2997360"/>
            <a:ext cx="43196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分析：由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=65°,∠C=20°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知道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, ∠OBC=95 °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， 由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ΔOAD≌ΔOBC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知： 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AD=95 °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6927840" y="2060640"/>
            <a:ext cx="9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1f1f"/>
                </a:solidFill>
                <a:latin typeface="Arial"/>
                <a:ea typeface="宋体"/>
              </a:rPr>
              <a:t>95 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4356000" y="4076640"/>
            <a:ext cx="44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分析：由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ΔABC≌ΔAEF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和 ∠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B=∠E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知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AC=AF.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所以①是正确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1796040" y="19018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①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AC=AF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3" name="Picture 9" descr=""/>
          <p:cNvPicPr/>
          <p:nvPr/>
        </p:nvPicPr>
        <p:blipFill>
          <a:blip r:embed="rId1"/>
          <a:stretch/>
        </p:blipFill>
        <p:spPr>
          <a:xfrm>
            <a:off x="1042920" y="3960720"/>
            <a:ext cx="295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4788000" y="3933720"/>
            <a:ext cx="352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B=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C=A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F=BC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③是正确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6404760" y="190188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③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EF=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1042920" y="3960720"/>
            <a:ext cx="295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4930920" y="3716280"/>
            <a:ext cx="352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F=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∠BAC =∠EAF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④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C=∠EAB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④是正确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268560" y="25462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 ∠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FAC=∠E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1"/>
          <a:stretch/>
        </p:blipFill>
        <p:spPr>
          <a:xfrm>
            <a:off x="1042920" y="3960720"/>
            <a:ext cx="295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755640" y="3960720"/>
            <a:ext cx="2952720" cy="2082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8"/>
          <p:cNvSpPr/>
          <p:nvPr/>
        </p:nvSpPr>
        <p:spPr>
          <a:xfrm>
            <a:off x="3708360" y="3895560"/>
            <a:ext cx="52927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因为④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FAC=∠EAB 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要使②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FAB=∠EAB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正确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必须有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FAC= ∠FAB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而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AF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并不是角平分线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所以②不正确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809880" y="3173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1f1f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7 0.0007 L 0.35452 -0.09921 E">
                                      <p:cBhvr>
                                        <p:cTn id="372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755640" y="1203480"/>
            <a:ext cx="7272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FED, BC=E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AB∥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240000" cy="265608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863640" y="2565360"/>
            <a:ext cx="50767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∵ΔABC≌ΔFED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=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=∠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                          )  ∴ AB∥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826920" y="5805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上述证明过程补充完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1655640" y="4221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66400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1022400" y="47116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d1f1f"/>
                </a:solidFill>
                <a:latin typeface="Arial"/>
                <a:ea typeface="宋体"/>
              </a:rPr>
              <a:t>全等三角形的对应角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755640" y="1203480"/>
            <a:ext cx="7272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D≌ΔAEC, ∠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试说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BC=DE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484440" cy="17542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8"/>
          <p:cNvSpPr/>
          <p:nvPr/>
        </p:nvSpPr>
        <p:spPr>
          <a:xfrm>
            <a:off x="3924360" y="2349360"/>
            <a:ext cx="48956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D≌ΔAE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并且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又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=E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=E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=DE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755640" y="1203480"/>
            <a:ext cx="7848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顺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到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E,∠CA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7"/>
          <p:cNvSpPr/>
          <p:nvPr/>
        </p:nvSpPr>
        <p:spPr>
          <a:xfrm>
            <a:off x="4211640" y="2502000"/>
            <a:ext cx="446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后的位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E=∠CAF= 55°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∠E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顶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ME= ∠BAE= 55°;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5" name="Picture 8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016000" cy="19782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"/>
          <p:cNvSpPr/>
          <p:nvPr/>
        </p:nvSpPr>
        <p:spPr>
          <a:xfrm>
            <a:off x="2195640" y="49417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+∠B=∠C+∠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755640" y="1203480"/>
            <a:ext cx="7632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E≌ΔACD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且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=∠2, ∠B=∠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指出其余的对应边和对应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095640" cy="2428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80000" y="2492280"/>
            <a:ext cx="4968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BE≌Δ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及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, ∠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∠ B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应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“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对应角的对边是对应边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可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,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,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对应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75564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情境导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4" name="Picture 4" descr="1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395280" y="134136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观察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55640" y="1203480"/>
            <a:ext cx="76327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DEF, Δ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,m,n, ΔDE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,p,q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边均为整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+n+p+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最大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826920" y="3068640"/>
            <a:ext cx="777744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∵ΔABC≌ΔDEF 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全等三角形对应边相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m=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=5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妨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=5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, ∵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整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∴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最大值等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应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分别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, ∴ m+n+p+q=5+7+3+7=22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Box 1"/>
          <p:cNvSpPr/>
          <p:nvPr/>
        </p:nvSpPr>
        <p:spPr>
          <a:xfrm>
            <a:off x="250920" y="263700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1102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1b1102"/>
                </a:solidFill>
                <a:latin typeface="Arial"/>
                <a:ea typeface="宋体"/>
              </a:rPr>
              <a:t>今天学了三角形的那些性质。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1102"/>
                </a:solidFill>
                <a:latin typeface="Arial"/>
                <a:ea typeface="宋体"/>
              </a:rPr>
              <a:t>2.</a:t>
            </a:r>
            <a:r>
              <a:rPr b="1" lang="zh-CN" sz="4400" spc="-1" strike="noStrike">
                <a:solidFill>
                  <a:srgbClr val="1b1102"/>
                </a:solidFill>
                <a:latin typeface="Arial"/>
                <a:ea typeface="宋体"/>
              </a:rPr>
              <a:t>如何找全等三角形的对应边和对应角。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539640" y="112536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课后小结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826920" y="148428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作业布置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Box 2"/>
          <p:cNvSpPr/>
          <p:nvPr/>
        </p:nvSpPr>
        <p:spPr>
          <a:xfrm>
            <a:off x="684360" y="2637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0f0b"/>
                </a:solidFill>
                <a:latin typeface="Arial"/>
                <a:ea typeface="宋体"/>
              </a:rPr>
              <a:t>习题</a:t>
            </a:r>
            <a:r>
              <a:rPr b="0" lang="en-US" sz="4400" spc="-1" strike="noStrike">
                <a:solidFill>
                  <a:srgbClr val="110f0b"/>
                </a:solidFill>
                <a:latin typeface="Arial"/>
                <a:ea typeface="宋体"/>
              </a:rPr>
              <a:t>11.1    2</a:t>
            </a:r>
            <a:r>
              <a:rPr b="0" lang="zh-CN" sz="4400" spc="-1" strike="noStrike">
                <a:solidFill>
                  <a:srgbClr val="110f0b"/>
                </a:solidFill>
                <a:latin typeface="Arial"/>
                <a:ea typeface="宋体"/>
              </a:rPr>
              <a:t>、</a:t>
            </a:r>
            <a:r>
              <a:rPr b="0" lang="en-US" sz="4400" spc="-1" strike="noStrike">
                <a:solidFill>
                  <a:srgbClr val="110f0b"/>
                </a:solidFill>
                <a:latin typeface="Arial"/>
                <a:ea typeface="宋体"/>
              </a:rPr>
              <a:t>3</a:t>
            </a:r>
            <a:r>
              <a:rPr b="0" lang="zh-CN" sz="4400" spc="-1" strike="noStrike">
                <a:solidFill>
                  <a:srgbClr val="110f0b"/>
                </a:solidFill>
                <a:latin typeface="Arial"/>
                <a:ea typeface="宋体"/>
              </a:rPr>
              <a:t>、</a:t>
            </a:r>
            <a:r>
              <a:rPr b="0" lang="en-US" sz="4400" spc="-1" strike="noStrike">
                <a:solidFill>
                  <a:srgbClr val="110f0b"/>
                </a:solidFill>
                <a:latin typeface="Arial"/>
                <a:ea typeface="宋体"/>
              </a:rPr>
              <a:t>4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611280" y="9810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e3b30"/>
                </a:solidFill>
                <a:latin typeface="Arial"/>
                <a:ea typeface="宋体"/>
              </a:rPr>
              <a:t>知识梳理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973080" y="278748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全等形与全等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图形叫做全等形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三角形叫做全等三角形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4802040" y="969840"/>
            <a:ext cx="1514520" cy="1667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2"/>
          <a:stretch/>
        </p:blipFill>
        <p:spPr>
          <a:xfrm>
            <a:off x="7077240" y="663480"/>
            <a:ext cx="1514160" cy="1666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3"/>
          <a:stretch/>
        </p:blipFill>
        <p:spPr>
          <a:xfrm>
            <a:off x="7078680" y="665280"/>
            <a:ext cx="1514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1676E-006 L -0.24827 0.04624 E">
                                      <p:cBhvr>
                                        <p:cTn id="3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几种常见的全等三角形基本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3889440" cy="1562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8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200400" cy="1836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9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879640" cy="234324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3"/>
          <p:cNvGrpSpPr/>
          <p:nvPr/>
        </p:nvGrpSpPr>
        <p:grpSpPr>
          <a:xfrm>
            <a:off x="6012000" y="1700280"/>
            <a:ext cx="2305080" cy="2089080"/>
            <a:chOff x="6012000" y="1700280"/>
            <a:chExt cx="2305080" cy="2089080"/>
          </a:xfrm>
        </p:grpSpPr>
        <p:sp>
          <p:nvSpPr>
            <p:cNvPr id="416" name="AutoShape 20"/>
            <p:cNvSpPr/>
            <p:nvPr/>
          </p:nvSpPr>
          <p:spPr>
            <a:xfrm>
              <a:off x="6012000" y="1700280"/>
              <a:ext cx="2305080" cy="2089080"/>
            </a:xfrm>
            <a:prstGeom prst="irregularSeal2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Text Box 21"/>
            <p:cNvSpPr/>
            <p:nvPr/>
          </p:nvSpPr>
          <p:spPr>
            <a:xfrm>
              <a:off x="6515280" y="2421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d1f1f"/>
                  </a:solidFill>
                  <a:latin typeface="Arial"/>
                  <a:ea typeface="宋体"/>
                </a:rPr>
                <a:t>平移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几种常见的全等三角形基本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2879640" cy="2460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024000" cy="21985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7"/>
          <p:cNvGrpSpPr/>
          <p:nvPr/>
        </p:nvGrpSpPr>
        <p:grpSpPr>
          <a:xfrm>
            <a:off x="3276720" y="4508640"/>
            <a:ext cx="2305080" cy="2089080"/>
            <a:chOff x="3276720" y="4508640"/>
            <a:chExt cx="2305080" cy="2089080"/>
          </a:xfrm>
        </p:grpSpPr>
        <p:sp>
          <p:nvSpPr>
            <p:cNvPr id="422" name="AutoShape 8"/>
            <p:cNvSpPr/>
            <p:nvPr/>
          </p:nvSpPr>
          <p:spPr>
            <a:xfrm>
              <a:off x="3276720" y="4508640"/>
              <a:ext cx="2305080" cy="2089080"/>
            </a:xfrm>
            <a:prstGeom prst="irregularSeal2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Text Box 9"/>
            <p:cNvSpPr/>
            <p:nvPr/>
          </p:nvSpPr>
          <p:spPr>
            <a:xfrm>
              <a:off x="3780000" y="5229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d1f1f"/>
                  </a:solidFill>
                  <a:latin typeface="Arial"/>
                  <a:ea typeface="宋体"/>
                </a:rPr>
                <a:t>旋转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几种常见的全等三角形基本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3203640" y="3938760"/>
            <a:ext cx="2773440" cy="1800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625320" y="3406680"/>
            <a:ext cx="2105280" cy="2641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3"/>
          <a:stretch/>
        </p:blipFill>
        <p:spPr>
          <a:xfrm>
            <a:off x="6443640" y="3813120"/>
            <a:ext cx="2160720" cy="177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4"/>
          <a:stretch/>
        </p:blipFill>
        <p:spPr>
          <a:xfrm>
            <a:off x="1187280" y="1415880"/>
            <a:ext cx="2338560" cy="2084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5"/>
          <a:stretch/>
        </p:blipFill>
        <p:spPr>
          <a:xfrm>
            <a:off x="4140360" y="1525680"/>
            <a:ext cx="2376360" cy="211932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10"/>
          <p:cNvGrpSpPr/>
          <p:nvPr/>
        </p:nvGrpSpPr>
        <p:grpSpPr>
          <a:xfrm>
            <a:off x="6515280" y="1413000"/>
            <a:ext cx="2304720" cy="2089080"/>
            <a:chOff x="6515280" y="1413000"/>
            <a:chExt cx="2304720" cy="2089080"/>
          </a:xfrm>
        </p:grpSpPr>
        <p:sp>
          <p:nvSpPr>
            <p:cNvPr id="431" name="AutoShape 11"/>
            <p:cNvSpPr/>
            <p:nvPr/>
          </p:nvSpPr>
          <p:spPr>
            <a:xfrm>
              <a:off x="6515280" y="1413000"/>
              <a:ext cx="2304720" cy="2089080"/>
            </a:xfrm>
            <a:prstGeom prst="irregularSeal2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7018200" y="213372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d1f1f"/>
                  </a:solidFill>
                  <a:latin typeface="Arial"/>
                  <a:ea typeface="宋体"/>
                </a:rPr>
                <a:t>对折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4"/>
          <p:cNvSpPr/>
          <p:nvPr/>
        </p:nvSpPr>
        <p:spPr>
          <a:xfrm>
            <a:off x="53964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全等三角形的对应边、对应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5564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把两个全等三角形重合在一起，重合的边叫做对应边，重合的角叫做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755640" y="263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在两个全等三角形中，对应角的对边是对应边，对应边的对角是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755640" y="3716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在两个全等三角形中，公共角是对应角，公共边是对应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755640" y="479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在两个全等三角形中（不等边），相等的边是对应边，相等的角是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全等三角形的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755640" y="191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的对应边相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755640" y="308772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的对应角相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395280" y="765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全等三角形的表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826920" y="1376280"/>
            <a:ext cx="3200400" cy="183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521080" cy="1843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187280" y="3790800"/>
            <a:ext cx="2178360" cy="18702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1044720" y="3141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ΔABC≌ΔD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4211640" y="765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：读作“全等于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5437080" y="31258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ΔABC≌ΔA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826920" y="5516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ΔABC≌ΔEC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4427640" y="4221000"/>
            <a:ext cx="3744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点：对应顶点的字母写在对应的位置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0:53:07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1:36Z</dcterms:modified>
  <cp:revision>48</cp:revision>
  <dc:subject>www.12999.com</dc:subject>
  <dc:title>www.12999.com</dc:title>
</cp:coreProperties>
</file>