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13.png" ContentType="image/png"/>
  <Override PartName="/ppt/media/image9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28.wmf" ContentType="image/x-wmf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4BF-FEF7-4B0A-90FE-7AB812DC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F90-8868-4E17-9DBE-1A017F9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D8CF3-2C40-43CE-B2D0-7A7C1C09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38D88-8E29-4706-8DB0-211390FB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6557C-CE42-427A-BA46-61E8E16E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E2319-D8FA-4CBA-AAF9-F5F3D9A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D1CA1-B4FD-4C92-9D80-F607DA51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05CE5-EDE8-4C17-91AB-5B1742C7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A0DFD-CD43-4659-86FB-2ACF9CED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369C6-9D53-412A-88AD-AEA05776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EA486-C860-4525-B10D-98CEEF1A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3FE-D7FE-43EE-92B0-47594315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EA0-291C-41CC-B69F-3622F5D5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6460-D614-41BE-A9B5-9655BC70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D127-9DE1-4026-8F85-F21C2B94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6076-8246-49D3-B5F6-31C1B2ED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AB9C-B5EC-4132-852E-B4DEA625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307A-8C51-41B6-B001-1E55F209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9E37-84F0-4053-B0D4-FB0413D8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D5EC-61B1-4802-951F-E5DDB355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60F-96E1-4597-AB81-799332E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968A-AFF9-4A45-922D-3ECDC26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C322-180F-4BF7-8EE7-45254D99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8FED-38A0-4D95-B40D-D5496ACC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9A6A-FEE9-41E0-ABA4-A1A99064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9764-42EB-469A-BEE3-77887A74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1B86-DD72-47A9-AE5B-4CA5640C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F090-4F83-4ADB-870E-1A6AA82D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711E-5872-4951-ADE3-88DCC105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73E4-C1AE-4946-A35F-860F4919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4A14-E7D5-47C6-9784-D0942E83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EBA-B264-40B8-9ADE-A10C350F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B10A-ABBB-4A79-A676-D9E06631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AF47-E17D-4D1F-A8D5-D243D5BD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B9CB-176F-4727-AD59-5484DCC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361A-8841-418B-91BB-AB7A8BE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683C-2369-4BA6-A0C9-F7154EB5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77C8-7DEA-444A-B550-8DF32D2E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F10E-3D88-4F50-8CF3-0BBDD48E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F998F-41D1-4B68-8EC1-55C75D49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E7CEE-FFA4-4DC9-AC2D-3AE03607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F552-F853-4D38-A6FB-FB979C47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AD3-6C37-4A86-9B34-006BEF3B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61BA-0F10-468C-A3A3-5D94B590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C078-2D8B-4BD4-87FE-E8D3AEB4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8D777-5947-4BE4-B760-B4AE4051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AFC43-6583-4155-8615-D25A197D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6D84-4324-4951-930E-B9954A51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F17E3-5A68-46C1-AD2C-81F6FF2B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B02A-51B9-441F-B8ED-EB158925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881D-7F20-4F5D-B999-981E22EF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BD6E5-DD8B-4960-B80B-7BB19E76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9DABC-AFD3-4505-A7A0-2CA63E0F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D8C-10C9-4DC3-90EA-2FF4A904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E5C8E-8F4B-4442-9F26-2EAD65B6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C5FA3-5EE7-4E52-92BD-2985A59B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4F735-2EEB-45E4-8682-91064F51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E7D32-D66E-4447-B23C-A44163F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3A7F-BB6B-4676-BE7A-19ABC88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8570-3325-4DB6-BFEC-A9A49923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229E4-2532-4256-9289-8DEDD77B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35159-A99D-4877-946D-0D3A0A81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71AB1-DE90-46E2-A94A-1102E3D6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76BCE-5941-497D-BF9F-425C739E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90F-6EC8-46EA-88AD-8FD22BE5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FD461-327F-4871-9D66-C7CFA9AF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DB280-AE79-4FBA-A9D0-196A5894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9FB7-F7C9-40FB-98D3-2E888C8E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5DA50-FD4C-478F-A237-E72C61B9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5F68-B1CD-40C3-BDC5-FDAA00AA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754CC-D079-487B-B5FF-57F8651E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57F0-8B29-451E-BD36-46F3225E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F75F1-5728-439E-8A56-73F1FF68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22F9E-7518-4766-BA7C-B42B6222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47C0-F475-4951-8B5C-094CC22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D14-A57E-4008-A701-AB5BCC8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B9FBA-71A0-40F6-BA80-C26B47AD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27129-4A41-4199-A540-978AE0BD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7F27-803C-4EB4-BA62-A6714183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9A63F-9E1C-48D6-A75A-ADA161B4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9DA69-DF3B-472B-9EB5-2619C517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DD23-1802-4666-8A95-6FAE76B9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B2065-EFDF-4A17-8F4F-F3B7F76F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660D6-E991-4CE6-870D-792D41D3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2838-7424-47E3-84FE-9156C8F9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04BD8-47AB-45A4-A839-2EBD373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A4C-F339-4905-94D4-FB824AD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50AB0-634E-41DC-9C35-B10F20D2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0E54D-3E33-4773-A0E7-65474723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60C6-295D-4295-BD06-A159FB3C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2C55-CDA1-432A-A57B-7518934D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133C-CBF6-4D91-B463-23107813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F532-3431-443D-BE58-212BF783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F6617-F2B2-419A-A462-47833123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A4593-4A0A-4C97-9C28-E80BE692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DFFB7-3B16-47C3-AB62-89F7C942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7516-27EA-4FAD-B688-47805CFD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42C-591C-4B1C-848F-15470EEC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E2EE8-5DFE-458A-B83D-A3225600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77519-5730-4006-9698-03B58D2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8C8B1-33AB-4900-9376-2B9D9415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D2F82-BC98-4275-8826-EA5628C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7196-546A-4491-8428-A5FD071C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8EAF8-589B-4E99-A9E0-634660A7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8BBF1-77D5-40A1-ADB1-6DA2C470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0759A-13CE-4E10-9C02-520DB3D8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F81D4-CFA8-44C4-8F8C-177CC83F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73801-D0E3-47BE-B916-6E7D2803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6314-18AE-4638-B921-5525E1D8601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9164-7391-4B41-8A06-5680C13B2B7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23E9-69DE-473E-8ED3-7D63D495BB4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A28B-3E2C-4F5B-8DE6-4EDD5B6A7E3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D4B-962D-42AC-B1D0-5D6863082B3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65C2-7102-45A2-9B34-C7CA9B331F2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9E33-9A29-492C-A1EA-3CC7C411B71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E38-961E-40F9-870D-0CEB80F406B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48D3-3502-4A5E-B825-7E1C76B7125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3"/>
          <p:cNvSpPr txBox="1"/>
          <p:nvPr/>
        </p:nvSpPr>
        <p:spPr>
          <a:xfrm>
            <a:off x="1116000" y="1557360"/>
            <a:ext cx="6324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全等三角形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911160" y="712800"/>
            <a:ext cx="60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新魏"/>
              </a:rPr>
              <a:t>人教版八年级上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2133720" y="19810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108000" y="3429000"/>
            <a:ext cx="878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全等三角形的性质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全等三角形对应边相等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全等三角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对应角相等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1" name="Picture 4" descr="未命名1"/>
          <p:cNvPicPr/>
          <p:nvPr/>
        </p:nvPicPr>
        <p:blipFill>
          <a:blip r:embed="rId1"/>
          <a:stretch/>
        </p:blipFill>
        <p:spPr>
          <a:xfrm>
            <a:off x="974880" y="476280"/>
            <a:ext cx="2733480" cy="2619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未命名1"/>
          <p:cNvPicPr/>
          <p:nvPr/>
        </p:nvPicPr>
        <p:blipFill>
          <a:blip r:embed="rId2"/>
          <a:stretch/>
        </p:blipFill>
        <p:spPr>
          <a:xfrm>
            <a:off x="4665600" y="770040"/>
            <a:ext cx="2714760" cy="2371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未命名1"/>
          <p:cNvPicPr/>
          <p:nvPr/>
        </p:nvPicPr>
        <p:blipFill>
          <a:blip r:embed="rId3"/>
          <a:stretch/>
        </p:blipFill>
        <p:spPr>
          <a:xfrm>
            <a:off x="971640" y="476280"/>
            <a:ext cx="2733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20231E-007 L 0.40156 -5.20231E-007 E">
                                      <p:cBhvr>
                                        <p:cTn id="191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533520" y="157176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685800" y="5335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1"/>
          <a:stretch/>
        </p:blipFill>
        <p:spPr>
          <a:xfrm>
            <a:off x="971640" y="1270080"/>
            <a:ext cx="2879640" cy="1765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"/>
          <p:cNvPicPr/>
          <p:nvPr/>
        </p:nvPicPr>
        <p:blipFill>
          <a:blip r:embed="rId2"/>
          <a:stretch/>
        </p:blipFill>
        <p:spPr>
          <a:xfrm>
            <a:off x="4788000" y="1270080"/>
            <a:ext cx="2857320" cy="17668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6"/>
          <p:cNvSpPr/>
          <p:nvPr/>
        </p:nvSpPr>
        <p:spPr>
          <a:xfrm>
            <a:off x="1116000" y="3286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如图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∵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 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BC≌△D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2268360" y="494172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=∠D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B=∠E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C=∠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2268360" y="45100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全等三角形的对应边相等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2268360" y="5518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全等三角形的对应角相等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2124000" y="3933720"/>
            <a:ext cx="56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∴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A B=D E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A C=D F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BC= E 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-28440" y="1628640"/>
            <a:ext cx="69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如图，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≌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E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8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求出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E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内角的度数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04" name="WordArt 3" descr="weave"/>
          <p:cNvPicPr/>
          <p:nvPr/>
        </p:nvPicPr>
        <p:blipFill>
          <a:blip r:embed="rId1"/>
          <a:stretch/>
        </p:blipFill>
        <p:spPr>
          <a:xfrm>
            <a:off x="158760" y="603360"/>
            <a:ext cx="5052960" cy="664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未命名1"/>
          <p:cNvPicPr/>
          <p:nvPr/>
        </p:nvPicPr>
        <p:blipFill>
          <a:blip r:embed="rId2"/>
          <a:stretch/>
        </p:blipFill>
        <p:spPr>
          <a:xfrm>
            <a:off x="5724360" y="1413000"/>
            <a:ext cx="3476880" cy="20764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468360" y="3213000"/>
            <a:ext cx="59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：∵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≌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E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1187280" y="37180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∴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E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8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116000" y="42940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           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18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°= 6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1609200" y="5445000"/>
            <a:ext cx="59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答：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E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内角的度数分别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466560" y="1557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如图是一个等边三角形，你能利用折纸的方法把它分成两个全等的三角形吗？你能把它分成三个，四个全等的三角形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11" name="WordArt 3" descr="weave"/>
          <p:cNvPicPr/>
          <p:nvPr/>
        </p:nvPicPr>
        <p:blipFill>
          <a:blip r:embed="rId1"/>
          <a:stretch/>
        </p:blipFill>
        <p:spPr>
          <a:xfrm>
            <a:off x="231840" y="676440"/>
            <a:ext cx="5052960" cy="66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未命名1"/>
          <p:cNvPicPr/>
          <p:nvPr/>
        </p:nvPicPr>
        <p:blipFill>
          <a:blip r:embed="rId2"/>
          <a:stretch/>
        </p:blipFill>
        <p:spPr>
          <a:xfrm>
            <a:off x="468360" y="3070080"/>
            <a:ext cx="2287440" cy="2374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未命名1"/>
          <p:cNvPicPr/>
          <p:nvPr/>
        </p:nvPicPr>
        <p:blipFill>
          <a:blip r:embed="rId3"/>
          <a:stretch/>
        </p:blipFill>
        <p:spPr>
          <a:xfrm>
            <a:off x="5724360" y="3070080"/>
            <a:ext cx="2187720" cy="2273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未命名1"/>
          <p:cNvPicPr/>
          <p:nvPr/>
        </p:nvPicPr>
        <p:blipFill>
          <a:blip r:embed="rId4"/>
          <a:stretch/>
        </p:blipFill>
        <p:spPr>
          <a:xfrm>
            <a:off x="3132000" y="3141720"/>
            <a:ext cx="2232000" cy="23270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未命名1"/>
          <p:cNvPicPr/>
          <p:nvPr/>
        </p:nvPicPr>
        <p:blipFill>
          <a:blip r:embed="rId5"/>
          <a:stretch/>
        </p:blipFill>
        <p:spPr>
          <a:xfrm>
            <a:off x="6443640" y="907920"/>
            <a:ext cx="2438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7" descr="未命名1"/>
          <p:cNvPicPr/>
          <p:nvPr/>
        </p:nvPicPr>
        <p:blipFill>
          <a:blip r:embed="rId1"/>
          <a:stretch/>
        </p:blipFill>
        <p:spPr>
          <a:xfrm>
            <a:off x="5796000" y="981000"/>
            <a:ext cx="2828880" cy="217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7" name="Object 2"/>
              <p:cNvSpPr txBox="1"/>
              <p:nvPr/>
            </p:nvSpPr>
            <p:spPr>
              <a:xfrm>
                <a:off x="6210360" y="3851280"/>
                <a:ext cx="114120" cy="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8" name="Text Box 3"/>
          <p:cNvSpPr/>
          <p:nvPr/>
        </p:nvSpPr>
        <p:spPr>
          <a:xfrm>
            <a:off x="468360" y="1341360"/>
            <a:ext cx="66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图所示，已知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D≌△AC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请找出对应边及对应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19" name="WordArt 4" descr="weave"/>
          <p:cNvPicPr/>
          <p:nvPr/>
        </p:nvPicPr>
        <p:blipFill>
          <a:blip r:embed="rId2"/>
          <a:stretch/>
        </p:blipFill>
        <p:spPr>
          <a:xfrm>
            <a:off x="231840" y="530280"/>
            <a:ext cx="4833720" cy="6699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395280" y="328608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图：已知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BC≌△D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对应顶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B=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EF=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E=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若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=7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=3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EF=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F=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21" name="Picture 6" descr="未命名1"/>
          <p:cNvPicPr/>
          <p:nvPr/>
        </p:nvPicPr>
        <p:blipFill>
          <a:blip r:embed="rId3"/>
          <a:stretch/>
        </p:blipFill>
        <p:spPr>
          <a:xfrm>
            <a:off x="6227640" y="3284640"/>
            <a:ext cx="29163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403280" y="1125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通过本节课的学习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你有什么收获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1619280" y="1197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-206640" y="3213000"/>
            <a:ext cx="10335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468360" y="233352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全等形的定义：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能够完全重合的两个图形叫做全等形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042920" y="292428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能够完全重合的两个三角形叫做全等三角形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971640" y="3429000"/>
            <a:ext cx="907416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表示方法：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△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ABC≌△D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对应点要写在对应的位置上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)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042920" y="4508640"/>
            <a:ext cx="68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性质：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对应边相等，对应角相等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971640" y="5013360"/>
            <a:ext cx="68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会用全等三角形的性质解决简单的问题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0" name="Group 10"/>
          <p:cNvGrpSpPr/>
          <p:nvPr/>
        </p:nvGrpSpPr>
        <p:grpSpPr>
          <a:xfrm>
            <a:off x="-283320" y="477720"/>
            <a:ext cx="1542240" cy="1557360"/>
            <a:chOff x="-283320" y="477720"/>
            <a:chExt cx="1542240" cy="1557360"/>
          </a:xfrm>
        </p:grpSpPr>
        <p:sp>
          <p:nvSpPr>
            <p:cNvPr id="631" name="AutoShape 11"/>
            <p:cNvSpPr/>
            <p:nvPr/>
          </p:nvSpPr>
          <p:spPr>
            <a:xfrm>
              <a:off x="108000" y="477720"/>
              <a:ext cx="1150920" cy="1557360"/>
            </a:xfrm>
            <a:prstGeom prst="verticalScroll">
              <a:avLst>
                <a:gd name="adj" fmla="val 1250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2" name="Text Box 12"/>
            <p:cNvSpPr/>
            <p:nvPr/>
          </p:nvSpPr>
          <p:spPr>
            <a:xfrm>
              <a:off x="-283320" y="693720"/>
              <a:ext cx="1399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小结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3" name="AutoShape 13"/>
          <p:cNvSpPr/>
          <p:nvPr/>
        </p:nvSpPr>
        <p:spPr>
          <a:xfrm>
            <a:off x="826920" y="3141720"/>
            <a:ext cx="287640" cy="2158920"/>
          </a:xfrm>
          <a:custGeom>
            <a:avLst/>
            <a:gdLst>
              <a:gd name="textAreaLeft" fmla="*/ 183960 w 287640"/>
              <a:gd name="textAreaRight" fmla="*/ 288000 w 28764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6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468360" y="206208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做题：教科书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.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复习巩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题 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运用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题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做题：教科书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拓广探索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5" name="WordArt 3" descr="weave"/>
          <p:cNvPicPr/>
          <p:nvPr/>
        </p:nvPicPr>
        <p:blipFill>
          <a:blip r:embed="rId1"/>
          <a:stretch/>
        </p:blipFill>
        <p:spPr>
          <a:xfrm>
            <a:off x="165240" y="530280"/>
            <a:ext cx="505296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2220480" y="191772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欢迎您提出宝贵意见和建议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4500720" y="4581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这两张图片里都有形状、大小相同的图形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2" name="WordArt 3"/>
          <p:cNvSpPr txBox="1"/>
          <p:nvPr/>
        </p:nvSpPr>
        <p:spPr>
          <a:xfrm>
            <a:off x="826920" y="4005360"/>
            <a:ext cx="28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4e3b30"/>
                </a:soli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宋体"/>
              </a:rPr>
              <a:t>找一找</a:t>
            </a:r>
            <a:endParaRPr b="1" lang="en-US" sz="1400" spc="1" strike="noStrike">
              <a:ln w="0">
                <a:noFill/>
              </a:ln>
              <a:solidFill>
                <a:srgbClr val="4e3b30"/>
              </a:soli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4788000" y="981000"/>
            <a:ext cx="3995640" cy="2808360"/>
            <a:chOff x="4788000" y="981000"/>
            <a:chExt cx="3995640" cy="2808360"/>
          </a:xfrm>
        </p:grpSpPr>
        <p:sp>
          <p:nvSpPr>
            <p:cNvPr id="404" name="AutoShape 5"/>
            <p:cNvSpPr/>
            <p:nvPr/>
          </p:nvSpPr>
          <p:spPr>
            <a:xfrm>
              <a:off x="5290920" y="1908000"/>
              <a:ext cx="988200" cy="940320"/>
            </a:xfrm>
            <a:prstGeom prst="hexagon">
              <a:avLst>
                <a:gd name="adj" fmla="val 2627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5" name="AutoShape 6"/>
            <p:cNvSpPr/>
            <p:nvPr/>
          </p:nvSpPr>
          <p:spPr>
            <a:xfrm>
              <a:off x="5535360" y="1420200"/>
              <a:ext cx="484920" cy="487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 rot="18023400">
              <a:off x="4928760" y="1780920"/>
              <a:ext cx="556560" cy="4550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7" name="AutoShape 8"/>
            <p:cNvSpPr/>
            <p:nvPr/>
          </p:nvSpPr>
          <p:spPr>
            <a:xfrm>
              <a:off x="6033960" y="2385360"/>
              <a:ext cx="484920" cy="487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8" name="AutoShape 9"/>
            <p:cNvSpPr/>
            <p:nvPr/>
          </p:nvSpPr>
          <p:spPr>
            <a:xfrm rot="10800000">
              <a:off x="5525640" y="2838240"/>
              <a:ext cx="516600" cy="49068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9" name="AutoShape 10"/>
            <p:cNvSpPr/>
            <p:nvPr/>
          </p:nvSpPr>
          <p:spPr>
            <a:xfrm>
              <a:off x="5041440" y="2375640"/>
              <a:ext cx="484920" cy="4874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0" name="AutoShape 11"/>
            <p:cNvSpPr/>
            <p:nvPr/>
          </p:nvSpPr>
          <p:spPr>
            <a:xfrm rot="18023400">
              <a:off x="5951880" y="1805400"/>
              <a:ext cx="556560" cy="4550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1" name="AutoShape 12"/>
            <p:cNvSpPr/>
            <p:nvPr/>
          </p:nvSpPr>
          <p:spPr>
            <a:xfrm>
              <a:off x="5793840" y="98100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2" name="AutoShape 13"/>
            <p:cNvSpPr/>
            <p:nvPr/>
          </p:nvSpPr>
          <p:spPr>
            <a:xfrm>
              <a:off x="6279120" y="191304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3" name="AutoShape 14"/>
            <p:cNvSpPr/>
            <p:nvPr/>
          </p:nvSpPr>
          <p:spPr>
            <a:xfrm>
              <a:off x="7285320" y="190332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4" name="AutoShape 15"/>
            <p:cNvSpPr/>
            <p:nvPr/>
          </p:nvSpPr>
          <p:spPr>
            <a:xfrm>
              <a:off x="7529760" y="1415520"/>
              <a:ext cx="484920" cy="4874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5" name="AutoShape 16"/>
            <p:cNvSpPr/>
            <p:nvPr/>
          </p:nvSpPr>
          <p:spPr>
            <a:xfrm rot="18023400">
              <a:off x="6923160" y="1776240"/>
              <a:ext cx="556560" cy="4550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6" name="AutoShape 17"/>
            <p:cNvSpPr/>
            <p:nvPr/>
          </p:nvSpPr>
          <p:spPr>
            <a:xfrm>
              <a:off x="8028360" y="2360880"/>
              <a:ext cx="484920" cy="4874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AutoShape 18"/>
            <p:cNvSpPr/>
            <p:nvPr/>
          </p:nvSpPr>
          <p:spPr>
            <a:xfrm rot="10800000">
              <a:off x="7506720" y="2833920"/>
              <a:ext cx="516240" cy="4903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8" name="AutoShape 19"/>
            <p:cNvSpPr/>
            <p:nvPr/>
          </p:nvSpPr>
          <p:spPr>
            <a:xfrm>
              <a:off x="7035840" y="2370960"/>
              <a:ext cx="484920" cy="4874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9" name="AutoShape 20"/>
            <p:cNvSpPr/>
            <p:nvPr/>
          </p:nvSpPr>
          <p:spPr>
            <a:xfrm rot="18023400">
              <a:off x="7946280" y="1800720"/>
              <a:ext cx="556560" cy="4550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0" name="AutoShape 21"/>
            <p:cNvSpPr/>
            <p:nvPr/>
          </p:nvSpPr>
          <p:spPr>
            <a:xfrm>
              <a:off x="6537600" y="1420200"/>
              <a:ext cx="484920" cy="487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1" name="AutoShape 22"/>
            <p:cNvSpPr/>
            <p:nvPr/>
          </p:nvSpPr>
          <p:spPr>
            <a:xfrm rot="10800000">
              <a:off x="6528600" y="2838240"/>
              <a:ext cx="516240" cy="49068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2" name="AutoShape 23"/>
            <p:cNvSpPr/>
            <p:nvPr/>
          </p:nvSpPr>
          <p:spPr>
            <a:xfrm>
              <a:off x="4791960" y="98100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AutoShape 24"/>
            <p:cNvSpPr/>
            <p:nvPr/>
          </p:nvSpPr>
          <p:spPr>
            <a:xfrm>
              <a:off x="6795720" y="98100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4" name="AutoShape 25"/>
            <p:cNvSpPr/>
            <p:nvPr/>
          </p:nvSpPr>
          <p:spPr>
            <a:xfrm>
              <a:off x="6763680" y="284868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AutoShape 26"/>
            <p:cNvSpPr/>
            <p:nvPr/>
          </p:nvSpPr>
          <p:spPr>
            <a:xfrm>
              <a:off x="5793840" y="284868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6" name="AutoShape 27"/>
            <p:cNvSpPr/>
            <p:nvPr/>
          </p:nvSpPr>
          <p:spPr>
            <a:xfrm>
              <a:off x="7765560" y="284868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AutoShape 28"/>
            <p:cNvSpPr/>
            <p:nvPr/>
          </p:nvSpPr>
          <p:spPr>
            <a:xfrm>
              <a:off x="4788000" y="284868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AutoShape 29"/>
            <p:cNvSpPr/>
            <p:nvPr/>
          </p:nvSpPr>
          <p:spPr>
            <a:xfrm>
              <a:off x="7795440" y="98100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395280" y="0"/>
            <a:ext cx="4372920" cy="4463280"/>
            <a:chOff x="395280" y="0"/>
            <a:chExt cx="4372920" cy="4463280"/>
          </a:xfrm>
        </p:grpSpPr>
        <p:sp>
          <p:nvSpPr>
            <p:cNvPr id="430" name="AutoShape 31"/>
            <p:cNvSpPr/>
            <p:nvPr/>
          </p:nvSpPr>
          <p:spPr>
            <a:xfrm>
              <a:off x="395280" y="0"/>
              <a:ext cx="4372920" cy="44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1133640" y="2491200"/>
              <a:ext cx="986400" cy="93492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9" h="247">
                  <a:moveTo>
                    <a:pt x="0" y="0"/>
                  </a:moveTo>
                  <a:lnTo>
                    <a:pt x="0" y="247"/>
                  </a:lnTo>
                  <a:lnTo>
                    <a:pt x="219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1133640" y="2956680"/>
              <a:ext cx="986400" cy="88164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219" h="233">
                  <a:moveTo>
                    <a:pt x="0" y="124"/>
                  </a:moveTo>
                  <a:lnTo>
                    <a:pt x="219" y="233"/>
                  </a:lnTo>
                  <a:lnTo>
                    <a:pt x="219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1133640" y="1555560"/>
              <a:ext cx="986400" cy="93564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5640"/>
                <a:gd name="textAreaBottom" fmla="*/ 936000 h 935640"/>
              </a:gdLst>
              <a:ahLst/>
              <a:rect l="textAreaLeft" t="textAreaTop" r="textAreaRight" b="textAreaBottom"/>
              <a:pathLst>
                <a:path w="219" h="247">
                  <a:moveTo>
                    <a:pt x="0" y="0"/>
                  </a:moveTo>
                  <a:lnTo>
                    <a:pt x="0" y="247"/>
                  </a:lnTo>
                  <a:lnTo>
                    <a:pt x="21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133640" y="2025000"/>
              <a:ext cx="986400" cy="93132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219" h="246">
                  <a:moveTo>
                    <a:pt x="0" y="123"/>
                  </a:moveTo>
                  <a:lnTo>
                    <a:pt x="219" y="246"/>
                  </a:lnTo>
                  <a:lnTo>
                    <a:pt x="219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1133640" y="1090080"/>
              <a:ext cx="986400" cy="93492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9" h="247">
                  <a:moveTo>
                    <a:pt x="0" y="123"/>
                  </a:moveTo>
                  <a:lnTo>
                    <a:pt x="219" y="247"/>
                  </a:lnTo>
                  <a:lnTo>
                    <a:pt x="219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2120040" y="2956680"/>
              <a:ext cx="923040" cy="88164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205" h="233">
                  <a:moveTo>
                    <a:pt x="0" y="233"/>
                  </a:moveTo>
                  <a:lnTo>
                    <a:pt x="205" y="110"/>
                  </a:lnTo>
                  <a:lnTo>
                    <a:pt x="0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3043080" y="2491200"/>
              <a:ext cx="986400" cy="88164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219" h="233">
                  <a:moveTo>
                    <a:pt x="0" y="233"/>
                  </a:moveTo>
                  <a:lnTo>
                    <a:pt x="219" y="110"/>
                  </a:lnTo>
                  <a:lnTo>
                    <a:pt x="0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2120040" y="2491200"/>
              <a:ext cx="923040" cy="88164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205" h="233">
                  <a:moveTo>
                    <a:pt x="205" y="233"/>
                  </a:moveTo>
                  <a:lnTo>
                    <a:pt x="205" y="0"/>
                  </a:lnTo>
                  <a:lnTo>
                    <a:pt x="0" y="123"/>
                  </a:lnTo>
                  <a:lnTo>
                    <a:pt x="205" y="23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3043080" y="2025000"/>
              <a:ext cx="986400" cy="88236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219" h="233">
                  <a:moveTo>
                    <a:pt x="219" y="233"/>
                  </a:moveTo>
                  <a:lnTo>
                    <a:pt x="219" y="0"/>
                  </a:lnTo>
                  <a:lnTo>
                    <a:pt x="0" y="123"/>
                  </a:lnTo>
                  <a:lnTo>
                    <a:pt x="219" y="23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2120040" y="2025000"/>
              <a:ext cx="923040" cy="93132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205" h="246">
                  <a:moveTo>
                    <a:pt x="0" y="246"/>
                  </a:moveTo>
                  <a:lnTo>
                    <a:pt x="205" y="123"/>
                  </a:lnTo>
                  <a:lnTo>
                    <a:pt x="0" y="0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2120040" y="624960"/>
              <a:ext cx="923040" cy="93060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205" h="246">
                  <a:moveTo>
                    <a:pt x="205" y="0"/>
                  </a:moveTo>
                  <a:lnTo>
                    <a:pt x="0" y="123"/>
                  </a:lnTo>
                  <a:lnTo>
                    <a:pt x="205" y="24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3043080" y="624960"/>
              <a:ext cx="986400" cy="93060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219" h="246">
                  <a:moveTo>
                    <a:pt x="0" y="0"/>
                  </a:moveTo>
                  <a:lnTo>
                    <a:pt x="0" y="246"/>
                  </a:lnTo>
                  <a:lnTo>
                    <a:pt x="219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2120040" y="1090080"/>
              <a:ext cx="923040" cy="93492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05" h="247">
                  <a:moveTo>
                    <a:pt x="0" y="0"/>
                  </a:moveTo>
                  <a:lnTo>
                    <a:pt x="0" y="247"/>
                  </a:lnTo>
                  <a:lnTo>
                    <a:pt x="205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3043080" y="1090080"/>
              <a:ext cx="986400" cy="93492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9" h="247">
                  <a:moveTo>
                    <a:pt x="219" y="0"/>
                  </a:moveTo>
                  <a:lnTo>
                    <a:pt x="0" y="123"/>
                  </a:lnTo>
                  <a:lnTo>
                    <a:pt x="219" y="24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2120040" y="1555560"/>
              <a:ext cx="923040" cy="93564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935640"/>
                <a:gd name="textAreaBottom" fmla="*/ 936000 h 935640"/>
              </a:gdLst>
              <a:ahLst/>
              <a:rect l="textAreaLeft" t="textAreaTop" r="textAreaRight" b="textAreaBottom"/>
              <a:pathLst>
                <a:path w="205" h="247">
                  <a:moveTo>
                    <a:pt x="0" y="124"/>
                  </a:moveTo>
                  <a:lnTo>
                    <a:pt x="205" y="247"/>
                  </a:lnTo>
                  <a:lnTo>
                    <a:pt x="205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3043080" y="1555560"/>
              <a:ext cx="986400" cy="93564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5640"/>
                <a:gd name="textAreaBottom" fmla="*/ 936000 h 935640"/>
              </a:gdLst>
              <a:ahLst/>
              <a:rect l="textAreaLeft" t="textAreaTop" r="textAreaRight" b="textAreaBottom"/>
              <a:pathLst>
                <a:path w="219" h="247">
                  <a:moveTo>
                    <a:pt x="219" y="124"/>
                  </a:moveTo>
                  <a:lnTo>
                    <a:pt x="0" y="0"/>
                  </a:lnTo>
                  <a:lnTo>
                    <a:pt x="0" y="247"/>
                  </a:lnTo>
                  <a:lnTo>
                    <a:pt x="219" y="124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7" name="Line 48"/>
            <p:cNvSpPr/>
            <p:nvPr/>
          </p:nvSpPr>
          <p:spPr>
            <a:xfrm>
              <a:off x="3043080" y="1555560"/>
              <a:ext cx="3960" cy="935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>
              <a:off x="3043080" y="1555560"/>
              <a:ext cx="98640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9" name="Line 50"/>
            <p:cNvSpPr/>
            <p:nvPr/>
          </p:nvSpPr>
          <p:spPr>
            <a:xfrm flipH="1">
              <a:off x="3043080" y="2025000"/>
              <a:ext cx="986400" cy="4658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0" name="Line 51"/>
            <p:cNvSpPr/>
            <p:nvPr/>
          </p:nvSpPr>
          <p:spPr>
            <a:xfrm>
              <a:off x="2120040" y="2025000"/>
              <a:ext cx="923040" cy="4658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1" name="Line 52"/>
            <p:cNvSpPr/>
            <p:nvPr/>
          </p:nvSpPr>
          <p:spPr>
            <a:xfrm flipH="1">
              <a:off x="2120040" y="1555560"/>
              <a:ext cx="92304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 flipH="1">
              <a:off x="3043080" y="109008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4029840" y="1090080"/>
              <a:ext cx="3960" cy="9349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4" name="Line 55"/>
            <p:cNvSpPr/>
            <p:nvPr/>
          </p:nvSpPr>
          <p:spPr>
            <a:xfrm>
              <a:off x="2120040" y="1090080"/>
              <a:ext cx="3960" cy="9349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Line 56"/>
            <p:cNvSpPr/>
            <p:nvPr/>
          </p:nvSpPr>
          <p:spPr>
            <a:xfrm>
              <a:off x="2120040" y="1090080"/>
              <a:ext cx="92304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3043080" y="624960"/>
              <a:ext cx="3960" cy="93060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3043080" y="62496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 flipH="1">
              <a:off x="2120040" y="624960"/>
              <a:ext cx="92304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Line 60"/>
            <p:cNvSpPr/>
            <p:nvPr/>
          </p:nvSpPr>
          <p:spPr>
            <a:xfrm>
              <a:off x="3043080" y="624960"/>
              <a:ext cx="3960" cy="93060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Line 61"/>
            <p:cNvSpPr/>
            <p:nvPr/>
          </p:nvSpPr>
          <p:spPr>
            <a:xfrm flipH="1">
              <a:off x="2120040" y="2491200"/>
              <a:ext cx="92304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1" name="Line 62"/>
            <p:cNvSpPr/>
            <p:nvPr/>
          </p:nvSpPr>
          <p:spPr>
            <a:xfrm>
              <a:off x="2120040" y="2025000"/>
              <a:ext cx="3960" cy="9313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2" name="Line 63"/>
            <p:cNvSpPr/>
            <p:nvPr/>
          </p:nvSpPr>
          <p:spPr>
            <a:xfrm>
              <a:off x="4029840" y="2025000"/>
              <a:ext cx="3960" cy="88236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Line 64"/>
            <p:cNvSpPr/>
            <p:nvPr/>
          </p:nvSpPr>
          <p:spPr>
            <a:xfrm>
              <a:off x="3043080" y="2491200"/>
              <a:ext cx="986400" cy="41616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4" name="Line 65"/>
            <p:cNvSpPr/>
            <p:nvPr/>
          </p:nvSpPr>
          <p:spPr>
            <a:xfrm>
              <a:off x="3043080" y="2491200"/>
              <a:ext cx="3960" cy="881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>
              <a:off x="2120040" y="2956680"/>
              <a:ext cx="923040" cy="41616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Line 67"/>
            <p:cNvSpPr/>
            <p:nvPr/>
          </p:nvSpPr>
          <p:spPr>
            <a:xfrm flipH="1">
              <a:off x="3043080" y="290772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7" name="Line 68"/>
            <p:cNvSpPr/>
            <p:nvPr/>
          </p:nvSpPr>
          <p:spPr>
            <a:xfrm>
              <a:off x="3043080" y="2491200"/>
              <a:ext cx="3960" cy="881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8" name="Line 69"/>
            <p:cNvSpPr/>
            <p:nvPr/>
          </p:nvSpPr>
          <p:spPr>
            <a:xfrm flipH="1">
              <a:off x="2120040" y="3372840"/>
              <a:ext cx="92304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Line 70"/>
            <p:cNvSpPr/>
            <p:nvPr/>
          </p:nvSpPr>
          <p:spPr>
            <a:xfrm>
              <a:off x="2120040" y="2956680"/>
              <a:ext cx="3960" cy="881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Line 71"/>
            <p:cNvSpPr/>
            <p:nvPr/>
          </p:nvSpPr>
          <p:spPr>
            <a:xfrm>
              <a:off x="1133640" y="1555560"/>
              <a:ext cx="98640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Line 72"/>
            <p:cNvSpPr/>
            <p:nvPr/>
          </p:nvSpPr>
          <p:spPr>
            <a:xfrm flipH="1">
              <a:off x="1133640" y="109008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Line 73"/>
            <p:cNvSpPr/>
            <p:nvPr/>
          </p:nvSpPr>
          <p:spPr>
            <a:xfrm>
              <a:off x="1133640" y="249120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Line 74"/>
            <p:cNvSpPr/>
            <p:nvPr/>
          </p:nvSpPr>
          <p:spPr>
            <a:xfrm flipH="1">
              <a:off x="1133640" y="2025000"/>
              <a:ext cx="986400" cy="4658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4" name="Line 75"/>
            <p:cNvSpPr/>
            <p:nvPr/>
          </p:nvSpPr>
          <p:spPr>
            <a:xfrm>
              <a:off x="1133640" y="1555560"/>
              <a:ext cx="5040" cy="935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>
              <a:off x="1133640" y="1555560"/>
              <a:ext cx="98640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6" name="Line 77"/>
            <p:cNvSpPr/>
            <p:nvPr/>
          </p:nvSpPr>
          <p:spPr>
            <a:xfrm>
              <a:off x="1133640" y="3426120"/>
              <a:ext cx="986400" cy="4118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Line 78"/>
            <p:cNvSpPr/>
            <p:nvPr/>
          </p:nvSpPr>
          <p:spPr>
            <a:xfrm flipH="1">
              <a:off x="1133640" y="2956680"/>
              <a:ext cx="98640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8" name="Line 79"/>
            <p:cNvSpPr/>
            <p:nvPr/>
          </p:nvSpPr>
          <p:spPr>
            <a:xfrm>
              <a:off x="1133640" y="2491200"/>
              <a:ext cx="5040" cy="9349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>
              <a:off x="1133640" y="249120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2700360" y="693720"/>
            <a:ext cx="64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举出现实生活中能够完全重合的图形的例子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1" name="WordArt 3" descr=""/>
          <p:cNvPicPr/>
          <p:nvPr/>
        </p:nvPicPr>
        <p:blipFill>
          <a:blip r:embed="rId1"/>
          <a:stretch/>
        </p:blipFill>
        <p:spPr>
          <a:xfrm>
            <a:off x="390600" y="585720"/>
            <a:ext cx="2200320" cy="12924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4"/>
          <p:cNvSpPr/>
          <p:nvPr/>
        </p:nvSpPr>
        <p:spPr>
          <a:xfrm>
            <a:off x="971640" y="2349360"/>
            <a:ext cx="2736720" cy="2448000"/>
          </a:xfrm>
          <a:custGeom>
            <a:avLst/>
            <a:gdLst>
              <a:gd name="textAreaLeft" fmla="*/ 845640 w 2736720"/>
              <a:gd name="textAreaRight" fmla="*/ 1891080 w 273672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2736850" h="2447925">
                <a:moveTo>
                  <a:pt x="3" y="935022"/>
                </a:moveTo>
                <a:lnTo>
                  <a:pt x="1045390" y="935028"/>
                </a:lnTo>
                <a:lnTo>
                  <a:pt x="1368425" y="0"/>
                </a:lnTo>
                <a:lnTo>
                  <a:pt x="1691460" y="935028"/>
                </a:lnTo>
                <a:lnTo>
                  <a:pt x="2736847" y="935022"/>
                </a:lnTo>
                <a:lnTo>
                  <a:pt x="1891108" y="1512893"/>
                </a:lnTo>
                <a:lnTo>
                  <a:pt x="2214159" y="2447917"/>
                </a:lnTo>
                <a:lnTo>
                  <a:pt x="1368425" y="1870035"/>
                </a:lnTo>
                <a:lnTo>
                  <a:pt x="522691" y="2447917"/>
                </a:lnTo>
                <a:lnTo>
                  <a:pt x="845742" y="151289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4932360" y="2349360"/>
            <a:ext cx="2736720" cy="2448000"/>
          </a:xfrm>
          <a:custGeom>
            <a:avLst/>
            <a:gdLst>
              <a:gd name="textAreaLeft" fmla="*/ 845640 w 2736720"/>
              <a:gd name="textAreaRight" fmla="*/ 1891080 w 273672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2736850" h="2447925">
                <a:moveTo>
                  <a:pt x="3" y="935022"/>
                </a:moveTo>
                <a:lnTo>
                  <a:pt x="1045390" y="935028"/>
                </a:lnTo>
                <a:lnTo>
                  <a:pt x="1368425" y="0"/>
                </a:lnTo>
                <a:lnTo>
                  <a:pt x="1691460" y="935028"/>
                </a:lnTo>
                <a:lnTo>
                  <a:pt x="2736847" y="935022"/>
                </a:lnTo>
                <a:lnTo>
                  <a:pt x="1891108" y="1512893"/>
                </a:lnTo>
                <a:lnTo>
                  <a:pt x="2214159" y="2447917"/>
                </a:lnTo>
                <a:lnTo>
                  <a:pt x="1368425" y="1870035"/>
                </a:lnTo>
                <a:lnTo>
                  <a:pt x="522691" y="2447917"/>
                </a:lnTo>
                <a:lnTo>
                  <a:pt x="845742" y="151289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4932360" y="2349360"/>
            <a:ext cx="2736720" cy="2448000"/>
          </a:xfrm>
          <a:custGeom>
            <a:avLst/>
            <a:gdLst>
              <a:gd name="textAreaLeft" fmla="*/ 845640 w 2736720"/>
              <a:gd name="textAreaRight" fmla="*/ 1891080 w 273672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2736850" h="2447925">
                <a:moveTo>
                  <a:pt x="3" y="935022"/>
                </a:moveTo>
                <a:lnTo>
                  <a:pt x="1045390" y="935028"/>
                </a:lnTo>
                <a:lnTo>
                  <a:pt x="1368425" y="0"/>
                </a:lnTo>
                <a:lnTo>
                  <a:pt x="1691460" y="935028"/>
                </a:lnTo>
                <a:lnTo>
                  <a:pt x="2736847" y="935022"/>
                </a:lnTo>
                <a:lnTo>
                  <a:pt x="1891108" y="1512893"/>
                </a:lnTo>
                <a:lnTo>
                  <a:pt x="2214159" y="2447917"/>
                </a:lnTo>
                <a:lnTo>
                  <a:pt x="1368425" y="1870035"/>
                </a:lnTo>
                <a:lnTo>
                  <a:pt x="522691" y="2447917"/>
                </a:lnTo>
                <a:lnTo>
                  <a:pt x="845742" y="151289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316 -2.42775E-006 L -2.5E-006 -2.42775E-006 E">
                                      <p:cBhvr>
                                        <p:cTn id="6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3203640" y="549360"/>
            <a:ext cx="259380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81d06"/>
                </a:solidFill>
                <a:latin typeface="Arial"/>
                <a:ea typeface="华文行楷"/>
              </a:rPr>
              <a:t>  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1"/>
          <a:srcRect l="2310" t="0" r="0" b="0"/>
          <a:stretch/>
        </p:blipFill>
        <p:spPr>
          <a:xfrm>
            <a:off x="0" y="477720"/>
            <a:ext cx="3543480" cy="486900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4"/>
          <p:cNvSpPr/>
          <p:nvPr/>
        </p:nvSpPr>
        <p:spPr>
          <a:xfrm>
            <a:off x="3564000" y="1341360"/>
            <a:ext cx="1944720" cy="3240000"/>
          </a:xfrm>
          <a:prstGeom prst="wedgeRoundRectCallout">
            <a:avLst>
              <a:gd name="adj1" fmla="val 37018"/>
              <a:gd name="adj2" fmla="val 60287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1bc3"/>
                </a:solidFill>
                <a:latin typeface="华文新魏"/>
                <a:ea typeface="华文新魏"/>
              </a:rPr>
              <a:t>两张纸重合  后 剪纸，得到的两个图形 大 小、形状相同</a:t>
            </a:r>
            <a:r>
              <a:rPr b="1" lang="zh-CN" sz="2800" spc="-1" strike="noStrike">
                <a:solidFill>
                  <a:srgbClr val="371bc3"/>
                </a:solidFill>
                <a:latin typeface="Arial"/>
                <a:ea typeface="幼圆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2021040" y="5634360"/>
            <a:ext cx="5340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Times New Roman"/>
                <a:ea typeface="华文新魏"/>
              </a:rPr>
              <a:t>全等形</a:t>
            </a:r>
            <a:r>
              <a:rPr b="0" lang="zh-CN" sz="3600" spc="-1" strike="noStrike">
                <a:solidFill>
                  <a:srgbClr val="4e3b3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4e3b30"/>
                </a:solidFill>
                <a:latin typeface="Arial"/>
                <a:ea typeface="华文行楷"/>
              </a:rPr>
              <a:t>能够完全重合的图形叫做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行楷"/>
              </a:rPr>
              <a:t>全等形</a:t>
            </a:r>
            <a:r>
              <a:rPr b="0" lang="zh-CN" sz="3600" spc="-1" strike="noStrike">
                <a:solidFill>
                  <a:srgbClr val="4e3b30"/>
                </a:solidFill>
                <a:latin typeface="Arial"/>
                <a:ea typeface="华文行楷"/>
              </a:rPr>
              <a:t>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9" name="Picture 6" descr=""/>
          <p:cNvPicPr/>
          <p:nvPr/>
        </p:nvPicPr>
        <p:blipFill>
          <a:blip r:embed="rId2"/>
          <a:srcRect l="2310" t="0" r="0" b="0"/>
          <a:stretch/>
        </p:blipFill>
        <p:spPr>
          <a:xfrm>
            <a:off x="5580000" y="477720"/>
            <a:ext cx="35416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36360" y="54936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将一块三角板按在纸板上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画下图形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照样裁下纸板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395280" y="1125360"/>
            <a:ext cx="3673440" cy="2232360"/>
            <a:chOff x="395280" y="1125360"/>
            <a:chExt cx="3673440" cy="2232360"/>
          </a:xfrm>
        </p:grpSpPr>
        <p:grpSp>
          <p:nvGrpSpPr>
            <p:cNvPr id="492" name="Group 4"/>
            <p:cNvGrpSpPr/>
            <p:nvPr/>
          </p:nvGrpSpPr>
          <p:grpSpPr>
            <a:xfrm>
              <a:off x="395280" y="1125360"/>
              <a:ext cx="3673440" cy="2232360"/>
              <a:chOff x="395280" y="1125360"/>
              <a:chExt cx="3673440" cy="2232360"/>
            </a:xfrm>
          </p:grpSpPr>
          <p:sp>
            <p:nvSpPr>
              <p:cNvPr id="493" name="AutoShape 5"/>
              <p:cNvSpPr/>
              <p:nvPr/>
            </p:nvSpPr>
            <p:spPr>
              <a:xfrm>
                <a:off x="595440" y="1746000"/>
                <a:ext cx="2405160" cy="1611720"/>
              </a:xfrm>
              <a:prstGeom prst="triangle">
                <a:avLst>
                  <a:gd name="adj" fmla="val 22333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4" name="Rectangle 6"/>
              <p:cNvSpPr/>
              <p:nvPr/>
            </p:nvSpPr>
            <p:spPr>
              <a:xfrm>
                <a:off x="395280" y="1125360"/>
                <a:ext cx="3673440" cy="2232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95" name="Line 7"/>
            <p:cNvSpPr/>
            <p:nvPr/>
          </p:nvSpPr>
          <p:spPr>
            <a:xfrm flipV="1">
              <a:off x="595440" y="1373760"/>
              <a:ext cx="668520" cy="1983240"/>
            </a:xfrm>
            <a:prstGeom prst="line">
              <a:avLst/>
            </a:prstGeom>
            <a:ln w="38160">
              <a:solidFill>
                <a:srgbClr val="00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6" name="Line 8"/>
            <p:cNvSpPr/>
            <p:nvPr/>
          </p:nvSpPr>
          <p:spPr>
            <a:xfrm flipH="1" flipV="1">
              <a:off x="661320" y="1373760"/>
              <a:ext cx="2338920" cy="1983240"/>
            </a:xfrm>
            <a:prstGeom prst="line">
              <a:avLst/>
            </a:prstGeom>
            <a:ln w="38160">
              <a:solidFill>
                <a:srgbClr val="000c0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497" name="Picture 9" descr="MCj02340680000[1]"/>
          <p:cNvPicPr/>
          <p:nvPr/>
        </p:nvPicPr>
        <p:blipFill>
          <a:blip r:embed="rId1"/>
          <a:stretch/>
        </p:blipFill>
        <p:spPr>
          <a:xfrm>
            <a:off x="2413080" y="2854440"/>
            <a:ext cx="1582560" cy="14605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10"/>
          <p:cNvSpPr/>
          <p:nvPr/>
        </p:nvSpPr>
        <p:spPr>
          <a:xfrm>
            <a:off x="4429080" y="134136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裁下的纸板和样板的形状、大小是否 完 全 一样？能完全重合吗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9" name="Group 11"/>
          <p:cNvGrpSpPr/>
          <p:nvPr/>
        </p:nvGrpSpPr>
        <p:grpSpPr>
          <a:xfrm>
            <a:off x="252360" y="4581360"/>
            <a:ext cx="6097680" cy="1513440"/>
            <a:chOff x="252360" y="4581360"/>
            <a:chExt cx="6097680" cy="1513440"/>
          </a:xfrm>
        </p:grpSpPr>
        <p:sp>
          <p:nvSpPr>
            <p:cNvPr id="500" name="Rectangle 12"/>
            <p:cNvSpPr/>
            <p:nvPr/>
          </p:nvSpPr>
          <p:spPr>
            <a:xfrm>
              <a:off x="1476360" y="5513400"/>
              <a:ext cx="282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全等三角形：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01" name="Group 13"/>
            <p:cNvGrpSpPr/>
            <p:nvPr/>
          </p:nvGrpSpPr>
          <p:grpSpPr>
            <a:xfrm>
              <a:off x="3492000" y="4581360"/>
              <a:ext cx="2858040" cy="581400"/>
              <a:chOff x="3492000" y="4581360"/>
              <a:chExt cx="2858040" cy="581400"/>
            </a:xfrm>
          </p:grpSpPr>
          <p:sp>
            <p:nvSpPr>
              <p:cNvPr id="502" name="Rectangle 14"/>
              <p:cNvSpPr/>
              <p:nvPr/>
            </p:nvSpPr>
            <p:spPr>
              <a:xfrm>
                <a:off x="4508280" y="4581360"/>
                <a:ext cx="184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8000"/>
                    </a:solidFill>
                    <a:latin typeface="Arial"/>
                    <a:ea typeface="宋体"/>
                  </a:rPr>
                  <a:t>能够</a:t>
                </a:r>
                <a:r>
                  <a:rPr b="1" lang="zh-CN" sz="3200" spc="-1" strike="noStrike">
                    <a:solidFill>
                      <a:srgbClr val="008000"/>
                    </a:solidFill>
                    <a:latin typeface="Arial"/>
                    <a:ea typeface="华文彩云"/>
                  </a:rPr>
                  <a:t>完全重合</a:t>
                </a:r>
                <a:r>
                  <a:rPr b="1" lang="zh-CN" sz="3200" spc="-1" strike="noStrike">
                    <a:solidFill>
                      <a:srgbClr val="008000"/>
                    </a:solidFill>
                    <a:latin typeface="Arial"/>
                    <a:ea typeface="宋体"/>
                  </a:rPr>
                  <a:t>的两个图形。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3" name="Rectangle 15"/>
              <p:cNvSpPr/>
              <p:nvPr/>
            </p:nvSpPr>
            <p:spPr>
              <a:xfrm>
                <a:off x="3492000" y="46670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04" name="Rectangle 16"/>
            <p:cNvSpPr/>
            <p:nvPr/>
          </p:nvSpPr>
          <p:spPr>
            <a:xfrm>
              <a:off x="1436760" y="4581360"/>
              <a:ext cx="239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全等形：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5" name="AutoShape 17"/>
            <p:cNvSpPr/>
            <p:nvPr/>
          </p:nvSpPr>
          <p:spPr>
            <a:xfrm>
              <a:off x="1307880" y="4725720"/>
              <a:ext cx="113040" cy="1349640"/>
            </a:xfrm>
            <a:custGeom>
              <a:avLst/>
              <a:gdLst>
                <a:gd name="textAreaLeft" fmla="*/ 72360 w 113040"/>
                <a:gd name="textAreaRight" fmla="*/ 113400 w 113040"/>
                <a:gd name="textAreaTop" fmla="*/ 34920 h 1349640"/>
                <a:gd name="textAreaBottom" fmla="*/ 1314720 h 134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52360" y="51116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-954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宋体"/>
                </a:rPr>
                <a:t>定 义</a:t>
              </a:r>
              <a:r>
                <a:rPr b="1" lang="zh-CN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   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7" name="Rectangle 19"/>
          <p:cNvSpPr/>
          <p:nvPr/>
        </p:nvSpPr>
        <p:spPr>
          <a:xfrm>
            <a:off x="3708360" y="5518080"/>
            <a:ext cx="55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能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彩云"/>
              </a:rPr>
              <a:t>完全重合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的两个三角形。</a:t>
            </a: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81080" y="55180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结论：平移、翻折、旋转前后的图形全等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187280" y="126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平移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61128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翻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059280" y="692280"/>
            <a:ext cx="1655640" cy="1150920"/>
          </a:xfrm>
          <a:prstGeom prst="triangle">
            <a:avLst>
              <a:gd name="adj" fmla="val 719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6553080" y="685800"/>
            <a:ext cx="1656000" cy="1150920"/>
          </a:xfrm>
          <a:prstGeom prst="triangle">
            <a:avLst>
              <a:gd name="adj" fmla="val 71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3048120" y="685800"/>
            <a:ext cx="1655640" cy="1150920"/>
          </a:xfrm>
          <a:prstGeom prst="triangle">
            <a:avLst>
              <a:gd name="adj" fmla="val 719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4" name="WordArt 8" descr="weave"/>
          <p:cNvPicPr/>
          <p:nvPr/>
        </p:nvPicPr>
        <p:blipFill>
          <a:blip r:embed="rId1"/>
          <a:stretch/>
        </p:blipFill>
        <p:spPr>
          <a:xfrm>
            <a:off x="92160" y="530280"/>
            <a:ext cx="1755720" cy="6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5" name="Object 9"/>
          <p:cNvGraphicFramePr/>
          <p:nvPr/>
        </p:nvGraphicFramePr>
        <p:xfrm>
          <a:off x="4394160" y="177804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94160" y="17780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7" name="Picture 10" descr="za"/>
          <p:cNvPicPr/>
          <p:nvPr/>
        </p:nvPicPr>
        <p:blipFill>
          <a:blip r:embed="rId4"/>
          <a:stretch/>
        </p:blipFill>
        <p:spPr>
          <a:xfrm>
            <a:off x="468360" y="1916280"/>
            <a:ext cx="5238720" cy="38098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4"/>
          <p:cNvPicPr/>
          <p:nvPr/>
        </p:nvPicPr>
        <p:blipFill>
          <a:blip r:embed="rId5"/>
          <a:stretch/>
        </p:blipFill>
        <p:spPr>
          <a:xfrm>
            <a:off x="2274840" y="2060640"/>
            <a:ext cx="1505160" cy="27334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12"/>
          <p:cNvSpPr/>
          <p:nvPr/>
        </p:nvSpPr>
        <p:spPr>
          <a:xfrm>
            <a:off x="3780000" y="2997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旋转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0" name="Picture 13" descr="12"/>
          <p:cNvPicPr/>
          <p:nvPr/>
        </p:nvPicPr>
        <p:blipFill>
          <a:blip r:embed="rId6"/>
          <a:stretch/>
        </p:blipFill>
        <p:spPr>
          <a:xfrm>
            <a:off x="4643280" y="1484280"/>
            <a:ext cx="5239080" cy="3809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4" descr="33"/>
          <p:cNvPicPr/>
          <p:nvPr/>
        </p:nvPicPr>
        <p:blipFill>
          <a:blip r:embed="rId7"/>
          <a:stretch/>
        </p:blipFill>
        <p:spPr>
          <a:xfrm>
            <a:off x="5051520" y="2421000"/>
            <a:ext cx="3552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2 0.00023 L 0.38195 0.00023 E">
                                      <p:cBhvr>
                                        <p:cTn id="44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3750840" y="41497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</a:rPr>
              <a:t>互相重合的边叫做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对应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639240" y="27813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</a:rPr>
              <a:t>互相重合的顶点叫做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对应顶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3673080" y="53737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</a:rPr>
              <a:t>互相重合的角叫做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对应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5" name="Group 5"/>
          <p:cNvGrpSpPr/>
          <p:nvPr/>
        </p:nvGrpSpPr>
        <p:grpSpPr>
          <a:xfrm>
            <a:off x="1476360" y="3429000"/>
            <a:ext cx="1463760" cy="520560"/>
            <a:chOff x="1476360" y="3429000"/>
            <a:chExt cx="1463760" cy="520560"/>
          </a:xfrm>
        </p:grpSpPr>
        <p:sp>
          <p:nvSpPr>
            <p:cNvPr id="526" name="Text Box 6"/>
            <p:cNvSpPr/>
            <p:nvPr/>
          </p:nvSpPr>
          <p:spPr>
            <a:xfrm>
              <a:off x="1476360" y="342900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        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7" name="AutoShape 7"/>
            <p:cNvSpPr/>
            <p:nvPr/>
          </p:nvSpPr>
          <p:spPr>
            <a:xfrm>
              <a:off x="1892160" y="3616200"/>
              <a:ext cx="533520" cy="152640"/>
            </a:xfrm>
            <a:prstGeom prst="leftRightArrow">
              <a:avLst>
                <a:gd name="adj1" fmla="val 50000"/>
                <a:gd name="adj2" fmla="val 695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8" name="Group 8"/>
          <p:cNvGrpSpPr/>
          <p:nvPr/>
        </p:nvGrpSpPr>
        <p:grpSpPr>
          <a:xfrm>
            <a:off x="3886200" y="3448080"/>
            <a:ext cx="1463760" cy="520560"/>
            <a:chOff x="3886200" y="3448080"/>
            <a:chExt cx="1463760" cy="520560"/>
          </a:xfrm>
        </p:grpSpPr>
        <p:sp>
          <p:nvSpPr>
            <p:cNvPr id="529" name="Text Box 9"/>
            <p:cNvSpPr/>
            <p:nvPr/>
          </p:nvSpPr>
          <p:spPr>
            <a:xfrm>
              <a:off x="3886200" y="344808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        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0" name="AutoShape 10"/>
            <p:cNvSpPr/>
            <p:nvPr/>
          </p:nvSpPr>
          <p:spPr>
            <a:xfrm>
              <a:off x="4305240" y="3638520"/>
              <a:ext cx="533520" cy="152640"/>
            </a:xfrm>
            <a:prstGeom prst="leftRightArrow">
              <a:avLst>
                <a:gd name="adj1" fmla="val 50000"/>
                <a:gd name="adj2" fmla="val 695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6308640" y="3429000"/>
            <a:ext cx="1463760" cy="520560"/>
            <a:chOff x="6308640" y="3429000"/>
            <a:chExt cx="1463760" cy="520560"/>
          </a:xfrm>
        </p:grpSpPr>
        <p:sp>
          <p:nvSpPr>
            <p:cNvPr id="532" name="Text Box 12"/>
            <p:cNvSpPr/>
            <p:nvPr/>
          </p:nvSpPr>
          <p:spPr>
            <a:xfrm>
              <a:off x="6308640" y="342900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        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3" name="AutoShape 13"/>
            <p:cNvSpPr/>
            <p:nvPr/>
          </p:nvSpPr>
          <p:spPr>
            <a:xfrm>
              <a:off x="6724440" y="3600360"/>
              <a:ext cx="533520" cy="152640"/>
            </a:xfrm>
            <a:prstGeom prst="leftRightArrow">
              <a:avLst>
                <a:gd name="adj1" fmla="val 50000"/>
                <a:gd name="adj2" fmla="val 695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4" name="Text Box 14"/>
          <p:cNvSpPr/>
          <p:nvPr/>
        </p:nvSpPr>
        <p:spPr>
          <a:xfrm>
            <a:off x="1371600" y="4743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3809880" y="474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6095880" y="474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Rectangle 17"/>
          <p:cNvSpPr/>
          <p:nvPr/>
        </p:nvSpPr>
        <p:spPr>
          <a:xfrm>
            <a:off x="1693080" y="587700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Rectangle 18"/>
          <p:cNvSpPr/>
          <p:nvPr/>
        </p:nvSpPr>
        <p:spPr>
          <a:xfrm>
            <a:off x="3946320" y="58690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Rectangle 19"/>
          <p:cNvSpPr/>
          <p:nvPr/>
        </p:nvSpPr>
        <p:spPr>
          <a:xfrm>
            <a:off x="6176160" y="5850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0" name="Group 20"/>
          <p:cNvGrpSpPr/>
          <p:nvPr/>
        </p:nvGrpSpPr>
        <p:grpSpPr>
          <a:xfrm>
            <a:off x="1404360" y="765000"/>
            <a:ext cx="2274120" cy="1899720"/>
            <a:chOff x="1404360" y="765000"/>
            <a:chExt cx="2274120" cy="1899720"/>
          </a:xfrm>
        </p:grpSpPr>
        <p:sp>
          <p:nvSpPr>
            <p:cNvPr id="541" name="AutoShape 21"/>
            <p:cNvSpPr/>
            <p:nvPr/>
          </p:nvSpPr>
          <p:spPr>
            <a:xfrm>
              <a:off x="1691640" y="980640"/>
              <a:ext cx="1656720" cy="1584360"/>
            </a:xfrm>
            <a:prstGeom prst="triangle">
              <a:avLst>
                <a:gd name="adj" fmla="val 50000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Text Box 22"/>
            <p:cNvSpPr/>
            <p:nvPr/>
          </p:nvSpPr>
          <p:spPr>
            <a:xfrm>
              <a:off x="2124720" y="76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Text Box 23"/>
            <p:cNvSpPr/>
            <p:nvPr/>
          </p:nvSpPr>
          <p:spPr>
            <a:xfrm>
              <a:off x="1404360" y="220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4" name="Text Box 24"/>
            <p:cNvSpPr/>
            <p:nvPr/>
          </p:nvSpPr>
          <p:spPr>
            <a:xfrm>
              <a:off x="3278160" y="220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4717440" y="693720"/>
            <a:ext cx="2022120" cy="2260080"/>
            <a:chOff x="4717440" y="693720"/>
            <a:chExt cx="2022120" cy="2260080"/>
          </a:xfrm>
        </p:grpSpPr>
        <p:sp>
          <p:nvSpPr>
            <p:cNvPr id="546" name="AutoShape 26"/>
            <p:cNvSpPr/>
            <p:nvPr/>
          </p:nvSpPr>
          <p:spPr>
            <a:xfrm>
              <a:off x="4860360" y="982440"/>
              <a:ext cx="1655640" cy="1584360"/>
            </a:xfrm>
            <a:prstGeom prst="triangle">
              <a:avLst>
                <a:gd name="adj" fmla="val 50000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Text Box 27"/>
            <p:cNvSpPr/>
            <p:nvPr/>
          </p:nvSpPr>
          <p:spPr>
            <a:xfrm>
              <a:off x="5652360" y="693720"/>
              <a:ext cx="3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ad1f1f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Text Box 28"/>
            <p:cNvSpPr/>
            <p:nvPr/>
          </p:nvSpPr>
          <p:spPr>
            <a:xfrm>
              <a:off x="4717440" y="2494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ad1f1f"/>
                  </a:solidFill>
                  <a:latin typeface="Arial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Text Box 29"/>
            <p:cNvSpPr/>
            <p:nvPr/>
          </p:nvSpPr>
          <p:spPr>
            <a:xfrm>
              <a:off x="6373080" y="249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ad1f1f"/>
                  </a:solidFill>
                  <a:latin typeface="Arial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458 0 E">
                                      <p:cBhvr>
                                        <p:cTn id="9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AutoShape 2"/>
          <p:cNvSpPr/>
          <p:nvPr/>
        </p:nvSpPr>
        <p:spPr>
          <a:xfrm rot="21592800">
            <a:off x="755640" y="2349360"/>
            <a:ext cx="3429000" cy="17748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 rot="21592800">
            <a:off x="5292720" y="234936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1046160" y="21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254160" y="3718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4141800" y="36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5581440" y="220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4862160" y="3718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8678880" y="35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58" name="Group 10"/>
          <p:cNvGrpSpPr/>
          <p:nvPr/>
        </p:nvGrpSpPr>
        <p:grpSpPr>
          <a:xfrm>
            <a:off x="1099800" y="1125360"/>
            <a:ext cx="6669720" cy="630000"/>
            <a:chOff x="1099800" y="1125360"/>
            <a:chExt cx="6669720" cy="630000"/>
          </a:xfrm>
        </p:grpSpPr>
        <p:sp>
          <p:nvSpPr>
            <p:cNvPr id="559" name="Text Box 11"/>
            <p:cNvSpPr/>
            <p:nvPr/>
          </p:nvSpPr>
          <p:spPr>
            <a:xfrm>
              <a:off x="6095160" y="12348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读作“全等于”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60" name="Group 12"/>
            <p:cNvGrpSpPr/>
            <p:nvPr/>
          </p:nvGrpSpPr>
          <p:grpSpPr>
            <a:xfrm>
              <a:off x="1099800" y="1125360"/>
              <a:ext cx="3680280" cy="609840"/>
              <a:chOff x="1099800" y="1125360"/>
              <a:chExt cx="3680280" cy="609840"/>
            </a:xfrm>
          </p:grpSpPr>
          <p:sp>
            <p:nvSpPr>
              <p:cNvPr id="561" name="Text Box 13"/>
              <p:cNvSpPr/>
              <p:nvPr/>
            </p:nvSpPr>
            <p:spPr>
              <a:xfrm>
                <a:off x="1099800" y="1211040"/>
                <a:ext cx="3680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</a:rPr>
                  <a:t>全等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”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</a:rPr>
                  <a:t>用符号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</a:rPr>
                  <a:t>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”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</a:rPr>
                  <a:t>来表示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2" name="Rectangle 14"/>
              <p:cNvSpPr/>
              <p:nvPr/>
            </p:nvSpPr>
            <p:spPr>
              <a:xfrm>
                <a:off x="3251160" y="1125360"/>
                <a:ext cx="6364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≌</a:t>
                </a:r>
                <a:endParaRPr b="1" lang="en-US" sz="4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AutoShape 15"/>
          <p:cNvSpPr/>
          <p:nvPr/>
        </p:nvSpPr>
        <p:spPr>
          <a:xfrm rot="21592800">
            <a:off x="755640" y="234936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24000" y="5518080"/>
            <a:ext cx="684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注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通常对应顶点写在对应位置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930400" y="4784760"/>
            <a:ext cx="84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18"/>
              <p:cNvSpPr txBox="1"/>
              <p:nvPr/>
            </p:nvSpPr>
            <p:spPr>
              <a:xfrm>
                <a:off x="411480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67" name="Group 19"/>
          <p:cNvGrpSpPr/>
          <p:nvPr/>
        </p:nvGrpSpPr>
        <p:grpSpPr>
          <a:xfrm>
            <a:off x="2844720" y="4508640"/>
            <a:ext cx="3043800" cy="823320"/>
            <a:chOff x="2844720" y="4508640"/>
            <a:chExt cx="3043800" cy="823320"/>
          </a:xfrm>
        </p:grpSpPr>
        <p:sp>
          <p:nvSpPr>
            <p:cNvPr id="568" name="Rectangle 20"/>
            <p:cNvSpPr/>
            <p:nvPr/>
          </p:nvSpPr>
          <p:spPr>
            <a:xfrm>
              <a:off x="3996000" y="4508640"/>
              <a:ext cx="6361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≌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2844720" y="4653720"/>
              <a:ext cx="136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∆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B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0" name="Text Box 22"/>
            <p:cNvSpPr/>
            <p:nvPr/>
          </p:nvSpPr>
          <p:spPr>
            <a:xfrm>
              <a:off x="4645440" y="465372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∆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F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1" name="Text Box 23"/>
          <p:cNvSpPr/>
          <p:nvPr/>
        </p:nvSpPr>
        <p:spPr>
          <a:xfrm>
            <a:off x="1690560" y="468648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记作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38200" y="15685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3852720" y="32860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4" name="Group 4"/>
          <p:cNvGrpSpPr/>
          <p:nvPr/>
        </p:nvGrpSpPr>
        <p:grpSpPr>
          <a:xfrm>
            <a:off x="2195640" y="1917720"/>
            <a:ext cx="1655280" cy="3396600"/>
            <a:chOff x="2195640" y="1917720"/>
            <a:chExt cx="1655280" cy="3396600"/>
          </a:xfrm>
        </p:grpSpPr>
        <p:grpSp>
          <p:nvGrpSpPr>
            <p:cNvPr id="575" name="Group 5"/>
            <p:cNvGrpSpPr/>
            <p:nvPr/>
          </p:nvGrpSpPr>
          <p:grpSpPr>
            <a:xfrm>
              <a:off x="2555280" y="2208960"/>
              <a:ext cx="1295640" cy="2664000"/>
              <a:chOff x="2555280" y="2208960"/>
              <a:chExt cx="1295640" cy="2664000"/>
            </a:xfrm>
          </p:grpSpPr>
          <p:sp>
            <p:nvSpPr>
              <p:cNvPr id="576" name="AutoShape 6"/>
              <p:cNvSpPr/>
              <p:nvPr/>
            </p:nvSpPr>
            <p:spPr>
              <a:xfrm>
                <a:off x="2555280" y="2208960"/>
                <a:ext cx="1294920" cy="12960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7" name="AutoShape 7"/>
              <p:cNvSpPr/>
              <p:nvPr/>
            </p:nvSpPr>
            <p:spPr>
              <a:xfrm flipV="1">
                <a:off x="2555640" y="3504240"/>
                <a:ext cx="1295280" cy="1368360"/>
              </a:xfrm>
              <a:prstGeom prst="triangle">
                <a:avLst>
                  <a:gd name="adj" fmla="val 50023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78" name="Text Box 8"/>
            <p:cNvSpPr/>
            <p:nvPr/>
          </p:nvSpPr>
          <p:spPr>
            <a:xfrm>
              <a:off x="2891160" y="19177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9" name="Text Box 9"/>
            <p:cNvSpPr/>
            <p:nvPr/>
          </p:nvSpPr>
          <p:spPr>
            <a:xfrm>
              <a:off x="2195640" y="32893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0" name="Text Box 10"/>
            <p:cNvSpPr/>
            <p:nvPr/>
          </p:nvSpPr>
          <p:spPr>
            <a:xfrm>
              <a:off x="3059640" y="49460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81" name="Group 11"/>
          <p:cNvGrpSpPr/>
          <p:nvPr/>
        </p:nvGrpSpPr>
        <p:grpSpPr>
          <a:xfrm>
            <a:off x="5435640" y="2205000"/>
            <a:ext cx="2079360" cy="2672640"/>
            <a:chOff x="5435640" y="2205000"/>
            <a:chExt cx="2079360" cy="2672640"/>
          </a:xfrm>
        </p:grpSpPr>
        <p:sp>
          <p:nvSpPr>
            <p:cNvPr id="582" name="AutoShape 12"/>
            <p:cNvSpPr/>
            <p:nvPr/>
          </p:nvSpPr>
          <p:spPr>
            <a:xfrm>
              <a:off x="5724360" y="2349720"/>
              <a:ext cx="1369800" cy="2303640"/>
            </a:xfrm>
            <a:prstGeom prst="flowChartCollat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3" name="Text Box 13"/>
            <p:cNvSpPr/>
            <p:nvPr/>
          </p:nvSpPr>
          <p:spPr>
            <a:xfrm>
              <a:off x="5435640" y="22050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>
              <a:off x="7021080" y="220500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5" name="Text Box 15"/>
            <p:cNvSpPr/>
            <p:nvPr/>
          </p:nvSpPr>
          <p:spPr>
            <a:xfrm>
              <a:off x="6084000" y="3285000"/>
              <a:ext cx="49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6" name="Text Box 16"/>
            <p:cNvSpPr/>
            <p:nvPr/>
          </p:nvSpPr>
          <p:spPr>
            <a:xfrm>
              <a:off x="7021080" y="450936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7" name="Text Box 17"/>
            <p:cNvSpPr/>
            <p:nvPr/>
          </p:nvSpPr>
          <p:spPr>
            <a:xfrm>
              <a:off x="5435640" y="450936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88" name="Text Box 18"/>
          <p:cNvSpPr/>
          <p:nvPr/>
        </p:nvSpPr>
        <p:spPr>
          <a:xfrm>
            <a:off x="828720" y="82224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请你说出下面两个图中全等三角形的表示方法以及他们的对应元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2:00:28Z</dcterms:created>
  <dc:creator>www.12999.com</dc:creator>
  <dc:description>www.12999.com</dc:description>
  <cp:keywords>www.12999.com</cp:keywords>
  <dc:language>en-US</dc:language>
  <cp:lastModifiedBy>Administrator</cp:lastModifiedBy>
  <cp:lastPrinted>1899-12-30T00:00:00Z</cp:lastPrinted>
  <dcterms:modified xsi:type="dcterms:W3CDTF">2014-07-19T01:20:54Z</dcterms:modified>
  <cp:revision>6</cp:revision>
  <dc:subject>www.12999.com</dc:subject>
  <dc:title>www.12999.com</dc:title>
</cp:coreProperties>
</file>