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type.wav" ContentType="audio/x-wav"/>
  <Override PartName="/ppt/media/image8.png" ContentType="image/png"/>
  <Override PartName="/ppt/media/image7.wmf" ContentType="image/x-wmf"/>
  <Override PartName="/ppt/media/image15.png" ContentType="image/png"/>
  <Override PartName="/ppt/media/image13.png" ContentType="image/png"/>
  <Override PartName="/ppt/media/image12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chimes.wav" ContentType="audio/x-wav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94B-CC06-4D7A-96D4-4D9C159A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6E4-B160-4489-BFA1-218C9BBC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7183C-A81A-4710-9825-012096B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A0014-442E-4A89-AAE6-1504B74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1D0D1-68E9-4111-B301-5716A30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D86C2-7B9B-462C-B9F0-9FEF8B4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72800-AC8C-435D-A05E-669817F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731F8-CB0B-4A24-8ED5-5006C7D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50B96-0F8E-4C18-B9A1-EBD6169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BDFE8-82B5-4771-A97F-F66B3084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D9B70-C5A7-46CA-97BB-E0C91F99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BAF-9D9E-4C7D-9FFE-7BEDA5B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58D-16EC-49F2-96DA-36B0551A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F92-DA5D-4061-A97C-916D398F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9695-5FA2-4AC0-88CF-AC7C7303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48D-B3B6-416B-BE02-9E583FF7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101-F6B6-4048-8909-3D8822B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220E-9534-41FF-90E0-FAF35C21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E2FB-87C3-40C8-91E7-F65473C2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A8C-761A-4740-AF1C-7C59882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F81-8D34-404C-8871-FCE15D29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F44-E33B-480D-80AE-75C1873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BC3B-53D1-4B78-BE14-F2C1DF7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AE4F-ACD0-441C-A69C-245F7B0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23C1-F3F1-4D8F-B3DB-35CFD7BE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6D14-31A7-4888-9848-96C6C282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1294-D68C-4060-BBCD-69B6DAEC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567F-383A-4DE0-BAD3-1EF730E0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66F8-4629-47F3-90B8-0685D5FC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3D71-EC22-4D6B-8F58-E25F63C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A5C9-0BC9-432E-866A-440D0420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153-6862-4C8D-9895-F2E74B7E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1569-DE95-41E4-BCF5-BF96371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1CC6-1E6C-41A5-812E-19296962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1AB9-B0B3-4F4E-966E-13C2051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2CA0-32BE-4AC2-87E3-6ACC7EA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720A-45E1-48BE-BF9E-5FC2B2CB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CD82-8833-41BE-B08E-B2D22749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288F-D188-4829-9BD7-F6AFA6B7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3492-7512-4A73-BA48-472A7D5E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641E-EA66-4C84-9CAE-4DBC7DAA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11D3-10AB-4BE6-A68D-418242C4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11D-C56B-4A8C-A095-BF9F2D1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C4CC-31BC-4697-85FA-65E732FB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4DDE-DFCD-4067-9101-29C4BAD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9678-9C28-4344-B8EC-5288C10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7EAC-2646-4000-A788-ECE5F92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C25C-0AFC-4FFE-A30E-863BAAD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5EC8-4C3F-46D5-8F1A-FA733E8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22FA-5AA1-44A6-AD0C-6E913B0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CEF1-4878-4FC4-83C9-E5C4778A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8D3F9-F455-4FF9-B15F-C585A106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50BA1-8DFE-4D6B-A4EC-30B4509C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9F6-5B0F-4E79-8DBB-716B53BB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D0CF-0F76-490A-AA48-1AB2BA10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7C9C-2082-4669-AD2F-F897161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DAB6-04B0-4C6F-B03F-24776C9B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E909-237D-4342-867F-5D17B73C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CFA3-F56C-430A-8621-EF1AB8B5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F635-EA0D-431D-9C40-2FBAE50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24B6-751F-4105-ABE5-5BBB30D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A1DB-C8C8-446A-BBF4-9E5059D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0CF5-2022-4CE4-A3A3-80F32CC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922F-5747-4509-91F5-0B943C30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C3E-2F1D-442B-A348-33033301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4F42-DE55-4E5A-B129-CC8F437C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0610-DA13-4090-8BF0-C4E3E6FC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458A-A91E-4999-885F-EB68CD16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6B57-C916-46B7-BD18-095D48D0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E195-3C8B-4429-8D43-4FCB451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9667-1032-4B9C-A1E4-F546554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ADE73-45B0-48A6-B4C3-5E6D538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D5465-254F-413D-951B-232BBCA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9CE0-F45B-4264-BEB9-AF92F5E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C91F7-EA8E-4AB0-81B0-A813BB1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36F-AC77-497A-88E9-63D992D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D480-19B7-408C-BDFE-5D383175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13F46-268F-45F1-8FF7-355A537E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17E94-2D2D-4A12-BA9B-3AE756CD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0D5B-87EB-4F06-81C6-9D77427E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9D41-F46C-40C0-BB65-0789717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AD12-48A1-494C-98EE-1F20E8E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281BC-320A-4143-BD21-6DE00F75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1C756-8EB2-4677-B79C-49918C9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2685D-00A5-463A-BA36-29CA0144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8F7C-5831-440E-8AEC-7F5928F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0F9-A034-4270-B14D-D9EBAE2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1558-5113-4C59-B70E-42EB225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F267-A434-4811-8E6F-FF10F55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DA95-997A-4043-AC92-1B260502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8AF63-994B-4037-B5F5-A87EAC65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3496-F73D-47B0-9F2F-C3BB4243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6240-1E6D-4586-8C97-05ED8B39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7F3EE-20CE-404C-9D91-F3187797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5CA99-67C3-4924-B691-0934BF14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62C99-FBBD-4F6D-9317-1B967BA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6260D-653A-4CB0-8A7A-FA367DC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883-9446-420D-8D48-4873E14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00B5B-E184-405C-B81D-A69C114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5CFA-3FB0-4957-BFD8-35B8D8E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E8365-6066-4C25-9330-23E4BFBC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87D8-4C4A-410A-BB9F-BB8E551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D7C2-324C-4E10-BEA1-BF254B36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A77ED-EE4F-455F-AC9E-808934E2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6951F-0E3A-4A83-BE46-E975978A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0FD3D-84B7-4C26-9761-DE898B57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21B79-62D5-48E8-8CE3-2318598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0E7CD-1E25-4D1B-9362-F2F8607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E41-B4D7-4FF2-9174-C6E88F7121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900-B86C-49A0-8419-8504959903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CF46-0FBD-4FEA-A7A9-1EEF242191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A1BF-15AA-476E-B97A-82CD89E86D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FCF5-71EB-43F1-82E7-EDFEFE91F87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2704-A795-4D0E-92C1-C6FBC78F1D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45E-44A7-4D83-A7E2-0E8474B55D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9DB-D51F-4081-A4D7-E6C0FB257C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30CB-8960-454E-BBC4-D299B05823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33908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1763640" y="69228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omic Sans MS"/>
                <a:ea typeface="华文彩云"/>
              </a:rPr>
              <a:t>全等三角形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9280" y="33336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如图，已知△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外角∠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∠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C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平分线相交于点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求证：点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∠</a:t>
            </a:r>
            <a:r>
              <a:rPr b="1" i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A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5294160" y="2276640"/>
          <a:ext cx="381492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4160" y="2276640"/>
                    <a:ext cx="381492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5"/>
          <p:cNvSpPr/>
          <p:nvPr/>
        </p:nvSpPr>
        <p:spPr>
          <a:xfrm>
            <a:off x="34920" y="177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1042920" y="177336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G⊥A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H⊥A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⊥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Line 7"/>
          <p:cNvSpPr/>
          <p:nvPr/>
        </p:nvSpPr>
        <p:spPr>
          <a:xfrm flipH="1" flipV="1">
            <a:off x="7637400" y="3120840"/>
            <a:ext cx="504720" cy="64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Line 8"/>
          <p:cNvSpPr/>
          <p:nvPr/>
        </p:nvSpPr>
        <p:spPr>
          <a:xfrm flipV="1">
            <a:off x="8151840" y="380952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7236000" y="276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7885080" y="463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Line 11"/>
          <p:cNvSpPr/>
          <p:nvPr/>
        </p:nvSpPr>
        <p:spPr>
          <a:xfrm flipH="1">
            <a:off x="7308360" y="3809880"/>
            <a:ext cx="884520" cy="266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6877080" y="3773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684360" y="2708280"/>
            <a:ext cx="54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C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， 　　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⊥A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⊥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660600" y="378936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466560" y="42210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又∵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B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， 　　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⊥A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⊥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309960" y="508464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2532240" y="515772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1440000" y="5805360"/>
            <a:ext cx="47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DA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　　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324000" y="476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，△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ECD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都是等边三角形，且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在一条直线上求证：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BE=A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332000" y="414972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440352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3" name="Group 27"/>
          <p:cNvGrpSpPr/>
          <p:nvPr/>
        </p:nvGrpSpPr>
        <p:grpSpPr>
          <a:xfrm>
            <a:off x="4799160" y="1262160"/>
            <a:ext cx="3732480" cy="2097000"/>
            <a:chOff x="4799160" y="1262160"/>
            <a:chExt cx="3732480" cy="2097000"/>
          </a:xfrm>
        </p:grpSpPr>
        <p:sp>
          <p:nvSpPr>
            <p:cNvPr id="544" name="Line 10"/>
            <p:cNvSpPr/>
            <p:nvPr/>
          </p:nvSpPr>
          <p:spPr>
            <a:xfrm>
              <a:off x="7246800" y="1622520"/>
              <a:ext cx="86364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Rectangle 16"/>
            <p:cNvSpPr/>
            <p:nvPr/>
          </p:nvSpPr>
          <p:spPr>
            <a:xfrm>
              <a:off x="7256880" y="1262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Rectangle 17"/>
            <p:cNvSpPr/>
            <p:nvPr/>
          </p:nvSpPr>
          <p:spPr>
            <a:xfrm>
              <a:off x="8183160" y="27748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Rectangle 18"/>
            <p:cNvSpPr/>
            <p:nvPr/>
          </p:nvSpPr>
          <p:spPr>
            <a:xfrm>
              <a:off x="6164280" y="29908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Rectangle 19"/>
            <p:cNvSpPr/>
            <p:nvPr/>
          </p:nvSpPr>
          <p:spPr>
            <a:xfrm>
              <a:off x="5601600" y="17668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20"/>
            <p:cNvSpPr/>
            <p:nvPr/>
          </p:nvSpPr>
          <p:spPr>
            <a:xfrm>
              <a:off x="5157720" y="2990880"/>
              <a:ext cx="295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Line 21"/>
            <p:cNvSpPr/>
            <p:nvPr/>
          </p:nvSpPr>
          <p:spPr>
            <a:xfrm flipV="1">
              <a:off x="5157720" y="2125440"/>
              <a:ext cx="649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Line 22"/>
            <p:cNvSpPr/>
            <p:nvPr/>
          </p:nvSpPr>
          <p:spPr>
            <a:xfrm>
              <a:off x="5807160" y="2125800"/>
              <a:ext cx="50328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 flipV="1">
              <a:off x="6310440" y="1622160"/>
              <a:ext cx="93636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5807160" y="2125800"/>
              <a:ext cx="230328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 flipV="1">
              <a:off x="5157720" y="1622160"/>
              <a:ext cx="208908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Text Box 26"/>
            <p:cNvSpPr/>
            <p:nvPr/>
          </p:nvSpPr>
          <p:spPr>
            <a:xfrm>
              <a:off x="4799160" y="2774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6" name="Text Box 28"/>
          <p:cNvSpPr/>
          <p:nvPr/>
        </p:nvSpPr>
        <p:spPr>
          <a:xfrm>
            <a:off x="4643280" y="35002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变式：</a:t>
            </a:r>
            <a:r>
              <a:rPr b="1" lang="zh-CN" sz="1800" spc="-1" strike="noStrike">
                <a:solidFill>
                  <a:srgbClr val="0000cc"/>
                </a:solidFill>
                <a:latin typeface="Comic Sans MS"/>
                <a:ea typeface="宋体"/>
              </a:rPr>
              <a:t>以上条件不变，将△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  <a:ea typeface="宋体"/>
              </a:rPr>
              <a:t>ABC</a:t>
            </a:r>
            <a:r>
              <a:rPr b="1" lang="zh-CN" sz="1800" spc="-1" strike="noStrike">
                <a:solidFill>
                  <a:srgbClr val="0000cc"/>
                </a:solidFill>
                <a:latin typeface="Comic Sans MS"/>
                <a:ea typeface="宋体"/>
              </a:rPr>
              <a:t>绕点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  <a:ea typeface="宋体"/>
              </a:rPr>
              <a:t>C</a:t>
            </a:r>
            <a:r>
              <a:rPr b="1" lang="zh-CN" sz="1800" spc="-1" strike="noStrike">
                <a:solidFill>
                  <a:srgbClr val="0000cc"/>
                </a:solidFill>
                <a:latin typeface="Comic Sans MS"/>
                <a:ea typeface="宋体"/>
              </a:rPr>
              <a:t>旋转一定角度（大于零度而小于六十度），以上的结论海成立吗？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57" name="Group 32"/>
          <p:cNvGrpSpPr/>
          <p:nvPr/>
        </p:nvGrpSpPr>
        <p:grpSpPr>
          <a:xfrm>
            <a:off x="250920" y="1557360"/>
            <a:ext cx="4537080" cy="5035680"/>
            <a:chOff x="250920" y="1557360"/>
            <a:chExt cx="4537080" cy="5035680"/>
          </a:xfrm>
        </p:grpSpPr>
        <p:sp>
          <p:nvSpPr>
            <p:cNvPr id="558" name="Text Box 29"/>
            <p:cNvSpPr/>
            <p:nvPr/>
          </p:nvSpPr>
          <p:spPr>
            <a:xfrm>
              <a:off x="250920" y="1557360"/>
              <a:ext cx="4537080" cy="50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证明</a:t>
              </a:r>
              <a:r>
                <a:rPr b="0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：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∵ 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C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CD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都是等边三角形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BC  DC=EC  ∠BCA=∠DCE=60°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∠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A+∠ACE=∠DCE+ ∠AC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即∠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=∠DC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中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=BC 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∠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CE=∠DCA 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C=E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CD≌△BCE  (SAS)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∴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E=AD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AutoShape 30"/>
            <p:cNvSpPr/>
            <p:nvPr/>
          </p:nvSpPr>
          <p:spPr>
            <a:xfrm>
              <a:off x="684360" y="4202280"/>
              <a:ext cx="380880" cy="880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611280" y="40464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：如图，已知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E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B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上，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1=∠2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， ∠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3=∠4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，那么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等于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吗？为什么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1" name="Group 15"/>
          <p:cNvGrpSpPr/>
          <p:nvPr/>
        </p:nvGrpSpPr>
        <p:grpSpPr>
          <a:xfrm>
            <a:off x="262800" y="1341360"/>
            <a:ext cx="2549520" cy="2241720"/>
            <a:chOff x="262800" y="1341360"/>
            <a:chExt cx="2549520" cy="2241720"/>
          </a:xfrm>
        </p:grpSpPr>
        <p:pic>
          <p:nvPicPr>
            <p:cNvPr id="562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1485720"/>
              <a:ext cx="200988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6"/>
            <p:cNvSpPr/>
            <p:nvPr/>
          </p:nvSpPr>
          <p:spPr>
            <a:xfrm>
              <a:off x="1114560" y="270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4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1265040" y="184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3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Rectangle 8"/>
            <p:cNvSpPr/>
            <p:nvPr/>
          </p:nvSpPr>
          <p:spPr>
            <a:xfrm>
              <a:off x="1839600" y="249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Rectangle 9"/>
            <p:cNvSpPr/>
            <p:nvPr/>
          </p:nvSpPr>
          <p:spPr>
            <a:xfrm>
              <a:off x="1821600" y="2206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Rectangle 10"/>
            <p:cNvSpPr/>
            <p:nvPr/>
          </p:nvSpPr>
          <p:spPr>
            <a:xfrm>
              <a:off x="835560" y="220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8" name="Rectangle 11"/>
            <p:cNvSpPr/>
            <p:nvPr/>
          </p:nvSpPr>
          <p:spPr>
            <a:xfrm>
              <a:off x="1042560" y="32148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Rectangle 12"/>
            <p:cNvSpPr/>
            <p:nvPr/>
          </p:nvSpPr>
          <p:spPr>
            <a:xfrm>
              <a:off x="1113120" y="1341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Rectangle 13"/>
            <p:cNvSpPr/>
            <p:nvPr/>
          </p:nvSpPr>
          <p:spPr>
            <a:xfrm>
              <a:off x="2482200" y="234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1" name="Rectangle 14"/>
            <p:cNvSpPr/>
            <p:nvPr/>
          </p:nvSpPr>
          <p:spPr>
            <a:xfrm>
              <a:off x="26280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2" name="Text Box 16"/>
          <p:cNvSpPr/>
          <p:nvPr/>
        </p:nvSpPr>
        <p:spPr>
          <a:xfrm>
            <a:off x="2627280" y="148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解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AC=A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3" name="Group 26"/>
          <p:cNvGrpSpPr/>
          <p:nvPr/>
        </p:nvGrpSpPr>
        <p:grpSpPr>
          <a:xfrm>
            <a:off x="4716360" y="1413000"/>
            <a:ext cx="3384720" cy="5049360"/>
            <a:chOff x="4716360" y="1413000"/>
            <a:chExt cx="3384720" cy="5049360"/>
          </a:xfrm>
        </p:grpSpPr>
        <p:sp>
          <p:nvSpPr>
            <p:cNvPr id="574" name="Text Box 17"/>
            <p:cNvSpPr/>
            <p:nvPr/>
          </p:nvSpPr>
          <p:spPr>
            <a:xfrm>
              <a:off x="4716360" y="1413000"/>
              <a:ext cx="3384720" cy="50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理由：在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1=∠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3=∠4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=E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EBD  (AAS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∴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BC=BD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=AB</a:t>
              </a: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1=∠2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BC=B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△ABD  (SAS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=A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5" name="AutoShape 20"/>
            <p:cNvSpPr/>
            <p:nvPr/>
          </p:nvSpPr>
          <p:spPr>
            <a:xfrm>
              <a:off x="5435640" y="198756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6" name="AutoShape 21"/>
            <p:cNvSpPr/>
            <p:nvPr/>
          </p:nvSpPr>
          <p:spPr>
            <a:xfrm>
              <a:off x="5435640" y="450828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0"/>
          <p:cNvGrpSpPr/>
          <p:nvPr/>
        </p:nvGrpSpPr>
        <p:grpSpPr>
          <a:xfrm>
            <a:off x="179280" y="189000"/>
            <a:ext cx="7632720" cy="4113000"/>
            <a:chOff x="179280" y="189000"/>
            <a:chExt cx="7632720" cy="4113000"/>
          </a:xfrm>
        </p:grpSpPr>
        <p:sp>
          <p:nvSpPr>
            <p:cNvPr id="578" name="Text Box 4"/>
            <p:cNvSpPr/>
            <p:nvPr/>
          </p:nvSpPr>
          <p:spPr>
            <a:xfrm>
              <a:off x="179280" y="1890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4e3b30"/>
                  </a:solidFill>
                  <a:latin typeface="Comic Sans MS"/>
                  <a:ea typeface="隶书"/>
                </a:rPr>
                <a:t>练习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9" name="Text Box 5"/>
            <p:cNvSpPr/>
            <p:nvPr/>
          </p:nvSpPr>
          <p:spPr>
            <a:xfrm>
              <a:off x="539640" y="98100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e3b30"/>
                  </a:solidFill>
                  <a:latin typeface="Comic Sans MS"/>
                  <a:ea typeface="宋体"/>
                </a:rPr>
                <a:t>6</a:t>
              </a:r>
              <a:r>
                <a:rPr b="1" lang="zh-CN" sz="2400" spc="-1" strike="noStrike">
                  <a:solidFill>
                    <a:srgbClr val="4e3b30"/>
                  </a:solidFill>
                  <a:latin typeface="Comic Sans MS"/>
                  <a:ea typeface="宋体"/>
                </a:rPr>
                <a:t>：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如图，已知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∥DE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=DE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，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F=D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。请问图中有那几对全等三角形？请任选一对给予证明。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80" name="Group 13"/>
            <p:cNvGrpSpPr/>
            <p:nvPr/>
          </p:nvGrpSpPr>
          <p:grpSpPr>
            <a:xfrm>
              <a:off x="191160" y="1989000"/>
              <a:ext cx="3433320" cy="2313000"/>
              <a:chOff x="191160" y="1989000"/>
              <a:chExt cx="3433320" cy="2313000"/>
            </a:xfrm>
          </p:grpSpPr>
          <p:pic>
            <p:nvPicPr>
              <p:cNvPr id="58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4920" y="2060640"/>
                <a:ext cx="3048120" cy="209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7"/>
              <p:cNvSpPr/>
              <p:nvPr/>
            </p:nvSpPr>
            <p:spPr>
              <a:xfrm>
                <a:off x="971280" y="285264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宋体"/>
                  </a:rPr>
                  <a:t>F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3" name="Rectangle 8"/>
              <p:cNvSpPr/>
              <p:nvPr/>
            </p:nvSpPr>
            <p:spPr>
              <a:xfrm>
                <a:off x="2205000" y="198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宋体"/>
                  </a:rPr>
                  <a:t>E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4" name="Rectangle 9"/>
              <p:cNvSpPr/>
              <p:nvPr/>
            </p:nvSpPr>
            <p:spPr>
              <a:xfrm>
                <a:off x="3276000" y="3068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5" name="Rectangle 10"/>
              <p:cNvSpPr/>
              <p:nvPr/>
            </p:nvSpPr>
            <p:spPr>
              <a:xfrm>
                <a:off x="2554200" y="3213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6" name="Rectangle 11"/>
              <p:cNvSpPr/>
              <p:nvPr/>
            </p:nvSpPr>
            <p:spPr>
              <a:xfrm>
                <a:off x="1402200" y="39337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7" name="Rectangle 12"/>
              <p:cNvSpPr/>
              <p:nvPr/>
            </p:nvSpPr>
            <p:spPr>
              <a:xfrm>
                <a:off x="191160" y="2997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88" name="Rectangle 14"/>
            <p:cNvSpPr/>
            <p:nvPr/>
          </p:nvSpPr>
          <p:spPr>
            <a:xfrm>
              <a:off x="392544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答：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Rectangle 15"/>
            <p:cNvSpPr/>
            <p:nvPr/>
          </p:nvSpPr>
          <p:spPr>
            <a:xfrm>
              <a:off x="4727880" y="1989000"/>
              <a:ext cx="160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e3b30"/>
                  </a:solidFill>
                  <a:latin typeface="Comic Sans MS"/>
                  <a:ea typeface="宋体"/>
                </a:rPr>
                <a:t>△</a:t>
              </a:r>
              <a:r>
                <a:rPr b="1" lang="en-US" sz="1800" spc="-1" strike="noStrike">
                  <a:solidFill>
                    <a:srgbClr val="4e3b30"/>
                  </a:solidFill>
                  <a:latin typeface="Comic Sans MS"/>
                  <a:ea typeface="宋体"/>
                </a:rPr>
                <a:t>ABC≌△DE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0" name="Rectangle 16"/>
          <p:cNvSpPr/>
          <p:nvPr/>
        </p:nvSpPr>
        <p:spPr>
          <a:xfrm>
            <a:off x="4035960" y="2414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证明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1" name="Group 19"/>
          <p:cNvGrpSpPr/>
          <p:nvPr/>
        </p:nvGrpSpPr>
        <p:grpSpPr>
          <a:xfrm>
            <a:off x="4788000" y="2565360"/>
            <a:ext cx="3456000" cy="3660120"/>
            <a:chOff x="4788000" y="2565360"/>
            <a:chExt cx="3456000" cy="3660120"/>
          </a:xfrm>
        </p:grpSpPr>
        <p:sp>
          <p:nvSpPr>
            <p:cNvPr id="592" name="Rectangle 17"/>
            <p:cNvSpPr/>
            <p:nvPr/>
          </p:nvSpPr>
          <p:spPr>
            <a:xfrm>
              <a:off x="4788000" y="2565360"/>
              <a:ext cx="34560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∵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∥D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=∠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∵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F=D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F+FC=DC+F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=D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在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和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DEF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中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C=D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∠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=∠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       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=D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∴ △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ABC≌△DEF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（</a:t>
              </a: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  <a:ea typeface="宋体"/>
                </a:rPr>
                <a:t>SAS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AutoShape 18"/>
            <p:cNvSpPr/>
            <p:nvPr/>
          </p:nvSpPr>
          <p:spPr>
            <a:xfrm>
              <a:off x="5219640" y="4438800"/>
              <a:ext cx="216000" cy="1079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4"/>
          <p:cNvSpPr/>
          <p:nvPr/>
        </p:nvSpPr>
        <p:spPr>
          <a:xfrm>
            <a:off x="746280" y="11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Comic Sans MS"/>
                <a:ea typeface="宋体"/>
              </a:rPr>
              <a:t>练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5" name="Group 9"/>
          <p:cNvGrpSpPr/>
          <p:nvPr/>
        </p:nvGrpSpPr>
        <p:grpSpPr>
          <a:xfrm>
            <a:off x="900000" y="981000"/>
            <a:ext cx="6624720" cy="1897200"/>
            <a:chOff x="900000" y="981000"/>
            <a:chExt cx="6624720" cy="1897200"/>
          </a:xfrm>
        </p:grpSpPr>
        <p:sp>
          <p:nvSpPr>
            <p:cNvPr id="596" name="Text Box 5"/>
            <p:cNvSpPr/>
            <p:nvPr/>
          </p:nvSpPr>
          <p:spPr>
            <a:xfrm>
              <a:off x="900000" y="981000"/>
              <a:ext cx="66247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：如图，已知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G∥AF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，请你从下面三个条件中，再选出两个作为已知条件，另一个作为结论，推出一个正确的命题。（只写出一种情况）①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B=AC ②DE=DF ③BE=C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已知：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G∥AF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求证：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597" name="Picture 6" descr=""/>
            <p:cNvPicPr/>
            <p:nvPr/>
          </p:nvPicPr>
          <p:blipFill>
            <a:blip r:embed="rId1"/>
            <a:stretch/>
          </p:blipFill>
          <p:spPr>
            <a:xfrm>
              <a:off x="1981080" y="2421000"/>
              <a:ext cx="19814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7" descr=""/>
            <p:cNvPicPr/>
            <p:nvPr/>
          </p:nvPicPr>
          <p:blipFill>
            <a:blip r:embed="rId2"/>
            <a:stretch/>
          </p:blipFill>
          <p:spPr>
            <a:xfrm>
              <a:off x="4932360" y="1989360"/>
              <a:ext cx="1981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8" descr=""/>
            <p:cNvPicPr/>
            <p:nvPr/>
          </p:nvPicPr>
          <p:blipFill>
            <a:blip r:embed="rId3"/>
            <a:stretch/>
          </p:blipFill>
          <p:spPr>
            <a:xfrm>
              <a:off x="2989080" y="1989360"/>
              <a:ext cx="19814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Group 19"/>
          <p:cNvGrpSpPr/>
          <p:nvPr/>
        </p:nvGrpSpPr>
        <p:grpSpPr>
          <a:xfrm>
            <a:off x="3563280" y="2708280"/>
            <a:ext cx="3696120" cy="2357280"/>
            <a:chOff x="3563280" y="2708280"/>
            <a:chExt cx="3696120" cy="2357280"/>
          </a:xfrm>
        </p:grpSpPr>
        <p:pic>
          <p:nvPicPr>
            <p:cNvPr id="601" name="Picture 10" descr=""/>
            <p:cNvPicPr/>
            <p:nvPr/>
          </p:nvPicPr>
          <p:blipFill>
            <a:blip r:embed="rId4"/>
            <a:stretch/>
          </p:blipFill>
          <p:spPr>
            <a:xfrm>
              <a:off x="3635280" y="2781360"/>
              <a:ext cx="344484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12"/>
            <p:cNvSpPr/>
            <p:nvPr/>
          </p:nvSpPr>
          <p:spPr>
            <a:xfrm>
              <a:off x="4424040" y="436572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G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3" name="Rectangle 13"/>
            <p:cNvSpPr/>
            <p:nvPr/>
          </p:nvSpPr>
          <p:spPr>
            <a:xfrm>
              <a:off x="6959880" y="46530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F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4" name="Rectangle 14"/>
            <p:cNvSpPr/>
            <p:nvPr/>
          </p:nvSpPr>
          <p:spPr>
            <a:xfrm>
              <a:off x="40057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5" name="Rectangle 15"/>
            <p:cNvSpPr/>
            <p:nvPr/>
          </p:nvSpPr>
          <p:spPr>
            <a:xfrm>
              <a:off x="5436720" y="4365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Rectangle 16"/>
            <p:cNvSpPr/>
            <p:nvPr/>
          </p:nvSpPr>
          <p:spPr>
            <a:xfrm>
              <a:off x="6515280" y="4149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7" name="Rectangle 17"/>
            <p:cNvSpPr/>
            <p:nvPr/>
          </p:nvSpPr>
          <p:spPr>
            <a:xfrm>
              <a:off x="3563280" y="42210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Rectangle 18"/>
            <p:cNvSpPr/>
            <p:nvPr/>
          </p:nvSpPr>
          <p:spPr>
            <a:xfrm>
              <a:off x="5088600" y="27082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9" name="Rectangle 20"/>
          <p:cNvSpPr/>
          <p:nvPr/>
        </p:nvSpPr>
        <p:spPr>
          <a:xfrm>
            <a:off x="1307160" y="595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高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0" y="0"/>
            <a:ext cx="2050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拓展题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36360" y="1052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=AE,AC=AD,AC⊥AD,AB⊥AE;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4356000" y="4437000"/>
            <a:ext cx="1871640" cy="1800360"/>
            <a:chOff x="4356000" y="4437000"/>
            <a:chExt cx="1871640" cy="1800360"/>
          </a:xfrm>
        </p:grpSpPr>
        <p:sp>
          <p:nvSpPr>
            <p:cNvPr id="613" name="Line 5"/>
            <p:cNvSpPr/>
            <p:nvPr/>
          </p:nvSpPr>
          <p:spPr>
            <a:xfrm>
              <a:off x="4356000" y="4437000"/>
              <a:ext cx="180036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4" name="Line 6"/>
            <p:cNvSpPr/>
            <p:nvPr/>
          </p:nvSpPr>
          <p:spPr>
            <a:xfrm flipV="1">
              <a:off x="6156360" y="5084640"/>
              <a:ext cx="712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5" name="Line 7"/>
            <p:cNvSpPr/>
            <p:nvPr/>
          </p:nvSpPr>
          <p:spPr>
            <a:xfrm>
              <a:off x="4356000" y="4437000"/>
              <a:ext cx="1871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16" name="Group 8"/>
          <p:cNvGrpSpPr/>
          <p:nvPr/>
        </p:nvGrpSpPr>
        <p:grpSpPr>
          <a:xfrm>
            <a:off x="5208840" y="5054040"/>
            <a:ext cx="2097720" cy="1722600"/>
            <a:chOff x="5208840" y="5054040"/>
            <a:chExt cx="2097720" cy="1722600"/>
          </a:xfrm>
        </p:grpSpPr>
        <p:sp>
          <p:nvSpPr>
            <p:cNvPr id="617" name="Line 9"/>
            <p:cNvSpPr/>
            <p:nvPr/>
          </p:nvSpPr>
          <p:spPr>
            <a:xfrm flipV="1">
              <a:off x="5208840" y="5333400"/>
              <a:ext cx="2097720" cy="14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8" name="Line 10"/>
            <p:cNvSpPr/>
            <p:nvPr/>
          </p:nvSpPr>
          <p:spPr>
            <a:xfrm flipH="1" flipV="1">
              <a:off x="6185880" y="5054040"/>
              <a:ext cx="112068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9" name="Line 11"/>
            <p:cNvSpPr/>
            <p:nvPr/>
          </p:nvSpPr>
          <p:spPr>
            <a:xfrm flipV="1">
              <a:off x="5208840" y="5054040"/>
              <a:ext cx="977040" cy="17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0" name="Text Box 12"/>
          <p:cNvSpPr/>
          <p:nvPr/>
        </p:nvSpPr>
        <p:spPr>
          <a:xfrm>
            <a:off x="385128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7308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6012000" y="465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4572000" y="623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558000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5653080" y="587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6012000" y="623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7" name="Rectangle 19"/>
          <p:cNvSpPr/>
          <p:nvPr/>
        </p:nvSpPr>
        <p:spPr>
          <a:xfrm>
            <a:off x="1959480" y="2205000"/>
            <a:ext cx="52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怎样变换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的一个位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使它们重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Rectangle 20"/>
          <p:cNvSpPr/>
          <p:nvPr/>
        </p:nvSpPr>
        <p:spPr>
          <a:xfrm>
            <a:off x="1217520" y="2852640"/>
            <a:ext cx="58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对应边有怎样的位置关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Rectangle 21"/>
          <p:cNvSpPr/>
          <p:nvPr/>
        </p:nvSpPr>
        <p:spPr>
          <a:xfrm>
            <a:off x="83520" y="34146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试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D⊥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0" name="Rectangle 22"/>
          <p:cNvSpPr/>
          <p:nvPr/>
        </p:nvSpPr>
        <p:spPr>
          <a:xfrm>
            <a:off x="805320" y="157644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图中有没有全等三角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0" y="0"/>
            <a:ext cx="2050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拓展题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0" y="105264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已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=∠D,AB=DE,AF=CD,BC=E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求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BC∥E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395280" y="2997360"/>
            <a:ext cx="4897440" cy="3628080"/>
            <a:chOff x="395280" y="2997360"/>
            <a:chExt cx="4897440" cy="3628080"/>
          </a:xfrm>
        </p:grpSpPr>
        <p:grpSp>
          <p:nvGrpSpPr>
            <p:cNvPr id="634" name="Group 5"/>
            <p:cNvGrpSpPr/>
            <p:nvPr/>
          </p:nvGrpSpPr>
          <p:grpSpPr>
            <a:xfrm>
              <a:off x="899640" y="3500280"/>
              <a:ext cx="3672360" cy="2665440"/>
              <a:chOff x="899640" y="3500280"/>
              <a:chExt cx="3672360" cy="2665440"/>
            </a:xfrm>
          </p:grpSpPr>
          <p:sp>
            <p:nvSpPr>
              <p:cNvPr id="635" name="Line 6"/>
              <p:cNvSpPr/>
              <p:nvPr/>
            </p:nvSpPr>
            <p:spPr>
              <a:xfrm flipH="1">
                <a:off x="899640" y="3500280"/>
                <a:ext cx="158436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6" name="Line 7"/>
              <p:cNvSpPr/>
              <p:nvPr/>
            </p:nvSpPr>
            <p:spPr>
              <a:xfrm>
                <a:off x="900000" y="5445000"/>
                <a:ext cx="57636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7" name="Line 8"/>
              <p:cNvSpPr/>
              <p:nvPr/>
            </p:nvSpPr>
            <p:spPr>
              <a:xfrm>
                <a:off x="1476360" y="616572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8" name="Line 9"/>
              <p:cNvSpPr/>
              <p:nvPr/>
            </p:nvSpPr>
            <p:spPr>
              <a:xfrm>
                <a:off x="2484360" y="350028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9" name="Line 10"/>
              <p:cNvSpPr/>
              <p:nvPr/>
            </p:nvSpPr>
            <p:spPr>
              <a:xfrm>
                <a:off x="3995640" y="3500280"/>
                <a:ext cx="57636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0" name="Line 11"/>
              <p:cNvSpPr/>
              <p:nvPr/>
            </p:nvSpPr>
            <p:spPr>
              <a:xfrm flipH="1">
                <a:off x="2987280" y="4221000"/>
                <a:ext cx="158436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41" name="Text Box 12"/>
            <p:cNvSpPr/>
            <p:nvPr/>
          </p:nvSpPr>
          <p:spPr>
            <a:xfrm>
              <a:off x="1042920" y="6093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2" name="Text Box 13"/>
            <p:cNvSpPr/>
            <p:nvPr/>
          </p:nvSpPr>
          <p:spPr>
            <a:xfrm>
              <a:off x="2771640" y="6165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3" name="Text Box 14"/>
            <p:cNvSpPr/>
            <p:nvPr/>
          </p:nvSpPr>
          <p:spPr>
            <a:xfrm>
              <a:off x="39528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4" name="Text Box 15"/>
            <p:cNvSpPr/>
            <p:nvPr/>
          </p:nvSpPr>
          <p:spPr>
            <a:xfrm>
              <a:off x="2268360" y="306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5" name="Text Box 16"/>
            <p:cNvSpPr/>
            <p:nvPr/>
          </p:nvSpPr>
          <p:spPr>
            <a:xfrm>
              <a:off x="385128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6" name="Text Box 17"/>
            <p:cNvSpPr/>
            <p:nvPr/>
          </p:nvSpPr>
          <p:spPr>
            <a:xfrm>
              <a:off x="4716360" y="3933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0" y="0"/>
            <a:ext cx="2050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拓展题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0" y="141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平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B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+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等吗？请说明理由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0" y="2349360"/>
            <a:ext cx="4822560" cy="2547360"/>
            <a:chOff x="0" y="2349360"/>
            <a:chExt cx="4822560" cy="2547360"/>
          </a:xfrm>
        </p:grpSpPr>
        <p:sp>
          <p:nvSpPr>
            <p:cNvPr id="650" name="Line 5"/>
            <p:cNvSpPr/>
            <p:nvPr/>
          </p:nvSpPr>
          <p:spPr>
            <a:xfrm flipH="1">
              <a:off x="286920" y="2852640"/>
              <a:ext cx="936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1" name="Line 6"/>
            <p:cNvSpPr/>
            <p:nvPr/>
          </p:nvSpPr>
          <p:spPr>
            <a:xfrm>
              <a:off x="287280" y="443700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2" name="Line 7"/>
            <p:cNvSpPr/>
            <p:nvPr/>
          </p:nvSpPr>
          <p:spPr>
            <a:xfrm flipV="1">
              <a:off x="287280" y="3141000"/>
              <a:ext cx="23050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3" name="Line 8"/>
            <p:cNvSpPr/>
            <p:nvPr/>
          </p:nvSpPr>
          <p:spPr>
            <a:xfrm>
              <a:off x="1223640" y="2852640"/>
              <a:ext cx="2592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4" name="Line 9"/>
            <p:cNvSpPr/>
            <p:nvPr/>
          </p:nvSpPr>
          <p:spPr>
            <a:xfrm flipH="1">
              <a:off x="3168360" y="3428640"/>
              <a:ext cx="648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5" name="Line 10"/>
            <p:cNvSpPr/>
            <p:nvPr/>
          </p:nvSpPr>
          <p:spPr>
            <a:xfrm>
              <a:off x="2592360" y="3141360"/>
              <a:ext cx="57600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6" name="Text Box 11"/>
            <p:cNvSpPr/>
            <p:nvPr/>
          </p:nvSpPr>
          <p:spPr>
            <a:xfrm>
              <a:off x="0" y="42922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7" name="Text Box 12"/>
            <p:cNvSpPr/>
            <p:nvPr/>
          </p:nvSpPr>
          <p:spPr>
            <a:xfrm>
              <a:off x="934920" y="23493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8" name="Text Box 13"/>
            <p:cNvSpPr/>
            <p:nvPr/>
          </p:nvSpPr>
          <p:spPr>
            <a:xfrm>
              <a:off x="2447640" y="26366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9" name="Text Box 14"/>
            <p:cNvSpPr/>
            <p:nvPr/>
          </p:nvSpPr>
          <p:spPr>
            <a:xfrm>
              <a:off x="3024000" y="44370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60" name="Text Box 15"/>
            <p:cNvSpPr/>
            <p:nvPr/>
          </p:nvSpPr>
          <p:spPr>
            <a:xfrm>
              <a:off x="3887640" y="31413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61" name="Text Box 16"/>
          <p:cNvSpPr/>
          <p:nvPr/>
        </p:nvSpPr>
        <p:spPr>
          <a:xfrm>
            <a:off x="4498920" y="2565360"/>
            <a:ext cx="464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证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两条线段的和与一条线段相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常用的两种方法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可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长线段上截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两条线段中一条相等的一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然后证明剩余的线段与另一条线段相等。（割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把一个三角形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另一位置，使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两线段补成一条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再证明它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长线段相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（补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2560" y="-1125000"/>
            <a:ext cx="651348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0" y="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11.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如图：在四边形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ABCD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中，点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E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在边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CD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上，连接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AE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BE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并延长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AE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交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BC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的延长线于点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F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，给出下列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个关系式：：①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AD∥BC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，②，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DE=EC③∠1=∠2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，④∠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3=∠4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，⑤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AD+BC=AB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。将其中三个关系式作为已知，另外两个作为结论，构成正确的命题。请用序号写出两个正确的命题：（书写形式：如果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那么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）（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）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黑体"/>
                <a:ea typeface="黑体"/>
              </a:rPr>
              <a:t>                 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；（</a:t>
            </a:r>
            <a:r>
              <a:rPr b="0" lang="en-US" sz="3200" spc="-1" strike="noStrike">
                <a:solidFill>
                  <a:srgbClr val="4e3b3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）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黑体"/>
                <a:ea typeface="黑体"/>
              </a:rPr>
              <a:t>                 </a:t>
            </a:r>
            <a:r>
              <a:rPr b="0" lang="zh-CN" sz="3200" spc="-1" strike="noStrike">
                <a:solidFill>
                  <a:srgbClr val="4e3b3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64" name="Group 9"/>
          <p:cNvGrpSpPr/>
          <p:nvPr/>
        </p:nvGrpSpPr>
        <p:grpSpPr>
          <a:xfrm>
            <a:off x="5580000" y="3573360"/>
            <a:ext cx="2521080" cy="2144880"/>
            <a:chOff x="5580000" y="3573360"/>
            <a:chExt cx="2521080" cy="2144880"/>
          </a:xfrm>
        </p:grpSpPr>
        <p:pic>
          <p:nvPicPr>
            <p:cNvPr id="665" name="Picture 7" descr=""/>
            <p:cNvPicPr/>
            <p:nvPr/>
          </p:nvPicPr>
          <p:blipFill>
            <a:blip r:embed="rId1"/>
            <a:stretch/>
          </p:blipFill>
          <p:spPr>
            <a:xfrm>
              <a:off x="5580000" y="3573360"/>
              <a:ext cx="2521080" cy="21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8"/>
            <p:cNvSpPr/>
            <p:nvPr/>
          </p:nvSpPr>
          <p:spPr>
            <a:xfrm>
              <a:off x="5940360" y="5300640"/>
              <a:ext cx="7923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-141300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5564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12.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如图，在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R△AB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中，∠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CB=450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∠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AC=900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B=A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点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是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B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的中点，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F⊥CD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于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H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交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于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F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E∥A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交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F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的延长线于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E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求证：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垂直且平分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DE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4859280" y="2924280"/>
          <a:ext cx="378000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924280"/>
                    <a:ext cx="37800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250920" y="1159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Comic Sans MS"/>
              </a:rPr>
              <a:t>一、全等三角形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826920" y="765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什么是全等三角形？一个三角形经过哪些变化可以得到它的全等形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900000" y="285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：全等三角形有哪些性质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755640" y="162864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能够完全重合的两个三角形叫做全等三角形。一个三角形经过平移、翻折、旋转可以得到它的全等形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755640" y="335772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1</a:t>
            </a: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）全等三角形的对应边相等、对应角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2</a:t>
            </a: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）全等三角形的周长相等、面积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3</a:t>
            </a:r>
            <a:r>
              <a:rPr b="1" lang="zh-CN" sz="2400" spc="-1" strike="noStrike">
                <a:solidFill>
                  <a:srgbClr val="4e3b30"/>
                </a:solidFill>
                <a:latin typeface="Comic Sans MS"/>
                <a:ea typeface="宋体"/>
              </a:rPr>
              <a:t>）全等三角形的对应边上的对应中线、角平分线、高线分别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2050920" y="601020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-270720"/>
            <a:ext cx="6870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13.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已知：如图：在△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B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中，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E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CF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分别是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B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两边上的高，在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E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上截取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BD=AC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在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CF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的延长线上截取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CG=AB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，连结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D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G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求证：△ </a:t>
            </a:r>
            <a:r>
              <a:rPr b="0" lang="en-US" sz="3600" spc="-1" strike="noStrike">
                <a:solidFill>
                  <a:srgbClr val="4e3b30"/>
                </a:solidFill>
                <a:latin typeface="黑体"/>
                <a:ea typeface="黑体"/>
              </a:rPr>
              <a:t>ADG </a:t>
            </a:r>
            <a:r>
              <a:rPr b="0" lang="zh-CN" sz="3600" spc="-1" strike="noStrike">
                <a:solidFill>
                  <a:srgbClr val="4e3b30"/>
                </a:solidFill>
                <a:latin typeface="黑体"/>
                <a:ea typeface="黑体"/>
              </a:rPr>
              <a:t>为等腰直角三角形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2952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360360" y="109440"/>
            <a:ext cx="7199280" cy="248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八年级数学3-04"/>
          <p:cNvPicPr/>
          <p:nvPr/>
        </p:nvPicPr>
        <p:blipFill>
          <a:blip r:embed="rId2"/>
          <a:srcRect l="63830" t="3566" r="8511" b="82084"/>
          <a:stretch/>
        </p:blipFill>
        <p:spPr>
          <a:xfrm>
            <a:off x="4788000" y="1484280"/>
            <a:ext cx="24969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539640" y="40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Comic Sans MS"/>
                <a:ea typeface="隶书"/>
              </a:rPr>
              <a:t>总结提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116000" y="1125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omic Sans MS"/>
                <a:ea typeface="隶书"/>
              </a:rPr>
              <a:t>学习全等三角形应注意以下几个问题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900000" y="1628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1):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要正确区分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，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应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与     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不同含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900000" y="24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表示两个三角形全等时，表示对应顶点的字母要写在对应的位置上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826920" y="3357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要记住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三个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或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有两边及其中一边的对角对应相等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的两个三角形不一定全等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755640" y="4221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4e3b3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）：时刻注意图形中的隐含条件，如 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 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公共边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、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4e3b30"/>
                </a:solidFill>
                <a:latin typeface="隶书"/>
                <a:ea typeface="隶书"/>
              </a:rPr>
              <a:t>对顶角</a:t>
            </a: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隶书"/>
              </a:rPr>
              <a:t>”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11280" y="2602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知识回顾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187280" y="1125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一般三角形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的条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332000" y="184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定义（重合）法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332000" y="2492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2.SS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330200" y="3141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3.SA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332000" y="3789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4.ASA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</a:rPr>
              <a:t>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332000" y="44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5.AAS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87280" y="5157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直角三角形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特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条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7091280" y="5084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</a:rPr>
              <a:t>HL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4140360" y="260280"/>
            <a:ext cx="4608360" cy="1009800"/>
          </a:xfrm>
          <a:prstGeom prst="wedgeRoundRectCallout">
            <a:avLst>
              <a:gd name="adj1" fmla="val -59439"/>
              <a:gd name="adj2" fmla="val 48268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</a:rPr>
              <a:t>包括直角三角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5364000" y="3068640"/>
            <a:ext cx="3600720" cy="1584360"/>
          </a:xfrm>
          <a:prstGeom prst="wedgeRoundRectCallout">
            <a:avLst>
              <a:gd name="adj1" fmla="val -58555"/>
              <a:gd name="adj2" fmla="val 84768"/>
              <a:gd name="adj3" fmla="val 16667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644e"/>
                </a:solidFill>
                <a:latin typeface="Arial"/>
              </a:rPr>
              <a:t>不包括其它形状的三角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8" name="Group 13"/>
          <p:cNvGrpSpPr/>
          <p:nvPr/>
        </p:nvGrpSpPr>
        <p:grpSpPr>
          <a:xfrm>
            <a:off x="0" y="2462040"/>
            <a:ext cx="1332000" cy="2406960"/>
            <a:chOff x="0" y="2462040"/>
            <a:chExt cx="1332000" cy="2406960"/>
          </a:xfrm>
        </p:grpSpPr>
        <p:sp>
          <p:nvSpPr>
            <p:cNvPr id="419" name="Text Box 14"/>
            <p:cNvSpPr/>
            <p:nvPr/>
          </p:nvSpPr>
          <p:spPr>
            <a:xfrm>
              <a:off x="0" y="2462040"/>
              <a:ext cx="1258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解题中常用的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种方法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AutoShape 15"/>
            <p:cNvSpPr/>
            <p:nvPr/>
          </p:nvSpPr>
          <p:spPr>
            <a:xfrm>
              <a:off x="1187280" y="2924280"/>
              <a:ext cx="144720" cy="1944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543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宋体"/>
              </a:rPr>
              <a:t>三角形全等的判定方法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0" y="620640"/>
            <a:ext cx="914400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边边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边对应相等的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S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边角边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它们的夹角对应相等两个三角形全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AS”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角边角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角和它们的夹边对应相等的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SA”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角角边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角和其中一角的对边对应相等的两个三角形全等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可简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AS”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Comic Sans MS"/>
                <a:ea typeface="宋体"/>
              </a:rPr>
              <a:t>斜边</a:t>
            </a:r>
            <a:r>
              <a:rPr b="1" lang="en-US" sz="2800" spc="-1" strike="noStrike">
                <a:solidFill>
                  <a:srgbClr val="4e3b30"/>
                </a:solidFill>
                <a:latin typeface="Comic Sans MS"/>
                <a:ea typeface="宋体"/>
              </a:rPr>
              <a:t>.</a:t>
            </a:r>
            <a:r>
              <a:rPr b="1" lang="zh-CN" sz="2800" spc="-1" strike="noStrike">
                <a:solidFill>
                  <a:srgbClr val="4e3b30"/>
                </a:solidFill>
                <a:latin typeface="Comic Sans MS"/>
                <a:ea typeface="宋体"/>
              </a:rPr>
              <a:t>直角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斜边和一条直角边对应相等的两个直角三角形全等（可简写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4"/>
          <p:cNvSpPr/>
          <p:nvPr/>
        </p:nvSpPr>
        <p:spPr>
          <a:xfrm>
            <a:off x="250920" y="260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Comic Sans MS"/>
                <a:ea typeface="隶书"/>
              </a:rPr>
              <a:t>方法指引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611280" y="98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宋体"/>
              </a:rPr>
              <a:t>证明两个三角形全等的基本思路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95280" y="191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）：已知两边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----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635280" y="2060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>
            <a:off x="3564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334800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56400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AutoShape 12"/>
          <p:cNvSpPr/>
          <p:nvPr/>
        </p:nvSpPr>
        <p:spPr>
          <a:xfrm>
            <a:off x="2627280" y="1628640"/>
            <a:ext cx="380880" cy="93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291636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第三边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99564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SS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916360" y="1844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夹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3924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S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46836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2):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一边一角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---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3400560" y="365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2556000" y="3429000"/>
            <a:ext cx="380880" cy="865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91636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一边和它的邻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3924360" y="198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298764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是否有直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500720" y="2276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HL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2916360" y="42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一边和它的对角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AutoShape 26"/>
          <p:cNvSpPr/>
          <p:nvPr/>
        </p:nvSpPr>
        <p:spPr>
          <a:xfrm>
            <a:off x="5076720" y="407664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4" name="AutoShape 27"/>
          <p:cNvSpPr/>
          <p:nvPr/>
        </p:nvSpPr>
        <p:spPr>
          <a:xfrm>
            <a:off x="5076720" y="299736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5508720" y="278136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这边的另一个邻角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SA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550872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这个角的另一个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S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55087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这边的对角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5580000" y="414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一角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Text Box 33"/>
          <p:cNvSpPr/>
          <p:nvPr/>
        </p:nvSpPr>
        <p:spPr>
          <a:xfrm>
            <a:off x="5508720" y="45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角是直角，找一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HL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539640" y="54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3):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已知两角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---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AutoShape 35"/>
          <p:cNvSpPr/>
          <p:nvPr/>
        </p:nvSpPr>
        <p:spPr>
          <a:xfrm>
            <a:off x="2195640" y="5229360"/>
            <a:ext cx="380880" cy="865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36"/>
          <p:cNvSpPr/>
          <p:nvPr/>
        </p:nvSpPr>
        <p:spPr>
          <a:xfrm>
            <a:off x="2482920" y="522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两角的夹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</a:t>
            </a:r>
            <a:r>
              <a:rPr b="0" lang="en-US" sz="1800" spc="-1" strike="noStrike">
                <a:solidFill>
                  <a:srgbClr val="ad1f1f"/>
                </a:solidFill>
                <a:latin typeface="Comic Sans MS"/>
                <a:ea typeface="宋体"/>
              </a:rPr>
              <a:t>AS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Text Box 37"/>
          <p:cNvSpPr/>
          <p:nvPr/>
        </p:nvSpPr>
        <p:spPr>
          <a:xfrm>
            <a:off x="255600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找夹边外的任意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(AA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38"/>
          <p:cNvSpPr/>
          <p:nvPr/>
        </p:nvSpPr>
        <p:spPr>
          <a:xfrm>
            <a:off x="1258920" y="61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隶书"/>
              </a:rPr>
              <a:t>练习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-360" y="764640"/>
            <a:ext cx="8893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.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证明两个三角形全等，要结合题目的条件和结论，选择恰当的判定方法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全等三角形，是证明两条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线段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或两个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角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相等的重要方法之一，证明时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　①要观察待证的线段或角，在哪两个可能全等的三角形中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　②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分析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要证两个三角形全等，已有什么条件，还缺什么条件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　③有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</a:rPr>
              <a:t>公共边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的，公共边一定是对应边， 有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</a:rPr>
              <a:t>公共角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的，公共角一定是对应角，有</a:t>
            </a:r>
            <a:r>
              <a:rPr b="1" lang="zh-CN" sz="2800" spc="-1" strike="noStrike">
                <a:solidFill>
                  <a:srgbClr val="0000ff"/>
                </a:solidFill>
                <a:latin typeface="Franklin Gothic Book"/>
              </a:rPr>
              <a:t>对顶角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对顶角也是对应角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总之，证明过程中能用简单方法的就不要绕弯路。</a:t>
            </a: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randomBar dir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6084720" y="1125360"/>
            <a:ext cx="2843280" cy="253548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"/>
          <p:cNvSpPr/>
          <p:nvPr/>
        </p:nvSpPr>
        <p:spPr>
          <a:xfrm>
            <a:off x="179280" y="3645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的内部到角的两边的距离相等的点在角的平分线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395280" y="47235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用法：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D⊥OA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E⊥OB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E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          ∴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a5644e"/>
                </a:solidFill>
                <a:latin typeface="黑体"/>
              </a:rPr>
              <a:t>的平分线上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179280" y="1052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的平分线上的点到角的两边的距离相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08000" y="1666800"/>
            <a:ext cx="63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用法：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D⊥OA,QE⊥OB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         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点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在∠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AOB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的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黑体"/>
              </a:rPr>
              <a:t>      ∴ 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D</a:t>
            </a:r>
            <a:r>
              <a:rPr b="0" lang="zh-CN" sz="2800" spc="-1" strike="noStrike">
                <a:solidFill>
                  <a:srgbClr val="a5644e"/>
                </a:solidFill>
                <a:latin typeface="黑体"/>
              </a:rPr>
              <a:t>＝</a:t>
            </a:r>
            <a:r>
              <a:rPr b="0" lang="en-US" sz="2800" spc="-1" strike="noStrike">
                <a:solidFill>
                  <a:srgbClr val="a5644e"/>
                </a:solidFill>
                <a:latin typeface="黑体"/>
              </a:rPr>
              <a:t>Q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324000" y="0"/>
            <a:ext cx="45352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Comic Sans MS"/>
              </a:rPr>
              <a:t>二、角的平分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角平分线的性质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324000" y="3068640"/>
            <a:ext cx="38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角平分线的判定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755640" y="692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：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=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E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=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D=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E=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908000" y="2349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12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258920" y="3284640"/>
            <a:ext cx="3673440" cy="1800000"/>
            <a:chOff x="1258920" y="3284640"/>
            <a:chExt cx="3673440" cy="1800000"/>
          </a:xfrm>
        </p:grpSpPr>
        <p:sp>
          <p:nvSpPr>
            <p:cNvPr id="466" name="Line 5"/>
            <p:cNvSpPr/>
            <p:nvPr/>
          </p:nvSpPr>
          <p:spPr>
            <a:xfrm>
              <a:off x="1258920" y="5084640"/>
              <a:ext cx="3673440" cy="0"/>
            </a:xfrm>
            <a:prstGeom prst="line">
              <a:avLst/>
            </a:prstGeom>
            <a:ln w="38160">
              <a:solidFill>
                <a:srgbClr val="320e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67" name="Group 6"/>
            <p:cNvGrpSpPr/>
            <p:nvPr/>
          </p:nvGrpSpPr>
          <p:grpSpPr>
            <a:xfrm>
              <a:off x="1258920" y="3284640"/>
              <a:ext cx="3673440" cy="1800000"/>
              <a:chOff x="1258920" y="3284640"/>
              <a:chExt cx="3673440" cy="1800000"/>
            </a:xfrm>
          </p:grpSpPr>
          <p:sp>
            <p:nvSpPr>
              <p:cNvPr id="468" name="Line 7"/>
              <p:cNvSpPr/>
              <p:nvPr/>
            </p:nvSpPr>
            <p:spPr>
              <a:xfrm flipV="1">
                <a:off x="1258920" y="3284640"/>
                <a:ext cx="1368360" cy="1800000"/>
              </a:xfrm>
              <a:prstGeom prst="line">
                <a:avLst/>
              </a:prstGeom>
              <a:ln w="38160">
                <a:solidFill>
                  <a:srgbClr val="320e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9" name="Line 8"/>
              <p:cNvSpPr/>
              <p:nvPr/>
            </p:nvSpPr>
            <p:spPr>
              <a:xfrm>
                <a:off x="2627280" y="3284640"/>
                <a:ext cx="2305080" cy="1800000"/>
              </a:xfrm>
              <a:prstGeom prst="line">
                <a:avLst/>
              </a:prstGeom>
              <a:ln w="38160">
                <a:solidFill>
                  <a:srgbClr val="320e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0" name="Line 9"/>
              <p:cNvSpPr/>
              <p:nvPr/>
            </p:nvSpPr>
            <p:spPr>
              <a:xfrm flipV="1">
                <a:off x="1258920" y="4005000"/>
                <a:ext cx="2305080" cy="1079280"/>
              </a:xfrm>
              <a:prstGeom prst="line">
                <a:avLst/>
              </a:prstGeom>
              <a:ln w="38160">
                <a:solidFill>
                  <a:srgbClr val="320e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1" name="Line 10"/>
              <p:cNvSpPr/>
              <p:nvPr/>
            </p:nvSpPr>
            <p:spPr>
              <a:xfrm>
                <a:off x="3564000" y="4005000"/>
                <a:ext cx="0" cy="1079280"/>
              </a:xfrm>
              <a:prstGeom prst="line">
                <a:avLst/>
              </a:prstGeom>
              <a:ln w="38160">
                <a:solidFill>
                  <a:srgbClr val="320e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11"/>
          <p:cNvSpPr/>
          <p:nvPr/>
        </p:nvSpPr>
        <p:spPr>
          <a:xfrm>
            <a:off x="2465640" y="2724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c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952920" y="496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4913640" y="4818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3545640" y="3594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3328920" y="5033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356400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370836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 flipH="1">
            <a:off x="2700360" y="335772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 flipH="1" flipV="1">
            <a:off x="255564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468360" y="260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Comic Sans MS"/>
              </a:rPr>
              <a:t>三</a:t>
            </a:r>
            <a:r>
              <a:rPr b="0" lang="en-US" sz="3200" spc="-1" strike="noStrike">
                <a:solidFill>
                  <a:srgbClr val="4e3b30"/>
                </a:solidFill>
                <a:latin typeface="Comic Sans MS"/>
              </a:rPr>
              <a:t>.</a:t>
            </a:r>
            <a:r>
              <a:rPr b="0" lang="zh-CN" sz="3200" spc="-1" strike="noStrike">
                <a:solidFill>
                  <a:srgbClr val="4e3b30"/>
                </a:solidFill>
                <a:latin typeface="Comic Sans MS"/>
              </a:rPr>
              <a:t>练习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71280" y="436680"/>
            <a:ext cx="8533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 △ABC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角平分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M,CN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相交于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P,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求证：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到三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95280" y="2552760"/>
            <a:ext cx="556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∵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BM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是△</a:t>
            </a:r>
            <a:r>
              <a:rPr b="0" lang="en-US" sz="3200" spc="-1" strike="noStrike">
                <a:solidFill>
                  <a:srgbClr val="a5644e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的角平分线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点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在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BM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上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4" name="Group 4"/>
          <p:cNvGrpSpPr/>
          <p:nvPr/>
        </p:nvGrpSpPr>
        <p:grpSpPr>
          <a:xfrm>
            <a:off x="5954760" y="1981080"/>
            <a:ext cx="3112920" cy="2449440"/>
            <a:chOff x="5954760" y="1981080"/>
            <a:chExt cx="3112920" cy="2449440"/>
          </a:xfrm>
        </p:grpSpPr>
        <p:grpSp>
          <p:nvGrpSpPr>
            <p:cNvPr id="485" name="Group 5"/>
            <p:cNvGrpSpPr/>
            <p:nvPr/>
          </p:nvGrpSpPr>
          <p:grpSpPr>
            <a:xfrm>
              <a:off x="5954760" y="1981080"/>
              <a:ext cx="3112920" cy="2449440"/>
              <a:chOff x="5954760" y="1981080"/>
              <a:chExt cx="3112920" cy="244944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6380280" y="2283840"/>
                <a:ext cx="2133360" cy="1537200"/>
                <a:chOff x="6380280" y="2283840"/>
                <a:chExt cx="2133360" cy="1537200"/>
              </a:xfrm>
            </p:grpSpPr>
            <p:sp>
              <p:nvSpPr>
                <p:cNvPr id="487" name="Line 7"/>
                <p:cNvSpPr/>
                <p:nvPr/>
              </p:nvSpPr>
              <p:spPr>
                <a:xfrm>
                  <a:off x="6380280" y="3821040"/>
                  <a:ext cx="213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8"/>
                <p:cNvSpPr/>
                <p:nvPr/>
              </p:nvSpPr>
              <p:spPr>
                <a:xfrm>
                  <a:off x="7597440" y="228420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"/>
                <p:cNvSpPr/>
                <p:nvPr/>
              </p:nvSpPr>
              <p:spPr>
                <a:xfrm flipV="1">
                  <a:off x="6380280" y="228384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0"/>
              <p:cNvSpPr/>
              <p:nvPr/>
            </p:nvSpPr>
            <p:spPr>
              <a:xfrm>
                <a:off x="723888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1" name="Text Box 11"/>
              <p:cNvSpPr/>
              <p:nvPr/>
            </p:nvSpPr>
            <p:spPr>
              <a:xfrm>
                <a:off x="5954760" y="35161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Text Box 12"/>
              <p:cNvSpPr/>
              <p:nvPr/>
            </p:nvSpPr>
            <p:spPr>
              <a:xfrm>
                <a:off x="8534520" y="35924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Text Box 13"/>
              <p:cNvSpPr/>
              <p:nvPr/>
            </p:nvSpPr>
            <p:spPr>
              <a:xfrm>
                <a:off x="7238880" y="2789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494" name="Group 14"/>
              <p:cNvGrpSpPr/>
              <p:nvPr/>
            </p:nvGrpSpPr>
            <p:grpSpPr>
              <a:xfrm>
                <a:off x="6194520" y="1981080"/>
                <a:ext cx="2568600" cy="2449440"/>
                <a:chOff x="6194520" y="1981080"/>
                <a:chExt cx="2568600" cy="2449440"/>
              </a:xfrm>
            </p:grpSpPr>
            <p:sp>
              <p:nvSpPr>
                <p:cNvPr id="495" name="Line 15"/>
                <p:cNvSpPr/>
                <p:nvPr/>
              </p:nvSpPr>
              <p:spPr>
                <a:xfrm flipH="1">
                  <a:off x="7446600" y="1981080"/>
                  <a:ext cx="179640" cy="244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6"/>
                <p:cNvSpPr/>
                <p:nvPr/>
              </p:nvSpPr>
              <p:spPr>
                <a:xfrm flipV="1">
                  <a:off x="6194520" y="2799720"/>
                  <a:ext cx="2319480" cy="11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7"/>
                <p:cNvSpPr/>
                <p:nvPr/>
              </p:nvSpPr>
              <p:spPr>
                <a:xfrm>
                  <a:off x="6391440" y="2678040"/>
                  <a:ext cx="2371680" cy="12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8"/>
                <p:cNvSpPr/>
                <p:nvPr/>
              </p:nvSpPr>
              <p:spPr>
                <a:xfrm>
                  <a:off x="6380280" y="382104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9"/>
                <p:cNvSpPr/>
                <p:nvPr/>
              </p:nvSpPr>
              <p:spPr>
                <a:xfrm>
                  <a:off x="7597800" y="228420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20"/>
                <p:cNvSpPr/>
                <p:nvPr/>
              </p:nvSpPr>
              <p:spPr>
                <a:xfrm flipV="1">
                  <a:off x="6380280" y="228384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Text Box 21"/>
            <p:cNvSpPr/>
            <p:nvPr/>
          </p:nvSpPr>
          <p:spPr>
            <a:xfrm>
              <a:off x="80010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2" name="Text Box 22"/>
            <p:cNvSpPr/>
            <p:nvPr/>
          </p:nvSpPr>
          <p:spPr>
            <a:xfrm>
              <a:off x="66294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3" name="Group 23"/>
          <p:cNvGrpSpPr/>
          <p:nvPr/>
        </p:nvGrpSpPr>
        <p:grpSpPr>
          <a:xfrm>
            <a:off x="6900840" y="2468520"/>
            <a:ext cx="1633680" cy="1721880"/>
            <a:chOff x="6900840" y="2468520"/>
            <a:chExt cx="1633680" cy="1721880"/>
          </a:xfrm>
        </p:grpSpPr>
        <p:grpSp>
          <p:nvGrpSpPr>
            <p:cNvPr id="504" name="Group 24"/>
            <p:cNvGrpSpPr/>
            <p:nvPr/>
          </p:nvGrpSpPr>
          <p:grpSpPr>
            <a:xfrm>
              <a:off x="7120080" y="2793960"/>
              <a:ext cx="1025280" cy="1049040"/>
              <a:chOff x="7120080" y="2793960"/>
              <a:chExt cx="1025280" cy="1049040"/>
            </a:xfrm>
          </p:grpSpPr>
          <p:sp>
            <p:nvSpPr>
              <p:cNvPr id="505" name="Line 25"/>
              <p:cNvSpPr/>
              <p:nvPr/>
            </p:nvSpPr>
            <p:spPr>
              <a:xfrm flipH="1" flipV="1">
                <a:off x="7548120" y="3265200"/>
                <a:ext cx="3240" cy="5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6" name="Line 26"/>
              <p:cNvSpPr/>
              <p:nvPr/>
            </p:nvSpPr>
            <p:spPr>
              <a:xfrm flipV="1">
                <a:off x="7548480" y="3004560"/>
                <a:ext cx="447840" cy="27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7" name="Line 27"/>
              <p:cNvSpPr/>
              <p:nvPr/>
            </p:nvSpPr>
            <p:spPr>
              <a:xfrm>
                <a:off x="7120080" y="2930400"/>
                <a:ext cx="42840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8" name="Line 28"/>
              <p:cNvSpPr/>
              <p:nvPr/>
            </p:nvSpPr>
            <p:spPr>
              <a:xfrm>
                <a:off x="7548480" y="3592440"/>
                <a:ext cx="2239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9" name="Line 29"/>
              <p:cNvSpPr/>
              <p:nvPr/>
            </p:nvSpPr>
            <p:spPr>
              <a:xfrm>
                <a:off x="7791480" y="359712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0" name="Line 30"/>
              <p:cNvSpPr/>
              <p:nvPr/>
            </p:nvSpPr>
            <p:spPr>
              <a:xfrm>
                <a:off x="7194600" y="2793960"/>
                <a:ext cx="149040" cy="1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1" name="Line 31"/>
              <p:cNvSpPr/>
              <p:nvPr/>
            </p:nvSpPr>
            <p:spPr>
              <a:xfrm flipH="1">
                <a:off x="7250040" y="2906640"/>
                <a:ext cx="9360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2" name="Line 32"/>
              <p:cNvSpPr/>
              <p:nvPr/>
            </p:nvSpPr>
            <p:spPr>
              <a:xfrm>
                <a:off x="7846920" y="3111480"/>
                <a:ext cx="13032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3" name="Line 33"/>
              <p:cNvSpPr/>
              <p:nvPr/>
            </p:nvSpPr>
            <p:spPr>
              <a:xfrm flipV="1">
                <a:off x="7977240" y="3166560"/>
                <a:ext cx="16812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14" name="Text Box 34"/>
            <p:cNvSpPr/>
            <p:nvPr/>
          </p:nvSpPr>
          <p:spPr>
            <a:xfrm>
              <a:off x="6900840" y="24685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Text Box 35"/>
            <p:cNvSpPr/>
            <p:nvPr/>
          </p:nvSpPr>
          <p:spPr>
            <a:xfrm>
              <a:off x="7446960" y="3730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6" name="Text Box 36"/>
            <p:cNvSpPr/>
            <p:nvPr/>
          </p:nvSpPr>
          <p:spPr>
            <a:xfrm>
              <a:off x="8097840" y="28274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7" name="Rectangle 37"/>
          <p:cNvSpPr/>
          <p:nvPr/>
        </p:nvSpPr>
        <p:spPr>
          <a:xfrm>
            <a:off x="250920" y="3718080"/>
            <a:ext cx="824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∴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PD=PE</a:t>
            </a:r>
            <a:br>
              <a:rPr sz="3200"/>
            </a:b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(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角平分线上的点到这个角的两边距离相等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)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38"/>
          <p:cNvSpPr/>
          <p:nvPr/>
        </p:nvSpPr>
        <p:spPr>
          <a:xfrm>
            <a:off x="250920" y="4641840"/>
            <a:ext cx="556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同理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,PE=P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Rectangle 39"/>
          <p:cNvSpPr/>
          <p:nvPr/>
        </p:nvSpPr>
        <p:spPr>
          <a:xfrm>
            <a:off x="380880" y="5105520"/>
            <a:ext cx="556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∴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PD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＝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PE=P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Rectangle 40"/>
          <p:cNvSpPr/>
          <p:nvPr/>
        </p:nvSpPr>
        <p:spPr>
          <a:xfrm>
            <a:off x="380880" y="5553000"/>
            <a:ext cx="6869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即点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到三边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a5644e"/>
                </a:solidFill>
                <a:latin typeface="黑体"/>
              </a:rPr>
              <a:t>CA</a:t>
            </a:r>
            <a:r>
              <a:rPr b="1" lang="zh-CN" sz="3200" spc="-1" strike="noStrike">
                <a:solidFill>
                  <a:srgbClr val="a5644e"/>
                </a:solidFill>
                <a:latin typeface="黑体"/>
              </a:rPr>
              <a:t>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Text Box 41"/>
          <p:cNvSpPr/>
          <p:nvPr/>
        </p:nvSpPr>
        <p:spPr>
          <a:xfrm>
            <a:off x="142920" y="164160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证明：过点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作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PD⊥AB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，  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PE⊥BC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PF⊥AC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0:56:4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0:35Z</dcterms:modified>
  <cp:revision>14</cp:revision>
  <dc:subject>www.12999.com</dc:subject>
  <dc:title>www.12999.com</dc:title>
</cp:coreProperties>
</file>