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wmf" ContentType="image/x-wmf"/>
  <Override PartName="/ppt/media/image10.png" ContentType="image/png"/>
  <Override PartName="/ppt/media/image1.jpeg" ContentType="image/jpeg"/>
  <Override PartName="/ppt/media/image7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type.wav" ContentType="audio/x-wav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4C31-2095-44A6-ACFE-6CC8B30D34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7B67-41F2-4D77-B487-AD7406B7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2426-B000-488A-A481-5FA960C5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CA305-487D-443B-814D-534EF74A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2B00E-848E-4E65-96AE-55B49F83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565E5-A8CD-41B7-8348-A3134C3D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C4B1A-9FFD-4239-A61D-A823B833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5DA06-EE3E-4EFF-890D-8F1A6762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C3012-4F2E-42A0-A2A2-5E18A6C5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45D60-0E35-43D5-BA29-D04C6645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CE6C4-13B8-4CBF-970D-AD856A0F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7951E-D32C-4F7D-8ABF-C623A2F3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A285-11A4-4F99-AAB0-2185D5DA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75A-4455-4E1A-8916-F45C9816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7017-CE82-43F0-80DA-69E3A81A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0FFE-4BC0-42BF-BDEE-09029ECD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0AEF-C5B5-4B41-A15B-C7592C57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4410-29F0-49D2-BB78-3F975D73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8644-E7A3-452A-8522-A4A8E830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4E52-A3F4-46E7-B91E-F44176AD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79FC-8929-4381-82F4-2A07E3E6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B0E2-F976-48AE-851F-0F35B4A1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7281-BDFA-49C7-888F-5059C6FB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93D9-2A99-45CF-97D6-1B753B3B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6E39-8197-44C1-8DE0-984CB032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EEDB-FE27-4052-8A46-737E3DD6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38DA-AD06-4425-96D8-FEF5D8D0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B6C39-0AEB-47A9-93F0-F3E857EB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8E06D-F933-4724-A6EC-66B16A5F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E71E2-082D-4F17-9620-0F6C4BE6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F834C-EB3E-49F3-A326-F4563055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AD184-A1F3-4ACE-9994-88D35DB1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9D96-540E-456C-AA32-6B1F632A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D8C9A-FAE0-483B-920B-4BFB313F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6FD96-F308-4046-B532-DA257A15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F1A14-380A-4899-A1CC-9F2181DA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60C6A-A123-4CFC-9AE8-F1B11610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1B82C-542E-4E1E-9EE2-F49D2418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1B121-2B78-458D-8BBA-56F8C8DF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24AE1-7A81-4A2C-8CA2-2F35057A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05D30-8D8B-43F6-8732-7A201B6F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1A0AB-1C9B-4DA1-940B-B90C5056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2C316-12C1-4632-959A-479E9D2C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7E30-652E-443D-9B05-34EC66C8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A5533-C5D3-4CAC-8C6C-224EBD51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0B636-77B7-4EDF-9DBF-ECB9995B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D05B9-5912-40F7-AB76-DFD81985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E99D1-4D65-4216-BF8D-CF50680B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63B08-FDA2-48AC-A941-754B34AD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E292A-65FE-4351-A7BC-495AAE6E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90B12-E76F-497A-A5E9-BA2D2592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67074-A026-4CBB-B227-5DCA88DB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4C577-5463-4F7D-AA0D-B5B19539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EE741-5D4C-467F-9C01-1ECB7C77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831C-8CA4-4C6B-B99D-A671DA1A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2617B-2A2F-4B12-B95B-43950579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A4A1E-64DA-4671-ABD8-2605980F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23ACE-C86E-4BA8-BD08-AC5F1BC4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E3384-9220-4540-BF3F-2E912640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482CC-0787-4EF3-A1A4-6C3BCE7A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810CB-CC34-4AC6-9585-CD785344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4F8BA-5285-4AFA-BD96-053A5765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3D879-A1F3-41DE-8831-A28E062A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88FF8-2006-444A-A028-6880533D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E1839-C866-460B-B382-CC852BE6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49F-2B25-4BF2-AEE8-8FE069B8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CCCA3-9109-4C58-A23A-4CB5DF6C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516BB-A5DE-4430-9C36-CD94EF2A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19A1F-C937-442E-BB55-CB80EE5C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B0ACB-5BA5-4461-9785-F1079CC5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8731F-338A-4A22-9440-17B0C562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B597F-5F2F-45D6-BDB4-A3CEF559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80CEA-0A9D-4FD2-8557-F2571F73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5C0CB-9C7E-464B-AE12-2F98F05C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7C75F-9731-4A5B-9A82-EF1E11E6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02D3D-997B-4258-8ECD-78955C6B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508A-F076-4A3F-AAD4-1FAB40A2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47596-7430-4337-B373-672C9CDD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6E850-250E-4C97-B524-E156D172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83403-BA4B-46A4-84FC-26037F89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48665-582C-492F-BDC7-F1A572F0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0281D-23B0-4FE0-84A5-88788109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BFE9E-4D33-4310-A946-9A460C15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04BA1-DC3F-48DC-8A68-E0AF2707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C619C-A7F8-4602-AD2D-5B821B90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09DEA-1FE1-4281-8FE1-89369C99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CF34F-9C99-484B-81F8-9E1F8299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9CC5-E612-4CA1-9C5D-657EFE06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30937-ECAE-45A2-A7C2-B95ED74C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69F48-C2D6-4ED7-838C-8CBF030B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C8310-F46D-4D42-9C3B-66BA46DB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93E80-FADA-4191-9720-2ED2E293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23CF9-3FA3-4E60-B796-A5118BC5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BE451-404A-4283-82AF-ADAF67BB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29E19-4E84-453C-8004-C0F94DEA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44DF7-C89B-4C7E-B3A7-E70F45DC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7EFB1-F9A9-4E4E-AFC6-922582B5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E4550-411E-49AB-9008-5A223961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EA40-52AC-49B7-91AE-1CEE6107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C7321-27CD-4378-861F-7D385A3B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51A50-0B48-4EA1-80F9-54AF165C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2D6D0-EF9C-46E3-B1E4-F6510FDC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D8EB3-BF42-4094-BF47-07A2150F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95088-AC36-43AD-B8CD-DBE008F7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314BB-2533-414A-974D-03B8BF56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9C8F9-84A9-410A-A7BD-9146AAFA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08A0E-5D40-42C9-B071-5A85EAE6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FE019-B3A7-4B1E-80FC-DD69FC3F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A7114-08E4-4253-BABC-430F74AB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ACEC-D465-4CE9-B551-05A9AE96162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EC4A-8744-4EE5-9F38-9E92259745F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8804-24E8-4B0C-9BD3-9F3CB276C2F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AD08-ACFE-4DB3-8434-ADFBC933CD3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A584-1A79-4DDA-8E6E-3726D0A470C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AF39-F4C0-479C-A9F6-09E4A555B3E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EF33-7BA5-450C-9D9D-68C095E4356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A544-7030-4DB8-A6AA-42AA766A957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B77B-95C4-498F-8C40-AACDDA59090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6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hyperlink" Target="http://www.zhcedu.com.cn/WINDOWS/Temporary%20Internet%20Files/Content.IE5/8BPZ6AV5/quandengbianhuan.swf" TargetMode="External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zhcedu.com.cn/blog/UploadFiles/Local%20Settings/Temp/Rar$DI00.656/&#20840;&#31561;&#19977;&#35282;&#24418;&#30340;&#22797;&#20064;.pub" TargetMode="External"/><Relationship Id="rId2" Type="http://schemas.openxmlformats.org/officeDocument/2006/relationships/hyperlink" Target="http://www.zhcedu.com.cn/blog/UploadFiles/Local%20Settings/Temp/Rar$DI00.656/&#20840;&#31561;&#19977;&#35282;&#24418;&#30340;&#22797;&#20064;.pub" TargetMode="External"/><Relationship Id="rId3" Type="http://schemas.openxmlformats.org/officeDocument/2006/relationships/hyperlink" Target="http://www.zhcedu.com.cn/blog/UploadFiles/Local%20Settings/Temp/Rar$DI00.656/&#20840;&#31561;&#19977;&#35282;&#24418;&#30340;&#22797;&#20064;.pub" TargetMode="Externa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8" descr="j0297707"/>
          <p:cNvPicPr/>
          <p:nvPr/>
        </p:nvPicPr>
        <p:blipFill>
          <a:blip r:embed="rId1"/>
          <a:stretch/>
        </p:blipFill>
        <p:spPr>
          <a:xfrm rot="10800000">
            <a:off x="-468720" y="-60372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407" name="WordArt 14"/>
          <p:cNvSpPr txBox="1"/>
          <p:nvPr/>
        </p:nvSpPr>
        <p:spPr>
          <a:xfrm>
            <a:off x="1619280" y="333360"/>
            <a:ext cx="633744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全等三角形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08" name="by2-爱丫爱丫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3978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2"/>
          <p:cNvSpPr/>
          <p:nvPr/>
        </p:nvSpPr>
        <p:spPr>
          <a:xfrm>
            <a:off x="250920" y="260280"/>
            <a:ext cx="712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、如图，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OB⊥AB,OC⊥AC,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垂足为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B,C,OB=O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AO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平分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BAC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吗？为什么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79" name="Group 3"/>
          <p:cNvGrpSpPr/>
          <p:nvPr/>
        </p:nvGrpSpPr>
        <p:grpSpPr>
          <a:xfrm>
            <a:off x="5015520" y="1341360"/>
            <a:ext cx="3375000" cy="2745000"/>
            <a:chOff x="5015520" y="1341360"/>
            <a:chExt cx="3375000" cy="2745000"/>
          </a:xfrm>
        </p:grpSpPr>
        <p:sp>
          <p:nvSpPr>
            <p:cNvPr id="480" name="Line 4"/>
            <p:cNvSpPr/>
            <p:nvPr/>
          </p:nvSpPr>
          <p:spPr>
            <a:xfrm>
              <a:off x="5364000" y="2710080"/>
              <a:ext cx="266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1" name="Line 5"/>
            <p:cNvSpPr/>
            <p:nvPr/>
          </p:nvSpPr>
          <p:spPr>
            <a:xfrm>
              <a:off x="5364000" y="2710080"/>
              <a:ext cx="647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2" name="Line 6"/>
            <p:cNvSpPr/>
            <p:nvPr/>
          </p:nvSpPr>
          <p:spPr>
            <a:xfrm flipV="1">
              <a:off x="6011640" y="2710080"/>
              <a:ext cx="201636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3" name="Line 7"/>
            <p:cNvSpPr/>
            <p:nvPr/>
          </p:nvSpPr>
          <p:spPr>
            <a:xfrm flipV="1">
              <a:off x="5364000" y="1701360"/>
              <a:ext cx="50328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4" name="Line 8"/>
            <p:cNvSpPr/>
            <p:nvPr/>
          </p:nvSpPr>
          <p:spPr>
            <a:xfrm>
              <a:off x="5867280" y="1701720"/>
              <a:ext cx="216072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5" name="Line 9"/>
            <p:cNvSpPr/>
            <p:nvPr/>
          </p:nvSpPr>
          <p:spPr>
            <a:xfrm>
              <a:off x="5795640" y="1846440"/>
              <a:ext cx="14472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6" name="Line 10"/>
            <p:cNvSpPr/>
            <p:nvPr/>
          </p:nvSpPr>
          <p:spPr>
            <a:xfrm flipH="1">
              <a:off x="5940360" y="1774800"/>
              <a:ext cx="71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7" name="Line 11"/>
            <p:cNvSpPr/>
            <p:nvPr/>
          </p:nvSpPr>
          <p:spPr>
            <a:xfrm flipV="1">
              <a:off x="5940360" y="3501720"/>
              <a:ext cx="1429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8" name="Line 12"/>
            <p:cNvSpPr/>
            <p:nvPr/>
          </p:nvSpPr>
          <p:spPr>
            <a:xfrm>
              <a:off x="6083280" y="3502080"/>
              <a:ext cx="72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9" name="Rectangle 13"/>
            <p:cNvSpPr/>
            <p:nvPr/>
          </p:nvSpPr>
          <p:spPr>
            <a:xfrm>
              <a:off x="8031600" y="24940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O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0" name="Rectangle 14"/>
            <p:cNvSpPr/>
            <p:nvPr/>
          </p:nvSpPr>
          <p:spPr>
            <a:xfrm>
              <a:off x="5865840" y="3718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1" name="Rectangle 15"/>
            <p:cNvSpPr/>
            <p:nvPr/>
          </p:nvSpPr>
          <p:spPr>
            <a:xfrm>
              <a:off x="5723640" y="13413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2" name="Rectangle 16"/>
            <p:cNvSpPr/>
            <p:nvPr/>
          </p:nvSpPr>
          <p:spPr>
            <a:xfrm>
              <a:off x="5015520" y="249408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93" name="Text Box 17"/>
          <p:cNvSpPr/>
          <p:nvPr/>
        </p:nvSpPr>
        <p:spPr>
          <a:xfrm>
            <a:off x="684360" y="148428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答：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AO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平分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BA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94" name="Group 18"/>
          <p:cNvGrpSpPr/>
          <p:nvPr/>
        </p:nvGrpSpPr>
        <p:grpSpPr>
          <a:xfrm>
            <a:off x="755640" y="2133720"/>
            <a:ext cx="3745080" cy="3288960"/>
            <a:chOff x="755640" y="2133720"/>
            <a:chExt cx="3745080" cy="3288960"/>
          </a:xfrm>
        </p:grpSpPr>
        <p:sp>
          <p:nvSpPr>
            <p:cNvPr id="495" name="Text Box 19"/>
            <p:cNvSpPr/>
            <p:nvPr/>
          </p:nvSpPr>
          <p:spPr>
            <a:xfrm>
              <a:off x="755640" y="2133720"/>
              <a:ext cx="3745080" cy="32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理由：∵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OB⊥AB,OC⊥A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∴ 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=∠C=90°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在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Rt△ABO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和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Rt△ACO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中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OB=O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O=AO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∴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Rt△ABO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≌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Rt△ACO  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HL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）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∴ 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AO=∠CAO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∴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O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平分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AC 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6" name="AutoShape 20"/>
            <p:cNvSpPr/>
            <p:nvPr/>
          </p:nvSpPr>
          <p:spPr>
            <a:xfrm>
              <a:off x="900000" y="3500280"/>
              <a:ext cx="236520" cy="576360"/>
            </a:xfrm>
            <a:custGeom>
              <a:avLst/>
              <a:gdLst>
                <a:gd name="textAreaLeft" fmla="*/ 151200 w 236520"/>
                <a:gd name="textAreaRight" fmla="*/ 236880 w 23652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539640" y="549360"/>
            <a:ext cx="727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、如图，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相交于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O,OA=OC,OB=O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求证：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DC∥A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8" name="Rectangle 3"/>
          <p:cNvSpPr/>
          <p:nvPr/>
        </p:nvSpPr>
        <p:spPr>
          <a:xfrm>
            <a:off x="2771640" y="1897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99" name="Group 4"/>
          <p:cNvGrpSpPr/>
          <p:nvPr/>
        </p:nvGrpSpPr>
        <p:grpSpPr>
          <a:xfrm>
            <a:off x="3708360" y="2133720"/>
            <a:ext cx="4751280" cy="3796920"/>
            <a:chOff x="3708360" y="2133720"/>
            <a:chExt cx="4751280" cy="3796920"/>
          </a:xfrm>
        </p:grpSpPr>
        <p:sp>
          <p:nvSpPr>
            <p:cNvPr id="500" name="Text Box 5"/>
            <p:cNvSpPr/>
            <p:nvPr/>
          </p:nvSpPr>
          <p:spPr>
            <a:xfrm>
              <a:off x="3708360" y="2133720"/>
              <a:ext cx="4751280" cy="37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证明：在△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BO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和△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CDO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中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OA=O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∠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OB= ∠CO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OB=OD 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∴ △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BO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≌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△CDO 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（</a:t>
              </a: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  <a:ea typeface="宋体"/>
                </a:rPr>
                <a:t>SAS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）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∴ ∠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= ∠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∴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DC∥A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1" name="AutoShape 6"/>
            <p:cNvSpPr/>
            <p:nvPr/>
          </p:nvSpPr>
          <p:spPr>
            <a:xfrm>
              <a:off x="4572000" y="2852640"/>
              <a:ext cx="380880" cy="129564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02" name="Group 7"/>
          <p:cNvGrpSpPr/>
          <p:nvPr/>
        </p:nvGrpSpPr>
        <p:grpSpPr>
          <a:xfrm>
            <a:off x="684360" y="1700280"/>
            <a:ext cx="2555640" cy="1819080"/>
            <a:chOff x="684360" y="1700280"/>
            <a:chExt cx="2555640" cy="1819080"/>
          </a:xfrm>
        </p:grpSpPr>
        <p:pic>
          <p:nvPicPr>
            <p:cNvPr id="503" name="Picture 8" descr=""/>
            <p:cNvPicPr/>
            <p:nvPr/>
          </p:nvPicPr>
          <p:blipFill>
            <a:blip r:embed="rId1"/>
            <a:stretch/>
          </p:blipFill>
          <p:spPr>
            <a:xfrm>
              <a:off x="828720" y="1700280"/>
              <a:ext cx="2152080" cy="18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Text Box 9"/>
            <p:cNvSpPr/>
            <p:nvPr/>
          </p:nvSpPr>
          <p:spPr>
            <a:xfrm>
              <a:off x="684360" y="314172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5" name="Rectangle 10"/>
            <p:cNvSpPr/>
            <p:nvPr/>
          </p:nvSpPr>
          <p:spPr>
            <a:xfrm>
              <a:off x="1983240" y="24210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O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6" name="Rectangle 11"/>
            <p:cNvSpPr/>
            <p:nvPr/>
          </p:nvSpPr>
          <p:spPr>
            <a:xfrm>
              <a:off x="972360" y="170028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7" name="Rectangle 12"/>
            <p:cNvSpPr/>
            <p:nvPr/>
          </p:nvSpPr>
          <p:spPr>
            <a:xfrm>
              <a:off x="2483640" y="30686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8" name="Rectangle 13"/>
            <p:cNvSpPr/>
            <p:nvPr/>
          </p:nvSpPr>
          <p:spPr>
            <a:xfrm>
              <a:off x="2914560" y="1700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468360" y="549360"/>
            <a:ext cx="71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练习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5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： 如图，小明不慎将一块三角形模具打碎为两块，他是否可以只带其中的一块碎片到商店去，就能配一块与原来一样的三角形模具呢？如果可以，带那块去合适？为什么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10" name="Group 3"/>
          <p:cNvGrpSpPr/>
          <p:nvPr/>
        </p:nvGrpSpPr>
        <p:grpSpPr>
          <a:xfrm>
            <a:off x="1692360" y="2492280"/>
            <a:ext cx="3019320" cy="2171880"/>
            <a:chOff x="1692360" y="2492280"/>
            <a:chExt cx="3019320" cy="2171880"/>
          </a:xfrm>
        </p:grpSpPr>
        <p:pic>
          <p:nvPicPr>
            <p:cNvPr id="511" name="Picture 4" descr=""/>
            <p:cNvPicPr/>
            <p:nvPr/>
          </p:nvPicPr>
          <p:blipFill>
            <a:blip r:embed="rId1"/>
            <a:stretch/>
          </p:blipFill>
          <p:spPr>
            <a:xfrm>
              <a:off x="1692360" y="2492280"/>
              <a:ext cx="3019320" cy="21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5"/>
            <p:cNvSpPr/>
            <p:nvPr/>
          </p:nvSpPr>
          <p:spPr>
            <a:xfrm>
              <a:off x="2197080" y="37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3" name="Rectangle 6"/>
            <p:cNvSpPr/>
            <p:nvPr/>
          </p:nvSpPr>
          <p:spPr>
            <a:xfrm>
              <a:off x="3432960" y="32115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2484360" y="2349360"/>
            <a:ext cx="3168720" cy="2589120"/>
            <a:chOff x="2484360" y="2349360"/>
            <a:chExt cx="3168720" cy="2589120"/>
          </a:xfrm>
        </p:grpSpPr>
        <p:pic>
          <p:nvPicPr>
            <p:cNvPr id="515" name="Picture 3" descr=""/>
            <p:cNvPicPr/>
            <p:nvPr/>
          </p:nvPicPr>
          <p:blipFill>
            <a:blip r:embed="rId1"/>
            <a:stretch/>
          </p:blipFill>
          <p:spPr>
            <a:xfrm>
              <a:off x="2484360" y="2349360"/>
              <a:ext cx="3168720" cy="25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Text Box 4"/>
            <p:cNvSpPr/>
            <p:nvPr/>
          </p:nvSpPr>
          <p:spPr>
            <a:xfrm>
              <a:off x="4284360" y="4149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F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7" name="Rectangle 5"/>
            <p:cNvSpPr/>
            <p:nvPr/>
          </p:nvSpPr>
          <p:spPr>
            <a:xfrm>
              <a:off x="2494080" y="422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8" name="Rectangle 6"/>
            <p:cNvSpPr/>
            <p:nvPr/>
          </p:nvSpPr>
          <p:spPr>
            <a:xfrm>
              <a:off x="2485440" y="249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9" name="Rectangle 7"/>
            <p:cNvSpPr/>
            <p:nvPr/>
          </p:nvSpPr>
          <p:spPr>
            <a:xfrm>
              <a:off x="3348000" y="2854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0" name="Rectangle 8"/>
            <p:cNvSpPr/>
            <p:nvPr/>
          </p:nvSpPr>
          <p:spPr>
            <a:xfrm>
              <a:off x="5220360" y="450972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1" name="Rectangle 9"/>
            <p:cNvSpPr/>
            <p:nvPr/>
          </p:nvSpPr>
          <p:spPr>
            <a:xfrm>
              <a:off x="5304600" y="2781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22" name="Group 10"/>
          <p:cNvGrpSpPr/>
          <p:nvPr/>
        </p:nvGrpSpPr>
        <p:grpSpPr>
          <a:xfrm>
            <a:off x="179280" y="404640"/>
            <a:ext cx="8064360" cy="1374840"/>
            <a:chOff x="179280" y="404640"/>
            <a:chExt cx="8064360" cy="1374840"/>
          </a:xfrm>
        </p:grpSpPr>
        <p:pic>
          <p:nvPicPr>
            <p:cNvPr id="523" name="Picture 11" descr=""/>
            <p:cNvPicPr/>
            <p:nvPr/>
          </p:nvPicPr>
          <p:blipFill>
            <a:blip r:embed="rId2"/>
            <a:stretch/>
          </p:blipFill>
          <p:spPr>
            <a:xfrm>
              <a:off x="718920" y="1484280"/>
              <a:ext cx="1866960" cy="2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Text Box 12"/>
            <p:cNvSpPr/>
            <p:nvPr/>
          </p:nvSpPr>
          <p:spPr>
            <a:xfrm>
              <a:off x="179280" y="404640"/>
              <a:ext cx="8064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、如图，已知</a:t>
              </a:r>
              <a:r>
                <a:rPr b="1" lang="en-US" sz="20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C∥EF,DE∥BA,</a:t>
              </a:r>
              <a:r>
                <a:rPr b="1" lang="zh-CN" sz="20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若使△</a:t>
              </a:r>
              <a:r>
                <a:rPr b="1" lang="en-US" sz="20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BC≌△EDF,</a:t>
              </a:r>
              <a:r>
                <a:rPr b="1" lang="zh-CN" sz="20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还需要补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充的条件可以是 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pic>
          <p:nvPicPr>
            <p:cNvPr id="525" name="Picture 13" descr=""/>
            <p:cNvPicPr/>
            <p:nvPr/>
          </p:nvPicPr>
          <p:blipFill>
            <a:blip r:embed="rId3"/>
            <a:stretch/>
          </p:blipFill>
          <p:spPr>
            <a:xfrm>
              <a:off x="6156360" y="981000"/>
              <a:ext cx="171432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14" descr=""/>
            <p:cNvPicPr/>
            <p:nvPr/>
          </p:nvPicPr>
          <p:blipFill>
            <a:blip r:embed="rId4"/>
            <a:stretch/>
          </p:blipFill>
          <p:spPr>
            <a:xfrm>
              <a:off x="4138560" y="981000"/>
              <a:ext cx="171432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15" descr=""/>
            <p:cNvPicPr/>
            <p:nvPr/>
          </p:nvPicPr>
          <p:blipFill>
            <a:blip r:embed="rId5"/>
            <a:stretch/>
          </p:blipFill>
          <p:spPr>
            <a:xfrm>
              <a:off x="2122560" y="981000"/>
              <a:ext cx="171432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 Box 16"/>
            <p:cNvSpPr/>
            <p:nvPr/>
          </p:nvSpPr>
          <p:spPr>
            <a:xfrm>
              <a:off x="3706560" y="90972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或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9" name="Rectangle 17"/>
            <p:cNvSpPr/>
            <p:nvPr/>
          </p:nvSpPr>
          <p:spPr>
            <a:xfrm>
              <a:off x="5775480" y="90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或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0" name="Rectangle 18"/>
            <p:cNvSpPr/>
            <p:nvPr/>
          </p:nvSpPr>
          <p:spPr>
            <a:xfrm>
              <a:off x="406080" y="13413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或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1" name="Text Box 19"/>
          <p:cNvSpPr/>
          <p:nvPr/>
        </p:nvSpPr>
        <p:spPr>
          <a:xfrm>
            <a:off x="2340000" y="836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Comic Sans MS"/>
                <a:ea typeface="宋体"/>
              </a:rPr>
              <a:t>AB=ED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2" name="Text Box 20"/>
          <p:cNvSpPr/>
          <p:nvPr/>
        </p:nvSpPr>
        <p:spPr>
          <a:xfrm>
            <a:off x="4211640" y="907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Comic Sans MS"/>
                <a:ea typeface="宋体"/>
              </a:rPr>
              <a:t>AC=EF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3" name="Text Box 21"/>
          <p:cNvSpPr/>
          <p:nvPr/>
        </p:nvSpPr>
        <p:spPr>
          <a:xfrm>
            <a:off x="6227640" y="9079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Comic Sans MS"/>
                <a:ea typeface="宋体"/>
              </a:rPr>
              <a:t>BC=DF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4" name="Text Box 22"/>
          <p:cNvSpPr/>
          <p:nvPr/>
        </p:nvSpPr>
        <p:spPr>
          <a:xfrm>
            <a:off x="826920" y="134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Comic Sans MS"/>
                <a:ea typeface="宋体"/>
              </a:rPr>
              <a:t>DC=BF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468360" y="476280"/>
            <a:ext cx="576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：已知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AC=DB, ∠1=∠2.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求证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:  ∠A=∠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36" name="Group 3"/>
          <p:cNvGrpSpPr/>
          <p:nvPr/>
        </p:nvGrpSpPr>
        <p:grpSpPr>
          <a:xfrm>
            <a:off x="322560" y="2349360"/>
            <a:ext cx="3479040" cy="2109600"/>
            <a:chOff x="322560" y="2349360"/>
            <a:chExt cx="3479040" cy="2109600"/>
          </a:xfrm>
        </p:grpSpPr>
        <p:pic>
          <p:nvPicPr>
            <p:cNvPr id="537" name="Picture 4" descr=""/>
            <p:cNvPicPr/>
            <p:nvPr/>
          </p:nvPicPr>
          <p:blipFill>
            <a:blip r:embed="rId1"/>
            <a:stretch/>
          </p:blipFill>
          <p:spPr>
            <a:xfrm>
              <a:off x="732240" y="2349360"/>
              <a:ext cx="2852280" cy="21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5"/>
            <p:cNvSpPr/>
            <p:nvPr/>
          </p:nvSpPr>
          <p:spPr>
            <a:xfrm>
              <a:off x="2466720" y="3668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2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9" name="Rectangle 6"/>
            <p:cNvSpPr/>
            <p:nvPr/>
          </p:nvSpPr>
          <p:spPr>
            <a:xfrm>
              <a:off x="1533600" y="3668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1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0" name="Rectangle 7"/>
            <p:cNvSpPr/>
            <p:nvPr/>
          </p:nvSpPr>
          <p:spPr>
            <a:xfrm>
              <a:off x="2766600" y="234936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1" name="Rectangle 8"/>
            <p:cNvSpPr/>
            <p:nvPr/>
          </p:nvSpPr>
          <p:spPr>
            <a:xfrm>
              <a:off x="3476160" y="39092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2" name="Rectangle 9"/>
            <p:cNvSpPr/>
            <p:nvPr/>
          </p:nvSpPr>
          <p:spPr>
            <a:xfrm>
              <a:off x="322560" y="39092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3" name="Rectangle 10"/>
            <p:cNvSpPr/>
            <p:nvPr/>
          </p:nvSpPr>
          <p:spPr>
            <a:xfrm>
              <a:off x="1149120" y="23493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44" name="Group 11"/>
          <p:cNvGrpSpPr/>
          <p:nvPr/>
        </p:nvGrpSpPr>
        <p:grpSpPr>
          <a:xfrm>
            <a:off x="4211640" y="2637000"/>
            <a:ext cx="4248000" cy="2454480"/>
            <a:chOff x="4211640" y="2637000"/>
            <a:chExt cx="4248000" cy="2454480"/>
          </a:xfrm>
        </p:grpSpPr>
        <p:sp>
          <p:nvSpPr>
            <p:cNvPr id="545" name="Text Box 12"/>
            <p:cNvSpPr/>
            <p:nvPr/>
          </p:nvSpPr>
          <p:spPr>
            <a:xfrm>
              <a:off x="4211640" y="2637000"/>
              <a:ext cx="4248000" cy="24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证明：在△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BC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和△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DCB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中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C=D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 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1=∠2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C=C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∴ △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BC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≌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△DCB  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（</a:t>
              </a:r>
              <a:r>
                <a:rPr b="0" lang="en-US" sz="1800" spc="-1" strike="noStrike">
                  <a:solidFill>
                    <a:srgbClr val="cc3300"/>
                  </a:solidFill>
                  <a:latin typeface="Comic Sans MS"/>
                  <a:ea typeface="宋体"/>
                </a:rPr>
                <a:t>SAS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）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∴ 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=∠D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6" name="AutoShape 13"/>
            <p:cNvSpPr/>
            <p:nvPr/>
          </p:nvSpPr>
          <p:spPr>
            <a:xfrm>
              <a:off x="5003640" y="3151080"/>
              <a:ext cx="286920" cy="1007640"/>
            </a:xfrm>
            <a:custGeom>
              <a:avLst/>
              <a:gdLst>
                <a:gd name="textAreaLeft" fmla="*/ 183240 w 286920"/>
                <a:gd name="textAreaRight" fmla="*/ 287280 w 286920"/>
                <a:gd name="textAreaTop" fmla="*/ 26280 h 1007640"/>
                <a:gd name="textAreaBottom" fmla="*/ 98136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3"/>
          <p:cNvSpPr/>
          <p:nvPr/>
        </p:nvSpPr>
        <p:spPr>
          <a:xfrm>
            <a:off x="539640" y="333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如图，已知，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AB∥DE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AB=DE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AF=DC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。请问图中有那几对全等三角形？请任选一对给予证明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48" name="Group 4"/>
          <p:cNvGrpSpPr/>
          <p:nvPr/>
        </p:nvGrpSpPr>
        <p:grpSpPr>
          <a:xfrm>
            <a:off x="191160" y="1989000"/>
            <a:ext cx="3433320" cy="2313000"/>
            <a:chOff x="191160" y="1989000"/>
            <a:chExt cx="3433320" cy="2313000"/>
          </a:xfrm>
        </p:grpSpPr>
        <p:pic>
          <p:nvPicPr>
            <p:cNvPr id="549" name="Picture 5" descr=""/>
            <p:cNvPicPr/>
            <p:nvPr/>
          </p:nvPicPr>
          <p:blipFill>
            <a:blip r:embed="rId1"/>
            <a:stretch/>
          </p:blipFill>
          <p:spPr>
            <a:xfrm>
              <a:off x="394920" y="2060640"/>
              <a:ext cx="304812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Text Box 6"/>
            <p:cNvSpPr/>
            <p:nvPr/>
          </p:nvSpPr>
          <p:spPr>
            <a:xfrm>
              <a:off x="971280" y="2852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F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1" name="Rectangle 7"/>
            <p:cNvSpPr/>
            <p:nvPr/>
          </p:nvSpPr>
          <p:spPr>
            <a:xfrm>
              <a:off x="2205000" y="198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3276000" y="30686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2554200" y="3213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4" name="Rectangle 10"/>
            <p:cNvSpPr/>
            <p:nvPr/>
          </p:nvSpPr>
          <p:spPr>
            <a:xfrm>
              <a:off x="1402200" y="393372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5" name="Rectangle 11"/>
            <p:cNvSpPr/>
            <p:nvPr/>
          </p:nvSpPr>
          <p:spPr>
            <a:xfrm>
              <a:off x="191160" y="29973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56" name="Text Box 12"/>
          <p:cNvSpPr/>
          <p:nvPr/>
        </p:nvSpPr>
        <p:spPr>
          <a:xfrm>
            <a:off x="5076720" y="206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  <a:ea typeface="宋体"/>
              </a:rPr>
              <a:t>△</a:t>
            </a:r>
            <a:r>
              <a:rPr b="1" lang="en-US" sz="1800" spc="-1" strike="noStrike">
                <a:solidFill>
                  <a:srgbClr val="cc3300"/>
                </a:solidFill>
                <a:latin typeface="Comic Sans MS"/>
                <a:ea typeface="宋体"/>
              </a:rPr>
              <a:t>ABF≌△DEC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7" name="Rectangle 13"/>
          <p:cNvSpPr/>
          <p:nvPr/>
        </p:nvSpPr>
        <p:spPr>
          <a:xfrm>
            <a:off x="5219640" y="3213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  <a:ea typeface="宋体"/>
              </a:rPr>
              <a:t>△</a:t>
            </a:r>
            <a:r>
              <a:rPr b="1" lang="en-US" sz="1800" spc="-1" strike="noStrike">
                <a:solidFill>
                  <a:srgbClr val="cc3300"/>
                </a:solidFill>
                <a:latin typeface="Comic Sans MS"/>
                <a:ea typeface="宋体"/>
              </a:rPr>
              <a:t>CBF≌△FEC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8" name="Rectangle 14"/>
          <p:cNvSpPr/>
          <p:nvPr/>
        </p:nvSpPr>
        <p:spPr>
          <a:xfrm>
            <a:off x="5232600" y="263700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  <a:ea typeface="宋体"/>
              </a:rPr>
              <a:t>△</a:t>
            </a:r>
            <a:r>
              <a:rPr b="1" lang="en-US" sz="1800" spc="-1" strike="noStrike">
                <a:solidFill>
                  <a:srgbClr val="cc3300"/>
                </a:solidFill>
                <a:latin typeface="Comic Sans MS"/>
                <a:ea typeface="宋体"/>
              </a:rPr>
              <a:t>ABC≌△DEF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4140360" y="1916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Comic Sans MS"/>
                <a:ea typeface="宋体"/>
              </a:rPr>
              <a:t>答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611280" y="40464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9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、如图，已知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E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AB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上，∠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1=∠2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， ∠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3=∠4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，那么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AC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等于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吗？为什么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61" name="Group 3"/>
          <p:cNvGrpSpPr/>
          <p:nvPr/>
        </p:nvGrpSpPr>
        <p:grpSpPr>
          <a:xfrm>
            <a:off x="262800" y="1341360"/>
            <a:ext cx="2549520" cy="2241720"/>
            <a:chOff x="262800" y="1341360"/>
            <a:chExt cx="2549520" cy="2241720"/>
          </a:xfrm>
        </p:grpSpPr>
        <p:pic>
          <p:nvPicPr>
            <p:cNvPr id="562" name="Picture 4" descr=""/>
            <p:cNvPicPr/>
            <p:nvPr/>
          </p:nvPicPr>
          <p:blipFill>
            <a:blip r:embed="rId1"/>
            <a:stretch/>
          </p:blipFill>
          <p:spPr>
            <a:xfrm>
              <a:off x="609480" y="1485720"/>
              <a:ext cx="200988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 Box 5"/>
            <p:cNvSpPr/>
            <p:nvPr/>
          </p:nvSpPr>
          <p:spPr>
            <a:xfrm>
              <a:off x="1114560" y="2709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4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1265040" y="1846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3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1839600" y="2494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2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1821600" y="22064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1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835560" y="2206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1042560" y="32148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113120" y="1341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2482200" y="23493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62800" y="23493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72" name="Text Box 14"/>
          <p:cNvSpPr/>
          <p:nvPr/>
        </p:nvSpPr>
        <p:spPr>
          <a:xfrm>
            <a:off x="2627280" y="1484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解：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AC=A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73" name="Group 15"/>
          <p:cNvGrpSpPr/>
          <p:nvPr/>
        </p:nvGrpSpPr>
        <p:grpSpPr>
          <a:xfrm>
            <a:off x="4716360" y="1413000"/>
            <a:ext cx="3384720" cy="5049360"/>
            <a:chOff x="4716360" y="1413000"/>
            <a:chExt cx="3384720" cy="5049360"/>
          </a:xfrm>
        </p:grpSpPr>
        <p:sp>
          <p:nvSpPr>
            <p:cNvPr id="574" name="Text Box 16"/>
            <p:cNvSpPr/>
            <p:nvPr/>
          </p:nvSpPr>
          <p:spPr>
            <a:xfrm>
              <a:off x="4716360" y="1413000"/>
              <a:ext cx="3384720" cy="50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理由：在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△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EBC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和△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EBD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中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        ∠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1=∠2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        ∠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3=∠4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         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EB=E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∴ △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EBC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≌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△EBD  (</a:t>
              </a:r>
              <a:r>
                <a:rPr b="1" lang="en-US" sz="1800" spc="-1" strike="noStrike">
                  <a:solidFill>
                    <a:srgbClr val="cc3300"/>
                  </a:solidFill>
                  <a:latin typeface="Comic Sans MS"/>
                  <a:ea typeface="宋体"/>
                </a:rPr>
                <a:t>AAS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)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∴  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BC=BD 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在△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BC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和△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BD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中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       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B=AB</a:t>
              </a:r>
              <a:r>
                <a:rPr b="0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       ∠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1=∠2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        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BC=B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 ∴ △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BC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≌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△ABD  (</a:t>
              </a:r>
              <a:r>
                <a:rPr b="1" lang="en-US" sz="1800" spc="-1" strike="noStrike">
                  <a:solidFill>
                    <a:srgbClr val="cc3300"/>
                  </a:solidFill>
                  <a:latin typeface="Comic Sans MS"/>
                  <a:ea typeface="宋体"/>
                </a:rPr>
                <a:t>SAS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)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  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∴ 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C=A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5" name="AutoShape 17"/>
            <p:cNvSpPr/>
            <p:nvPr/>
          </p:nvSpPr>
          <p:spPr>
            <a:xfrm>
              <a:off x="5435640" y="1987560"/>
              <a:ext cx="287280" cy="100764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7640"/>
                <a:gd name="textAreaBottom" fmla="*/ 98136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6" name="AutoShape 18"/>
            <p:cNvSpPr/>
            <p:nvPr/>
          </p:nvSpPr>
          <p:spPr>
            <a:xfrm>
              <a:off x="5435640" y="4508280"/>
              <a:ext cx="287280" cy="100764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7640"/>
                <a:gd name="textAreaBottom" fmla="*/ 98136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324000" y="47628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、已知，△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ABC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和△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ECD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都是等边三角形，且点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B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，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C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，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D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在一条直线上求证：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BE=AD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1332000" y="4149720"/>
            <a:ext cx="21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440352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80" name="Group 5"/>
          <p:cNvGrpSpPr/>
          <p:nvPr/>
        </p:nvGrpSpPr>
        <p:grpSpPr>
          <a:xfrm>
            <a:off x="4427640" y="907920"/>
            <a:ext cx="3732480" cy="2097000"/>
            <a:chOff x="4427640" y="907920"/>
            <a:chExt cx="3732480" cy="2097000"/>
          </a:xfrm>
        </p:grpSpPr>
        <p:sp>
          <p:nvSpPr>
            <p:cNvPr id="581" name="Line 6"/>
            <p:cNvSpPr/>
            <p:nvPr/>
          </p:nvSpPr>
          <p:spPr>
            <a:xfrm>
              <a:off x="6875280" y="1268280"/>
              <a:ext cx="863640" cy="136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2" name="Rectangle 7"/>
            <p:cNvSpPr/>
            <p:nvPr/>
          </p:nvSpPr>
          <p:spPr>
            <a:xfrm>
              <a:off x="6885360" y="907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3" name="Rectangle 8"/>
            <p:cNvSpPr/>
            <p:nvPr/>
          </p:nvSpPr>
          <p:spPr>
            <a:xfrm>
              <a:off x="7811640" y="24206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4" name="Rectangle 9"/>
            <p:cNvSpPr/>
            <p:nvPr/>
          </p:nvSpPr>
          <p:spPr>
            <a:xfrm>
              <a:off x="5792760" y="263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5" name="Rectangle 10"/>
            <p:cNvSpPr/>
            <p:nvPr/>
          </p:nvSpPr>
          <p:spPr>
            <a:xfrm>
              <a:off x="5230080" y="1412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6" name="Line 11"/>
            <p:cNvSpPr/>
            <p:nvPr/>
          </p:nvSpPr>
          <p:spPr>
            <a:xfrm>
              <a:off x="4786200" y="2636640"/>
              <a:ext cx="295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7" name="Line 12"/>
            <p:cNvSpPr/>
            <p:nvPr/>
          </p:nvSpPr>
          <p:spPr>
            <a:xfrm flipV="1">
              <a:off x="4786200" y="1771200"/>
              <a:ext cx="649440" cy="8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8" name="Line 13"/>
            <p:cNvSpPr/>
            <p:nvPr/>
          </p:nvSpPr>
          <p:spPr>
            <a:xfrm>
              <a:off x="5435640" y="1771560"/>
              <a:ext cx="503280" cy="8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9" name="Line 14"/>
            <p:cNvSpPr/>
            <p:nvPr/>
          </p:nvSpPr>
          <p:spPr>
            <a:xfrm flipV="1">
              <a:off x="5938920" y="1267920"/>
              <a:ext cx="936360" cy="136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0" name="Line 15"/>
            <p:cNvSpPr/>
            <p:nvPr/>
          </p:nvSpPr>
          <p:spPr>
            <a:xfrm>
              <a:off x="5435640" y="1771560"/>
              <a:ext cx="2303280" cy="8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1" name="Line 16"/>
            <p:cNvSpPr/>
            <p:nvPr/>
          </p:nvSpPr>
          <p:spPr>
            <a:xfrm flipV="1">
              <a:off x="4786200" y="1267920"/>
              <a:ext cx="2089080" cy="136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2" name="Text Box 17"/>
            <p:cNvSpPr/>
            <p:nvPr/>
          </p:nvSpPr>
          <p:spPr>
            <a:xfrm>
              <a:off x="4427640" y="242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93" name="Text Box 18"/>
          <p:cNvSpPr/>
          <p:nvPr/>
        </p:nvSpPr>
        <p:spPr>
          <a:xfrm>
            <a:off x="4643280" y="350028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Comic Sans MS"/>
                <a:ea typeface="宋体"/>
              </a:rPr>
              <a:t>变式：</a:t>
            </a:r>
            <a:r>
              <a:rPr b="1" lang="zh-CN" sz="1800" spc="-1" strike="noStrike">
                <a:solidFill>
                  <a:srgbClr val="cc3300"/>
                </a:solidFill>
                <a:latin typeface="Comic Sans MS"/>
                <a:ea typeface="宋体"/>
              </a:rPr>
              <a:t>以上条件不变，将△</a:t>
            </a:r>
            <a:r>
              <a:rPr b="1" lang="en-US" sz="1800" spc="-1" strike="noStrike">
                <a:solidFill>
                  <a:srgbClr val="cc3300"/>
                </a:solidFill>
                <a:latin typeface="Comic Sans MS"/>
                <a:ea typeface="宋体"/>
              </a:rPr>
              <a:t>ABC</a:t>
            </a:r>
            <a:r>
              <a:rPr b="1" lang="zh-CN" sz="1800" spc="-1" strike="noStrike">
                <a:solidFill>
                  <a:srgbClr val="cc3300"/>
                </a:solidFill>
                <a:latin typeface="Comic Sans MS"/>
                <a:ea typeface="宋体"/>
              </a:rPr>
              <a:t>绕点</a:t>
            </a:r>
            <a:r>
              <a:rPr b="1" lang="en-US" sz="1800" spc="-1" strike="noStrike">
                <a:solidFill>
                  <a:srgbClr val="cc3300"/>
                </a:solidFill>
                <a:latin typeface="Comic Sans MS"/>
                <a:ea typeface="宋体"/>
              </a:rPr>
              <a:t>C</a:t>
            </a:r>
            <a:r>
              <a:rPr b="1" lang="zh-CN" sz="1800" spc="-1" strike="noStrike">
                <a:solidFill>
                  <a:srgbClr val="cc3300"/>
                </a:solidFill>
                <a:latin typeface="Comic Sans MS"/>
                <a:ea typeface="宋体"/>
              </a:rPr>
              <a:t>旋转一定角度（大于零度而小于六十度），以上的结论还成立吗？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94" name="Group 19"/>
          <p:cNvGrpSpPr/>
          <p:nvPr/>
        </p:nvGrpSpPr>
        <p:grpSpPr>
          <a:xfrm>
            <a:off x="250920" y="1000080"/>
            <a:ext cx="4537080" cy="4540680"/>
            <a:chOff x="250920" y="1000080"/>
            <a:chExt cx="4537080" cy="4540680"/>
          </a:xfrm>
        </p:grpSpPr>
        <p:sp>
          <p:nvSpPr>
            <p:cNvPr id="595" name="Text Box 20"/>
            <p:cNvSpPr/>
            <p:nvPr/>
          </p:nvSpPr>
          <p:spPr>
            <a:xfrm>
              <a:off x="250920" y="1000080"/>
              <a:ext cx="4537080" cy="45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证明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：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∵ 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△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BC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和△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ECD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都是等边三角形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∴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C=BC  DC=EC  ∠BCA=∠DCE=60°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∴ 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CA+∠ACE=∠DCE+ ∠AC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即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CE=∠DC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在△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CD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和△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CE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中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C=BC 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CE=∠DCA 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DC=E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∴ △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CD≌△BCE  (</a:t>
              </a:r>
              <a:r>
                <a:rPr b="1" lang="en-US" sz="1800" spc="-1" strike="noStrike">
                  <a:solidFill>
                    <a:srgbClr val="cc3300"/>
                  </a:solidFill>
                  <a:latin typeface="Comic Sans MS"/>
                  <a:ea typeface="宋体"/>
                </a:rPr>
                <a:t>SAS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)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∴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E=A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6" name="AutoShape 21"/>
            <p:cNvSpPr/>
            <p:nvPr/>
          </p:nvSpPr>
          <p:spPr>
            <a:xfrm>
              <a:off x="684360" y="3645000"/>
              <a:ext cx="380880" cy="88092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22680 h 880920"/>
                <a:gd name="textAreaBottom" fmla="*/ 858240 h 88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6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3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image002"/>
          <p:cNvPicPr/>
          <p:nvPr/>
        </p:nvPicPr>
        <p:blipFill>
          <a:blip r:embed="rId1"/>
          <a:stretch/>
        </p:blipFill>
        <p:spPr>
          <a:xfrm>
            <a:off x="324000" y="1255680"/>
            <a:ext cx="6480000" cy="267804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3"/>
          <p:cNvSpPr/>
          <p:nvPr/>
        </p:nvSpPr>
        <p:spPr>
          <a:xfrm>
            <a:off x="324000" y="421092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分析：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由于两个三角形完全重合，故面积、周长相等。至于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D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，因为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AD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和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BC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是对应边，因此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AD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＝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BC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。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C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符合题意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99" name="Picture 4" descr="image005"/>
          <p:cNvPicPr/>
          <p:nvPr/>
        </p:nvPicPr>
        <p:blipFill>
          <a:blip r:embed="rId2"/>
          <a:stretch/>
        </p:blipFill>
        <p:spPr>
          <a:xfrm>
            <a:off x="9774360" y="3429000"/>
            <a:ext cx="809640" cy="162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image003"/>
          <p:cNvPicPr/>
          <p:nvPr/>
        </p:nvPicPr>
        <p:blipFill>
          <a:blip r:embed="rId3"/>
          <a:stretch/>
        </p:blipFill>
        <p:spPr>
          <a:xfrm rot="21463800">
            <a:off x="4719240" y="1844640"/>
            <a:ext cx="4176720" cy="1973160"/>
          </a:xfrm>
          <a:prstGeom prst="rect">
            <a:avLst/>
          </a:prstGeom>
          <a:ln w="0">
            <a:noFill/>
          </a:ln>
        </p:spPr>
      </p:pic>
      <p:grpSp>
        <p:nvGrpSpPr>
          <p:cNvPr id="601" name="Group 6"/>
          <p:cNvGrpSpPr/>
          <p:nvPr/>
        </p:nvGrpSpPr>
        <p:grpSpPr>
          <a:xfrm>
            <a:off x="324000" y="5079960"/>
            <a:ext cx="8280000" cy="1370160"/>
            <a:chOff x="324000" y="5079960"/>
            <a:chExt cx="8280000" cy="1370160"/>
          </a:xfrm>
        </p:grpSpPr>
        <p:pic>
          <p:nvPicPr>
            <p:cNvPr id="602" name="Picture 7" descr="image005"/>
            <p:cNvPicPr/>
            <p:nvPr/>
          </p:nvPicPr>
          <p:blipFill>
            <a:blip r:embed="rId4"/>
            <a:stretch/>
          </p:blipFill>
          <p:spPr>
            <a:xfrm>
              <a:off x="2034000" y="5945040"/>
              <a:ext cx="18594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Rectangle 8"/>
            <p:cNvSpPr/>
            <p:nvPr/>
          </p:nvSpPr>
          <p:spPr>
            <a:xfrm>
              <a:off x="324000" y="5079960"/>
              <a:ext cx="828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说明：本题的解题关键是要知道中两个全等三角形中，对应顶点定在对应的位置上，易错点是容易找错对应角                    。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04" name="Text Box 9"/>
          <p:cNvSpPr/>
          <p:nvPr/>
        </p:nvSpPr>
        <p:spPr>
          <a:xfrm>
            <a:off x="1763640" y="33336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644e"/>
                </a:solidFill>
                <a:latin typeface="Arial"/>
                <a:ea typeface="华文新魏"/>
              </a:rPr>
              <a:t>例题精析：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5" name="Text Box 10"/>
          <p:cNvSpPr/>
          <p:nvPr/>
        </p:nvSpPr>
        <p:spPr>
          <a:xfrm>
            <a:off x="7236000" y="33336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连接例题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3" descr="image011"/>
          <p:cNvPicPr/>
          <p:nvPr/>
        </p:nvPicPr>
        <p:blipFill>
          <a:blip r:embed="rId1"/>
          <a:stretch/>
        </p:blipFill>
        <p:spPr>
          <a:xfrm>
            <a:off x="2195640" y="2708280"/>
            <a:ext cx="4390920" cy="3230640"/>
          </a:xfrm>
          <a:prstGeom prst="rect">
            <a:avLst/>
          </a:prstGeom>
          <a:ln w="0">
            <a:noFill/>
          </a:ln>
        </p:spPr>
      </p:pic>
      <p:sp>
        <p:nvSpPr>
          <p:cNvPr id="607" name="Rectangle 6"/>
          <p:cNvSpPr/>
          <p:nvPr/>
        </p:nvSpPr>
        <p:spPr>
          <a:xfrm>
            <a:off x="250920" y="189000"/>
            <a:ext cx="83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　如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F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D∥B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求证：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DF≌⊿CBE               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4"/>
          <p:cNvSpPr/>
          <p:nvPr/>
        </p:nvSpPr>
        <p:spPr>
          <a:xfrm>
            <a:off x="1088640" y="260280"/>
            <a:ext cx="36997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全等三角形的概念及其性质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0" y="131760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全等三角形的定义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够完全重合的两个三角形叫做全等三角形 ，重合的点叫做对应顶点，重合的边叫做对应边，重合的角叫做对应角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956160" y="4221000"/>
            <a:ext cx="475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全等三角形性质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 对应边相等 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对应角相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周长相等      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面积相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1617120" y="3500280"/>
            <a:ext cx="597024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：“全等”的记法“≌”，全等变换：平移、旋转、翻转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image011"/>
          <p:cNvPicPr/>
          <p:nvPr/>
        </p:nvPicPr>
        <p:blipFill>
          <a:blip r:embed="rId1"/>
          <a:stretch/>
        </p:blipFill>
        <p:spPr>
          <a:xfrm>
            <a:off x="5003640" y="260280"/>
            <a:ext cx="3527640" cy="290988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3"/>
          <p:cNvSpPr/>
          <p:nvPr/>
        </p:nvSpPr>
        <p:spPr>
          <a:xfrm>
            <a:off x="395280" y="4005360"/>
            <a:ext cx="7632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分析：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已知△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ABC≌△ A</a:t>
            </a:r>
            <a:r>
              <a:rPr b="1" lang="en-US" sz="2800" spc="-1" strike="noStrike" baseline="-25000">
                <a:solidFill>
                  <a:srgbClr val="a5644e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B</a:t>
            </a:r>
            <a:r>
              <a:rPr b="1" lang="en-US" sz="2800" spc="-1" strike="noStrike" baseline="-25000">
                <a:solidFill>
                  <a:srgbClr val="a5644e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a5644e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，相当于已知它们的对应边相等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.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在证明过程中，可根据需要，选取其中一部分相等关系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360360" y="836640"/>
            <a:ext cx="457200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知：如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C≌△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别是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求证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=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6084720" y="3141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7812000" y="1628640"/>
            <a:ext cx="863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4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3"/>
          <p:cNvSpPr/>
          <p:nvPr/>
        </p:nvSpPr>
        <p:spPr>
          <a:xfrm>
            <a:off x="249120" y="189000"/>
            <a:ext cx="84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：求证：有一条直角边和斜边上的高对应相等的两个直角三角形全等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250920" y="21337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分析：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首先要分清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宋体"/>
              </a:rPr>
              <a:t>题设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宋体"/>
              </a:rPr>
              <a:t>结论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，然后按要求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宋体"/>
              </a:rPr>
              <a:t>画出图形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，根据题意写出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宋体"/>
              </a:rPr>
              <a:t>已知求证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后，再写出证明过程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3276720" y="4437000"/>
            <a:ext cx="863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6" name="Rectangle 17"/>
          <p:cNvSpPr/>
          <p:nvPr/>
        </p:nvSpPr>
        <p:spPr>
          <a:xfrm>
            <a:off x="5003640" y="3789360"/>
            <a:ext cx="35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说明：</a:t>
            </a:r>
            <a:r>
              <a:rPr b="1" i="1" lang="zh-CN" sz="2800" spc="-1" strike="noStrike" u="sng">
                <a:solidFill>
                  <a:srgbClr val="cc3300"/>
                </a:solidFill>
                <a:uFillTx/>
                <a:latin typeface="Arial"/>
                <a:ea typeface="宋体"/>
              </a:rPr>
              <a:t>文字证明题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的书写格式要标准</a:t>
            </a:r>
            <a:r>
              <a:rPr b="0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826920" y="641880"/>
            <a:ext cx="759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如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已知：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90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=B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D⊥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于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求证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18" name="Picture 3" descr="image015"/>
          <p:cNvPicPr/>
          <p:nvPr/>
        </p:nvPicPr>
        <p:blipFill>
          <a:blip r:embed="rId1"/>
          <a:stretch/>
        </p:blipFill>
        <p:spPr>
          <a:xfrm>
            <a:off x="1476360" y="2060640"/>
            <a:ext cx="4319640" cy="255888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4"/>
          <p:cNvSpPr/>
          <p:nvPr/>
        </p:nvSpPr>
        <p:spPr>
          <a:xfrm>
            <a:off x="2225520" y="494172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提示：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找两个全等三角形，需连结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BE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2627280" y="4005360"/>
            <a:ext cx="863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4"/>
          <p:cNvSpPr/>
          <p:nvPr/>
        </p:nvSpPr>
        <p:spPr>
          <a:xfrm>
            <a:off x="1092960" y="0"/>
            <a:ext cx="598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如图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=A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D=C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若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=28°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则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22" name="Picture 6" descr="wps_clip_image-0"/>
          <p:cNvPicPr/>
          <p:nvPr/>
        </p:nvPicPr>
        <p:blipFill>
          <a:blip r:embed="rId1"/>
          <a:stretch/>
        </p:blipFill>
        <p:spPr>
          <a:xfrm>
            <a:off x="1692360" y="1484280"/>
            <a:ext cx="4392360" cy="3535560"/>
          </a:xfrm>
          <a:prstGeom prst="rect">
            <a:avLst/>
          </a:prstGeom>
          <a:ln w="0">
            <a:noFill/>
          </a:ln>
        </p:spPr>
      </p:pic>
      <p:sp>
        <p:nvSpPr>
          <p:cNvPr id="623" name="Line 9"/>
          <p:cNvSpPr/>
          <p:nvPr/>
        </p:nvSpPr>
        <p:spPr>
          <a:xfrm>
            <a:off x="3780000" y="2205000"/>
            <a:ext cx="0" cy="1224000"/>
          </a:xfrm>
          <a:prstGeom prst="line">
            <a:avLst/>
          </a:prstGeom>
          <a:ln w="381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6"/>
          <p:cNvSpPr/>
          <p:nvPr/>
        </p:nvSpPr>
        <p:spPr>
          <a:xfrm>
            <a:off x="1759320" y="189000"/>
            <a:ext cx="575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图：将纸片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折叠，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落在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处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已知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+∠2=100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则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度；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25" name="Picture 8" descr="wps_clip_image-0"/>
          <p:cNvPicPr/>
          <p:nvPr/>
        </p:nvPicPr>
        <p:blipFill>
          <a:blip r:embed="rId1"/>
          <a:stretch/>
        </p:blipFill>
        <p:spPr>
          <a:xfrm>
            <a:off x="1692360" y="1306440"/>
            <a:ext cx="504036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image018"/>
          <p:cNvPicPr/>
          <p:nvPr/>
        </p:nvPicPr>
        <p:blipFill>
          <a:blip r:embed="rId1"/>
          <a:stretch/>
        </p:blipFill>
        <p:spPr>
          <a:xfrm>
            <a:off x="5435640" y="690480"/>
            <a:ext cx="3457440" cy="219240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3"/>
          <p:cNvSpPr/>
          <p:nvPr/>
        </p:nvSpPr>
        <p:spPr>
          <a:xfrm>
            <a:off x="179280" y="1197000"/>
            <a:ext cx="60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F≌ △CD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=3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 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E= ∠DCF=20 °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求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F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度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 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1908000" y="333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644e"/>
                </a:solidFill>
                <a:latin typeface="Arial"/>
                <a:ea typeface="华文新魏"/>
              </a:rPr>
              <a:t>练习题：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0" y="2778840"/>
            <a:ext cx="59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如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已知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平分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=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连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并延长相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点．则图形中有（ 　　 ）对全等三角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30" name="Group 6"/>
          <p:cNvGrpSpPr/>
          <p:nvPr/>
        </p:nvGrpSpPr>
        <p:grpSpPr>
          <a:xfrm>
            <a:off x="3203640" y="4581360"/>
            <a:ext cx="5940360" cy="2102040"/>
            <a:chOff x="3203640" y="4581360"/>
            <a:chExt cx="5940360" cy="2102040"/>
          </a:xfrm>
        </p:grpSpPr>
        <p:pic>
          <p:nvPicPr>
            <p:cNvPr id="631" name="Picture 7" descr="image001"/>
            <p:cNvPicPr/>
            <p:nvPr/>
          </p:nvPicPr>
          <p:blipFill>
            <a:blip r:embed="rId2"/>
            <a:stretch/>
          </p:blipFill>
          <p:spPr>
            <a:xfrm>
              <a:off x="3203640" y="4653000"/>
              <a:ext cx="594036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Text Box 8"/>
            <p:cNvSpPr/>
            <p:nvPr/>
          </p:nvSpPr>
          <p:spPr>
            <a:xfrm>
              <a:off x="5724360" y="4581360"/>
              <a:ext cx="3419640" cy="203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33" name="Text Box 9"/>
          <p:cNvSpPr/>
          <p:nvPr/>
        </p:nvSpPr>
        <p:spPr>
          <a:xfrm>
            <a:off x="826920" y="3789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4" name="Text Box 10"/>
          <p:cNvSpPr/>
          <p:nvPr/>
        </p:nvSpPr>
        <p:spPr>
          <a:xfrm>
            <a:off x="6732720" y="2492280"/>
            <a:ext cx="863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5" name="Text Box 11"/>
          <p:cNvSpPr/>
          <p:nvPr/>
        </p:nvSpPr>
        <p:spPr>
          <a:xfrm>
            <a:off x="3924360" y="6338880"/>
            <a:ext cx="863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6" name="Text Box 13"/>
          <p:cNvSpPr/>
          <p:nvPr/>
        </p:nvSpPr>
        <p:spPr>
          <a:xfrm>
            <a:off x="3419640" y="213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  <a:ea typeface="宋体"/>
              </a:rPr>
              <a:t>80</a:t>
            </a:r>
            <a:r>
              <a:rPr b="0" lang="en-US" sz="2400" spc="-1" strike="noStrike" baseline="30000">
                <a:solidFill>
                  <a:srgbClr val="ff3399"/>
                </a:solidFill>
                <a:latin typeface="Arial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37" name="陈楚生-这一刻.wma" descr=""/>
          <p:cNvPicPr/>
          <p:nvPr/>
        </p:nvPicPr>
        <p:blipFill>
          <a:blip r:embed="rId3"/>
          <a:stretch/>
        </p:blipFill>
        <p:spPr>
          <a:xfrm>
            <a:off x="5148360" y="69228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3" dur="234553" fill="hold"/>
                                        <p:tgtEl>
                                          <p:spTgt spid="6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2"/>
          <p:cNvSpPr/>
          <p:nvPr/>
        </p:nvSpPr>
        <p:spPr>
          <a:xfrm>
            <a:off x="324000" y="335520"/>
            <a:ext cx="8496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如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已知：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F=F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=C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F⊥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则此图中全等三角形共有（ 　　 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                                                                                                         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如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已知：在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边上的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=B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=D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延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求证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边上的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39" name="Picture 3" descr="image002"/>
          <p:cNvPicPr/>
          <p:nvPr/>
        </p:nvPicPr>
        <p:blipFill>
          <a:blip r:embed="rId1"/>
          <a:stretch/>
        </p:blipFill>
        <p:spPr>
          <a:xfrm>
            <a:off x="971640" y="1989000"/>
            <a:ext cx="6408720" cy="240372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4"/>
          <p:cNvSpPr/>
          <p:nvPr/>
        </p:nvSpPr>
        <p:spPr>
          <a:xfrm>
            <a:off x="1042920" y="6093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提示：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关键证明△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ADC≌△BF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7236000" y="765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2"/>
          <p:cNvSpPr/>
          <p:nvPr/>
        </p:nvSpPr>
        <p:spPr>
          <a:xfrm>
            <a:off x="539640" y="689400"/>
            <a:ext cx="61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如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已知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=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=C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任一点，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作直线分别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延长线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求证：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=∠F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43" name="Picture 3" descr="image004"/>
          <p:cNvPicPr/>
          <p:nvPr/>
        </p:nvPicPr>
        <p:blipFill>
          <a:blip r:embed="rId1"/>
          <a:stretch/>
        </p:blipFill>
        <p:spPr>
          <a:xfrm>
            <a:off x="1619280" y="2492280"/>
            <a:ext cx="3457440" cy="25131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4"/>
          <p:cNvSpPr/>
          <p:nvPr/>
        </p:nvSpPr>
        <p:spPr>
          <a:xfrm>
            <a:off x="684360" y="5013360"/>
            <a:ext cx="73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提示：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由条件易证△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ABC≌△CDA 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从而得知∠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BAC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＝∠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DCA </a:t>
            </a:r>
            <a:r>
              <a:rPr b="1" lang="zh-CN" sz="2800" spc="-1" strike="noStrike">
                <a:solidFill>
                  <a:srgbClr val="a5644e"/>
                </a:solidFill>
                <a:latin typeface="Arial"/>
                <a:ea typeface="宋体"/>
              </a:rPr>
              <a:t>，即：</a:t>
            </a:r>
            <a:r>
              <a:rPr b="1" lang="en-US" sz="2800" spc="-1" strike="noStrike">
                <a:solidFill>
                  <a:srgbClr val="a5644e"/>
                </a:solidFill>
                <a:latin typeface="Arial"/>
                <a:ea typeface="宋体"/>
              </a:rPr>
              <a:t>AB∥CD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250920" y="11592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e3b30"/>
                </a:solidFill>
                <a:latin typeface="Comic Sans MS"/>
                <a:ea typeface="隶书"/>
              </a:rPr>
              <a:t>知识梳理：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6" name="Text Box 3"/>
          <p:cNvSpPr/>
          <p:nvPr/>
        </p:nvSpPr>
        <p:spPr>
          <a:xfrm>
            <a:off x="826920" y="7650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：什么是全等三角形？一个三角形经过哪些变化可以得到它的全等形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900000" y="28526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：全等三角形有哪些性质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1763640" y="537372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：三角形全等的判定方法有哪些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755640" y="1628640"/>
            <a:ext cx="60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Comic Sans MS"/>
                <a:ea typeface="宋体"/>
              </a:rPr>
              <a:t>能够完全重合的两个三角形叫做全等三角形。一个三角形经过平移、翻折、旋转可以得到它的全等形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755640" y="3357720"/>
            <a:ext cx="748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Comic Sans MS"/>
                <a:ea typeface="宋体"/>
              </a:rPr>
              <a:t>（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1</a:t>
            </a:r>
            <a:r>
              <a:rPr b="1" lang="zh-CN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）：全等三角形的对应边相等、对应角相等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（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2</a:t>
            </a:r>
            <a:r>
              <a:rPr b="1" lang="zh-CN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）：全等三角形的周长相等、面积相等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（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3</a:t>
            </a:r>
            <a:r>
              <a:rPr b="1" lang="zh-CN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）：全等三角形的对应边上的对应中线、角平分线、高线分别相等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2050920" y="6010200"/>
            <a:ext cx="6553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SSS</a:t>
            </a:r>
            <a:r>
              <a:rPr b="0" lang="zh-CN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、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SAS</a:t>
            </a:r>
            <a:r>
              <a:rPr b="0" lang="zh-CN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、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ASA</a:t>
            </a:r>
            <a:r>
              <a:rPr b="0" lang="zh-CN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、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AAS</a:t>
            </a:r>
            <a:r>
              <a:rPr b="0" lang="zh-CN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、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宋体"/>
              </a:rPr>
              <a:t>HL(RT△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5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539640" y="404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Comic Sans MS"/>
                <a:ea typeface="隶书"/>
              </a:rPr>
              <a:t>总结提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1116000" y="112536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Comic Sans MS"/>
                <a:ea typeface="隶书"/>
              </a:rPr>
              <a:t>学习全等三角形应注意以下几个问题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900000" y="162864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4e3b30"/>
                </a:solidFill>
                <a:latin typeface="隶书"/>
                <a:ea typeface="隶书"/>
              </a:rPr>
              <a:t>1):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要正确区分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对应边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与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对边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，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对应角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与      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对角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的不同含义；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900000" y="24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4e3b3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）：表示两个三角形全等时，表示对应顶点的字母要写在对应的位置上；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826920" y="335772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4e3b30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）：要记住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有三个角对应相等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或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有两边及其中一边的对角对应相等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的两个三角形不一定全等；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7" name="Text Box 7"/>
          <p:cNvSpPr/>
          <p:nvPr/>
        </p:nvSpPr>
        <p:spPr>
          <a:xfrm>
            <a:off x="755640" y="4221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4e3b30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）：时刻注意图形中的隐含条件，如 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公共角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 、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公共边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、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对顶角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0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3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3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3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3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4"/>
          <p:cNvSpPr/>
          <p:nvPr/>
        </p:nvSpPr>
        <p:spPr>
          <a:xfrm>
            <a:off x="326880" y="160200"/>
            <a:ext cx="818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已知如图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C ≌⊿DCB ,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对应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____,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____,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____,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对应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____,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____,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____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14" name="Picture 6" descr="wps_clip_image-0"/>
          <p:cNvPicPr/>
          <p:nvPr/>
        </p:nvPicPr>
        <p:blipFill>
          <a:blip r:embed="rId1"/>
          <a:stretch/>
        </p:blipFill>
        <p:spPr>
          <a:xfrm>
            <a:off x="1692360" y="2060640"/>
            <a:ext cx="50911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0" y="26028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请指出图中全等三角形的对应边和对应角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416" name="Object 3"/>
          <p:cNvGraphicFramePr/>
          <p:nvPr/>
        </p:nvGraphicFramePr>
        <p:xfrm>
          <a:off x="5292720" y="2349360"/>
          <a:ext cx="3638520" cy="20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2349360"/>
                    <a:ext cx="3638520" cy="20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Text Box 4"/>
          <p:cNvSpPr/>
          <p:nvPr/>
        </p:nvSpPr>
        <p:spPr>
          <a:xfrm>
            <a:off x="179280" y="4653000"/>
            <a:ext cx="698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图中△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ABD ≌ △CDB,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则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AB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AD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BD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ABD=__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 ∠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ADB=______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 ∠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A=__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1370520" y="5214960"/>
            <a:ext cx="6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C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2907720" y="521496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C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4529160" y="5214960"/>
            <a:ext cx="68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B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1510200" y="568800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∠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CD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4464360" y="568152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∠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CB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1143000" y="6202440"/>
            <a:ext cx="7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∠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20520" y="1413000"/>
            <a:ext cx="49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AB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宋体"/>
              </a:rPr>
              <a:t>与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CD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AD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宋体"/>
              </a:rPr>
              <a:t>与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CB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BD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宋体"/>
              </a:rPr>
              <a:t>与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D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479520" y="2276640"/>
            <a:ext cx="407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∠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ABD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宋体"/>
              </a:rPr>
              <a:t>与∠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CDB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宋体"/>
              </a:rPr>
              <a:t>、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宋体"/>
              </a:rPr>
              <a:t>∠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ADB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宋体"/>
              </a:rPr>
              <a:t>与∠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CBD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宋体"/>
              </a:rPr>
              <a:t>、∠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A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  <a:ea typeface="宋体"/>
              </a:rPr>
              <a:t>与∠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  <a:ea typeface="宋体"/>
              </a:rPr>
              <a:t>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1165320" y="1779480"/>
            <a:ext cx="779940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2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公共边的，公共边是对应边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公共角的，公共角是对应角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对顶角的，对顶角是对应角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对最长的边是对应边，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对最短的边是对应边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对最大的角是对应角，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对最小的角是对应角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539640" y="333360"/>
            <a:ext cx="79930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找全等三角形的对应元素时一般有什么</a:t>
            </a:r>
            <a:r>
              <a:rPr b="1" lang="zh-CN" sz="3600" spc="-1" strike="noStrike" u="sng">
                <a:solidFill>
                  <a:srgbClr val="ad1f1f"/>
                </a:solidFill>
                <a:uFillTx/>
                <a:latin typeface="隶书"/>
                <a:ea typeface="隶书"/>
                <a:hlinkClick r:id="rId6"/>
              </a:rPr>
              <a:t>规律</a:t>
            </a:r>
            <a:r>
              <a:rPr b="1" lang="zh-CN" sz="3600" spc="-1" strike="noStrike">
                <a:solidFill>
                  <a:srgbClr val="ffc42f"/>
                </a:solidFill>
                <a:latin typeface="隶书"/>
                <a:ea typeface="隶书"/>
              </a:rPr>
              <a:t>？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Object 2"/>
          <p:cNvGraphicFramePr/>
          <p:nvPr/>
        </p:nvGraphicFramePr>
        <p:xfrm>
          <a:off x="3711600" y="1052640"/>
          <a:ext cx="52531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1600" y="1052640"/>
                    <a:ext cx="52531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Text Box 3"/>
          <p:cNvSpPr/>
          <p:nvPr/>
        </p:nvSpPr>
        <p:spPr>
          <a:xfrm>
            <a:off x="179280" y="1989000"/>
            <a:ext cx="61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如图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D≌ △E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=3cm,BC=5cm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长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395280" y="3271680"/>
            <a:ext cx="460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Tahoma"/>
                <a:ea typeface="宋体"/>
              </a:rPr>
              <a:t>解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∵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ABD≌ △EB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AB=E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BD=B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∵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BD=DE+E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DE=BD-E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=BC-A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=5-3=2cm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2"/>
          <p:cNvSpPr/>
          <p:nvPr/>
        </p:nvSpPr>
        <p:spPr>
          <a:xfrm>
            <a:off x="611280" y="26028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知识回顾：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1187280" y="1125360"/>
            <a:ext cx="55436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ad1f1f"/>
                </a:solidFill>
                <a:uFillTx/>
                <a:latin typeface="Arial"/>
                <a:hlinkClick r:id="rId1"/>
              </a:rPr>
              <a:t>一般三角形</a:t>
            </a:r>
            <a:r>
              <a:rPr b="1" lang="zh-CN" sz="3600" spc="-1" strike="noStrike" u="sng">
                <a:solidFill>
                  <a:srgbClr val="ad1f1f"/>
                </a:solidFill>
                <a:uFillTx/>
                <a:latin typeface="Arial"/>
                <a:hlinkClick r:id="rId2"/>
              </a:rPr>
              <a:t> </a:t>
            </a:r>
            <a:r>
              <a:rPr b="1" lang="zh-CN" sz="3600" spc="-1" strike="noStrike" u="sng">
                <a:solidFill>
                  <a:srgbClr val="ad1f1f"/>
                </a:solidFill>
                <a:uFillTx/>
                <a:latin typeface="Arial"/>
                <a:hlinkClick r:id="rId3"/>
              </a:rPr>
              <a:t>全等的条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332000" y="184464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cc3300"/>
                </a:solidFill>
                <a:latin typeface="黑体"/>
              </a:rPr>
              <a:t>定义（重合）法；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1332000" y="249228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黑体"/>
              </a:rPr>
              <a:t>2.SSS</a:t>
            </a:r>
            <a:r>
              <a:rPr b="1" lang="zh-CN" sz="4000" spc="-1" strike="noStrike">
                <a:solidFill>
                  <a:srgbClr val="006600"/>
                </a:solidFill>
                <a:latin typeface="黑体"/>
              </a:rPr>
              <a:t>；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7" name="Text Box 6"/>
          <p:cNvSpPr/>
          <p:nvPr/>
        </p:nvSpPr>
        <p:spPr>
          <a:xfrm>
            <a:off x="1330200" y="3141720"/>
            <a:ext cx="30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黑体"/>
              </a:rPr>
              <a:t>3.SAS</a:t>
            </a:r>
            <a:r>
              <a:rPr b="1" lang="zh-CN" sz="4000" spc="-1" strike="noStrike">
                <a:solidFill>
                  <a:srgbClr val="006600"/>
                </a:solidFill>
                <a:latin typeface="黑体"/>
              </a:rPr>
              <a:t>；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1332000" y="378936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黑体"/>
              </a:rPr>
              <a:t>4.ASA</a:t>
            </a:r>
            <a:r>
              <a:rPr b="1" lang="zh-CN" sz="4000" spc="-1" strike="noStrike">
                <a:solidFill>
                  <a:srgbClr val="006600"/>
                </a:solidFill>
                <a:latin typeface="黑体"/>
              </a:rPr>
              <a:t>；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1332000" y="443700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黑体"/>
              </a:rPr>
              <a:t>5.AAS</a:t>
            </a:r>
            <a:r>
              <a:rPr b="1" lang="en-US" sz="4000" spc="-1" strike="noStrike">
                <a:solidFill>
                  <a:srgbClr val="006600"/>
                </a:solidFill>
                <a:latin typeface="黑体"/>
              </a:rPr>
              <a:t>.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0" name="Text Box 9"/>
          <p:cNvSpPr/>
          <p:nvPr/>
        </p:nvSpPr>
        <p:spPr>
          <a:xfrm>
            <a:off x="1187280" y="51577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直角三角形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全等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特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条件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1" name="Text Box 10"/>
          <p:cNvSpPr/>
          <p:nvPr/>
        </p:nvSpPr>
        <p:spPr>
          <a:xfrm>
            <a:off x="7091280" y="5084640"/>
            <a:ext cx="9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黑体"/>
              </a:rPr>
              <a:t>HL</a:t>
            </a:r>
            <a:r>
              <a:rPr b="1" lang="en-US" sz="4000" spc="-1" strike="noStrike">
                <a:solidFill>
                  <a:srgbClr val="006600"/>
                </a:solidFill>
                <a:latin typeface="黑体"/>
              </a:rPr>
              <a:t>.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2" name="AutoShape 11"/>
          <p:cNvSpPr/>
          <p:nvPr/>
        </p:nvSpPr>
        <p:spPr>
          <a:xfrm>
            <a:off x="4140360" y="260280"/>
            <a:ext cx="4608360" cy="1009800"/>
          </a:xfrm>
          <a:prstGeom prst="wedgeRoundRectCallout">
            <a:avLst>
              <a:gd name="adj1" fmla="val -59439"/>
              <a:gd name="adj2" fmla="val 48268"/>
              <a:gd name="adj3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644e"/>
                </a:solidFill>
                <a:latin typeface="Arial"/>
              </a:rPr>
              <a:t>包括直角三角形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3" name="AutoShape 12"/>
          <p:cNvSpPr/>
          <p:nvPr/>
        </p:nvSpPr>
        <p:spPr>
          <a:xfrm>
            <a:off x="5364000" y="3068640"/>
            <a:ext cx="3600720" cy="1584360"/>
          </a:xfrm>
          <a:prstGeom prst="wedgeRoundRectCallout">
            <a:avLst>
              <a:gd name="adj1" fmla="val -58555"/>
              <a:gd name="adj2" fmla="val 84768"/>
              <a:gd name="adj3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644e"/>
                </a:solidFill>
                <a:latin typeface="Arial"/>
              </a:rPr>
              <a:t>不包括其它形状的三角形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44" name="Group 13"/>
          <p:cNvGrpSpPr/>
          <p:nvPr/>
        </p:nvGrpSpPr>
        <p:grpSpPr>
          <a:xfrm>
            <a:off x="0" y="2462040"/>
            <a:ext cx="1332000" cy="2406960"/>
            <a:chOff x="0" y="2462040"/>
            <a:chExt cx="1332000" cy="2406960"/>
          </a:xfrm>
        </p:grpSpPr>
        <p:sp>
          <p:nvSpPr>
            <p:cNvPr id="445" name="Text Box 14"/>
            <p:cNvSpPr/>
            <p:nvPr/>
          </p:nvSpPr>
          <p:spPr>
            <a:xfrm>
              <a:off x="0" y="2462040"/>
              <a:ext cx="12589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</a:rPr>
                <a:t>解题中常用的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</a:rPr>
                <a:t>4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</a:rPr>
                <a:t>种方法</a:t>
              </a:r>
              <a:endParaRPr b="1" lang="en-US" sz="36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6" name="AutoShape 15"/>
            <p:cNvSpPr/>
            <p:nvPr/>
          </p:nvSpPr>
          <p:spPr>
            <a:xfrm>
              <a:off x="1187280" y="2924280"/>
              <a:ext cx="144720" cy="194472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50400 h 1944720"/>
                <a:gd name="textAreaBottom" fmla="*/ 1894320 h 19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395280" y="0"/>
            <a:ext cx="79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：如图，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AB=AD,CB=CD.  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求证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:  AC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平分∠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BAD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48" name="Group 3"/>
          <p:cNvGrpSpPr/>
          <p:nvPr/>
        </p:nvGrpSpPr>
        <p:grpSpPr>
          <a:xfrm>
            <a:off x="1042920" y="1700280"/>
            <a:ext cx="1841400" cy="1860480"/>
            <a:chOff x="1042920" y="1700280"/>
            <a:chExt cx="1841400" cy="1860480"/>
          </a:xfrm>
        </p:grpSpPr>
        <p:sp>
          <p:nvSpPr>
            <p:cNvPr id="449" name="Text Box 4"/>
            <p:cNvSpPr/>
            <p:nvPr/>
          </p:nvSpPr>
          <p:spPr>
            <a:xfrm>
              <a:off x="2050920" y="1700280"/>
              <a:ext cx="503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0" name="Rectangle 5"/>
            <p:cNvSpPr/>
            <p:nvPr/>
          </p:nvSpPr>
          <p:spPr>
            <a:xfrm>
              <a:off x="2700360" y="31939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1" name="Rectangle 6"/>
            <p:cNvSpPr/>
            <p:nvPr/>
          </p:nvSpPr>
          <p:spPr>
            <a:xfrm>
              <a:off x="1908000" y="2997360"/>
              <a:ext cx="3225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2" name="Rectangle 7"/>
            <p:cNvSpPr/>
            <p:nvPr/>
          </p:nvSpPr>
          <p:spPr>
            <a:xfrm>
              <a:off x="1042920" y="31226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53" name="Group 8"/>
          <p:cNvGrpSpPr/>
          <p:nvPr/>
        </p:nvGrpSpPr>
        <p:grpSpPr>
          <a:xfrm>
            <a:off x="1042920" y="1700280"/>
            <a:ext cx="1511280" cy="1789200"/>
            <a:chOff x="1042920" y="1700280"/>
            <a:chExt cx="1511280" cy="1789200"/>
          </a:xfrm>
        </p:grpSpPr>
        <p:sp>
          <p:nvSpPr>
            <p:cNvPr id="454" name="Text Box 9"/>
            <p:cNvSpPr/>
            <p:nvPr/>
          </p:nvSpPr>
          <p:spPr>
            <a:xfrm>
              <a:off x="2050920" y="1700280"/>
              <a:ext cx="503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5" name="Rectangle 10"/>
            <p:cNvSpPr/>
            <p:nvPr/>
          </p:nvSpPr>
          <p:spPr>
            <a:xfrm>
              <a:off x="1908000" y="2997360"/>
              <a:ext cx="3225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6" name="Rectangle 11"/>
            <p:cNvSpPr/>
            <p:nvPr/>
          </p:nvSpPr>
          <p:spPr>
            <a:xfrm>
              <a:off x="1042920" y="31226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57" name="Group 12"/>
          <p:cNvGrpSpPr/>
          <p:nvPr/>
        </p:nvGrpSpPr>
        <p:grpSpPr>
          <a:xfrm>
            <a:off x="611280" y="2133720"/>
            <a:ext cx="3565080" cy="3355200"/>
            <a:chOff x="611280" y="2133720"/>
            <a:chExt cx="3565080" cy="3355200"/>
          </a:xfrm>
        </p:grpSpPr>
        <p:pic>
          <p:nvPicPr>
            <p:cNvPr id="458" name="Picture 13" descr=""/>
            <p:cNvPicPr/>
            <p:nvPr/>
          </p:nvPicPr>
          <p:blipFill>
            <a:blip r:embed="rId1"/>
            <a:stretch/>
          </p:blipFill>
          <p:spPr>
            <a:xfrm>
              <a:off x="1030320" y="2411280"/>
              <a:ext cx="2902320" cy="30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Text Box 14"/>
            <p:cNvSpPr/>
            <p:nvPr/>
          </p:nvSpPr>
          <p:spPr>
            <a:xfrm>
              <a:off x="2567520" y="2133720"/>
              <a:ext cx="97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0" name="Rectangle 15"/>
            <p:cNvSpPr/>
            <p:nvPr/>
          </p:nvSpPr>
          <p:spPr>
            <a:xfrm>
              <a:off x="3827880" y="50432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1" name="Rectangle 16"/>
            <p:cNvSpPr/>
            <p:nvPr/>
          </p:nvSpPr>
          <p:spPr>
            <a:xfrm>
              <a:off x="2290320" y="4628520"/>
              <a:ext cx="62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2" name="Rectangle 17"/>
            <p:cNvSpPr/>
            <p:nvPr/>
          </p:nvSpPr>
          <p:spPr>
            <a:xfrm>
              <a:off x="611280" y="49060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63" name="Group 18"/>
          <p:cNvGrpSpPr/>
          <p:nvPr/>
        </p:nvGrpSpPr>
        <p:grpSpPr>
          <a:xfrm>
            <a:off x="3780000" y="1916280"/>
            <a:ext cx="5543280" cy="3796920"/>
            <a:chOff x="3780000" y="1916280"/>
            <a:chExt cx="5543280" cy="3796920"/>
          </a:xfrm>
        </p:grpSpPr>
        <p:sp>
          <p:nvSpPr>
            <p:cNvPr id="464" name="Text Box 19"/>
            <p:cNvSpPr/>
            <p:nvPr/>
          </p:nvSpPr>
          <p:spPr>
            <a:xfrm>
              <a:off x="3780000" y="1916280"/>
              <a:ext cx="5543280" cy="37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证明：在△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BC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和△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DC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中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C=A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B=A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CB=C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∴ △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BC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≌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△ADC  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（</a:t>
              </a: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  <a:ea typeface="宋体"/>
                </a:rPr>
                <a:t>SSS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）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∴ ∠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AC= ∠DA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∴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C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平分∠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A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5" name="AutoShape 20"/>
            <p:cNvSpPr/>
            <p:nvPr/>
          </p:nvSpPr>
          <p:spPr>
            <a:xfrm>
              <a:off x="5004000" y="2492280"/>
              <a:ext cx="380880" cy="14410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37440 h 1441080"/>
                <a:gd name="textAreaBottom" fmla="*/ 1403640 h 144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2"/>
          <p:cNvSpPr/>
          <p:nvPr/>
        </p:nvSpPr>
        <p:spPr>
          <a:xfrm>
            <a:off x="684360" y="0"/>
            <a:ext cx="84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、如图，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在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上，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在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AC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上，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AB=AC ,∠B=∠C,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试问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AD=AE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吗？为什么？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67" name="Group 3"/>
          <p:cNvGrpSpPr/>
          <p:nvPr/>
        </p:nvGrpSpPr>
        <p:grpSpPr>
          <a:xfrm>
            <a:off x="394200" y="2349360"/>
            <a:ext cx="3540600" cy="2825640"/>
            <a:chOff x="394200" y="2349360"/>
            <a:chExt cx="3540600" cy="2825640"/>
          </a:xfrm>
        </p:grpSpPr>
        <p:pic>
          <p:nvPicPr>
            <p:cNvPr id="468" name="Picture 4" descr=""/>
            <p:cNvPicPr/>
            <p:nvPr/>
          </p:nvPicPr>
          <p:blipFill>
            <a:blip r:embed="rId1"/>
            <a:stretch/>
          </p:blipFill>
          <p:spPr>
            <a:xfrm>
              <a:off x="664200" y="2466360"/>
              <a:ext cx="3079800" cy="27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Rectangle 5"/>
            <p:cNvSpPr/>
            <p:nvPr/>
          </p:nvSpPr>
          <p:spPr>
            <a:xfrm>
              <a:off x="3084120" y="37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0" name="Rectangle 6"/>
            <p:cNvSpPr/>
            <p:nvPr/>
          </p:nvSpPr>
          <p:spPr>
            <a:xfrm>
              <a:off x="929520" y="376056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1" name="Rectangle 7"/>
            <p:cNvSpPr/>
            <p:nvPr/>
          </p:nvSpPr>
          <p:spPr>
            <a:xfrm>
              <a:off x="3609360" y="47026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2" name="Rectangle 8"/>
            <p:cNvSpPr/>
            <p:nvPr/>
          </p:nvSpPr>
          <p:spPr>
            <a:xfrm>
              <a:off x="394200" y="47026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3" name="Rectangle 9"/>
            <p:cNvSpPr/>
            <p:nvPr/>
          </p:nvSpPr>
          <p:spPr>
            <a:xfrm>
              <a:off x="2013840" y="23493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74" name="Text Box 10"/>
          <p:cNvSpPr/>
          <p:nvPr/>
        </p:nvSpPr>
        <p:spPr>
          <a:xfrm>
            <a:off x="3995640" y="256536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解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：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AD=AE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75" name="Group 11"/>
          <p:cNvGrpSpPr/>
          <p:nvPr/>
        </p:nvGrpSpPr>
        <p:grpSpPr>
          <a:xfrm>
            <a:off x="3924360" y="3141720"/>
            <a:ext cx="3959280" cy="2902320"/>
            <a:chOff x="3924360" y="3141720"/>
            <a:chExt cx="3959280" cy="2902320"/>
          </a:xfrm>
        </p:grpSpPr>
        <p:sp>
          <p:nvSpPr>
            <p:cNvPr id="476" name="Text Box 12"/>
            <p:cNvSpPr/>
            <p:nvPr/>
          </p:nvSpPr>
          <p:spPr>
            <a:xfrm>
              <a:off x="3924360" y="3141720"/>
              <a:ext cx="3959280" cy="29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理由： 在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△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CD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和△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BE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中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    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=∠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B=A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     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=∠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∴ △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CD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≌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△ABE  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（</a:t>
              </a:r>
              <a:r>
                <a:rPr b="1" lang="en-US" sz="1800" spc="-1" strike="noStrike">
                  <a:solidFill>
                    <a:srgbClr val="cc3300"/>
                  </a:solidFill>
                  <a:latin typeface="Comic Sans MS"/>
                  <a:ea typeface="宋体"/>
                </a:rPr>
                <a:t>ASA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）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∴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D=A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7" name="AutoShape 13"/>
            <p:cNvSpPr/>
            <p:nvPr/>
          </p:nvSpPr>
          <p:spPr>
            <a:xfrm>
              <a:off x="4932720" y="3644640"/>
              <a:ext cx="287280" cy="100764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7640"/>
                <a:gd name="textAreaBottom" fmla="*/ 98136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04:44:00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20:45Z</dcterms:modified>
  <cp:revision>37</cp:revision>
  <dc:subject>www.12999.com</dc:subject>
  <dc:title>www.12999.com</dc:title>
</cp:coreProperties>
</file>