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chimes.wav" ContentType="audio/x-wav"/>
  <Override PartName="/ppt/media/image7.wmf" ContentType="image/x-wmf"/>
  <Override PartName="/ppt/media/image8.png" ContentType="image/png"/>
  <Override PartName="/ppt/media/type.wav" ContentType="audio/x-wav"/>
  <Override PartName="/ppt/media/image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4B2D-CE0A-4144-BD2A-0A07BE5515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3E1E-781B-4916-8A61-FDDB4C6175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B86-D371-4BE2-A20E-27B4AB03E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D7D-960D-4014-98CB-2FB23BAB43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DF1-F45A-463E-A9E6-2BEA3F801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59C-C1AE-48B3-B7BD-AECF6E7B8B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7F6E-BD47-44B3-BD72-51C24CC5EE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221-4B05-4ECA-A48A-729AFEB85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C425-B0A0-41B6-9A18-CC1D571A34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6C7-FD68-429A-8173-505816DF33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E126-72B4-4636-9117-BDE50437B8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BE4-5A51-4BE6-AE4A-261B5B8C8D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586-C28C-4C3E-B776-7D6C345E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D7A-0038-409F-A4E4-997E6870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06EEC-6160-4068-8EBC-1227404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FAD01-9D3F-4EFD-84FA-4431A93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94B49-6159-4BDA-9665-BDF6A0B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6AD44-4935-494B-A992-9B17E29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59564-39EE-4DF4-8C0A-1CDB6B9C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A4D4B-5197-4CF9-89C7-2E50F468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CFB96-67E3-48C5-A129-79FDEC99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F3DEB-4618-45BD-BBE5-A3554D1D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FAF07-A6B3-47AA-A6B4-6BA4FCEA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0DD-1F7E-4FB3-8A05-45180EE5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941-30B3-48A9-B143-1CB7B424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48D1-F8E2-4F19-B04F-B3858ED1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F77B-C726-4257-B106-B1402E6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D20-1388-4E93-BC05-37E2C4CC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F342-748D-4B65-9E37-C714537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B334-E600-4373-ABF9-51648C50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6DA5-4EDC-433E-BE82-B78201B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C087-C8C4-4EF6-8364-1487119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26E-998A-4724-8290-4C7A4645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284E-43D3-4473-83BB-5A02C1B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AD26-1352-4C6F-892A-CCBAA78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6D4-6777-4171-8FAA-33D98708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BCDA-290E-45C5-A39D-BF4949AA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F3D4-981D-4C29-B632-27DC55E3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A50C-D740-4EBE-A47E-0FC20AAF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B97E-3A6D-47C7-ACEB-F52C4D7A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4CAD-4BB5-4859-9585-D1C53C5A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E12C-A0D0-49EF-AF92-8CCB6461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FA93-6304-4502-8726-CBB11992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121-26F6-4654-B429-53A5E5F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18F4-83BB-4B25-8BA9-6E7DA717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8313-58BD-4258-BACD-90C9E116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8E1F-6962-4A97-B58D-1B96C37F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39D3-AFBE-4EA0-8B47-6C077EF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645F-84A9-43D7-B92F-30FF30FA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594CC-1168-46BD-A6F5-0991AE27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BEC4-1DE2-4351-B8EA-8015B011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0B2C-9780-4D28-8C6F-31550F52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85D9-BC30-445D-8169-7E44823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AECA5-87C4-453E-8DF7-6AAAA063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B0A-248C-49A2-8191-143CDE21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B6C0-FD0E-4A15-AE9E-2B91F9F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B1B6-C95C-4573-A209-7C174F1D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4680-ECC2-405C-BDC4-7A812206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1433-D5B2-4238-96C6-940BFE4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88FF-BD67-4A87-8F27-D85B7FC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37C1-6155-4BCC-9CA9-2041BAF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F944-0522-49EC-98FE-A9623B7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8F9B-82BA-4C2D-BCC8-DBCB5E8C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0767-2482-48DE-81DD-512B9459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B52E-9EEC-4B3A-A6F3-9BA76128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E60-EB84-4A54-BF18-B55F107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1ECF-758A-46EC-9104-647CE302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A7B5-49AB-4860-B9D9-6B6ABB3E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A319A-1D45-4A86-A556-E05EEF1D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CF8F-3B5F-4849-9260-386EB5E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F3196-AD2A-4A16-8BE2-157A8E6C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E38C8-CC21-4A4D-AC09-0672EEEE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DE02-8707-4B23-9E92-BE6C186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F3F6-B443-4CD2-AD53-4E484BD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E4CA9-CFBC-4D3B-8991-8E12386B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5566-752D-46BC-9BE7-299F6C90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346-042E-432F-BBEB-E64894CF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5516-104D-4599-9162-46C09EE4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76762-579F-434F-B7A8-3494A1E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BD1A4-662F-42AA-8E38-81BBABC1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9A45-4451-46EE-BDA9-F44AB47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5BDD-B9BA-430F-B8B6-FB2F0686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4688-B782-4541-9F7E-295AEF49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8199-0829-4BBF-BF99-D0411A8B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7A358-02AB-45EA-A1CB-88B21A03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B6BF8-69A0-4DB0-B5C6-45F67DC9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F0B3-43D4-475D-9025-5B62E6D1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EC3-B87E-4580-97B0-A9D2B95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4F965-64F2-4E4C-A4D3-A01C8DDC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0CBB9-DFE4-4FFA-8A0E-36354075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84E2A-889B-492A-80E2-EB643778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D0DE3-0B20-4F1D-B1A0-4C21B527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49ED4-A817-4A98-8BAE-47C39FEE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799C-746C-4658-9450-64ADF9DF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822C-3EB3-489B-8763-D715321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C11D3-1108-419C-A577-6AF0B192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5F9E-74A7-45FA-B637-E9C6B04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701A-FC5F-4E50-9FC8-B716156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F00-75AE-4F96-896A-944FF69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0777-3954-4773-96E2-A947A203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9ACA1-B2E9-4FA4-B6A1-C0BFCAC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60262-74AE-4AD1-AFA5-4DE73D7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3205-A6BF-4117-88A8-4310E1AC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B97E4-1B8C-4291-A0E5-910FB605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5BDB6-A174-4AB9-99F0-FC4E613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E417-93ED-4AC6-AE82-07DAE642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8DF0-0CF2-4642-9D4E-51C2DF9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2C0D4-4CE5-45A1-93CB-BEA62F1D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91F8-A3F9-46E9-BACE-E9F050A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E14-811C-4202-8F29-0A773E0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D17FE-E8B5-43E7-A511-4016DB8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BB05-A88B-4A47-B54F-B639E5D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BBCE-EF89-4405-8466-DCF6F8F0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5AA3-A078-4349-ADCC-2CABFC9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8E8C-B16B-4C9F-8DD7-9E6AB8A6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6C2A-835D-4466-B885-FDB074B8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3CA8-6A49-46C0-8195-27343D9D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47117-BEB3-4B0D-AFC3-E72672E7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CBC0-7511-4B53-BC97-088A8E27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47796-5B03-4067-9C3C-63F65DBA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9D96-E74E-4FFA-BC9F-7DE5CA8B71E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B605-D791-4CBD-87B2-A107DC6F9E2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9174-F62E-4D9C-8136-0D703CBEB14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2DD-5728-4E1F-A4D0-E138C9C18CB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BC22-41CA-408E-8B0D-1BFD75DDFC67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11F-0291-40E7-8144-38C101F6C2F3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1AB2-714E-46FC-A4C0-090FF14A9CA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913C-E8D0-44EB-9E05-1C7C6EE79EF9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262A-A105-4AF0-8CBE-CAD386B3F7B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81040" y="26431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角的平分线的性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249800" cy="1238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2"/>
          <p:cNvSpPr/>
          <p:nvPr/>
        </p:nvSpPr>
        <p:spPr>
          <a:xfrm>
            <a:off x="324000" y="90792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直线表示三条相互交叉的公路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现要建一个货物中转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要求它到三条公路的距离相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则可供选择的地址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 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处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两处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三处    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四处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395280" y="3860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分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由于没有限制在何处选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故要求的地址共有四处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0" name="Group 34"/>
          <p:cNvGrpSpPr/>
          <p:nvPr/>
        </p:nvGrpSpPr>
        <p:grpSpPr>
          <a:xfrm>
            <a:off x="6089760" y="3663720"/>
            <a:ext cx="2514240" cy="2286360"/>
            <a:chOff x="6089760" y="3663720"/>
            <a:chExt cx="2514240" cy="2286360"/>
          </a:xfrm>
        </p:grpSpPr>
        <p:sp>
          <p:nvSpPr>
            <p:cNvPr id="531" name="Line 35"/>
            <p:cNvSpPr/>
            <p:nvPr/>
          </p:nvSpPr>
          <p:spPr>
            <a:xfrm>
              <a:off x="6089760" y="3968640"/>
              <a:ext cx="251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2" name="Line 36"/>
            <p:cNvSpPr/>
            <p:nvPr/>
          </p:nvSpPr>
          <p:spPr>
            <a:xfrm flipV="1">
              <a:off x="6089760" y="3663720"/>
              <a:ext cx="2224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3" name="Line 37"/>
            <p:cNvSpPr/>
            <p:nvPr/>
          </p:nvSpPr>
          <p:spPr>
            <a:xfrm>
              <a:off x="7636680" y="374004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2843280" cy="25351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395280" y="112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角的两边的距离相等的点在角的平分线上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55640" y="255384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⊥O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⊥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576360" y="185112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数学语言表示为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324000" y="1890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课时小结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-360" y="1197000"/>
            <a:ext cx="8675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1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、已知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:BD⊥AM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于点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D,CE⊥AN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于点  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E,BD,CE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交点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F,CF=BF,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求证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: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点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F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在∠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A</a:t>
            </a:r>
            <a:r>
              <a:rPr b="1" lang="zh-CN" sz="3300" spc="-1" strike="noStrike">
                <a:solidFill>
                  <a:srgbClr val="4e3b30"/>
                </a:solidFill>
                <a:latin typeface="宋体"/>
              </a:rPr>
              <a:t>的平分线上</a:t>
            </a:r>
            <a:r>
              <a:rPr b="1" lang="en-US" sz="3300" spc="-1" strike="noStrike">
                <a:solidFill>
                  <a:srgbClr val="4e3b30"/>
                </a:solidFill>
                <a:latin typeface="宋体"/>
              </a:rPr>
              <a:t>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40" name="Group 4"/>
          <p:cNvGrpSpPr/>
          <p:nvPr/>
        </p:nvGrpSpPr>
        <p:grpSpPr>
          <a:xfrm>
            <a:off x="4643280" y="2576520"/>
            <a:ext cx="3657600" cy="2724120"/>
            <a:chOff x="4643280" y="2576520"/>
            <a:chExt cx="3657600" cy="2724120"/>
          </a:xfrm>
        </p:grpSpPr>
        <p:sp>
          <p:nvSpPr>
            <p:cNvPr id="541" name="Line 5"/>
            <p:cNvSpPr/>
            <p:nvPr/>
          </p:nvSpPr>
          <p:spPr>
            <a:xfrm flipH="1">
              <a:off x="4871880" y="2862360"/>
              <a:ext cx="228600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4948200" y="4767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3" name="Line 7"/>
            <p:cNvSpPr/>
            <p:nvPr/>
          </p:nvSpPr>
          <p:spPr>
            <a:xfrm>
              <a:off x="6243480" y="3624120"/>
              <a:ext cx="685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6548400" y="3395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8" name="Text Box 12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9" name="Text Box 13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5938920" y="41576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5" name="Text Box 19"/>
            <p:cNvSpPr/>
            <p:nvPr/>
          </p:nvSpPr>
          <p:spPr>
            <a:xfrm>
              <a:off x="64720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6" name="Text Box 20"/>
            <p:cNvSpPr/>
            <p:nvPr/>
          </p:nvSpPr>
          <p:spPr>
            <a:xfrm>
              <a:off x="6014880" y="4843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7" name="Text Box 21"/>
            <p:cNvSpPr/>
            <p:nvPr/>
          </p:nvSpPr>
          <p:spPr>
            <a:xfrm>
              <a:off x="5938920" y="41576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8" name="Text Box 22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59" name="Text Box 23"/>
            <p:cNvSpPr/>
            <p:nvPr/>
          </p:nvSpPr>
          <p:spPr>
            <a:xfrm>
              <a:off x="5938920" y="3319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4871880" y="47671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1" name="Text Box 25"/>
            <p:cNvSpPr/>
            <p:nvPr/>
          </p:nvSpPr>
          <p:spPr>
            <a:xfrm>
              <a:off x="7920000" y="4705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2" name="Text Box 26"/>
            <p:cNvSpPr/>
            <p:nvPr/>
          </p:nvSpPr>
          <p:spPr>
            <a:xfrm>
              <a:off x="6438960" y="4719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3" name="Text Box 27"/>
            <p:cNvSpPr/>
            <p:nvPr/>
          </p:nvSpPr>
          <p:spPr>
            <a:xfrm>
              <a:off x="6777000" y="4726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4" name="Text Box 28"/>
            <p:cNvSpPr/>
            <p:nvPr/>
          </p:nvSpPr>
          <p:spPr>
            <a:xfrm>
              <a:off x="6556320" y="3887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5" name="Text Box 29"/>
            <p:cNvSpPr/>
            <p:nvPr/>
          </p:nvSpPr>
          <p:spPr>
            <a:xfrm>
              <a:off x="6813360" y="25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M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6" name="Text Box 30"/>
            <p:cNvSpPr/>
            <p:nvPr/>
          </p:nvSpPr>
          <p:spPr>
            <a:xfrm>
              <a:off x="6288120" y="3011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67" name="Text Box 31"/>
            <p:cNvSpPr/>
            <p:nvPr/>
          </p:nvSpPr>
          <p:spPr>
            <a:xfrm>
              <a:off x="4643280" y="4767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68" name="TextBox 34"/>
          <p:cNvSpPr/>
          <p:nvPr/>
        </p:nvSpPr>
        <p:spPr>
          <a:xfrm>
            <a:off x="324000" y="260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拓展提高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31640" y="1033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会用尺规作角的平分线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1886760" y="24004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角的平分线上的点到角的两边的距离相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902600" y="173196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角的平分线的性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10" name="Group 5"/>
          <p:cNvGrpSpPr/>
          <p:nvPr/>
        </p:nvGrpSpPr>
        <p:grpSpPr>
          <a:xfrm>
            <a:off x="5364000" y="2781360"/>
            <a:ext cx="2971800" cy="2898000"/>
            <a:chOff x="5364000" y="2781360"/>
            <a:chExt cx="2971800" cy="2898000"/>
          </a:xfrm>
        </p:grpSpPr>
        <p:sp>
          <p:nvSpPr>
            <p:cNvPr id="411" name="Text Box 6"/>
            <p:cNvSpPr/>
            <p:nvPr/>
          </p:nvSpPr>
          <p:spPr>
            <a:xfrm>
              <a:off x="5364000" y="4076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2" name="Text Box 7"/>
            <p:cNvSpPr/>
            <p:nvPr/>
          </p:nvSpPr>
          <p:spPr>
            <a:xfrm>
              <a:off x="7878600" y="415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3" name="Text Box 8"/>
            <p:cNvSpPr/>
            <p:nvPr/>
          </p:nvSpPr>
          <p:spPr>
            <a:xfrm>
              <a:off x="7192800" y="5219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6278400" y="3848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7181640" y="278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>
              <a:off x="5821200" y="4228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 flipH="1">
              <a:off x="5821200" y="3238200"/>
              <a:ext cx="1589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8" name="Line 13"/>
            <p:cNvSpPr/>
            <p:nvPr/>
          </p:nvSpPr>
          <p:spPr>
            <a:xfrm flipH="1" flipV="1">
              <a:off x="5831640" y="4228560"/>
              <a:ext cx="1589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19" name="Arc 14"/>
            <p:cNvSpPr/>
            <p:nvPr/>
          </p:nvSpPr>
          <p:spPr>
            <a:xfrm>
              <a:off x="6202080" y="4000320"/>
              <a:ext cx="152280" cy="228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0" name="Arc 15"/>
            <p:cNvSpPr/>
            <p:nvPr/>
          </p:nvSpPr>
          <p:spPr>
            <a:xfrm>
              <a:off x="6125760" y="4228920"/>
              <a:ext cx="76320" cy="19656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1" name="Text Box 16"/>
            <p:cNvSpPr/>
            <p:nvPr/>
          </p:nvSpPr>
          <p:spPr>
            <a:xfrm>
              <a:off x="6278400" y="415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2" name="Text Box 17"/>
            <p:cNvSpPr/>
            <p:nvPr/>
          </p:nvSpPr>
          <p:spPr>
            <a:xfrm>
              <a:off x="7268760" y="3848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3" name="Line 18"/>
            <p:cNvSpPr/>
            <p:nvPr/>
          </p:nvSpPr>
          <p:spPr>
            <a:xfrm flipH="1" flipV="1">
              <a:off x="6906600" y="3546000"/>
              <a:ext cx="43812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4" name="Line 19"/>
            <p:cNvSpPr/>
            <p:nvPr/>
          </p:nvSpPr>
          <p:spPr>
            <a:xfrm>
              <a:off x="6717960" y="3676320"/>
              <a:ext cx="11124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5" name="Line 20"/>
            <p:cNvSpPr/>
            <p:nvPr/>
          </p:nvSpPr>
          <p:spPr>
            <a:xfrm flipV="1">
              <a:off x="6808320" y="3695400"/>
              <a:ext cx="20988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6" name="Line 21"/>
            <p:cNvSpPr/>
            <p:nvPr/>
          </p:nvSpPr>
          <p:spPr>
            <a:xfrm flipH="1">
              <a:off x="6903360" y="4232160"/>
              <a:ext cx="438120" cy="68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7" name="Line 22"/>
            <p:cNvSpPr/>
            <p:nvPr/>
          </p:nvSpPr>
          <p:spPr>
            <a:xfrm flipV="1">
              <a:off x="6660720" y="4608360"/>
              <a:ext cx="11124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6794280" y="4627440"/>
              <a:ext cx="20952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29" name="Text Box 24"/>
            <p:cNvSpPr/>
            <p:nvPr/>
          </p:nvSpPr>
          <p:spPr>
            <a:xfrm>
              <a:off x="6617880" y="3162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6621120" y="4838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31" name="Rectangle 26"/>
          <p:cNvSpPr/>
          <p:nvPr/>
        </p:nvSpPr>
        <p:spPr>
          <a:xfrm>
            <a:off x="998280" y="4130640"/>
            <a:ext cx="31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⊥O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⊥O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Rectangle 27"/>
          <p:cNvSpPr/>
          <p:nvPr/>
        </p:nvSpPr>
        <p:spPr>
          <a:xfrm>
            <a:off x="1005480" y="35542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平分线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3" name="Rectangle 28"/>
          <p:cNvSpPr/>
          <p:nvPr/>
        </p:nvSpPr>
        <p:spPr>
          <a:xfrm>
            <a:off x="720720" y="47052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Text Box 29"/>
          <p:cNvSpPr/>
          <p:nvPr/>
        </p:nvSpPr>
        <p:spPr>
          <a:xfrm>
            <a:off x="324000" y="29624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数学语言表述</a:t>
            </a: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5" name="TextBox 32"/>
          <p:cNvSpPr/>
          <p:nvPr/>
        </p:nvSpPr>
        <p:spPr>
          <a:xfrm>
            <a:off x="179280" y="333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复习回顾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4e3b30"/>
                </a:solidFill>
                <a:latin typeface="黑体"/>
                <a:ea typeface="黑体"/>
              </a:rPr>
              <a:t>反过来，到一个角的两边的距离相等的点是否一定在这个角的平分线上呢？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842920" cy="2535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4"/>
          <p:cNvSpPr/>
          <p:nvPr/>
        </p:nvSpPr>
        <p:spPr>
          <a:xfrm>
            <a:off x="826920" y="2138760"/>
            <a:ext cx="73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已知：如图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,QD⊥OA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E⊥O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点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为垂足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D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求证：点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Q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在∠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AOB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的平分线上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250920" y="404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思考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0" y="2421000"/>
            <a:ext cx="738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∵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D⊥O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E⊥O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已知）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　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D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E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垂直的定义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t△QD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Rt△QE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公共边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D=Q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Rt△QDO≌Rt△QEO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　 ∴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∠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OE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644e"/>
                </a:solidFill>
                <a:latin typeface="华文楷体"/>
                <a:ea typeface="华文楷体"/>
              </a:rPr>
              <a:t>   ∴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在∠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平分线上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-181080" y="587880"/>
            <a:ext cx="849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QD⊥O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E⊥O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为垂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求证：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的平分线上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tretch/>
        </p:blipFill>
        <p:spPr>
          <a:xfrm>
            <a:off x="6192720" y="3486240"/>
            <a:ext cx="2843280" cy="25351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7"/>
          <p:cNvSpPr/>
          <p:nvPr/>
        </p:nvSpPr>
        <p:spPr>
          <a:xfrm>
            <a:off x="1116000" y="3860640"/>
            <a:ext cx="71280" cy="648000"/>
          </a:xfrm>
          <a:custGeom>
            <a:avLst/>
            <a:gdLst>
              <a:gd name="textAreaLeft" fmla="*/ 45720 w 71280"/>
              <a:gd name="textAreaRight" fmla="*/ 71640 w 7128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6192720" y="1268280"/>
            <a:ext cx="2843280" cy="25354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179280" y="7160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到角的两边的距离相等的点在角的平分线上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0" y="249984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⊥O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⊥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．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0" y="19796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数学语言表示为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179280" y="39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角的平分线上的点到角的两边的距离相等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0" y="4713840"/>
            <a:ext cx="95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⊥OA,QE⊥OB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AO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∴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Q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324000" y="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归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71280" y="436680"/>
            <a:ext cx="8533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如图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, △ABC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角平分线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M,CN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相交于点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,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求证：点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到三边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CA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87280" y="2276640"/>
            <a:ext cx="608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∵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M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△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角平分线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M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53" name="Group 15"/>
          <p:cNvGrpSpPr/>
          <p:nvPr/>
        </p:nvGrpSpPr>
        <p:grpSpPr>
          <a:xfrm>
            <a:off x="5996160" y="1771560"/>
            <a:ext cx="3112920" cy="2449440"/>
            <a:chOff x="5996160" y="1771560"/>
            <a:chExt cx="3112920" cy="2449440"/>
          </a:xfrm>
        </p:grpSpPr>
        <p:grpSp>
          <p:nvGrpSpPr>
            <p:cNvPr id="454" name="Group 16"/>
            <p:cNvGrpSpPr/>
            <p:nvPr/>
          </p:nvGrpSpPr>
          <p:grpSpPr>
            <a:xfrm>
              <a:off x="5996160" y="1771560"/>
              <a:ext cx="3112920" cy="2449440"/>
              <a:chOff x="5996160" y="1771560"/>
              <a:chExt cx="3112920" cy="2449440"/>
            </a:xfrm>
          </p:grpSpPr>
          <p:grpSp>
            <p:nvGrpSpPr>
              <p:cNvPr id="455" name="Group 17"/>
              <p:cNvGrpSpPr/>
              <p:nvPr/>
            </p:nvGrpSpPr>
            <p:grpSpPr>
              <a:xfrm>
                <a:off x="6421680" y="2074320"/>
                <a:ext cx="2133360" cy="1537200"/>
                <a:chOff x="6421680" y="2074320"/>
                <a:chExt cx="2133360" cy="1537200"/>
              </a:xfrm>
            </p:grpSpPr>
            <p:sp>
              <p:nvSpPr>
                <p:cNvPr id="456" name="Line 18"/>
                <p:cNvSpPr/>
                <p:nvPr/>
              </p:nvSpPr>
              <p:spPr>
                <a:xfrm>
                  <a:off x="6421680" y="3611520"/>
                  <a:ext cx="2133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9"/>
                <p:cNvSpPr/>
                <p:nvPr/>
              </p:nvSpPr>
              <p:spPr>
                <a:xfrm>
                  <a:off x="7638840" y="2074680"/>
                  <a:ext cx="88560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0"/>
                <p:cNvSpPr/>
                <p:nvPr/>
              </p:nvSpPr>
              <p:spPr>
                <a:xfrm flipV="1">
                  <a:off x="6421680" y="2074320"/>
                  <a:ext cx="1218960" cy="153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Text Box 21"/>
              <p:cNvSpPr/>
              <p:nvPr/>
            </p:nvSpPr>
            <p:spPr>
              <a:xfrm>
                <a:off x="7280280" y="17715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0" name="Text Box 22"/>
              <p:cNvSpPr/>
              <p:nvPr/>
            </p:nvSpPr>
            <p:spPr>
              <a:xfrm>
                <a:off x="5996160" y="3306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1" name="Text Box 23"/>
              <p:cNvSpPr/>
              <p:nvPr/>
            </p:nvSpPr>
            <p:spPr>
              <a:xfrm>
                <a:off x="8575920" y="3382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62" name="Text Box 24"/>
              <p:cNvSpPr/>
              <p:nvPr/>
            </p:nvSpPr>
            <p:spPr>
              <a:xfrm>
                <a:off x="7280280" y="25797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P</a:t>
                </a:r>
                <a:endParaRPr b="1" lang="en-US" sz="2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463" name="Group 25"/>
              <p:cNvGrpSpPr/>
              <p:nvPr/>
            </p:nvGrpSpPr>
            <p:grpSpPr>
              <a:xfrm>
                <a:off x="6235920" y="1771560"/>
                <a:ext cx="2568600" cy="2449440"/>
                <a:chOff x="6235920" y="1771560"/>
                <a:chExt cx="2568600" cy="2449440"/>
              </a:xfrm>
            </p:grpSpPr>
            <p:sp>
              <p:nvSpPr>
                <p:cNvPr id="464" name="Line 26"/>
                <p:cNvSpPr/>
                <p:nvPr/>
              </p:nvSpPr>
              <p:spPr>
                <a:xfrm flipH="1">
                  <a:off x="7488000" y="1771560"/>
                  <a:ext cx="179640" cy="244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27"/>
                <p:cNvSpPr/>
                <p:nvPr/>
              </p:nvSpPr>
              <p:spPr>
                <a:xfrm flipV="1">
                  <a:off x="6235920" y="2590200"/>
                  <a:ext cx="2319480" cy="11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"/>
                <p:cNvSpPr/>
                <p:nvPr/>
              </p:nvSpPr>
              <p:spPr>
                <a:xfrm>
                  <a:off x="6432840" y="2468520"/>
                  <a:ext cx="2371680" cy="12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29"/>
                <p:cNvSpPr/>
                <p:nvPr/>
              </p:nvSpPr>
              <p:spPr>
                <a:xfrm>
                  <a:off x="6421680" y="3611520"/>
                  <a:ext cx="213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30"/>
                <p:cNvSpPr/>
                <p:nvPr/>
              </p:nvSpPr>
              <p:spPr>
                <a:xfrm>
                  <a:off x="7639200" y="2074680"/>
                  <a:ext cx="88596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31"/>
                <p:cNvSpPr/>
                <p:nvPr/>
              </p:nvSpPr>
              <p:spPr>
                <a:xfrm flipV="1">
                  <a:off x="6421680" y="2074320"/>
                  <a:ext cx="1219320" cy="153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4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32"/>
            <p:cNvSpPr/>
            <p:nvPr/>
          </p:nvSpPr>
          <p:spPr>
            <a:xfrm>
              <a:off x="8042400" y="2304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6670800" y="2304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72" name="Group 34"/>
          <p:cNvGrpSpPr/>
          <p:nvPr/>
        </p:nvGrpSpPr>
        <p:grpSpPr>
          <a:xfrm>
            <a:off x="6900840" y="2276640"/>
            <a:ext cx="1633680" cy="1721520"/>
            <a:chOff x="6900840" y="2276640"/>
            <a:chExt cx="1633680" cy="1721520"/>
          </a:xfrm>
        </p:grpSpPr>
        <p:grpSp>
          <p:nvGrpSpPr>
            <p:cNvPr id="473" name="Group 35"/>
            <p:cNvGrpSpPr/>
            <p:nvPr/>
          </p:nvGrpSpPr>
          <p:grpSpPr>
            <a:xfrm>
              <a:off x="7120080" y="2601720"/>
              <a:ext cx="1025280" cy="1048680"/>
              <a:chOff x="7120080" y="2601720"/>
              <a:chExt cx="1025280" cy="1048680"/>
            </a:xfrm>
          </p:grpSpPr>
          <p:sp>
            <p:nvSpPr>
              <p:cNvPr id="474" name="Line 36"/>
              <p:cNvSpPr/>
              <p:nvPr/>
            </p:nvSpPr>
            <p:spPr>
              <a:xfrm flipH="1" flipV="1">
                <a:off x="7548120" y="3072960"/>
                <a:ext cx="3240" cy="577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5" name="Line 37"/>
              <p:cNvSpPr/>
              <p:nvPr/>
            </p:nvSpPr>
            <p:spPr>
              <a:xfrm flipV="1">
                <a:off x="7548480" y="2812320"/>
                <a:ext cx="447840" cy="279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6" name="Line 38"/>
              <p:cNvSpPr/>
              <p:nvPr/>
            </p:nvSpPr>
            <p:spPr>
              <a:xfrm>
                <a:off x="7120080" y="2737800"/>
                <a:ext cx="42840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7" name="Line 39"/>
              <p:cNvSpPr/>
              <p:nvPr/>
            </p:nvSpPr>
            <p:spPr>
              <a:xfrm>
                <a:off x="7548480" y="3399840"/>
                <a:ext cx="223920" cy="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8" name="Line 40"/>
              <p:cNvSpPr/>
              <p:nvPr/>
            </p:nvSpPr>
            <p:spPr>
              <a:xfrm>
                <a:off x="7791480" y="34045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79" name="Line 41"/>
              <p:cNvSpPr/>
              <p:nvPr/>
            </p:nvSpPr>
            <p:spPr>
              <a:xfrm>
                <a:off x="7194600" y="2601720"/>
                <a:ext cx="14904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0" name="Line 42"/>
              <p:cNvSpPr/>
              <p:nvPr/>
            </p:nvSpPr>
            <p:spPr>
              <a:xfrm flipH="1">
                <a:off x="7250040" y="2714040"/>
                <a:ext cx="9360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1" name="Line 43"/>
              <p:cNvSpPr/>
              <p:nvPr/>
            </p:nvSpPr>
            <p:spPr>
              <a:xfrm>
                <a:off x="7846920" y="2918880"/>
                <a:ext cx="13032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82" name="Line 44"/>
              <p:cNvSpPr/>
              <p:nvPr/>
            </p:nvSpPr>
            <p:spPr>
              <a:xfrm flipV="1">
                <a:off x="7977240" y="2974320"/>
                <a:ext cx="16812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45"/>
            <p:cNvSpPr/>
            <p:nvPr/>
          </p:nvSpPr>
          <p:spPr>
            <a:xfrm>
              <a:off x="6900840" y="22766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4" name="Text Box 46"/>
            <p:cNvSpPr/>
            <p:nvPr/>
          </p:nvSpPr>
          <p:spPr>
            <a:xfrm>
              <a:off x="7446960" y="35384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85" name="Text Box 47"/>
            <p:cNvSpPr/>
            <p:nvPr/>
          </p:nvSpPr>
          <p:spPr>
            <a:xfrm>
              <a:off x="8097840" y="263520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F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86" name="Rectangle 48"/>
          <p:cNvSpPr/>
          <p:nvPr/>
        </p:nvSpPr>
        <p:spPr>
          <a:xfrm>
            <a:off x="-36360" y="3284640"/>
            <a:ext cx="824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=P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角平分线上的点到这个角的两边距离相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)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Rectangle 49"/>
          <p:cNvSpPr/>
          <p:nvPr/>
        </p:nvSpPr>
        <p:spPr>
          <a:xfrm>
            <a:off x="216000" y="4352760"/>
            <a:ext cx="556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PE=P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50"/>
          <p:cNvSpPr/>
          <p:nvPr/>
        </p:nvSpPr>
        <p:spPr>
          <a:xfrm>
            <a:off x="345960" y="4816440"/>
            <a:ext cx="556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=PF.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51"/>
          <p:cNvSpPr/>
          <p:nvPr/>
        </p:nvSpPr>
        <p:spPr>
          <a:xfrm>
            <a:off x="345960" y="5264280"/>
            <a:ext cx="68691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三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距离相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108000" y="135252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证明：过点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D⊥A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E⊥B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PF⊥A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TextBox 43"/>
          <p:cNvSpPr/>
          <p:nvPr/>
        </p:nvSpPr>
        <p:spPr>
          <a:xfrm>
            <a:off x="324000" y="-2700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一练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821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如图，已知△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外角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B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C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平分线相交于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求证：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A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494" name="Object 4"/>
          <p:cNvGraphicFramePr/>
          <p:nvPr/>
        </p:nvGraphicFramePr>
        <p:xfrm>
          <a:off x="5294160" y="2276640"/>
          <a:ext cx="381492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4160" y="2276640"/>
                    <a:ext cx="381492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5"/>
          <p:cNvSpPr/>
          <p:nvPr/>
        </p:nvSpPr>
        <p:spPr>
          <a:xfrm>
            <a:off x="216000" y="1836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1224000" y="191304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G⊥A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H⊥A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M⊥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 flipH="1" flipV="1">
            <a:off x="7637400" y="3120840"/>
            <a:ext cx="504720" cy="64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 flipV="1">
            <a:off x="8151840" y="380952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7236000" y="276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7885080" y="463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 flipH="1">
            <a:off x="7308360" y="3809880"/>
            <a:ext cx="884520" cy="266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6877080" y="3773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504720" y="292104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BC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， 　　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⊥A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⊥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490680" y="394812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360360" y="436104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又∵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B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， 　　　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⊥A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⊥B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490680" y="529740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2507040" y="5297400"/>
            <a:ext cx="18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G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4248000" y="529740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∠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DA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的平分线上　　　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108000" y="3618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如图，在△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AB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中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是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B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的中点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E⊥AB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DF⊥A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垂足分别是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E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F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，且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BE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CF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求证：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AD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是△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ABC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的角平分线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1" name="Group 12"/>
          <p:cNvGrpSpPr/>
          <p:nvPr/>
        </p:nvGrpSpPr>
        <p:grpSpPr>
          <a:xfrm>
            <a:off x="2484360" y="2262240"/>
            <a:ext cx="3527280" cy="3544560"/>
            <a:chOff x="2484360" y="2262240"/>
            <a:chExt cx="3527280" cy="3544560"/>
          </a:xfrm>
        </p:grpSpPr>
        <p:pic>
          <p:nvPicPr>
            <p:cNvPr id="512" name="Picture 5" descr=""/>
            <p:cNvPicPr/>
            <p:nvPr/>
          </p:nvPicPr>
          <p:blipFill>
            <a:blip r:embed="rId1"/>
            <a:stretch/>
          </p:blipFill>
          <p:spPr>
            <a:xfrm>
              <a:off x="2652480" y="2492280"/>
              <a:ext cx="27831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6"/>
            <p:cNvSpPr/>
            <p:nvPr/>
          </p:nvSpPr>
          <p:spPr>
            <a:xfrm>
              <a:off x="3851280" y="2262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4" name="Text Box 7"/>
            <p:cNvSpPr/>
            <p:nvPr/>
          </p:nvSpPr>
          <p:spPr>
            <a:xfrm>
              <a:off x="2484360" y="50706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5" name="Text Box 8"/>
            <p:cNvSpPr/>
            <p:nvPr/>
          </p:nvSpPr>
          <p:spPr>
            <a:xfrm>
              <a:off x="5219640" y="50706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6" name="Text Box 9"/>
            <p:cNvSpPr/>
            <p:nvPr/>
          </p:nvSpPr>
          <p:spPr>
            <a:xfrm>
              <a:off x="2700360" y="44370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5003640" y="45086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3851280" y="5286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0" y="-27000"/>
            <a:ext cx="2808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知识应用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108000" y="260280"/>
            <a:ext cx="5256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如图，为了促进当地旅游发展，某地要在三条公路围成的一块平地上修建一个度假村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要使这个度假村到三条公路的距离相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应在何处修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21" name="Group 5"/>
          <p:cNvGrpSpPr/>
          <p:nvPr/>
        </p:nvGrpSpPr>
        <p:grpSpPr>
          <a:xfrm>
            <a:off x="5442120" y="980640"/>
            <a:ext cx="2514240" cy="2286360"/>
            <a:chOff x="5442120" y="980640"/>
            <a:chExt cx="2514240" cy="2286360"/>
          </a:xfrm>
        </p:grpSpPr>
        <p:sp>
          <p:nvSpPr>
            <p:cNvPr id="522" name="Line 6"/>
            <p:cNvSpPr/>
            <p:nvPr/>
          </p:nvSpPr>
          <p:spPr>
            <a:xfrm>
              <a:off x="5442120" y="1285560"/>
              <a:ext cx="251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V="1">
              <a:off x="5442120" y="980640"/>
              <a:ext cx="2224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4" name="Line 8"/>
            <p:cNvSpPr/>
            <p:nvPr/>
          </p:nvSpPr>
          <p:spPr>
            <a:xfrm>
              <a:off x="6989040" y="105696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25" name="Rectangle 9"/>
          <p:cNvSpPr/>
          <p:nvPr/>
        </p:nvSpPr>
        <p:spPr>
          <a:xfrm>
            <a:off x="324000" y="393372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想一想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108000" y="4581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确定度假村的位置时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定要画出三个角的平分线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你是怎样思考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你是如何证明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2:30:12Z</dcterms:created>
  <dc:creator>www.12999.com</dc:creator>
  <dc:description>www.12999.com</dc:description>
  <cp:keywords>www.12999.com</cp:keywords>
  <dc:language>en-US</dc:language>
  <cp:lastModifiedBy>Administrator</cp:lastModifiedBy>
  <dcterms:modified xsi:type="dcterms:W3CDTF">2014-07-19T01:34:27Z</dcterms:modified>
  <cp:revision>53</cp:revision>
  <dc:subject>www.12999.com</dc:subject>
  <dc:title>www.12999.com</dc:title>
</cp:coreProperties>
</file>