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9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28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4.wmf" ContentType="image/x-wmf"/>
  <Override PartName="/ppt/media/image1.jpeg" ContentType="image/jpeg"/>
  <Override PartName="/ppt/media/image27.gif" ContentType="image/gif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94F-4DA9-4149-96B9-043931C1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6A5-6980-4749-9CF2-E90F0B74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206C9-ACBC-4921-9509-046CE977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25171-DCBF-4CF5-AD85-04DDC47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8ADC9-3EF8-404D-8126-53CAC5EF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B7FD-90FA-4A16-B5EF-AEB9845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C4565-3F1E-404C-B31D-30E4BEE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31F1-317C-4926-8727-AE97123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69162-B317-46EE-AA97-8B2727D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CFA46-75D9-4BF6-B899-11E9F65D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BC891-151B-4BAB-8836-8370B1CD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839-BC3A-489C-8E2A-F4077A07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061-9796-4CBE-8F7B-14BBC4E3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BA27-21DD-4E5B-A34C-2A2EA5BA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FFAE-9C04-46B0-8F46-0201C53F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9263-02CD-4EC9-9698-24B0F05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08F-E63D-4207-95B8-F872B5B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FF73-17BC-4DCF-B14E-1851713F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AF0-24D0-4517-BEF8-26D2056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3230-91BC-47B1-9DDC-B9C7056F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7BC-F8C3-4E4D-928E-E8E08B53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C433-32A9-4815-9243-86FD253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82C-9A3D-4A4B-B7C7-1DE3EF64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B95C-E202-4A54-9FCC-A86C32C1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D3DD-8841-43A8-AC7C-32B00DEA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000-E6C0-4344-9DDC-96E00532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A5A2-9005-4503-9565-70FEFC51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8A0B-7333-4184-B624-D070E0D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7C70-F163-4D2C-BC36-CE744B46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8A71-1AA1-4AF6-9516-89CE3BA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7871-B2CB-4E39-B2E8-31399DA9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A45-0F60-41BF-8DD3-04FE98A8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DF71-2680-4E37-B1D6-1DB314AE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5879-03E7-441D-981C-CEB31B7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53DA-6616-4C47-A0E9-E479C97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90F8-C256-4BF3-8326-631EB13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A2C8-6DCB-4165-AB87-A6F21B5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E8D9-BFEA-44AE-8D2C-2A0F58F5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68FE-D85E-4F9E-B209-697E4530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E01B-E4A0-4C84-9BE6-623E65EC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1BF9-C635-4AED-9BE8-B6E637E0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80E7-8604-4B49-9887-539C6CD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101-5BF8-49FC-BBB4-94FFDD4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A968-E80E-4574-BE85-C20DABBE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283B-3C33-4164-8A05-7F16C2D9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BF06-E669-4D5B-AFAB-EE00C48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2E71-B638-4F27-A22D-4326842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AB7C-CF7D-4FC4-838E-C1D159C8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28CB-7965-40F4-8E2F-6C19D770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B7FE-BC95-483E-8F0B-CFF14394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DBAA-AEC0-46A5-9FC4-2438D208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D968-1103-4A73-B412-38B03B9D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EA33-3330-4BE3-8508-23BBCFCE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711-15C9-495E-BCE4-AC3DFA87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0256-7B55-4B54-AA68-6303095C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8EFF-C97B-468E-B34F-2851DB8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85B5-9108-4066-8DAB-FA47E647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99D7-4436-4D32-A6AB-EAA366C1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07CB-94DD-4D95-AFBC-66B0804C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96A01-5F44-41A4-9421-3FE0BB7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9858D-4966-4B2F-A817-8974825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E554-399B-4257-9AD8-22F6202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CE38A-7987-487E-9278-ABEBE47C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48A4B-559C-4A82-A0D7-90755A71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387-1C7F-4B2F-863B-DF5162F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D81C-A267-4C16-A056-C95C02AA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86865-9FB4-44E1-B9F1-49C8AD2F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373E-6D2B-40EF-B4B9-7C46B564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1C3B5-0C13-4A49-A0AB-BB5A3C3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2DB1-631A-401A-A1B5-8C50DC0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0438A-DBE3-468D-B371-E175563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37B0A-62C7-4DA4-AA5E-7A3E35B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342E-7B1D-4DE4-B420-A64CC20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CE9A-C49D-4A09-B0D4-B78FCDAF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5143-0029-4E81-A9D9-B99B5D8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B99-556A-4D65-A13D-D037E2B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17D5F-8086-462F-AAD2-4E12A018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D370-A982-4977-AB35-C74C890A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7BA7-E3BD-478A-A15B-F005DB06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2DCC9-F78F-49C7-B76B-715653C4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C468-0B70-4DEC-8D98-4161E313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D9AD7-1A10-4A43-BBDA-BB82103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BD87-A5A1-4159-AF29-1A464B6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8D434-D752-4C57-9FB3-D4DB5692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67FFB-67AC-4580-AEED-7340ED43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B969-EC88-44B3-998D-547C8F5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5C2-78DF-4B59-8CD3-159F529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993EF-5C70-40FF-B735-88D328F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F13F-4E4C-4DC3-B5FD-24BECA88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7CFA-278A-488E-9447-6A2CFB49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7A55-A411-4BF7-B8D4-2443C3AE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F89D4-E6EE-4215-83B6-B9C8684E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CD5C-1AF5-4788-81CD-84D899E3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AEA52-ECDC-40AC-88F0-C88BF92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BD67A-F4A9-4A4F-B04E-B706B88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43B8-D196-4CE8-9A4D-F3CBF00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5D8EB-5A9A-4CC6-BD11-A477C9E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986-5876-4B63-86C2-16252C5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8399-6879-4853-B6A3-45DADBCC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33165-1EDD-45BE-8D1E-CB03A54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67EC-321D-4381-83DF-393DB8DB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23F4-13C7-4649-A77F-95A0263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356B0-D2C1-462B-BFC7-3CCB486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BA36-D011-4146-BA37-9AEA12C7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7C56-0D99-44CC-9D6A-0881C0E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084D3-762E-474E-A401-1A476D4A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9CD0E-1BF6-433E-866D-EF9C6FC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103A0-168E-490D-B5FF-63DF5112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82B-1846-47BA-914B-E48D69F3A16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6DE1-E226-43C6-AF58-0F88205FD1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E80-90CD-4675-A92D-6C11CB3F89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6419-1627-47F6-8759-D07C6E4591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0FC-55EC-4B52-BEA3-AFCBFDC260F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B0AE-1FFD-4DD5-A071-7F05A3632C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836-E526-4B8A-A951-023185CD0F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2763-7E4F-45AF-9F42-1CA850C0F1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A1B-DF38-4CA5-9B89-CF03FE4ED0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27.gif"/><Relationship Id="rId4" Type="http://schemas.openxmlformats.org/officeDocument/2006/relationships/package" Target="../embeddings/oleObject1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1026" descr=""/>
          <p:cNvPicPr/>
          <p:nvPr/>
        </p:nvPicPr>
        <p:blipFill>
          <a:blip r:embed="rId1"/>
          <a:stretch/>
        </p:blipFill>
        <p:spPr>
          <a:xfrm>
            <a:off x="-92160" y="4572000"/>
            <a:ext cx="893772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48000" y="4220640"/>
            <a:ext cx="5262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ca2c2"/>
              </a:solidFill>
              <a:latin typeface="Franklin Gothic Book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Rectangle 2" descr=""/>
          <p:cNvPicPr/>
          <p:nvPr/>
        </p:nvPicPr>
        <p:blipFill>
          <a:blip r:embed="rId1"/>
          <a:stretch/>
        </p:blipFill>
        <p:spPr>
          <a:xfrm>
            <a:off x="-55440" y="987480"/>
            <a:ext cx="8400960" cy="2017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"/>
          <p:cNvPicPr/>
          <p:nvPr/>
        </p:nvPicPr>
        <p:blipFill>
          <a:blip r:embed="rId2"/>
          <a:stretch/>
        </p:blipFill>
        <p:spPr>
          <a:xfrm>
            <a:off x="6156360" y="2131920"/>
            <a:ext cx="2000160" cy="208908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250920" y="18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证明：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19" name="Freeform 20"/>
          <p:cNvSpPr/>
          <p:nvPr/>
        </p:nvSpPr>
        <p:spPr>
          <a:xfrm>
            <a:off x="7237440" y="3571920"/>
            <a:ext cx="250920" cy="117360"/>
          </a:xfrm>
          <a:custGeom>
            <a:avLst/>
            <a:gdLst>
              <a:gd name="textAreaLeft" fmla="*/ 0 w 250920"/>
              <a:gd name="textAreaRight" fmla="*/ 250920 w 2509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58" h="74">
                <a:moveTo>
                  <a:pt x="158" y="46"/>
                </a:moveTo>
                <a:cubicBezTo>
                  <a:pt x="128" y="36"/>
                  <a:pt x="74" y="0"/>
                  <a:pt x="74" y="0"/>
                </a:cubicBezTo>
                <a:cubicBezTo>
                  <a:pt x="28" y="15"/>
                  <a:pt x="31" y="43"/>
                  <a:pt x="0" y="74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Freeform 21"/>
          <p:cNvSpPr/>
          <p:nvPr/>
        </p:nvSpPr>
        <p:spPr>
          <a:xfrm>
            <a:off x="7199280" y="2676600"/>
            <a:ext cx="236520" cy="102960"/>
          </a:xfrm>
          <a:custGeom>
            <a:avLst/>
            <a:gdLst>
              <a:gd name="textAreaLeft" fmla="*/ 0 w 236520"/>
              <a:gd name="textAreaRight" fmla="*/ 236880 w 236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49" h="65">
                <a:moveTo>
                  <a:pt x="149" y="9"/>
                </a:moveTo>
                <a:cubicBezTo>
                  <a:pt x="114" y="21"/>
                  <a:pt x="104" y="44"/>
                  <a:pt x="74" y="65"/>
                </a:cubicBezTo>
                <a:cubicBezTo>
                  <a:pt x="56" y="53"/>
                  <a:pt x="31" y="46"/>
                  <a:pt x="19" y="28"/>
                </a:cubicBezTo>
                <a:cubicBezTo>
                  <a:pt x="13" y="19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7667640" y="6381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128520" y="420840"/>
            <a:ext cx="8418600" cy="2193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143160" cy="22953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9"/>
          <p:cNvSpPr/>
          <p:nvPr/>
        </p:nvSpPr>
        <p:spPr>
          <a:xfrm>
            <a:off x="6732720" y="6021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139680" y="476280"/>
            <a:ext cx="8418600" cy="2200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6478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-249120" y="-6480"/>
            <a:ext cx="8485200" cy="1494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3636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观察领悟作法，探索思考证明方法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0" name="Picture 5" descr="确定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531" name="Freeform 6"/>
          <p:cNvSpPr/>
          <p:nvPr/>
        </p:nvSpPr>
        <p:spPr>
          <a:xfrm>
            <a:off x="4987800" y="2363760"/>
            <a:ext cx="3733920" cy="2438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8647200" y="4552920"/>
            <a:ext cx="569160" cy="520560"/>
            <a:chOff x="8647200" y="4552920"/>
            <a:chExt cx="569160" cy="520560"/>
          </a:xfrm>
        </p:grpSpPr>
        <p:sp>
          <p:nvSpPr>
            <p:cNvPr id="535" name="Oval 10"/>
            <p:cNvSpPr/>
            <p:nvPr/>
          </p:nvSpPr>
          <p:spPr>
            <a:xfrm>
              <a:off x="8647200" y="471168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6" name="Rectangle 11"/>
            <p:cNvSpPr/>
            <p:nvPr/>
          </p:nvSpPr>
          <p:spPr>
            <a:xfrm>
              <a:off x="8822160" y="4552920"/>
              <a:ext cx="394200" cy="520560"/>
            </a:xfrm>
            <a:prstGeom prst="rect">
              <a:avLst/>
            </a:prstGeom>
            <a:solidFill>
              <a:srgbClr val="dd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0a22e"/>
                  </a:solidFill>
                  <a:latin typeface="Arial"/>
                  <a:ea typeface="MS Gothic"/>
                </a:rPr>
                <a:t>Ｏ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7" name="Arc 12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8" name="Group 13"/>
          <p:cNvGrpSpPr/>
          <p:nvPr/>
        </p:nvGrpSpPr>
        <p:grpSpPr>
          <a:xfrm>
            <a:off x="6397920" y="2571840"/>
            <a:ext cx="394200" cy="554040"/>
            <a:chOff x="6397920" y="2571840"/>
            <a:chExt cx="394200" cy="554040"/>
          </a:xfrm>
        </p:grpSpPr>
        <p:sp>
          <p:nvSpPr>
            <p:cNvPr id="539" name="Oval 14"/>
            <p:cNvSpPr/>
            <p:nvPr/>
          </p:nvSpPr>
          <p:spPr>
            <a:xfrm>
              <a:off x="6437160" y="303552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6397920" y="2571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0a22e"/>
                  </a:solidFill>
                  <a:latin typeface="Arial"/>
                  <a:ea typeface="MS Gothic"/>
                </a:rPr>
                <a:t>Ｍ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1" name="Group 16"/>
          <p:cNvGrpSpPr/>
          <p:nvPr/>
        </p:nvGrpSpPr>
        <p:grpSpPr>
          <a:xfrm>
            <a:off x="5888160" y="4705200"/>
            <a:ext cx="411840" cy="520560"/>
            <a:chOff x="5888160" y="4705200"/>
            <a:chExt cx="411840" cy="520560"/>
          </a:xfrm>
        </p:grpSpPr>
        <p:sp>
          <p:nvSpPr>
            <p:cNvPr id="542" name="Oval 17"/>
            <p:cNvSpPr/>
            <p:nvPr/>
          </p:nvSpPr>
          <p:spPr>
            <a:xfrm>
              <a:off x="5888160" y="471168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Rectangle 18"/>
            <p:cNvSpPr/>
            <p:nvPr/>
          </p:nvSpPr>
          <p:spPr>
            <a:xfrm>
              <a:off x="5905800" y="4705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0a22e"/>
                  </a:solidFill>
                  <a:latin typeface="Arial"/>
                  <a:ea typeface="MS Gothic"/>
                </a:rPr>
                <a:t>Ｎ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4" name="Arc 19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Arc 20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6" name="Group 21"/>
          <p:cNvGrpSpPr/>
          <p:nvPr/>
        </p:nvGrpSpPr>
        <p:grpSpPr>
          <a:xfrm>
            <a:off x="4723200" y="2952720"/>
            <a:ext cx="394200" cy="554040"/>
            <a:chOff x="4723200" y="2952720"/>
            <a:chExt cx="394200" cy="554040"/>
          </a:xfrm>
        </p:grpSpPr>
        <p:sp>
          <p:nvSpPr>
            <p:cNvPr id="547" name="Oval 22"/>
            <p:cNvSpPr/>
            <p:nvPr/>
          </p:nvSpPr>
          <p:spPr>
            <a:xfrm>
              <a:off x="4761000" y="341640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Rectangle 23"/>
            <p:cNvSpPr/>
            <p:nvPr/>
          </p:nvSpPr>
          <p:spPr>
            <a:xfrm>
              <a:off x="4723200" y="2952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0a22e"/>
                  </a:solidFill>
                  <a:latin typeface="Arial"/>
                  <a:ea typeface="MS Gothic"/>
                </a:rPr>
                <a:t>Ｃ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9" name="Line 24"/>
          <p:cNvSpPr/>
          <p:nvPr/>
        </p:nvSpPr>
        <p:spPr>
          <a:xfrm flipH="1" flipV="1">
            <a:off x="4377960" y="3354120"/>
            <a:ext cx="43434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0" y="191628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画法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08000" y="2349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１．以Ｏ为圆心，适当长为半径作弧，交ＯＡ于Ｍ，交ＯＢＮ于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108000" y="350028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　　２．分别以Ｍ，Ｎ为圆心．大于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/2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ＭＮ的长为半径作弧．两弧在∠ＡＯＢ的内部交于Ｃ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891000" y="5229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３．作射线ＯＣ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1333080" y="566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射线ＯＣ即为所求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55" name="Object 30"/>
          <p:cNvGraphicFramePr/>
          <p:nvPr/>
        </p:nvGraphicFramePr>
        <p:xfrm>
          <a:off x="1476360" y="1413000"/>
          <a:ext cx="6093000" cy="4064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56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1413000"/>
                    <a:ext cx="6093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Line 31"/>
          <p:cNvSpPr/>
          <p:nvPr/>
        </p:nvSpPr>
        <p:spPr>
          <a:xfrm>
            <a:off x="176364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Line 32"/>
          <p:cNvSpPr/>
          <p:nvPr/>
        </p:nvSpPr>
        <p:spPr>
          <a:xfrm>
            <a:off x="1116000" y="4221000"/>
            <a:ext cx="216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Line 33"/>
          <p:cNvSpPr/>
          <p:nvPr/>
        </p:nvSpPr>
        <p:spPr>
          <a:xfrm>
            <a:off x="755640" y="6237360"/>
            <a:ext cx="2808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AutoShape 35"/>
          <p:cNvSpPr/>
          <p:nvPr/>
        </p:nvSpPr>
        <p:spPr>
          <a:xfrm>
            <a:off x="7236000" y="836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4" dur="2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97101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9"/>
          <p:cNvSpPr/>
          <p:nvPr/>
        </p:nvSpPr>
        <p:spPr>
          <a:xfrm>
            <a:off x="2921760" y="20066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黑体"/>
              </a:rPr>
              <a:t>再     见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684360" y="476280"/>
            <a:ext cx="215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华文行楷"/>
              </a:rPr>
              <a:t>复习：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华文行楷"/>
              <a:ea typeface="华文行楷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79280" y="2276640"/>
            <a:ext cx="756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d1f1f"/>
                </a:solidFill>
                <a:uFillTx/>
                <a:latin typeface="黑体"/>
              </a:rPr>
              <a:t>1</a:t>
            </a:r>
            <a:r>
              <a:rPr b="1" lang="zh-CN" sz="3200" spc="-1" strike="noStrike" u="sng">
                <a:solidFill>
                  <a:srgbClr val="ad1f1f"/>
                </a:solidFill>
                <a:uFillTx/>
                <a:latin typeface="黑体"/>
              </a:rPr>
              <a:t>：怎样画一个已知角的角平分线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339200" y="2924280"/>
            <a:ext cx="28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：角平分线的性质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799360" y="357336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角的平分线上的点到角的两边的距离相等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520640" y="4005360"/>
            <a:ext cx="32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：角平分线的判定结论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498672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到角的两边的距离相等的点在角平分线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27"/>
          <p:cNvSpPr/>
          <p:nvPr/>
        </p:nvSpPr>
        <p:spPr>
          <a:xfrm>
            <a:off x="304920" y="1143000"/>
            <a:ext cx="883908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ad1f1f"/>
                </a:solidFill>
                <a:uFillTx/>
                <a:latin typeface="黑体"/>
              </a:rPr>
              <a:t>一  填空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(1).  ∵∠1= ∠2,DC⊥AC, DE⊥AB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___________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(___________________________________________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(2).  ∵DC⊥AC ,DE⊥AB ,DC=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__________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(_ ______________________________________________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08" name="Group 1028"/>
          <p:cNvGrpSpPr/>
          <p:nvPr/>
        </p:nvGrpSpPr>
        <p:grpSpPr>
          <a:xfrm>
            <a:off x="6095880" y="-76320"/>
            <a:ext cx="2819520" cy="3355200"/>
            <a:chOff x="6095880" y="-76320"/>
            <a:chExt cx="2819520" cy="3355200"/>
          </a:xfrm>
        </p:grpSpPr>
        <p:grpSp>
          <p:nvGrpSpPr>
            <p:cNvPr id="409" name="Group 1029"/>
            <p:cNvGrpSpPr/>
            <p:nvPr/>
          </p:nvGrpSpPr>
          <p:grpSpPr>
            <a:xfrm>
              <a:off x="6095880" y="-76320"/>
              <a:ext cx="2819520" cy="3355200"/>
              <a:chOff x="6095880" y="-76320"/>
              <a:chExt cx="2819520" cy="3355200"/>
            </a:xfrm>
          </p:grpSpPr>
          <p:grpSp>
            <p:nvGrpSpPr>
              <p:cNvPr id="410" name="Group 1030"/>
              <p:cNvGrpSpPr/>
              <p:nvPr/>
            </p:nvGrpSpPr>
            <p:grpSpPr>
              <a:xfrm>
                <a:off x="6400800" y="304560"/>
                <a:ext cx="2133360" cy="2438640"/>
                <a:chOff x="6400800" y="304560"/>
                <a:chExt cx="2133360" cy="2438640"/>
              </a:xfrm>
            </p:grpSpPr>
            <p:sp>
              <p:nvSpPr>
                <p:cNvPr id="411" name="AutoShape 1031"/>
                <p:cNvSpPr/>
                <p:nvPr/>
              </p:nvSpPr>
              <p:spPr>
                <a:xfrm>
                  <a:off x="6400800" y="304560"/>
                  <a:ext cx="2133360" cy="2438640"/>
                </a:xfrm>
                <a:prstGeom prst="rtTriangl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1032"/>
                <p:cNvSpPr/>
                <p:nvPr/>
              </p:nvSpPr>
              <p:spPr>
                <a:xfrm>
                  <a:off x="6400800" y="304560"/>
                  <a:ext cx="914400" cy="2438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1033"/>
                <p:cNvSpPr/>
                <p:nvPr/>
              </p:nvSpPr>
              <p:spPr>
                <a:xfrm flipV="1">
                  <a:off x="7315200" y="2133360"/>
                  <a:ext cx="68580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1034"/>
              <p:cNvSpPr/>
              <p:nvPr/>
            </p:nvSpPr>
            <p:spPr>
              <a:xfrm>
                <a:off x="6476760" y="-76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5" name="Text Box 1035"/>
              <p:cNvSpPr/>
              <p:nvPr/>
            </p:nvSpPr>
            <p:spPr>
              <a:xfrm>
                <a:off x="6095880" y="28191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6" name="Text Box 1036"/>
              <p:cNvSpPr/>
              <p:nvPr/>
            </p:nvSpPr>
            <p:spPr>
              <a:xfrm>
                <a:off x="7162560" y="27432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7" name="Text Box 1037"/>
              <p:cNvSpPr/>
              <p:nvPr/>
            </p:nvSpPr>
            <p:spPr>
              <a:xfrm>
                <a:off x="7924680" y="1752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8" name="Text Box 1038"/>
              <p:cNvSpPr/>
              <p:nvPr/>
            </p:nvSpPr>
            <p:spPr>
              <a:xfrm>
                <a:off x="8534160" y="25905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Line 1039"/>
              <p:cNvSpPr/>
              <p:nvPr/>
            </p:nvSpPr>
            <p:spPr>
              <a:xfrm>
                <a:off x="6400800" y="25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0" name="Line 1040"/>
              <p:cNvSpPr/>
              <p:nvPr/>
            </p:nvSpPr>
            <p:spPr>
              <a:xfrm>
                <a:off x="6629400" y="2514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1" name="Line 1041"/>
              <p:cNvSpPr/>
              <p:nvPr/>
            </p:nvSpPr>
            <p:spPr>
              <a:xfrm flipH="1">
                <a:off x="7695720" y="19047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2" name="Line 1042"/>
              <p:cNvSpPr/>
              <p:nvPr/>
            </p:nvSpPr>
            <p:spPr>
              <a:xfrm>
                <a:off x="7696080" y="21333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1043"/>
            <p:cNvSpPr/>
            <p:nvPr/>
          </p:nvSpPr>
          <p:spPr>
            <a:xfrm>
              <a:off x="6400800" y="7617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40" h="168">
                  <a:moveTo>
                    <a:pt x="240" y="0"/>
                  </a:moveTo>
                  <a:cubicBezTo>
                    <a:pt x="212" y="60"/>
                    <a:pt x="184" y="120"/>
                    <a:pt x="144" y="144"/>
                  </a:cubicBezTo>
                  <a:cubicBezTo>
                    <a:pt x="104" y="168"/>
                    <a:pt x="24" y="144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Text Box 1044"/>
            <p:cNvSpPr/>
            <p:nvPr/>
          </p:nvSpPr>
          <p:spPr>
            <a:xfrm>
              <a:off x="6400800" y="9140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Text Box 1045"/>
            <p:cNvSpPr/>
            <p:nvPr/>
          </p:nvSpPr>
          <p:spPr>
            <a:xfrm>
              <a:off x="6781680" y="838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26" name="Rectangle 1046"/>
          <p:cNvSpPr/>
          <p:nvPr/>
        </p:nvSpPr>
        <p:spPr>
          <a:xfrm>
            <a:off x="891360" y="4343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0e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a0a0e"/>
                </a:solidFill>
                <a:latin typeface="Times New Roman"/>
                <a:ea typeface="宋体"/>
              </a:rPr>
              <a:t>1= ∠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Text Box 1047"/>
          <p:cNvSpPr/>
          <p:nvPr/>
        </p:nvSpPr>
        <p:spPr>
          <a:xfrm>
            <a:off x="91440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DC=D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Rectangle 1048"/>
          <p:cNvSpPr/>
          <p:nvPr/>
        </p:nvSpPr>
        <p:spPr>
          <a:xfrm>
            <a:off x="4026240" y="4941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311c"/>
                </a:solidFill>
                <a:latin typeface="Tahoma"/>
                <a:ea typeface="宋体"/>
              </a:rPr>
              <a:t>到角的两边的距离相等的点，在角平分线上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Rectangle 1049"/>
          <p:cNvSpPr/>
          <p:nvPr/>
        </p:nvSpPr>
        <p:spPr>
          <a:xfrm>
            <a:off x="2008080" y="29973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a311c"/>
                </a:solidFill>
                <a:latin typeface="Tahoma"/>
                <a:ea typeface="宋体"/>
              </a:rPr>
              <a:t>角平分线上的点到角的两边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0" name="Group 1050"/>
          <p:cNvGrpSpPr/>
          <p:nvPr/>
        </p:nvGrpSpPr>
        <p:grpSpPr>
          <a:xfrm>
            <a:off x="2843280" y="0"/>
            <a:ext cx="2895480" cy="1218240"/>
            <a:chOff x="2843280" y="0"/>
            <a:chExt cx="2895480" cy="1218240"/>
          </a:xfrm>
        </p:grpSpPr>
        <p:grpSp>
          <p:nvGrpSpPr>
            <p:cNvPr id="431" name="Group 1051"/>
            <p:cNvGrpSpPr/>
            <p:nvPr/>
          </p:nvGrpSpPr>
          <p:grpSpPr>
            <a:xfrm>
              <a:off x="2843280" y="0"/>
              <a:ext cx="2895480" cy="1218240"/>
              <a:chOff x="2843280" y="0"/>
              <a:chExt cx="2895480" cy="1218240"/>
            </a:xfrm>
          </p:grpSpPr>
          <p:grpSp>
            <p:nvGrpSpPr>
              <p:cNvPr id="432" name="Group 1052"/>
              <p:cNvGrpSpPr/>
              <p:nvPr/>
            </p:nvGrpSpPr>
            <p:grpSpPr>
              <a:xfrm>
                <a:off x="3362400" y="88920"/>
                <a:ext cx="2376360" cy="1113120"/>
                <a:chOff x="3362400" y="88920"/>
                <a:chExt cx="2376360" cy="1113120"/>
              </a:xfrm>
            </p:grpSpPr>
            <p:sp>
              <p:nvSpPr>
                <p:cNvPr id="433" name="Freeform 1053"/>
                <p:cNvSpPr/>
                <p:nvPr/>
              </p:nvSpPr>
              <p:spPr>
                <a:xfrm>
                  <a:off x="3394080" y="648360"/>
                  <a:ext cx="2344680" cy="387000"/>
                </a:xfrm>
                <a:custGeom>
                  <a:avLst/>
                  <a:gdLst>
                    <a:gd name="textAreaLeft" fmla="*/ 0 w 2344680"/>
                    <a:gd name="textAreaRight" fmla="*/ 2345040 w 2344680"/>
                    <a:gd name="textAreaTop" fmla="*/ 0 h 387000"/>
                    <a:gd name="textAreaBottom" fmla="*/ 387360 h 387000"/>
                  </a:gdLst>
                  <a:ahLst/>
                  <a:rect l="textAreaLeft" t="textAreaTop" r="textAreaRight" b="textAreaBottom"/>
                  <a:pathLst>
                    <a:path w="2208" h="384">
                      <a:moveTo>
                        <a:pt x="432" y="384"/>
                      </a:moveTo>
                      <a:lnTo>
                        <a:pt x="2208" y="384"/>
                      </a:lnTo>
                      <a:lnTo>
                        <a:pt x="1776" y="0"/>
                      </a:lnTo>
                      <a:lnTo>
                        <a:pt x="0" y="0"/>
                      </a:lnTo>
                      <a:lnTo>
                        <a:pt x="432" y="3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19080">
                  <a:solidFill>
                    <a:srgbClr val="f0a22e"/>
                  </a:solidFill>
                  <a:round/>
                </a:ln>
                <a:effectLst>
                  <a:outerShdw dist="153753" dir="2700000" blurRad="0" rotWithShape="0">
                    <a:srgbClr val="fbeec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054"/>
                <p:cNvSpPr/>
                <p:nvPr/>
              </p:nvSpPr>
              <p:spPr>
                <a:xfrm rot="158400">
                  <a:off x="3495960" y="213120"/>
                  <a:ext cx="610560" cy="725400"/>
                </a:xfrm>
                <a:custGeom>
                  <a:avLst/>
                  <a:gdLst>
                    <a:gd name="textAreaLeft" fmla="*/ 0 w 610560"/>
                    <a:gd name="textAreaRight" fmla="*/ 610920 w 61056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a5644e"/>
                    </a:gs>
                  </a:gsLst>
                  <a:lin ang="18900000"/>
                </a:gradFill>
                <a:ln w="38160">
                  <a:solidFill>
                    <a:srgbClr val="a564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055"/>
                <p:cNvSpPr/>
                <p:nvPr/>
              </p:nvSpPr>
              <p:spPr>
                <a:xfrm>
                  <a:off x="3699720" y="262440"/>
                  <a:ext cx="611640" cy="676440"/>
                </a:xfrm>
                <a:custGeom>
                  <a:avLst/>
                  <a:gdLst>
                    <a:gd name="textAreaLeft" fmla="*/ 0 w 611640"/>
                    <a:gd name="textAreaRight" fmla="*/ 612000 w 611640"/>
                    <a:gd name="textAreaTop" fmla="*/ 0 h 676440"/>
                    <a:gd name="textAreaBottom" fmla="*/ 676800 h 676440"/>
                  </a:gdLst>
                  <a:ahLst/>
                  <a:rect l="textAreaLeft" t="textAreaTop" r="textAreaRight" b="textAreaBottom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644e"/>
                    </a:gs>
                    <a:gs pos="50000">
                      <a:srgbClr val="cc3300"/>
                    </a:gs>
                    <a:gs pos="100000">
                      <a:srgbClr val="a5644e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056"/>
                <p:cNvSpPr/>
                <p:nvPr/>
              </p:nvSpPr>
              <p:spPr>
                <a:xfrm rot="961200">
                  <a:off x="3495960" y="115920"/>
                  <a:ext cx="305640" cy="774360"/>
                </a:xfrm>
                <a:custGeom>
                  <a:avLst/>
                  <a:gdLst>
                    <a:gd name="textAreaLeft" fmla="*/ 0 w 305640"/>
                    <a:gd name="textAreaRight" fmla="*/ 306000 w 305640"/>
                    <a:gd name="textAreaTop" fmla="*/ 0 h 774360"/>
                    <a:gd name="textAreaBottom" fmla="*/ 774720 h 774360"/>
                  </a:gdLst>
                  <a:ahLst/>
                  <a:rect l="textAreaLeft" t="textAreaTop" r="textAreaRight" b="textAreaBottom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d1f1f"/>
                    </a:gs>
                    <a:gs pos="50000">
                      <a:srgbClr val="ffcc66"/>
                    </a:gs>
                    <a:gs pos="100000">
                      <a:srgbClr val="ad1f1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057"/>
                <p:cNvSpPr/>
                <p:nvPr/>
              </p:nvSpPr>
              <p:spPr>
                <a:xfrm>
                  <a:off x="3802320" y="117000"/>
                  <a:ext cx="509040" cy="192960"/>
                </a:xfrm>
                <a:custGeom>
                  <a:avLst/>
                  <a:gdLst>
                    <a:gd name="textAreaLeft" fmla="*/ 0 w 509040"/>
                    <a:gd name="textAreaRight" fmla="*/ 509400 w 509040"/>
                    <a:gd name="textAreaTop" fmla="*/ 0 h 192960"/>
                    <a:gd name="textAreaBottom" fmla="*/ 193320 h 1929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a564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058"/>
                <p:cNvSpPr/>
                <p:nvPr/>
              </p:nvSpPr>
              <p:spPr>
                <a:xfrm>
                  <a:off x="3445200" y="697320"/>
                  <a:ext cx="406800" cy="435960"/>
                </a:xfrm>
                <a:custGeom>
                  <a:avLst/>
                  <a:gdLst>
                    <a:gd name="textAreaLeft" fmla="*/ 0 w 406800"/>
                    <a:gd name="textAreaRight" fmla="*/ 407160 w 40680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d1f1f"/>
                    </a:gs>
                    <a:gs pos="50000">
                      <a:srgbClr val="ff9900"/>
                    </a:gs>
                    <a:gs pos="100000">
                      <a:srgbClr val="ad1f1f"/>
                    </a:gs>
                  </a:gsLst>
                  <a:lin ang="2700000"/>
                </a:gradFill>
                <a:ln w="19080">
                  <a:solidFill>
                    <a:srgbClr val="a564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059"/>
                <p:cNvSpPr/>
                <p:nvPr/>
              </p:nvSpPr>
              <p:spPr>
                <a:xfrm rot="1629000">
                  <a:off x="3394080" y="998280"/>
                  <a:ext cx="155520" cy="1778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1060"/>
                <p:cNvSpPr/>
                <p:nvPr/>
              </p:nvSpPr>
              <p:spPr>
                <a:xfrm>
                  <a:off x="4005720" y="164880"/>
                  <a:ext cx="151920" cy="4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beec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Text Box 1061"/>
              <p:cNvSpPr/>
              <p:nvPr/>
            </p:nvSpPr>
            <p:spPr>
              <a:xfrm>
                <a:off x="2843280" y="27000"/>
                <a:ext cx="123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随</a:t>
                </a:r>
                <a:endParaRPr b="1" lang="en-US" sz="36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2" name="Rectangle 1062"/>
              <p:cNvSpPr/>
              <p:nvPr/>
            </p:nvSpPr>
            <p:spPr>
              <a:xfrm>
                <a:off x="4516920" y="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66"/>
                    </a:solidFill>
                    <a:latin typeface="Times New Roman"/>
                  </a:rPr>
                  <a:t>练习</a:t>
                </a:r>
                <a:endParaRPr b="1" lang="en-US" sz="3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43" name="Text Box 1063"/>
            <p:cNvSpPr/>
            <p:nvPr/>
          </p:nvSpPr>
          <p:spPr>
            <a:xfrm>
              <a:off x="3909960" y="609480"/>
              <a:ext cx="1371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4" name="WordArt 1064"/>
            <p:cNvSpPr txBox="1"/>
            <p:nvPr/>
          </p:nvSpPr>
          <p:spPr>
            <a:xfrm>
              <a:off x="2973240" y="609480"/>
              <a:ext cx="4028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9360">
                    <a:solidFill>
                      <a:srgbClr val="a5644e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堂</a:t>
              </a:r>
              <a:endParaRPr b="1" lang="en-US" sz="1400" spc="1" strike="noStrike">
                <a:ln w="9360">
                  <a:solidFill>
                    <a:srgbClr val="a5644e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3"/>
          <p:cNvGrpSpPr/>
          <p:nvPr/>
        </p:nvGrpSpPr>
        <p:grpSpPr>
          <a:xfrm>
            <a:off x="314280" y="2316240"/>
            <a:ext cx="3647880" cy="4268520"/>
            <a:chOff x="314280" y="2316240"/>
            <a:chExt cx="3647880" cy="4268520"/>
          </a:xfrm>
        </p:grpSpPr>
        <p:pic>
          <p:nvPicPr>
            <p:cNvPr id="446" name="Picture 4" descr=""/>
            <p:cNvPicPr/>
            <p:nvPr/>
          </p:nvPicPr>
          <p:blipFill>
            <a:blip r:embed="rId1"/>
            <a:stretch/>
          </p:blipFill>
          <p:spPr>
            <a:xfrm>
              <a:off x="314280" y="2316240"/>
              <a:ext cx="364788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5"/>
            <p:cNvSpPr/>
            <p:nvPr/>
          </p:nvSpPr>
          <p:spPr>
            <a:xfrm>
              <a:off x="1371600" y="60642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48" name="Group 6"/>
          <p:cNvGrpSpPr/>
          <p:nvPr/>
        </p:nvGrpSpPr>
        <p:grpSpPr>
          <a:xfrm>
            <a:off x="4727520" y="2316240"/>
            <a:ext cx="3425760" cy="4330440"/>
            <a:chOff x="4727520" y="2316240"/>
            <a:chExt cx="3425760" cy="4330440"/>
          </a:xfrm>
        </p:grpSpPr>
        <p:sp>
          <p:nvSpPr>
            <p:cNvPr id="449" name="Text Box 7"/>
            <p:cNvSpPr/>
            <p:nvPr/>
          </p:nvSpPr>
          <p:spPr>
            <a:xfrm>
              <a:off x="6019560" y="6126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50" name="Group 8"/>
            <p:cNvGrpSpPr/>
            <p:nvPr/>
          </p:nvGrpSpPr>
          <p:grpSpPr>
            <a:xfrm>
              <a:off x="4727520" y="2316240"/>
              <a:ext cx="3425760" cy="3581280"/>
              <a:chOff x="4727520" y="2316240"/>
              <a:chExt cx="3425760" cy="3581280"/>
            </a:xfrm>
          </p:grpSpPr>
          <p:pic>
            <p:nvPicPr>
              <p:cNvPr id="45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7520" y="2316240"/>
                <a:ext cx="3425760" cy="358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10"/>
              <p:cNvSpPr/>
              <p:nvPr/>
            </p:nvSpPr>
            <p:spPr>
              <a:xfrm>
                <a:off x="6172200" y="4830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Text Box 13"/>
          <p:cNvSpPr/>
          <p:nvPr/>
        </p:nvSpPr>
        <p:spPr>
          <a:xfrm>
            <a:off x="0" y="836640"/>
            <a:ext cx="8686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下列两图中，能表示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一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到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的是（         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4" name="WordArt 15" descr=""/>
          <p:cNvPicPr/>
          <p:nvPr/>
        </p:nvPicPr>
        <p:blipFill>
          <a:blip r:embed="rId3"/>
          <a:stretch/>
        </p:blipFill>
        <p:spPr>
          <a:xfrm>
            <a:off x="2762280" y="1328760"/>
            <a:ext cx="676080" cy="853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6"/>
          <p:cNvSpPr/>
          <p:nvPr/>
        </p:nvSpPr>
        <p:spPr>
          <a:xfrm>
            <a:off x="611280" y="219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d1f1f"/>
                </a:solidFill>
                <a:latin typeface="Arial"/>
              </a:rPr>
              <a:t>二 选择题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28600" y="36684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下列两图中，能表示角的平分线上的一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到角的边上的距离的是（        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137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2"/>
          <a:stretch/>
        </p:blipFill>
        <p:spPr>
          <a:xfrm>
            <a:off x="4522680" y="2133720"/>
            <a:ext cx="4621320" cy="3348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5"/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0" name="WordArt 7" descr=""/>
          <p:cNvPicPr/>
          <p:nvPr/>
        </p:nvPicPr>
        <p:blipFill>
          <a:blip r:embed="rId3"/>
          <a:stretch/>
        </p:blipFill>
        <p:spPr>
          <a:xfrm>
            <a:off x="4773600" y="755640"/>
            <a:ext cx="682560" cy="853920"/>
          </a:xfrm>
          <a:prstGeom prst="rect">
            <a:avLst/>
          </a:prstGeom>
          <a:ln w="0">
            <a:noFill/>
          </a:ln>
        </p:spPr>
      </p:pic>
      <p:pic>
        <p:nvPicPr>
          <p:cNvPr id="461" name="WordArt 8" descr=""/>
          <p:cNvPicPr/>
          <p:nvPr/>
        </p:nvPicPr>
        <p:blipFill>
          <a:blip r:embed="rId4"/>
          <a:stretch/>
        </p:blipFill>
        <p:spPr>
          <a:xfrm>
            <a:off x="1390680" y="5145120"/>
            <a:ext cx="676080" cy="853920"/>
          </a:xfrm>
          <a:prstGeom prst="rect">
            <a:avLst/>
          </a:prstGeom>
          <a:ln w="0">
            <a:noFill/>
          </a:ln>
        </p:spPr>
      </p:pic>
      <p:pic>
        <p:nvPicPr>
          <p:cNvPr id="462" name="WordArt 9" descr=""/>
          <p:cNvPicPr/>
          <p:nvPr/>
        </p:nvPicPr>
        <p:blipFill>
          <a:blip r:embed="rId5"/>
          <a:stretch/>
        </p:blipFill>
        <p:spPr>
          <a:xfrm>
            <a:off x="6218280" y="5430960"/>
            <a:ext cx="6760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52280" y="187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228600" y="26020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   )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4114800" y="244800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2971800" y="3592440"/>
            <a:ext cx="4419720" cy="33418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6"/>
          <p:cNvSpPr/>
          <p:nvPr/>
        </p:nvSpPr>
        <p:spPr>
          <a:xfrm>
            <a:off x="1066680" y="2556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D      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  判断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1295280" y="3352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52280" y="944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C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⊥A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228600" y="1676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   )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4114800" y="152244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2666880" y="2714760"/>
            <a:ext cx="3683160" cy="3914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"/>
          <p:cNvSpPr/>
          <p:nvPr/>
        </p:nvSpPr>
        <p:spPr>
          <a:xfrm>
            <a:off x="106668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D      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295280" y="27432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52280" y="1020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, DC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⊥A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152280" y="1905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                                             ）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8" name="Group 4"/>
          <p:cNvGrpSpPr/>
          <p:nvPr/>
        </p:nvGrpSpPr>
        <p:grpSpPr>
          <a:xfrm>
            <a:off x="1066680" y="1828800"/>
            <a:ext cx="2133720" cy="611280"/>
            <a:chOff x="1066680" y="1828800"/>
            <a:chExt cx="2133720" cy="611280"/>
          </a:xfrm>
        </p:grpSpPr>
        <p:sp>
          <p:nvSpPr>
            <p:cNvPr id="479" name="Text Box 5"/>
            <p:cNvSpPr/>
            <p:nvPr/>
          </p:nvSpPr>
          <p:spPr>
            <a:xfrm>
              <a:off x="1066680" y="1858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D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0" name="Text Box 6"/>
            <p:cNvSpPr/>
            <p:nvPr/>
          </p:nvSpPr>
          <p:spPr>
            <a:xfrm>
              <a:off x="2209680" y="1828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D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1" name="Text Box 7"/>
          <p:cNvSpPr/>
          <p:nvPr/>
        </p:nvSpPr>
        <p:spPr>
          <a:xfrm>
            <a:off x="4114800" y="175248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2" name="Picture 8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715000" cy="35560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2971800" y="22096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8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Rectangle 19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76320" y="33336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MS UI Gothic"/>
                <a:ea typeface="MS UI Gothic"/>
              </a:rPr>
              <a:t>四 问答 ：</a:t>
            </a:r>
            <a:r>
              <a:rPr b="1" lang="en-US" sz="2800" spc="-1" strike="noStrike">
                <a:solidFill>
                  <a:srgbClr val="4e3b30"/>
                </a:solidFill>
                <a:latin typeface="MS UI Gothic"/>
                <a:ea typeface="MS UI Gothic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MS UI Gothic"/>
                <a:ea typeface="MS UI Gothic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如图，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C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中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7" name="Group 22"/>
          <p:cNvGrpSpPr/>
          <p:nvPr/>
        </p:nvGrpSpPr>
        <p:grpSpPr>
          <a:xfrm>
            <a:off x="76320" y="4921200"/>
            <a:ext cx="9067320" cy="612000"/>
            <a:chOff x="76320" y="4921200"/>
            <a:chExt cx="9067320" cy="612000"/>
          </a:xfrm>
        </p:grpSpPr>
        <p:sp>
          <p:nvSpPr>
            <p:cNvPr id="488" name="Rectangle 23"/>
            <p:cNvSpPr/>
            <p:nvPr/>
          </p:nvSpPr>
          <p:spPr>
            <a:xfrm>
              <a:off x="1985040" y="4921200"/>
              <a:ext cx="715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做完本题后，你对角平分线</a:t>
              </a: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又增加了什么认识</a:t>
              </a:r>
              <a:r>
                <a:rPr b="1" lang="en-US" sz="2800" spc="-1" strike="noStrike">
                  <a:solidFill>
                    <a:srgbClr val="000000"/>
                  </a:solidFill>
                  <a:latin typeface="MS UI Gothic"/>
                  <a:ea typeface="MS UI Gothic"/>
                </a:rPr>
                <a:t>?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89" name="Group 24"/>
            <p:cNvGrpSpPr/>
            <p:nvPr/>
          </p:nvGrpSpPr>
          <p:grpSpPr>
            <a:xfrm>
              <a:off x="76320" y="5073480"/>
              <a:ext cx="1828800" cy="459720"/>
              <a:chOff x="76320" y="5073480"/>
              <a:chExt cx="1828800" cy="459720"/>
            </a:xfrm>
          </p:grpSpPr>
          <p:sp>
            <p:nvSpPr>
              <p:cNvPr id="490" name="Rectangle 25"/>
              <p:cNvSpPr/>
              <p:nvPr/>
            </p:nvSpPr>
            <p:spPr>
              <a:xfrm>
                <a:off x="76320" y="5073480"/>
                <a:ext cx="1828800" cy="45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3ffff"/>
                  </a:gs>
                </a:gsLst>
                <a:path path="rect">
                  <a:fillToRect l="50000" t="50000" r="50000" b="50000"/>
                </a:path>
              </a:gradFill>
              <a:ln w="7632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66"/>
                    </a:solidFill>
                    <a:latin typeface="MS UI Gothic"/>
                    <a:ea typeface="MS UI Gothic"/>
                  </a:rPr>
                  <a:t>    </a:t>
                </a:r>
                <a:r>
                  <a:rPr b="1" lang="zh-CN" sz="2400" spc="-1" strike="noStrike">
                    <a:solidFill>
                      <a:srgbClr val="cc0066"/>
                    </a:solidFill>
                    <a:latin typeface="MS UI Gothic"/>
                    <a:ea typeface="MS UI Gothic"/>
                  </a:rPr>
                  <a:t>思考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91" name="Picture 26" descr="问09"/>
              <p:cNvPicPr/>
              <p:nvPr/>
            </p:nvPicPr>
            <p:blipFill>
              <a:blip r:embed="rId1"/>
              <a:stretch/>
            </p:blipFill>
            <p:spPr>
              <a:xfrm>
                <a:off x="105840" y="5149800"/>
                <a:ext cx="44748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27" descr="底色1"/>
              <p:cNvPicPr/>
              <p:nvPr/>
            </p:nvPicPr>
            <p:blipFill>
              <a:blip r:embed="rId2"/>
              <a:stretch/>
            </p:blipFill>
            <p:spPr>
              <a:xfrm>
                <a:off x="1324080" y="5226120"/>
                <a:ext cx="581040" cy="27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3" name="Rectangle 28"/>
          <p:cNvSpPr/>
          <p:nvPr/>
        </p:nvSpPr>
        <p:spPr>
          <a:xfrm>
            <a:off x="324000" y="5997600"/>
            <a:ext cx="8381880" cy="861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MS UI Gothic"/>
                <a:ea typeface="MS UI Gothic"/>
              </a:rPr>
              <a:t>      </a:t>
            </a:r>
            <a:r>
              <a:rPr b="1" lang="zh-CN" sz="2800" spc="-1" strike="noStrike">
                <a:solidFill>
                  <a:srgbClr val="ffff99"/>
                </a:solidFill>
                <a:latin typeface="MS UI Gothic"/>
                <a:ea typeface="MS UI Gothic"/>
              </a:rPr>
              <a:t>角平分线的性质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MS UI Gothic"/>
                <a:ea typeface="MS UI Gothic"/>
              </a:rPr>
              <a:t>为我们证明两线段相等 又提供了新的方法与途径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Freeform 29"/>
          <p:cNvSpPr/>
          <p:nvPr/>
        </p:nvSpPr>
        <p:spPr>
          <a:xfrm>
            <a:off x="5105520" y="1019160"/>
            <a:ext cx="3200400" cy="18288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016" h="1152">
                <a:moveTo>
                  <a:pt x="0" y="1152"/>
                </a:moveTo>
                <a:lnTo>
                  <a:pt x="2016" y="1152"/>
                </a:lnTo>
                <a:lnTo>
                  <a:pt x="2016" y="0"/>
                </a:lnTo>
                <a:lnTo>
                  <a:pt x="0" y="115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8458200" y="7905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4648320" y="2619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8305920" y="255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Freeform 33"/>
          <p:cNvSpPr/>
          <p:nvPr/>
        </p:nvSpPr>
        <p:spPr>
          <a:xfrm>
            <a:off x="8077320" y="261936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Rectangle 34"/>
          <p:cNvSpPr/>
          <p:nvPr/>
        </p:nvSpPr>
        <p:spPr>
          <a:xfrm>
            <a:off x="5189760" y="34776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的平分线 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0" y="7905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垂足为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 flipV="1">
            <a:off x="7848720" y="13237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Freeform 37"/>
          <p:cNvSpPr/>
          <p:nvPr/>
        </p:nvSpPr>
        <p:spPr>
          <a:xfrm rot="14523000">
            <a:off x="7696080" y="1323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Rectangle 38"/>
          <p:cNvSpPr/>
          <p:nvPr/>
        </p:nvSpPr>
        <p:spPr>
          <a:xfrm>
            <a:off x="7448760" y="86688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Rectangle 39"/>
          <p:cNvSpPr/>
          <p:nvPr/>
        </p:nvSpPr>
        <p:spPr>
          <a:xfrm>
            <a:off x="347400" y="124776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相等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5" name="Group 40"/>
          <p:cNvGrpSpPr/>
          <p:nvPr/>
        </p:nvGrpSpPr>
        <p:grpSpPr>
          <a:xfrm>
            <a:off x="5105520" y="1719360"/>
            <a:ext cx="3650760" cy="1128240"/>
            <a:chOff x="5105520" y="1719360"/>
            <a:chExt cx="3650760" cy="1128240"/>
          </a:xfrm>
        </p:grpSpPr>
        <p:sp>
          <p:nvSpPr>
            <p:cNvPr id="506" name="Line 41"/>
            <p:cNvSpPr/>
            <p:nvPr/>
          </p:nvSpPr>
          <p:spPr>
            <a:xfrm flipV="1">
              <a:off x="5105520" y="2009520"/>
              <a:ext cx="3200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Rectangle 42"/>
            <p:cNvSpPr/>
            <p:nvPr/>
          </p:nvSpPr>
          <p:spPr>
            <a:xfrm>
              <a:off x="8334720" y="171936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  <a:ea typeface="MS UI Gothic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8" name="Rectangle 43"/>
          <p:cNvSpPr/>
          <p:nvPr/>
        </p:nvSpPr>
        <p:spPr>
          <a:xfrm>
            <a:off x="666000" y="170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Verdana"/>
                <a:ea typeface="MS UI Gothic"/>
              </a:rPr>
              <a:t>答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Rectangle 44"/>
          <p:cNvSpPr/>
          <p:nvPr/>
        </p:nvSpPr>
        <p:spPr>
          <a:xfrm>
            <a:off x="1289160" y="1781280"/>
            <a:ext cx="15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=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Rectangle 45"/>
          <p:cNvSpPr/>
          <p:nvPr/>
        </p:nvSpPr>
        <p:spPr>
          <a:xfrm>
            <a:off x="152280" y="2208240"/>
            <a:ext cx="48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平分线 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平分线上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Rectangle 46"/>
          <p:cNvSpPr/>
          <p:nvPr/>
        </p:nvSpPr>
        <p:spPr>
          <a:xfrm>
            <a:off x="250920" y="3267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∵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垂足为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Rectangle 48"/>
          <p:cNvSpPr/>
          <p:nvPr/>
        </p:nvSpPr>
        <p:spPr>
          <a:xfrm>
            <a:off x="250920" y="4149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DE=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Rectangle 49"/>
          <p:cNvSpPr/>
          <p:nvPr/>
        </p:nvSpPr>
        <p:spPr>
          <a:xfrm>
            <a:off x="3461040" y="11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MS UI Gothic"/>
              </a:rPr>
              <a:t>为什么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Rectangle 51"/>
          <p:cNvSpPr/>
          <p:nvPr/>
        </p:nvSpPr>
        <p:spPr>
          <a:xfrm>
            <a:off x="1223640" y="364500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垂足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AutoShape 52"/>
          <p:cNvSpPr/>
          <p:nvPr/>
        </p:nvSpPr>
        <p:spPr>
          <a:xfrm>
            <a:off x="8820000" y="6021360"/>
            <a:ext cx="324000" cy="836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836640"/>
              <a:gd name="textAreaBottom" fmla="*/ 815760 h 836640"/>
            </a:gdLst>
            <a:ahLst/>
            <a:rect l="textAreaLeft" t="textAreaTop" r="textAreaRight" b="textAreaBottom"/>
            <a:pathLst>
              <a:path w="21600" h="55738">
                <a:moveTo>
                  <a:pt x="0" y="0"/>
                </a:moveTo>
                <a:lnTo>
                  <a:pt x="21600" y="0"/>
                </a:lnTo>
                <a:lnTo>
                  <a:pt x="21600" y="55738"/>
                </a:lnTo>
                <a:lnTo>
                  <a:pt x="0" y="55738"/>
                </a:lnTo>
                <a:close/>
              </a:path>
              <a:path fill="lightenLess" w="21600" h="557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738">
                <a:moveTo>
                  <a:pt x="21600" y="0"/>
                </a:moveTo>
                <a:lnTo>
                  <a:pt x="21600" y="55738"/>
                </a:lnTo>
                <a:lnTo>
                  <a:pt x="20200" y="54338"/>
                </a:lnTo>
                <a:lnTo>
                  <a:pt x="20200" y="1400"/>
                </a:lnTo>
                <a:close/>
              </a:path>
              <a:path fill="darkenLess" w="21600" h="55738">
                <a:moveTo>
                  <a:pt x="21600" y="55738"/>
                </a:moveTo>
                <a:lnTo>
                  <a:pt x="0" y="55738"/>
                </a:lnTo>
                <a:lnTo>
                  <a:pt x="1400" y="54338"/>
                </a:lnTo>
                <a:lnTo>
                  <a:pt x="20200" y="54338"/>
                </a:lnTo>
                <a:close/>
              </a:path>
              <a:path fill="lighten" w="21600" h="55738">
                <a:moveTo>
                  <a:pt x="0" y="55738"/>
                </a:moveTo>
                <a:lnTo>
                  <a:pt x="0" y="0"/>
                </a:lnTo>
                <a:lnTo>
                  <a:pt x="1400" y="1400"/>
                </a:lnTo>
                <a:lnTo>
                  <a:pt x="1400" y="54338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6:01:14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2:13Z</dcterms:modified>
  <cp:revision>9</cp:revision>
  <dc:subject>www.12999.com</dc:subject>
  <dc:title>www.12999.com</dc:title>
</cp:coreProperties>
</file>