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4A7-BCC1-4265-B5A4-B8269FEB5DE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BFA9-F4F2-4DC3-8256-713054F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088F1-E78E-466F-8F61-1B79222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67124-9EF1-4001-A8EF-48F9ADB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8BC0-8D41-488B-AA75-9B7B4F5F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066D-9A36-4150-99A2-26AE1087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177A-C792-4A88-818B-7450F50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0BEB-DD30-4DE8-BFBB-71F5D838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F69FA-F5D1-4BD3-A05A-1D7A5F86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D5E4-EA64-4128-875F-54B76423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97E9E-D06F-48F5-B7CB-9556F736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68496-5374-4B34-92C4-44B38368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3B6B9-183F-40C6-8640-0083E64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AD98A-A678-4551-AC52-8E6094D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7777-186C-48A2-9128-32907B18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0B9B-2570-4238-8038-651D51E4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16383-998A-4C2C-BC5A-250825C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265B-5C67-4F4B-BC87-E9DDF09D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9CB14-4363-486E-A3DF-246BA6D8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AD521-22A1-4C8C-84D2-C9BA15A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3CFB7-E575-41CF-9416-74E769FC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B2DE5-CC50-4125-9358-8B5738B1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2C9CC-D6D8-4D7E-8B39-9ECEB50F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EC98E-B12F-4255-B124-306BC29A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1711B-EAC6-48A1-89B5-C03ACDF0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9EB54-18E5-4BF4-BDFB-4E368AC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90315-FB66-41FA-AED2-39DC894C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86D0D-704C-4D64-9A13-2E21F72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9858E-851C-42F2-A249-6387A052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1788-DC11-4608-AF1D-8EB8279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E04B5-C16C-4187-8096-3BD6B02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244-1598-49A3-96E1-5F944C09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68BE1-FEF4-4EAD-BC25-84F7A7C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892E2-60B2-4FCB-AF0F-0413EEA3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B03A1-C1F3-4A5A-8ED9-06A007AF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8BE6A-0709-47DF-920C-2E8CB226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8782F-7EDA-4319-ACC1-6644BB9D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0CB6-0A97-47F8-8EB9-76DC947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C4C8C-643D-4A57-B999-13D40192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A879-A812-4ED9-9C0A-42E6ADF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7332-8FAB-4BF5-BA57-641E3393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FA8E4-269F-474A-A23F-557ED7D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F0C-9549-4BD9-BA7A-A453668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1469-961A-461D-8DB6-C8811157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FD17E-BBF6-45CB-A3F0-FAFBD36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CCED6-EB80-4C95-8EE8-2A7C72E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BBC2C-901A-47B0-ABD0-D35F541E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760DD-06A9-4696-AC58-91F1801B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5BF-524B-49E9-B1F4-A86B7276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731-631B-4493-8964-BE78E474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2B8-AF7A-48F2-9539-C21CC78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C31-73C6-40FF-84DE-4140F49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5CD-AC0D-4B94-BE7B-185A045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AA8-23A9-4674-8A0F-CCA8B0E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DB4-296A-4294-B5D0-BA4DC9F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8D6-3927-4CE5-81F3-4BDF914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BA4-FC16-4EF7-86CC-C966D6F8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056-8B6F-48B6-A74D-72B91B89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3F3-8924-4C8C-86EA-94EE3F38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1A41-FCDF-4A22-9D44-02B00A4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C20-EA58-41C5-9668-894ED42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C88D-AD6D-4050-BC4B-DD2B7EC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9CC-091E-40B6-9BCF-91BA64D9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3D44-893B-4962-8EF7-9223D81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E24A-710F-4D04-86B7-A4C22A07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36B-17BD-43FE-8C22-B52CA6D7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0B8B-8F12-4354-87B6-5BD03505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CFB8-D4A2-4AB0-8515-BE80ACFB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9A3-936C-461E-9241-3121EFBB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87A3-92EE-42E0-9F69-C3E358BF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185AC-ACA0-4823-9736-CFAF988E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BE0AC-F9CC-44B9-B6C6-6EB42B9C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97648-6ECE-4EB0-BBFF-694237C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7C6D9-820B-4155-8B9C-47F8675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1F5F-1C8B-421A-B258-6F9B897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F738D-D7C4-42BB-A684-7509F02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8D14C-DB0B-4C8E-B7FC-861A31FE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4DAED-0719-45AB-AE6B-9FE55DD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5231A-DFAA-486E-946C-D05E3C9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A9888-109E-4CC1-82E5-1BD96B5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F1E7A-E443-4A24-BFB1-34722970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87D2F-0D15-4390-9D30-07FE2920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01C9-BDE1-47E5-8F2D-387625BC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A5AD-ED20-486B-A0A4-D6765C50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55F2-E022-4261-A71A-F0B4427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01FA-3B94-4500-8CFE-98BD252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5B86-D962-49C5-BF68-46BB1237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646A-3A5E-4B9B-90E9-8AD6326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E74A-07D2-42D9-A7B6-FB52D59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6F68-7F17-4D40-9D2E-1D6CC92D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A33B-7E89-4E46-80E4-8ACEAE5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4D22-9849-44B7-A525-74C5B3B3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A260D-6734-49A5-8F77-C6C4F434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5A70-9F44-4BDE-8BB1-C3EB928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F546-2A22-4B74-99B2-881E8C79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9327-A657-4192-AB6C-15F80680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6CAC-2E4D-411D-8175-FF0921ED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04659-2F7A-436C-A3B5-37E4072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B7B4-1BC7-466B-B251-AA4DE6ED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75D5-06A1-44DB-A9C9-F36EF77E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C99F5-4803-4728-93B6-B15C22E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AD3E-D2D0-4026-9CB1-8605D64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951D-6240-4036-9AF2-DA4EBA8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D8DC-0901-456C-B2E0-3359F2B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6036-0C41-46EE-8D39-906329F1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67FD-B7A0-4EF2-A13F-4DB9BEF8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0A679-780F-4DEF-8A08-0BF4682B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84068-5D73-41F3-A3F8-959C0590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2F360-24B2-498E-AF06-C5536B16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6CE0-B30C-4CDB-AE2A-82073306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A130-499B-4F3A-A04A-DC68E86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8F38-ABCC-49B9-9345-06E12FA3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68F1-2721-4961-8354-F38CF6A7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3B12-4F43-4A6B-95BF-B318967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9909-9311-4C5D-9E74-9404F33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2806-E522-450C-BBC3-48496E06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759D-60A6-41A4-A6BA-58FB2E7D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1997-397C-45F4-9BBB-952AEDBA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F26E1-6D58-45CE-95DD-8D46983B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4F4C2-B529-4450-B505-AA8B657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961C-437D-40E0-A0F0-C98885B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61F7-F1DC-41B7-BCC8-F7383FC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7F984-C1F4-44E0-BE35-372A107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FFD2-AE55-4050-9BF1-049947F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DAA8-77A3-44AB-850E-A6853A9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AFF5-6AAB-45F6-BE27-4DD130D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4A065-03BF-4BBC-85FE-E2555E7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6ADBD-954E-496A-B32A-D1BB0E0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866BF-8171-4397-A1B2-548A77A0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95B38-5FCF-42F2-B200-F7A3BB9C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D896-2CDB-4726-A470-FF7143A7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F7B74-BD5E-43FB-9C9C-D1E5E36D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7D250-4A48-4701-9FFD-A42B85B8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czsx123.com/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czsx123.com/" TargetMode="Externa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czsx123.com/" TargetMode="External"/><Relationship Id="rId7" Type="http://schemas.openxmlformats.org/officeDocument/2006/relationships/image" Target="../media/image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>
            <a:hlinkClick r:id="rId3"/>
          </p:cNvPr>
          <p:cNvSpPr/>
          <p:nvPr/>
        </p:nvSpPr>
        <p:spPr>
          <a:xfrm>
            <a:off x="3564000" y="1890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czsx123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167360" y="6157800"/>
            <a:ext cx="1552320" cy="368280"/>
          </a:xfrm>
          <a:prstGeom prst="rect">
            <a:avLst/>
          </a:prstGeom>
          <a:solidFill>
            <a:srgbClr val="1d9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新课标多媒体教学课件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954480" y="6230880"/>
            <a:ext cx="14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初中数学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  <a:ea typeface="宋体"/>
              </a:rPr>
              <a:t>123</a:t>
            </a: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提供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5" descr="jiantao1"/>
          <p:cNvPicPr/>
          <p:nvPr/>
        </p:nvPicPr>
        <p:blipFill>
          <a:blip r:embed="rId4"/>
          <a:stretch/>
        </p:blipFill>
        <p:spPr>
          <a:xfrm>
            <a:off x="2050920" y="662040"/>
            <a:ext cx="4892760" cy="10296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550080" y="62308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原创作者</a:t>
            </a:r>
            <a:r>
              <a:rPr b="1" lang="en-US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:</a:t>
            </a: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潮阳实验朱辉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WordArt 7" descr=""/>
          <p:cNvPicPr/>
          <p:nvPr/>
        </p:nvPicPr>
        <p:blipFill>
          <a:blip r:embed="rId5"/>
          <a:stretch/>
        </p:blipFill>
        <p:spPr>
          <a:xfrm>
            <a:off x="944640" y="1255680"/>
            <a:ext cx="356688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直接连接符 18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11" name="直接连接符 18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B443-E2BA-4D1A-991D-1718242355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D37B-3436-41F4-A7A3-8FFB599621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A54A-437D-407E-A9CE-0A8BBA21D75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30B-9F74-4B9F-B35F-5F2CF796320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876-FEDD-46BA-A489-2501B2C354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1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5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Text Box 2">
            <a:hlinkClick r:id="rId6"/>
          </p:cNvPr>
          <p:cNvSpPr/>
          <p:nvPr/>
        </p:nvSpPr>
        <p:spPr>
          <a:xfrm>
            <a:off x="3564000" y="1890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czsx123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167360" y="6157800"/>
            <a:ext cx="1552320" cy="368280"/>
          </a:xfrm>
          <a:prstGeom prst="rect">
            <a:avLst/>
          </a:prstGeom>
          <a:solidFill>
            <a:srgbClr val="1d9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新课标多媒体教学课件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954480" y="6230880"/>
            <a:ext cx="14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初中数学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  <a:ea typeface="宋体"/>
              </a:rPr>
              <a:t>123</a:t>
            </a: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提供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jiantao1"/>
          <p:cNvPicPr/>
          <p:nvPr/>
        </p:nvPicPr>
        <p:blipFill>
          <a:blip r:embed="rId7"/>
          <a:stretch/>
        </p:blipFill>
        <p:spPr>
          <a:xfrm>
            <a:off x="2050920" y="662040"/>
            <a:ext cx="4892760" cy="102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50080" y="62308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原创作者</a:t>
            </a:r>
            <a:r>
              <a:rPr b="1" lang="en-US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:</a:t>
            </a: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潮阳实验朱辉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WordArt 7" descr=""/>
          <p:cNvPicPr/>
          <p:nvPr/>
        </p:nvPicPr>
        <p:blipFill>
          <a:blip r:embed="rId8"/>
          <a:stretch/>
        </p:blipFill>
        <p:spPr>
          <a:xfrm>
            <a:off x="944640" y="1255680"/>
            <a:ext cx="356688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45D-63FC-4E53-A304-358E876443F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直接连接符 18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82" name="直接连接符 18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234-D517-4C21-9509-B1290DE67C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26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2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3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Text Box 2">
            <a:hlinkClick r:id="rId6"/>
          </p:cNvPr>
          <p:cNvSpPr/>
          <p:nvPr/>
        </p:nvSpPr>
        <p:spPr>
          <a:xfrm>
            <a:off x="3564000" y="1890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czsx123.com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167360" y="6157800"/>
            <a:ext cx="1552320" cy="368280"/>
          </a:xfrm>
          <a:prstGeom prst="rect">
            <a:avLst/>
          </a:prstGeom>
          <a:solidFill>
            <a:srgbClr val="1d93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新课标多媒体教学课件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954480" y="6230880"/>
            <a:ext cx="14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初中数学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  <a:ea typeface="宋体"/>
              </a:rPr>
              <a:t>123</a:t>
            </a:r>
            <a:r>
              <a:rPr b="0" lang="zh-CN" sz="1800" spc="-1" strike="noStrike">
                <a:solidFill>
                  <a:srgbClr val="ff9966"/>
                </a:solidFill>
                <a:latin typeface="Arial"/>
                <a:ea typeface="宋体"/>
              </a:rPr>
              <a:t>提供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jiantao1"/>
          <p:cNvPicPr/>
          <p:nvPr/>
        </p:nvPicPr>
        <p:blipFill>
          <a:blip r:embed="rId7"/>
          <a:stretch/>
        </p:blipFill>
        <p:spPr>
          <a:xfrm>
            <a:off x="2050920" y="662040"/>
            <a:ext cx="4892760" cy="1029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6"/>
          <p:cNvSpPr/>
          <p:nvPr/>
        </p:nvSpPr>
        <p:spPr>
          <a:xfrm>
            <a:off x="550080" y="62308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原创作者</a:t>
            </a:r>
            <a:r>
              <a:rPr b="1" lang="en-US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:</a:t>
            </a:r>
            <a:r>
              <a:rPr b="1" lang="zh-CN" sz="1800" spc="-1" strike="noStrike">
                <a:solidFill>
                  <a:srgbClr val="99ccff"/>
                </a:solidFill>
                <a:latin typeface="Times New Roman"/>
                <a:ea typeface="宋体"/>
              </a:rPr>
              <a:t>潮阳实验朱辉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WordArt 7" descr=""/>
          <p:cNvPicPr/>
          <p:nvPr/>
        </p:nvPicPr>
        <p:blipFill>
          <a:blip r:embed="rId8"/>
          <a:stretch/>
        </p:blipFill>
        <p:spPr>
          <a:xfrm>
            <a:off x="944640" y="1255680"/>
            <a:ext cx="3566880" cy="554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11ED-F003-47C2-A85D-23F425D13F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直接连接符 18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82" name="直接连接符 18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717-0D7A-4280-8152-9C86806A46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直接连接符 18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326" name="直接连接符 18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C16-F653-4D64-ADC3-37B657747D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3A3E-F050-495D-B36A-142BC1F23B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2"/>
          <p:cNvSpPr txBox="1"/>
          <p:nvPr/>
        </p:nvSpPr>
        <p:spPr>
          <a:xfrm>
            <a:off x="1639800" y="2492280"/>
            <a:ext cx="624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轴对称</a:t>
            </a: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08000" y="932040"/>
            <a:ext cx="928836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已知：如图，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O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内任意一点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别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求作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 P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周长最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Group 3"/>
          <p:cNvGrpSpPr/>
          <p:nvPr/>
        </p:nvGrpSpPr>
        <p:grpSpPr>
          <a:xfrm>
            <a:off x="4358160" y="2798640"/>
            <a:ext cx="4190400" cy="3727800"/>
            <a:chOff x="4358160" y="2798640"/>
            <a:chExt cx="4190400" cy="3727800"/>
          </a:xfrm>
        </p:grpSpPr>
        <p:sp>
          <p:nvSpPr>
            <p:cNvPr id="651" name="Rectangle 4"/>
            <p:cNvSpPr/>
            <p:nvPr/>
          </p:nvSpPr>
          <p:spPr>
            <a:xfrm>
              <a:off x="6661800" y="2798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Rectangle 5"/>
            <p:cNvSpPr/>
            <p:nvPr/>
          </p:nvSpPr>
          <p:spPr>
            <a:xfrm>
              <a:off x="8029440" y="5823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Oval 6"/>
            <p:cNvSpPr/>
            <p:nvPr/>
          </p:nvSpPr>
          <p:spPr>
            <a:xfrm>
              <a:off x="7451640" y="4383000"/>
              <a:ext cx="144360" cy="144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Rectangle 7"/>
            <p:cNvSpPr/>
            <p:nvPr/>
          </p:nvSpPr>
          <p:spPr>
            <a:xfrm>
              <a:off x="7669440" y="373536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4358160" y="544824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9"/>
            <p:cNvSpPr/>
            <p:nvPr/>
          </p:nvSpPr>
          <p:spPr>
            <a:xfrm>
              <a:off x="4930560" y="5823000"/>
              <a:ext cx="34578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10"/>
            <p:cNvSpPr/>
            <p:nvPr/>
          </p:nvSpPr>
          <p:spPr>
            <a:xfrm flipV="1">
              <a:off x="4930560" y="3230280"/>
              <a:ext cx="2592360" cy="2592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Rectangle 11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的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1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08000" y="765000"/>
            <a:ext cx="92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牧马人的营地在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处，每天他要赶着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马群先到河边饮水，再带到草地吃草，然后回到营地，请你替牧马人设计最短的路线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8102880" y="566100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6156360" y="472428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5510520" y="4149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Line 6"/>
          <p:cNvSpPr/>
          <p:nvPr/>
        </p:nvSpPr>
        <p:spPr>
          <a:xfrm flipV="1">
            <a:off x="4427640" y="5805000"/>
            <a:ext cx="3600360" cy="2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3995640" y="3429000"/>
            <a:ext cx="4248360" cy="100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831888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Line 9"/>
          <p:cNvSpPr/>
          <p:nvPr/>
        </p:nvSpPr>
        <p:spPr>
          <a:xfrm>
            <a:off x="4067280" y="3284640"/>
            <a:ext cx="4248000" cy="1008000"/>
          </a:xfrm>
          <a:prstGeom prst="line">
            <a:avLst/>
          </a:prstGeom>
          <a:ln w="381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10"/>
          <p:cNvSpPr/>
          <p:nvPr/>
        </p:nvSpPr>
        <p:spPr>
          <a:xfrm>
            <a:off x="4067280" y="3141720"/>
            <a:ext cx="4248000" cy="1008000"/>
          </a:xfrm>
          <a:prstGeom prst="line">
            <a:avLst/>
          </a:prstGeom>
          <a:ln w="381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4067280" y="2924280"/>
            <a:ext cx="4248000" cy="1008000"/>
          </a:xfrm>
          <a:prstGeom prst="line">
            <a:avLst/>
          </a:prstGeom>
          <a:ln w="381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4140360" y="2781360"/>
            <a:ext cx="4248000" cy="1008000"/>
          </a:xfrm>
          <a:prstGeom prst="line">
            <a:avLst/>
          </a:prstGeom>
          <a:ln w="38160">
            <a:solidFill>
              <a:srgbClr val="0000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13"/>
          <p:cNvSpPr/>
          <p:nvPr/>
        </p:nvSpPr>
        <p:spPr>
          <a:xfrm flipV="1">
            <a:off x="4427640" y="6021000"/>
            <a:ext cx="3600360" cy="28908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14"/>
          <p:cNvSpPr/>
          <p:nvPr/>
        </p:nvSpPr>
        <p:spPr>
          <a:xfrm flipV="1">
            <a:off x="4427640" y="6160680"/>
            <a:ext cx="3600360" cy="28908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4427640" y="6308280"/>
            <a:ext cx="3600360" cy="28908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16"/>
          <p:cNvSpPr/>
          <p:nvPr/>
        </p:nvSpPr>
        <p:spPr>
          <a:xfrm flipV="1">
            <a:off x="4427640" y="6454440"/>
            <a:ext cx="3600360" cy="289080"/>
          </a:xfrm>
          <a:prstGeom prst="line">
            <a:avLst/>
          </a:prstGeom>
          <a:ln cap="rnd" w="3816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17"/>
          <p:cNvSpPr/>
          <p:nvPr/>
        </p:nvSpPr>
        <p:spPr>
          <a:xfrm>
            <a:off x="6260400" y="3141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8"/>
          <p:cNvSpPr/>
          <p:nvPr/>
        </p:nvSpPr>
        <p:spPr>
          <a:xfrm>
            <a:off x="5857920" y="602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草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的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20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79280" y="762120"/>
            <a:ext cx="928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已知：如图，牧童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处放牛，他家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处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到河岸的距离分别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且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=B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若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到河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中点的距离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00m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牧童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处牵牛到河边饮水后再回家，则在何处引水，所走的路程最短？最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短的路程是多少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3"/>
          <p:cNvSpPr/>
          <p:nvPr/>
        </p:nvSpPr>
        <p:spPr>
          <a:xfrm>
            <a:off x="6300720" y="3500280"/>
            <a:ext cx="0" cy="3240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997800" y="407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4068720" y="5589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Oval 6"/>
          <p:cNvSpPr/>
          <p:nvPr/>
        </p:nvSpPr>
        <p:spPr>
          <a:xfrm>
            <a:off x="4716360" y="436392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Oval 7"/>
          <p:cNvSpPr/>
          <p:nvPr/>
        </p:nvSpPr>
        <p:spPr>
          <a:xfrm>
            <a:off x="4714920" y="58770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788000" y="4437000"/>
            <a:ext cx="1512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4788000" y="5950080"/>
            <a:ext cx="1512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302880" y="407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6302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的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108000" y="76500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图，把一张长方形纸片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沿对角线折叠，重叠部分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FB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求证：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FB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等腰三角形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3997800" y="2565360"/>
            <a:ext cx="4621680" cy="4523400"/>
            <a:chOff x="3997800" y="2565360"/>
            <a:chExt cx="4621680" cy="4523400"/>
          </a:xfrm>
        </p:grpSpPr>
        <p:grpSp>
          <p:nvGrpSpPr>
            <p:cNvPr id="693" name="Group 4"/>
            <p:cNvGrpSpPr/>
            <p:nvPr/>
          </p:nvGrpSpPr>
          <p:grpSpPr>
            <a:xfrm>
              <a:off x="4572000" y="3168720"/>
              <a:ext cx="3457440" cy="3920040"/>
              <a:chOff x="4572000" y="3168720"/>
              <a:chExt cx="3457440" cy="3920040"/>
            </a:xfrm>
          </p:grpSpPr>
          <p:sp>
            <p:nvSpPr>
              <p:cNvPr id="694" name="Rectangle 5"/>
              <p:cNvSpPr/>
              <p:nvPr/>
            </p:nvSpPr>
            <p:spPr>
              <a:xfrm>
                <a:off x="4572000" y="4192560"/>
                <a:ext cx="3457440" cy="1873440"/>
              </a:xfrm>
              <a:prstGeom prst="rect">
                <a:avLst/>
              </a:pr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AutoShape 6"/>
              <p:cNvSpPr/>
              <p:nvPr/>
            </p:nvSpPr>
            <p:spPr>
              <a:xfrm flipH="1" flipV="1" rot="18180600">
                <a:off x="4572000" y="4191480"/>
                <a:ext cx="3457440" cy="1873440"/>
              </a:xfrm>
              <a:prstGeom prst="rtTriangle">
                <a:avLst/>
              </a:prstGeom>
              <a:noFill/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6" name="Rectangle 7"/>
            <p:cNvSpPr/>
            <p:nvPr/>
          </p:nvSpPr>
          <p:spPr>
            <a:xfrm>
              <a:off x="8030160" y="3789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Rectangle 8"/>
            <p:cNvSpPr/>
            <p:nvPr/>
          </p:nvSpPr>
          <p:spPr>
            <a:xfrm>
              <a:off x="3997800" y="3645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Rectangle 9"/>
            <p:cNvSpPr/>
            <p:nvPr/>
          </p:nvSpPr>
          <p:spPr>
            <a:xfrm>
              <a:off x="4068360" y="5877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10"/>
            <p:cNvSpPr/>
            <p:nvPr/>
          </p:nvSpPr>
          <p:spPr>
            <a:xfrm>
              <a:off x="8073000" y="5805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11"/>
            <p:cNvSpPr/>
            <p:nvPr/>
          </p:nvSpPr>
          <p:spPr>
            <a:xfrm>
              <a:off x="6229080" y="25653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12"/>
            <p:cNvSpPr/>
            <p:nvPr/>
          </p:nvSpPr>
          <p:spPr>
            <a:xfrm>
              <a:off x="5437440" y="342900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Text Box 13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3141000" y="13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轴对称变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5" name="Picture 3" descr="pic_204390"/>
          <p:cNvPicPr/>
          <p:nvPr/>
        </p:nvPicPr>
        <p:blipFill>
          <a:blip r:embed="rId1"/>
          <a:srcRect l="70428" t="63231" r="13709" b="20423"/>
          <a:stretch/>
        </p:blipFill>
        <p:spPr>
          <a:xfrm>
            <a:off x="7091280" y="2565360"/>
            <a:ext cx="1873440" cy="2879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pic_204390"/>
          <p:cNvPicPr/>
          <p:nvPr/>
        </p:nvPicPr>
        <p:blipFill>
          <a:blip r:embed="rId2"/>
          <a:srcRect l="14327" t="63987" r="68293" b="19625"/>
          <a:stretch/>
        </p:blipFill>
        <p:spPr>
          <a:xfrm>
            <a:off x="250920" y="2558880"/>
            <a:ext cx="2052720" cy="2886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pic_204390"/>
          <p:cNvPicPr/>
          <p:nvPr/>
        </p:nvPicPr>
        <p:blipFill>
          <a:blip r:embed="rId3"/>
          <a:srcRect l="31407" t="63987" r="50913" b="19625"/>
          <a:stretch/>
        </p:blipFill>
        <p:spPr>
          <a:xfrm>
            <a:off x="2554200" y="2558880"/>
            <a:ext cx="2089080" cy="28861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pic_204390"/>
          <p:cNvPicPr/>
          <p:nvPr/>
        </p:nvPicPr>
        <p:blipFill>
          <a:blip r:embed="rId4"/>
          <a:srcRect l="49096" t="63987" r="33842" b="19625"/>
          <a:stretch/>
        </p:blipFill>
        <p:spPr>
          <a:xfrm>
            <a:off x="4840200" y="2558880"/>
            <a:ext cx="2016360" cy="288612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1656000" y="1052640"/>
            <a:ext cx="52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下列各组图形是怎样变换而来的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141000" y="135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图形的变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108000" y="76500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图，△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坐标分别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(-4,5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(-2,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(-1,4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分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出三角形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于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的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称图形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344808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用坐标表示轴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3444840" y="1052640"/>
            <a:ext cx="5699160" cy="5806800"/>
            <a:chOff x="3444840" y="1052640"/>
            <a:chExt cx="5699160" cy="5806800"/>
          </a:xfrm>
        </p:grpSpPr>
        <p:grpSp>
          <p:nvGrpSpPr>
            <p:cNvPr id="715" name="Group 6"/>
            <p:cNvGrpSpPr/>
            <p:nvPr/>
          </p:nvGrpSpPr>
          <p:grpSpPr>
            <a:xfrm>
              <a:off x="3500640" y="1214640"/>
              <a:ext cx="5643360" cy="5643360"/>
              <a:chOff x="3500640" y="1214640"/>
              <a:chExt cx="5643360" cy="5643360"/>
            </a:xfrm>
          </p:grpSpPr>
          <p:grpSp>
            <p:nvGrpSpPr>
              <p:cNvPr id="716" name="Group 7"/>
              <p:cNvGrpSpPr/>
              <p:nvPr/>
            </p:nvGrpSpPr>
            <p:grpSpPr>
              <a:xfrm>
                <a:off x="6225840" y="1214640"/>
                <a:ext cx="147600" cy="5643360"/>
                <a:chOff x="6225840" y="1214640"/>
                <a:chExt cx="147600" cy="5643360"/>
              </a:xfrm>
            </p:grpSpPr>
            <p:sp>
              <p:nvSpPr>
                <p:cNvPr id="717" name="Line 8"/>
                <p:cNvSpPr/>
                <p:nvPr/>
              </p:nvSpPr>
              <p:spPr>
                <a:xfrm flipV="1">
                  <a:off x="6229080" y="1214640"/>
                  <a:ext cx="0" cy="564336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Group 9"/>
                <p:cNvGrpSpPr/>
                <p:nvPr/>
              </p:nvGrpSpPr>
              <p:grpSpPr>
                <a:xfrm>
                  <a:off x="6225840" y="4950360"/>
                  <a:ext cx="144360" cy="1654560"/>
                  <a:chOff x="6225840" y="4950360"/>
                  <a:chExt cx="144360" cy="1654560"/>
                </a:xfrm>
              </p:grpSpPr>
              <p:grpSp>
                <p:nvGrpSpPr>
                  <p:cNvPr id="719" name="Group 10"/>
                  <p:cNvGrpSpPr/>
                  <p:nvPr/>
                </p:nvGrpSpPr>
                <p:grpSpPr>
                  <a:xfrm>
                    <a:off x="6225840" y="5780160"/>
                    <a:ext cx="144360" cy="824760"/>
                    <a:chOff x="6225840" y="5780160"/>
                    <a:chExt cx="144360" cy="824760"/>
                  </a:xfrm>
                </p:grpSpPr>
                <p:grpSp>
                  <p:nvGrpSpPr>
                    <p:cNvPr id="720" name="Group 11"/>
                    <p:cNvGrpSpPr/>
                    <p:nvPr/>
                  </p:nvGrpSpPr>
                  <p:grpSpPr>
                    <a:xfrm>
                      <a:off x="6225840" y="6192360"/>
                      <a:ext cx="144360" cy="412560"/>
                      <a:chOff x="6225840" y="6192360"/>
                      <a:chExt cx="144360" cy="412560"/>
                    </a:xfrm>
                  </p:grpSpPr>
                  <p:sp>
                    <p:nvSpPr>
                      <p:cNvPr id="721" name="Line 12"/>
                      <p:cNvSpPr/>
                      <p:nvPr/>
                    </p:nvSpPr>
                    <p:spPr>
                      <a:xfrm>
                        <a:off x="6225840" y="660492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Line 13"/>
                      <p:cNvSpPr/>
                      <p:nvPr/>
                    </p:nvSpPr>
                    <p:spPr>
                      <a:xfrm>
                        <a:off x="6225840" y="61923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3" name="Group 14"/>
                    <p:cNvGrpSpPr/>
                    <p:nvPr/>
                  </p:nvGrpSpPr>
                  <p:grpSpPr>
                    <a:xfrm>
                      <a:off x="6225840" y="5780160"/>
                      <a:ext cx="144360" cy="412200"/>
                      <a:chOff x="6225840" y="5780160"/>
                      <a:chExt cx="144360" cy="412200"/>
                    </a:xfrm>
                  </p:grpSpPr>
                  <p:sp>
                    <p:nvSpPr>
                      <p:cNvPr id="724" name="Line 15"/>
                      <p:cNvSpPr/>
                      <p:nvPr/>
                    </p:nvSpPr>
                    <p:spPr>
                      <a:xfrm>
                        <a:off x="6225840" y="61923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5" name="Line 16"/>
                      <p:cNvSpPr/>
                      <p:nvPr/>
                    </p:nvSpPr>
                    <p:spPr>
                      <a:xfrm>
                        <a:off x="6225840" y="57801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26" name="Group 17"/>
                  <p:cNvGrpSpPr/>
                  <p:nvPr/>
                </p:nvGrpSpPr>
                <p:grpSpPr>
                  <a:xfrm>
                    <a:off x="6225840" y="4950360"/>
                    <a:ext cx="144360" cy="824760"/>
                    <a:chOff x="6225840" y="4950360"/>
                    <a:chExt cx="144360" cy="824760"/>
                  </a:xfrm>
                </p:grpSpPr>
                <p:grpSp>
                  <p:nvGrpSpPr>
                    <p:cNvPr id="727" name="Group 18"/>
                    <p:cNvGrpSpPr/>
                    <p:nvPr/>
                  </p:nvGrpSpPr>
                  <p:grpSpPr>
                    <a:xfrm>
                      <a:off x="6225840" y="5362560"/>
                      <a:ext cx="144360" cy="412560"/>
                      <a:chOff x="6225840" y="5362560"/>
                      <a:chExt cx="144360" cy="412560"/>
                    </a:xfrm>
                  </p:grpSpPr>
                  <p:sp>
                    <p:nvSpPr>
                      <p:cNvPr id="728" name="Line 19"/>
                      <p:cNvSpPr/>
                      <p:nvPr/>
                    </p:nvSpPr>
                    <p:spPr>
                      <a:xfrm>
                        <a:off x="6225840" y="577512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9" name="Line 20"/>
                      <p:cNvSpPr/>
                      <p:nvPr/>
                    </p:nvSpPr>
                    <p:spPr>
                      <a:xfrm>
                        <a:off x="6225840" y="53625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0" name="Group 21"/>
                    <p:cNvGrpSpPr/>
                    <p:nvPr/>
                  </p:nvGrpSpPr>
                  <p:grpSpPr>
                    <a:xfrm>
                      <a:off x="6225840" y="4950360"/>
                      <a:ext cx="144360" cy="412200"/>
                      <a:chOff x="6225840" y="4950360"/>
                      <a:chExt cx="144360" cy="412200"/>
                    </a:xfrm>
                  </p:grpSpPr>
                  <p:sp>
                    <p:nvSpPr>
                      <p:cNvPr id="731" name="Line 22"/>
                      <p:cNvSpPr/>
                      <p:nvPr/>
                    </p:nvSpPr>
                    <p:spPr>
                      <a:xfrm>
                        <a:off x="6225840" y="53625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Line 23"/>
                      <p:cNvSpPr/>
                      <p:nvPr/>
                    </p:nvSpPr>
                    <p:spPr>
                      <a:xfrm>
                        <a:off x="6225840" y="4950360"/>
                        <a:ext cx="144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3" name="Group 24"/>
                <p:cNvGrpSpPr/>
                <p:nvPr/>
              </p:nvGrpSpPr>
              <p:grpSpPr>
                <a:xfrm>
                  <a:off x="6229080" y="1650600"/>
                  <a:ext cx="144360" cy="3310920"/>
                  <a:chOff x="6229080" y="1650600"/>
                  <a:chExt cx="144360" cy="3310920"/>
                </a:xfrm>
              </p:grpSpPr>
              <p:grpSp>
                <p:nvGrpSpPr>
                  <p:cNvPr id="734" name="Group 25"/>
                  <p:cNvGrpSpPr/>
                  <p:nvPr/>
                </p:nvGrpSpPr>
                <p:grpSpPr>
                  <a:xfrm>
                    <a:off x="6229080" y="3306960"/>
                    <a:ext cx="144360" cy="1654560"/>
                    <a:chOff x="6229080" y="3306960"/>
                    <a:chExt cx="144360" cy="1654560"/>
                  </a:xfrm>
                </p:grpSpPr>
                <p:grpSp>
                  <p:nvGrpSpPr>
                    <p:cNvPr id="735" name="Group 26"/>
                    <p:cNvGrpSpPr/>
                    <p:nvPr/>
                  </p:nvGrpSpPr>
                  <p:grpSpPr>
                    <a:xfrm>
                      <a:off x="6229080" y="4136760"/>
                      <a:ext cx="144360" cy="824760"/>
                      <a:chOff x="6229080" y="4136760"/>
                      <a:chExt cx="144360" cy="824760"/>
                    </a:xfrm>
                  </p:grpSpPr>
                  <p:grpSp>
                    <p:nvGrpSpPr>
                      <p:cNvPr id="736" name="Group 27"/>
                      <p:cNvGrpSpPr/>
                      <p:nvPr/>
                    </p:nvGrpSpPr>
                    <p:grpSpPr>
                      <a:xfrm>
                        <a:off x="6229080" y="4548960"/>
                        <a:ext cx="144360" cy="412560"/>
                        <a:chOff x="6229080" y="4548960"/>
                        <a:chExt cx="144360" cy="412560"/>
                      </a:xfrm>
                    </p:grpSpPr>
                    <p:sp>
                      <p:nvSpPr>
                        <p:cNvPr id="737" name="Line 28"/>
                        <p:cNvSpPr/>
                        <p:nvPr/>
                      </p:nvSpPr>
                      <p:spPr>
                        <a:xfrm>
                          <a:off x="6229080" y="496152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Line 29"/>
                        <p:cNvSpPr/>
                        <p:nvPr/>
                      </p:nvSpPr>
                      <p:spPr>
                        <a:xfrm>
                          <a:off x="6229080" y="45489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9" name="Group 30"/>
                      <p:cNvGrpSpPr/>
                      <p:nvPr/>
                    </p:nvGrpSpPr>
                    <p:grpSpPr>
                      <a:xfrm>
                        <a:off x="6229080" y="4136760"/>
                        <a:ext cx="144360" cy="412200"/>
                        <a:chOff x="6229080" y="4136760"/>
                        <a:chExt cx="144360" cy="412200"/>
                      </a:xfrm>
                    </p:grpSpPr>
                    <p:sp>
                      <p:nvSpPr>
                        <p:cNvPr id="740" name="Line 31"/>
                        <p:cNvSpPr/>
                        <p:nvPr/>
                      </p:nvSpPr>
                      <p:spPr>
                        <a:xfrm>
                          <a:off x="6229080" y="45489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1" name="Line 32"/>
                        <p:cNvSpPr/>
                        <p:nvPr/>
                      </p:nvSpPr>
                      <p:spPr>
                        <a:xfrm>
                          <a:off x="6229080" y="41367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42" name="Group 33"/>
                    <p:cNvGrpSpPr/>
                    <p:nvPr/>
                  </p:nvGrpSpPr>
                  <p:grpSpPr>
                    <a:xfrm>
                      <a:off x="6229080" y="3306960"/>
                      <a:ext cx="144360" cy="824760"/>
                      <a:chOff x="6229080" y="3306960"/>
                      <a:chExt cx="144360" cy="824760"/>
                    </a:xfrm>
                  </p:grpSpPr>
                  <p:grpSp>
                    <p:nvGrpSpPr>
                      <p:cNvPr id="743" name="Group 34"/>
                      <p:cNvGrpSpPr/>
                      <p:nvPr/>
                    </p:nvGrpSpPr>
                    <p:grpSpPr>
                      <a:xfrm>
                        <a:off x="6229080" y="3719160"/>
                        <a:ext cx="144360" cy="412560"/>
                        <a:chOff x="6229080" y="3719160"/>
                        <a:chExt cx="144360" cy="412560"/>
                      </a:xfrm>
                    </p:grpSpPr>
                    <p:sp>
                      <p:nvSpPr>
                        <p:cNvPr id="744" name="Line 35"/>
                        <p:cNvSpPr/>
                        <p:nvPr/>
                      </p:nvSpPr>
                      <p:spPr>
                        <a:xfrm>
                          <a:off x="6229080" y="413172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Line 36"/>
                        <p:cNvSpPr/>
                        <p:nvPr/>
                      </p:nvSpPr>
                      <p:spPr>
                        <a:xfrm>
                          <a:off x="6229080" y="37191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46" name="Group 37"/>
                      <p:cNvGrpSpPr/>
                      <p:nvPr/>
                    </p:nvGrpSpPr>
                    <p:grpSpPr>
                      <a:xfrm>
                        <a:off x="6229080" y="3306960"/>
                        <a:ext cx="144360" cy="412200"/>
                        <a:chOff x="6229080" y="3306960"/>
                        <a:chExt cx="144360" cy="412200"/>
                      </a:xfrm>
                    </p:grpSpPr>
                    <p:sp>
                      <p:nvSpPr>
                        <p:cNvPr id="747" name="Line 38"/>
                        <p:cNvSpPr/>
                        <p:nvPr/>
                      </p:nvSpPr>
                      <p:spPr>
                        <a:xfrm>
                          <a:off x="6229080" y="37191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8" name="Line 39"/>
                        <p:cNvSpPr/>
                        <p:nvPr/>
                      </p:nvSpPr>
                      <p:spPr>
                        <a:xfrm>
                          <a:off x="6229080" y="33069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49" name="Group 40"/>
                  <p:cNvGrpSpPr/>
                  <p:nvPr/>
                </p:nvGrpSpPr>
                <p:grpSpPr>
                  <a:xfrm>
                    <a:off x="6229080" y="1650600"/>
                    <a:ext cx="144360" cy="1655640"/>
                    <a:chOff x="6229080" y="1650600"/>
                    <a:chExt cx="144360" cy="1655640"/>
                  </a:xfrm>
                </p:grpSpPr>
                <p:grpSp>
                  <p:nvGrpSpPr>
                    <p:cNvPr id="750" name="Group 41"/>
                    <p:cNvGrpSpPr/>
                    <p:nvPr/>
                  </p:nvGrpSpPr>
                  <p:grpSpPr>
                    <a:xfrm>
                      <a:off x="6229080" y="2480760"/>
                      <a:ext cx="144360" cy="825480"/>
                      <a:chOff x="6229080" y="2480760"/>
                      <a:chExt cx="144360" cy="825480"/>
                    </a:xfrm>
                  </p:grpSpPr>
                  <p:grpSp>
                    <p:nvGrpSpPr>
                      <p:cNvPr id="751" name="Group 42"/>
                      <p:cNvGrpSpPr/>
                      <p:nvPr/>
                    </p:nvGrpSpPr>
                    <p:grpSpPr>
                      <a:xfrm>
                        <a:off x="6229080" y="2893320"/>
                        <a:ext cx="144360" cy="412920"/>
                        <a:chOff x="6229080" y="2893320"/>
                        <a:chExt cx="144360" cy="412920"/>
                      </a:xfrm>
                    </p:grpSpPr>
                    <p:sp>
                      <p:nvSpPr>
                        <p:cNvPr id="752" name="Line 43"/>
                        <p:cNvSpPr/>
                        <p:nvPr/>
                      </p:nvSpPr>
                      <p:spPr>
                        <a:xfrm>
                          <a:off x="6229080" y="330624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3" name="Line 44"/>
                        <p:cNvSpPr/>
                        <p:nvPr/>
                      </p:nvSpPr>
                      <p:spPr>
                        <a:xfrm>
                          <a:off x="6229080" y="289332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54" name="Group 45"/>
                      <p:cNvGrpSpPr/>
                      <p:nvPr/>
                    </p:nvGrpSpPr>
                    <p:grpSpPr>
                      <a:xfrm>
                        <a:off x="6229080" y="2480760"/>
                        <a:ext cx="144360" cy="412560"/>
                        <a:chOff x="6229080" y="2480760"/>
                        <a:chExt cx="144360" cy="412560"/>
                      </a:xfrm>
                    </p:grpSpPr>
                    <p:sp>
                      <p:nvSpPr>
                        <p:cNvPr id="755" name="Line 46"/>
                        <p:cNvSpPr/>
                        <p:nvPr/>
                      </p:nvSpPr>
                      <p:spPr>
                        <a:xfrm>
                          <a:off x="6229080" y="289332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Line 47"/>
                        <p:cNvSpPr/>
                        <p:nvPr/>
                      </p:nvSpPr>
                      <p:spPr>
                        <a:xfrm>
                          <a:off x="6229080" y="24807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7" name="Group 48"/>
                    <p:cNvGrpSpPr/>
                    <p:nvPr/>
                  </p:nvGrpSpPr>
                  <p:grpSpPr>
                    <a:xfrm>
                      <a:off x="6229080" y="1650600"/>
                      <a:ext cx="144360" cy="825480"/>
                      <a:chOff x="6229080" y="1650600"/>
                      <a:chExt cx="144360" cy="825480"/>
                    </a:xfrm>
                  </p:grpSpPr>
                  <p:grpSp>
                    <p:nvGrpSpPr>
                      <p:cNvPr id="758" name="Group 49"/>
                      <p:cNvGrpSpPr/>
                      <p:nvPr/>
                    </p:nvGrpSpPr>
                    <p:grpSpPr>
                      <a:xfrm>
                        <a:off x="6229080" y="2063160"/>
                        <a:ext cx="144360" cy="412920"/>
                        <a:chOff x="6229080" y="2063160"/>
                        <a:chExt cx="144360" cy="412920"/>
                      </a:xfrm>
                    </p:grpSpPr>
                    <p:sp>
                      <p:nvSpPr>
                        <p:cNvPr id="759" name="Line 50"/>
                        <p:cNvSpPr/>
                        <p:nvPr/>
                      </p:nvSpPr>
                      <p:spPr>
                        <a:xfrm>
                          <a:off x="6229080" y="247608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Line 51"/>
                        <p:cNvSpPr/>
                        <p:nvPr/>
                      </p:nvSpPr>
                      <p:spPr>
                        <a:xfrm>
                          <a:off x="6229080" y="20631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61" name="Group 52"/>
                      <p:cNvGrpSpPr/>
                      <p:nvPr/>
                    </p:nvGrpSpPr>
                    <p:grpSpPr>
                      <a:xfrm>
                        <a:off x="6229080" y="1650600"/>
                        <a:ext cx="144360" cy="412560"/>
                        <a:chOff x="6229080" y="1650600"/>
                        <a:chExt cx="144360" cy="412560"/>
                      </a:xfrm>
                    </p:grpSpPr>
                    <p:sp>
                      <p:nvSpPr>
                        <p:cNvPr id="762" name="Line 53"/>
                        <p:cNvSpPr/>
                        <p:nvPr/>
                      </p:nvSpPr>
                      <p:spPr>
                        <a:xfrm>
                          <a:off x="6229080" y="206316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3" name="Line 54"/>
                        <p:cNvSpPr/>
                        <p:nvPr/>
                      </p:nvSpPr>
                      <p:spPr>
                        <a:xfrm>
                          <a:off x="6229080" y="1650600"/>
                          <a:ext cx="1443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64" name="Group 55"/>
              <p:cNvGrpSpPr/>
              <p:nvPr/>
            </p:nvGrpSpPr>
            <p:grpSpPr>
              <a:xfrm>
                <a:off x="3500640" y="3987720"/>
                <a:ext cx="5643360" cy="146880"/>
                <a:chOff x="3500640" y="3987720"/>
                <a:chExt cx="5643360" cy="146880"/>
              </a:xfrm>
            </p:grpSpPr>
            <p:sp>
              <p:nvSpPr>
                <p:cNvPr id="765" name="Line 56"/>
                <p:cNvSpPr/>
                <p:nvPr/>
              </p:nvSpPr>
              <p:spPr>
                <a:xfrm>
                  <a:off x="3500640" y="4131720"/>
                  <a:ext cx="564336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6" name="Group 57"/>
                <p:cNvGrpSpPr/>
                <p:nvPr/>
              </p:nvGrpSpPr>
              <p:grpSpPr>
                <a:xfrm>
                  <a:off x="3753720" y="3990600"/>
                  <a:ext cx="1654560" cy="144000"/>
                  <a:chOff x="3753720" y="3990600"/>
                  <a:chExt cx="1654560" cy="144000"/>
                </a:xfrm>
              </p:grpSpPr>
              <p:grpSp>
                <p:nvGrpSpPr>
                  <p:cNvPr id="767" name="Group 58"/>
                  <p:cNvGrpSpPr/>
                  <p:nvPr/>
                </p:nvGrpSpPr>
                <p:grpSpPr>
                  <a:xfrm>
                    <a:off x="3753720" y="3990600"/>
                    <a:ext cx="824760" cy="144000"/>
                    <a:chOff x="3753720" y="3990600"/>
                    <a:chExt cx="824760" cy="144000"/>
                  </a:xfrm>
                </p:grpSpPr>
                <p:grpSp>
                  <p:nvGrpSpPr>
                    <p:cNvPr id="768" name="Group 59"/>
                    <p:cNvGrpSpPr/>
                    <p:nvPr/>
                  </p:nvGrpSpPr>
                  <p:grpSpPr>
                    <a:xfrm>
                      <a:off x="3753720" y="3990600"/>
                      <a:ext cx="412560" cy="144000"/>
                      <a:chOff x="3753720" y="3990600"/>
                      <a:chExt cx="412560" cy="144000"/>
                    </a:xfrm>
                  </p:grpSpPr>
                  <p:sp>
                    <p:nvSpPr>
                      <p:cNvPr id="769" name="Line 60"/>
                      <p:cNvSpPr/>
                      <p:nvPr/>
                    </p:nvSpPr>
                    <p:spPr>
                      <a:xfrm flipV="1">
                        <a:off x="375372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Line 61"/>
                      <p:cNvSpPr/>
                      <p:nvPr/>
                    </p:nvSpPr>
                    <p:spPr>
                      <a:xfrm flipV="1">
                        <a:off x="41662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1" name="Group 62"/>
                    <p:cNvGrpSpPr/>
                    <p:nvPr/>
                  </p:nvGrpSpPr>
                  <p:grpSpPr>
                    <a:xfrm>
                      <a:off x="4166280" y="3990600"/>
                      <a:ext cx="412200" cy="144000"/>
                      <a:chOff x="4166280" y="3990600"/>
                      <a:chExt cx="412200" cy="144000"/>
                    </a:xfrm>
                  </p:grpSpPr>
                  <p:sp>
                    <p:nvSpPr>
                      <p:cNvPr id="772" name="Line 63"/>
                      <p:cNvSpPr/>
                      <p:nvPr/>
                    </p:nvSpPr>
                    <p:spPr>
                      <a:xfrm flipV="1">
                        <a:off x="41662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Line 64"/>
                      <p:cNvSpPr/>
                      <p:nvPr/>
                    </p:nvSpPr>
                    <p:spPr>
                      <a:xfrm flipV="1">
                        <a:off x="45784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74" name="Group 65"/>
                  <p:cNvGrpSpPr/>
                  <p:nvPr/>
                </p:nvGrpSpPr>
                <p:grpSpPr>
                  <a:xfrm>
                    <a:off x="4583520" y="3990600"/>
                    <a:ext cx="824760" cy="144000"/>
                    <a:chOff x="4583520" y="3990600"/>
                    <a:chExt cx="824760" cy="144000"/>
                  </a:xfrm>
                </p:grpSpPr>
                <p:grpSp>
                  <p:nvGrpSpPr>
                    <p:cNvPr id="775" name="Group 66"/>
                    <p:cNvGrpSpPr/>
                    <p:nvPr/>
                  </p:nvGrpSpPr>
                  <p:grpSpPr>
                    <a:xfrm>
                      <a:off x="4583520" y="3990600"/>
                      <a:ext cx="412560" cy="144000"/>
                      <a:chOff x="4583520" y="3990600"/>
                      <a:chExt cx="412560" cy="144000"/>
                    </a:xfrm>
                  </p:grpSpPr>
                  <p:sp>
                    <p:nvSpPr>
                      <p:cNvPr id="776" name="Line 67"/>
                      <p:cNvSpPr/>
                      <p:nvPr/>
                    </p:nvSpPr>
                    <p:spPr>
                      <a:xfrm flipV="1">
                        <a:off x="458352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Line 68"/>
                      <p:cNvSpPr/>
                      <p:nvPr/>
                    </p:nvSpPr>
                    <p:spPr>
                      <a:xfrm flipV="1">
                        <a:off x="49960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8" name="Group 69"/>
                    <p:cNvGrpSpPr/>
                    <p:nvPr/>
                  </p:nvGrpSpPr>
                  <p:grpSpPr>
                    <a:xfrm>
                      <a:off x="4996080" y="3990600"/>
                      <a:ext cx="412200" cy="144000"/>
                      <a:chOff x="4996080" y="3990600"/>
                      <a:chExt cx="412200" cy="144000"/>
                    </a:xfrm>
                  </p:grpSpPr>
                  <p:sp>
                    <p:nvSpPr>
                      <p:cNvPr id="779" name="Line 70"/>
                      <p:cNvSpPr/>
                      <p:nvPr/>
                    </p:nvSpPr>
                    <p:spPr>
                      <a:xfrm flipV="1">
                        <a:off x="49960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Line 71"/>
                      <p:cNvSpPr/>
                      <p:nvPr/>
                    </p:nvSpPr>
                    <p:spPr>
                      <a:xfrm flipV="1">
                        <a:off x="5408280" y="3990600"/>
                        <a:ext cx="0" cy="144000"/>
                      </a:xfrm>
                      <a:prstGeom prst="line">
                        <a:avLst/>
                      </a:prstGeom>
                      <a:ln w="38160">
                        <a:solidFill>
                          <a:srgbClr val="0000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1" name="Group 72"/>
                <p:cNvGrpSpPr/>
                <p:nvPr/>
              </p:nvGrpSpPr>
              <p:grpSpPr>
                <a:xfrm>
                  <a:off x="5397120" y="3987720"/>
                  <a:ext cx="3310920" cy="144000"/>
                  <a:chOff x="5397120" y="3987720"/>
                  <a:chExt cx="3310920" cy="144000"/>
                </a:xfrm>
              </p:grpSpPr>
              <p:grpSp>
                <p:nvGrpSpPr>
                  <p:cNvPr id="782" name="Group 73"/>
                  <p:cNvGrpSpPr/>
                  <p:nvPr/>
                </p:nvGrpSpPr>
                <p:grpSpPr>
                  <a:xfrm>
                    <a:off x="5397120" y="3987720"/>
                    <a:ext cx="1654560" cy="144000"/>
                    <a:chOff x="5397120" y="3987720"/>
                    <a:chExt cx="1654560" cy="144000"/>
                  </a:xfrm>
                </p:grpSpPr>
                <p:grpSp>
                  <p:nvGrpSpPr>
                    <p:cNvPr id="783" name="Group 74"/>
                    <p:cNvGrpSpPr/>
                    <p:nvPr/>
                  </p:nvGrpSpPr>
                  <p:grpSpPr>
                    <a:xfrm>
                      <a:off x="5397120" y="3987720"/>
                      <a:ext cx="824760" cy="144000"/>
                      <a:chOff x="5397120" y="3987720"/>
                      <a:chExt cx="824760" cy="144000"/>
                    </a:xfrm>
                  </p:grpSpPr>
                  <p:grpSp>
                    <p:nvGrpSpPr>
                      <p:cNvPr id="784" name="Group 75"/>
                      <p:cNvGrpSpPr/>
                      <p:nvPr/>
                    </p:nvGrpSpPr>
                    <p:grpSpPr>
                      <a:xfrm>
                        <a:off x="5397120" y="3987720"/>
                        <a:ext cx="412560" cy="144000"/>
                        <a:chOff x="5397120" y="3987720"/>
                        <a:chExt cx="412560" cy="144000"/>
                      </a:xfrm>
                    </p:grpSpPr>
                    <p:sp>
                      <p:nvSpPr>
                        <p:cNvPr id="785" name="Line 76"/>
                        <p:cNvSpPr/>
                        <p:nvPr/>
                      </p:nvSpPr>
                      <p:spPr>
                        <a:xfrm flipV="1">
                          <a:off x="539712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Line 77"/>
                        <p:cNvSpPr/>
                        <p:nvPr/>
                      </p:nvSpPr>
                      <p:spPr>
                        <a:xfrm flipV="1">
                          <a:off x="58096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7" name="Group 78"/>
                      <p:cNvGrpSpPr/>
                      <p:nvPr/>
                    </p:nvGrpSpPr>
                    <p:grpSpPr>
                      <a:xfrm>
                        <a:off x="5809680" y="3987720"/>
                        <a:ext cx="412200" cy="144000"/>
                        <a:chOff x="5809680" y="3987720"/>
                        <a:chExt cx="412200" cy="144000"/>
                      </a:xfrm>
                    </p:grpSpPr>
                    <p:sp>
                      <p:nvSpPr>
                        <p:cNvPr id="788" name="Line 79"/>
                        <p:cNvSpPr/>
                        <p:nvPr/>
                      </p:nvSpPr>
                      <p:spPr>
                        <a:xfrm flipV="1">
                          <a:off x="58096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9" name="Line 80"/>
                        <p:cNvSpPr/>
                        <p:nvPr/>
                      </p:nvSpPr>
                      <p:spPr>
                        <a:xfrm flipV="1">
                          <a:off x="62218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90" name="Group 81"/>
                    <p:cNvGrpSpPr/>
                    <p:nvPr/>
                  </p:nvGrpSpPr>
                  <p:grpSpPr>
                    <a:xfrm>
                      <a:off x="6226920" y="3987720"/>
                      <a:ext cx="824760" cy="144000"/>
                      <a:chOff x="6226920" y="3987720"/>
                      <a:chExt cx="824760" cy="144000"/>
                    </a:xfrm>
                  </p:grpSpPr>
                  <p:grpSp>
                    <p:nvGrpSpPr>
                      <p:cNvPr id="791" name="Group 82"/>
                      <p:cNvGrpSpPr/>
                      <p:nvPr/>
                    </p:nvGrpSpPr>
                    <p:grpSpPr>
                      <a:xfrm>
                        <a:off x="6226920" y="3987720"/>
                        <a:ext cx="412560" cy="144000"/>
                        <a:chOff x="6226920" y="3987720"/>
                        <a:chExt cx="412560" cy="144000"/>
                      </a:xfrm>
                    </p:grpSpPr>
                    <p:sp>
                      <p:nvSpPr>
                        <p:cNvPr id="792" name="Line 83"/>
                        <p:cNvSpPr/>
                        <p:nvPr/>
                      </p:nvSpPr>
                      <p:spPr>
                        <a:xfrm flipV="1">
                          <a:off x="622692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3" name="Line 84"/>
                        <p:cNvSpPr/>
                        <p:nvPr/>
                      </p:nvSpPr>
                      <p:spPr>
                        <a:xfrm flipV="1">
                          <a:off x="66394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4" name="Group 85"/>
                      <p:cNvGrpSpPr/>
                      <p:nvPr/>
                    </p:nvGrpSpPr>
                    <p:grpSpPr>
                      <a:xfrm>
                        <a:off x="6639480" y="3987720"/>
                        <a:ext cx="412200" cy="144000"/>
                        <a:chOff x="6639480" y="3987720"/>
                        <a:chExt cx="412200" cy="144000"/>
                      </a:xfrm>
                    </p:grpSpPr>
                    <p:sp>
                      <p:nvSpPr>
                        <p:cNvPr id="795" name="Line 86"/>
                        <p:cNvSpPr/>
                        <p:nvPr/>
                      </p:nvSpPr>
                      <p:spPr>
                        <a:xfrm flipV="1">
                          <a:off x="66394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6" name="Line 87"/>
                        <p:cNvSpPr/>
                        <p:nvPr/>
                      </p:nvSpPr>
                      <p:spPr>
                        <a:xfrm flipV="1">
                          <a:off x="70516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97" name="Group 88"/>
                  <p:cNvGrpSpPr/>
                  <p:nvPr/>
                </p:nvGrpSpPr>
                <p:grpSpPr>
                  <a:xfrm>
                    <a:off x="7052400" y="3987720"/>
                    <a:ext cx="1655640" cy="144000"/>
                    <a:chOff x="7052400" y="3987720"/>
                    <a:chExt cx="1655640" cy="144000"/>
                  </a:xfrm>
                </p:grpSpPr>
                <p:grpSp>
                  <p:nvGrpSpPr>
                    <p:cNvPr id="798" name="Group 89"/>
                    <p:cNvGrpSpPr/>
                    <p:nvPr/>
                  </p:nvGrpSpPr>
                  <p:grpSpPr>
                    <a:xfrm>
                      <a:off x="7052400" y="3987720"/>
                      <a:ext cx="825480" cy="144000"/>
                      <a:chOff x="7052400" y="3987720"/>
                      <a:chExt cx="825480" cy="144000"/>
                    </a:xfrm>
                  </p:grpSpPr>
                  <p:grpSp>
                    <p:nvGrpSpPr>
                      <p:cNvPr id="799" name="Group 90"/>
                      <p:cNvGrpSpPr/>
                      <p:nvPr/>
                    </p:nvGrpSpPr>
                    <p:grpSpPr>
                      <a:xfrm>
                        <a:off x="7052400" y="3987720"/>
                        <a:ext cx="412920" cy="144000"/>
                        <a:chOff x="7052400" y="3987720"/>
                        <a:chExt cx="412920" cy="144000"/>
                      </a:xfrm>
                    </p:grpSpPr>
                    <p:sp>
                      <p:nvSpPr>
                        <p:cNvPr id="800" name="Line 91"/>
                        <p:cNvSpPr/>
                        <p:nvPr/>
                      </p:nvSpPr>
                      <p:spPr>
                        <a:xfrm flipV="1">
                          <a:off x="705240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1" name="Line 92"/>
                        <p:cNvSpPr/>
                        <p:nvPr/>
                      </p:nvSpPr>
                      <p:spPr>
                        <a:xfrm flipV="1">
                          <a:off x="746532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2" name="Group 93"/>
                      <p:cNvGrpSpPr/>
                      <p:nvPr/>
                    </p:nvGrpSpPr>
                    <p:grpSpPr>
                      <a:xfrm>
                        <a:off x="7465320" y="3987720"/>
                        <a:ext cx="412560" cy="144000"/>
                        <a:chOff x="7465320" y="3987720"/>
                        <a:chExt cx="412560" cy="144000"/>
                      </a:xfrm>
                    </p:grpSpPr>
                    <p:sp>
                      <p:nvSpPr>
                        <p:cNvPr id="803" name="Line 94"/>
                        <p:cNvSpPr/>
                        <p:nvPr/>
                      </p:nvSpPr>
                      <p:spPr>
                        <a:xfrm flipV="1">
                          <a:off x="746532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4" name="Line 95"/>
                        <p:cNvSpPr/>
                        <p:nvPr/>
                      </p:nvSpPr>
                      <p:spPr>
                        <a:xfrm flipV="1">
                          <a:off x="78778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5" name="Group 96"/>
                    <p:cNvGrpSpPr/>
                    <p:nvPr/>
                  </p:nvGrpSpPr>
                  <p:grpSpPr>
                    <a:xfrm>
                      <a:off x="7882560" y="3987720"/>
                      <a:ext cx="825480" cy="144000"/>
                      <a:chOff x="7882560" y="3987720"/>
                      <a:chExt cx="825480" cy="144000"/>
                    </a:xfrm>
                  </p:grpSpPr>
                  <p:grpSp>
                    <p:nvGrpSpPr>
                      <p:cNvPr id="806" name="Group 97"/>
                      <p:cNvGrpSpPr/>
                      <p:nvPr/>
                    </p:nvGrpSpPr>
                    <p:grpSpPr>
                      <a:xfrm>
                        <a:off x="7882560" y="3987720"/>
                        <a:ext cx="412920" cy="144000"/>
                        <a:chOff x="7882560" y="3987720"/>
                        <a:chExt cx="412920" cy="144000"/>
                      </a:xfrm>
                    </p:grpSpPr>
                    <p:sp>
                      <p:nvSpPr>
                        <p:cNvPr id="807" name="Line 98"/>
                        <p:cNvSpPr/>
                        <p:nvPr/>
                      </p:nvSpPr>
                      <p:spPr>
                        <a:xfrm flipV="1">
                          <a:off x="788256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8" name="Line 99"/>
                        <p:cNvSpPr/>
                        <p:nvPr/>
                      </p:nvSpPr>
                      <p:spPr>
                        <a:xfrm flipV="1">
                          <a:off x="82954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09" name="Group 100"/>
                      <p:cNvGrpSpPr/>
                      <p:nvPr/>
                    </p:nvGrpSpPr>
                    <p:grpSpPr>
                      <a:xfrm>
                        <a:off x="8295480" y="3987720"/>
                        <a:ext cx="412560" cy="144000"/>
                        <a:chOff x="8295480" y="3987720"/>
                        <a:chExt cx="412560" cy="144000"/>
                      </a:xfrm>
                    </p:grpSpPr>
                    <p:sp>
                      <p:nvSpPr>
                        <p:cNvPr id="810" name="Line 101"/>
                        <p:cNvSpPr/>
                        <p:nvPr/>
                      </p:nvSpPr>
                      <p:spPr>
                        <a:xfrm flipV="1">
                          <a:off x="829548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1" name="Line 102"/>
                        <p:cNvSpPr/>
                        <p:nvPr/>
                      </p:nvSpPr>
                      <p:spPr>
                        <a:xfrm flipV="1">
                          <a:off x="8708040" y="3987720"/>
                          <a:ext cx="0" cy="14400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40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812" name="Text Box 103"/>
            <p:cNvSpPr/>
            <p:nvPr/>
          </p:nvSpPr>
          <p:spPr>
            <a:xfrm>
              <a:off x="8707680" y="405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Text Box 104"/>
            <p:cNvSpPr/>
            <p:nvPr/>
          </p:nvSpPr>
          <p:spPr>
            <a:xfrm>
              <a:off x="5869440" y="10526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105"/>
            <p:cNvSpPr/>
            <p:nvPr/>
          </p:nvSpPr>
          <p:spPr>
            <a:xfrm>
              <a:off x="5816880" y="4000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106"/>
            <p:cNvSpPr/>
            <p:nvPr/>
          </p:nvSpPr>
          <p:spPr>
            <a:xfrm>
              <a:off x="5510160" y="40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Rectangle 107"/>
            <p:cNvSpPr/>
            <p:nvPr/>
          </p:nvSpPr>
          <p:spPr>
            <a:xfrm>
              <a:off x="5078520" y="40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108"/>
            <p:cNvSpPr/>
            <p:nvPr/>
          </p:nvSpPr>
          <p:spPr>
            <a:xfrm>
              <a:off x="4683240" y="40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109"/>
            <p:cNvSpPr/>
            <p:nvPr/>
          </p:nvSpPr>
          <p:spPr>
            <a:xfrm>
              <a:off x="4267080" y="40816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4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Rectangle 110"/>
            <p:cNvSpPr/>
            <p:nvPr/>
          </p:nvSpPr>
          <p:spPr>
            <a:xfrm>
              <a:off x="3852720" y="40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5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111"/>
            <p:cNvSpPr/>
            <p:nvPr/>
          </p:nvSpPr>
          <p:spPr>
            <a:xfrm>
              <a:off x="3444840" y="40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6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112"/>
            <p:cNvSpPr/>
            <p:nvPr/>
          </p:nvSpPr>
          <p:spPr>
            <a:xfrm>
              <a:off x="6459480" y="406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113"/>
            <p:cNvSpPr/>
            <p:nvPr/>
          </p:nvSpPr>
          <p:spPr>
            <a:xfrm>
              <a:off x="6878520" y="407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114"/>
            <p:cNvSpPr/>
            <p:nvPr/>
          </p:nvSpPr>
          <p:spPr>
            <a:xfrm>
              <a:off x="7275600" y="407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115"/>
            <p:cNvSpPr/>
            <p:nvPr/>
          </p:nvSpPr>
          <p:spPr>
            <a:xfrm>
              <a:off x="7704000" y="4062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116"/>
            <p:cNvSpPr/>
            <p:nvPr/>
          </p:nvSpPr>
          <p:spPr>
            <a:xfrm>
              <a:off x="8097840" y="405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Rectangle 117"/>
            <p:cNvSpPr/>
            <p:nvPr/>
          </p:nvSpPr>
          <p:spPr>
            <a:xfrm>
              <a:off x="8461440" y="407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118"/>
            <p:cNvSpPr/>
            <p:nvPr/>
          </p:nvSpPr>
          <p:spPr>
            <a:xfrm>
              <a:off x="5869080" y="3429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119"/>
            <p:cNvSpPr/>
            <p:nvPr/>
          </p:nvSpPr>
          <p:spPr>
            <a:xfrm>
              <a:off x="5869080" y="306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120"/>
            <p:cNvSpPr/>
            <p:nvPr/>
          </p:nvSpPr>
          <p:spPr>
            <a:xfrm>
              <a:off x="5869080" y="263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Rectangle 121"/>
            <p:cNvSpPr/>
            <p:nvPr/>
          </p:nvSpPr>
          <p:spPr>
            <a:xfrm>
              <a:off x="5869080" y="220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122"/>
            <p:cNvSpPr/>
            <p:nvPr/>
          </p:nvSpPr>
          <p:spPr>
            <a:xfrm>
              <a:off x="5869080" y="1806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123"/>
            <p:cNvSpPr/>
            <p:nvPr/>
          </p:nvSpPr>
          <p:spPr>
            <a:xfrm>
              <a:off x="5869080" y="141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Rectangle 124"/>
            <p:cNvSpPr/>
            <p:nvPr/>
          </p:nvSpPr>
          <p:spPr>
            <a:xfrm>
              <a:off x="5764320" y="43084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Rectangle 125"/>
            <p:cNvSpPr/>
            <p:nvPr/>
          </p:nvSpPr>
          <p:spPr>
            <a:xfrm>
              <a:off x="5764320" y="4653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Rectangle 126"/>
            <p:cNvSpPr/>
            <p:nvPr/>
          </p:nvSpPr>
          <p:spPr>
            <a:xfrm>
              <a:off x="5759280" y="50659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127"/>
            <p:cNvSpPr/>
            <p:nvPr/>
          </p:nvSpPr>
          <p:spPr>
            <a:xfrm>
              <a:off x="5764320" y="55166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4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128"/>
            <p:cNvSpPr/>
            <p:nvPr/>
          </p:nvSpPr>
          <p:spPr>
            <a:xfrm>
              <a:off x="5778360" y="5877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5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Rectangle 129"/>
            <p:cNvSpPr/>
            <p:nvPr/>
          </p:nvSpPr>
          <p:spPr>
            <a:xfrm>
              <a:off x="5764320" y="633888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-6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Group 130"/>
          <p:cNvGrpSpPr/>
          <p:nvPr/>
        </p:nvGrpSpPr>
        <p:grpSpPr>
          <a:xfrm>
            <a:off x="4141440" y="1700280"/>
            <a:ext cx="1843200" cy="2381760"/>
            <a:chOff x="4141440" y="1700280"/>
            <a:chExt cx="1843200" cy="2381760"/>
          </a:xfrm>
        </p:grpSpPr>
        <p:grpSp>
          <p:nvGrpSpPr>
            <p:cNvPr id="840" name="Group 131"/>
            <p:cNvGrpSpPr/>
            <p:nvPr/>
          </p:nvGrpSpPr>
          <p:grpSpPr>
            <a:xfrm>
              <a:off x="4571640" y="2060640"/>
              <a:ext cx="1257120" cy="1673280"/>
              <a:chOff x="4571640" y="2060640"/>
              <a:chExt cx="1257120" cy="1673280"/>
            </a:xfrm>
          </p:grpSpPr>
          <p:sp>
            <p:nvSpPr>
              <p:cNvPr id="841" name="未知"/>
              <p:cNvSpPr/>
              <p:nvPr/>
            </p:nvSpPr>
            <p:spPr>
              <a:xfrm>
                <a:off x="4571640" y="2060640"/>
                <a:ext cx="837720" cy="167328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1673280"/>
                  <a:gd name="textAreaBottom" fmla="*/ 1673640 h 1673280"/>
                </a:gdLst>
                <a:ahLst/>
                <a:rect l="textAreaLeft" t="textAreaTop" r="textAreaRight" b="textAreaBottom"/>
                <a:pathLst>
                  <a:path w="528" h="1054">
                    <a:moveTo>
                      <a:pt x="0" y="0"/>
                    </a:moveTo>
                    <a:lnTo>
                      <a:pt x="528" y="1054"/>
                    </a:ln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4571640" y="2076480"/>
                <a:ext cx="1257120" cy="3999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792" h="252">
                    <a:moveTo>
                      <a:pt x="0" y="0"/>
                    </a:moveTo>
                    <a:lnTo>
                      <a:pt x="792" y="252"/>
                    </a:ln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5409360" y="2457360"/>
                <a:ext cx="419040" cy="12384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238400"/>
                  <a:gd name="textAreaBottom" fmla="*/ 1238760 h 1238400"/>
                </a:gdLst>
                <a:ahLst/>
                <a:rect l="textAreaLeft" t="textAreaTop" r="textAreaRight" b="textAreaBottom"/>
                <a:pathLst>
                  <a:path w="264" h="780">
                    <a:moveTo>
                      <a:pt x="264" y="0"/>
                    </a:moveTo>
                    <a:lnTo>
                      <a:pt x="0" y="780"/>
                    </a:ln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4" name="Rectangle 135"/>
            <p:cNvSpPr/>
            <p:nvPr/>
          </p:nvSpPr>
          <p:spPr>
            <a:xfrm>
              <a:off x="5509800" y="1916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136"/>
            <p:cNvSpPr/>
            <p:nvPr/>
          </p:nvSpPr>
          <p:spPr>
            <a:xfrm>
              <a:off x="4141440" y="17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137"/>
            <p:cNvSpPr/>
            <p:nvPr/>
          </p:nvSpPr>
          <p:spPr>
            <a:xfrm>
              <a:off x="4933440" y="3500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1050480" y="1052640"/>
            <a:ext cx="6328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,-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-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称的点的坐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   (2,-2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   (1,-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    (-4,-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    (-1,-1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344808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用坐标表示轴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3"/>
          <p:cNvSpPr/>
          <p:nvPr/>
        </p:nvSpPr>
        <p:spPr>
          <a:xfrm>
            <a:off x="1209240" y="1052640"/>
            <a:ext cx="679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图，已知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-2,4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3,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上一动点，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+P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最小时，求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344808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用坐标表示轴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Group 5"/>
          <p:cNvGrpSpPr/>
          <p:nvPr/>
        </p:nvGrpSpPr>
        <p:grpSpPr>
          <a:xfrm>
            <a:off x="3131280" y="3213000"/>
            <a:ext cx="3969720" cy="3384720"/>
            <a:chOff x="3131280" y="3213000"/>
            <a:chExt cx="3969720" cy="3384720"/>
          </a:xfrm>
        </p:grpSpPr>
        <p:grpSp>
          <p:nvGrpSpPr>
            <p:cNvPr id="854" name="Group 6"/>
            <p:cNvGrpSpPr/>
            <p:nvPr/>
          </p:nvGrpSpPr>
          <p:grpSpPr>
            <a:xfrm>
              <a:off x="3132000" y="3213000"/>
              <a:ext cx="3951360" cy="3384720"/>
              <a:chOff x="3132000" y="3213000"/>
              <a:chExt cx="3951360" cy="3384720"/>
            </a:xfrm>
          </p:grpSpPr>
          <p:grpSp>
            <p:nvGrpSpPr>
              <p:cNvPr id="855" name="Group 7"/>
              <p:cNvGrpSpPr/>
              <p:nvPr/>
            </p:nvGrpSpPr>
            <p:grpSpPr>
              <a:xfrm>
                <a:off x="3132000" y="3429000"/>
                <a:ext cx="3887640" cy="3168720"/>
                <a:chOff x="3132000" y="3429000"/>
                <a:chExt cx="3887640" cy="3168720"/>
              </a:xfrm>
            </p:grpSpPr>
            <p:sp>
              <p:nvSpPr>
                <p:cNvPr id="856" name="Line 8"/>
                <p:cNvSpPr/>
                <p:nvPr/>
              </p:nvSpPr>
              <p:spPr>
                <a:xfrm>
                  <a:off x="3132000" y="5300640"/>
                  <a:ext cx="388764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Line 9"/>
                <p:cNvSpPr/>
                <p:nvPr/>
              </p:nvSpPr>
              <p:spPr>
                <a:xfrm flipV="1">
                  <a:off x="4859280" y="3429000"/>
                  <a:ext cx="0" cy="31687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" name="Rectangle 10"/>
              <p:cNvSpPr/>
              <p:nvPr/>
            </p:nvSpPr>
            <p:spPr>
              <a:xfrm>
                <a:off x="6698520" y="5270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Rectangle 11"/>
              <p:cNvSpPr/>
              <p:nvPr/>
            </p:nvSpPr>
            <p:spPr>
              <a:xfrm>
                <a:off x="4428720" y="3213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4473000" y="5226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1" name="Oval 13"/>
            <p:cNvSpPr/>
            <p:nvPr/>
          </p:nvSpPr>
          <p:spPr>
            <a:xfrm>
              <a:off x="4140000" y="393372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5651280" y="486864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15"/>
            <p:cNvSpPr/>
            <p:nvPr/>
          </p:nvSpPr>
          <p:spPr>
            <a:xfrm>
              <a:off x="3131280" y="335736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(-2,4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16"/>
            <p:cNvSpPr/>
            <p:nvPr/>
          </p:nvSpPr>
          <p:spPr>
            <a:xfrm>
              <a:off x="5867280" y="4437000"/>
              <a:ext cx="12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(3,1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170640" y="-25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1045440" y="907920"/>
            <a:ext cx="662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图，已知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2,4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3,1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上一动点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+P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最小时，求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坐标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Group 4"/>
          <p:cNvGrpSpPr/>
          <p:nvPr/>
        </p:nvGrpSpPr>
        <p:grpSpPr>
          <a:xfrm>
            <a:off x="3340080" y="3068640"/>
            <a:ext cx="3969000" cy="3384720"/>
            <a:chOff x="3340080" y="3068640"/>
            <a:chExt cx="3969000" cy="3384720"/>
          </a:xfrm>
        </p:grpSpPr>
        <p:grpSp>
          <p:nvGrpSpPr>
            <p:cNvPr id="868" name="Group 5"/>
            <p:cNvGrpSpPr/>
            <p:nvPr/>
          </p:nvGrpSpPr>
          <p:grpSpPr>
            <a:xfrm>
              <a:off x="3340080" y="3068640"/>
              <a:ext cx="3951360" cy="3384720"/>
              <a:chOff x="3340080" y="3068640"/>
              <a:chExt cx="3951360" cy="3384720"/>
            </a:xfrm>
          </p:grpSpPr>
          <p:grpSp>
            <p:nvGrpSpPr>
              <p:cNvPr id="869" name="Group 6"/>
              <p:cNvGrpSpPr/>
              <p:nvPr/>
            </p:nvGrpSpPr>
            <p:grpSpPr>
              <a:xfrm>
                <a:off x="3340080" y="3284640"/>
                <a:ext cx="3887640" cy="3168720"/>
                <a:chOff x="3340080" y="3284640"/>
                <a:chExt cx="3887640" cy="3168720"/>
              </a:xfrm>
            </p:grpSpPr>
            <p:sp>
              <p:nvSpPr>
                <p:cNvPr id="870" name="Line 7"/>
                <p:cNvSpPr/>
                <p:nvPr/>
              </p:nvSpPr>
              <p:spPr>
                <a:xfrm>
                  <a:off x="3340080" y="5156280"/>
                  <a:ext cx="388764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Line 8"/>
                <p:cNvSpPr/>
                <p:nvPr/>
              </p:nvSpPr>
              <p:spPr>
                <a:xfrm flipV="1">
                  <a:off x="5067360" y="3284640"/>
                  <a:ext cx="0" cy="316872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2" name="Rectangle 9"/>
              <p:cNvSpPr/>
              <p:nvPr/>
            </p:nvSpPr>
            <p:spPr>
              <a:xfrm>
                <a:off x="6906600" y="51260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0"/>
              <p:cNvSpPr/>
              <p:nvPr/>
            </p:nvSpPr>
            <p:spPr>
              <a:xfrm>
                <a:off x="4636800" y="306864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Rectangle 11"/>
              <p:cNvSpPr/>
              <p:nvPr/>
            </p:nvSpPr>
            <p:spPr>
              <a:xfrm>
                <a:off x="4681080" y="5081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5" name="Oval 12"/>
            <p:cNvSpPr/>
            <p:nvPr/>
          </p:nvSpPr>
          <p:spPr>
            <a:xfrm>
              <a:off x="5572080" y="378936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Oval 13"/>
            <p:cNvSpPr/>
            <p:nvPr/>
          </p:nvSpPr>
          <p:spPr>
            <a:xfrm>
              <a:off x="5859360" y="4724280"/>
              <a:ext cx="142920" cy="1429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Rectangle 14"/>
            <p:cNvSpPr/>
            <p:nvPr/>
          </p:nvSpPr>
          <p:spPr>
            <a:xfrm>
              <a:off x="5427360" y="3213000"/>
              <a:ext cx="125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(2,4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Rectangle 15"/>
            <p:cNvSpPr/>
            <p:nvPr/>
          </p:nvSpPr>
          <p:spPr>
            <a:xfrm>
              <a:off x="6075360" y="4292640"/>
              <a:ext cx="12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(3,1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179280" y="720720"/>
            <a:ext cx="928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已知：如图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别是一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个长方形台球桌的四个顶点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桌面上的两个球。怎样击打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球，才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球撞击桌面边缘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反弹后能够撞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球？请画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球经过的线路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0" name="Group 3"/>
          <p:cNvGrpSpPr/>
          <p:nvPr/>
        </p:nvGrpSpPr>
        <p:grpSpPr>
          <a:xfrm>
            <a:off x="4574160" y="4022640"/>
            <a:ext cx="3614040" cy="2648160"/>
            <a:chOff x="4574160" y="4022640"/>
            <a:chExt cx="3614040" cy="2648160"/>
          </a:xfrm>
        </p:grpSpPr>
        <p:sp>
          <p:nvSpPr>
            <p:cNvPr id="881" name="Rectangle 4"/>
            <p:cNvSpPr/>
            <p:nvPr/>
          </p:nvSpPr>
          <p:spPr>
            <a:xfrm>
              <a:off x="5293440" y="4959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Rectangle 5"/>
            <p:cNvSpPr/>
            <p:nvPr/>
          </p:nvSpPr>
          <p:spPr>
            <a:xfrm>
              <a:off x="6300720" y="53179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Oval 6"/>
            <p:cNvSpPr/>
            <p:nvPr/>
          </p:nvSpPr>
          <p:spPr>
            <a:xfrm>
              <a:off x="5796000" y="4886280"/>
              <a:ext cx="144360" cy="144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Oval 7"/>
            <p:cNvSpPr/>
            <p:nvPr/>
          </p:nvSpPr>
          <p:spPr>
            <a:xfrm>
              <a:off x="6804000" y="5246640"/>
              <a:ext cx="144360" cy="144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Rectangle 8"/>
            <p:cNvSpPr/>
            <p:nvPr/>
          </p:nvSpPr>
          <p:spPr>
            <a:xfrm>
              <a:off x="4574160" y="4093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Rectangle 9"/>
            <p:cNvSpPr/>
            <p:nvPr/>
          </p:nvSpPr>
          <p:spPr>
            <a:xfrm>
              <a:off x="4645440" y="5967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Rectangle 10"/>
            <p:cNvSpPr/>
            <p:nvPr/>
          </p:nvSpPr>
          <p:spPr>
            <a:xfrm>
              <a:off x="5075280" y="4527360"/>
              <a:ext cx="2521080" cy="1513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Rectangle 11"/>
            <p:cNvSpPr/>
            <p:nvPr/>
          </p:nvSpPr>
          <p:spPr>
            <a:xfrm>
              <a:off x="7669440" y="4022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Rectangle 12"/>
            <p:cNvSpPr/>
            <p:nvPr/>
          </p:nvSpPr>
          <p:spPr>
            <a:xfrm>
              <a:off x="7669080" y="56782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0" name="Text Box 13"/>
          <p:cNvSpPr/>
          <p:nvPr/>
        </p:nvSpPr>
        <p:spPr>
          <a:xfrm>
            <a:off x="170640" y="-255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知识构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11960" y="1483920"/>
            <a:ext cx="789840" cy="4245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活中的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137680" y="99540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等腰三角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932840" y="251136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对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282040" y="4057560"/>
            <a:ext cx="213156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坐标表示轴对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2137680" y="545472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对称变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6309720" y="98100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等边三角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6284880" y="249228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对称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6405480" y="4797360"/>
            <a:ext cx="20095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作轴对称图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11"/>
          <p:cNvSpPr/>
          <p:nvPr/>
        </p:nvSpPr>
        <p:spPr>
          <a:xfrm>
            <a:off x="900000" y="3500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1116000" y="1341360"/>
            <a:ext cx="0" cy="446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13"/>
          <p:cNvSpPr/>
          <p:nvPr/>
        </p:nvSpPr>
        <p:spPr>
          <a:xfrm>
            <a:off x="1130400" y="1341360"/>
            <a:ext cx="488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1116000" y="2852640"/>
            <a:ext cx="488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1116000" y="4311720"/>
            <a:ext cx="488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1116000" y="5805360"/>
            <a:ext cx="488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Line 17"/>
          <p:cNvSpPr/>
          <p:nvPr/>
        </p:nvSpPr>
        <p:spPr>
          <a:xfrm>
            <a:off x="4356000" y="136044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3348000" y="2852640"/>
            <a:ext cx="251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076720" y="4365720"/>
            <a:ext cx="287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Line 20"/>
          <p:cNvSpPr/>
          <p:nvPr/>
        </p:nvSpPr>
        <p:spPr>
          <a:xfrm>
            <a:off x="4356000" y="5805360"/>
            <a:ext cx="100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Line 21"/>
          <p:cNvSpPr/>
          <p:nvPr/>
        </p:nvSpPr>
        <p:spPr>
          <a:xfrm>
            <a:off x="5364000" y="4365720"/>
            <a:ext cx="0" cy="143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22"/>
          <p:cNvSpPr/>
          <p:nvPr/>
        </p:nvSpPr>
        <p:spPr>
          <a:xfrm>
            <a:off x="5364000" y="51577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23"/>
          <p:cNvSpPr/>
          <p:nvPr/>
        </p:nvSpPr>
        <p:spPr>
          <a:xfrm>
            <a:off x="2411280" y="170028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24"/>
          <p:cNvSpPr/>
          <p:nvPr/>
        </p:nvSpPr>
        <p:spPr>
          <a:xfrm>
            <a:off x="2411280" y="3232080"/>
            <a:ext cx="0" cy="79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2411280" y="4648320"/>
            <a:ext cx="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769040" y="860400"/>
            <a:ext cx="56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判断下列图形是不是轴对称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线段；②三角形；③平行四边形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方形；⑤等腰梯形；⑥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539640" y="3787920"/>
            <a:ext cx="1657440" cy="144360"/>
            <a:chOff x="539640" y="3787920"/>
            <a:chExt cx="1657440" cy="144360"/>
          </a:xfrm>
        </p:grpSpPr>
        <p:sp>
          <p:nvSpPr>
            <p:cNvPr id="571" name="Line 5"/>
            <p:cNvSpPr/>
            <p:nvPr/>
          </p:nvSpPr>
          <p:spPr>
            <a:xfrm>
              <a:off x="539640" y="3861000"/>
              <a:ext cx="1657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6"/>
            <p:cNvSpPr/>
            <p:nvPr/>
          </p:nvSpPr>
          <p:spPr>
            <a:xfrm>
              <a:off x="539640" y="3787920"/>
              <a:ext cx="0" cy="144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2197080" y="3787920"/>
              <a:ext cx="0" cy="144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AutoShape 8"/>
          <p:cNvSpPr/>
          <p:nvPr/>
        </p:nvSpPr>
        <p:spPr>
          <a:xfrm>
            <a:off x="3348000" y="3284640"/>
            <a:ext cx="1800360" cy="1008000"/>
          </a:xfrm>
          <a:prstGeom prst="triangle">
            <a:avLst>
              <a:gd name="adj" fmla="val 76454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AutoShape 9"/>
          <p:cNvSpPr/>
          <p:nvPr/>
        </p:nvSpPr>
        <p:spPr>
          <a:xfrm>
            <a:off x="6229440" y="3355920"/>
            <a:ext cx="2232000" cy="936720"/>
          </a:xfrm>
          <a:prstGeom prst="parallelogram">
            <a:avLst>
              <a:gd name="adj" fmla="val 59570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828720" y="5084640"/>
            <a:ext cx="1224000" cy="12240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11"/>
          <p:cNvSpPr/>
          <p:nvPr/>
        </p:nvSpPr>
        <p:spPr>
          <a:xfrm>
            <a:off x="3348000" y="5084640"/>
            <a:ext cx="1873440" cy="1246320"/>
          </a:xfrm>
          <a:custGeom>
            <a:avLst/>
            <a:gdLst>
              <a:gd name="textAreaLeft" fmla="*/ 390240 w 1873440"/>
              <a:gd name="textAreaRight" fmla="*/ 1483200 w 1873440"/>
              <a:gd name="textAreaTop" fmla="*/ 259560 h 1246320"/>
              <a:gd name="textAreaBottom" fmla="*/ 98676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6372360" y="4940280"/>
            <a:ext cx="1584360" cy="158436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344808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轴对称图形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545120" y="782640"/>
            <a:ext cx="55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镜子中看到时钟显示的时间是：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2" name="Picture 4" descr="G:/ZFDYYXIN/ML/JH/LXJ/SC9B.h1.gif"/>
          <p:cNvPicPr/>
          <p:nvPr/>
        </p:nvPicPr>
        <p:blipFill>
          <a:blip r:embed="rId1"/>
          <a:stretch/>
        </p:blipFill>
        <p:spPr>
          <a:xfrm>
            <a:off x="2195640" y="1773360"/>
            <a:ext cx="4680000" cy="863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-527040" y="2852640"/>
            <a:ext cx="68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则实际时间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6" descr="G:/ZFDYYXIN/ML/JH/LXJ/SC9B.h1.gif"/>
          <p:cNvPicPr/>
          <p:nvPr/>
        </p:nvPicPr>
        <p:blipFill>
          <a:blip r:embed="rId2"/>
          <a:stretch/>
        </p:blipFill>
        <p:spPr>
          <a:xfrm flipH="1">
            <a:off x="2268360" y="4365720"/>
            <a:ext cx="4680000" cy="86364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7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轴对称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1004760" y="731880"/>
            <a:ext cx="545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五角星的对称轴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    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    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    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无数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8" name="Picture 4" descr="pic_204357"/>
          <p:cNvPicPr/>
          <p:nvPr/>
        </p:nvPicPr>
        <p:blipFill>
          <a:blip r:embed="rId1"/>
          <a:srcRect l="9312" t="36190" r="67875" b="47440"/>
          <a:stretch/>
        </p:blipFill>
        <p:spPr>
          <a:xfrm>
            <a:off x="4140360" y="2060640"/>
            <a:ext cx="3163680" cy="33843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轴的找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737720" y="804960"/>
            <a:ext cx="556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试找出下图每个正多边形对称轴的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数，并填入表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AutoShape 3"/>
          <p:cNvSpPr/>
          <p:nvPr/>
        </p:nvSpPr>
        <p:spPr>
          <a:xfrm>
            <a:off x="611280" y="2565360"/>
            <a:ext cx="1224000" cy="1058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268360" y="2492280"/>
            <a:ext cx="1224000" cy="12240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4067280" y="2276640"/>
            <a:ext cx="1584360" cy="1508040"/>
          </a:xfrm>
          <a:prstGeom prst="pentagon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6227640" y="2276640"/>
            <a:ext cx="1800360" cy="1557000"/>
          </a:xfrm>
          <a:prstGeom prst="hexagon">
            <a:avLst>
              <a:gd name="adj" fmla="val 28908"/>
              <a:gd name="vf" fmla="val 115470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19240" y="4149720"/>
          <a:ext cx="8529480" cy="1079640"/>
        </p:xfrm>
        <a:graphic>
          <a:graphicData uri="http://schemas.openxmlformats.org/drawingml/2006/table">
            <a:tbl>
              <a:tblPr/>
              <a:tblGrid>
                <a:gridCol w="1979280"/>
                <a:gridCol w="863640"/>
                <a:gridCol w="936720"/>
                <a:gridCol w="936720"/>
                <a:gridCol w="1008000"/>
                <a:gridCol w="934920"/>
                <a:gridCol w="935280"/>
                <a:gridCol w="934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边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对称轴条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Text Box 36"/>
          <p:cNvSpPr/>
          <p:nvPr/>
        </p:nvSpPr>
        <p:spPr>
          <a:xfrm>
            <a:off x="1749960" y="5286240"/>
            <a:ext cx="560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根据上表，请就一个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边形对称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条数作一个猜想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38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轴的找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006560" y="749160"/>
            <a:ext cx="747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已知：如图，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直线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求作：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E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和关于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轴对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3"/>
          <p:cNvSpPr/>
          <p:nvPr/>
        </p:nvSpPr>
        <p:spPr>
          <a:xfrm rot="4690200">
            <a:off x="3670920" y="3321720"/>
            <a:ext cx="3313080" cy="1800000"/>
          </a:xfrm>
          <a:prstGeom prst="triangle">
            <a:avLst>
              <a:gd name="adj" fmla="val 72449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5345280" y="2276640"/>
            <a:ext cx="0" cy="4365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213800" y="5896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494520" y="2349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6373800" y="4437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5510160" y="1989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9"/>
          <p:cNvSpPr/>
          <p:nvPr/>
        </p:nvSpPr>
        <p:spPr>
          <a:xfrm flipH="1" rot="16909800">
            <a:off x="3670200" y="3321360"/>
            <a:ext cx="3313440" cy="1800000"/>
          </a:xfrm>
          <a:prstGeom prst="triangle">
            <a:avLst>
              <a:gd name="adj" fmla="val 72449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Group 10"/>
          <p:cNvGrpSpPr/>
          <p:nvPr/>
        </p:nvGrpSpPr>
        <p:grpSpPr>
          <a:xfrm>
            <a:off x="4048200" y="2773440"/>
            <a:ext cx="3259080" cy="207720"/>
            <a:chOff x="4048200" y="2773440"/>
            <a:chExt cx="3259080" cy="207720"/>
          </a:xfrm>
        </p:grpSpPr>
        <p:sp>
          <p:nvSpPr>
            <p:cNvPr id="608" name="Line 11"/>
            <p:cNvSpPr/>
            <p:nvPr/>
          </p:nvSpPr>
          <p:spPr>
            <a:xfrm>
              <a:off x="4048200" y="2773440"/>
              <a:ext cx="32590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5139720" y="2773440"/>
              <a:ext cx="207360" cy="207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Rectangle 13"/>
          <p:cNvSpPr/>
          <p:nvPr/>
        </p:nvSpPr>
        <p:spPr>
          <a:xfrm>
            <a:off x="6518880" y="2133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3709800" y="4365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5942160" y="5661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rc 16"/>
          <p:cNvSpPr/>
          <p:nvPr/>
        </p:nvSpPr>
        <p:spPr>
          <a:xfrm>
            <a:off x="6516720" y="2641680"/>
            <a:ext cx="71280" cy="288720"/>
          </a:xfrm>
          <a:custGeom>
            <a:avLst/>
            <a:gdLst>
              <a:gd name="textAreaLeft" fmla="*/ 0 w 71280"/>
              <a:gd name="textAreaRight" fmla="*/ 71640 w 71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的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8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1507320" y="893880"/>
            <a:ext cx="639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已知：如图，直线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同旁有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求作：直线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一点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A+P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最短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4211640" y="2638440"/>
            <a:ext cx="2484720" cy="3743280"/>
            <a:chOff x="4211640" y="2638440"/>
            <a:chExt cx="2484720" cy="3743280"/>
          </a:xfrm>
        </p:grpSpPr>
        <p:sp>
          <p:nvSpPr>
            <p:cNvPr id="618" name="Line 4"/>
            <p:cNvSpPr/>
            <p:nvPr/>
          </p:nvSpPr>
          <p:spPr>
            <a:xfrm>
              <a:off x="6300720" y="3141720"/>
              <a:ext cx="0" cy="3240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5"/>
            <p:cNvSpPr/>
            <p:nvPr/>
          </p:nvSpPr>
          <p:spPr>
            <a:xfrm>
              <a:off x="6373800" y="26384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6"/>
            <p:cNvSpPr/>
            <p:nvPr/>
          </p:nvSpPr>
          <p:spPr>
            <a:xfrm>
              <a:off x="4574160" y="31431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4213080" y="55911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Oval 8"/>
            <p:cNvSpPr/>
            <p:nvPr/>
          </p:nvSpPr>
          <p:spPr>
            <a:xfrm>
              <a:off x="5292720" y="3790800"/>
              <a:ext cx="144360" cy="1447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Oval 9"/>
            <p:cNvSpPr/>
            <p:nvPr/>
          </p:nvSpPr>
          <p:spPr>
            <a:xfrm>
              <a:off x="4211640" y="5446800"/>
              <a:ext cx="144360" cy="1443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4" name="Rectangle 10"/>
          <p:cNvSpPr/>
          <p:nvPr/>
        </p:nvSpPr>
        <p:spPr>
          <a:xfrm>
            <a:off x="344808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画法的应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配套练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08000" y="720720"/>
            <a:ext cx="92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如图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∠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O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内部，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别是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关于直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上的对称点，线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分别交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于点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若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△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E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周长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cm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则线段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4412160" y="3068640"/>
            <a:ext cx="3903120" cy="3791160"/>
            <a:chOff x="4412160" y="3068640"/>
            <a:chExt cx="3903120" cy="3791160"/>
          </a:xfrm>
        </p:grpSpPr>
        <p:sp>
          <p:nvSpPr>
            <p:cNvPr id="628" name="Rectangle 4"/>
            <p:cNvSpPr/>
            <p:nvPr/>
          </p:nvSpPr>
          <p:spPr>
            <a:xfrm>
              <a:off x="6310800" y="3068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>
              <a:off x="7796160" y="55166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Oval 6"/>
            <p:cNvSpPr/>
            <p:nvPr/>
          </p:nvSpPr>
          <p:spPr>
            <a:xfrm>
              <a:off x="6960960" y="4373640"/>
              <a:ext cx="119160" cy="1191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7149240" y="3860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4412160" y="5251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>
              <a:off x="4883040" y="5560920"/>
              <a:ext cx="2849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 flipV="1">
              <a:off x="4883040" y="3423960"/>
              <a:ext cx="2136960" cy="2136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>
              <a:off x="7149240" y="3860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Oval 12"/>
            <p:cNvSpPr/>
            <p:nvPr/>
          </p:nvSpPr>
          <p:spPr>
            <a:xfrm>
              <a:off x="5941800" y="3341520"/>
              <a:ext cx="119160" cy="1191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Rectangle 13"/>
            <p:cNvSpPr/>
            <p:nvPr/>
          </p:nvSpPr>
          <p:spPr>
            <a:xfrm>
              <a:off x="5204160" y="3141720"/>
              <a:ext cx="65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Oval 14"/>
            <p:cNvSpPr/>
            <p:nvPr/>
          </p:nvSpPr>
          <p:spPr>
            <a:xfrm>
              <a:off x="6960960" y="6669000"/>
              <a:ext cx="119160" cy="1191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15"/>
            <p:cNvSpPr/>
            <p:nvPr/>
          </p:nvSpPr>
          <p:spPr>
            <a:xfrm>
              <a:off x="7148880" y="6156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16"/>
            <p:cNvSpPr/>
            <p:nvPr/>
          </p:nvSpPr>
          <p:spPr>
            <a:xfrm flipH="1" flipV="1">
              <a:off x="6046200" y="3443400"/>
              <a:ext cx="947880" cy="947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17"/>
            <p:cNvSpPr/>
            <p:nvPr/>
          </p:nvSpPr>
          <p:spPr>
            <a:xfrm>
              <a:off x="7016760" y="4425840"/>
              <a:ext cx="0" cy="2303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5979960" y="3409920"/>
              <a:ext cx="1013040" cy="331488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3314880"/>
                <a:gd name="textAreaBottom" fmla="*/ 3315240 h 3314880"/>
              </a:gdLst>
              <a:ahLst/>
              <a:rect l="textAreaLeft" t="textAreaTop" r="textAreaRight" b="textAreaBottom"/>
              <a:pathLst>
                <a:path w="638" h="2088">
                  <a:moveTo>
                    <a:pt x="0" y="0"/>
                  </a:moveTo>
                  <a:lnTo>
                    <a:pt x="638" y="208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Rectangle 19"/>
            <p:cNvSpPr/>
            <p:nvPr/>
          </p:nvSpPr>
          <p:spPr>
            <a:xfrm>
              <a:off x="5635440" y="37893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Rectangle 20"/>
            <p:cNvSpPr/>
            <p:nvPr/>
          </p:nvSpPr>
          <p:spPr>
            <a:xfrm>
              <a:off x="6140520" y="55166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6210360" y="4221000"/>
              <a:ext cx="792000" cy="21600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638" h="2088">
                  <a:moveTo>
                    <a:pt x="0" y="0"/>
                  </a:moveTo>
                  <a:lnTo>
                    <a:pt x="638" y="208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 flipV="1">
              <a:off x="6642000" y="4436280"/>
              <a:ext cx="360360" cy="10796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1079640"/>
                <a:gd name="textAreaBottom" fmla="*/ 1079640 h 1079640"/>
              </a:gdLst>
              <a:ahLst/>
              <a:rect l="textAreaLeft" t="textAreaTop" r="textAreaRight" b="textAreaBottom"/>
              <a:pathLst>
                <a:path w="638" h="2088">
                  <a:moveTo>
                    <a:pt x="0" y="0"/>
                  </a:moveTo>
                  <a:lnTo>
                    <a:pt x="638" y="208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7" name="Text Box 23"/>
          <p:cNvSpPr/>
          <p:nvPr/>
        </p:nvSpPr>
        <p:spPr>
          <a:xfrm>
            <a:off x="375480" y="-2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典型例题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3243240" y="135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对称点的画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16:35Z</dcterms:created>
  <dc:creator>www.12999.com</dc:creator>
  <dc:description>www.12999.com</dc:description>
  <cp:keywords>www.12999.com</cp:keywords>
  <dc:language>en-US</dc:language>
  <cp:lastModifiedBy>Administrator</cp:lastModifiedBy>
  <cp:lastPrinted>1899-12-30T00:00:00Z</cp:lastPrinted>
  <dcterms:modified xsi:type="dcterms:W3CDTF">2014-07-19T01:37:11Z</dcterms:modified>
  <cp:revision>10</cp:revision>
  <dc:subject>www.12999.com</dc:subject>
  <dc:title>www.12999.com</dc:title>
</cp:coreProperties>
</file>