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AC3-5819-476A-AEDD-B3D1C747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E9D-B296-416F-ACE7-94BCCC2F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BD4-29D4-4455-80F2-F9D19572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0AE-6866-4028-8253-368DD961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83A-2BBD-4CB2-84ED-01935957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C15-1E84-47AE-B55D-2DE683F3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823-40D9-4D8D-8376-3642CC79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71A-CEE9-4E0F-A198-3A049CF0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BF1-D069-45DC-A230-84440C2E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B1B-04A6-46D6-B4EA-066EC5EB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A3E-45A1-4A6B-8DCC-03473670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220-CEC7-4A38-B197-ADDAA3B5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B798-2DB2-4289-BFCC-33C1BA271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&#1018;%A3%CA%C0%B2%A9%BB%E1%B5&#317;%A8%D6%FE%CE%EF&amp;in=22711&amp;cl=2&amp;cm=1&amp;sc=0&amp;lm=-1&amp;pn=32&amp;rn=1&amp;di=10040968230&amp;ln=765&amp;fr=ala0&amp;ic=0&amp;s=0&amp;se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.baidu.com/i?ct=503316480&amp;z=0&amp;tn=baiduimagedetail&amp;word=%B0%A3%BC%B0%BD%F0%D7%D6%CB%FE&#892;&#428;&amp;in=31506&amp;cl=2&amp;cm=1&amp;sc=0&amp;lm=-1&amp;pn=23&amp;rn=1&amp;di=10185362265&amp;ln=2000&amp;fr=ala0&amp;ic=0&amp;s=0&amp;se=1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1&#1723;%A2&#892;&#428;&amp;in=28013&amp;cl=2&amp;cm=1&amp;sc=0&amp;lm=-1&amp;pn=5&amp;rn=1&amp;di=3924984423&amp;ln=2000&amp;fr=ala0&amp;ic=0&amp;s=0&amp;se=1" TargetMode="External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1916280"/>
            <a:ext cx="626436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走近三角形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4140360" y="501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奥林学校  胡伦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6156360" y="706320"/>
            <a:ext cx="2952360" cy="2214720"/>
            <a:chOff x="6156360" y="706320"/>
            <a:chExt cx="2952360" cy="2214720"/>
          </a:xfrm>
        </p:grpSpPr>
        <p:grpSp>
          <p:nvGrpSpPr>
            <p:cNvPr id="491" name=""/>
            <p:cNvGrpSpPr/>
            <p:nvPr/>
          </p:nvGrpSpPr>
          <p:grpSpPr>
            <a:xfrm>
              <a:off x="6496200" y="1186200"/>
              <a:ext cx="2100960" cy="1510200"/>
              <a:chOff x="6496200" y="1186200"/>
              <a:chExt cx="2100960" cy="151020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6496200" y="1186200"/>
                <a:ext cx="1300680" cy="151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96560" y="2696400"/>
                <a:ext cx="210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97240" y="1186200"/>
                <a:ext cx="799920" cy="151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7633080" y="706320"/>
              <a:ext cx="50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56360" y="2398680"/>
              <a:ext cx="51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598240" y="2400480"/>
              <a:ext cx="51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7526520" y="264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102880" y="1643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949800" y="1643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9640" y="9079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三角形中，任意两边之差小于第三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11280" y="3459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   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4360" y="14130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右图：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6920" y="17478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-b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95640" y="17478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b-c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1700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c-a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852640"/>
            <a:ext cx="835344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一个三角形的三边关系可以归纳成如下一句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角形的任意两边之和大于第三边，任意两边之差小于第三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在做题时，不仅要考虑到两边之和大于第三边，还必须考虑到两边之差小于第三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24000" y="278136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若三角形的两边长分别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第三边长为奇数，求第三边的长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0920" y="333360"/>
            <a:ext cx="835344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一个三角形的三边关系可以归纳成如下一句话：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角形的任意两边之和大于第三边，任意两边之差小于 第三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在做题时，不仅要考虑到两边之和大于第三边，还必须考虑到两边之差小于第三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35280" y="3357720"/>
            <a:ext cx="575928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第三边的长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两边之和大于第三边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+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两边之差小于第三边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&gt;7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&g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值大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又因为它是奇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能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23480" y="327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6165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：第三边的长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1" name="chimes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468360" y="189000"/>
            <a:ext cx="1368360" cy="459720"/>
            <a:chOff x="468360" y="189000"/>
            <a:chExt cx="1368360" cy="459720"/>
          </a:xfrm>
        </p:grpSpPr>
        <p:sp>
          <p:nvSpPr>
            <p:cNvPr id="514" name=""/>
            <p:cNvSpPr/>
            <p:nvPr/>
          </p:nvSpPr>
          <p:spPr>
            <a:xfrm>
              <a:off x="539640" y="189000"/>
              <a:ext cx="100764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8360" y="18900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例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68360" y="765000"/>
            <a:ext cx="8569440" cy="1584360"/>
            <a:chOff x="468360" y="765000"/>
            <a:chExt cx="8569440" cy="1584360"/>
          </a:xfrm>
        </p:grpSpPr>
        <p:sp>
          <p:nvSpPr>
            <p:cNvPr id="517" name=""/>
            <p:cNvSpPr/>
            <p:nvPr/>
          </p:nvSpPr>
          <p:spPr>
            <a:xfrm>
              <a:off x="468360" y="765000"/>
              <a:ext cx="813600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8360" y="765000"/>
              <a:ext cx="85694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用一根长为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8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厘米的细铁丝围成一个等腰三角形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①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如果腰长是底边的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倍，那么各边的长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②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能围成有一边的长为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厘米的等腰三角形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39640" y="3932280"/>
            <a:ext cx="684072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      ②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厘米长为底边，设腰长为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厘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则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4+2x=18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，解得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x=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∴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等腰三角形的三边长为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7cm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7cm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4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厘米长为腰长，设底边长为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厘米，可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×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2+x=18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，解得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x=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          ∵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4+4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﹤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          ∴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此时构不成三角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8360" y="2421000"/>
            <a:ext cx="626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解：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设底边长为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厘米，则腰长为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2x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x+2x+2x=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解得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x=3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∴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三边长分别为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3.6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厘米，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7.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厘米，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7.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1" name="chimes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468360" y="189000"/>
            <a:ext cx="1368360" cy="431640"/>
            <a:chOff x="468360" y="189000"/>
            <a:chExt cx="1368360" cy="431640"/>
          </a:xfrm>
        </p:grpSpPr>
        <p:sp>
          <p:nvSpPr>
            <p:cNvPr id="522" name=""/>
            <p:cNvSpPr/>
            <p:nvPr/>
          </p:nvSpPr>
          <p:spPr>
            <a:xfrm>
              <a:off x="539640" y="189000"/>
              <a:ext cx="100764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8360" y="189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练习</a:t>
              </a: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457200" y="1600200"/>
            <a:ext cx="829152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）已知等腰三角形的一边等于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一边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则它的周长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）已知等腰三角形的一边等于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一边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则它的周长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580000" y="220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580000" y="3357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1" name="chimes.wav"/>
      </p:stSnd>
    </p:sndAc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2268360" y="836640"/>
            <a:ext cx="2158560" cy="4464000"/>
            <a:chOff x="2268360" y="836640"/>
            <a:chExt cx="2158560" cy="4464000"/>
          </a:xfrm>
        </p:grpSpPr>
        <p:grpSp>
          <p:nvGrpSpPr>
            <p:cNvPr id="528" name=""/>
            <p:cNvGrpSpPr/>
            <p:nvPr/>
          </p:nvGrpSpPr>
          <p:grpSpPr>
            <a:xfrm>
              <a:off x="2268360" y="836640"/>
              <a:ext cx="1800000" cy="503280"/>
              <a:chOff x="2268360" y="836640"/>
              <a:chExt cx="1800000" cy="503280"/>
            </a:xfrm>
          </p:grpSpPr>
          <p:sp>
            <p:nvSpPr>
              <p:cNvPr id="529" name=""/>
              <p:cNvSpPr/>
              <p:nvPr/>
            </p:nvSpPr>
            <p:spPr>
              <a:xfrm>
                <a:off x="2268360" y="836640"/>
                <a:ext cx="1800000" cy="503280"/>
              </a:xfrm>
              <a:prstGeom prst="ellipse">
                <a:avLst/>
              </a:prstGeom>
              <a:solidFill>
                <a:srgbClr val="037f3e"/>
              </a:solidFill>
              <a:ln w="9360">
                <a:solidFill>
                  <a:srgbClr val="037f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339640" y="909720"/>
                <a:ext cx="172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6fd99"/>
                    </a:solidFill>
                    <a:latin typeface="Arial"/>
                  </a:rPr>
                  <a:t>三角形的概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2268360" y="1916280"/>
              <a:ext cx="1942920" cy="431640"/>
              <a:chOff x="2268360" y="1916280"/>
              <a:chExt cx="1942920" cy="431640"/>
            </a:xfrm>
          </p:grpSpPr>
          <p:sp>
            <p:nvSpPr>
              <p:cNvPr id="532" name=""/>
              <p:cNvSpPr/>
              <p:nvPr/>
            </p:nvSpPr>
            <p:spPr>
              <a:xfrm>
                <a:off x="2268360" y="1916280"/>
                <a:ext cx="1800000" cy="431640"/>
              </a:xfrm>
              <a:prstGeom prst="ellipse">
                <a:avLst/>
              </a:prstGeom>
              <a:solidFill>
                <a:srgbClr val="037f3e"/>
              </a:solidFill>
              <a:ln w="9360">
                <a:solidFill>
                  <a:srgbClr val="037f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411280" y="1916280"/>
                <a:ext cx="180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6fd99"/>
                    </a:solidFill>
                    <a:latin typeface="Arial"/>
                  </a:rPr>
                  <a:t>三角形的构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268360" y="2852640"/>
              <a:ext cx="2158560" cy="431640"/>
              <a:chOff x="2268360" y="2852640"/>
              <a:chExt cx="2158560" cy="431640"/>
            </a:xfrm>
          </p:grpSpPr>
          <p:sp>
            <p:nvSpPr>
              <p:cNvPr id="535" name=""/>
              <p:cNvSpPr/>
              <p:nvPr/>
            </p:nvSpPr>
            <p:spPr>
              <a:xfrm>
                <a:off x="2268360" y="2852640"/>
                <a:ext cx="1871280" cy="431640"/>
              </a:xfrm>
              <a:prstGeom prst="ellipse">
                <a:avLst/>
              </a:prstGeom>
              <a:solidFill>
                <a:srgbClr val="037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339640" y="2852640"/>
                <a:ext cx="20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6fd99"/>
                    </a:solidFill>
                    <a:latin typeface="Arial"/>
                  </a:rPr>
                  <a:t>三角形的表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914560" y="1413000"/>
              <a:ext cx="504720" cy="35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914560" y="2421000"/>
              <a:ext cx="504720" cy="35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2268360" y="3860640"/>
              <a:ext cx="2158560" cy="431640"/>
              <a:chOff x="2268360" y="3860640"/>
              <a:chExt cx="2158560" cy="431640"/>
            </a:xfrm>
          </p:grpSpPr>
          <p:sp>
            <p:nvSpPr>
              <p:cNvPr id="540" name=""/>
              <p:cNvSpPr/>
              <p:nvPr/>
            </p:nvSpPr>
            <p:spPr>
              <a:xfrm>
                <a:off x="2268360" y="3860640"/>
                <a:ext cx="1871280" cy="431640"/>
              </a:xfrm>
              <a:prstGeom prst="ellipse">
                <a:avLst/>
              </a:prstGeom>
              <a:solidFill>
                <a:srgbClr val="037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339640" y="3860640"/>
                <a:ext cx="20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6fd99"/>
                    </a:solidFill>
                    <a:latin typeface="Arial"/>
                  </a:rPr>
                  <a:t>三角形的分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268360" y="4869000"/>
              <a:ext cx="2158560" cy="431640"/>
              <a:chOff x="2268360" y="4869000"/>
              <a:chExt cx="2158560" cy="431640"/>
            </a:xfrm>
          </p:grpSpPr>
          <p:sp>
            <p:nvSpPr>
              <p:cNvPr id="543" name=""/>
              <p:cNvSpPr/>
              <p:nvPr/>
            </p:nvSpPr>
            <p:spPr>
              <a:xfrm>
                <a:off x="2268360" y="4869000"/>
                <a:ext cx="1871280" cy="431640"/>
              </a:xfrm>
              <a:prstGeom prst="ellipse">
                <a:avLst/>
              </a:prstGeom>
              <a:solidFill>
                <a:srgbClr val="037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339640" y="4869000"/>
                <a:ext cx="20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6fd99"/>
                    </a:solidFill>
                    <a:latin typeface="Arial"/>
                  </a:rPr>
                  <a:t>三角形三边关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2917800" y="3357720"/>
              <a:ext cx="504720" cy="35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17800" y="4437000"/>
              <a:ext cx="504720" cy="35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68360" y="189000"/>
            <a:ext cx="1368360" cy="431640"/>
            <a:chOff x="468360" y="189000"/>
            <a:chExt cx="1368360" cy="431640"/>
          </a:xfrm>
        </p:grpSpPr>
        <p:sp>
          <p:nvSpPr>
            <p:cNvPr id="548" name=""/>
            <p:cNvSpPr/>
            <p:nvPr/>
          </p:nvSpPr>
          <p:spPr>
            <a:xfrm>
              <a:off x="539640" y="189000"/>
              <a:ext cx="100764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8360" y="189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自我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076720" y="1557360"/>
            <a:ext cx="2592360" cy="2952720"/>
            <a:chOff x="5076720" y="1557360"/>
            <a:chExt cx="2592360" cy="2952720"/>
          </a:xfrm>
        </p:grpSpPr>
        <p:sp>
          <p:nvSpPr>
            <p:cNvPr id="551" name=""/>
            <p:cNvSpPr/>
            <p:nvPr/>
          </p:nvSpPr>
          <p:spPr>
            <a:xfrm>
              <a:off x="5076720" y="3357720"/>
              <a:ext cx="2016360" cy="11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76720" y="1557360"/>
              <a:ext cx="2016360" cy="115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21080" y="1773360"/>
              <a:ext cx="2448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解决实际问题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的三角形知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92720" y="3502080"/>
              <a:ext cx="22320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</a:rPr>
                <a:t>等腰三角形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</a:rPr>
                <a:t>的分类讨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lu"/>
    <p:sndAc>
      <p:stSnd>
        <p:snd r:embed="rId1" name="chimes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250920" y="333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堂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28600" y="1221480"/>
            <a:ext cx="695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现有两根木棒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它们的长度分别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cm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0cm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若不改变木棒的长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要钉成一个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角形木架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应在下列四根木棒中选取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.10cm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木棒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.20cm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木棒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.50cm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木棒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.60cm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木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640" y="2048040"/>
            <a:ext cx="662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已知等腰三角形的两边长分别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6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则它的周长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.9         B.12          C.15       D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2708280"/>
            <a:ext cx="79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已知三角形的三边长为连续整数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且周长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2cm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则它的最短边长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.2cm     B.3cm       C.4cm    D.5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23600" y="3435480"/>
            <a:ext cx="57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若五条线段的长分别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cm,2cm,3cm,4cm,5cm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则以其中三条线段为边可构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三角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50920" y="765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一、选择题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9280" y="314172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二、填空题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68680" y="4076640"/>
            <a:ext cx="569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若等腰三角形的两边长分别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7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则它的周长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_______;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若等腰三角形的两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长分别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则它的周长为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。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43920" y="4708080"/>
            <a:ext cx="51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如果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为等腰三角形的一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另一边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cm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则它的周长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250920" y="508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解答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用一根长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厘米的细铁丝围成一个等腰三角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如果腰长是底边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倍，那么各边的长是多少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能围成有一边的长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厘米的等腰三角形吗？为什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51280" y="1484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0360" y="2060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308720" y="2708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42920" y="3645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407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348000" y="4292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ff0066"/>
                </a:solidFill>
                <a:latin typeface="Arial"/>
              </a:rPr>
              <a:t>或</a:t>
            </a:r>
            <a:r>
              <a:rPr b="0" lang="zh-CN" sz="1600" spc="-1" strike="noStrike">
                <a:solidFill>
                  <a:srgbClr val="ff0066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04000" y="4653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25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1" name="chimes.wav"/>
      </p:stSnd>
    </p:sndAc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68360" y="836640"/>
            <a:ext cx="7920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68360" y="189000"/>
            <a:ext cx="1368360" cy="431640"/>
            <a:chOff x="468360" y="189000"/>
            <a:chExt cx="1368360" cy="431640"/>
          </a:xfrm>
        </p:grpSpPr>
        <p:sp>
          <p:nvSpPr>
            <p:cNvPr id="574" name=""/>
            <p:cNvSpPr/>
            <p:nvPr/>
          </p:nvSpPr>
          <p:spPr>
            <a:xfrm>
              <a:off x="539640" y="189000"/>
              <a:ext cx="100764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360" y="189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自我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395280" y="765000"/>
            <a:ext cx="828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草原上的四口油井，位于如图所示的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四个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置，现在要建立一个维修站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问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建在何处，才使它到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个油井的距离之和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HA+HB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HC+H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为最小？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282920" y="2563920"/>
            <a:ext cx="3744360" cy="2880720"/>
            <a:chOff x="4282920" y="2563920"/>
            <a:chExt cx="3744360" cy="2880720"/>
          </a:xfrm>
        </p:grpSpPr>
        <p:sp>
          <p:nvSpPr>
            <p:cNvPr id="578" name=""/>
            <p:cNvSpPr/>
            <p:nvPr/>
          </p:nvSpPr>
          <p:spPr>
            <a:xfrm>
              <a:off x="4803120" y="2563920"/>
              <a:ext cx="208800" cy="16488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715520" y="3057120"/>
              <a:ext cx="208440" cy="16524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18480" y="5196240"/>
              <a:ext cx="208800" cy="16524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82920" y="5279760"/>
              <a:ext cx="208800" cy="16488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4388040" y="2645280"/>
              <a:ext cx="3535560" cy="2715480"/>
              <a:chOff x="4388040" y="2645280"/>
              <a:chExt cx="3535560" cy="271548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4388040" y="2728440"/>
                <a:ext cx="518040" cy="2550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906440" y="2645280"/>
                <a:ext cx="2911320" cy="493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18120" y="3138840"/>
                <a:ext cx="105480" cy="2140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4388400" y="5279040"/>
                <a:ext cx="3535200" cy="81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>
            <a:off x="4067280" y="22017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162920" y="2492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718400" y="465120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80000" y="47941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427640" y="3211560"/>
            <a:ext cx="3311280" cy="2160720"/>
          </a:xfrm>
          <a:prstGeom prst="line">
            <a:avLst/>
          </a:prstGeom>
          <a:ln cap="rnd" w="93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930920" y="2635200"/>
            <a:ext cx="3024000" cy="2665440"/>
          </a:xfrm>
          <a:prstGeom prst="line">
            <a:avLst/>
          </a:prstGeom>
          <a:ln cap="rnd" w="93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23120" y="3952800"/>
            <a:ext cx="144360" cy="14436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227640" y="33559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580000" y="3860640"/>
            <a:ext cx="142920" cy="1429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75280" y="34275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427640" y="2635200"/>
            <a:ext cx="3456000" cy="2736720"/>
            <a:chOff x="4427640" y="2635200"/>
            <a:chExt cx="3456000" cy="2736720"/>
          </a:xfrm>
        </p:grpSpPr>
        <p:sp>
          <p:nvSpPr>
            <p:cNvPr id="598" name=""/>
            <p:cNvSpPr/>
            <p:nvPr/>
          </p:nvSpPr>
          <p:spPr>
            <a:xfrm flipH="1" flipV="1">
              <a:off x="4930920" y="2635200"/>
              <a:ext cx="720720" cy="12967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51640" y="3931920"/>
              <a:ext cx="2232000" cy="129564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4427640" y="3931920"/>
              <a:ext cx="1224000" cy="144000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651640" y="3139920"/>
              <a:ext cx="2160720" cy="79200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lu"/>
    <p:sndAc>
      <p:stSnd>
        <p:snd r:embed="rId1" name="chimes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76640"/>
            <a:ext cx="3635280" cy="225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3635280" cy="224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227640" y="2276640"/>
            <a:ext cx="2916360" cy="256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708360" y="3357720"/>
            <a:ext cx="2479680" cy="35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708360" y="0"/>
            <a:ext cx="2448000" cy="328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6227640" y="4923000"/>
            <a:ext cx="2916360" cy="193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6227640" y="0"/>
            <a:ext cx="2916360" cy="22114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900000" y="836640"/>
            <a:ext cx="1584360" cy="1079640"/>
            <a:chOff x="900000" y="836640"/>
            <a:chExt cx="1584360" cy="1079640"/>
          </a:xfrm>
        </p:grpSpPr>
        <p:sp>
          <p:nvSpPr>
            <p:cNvPr id="52" name=""/>
            <p:cNvSpPr/>
            <p:nvPr/>
          </p:nvSpPr>
          <p:spPr>
            <a:xfrm flipH="1">
              <a:off x="900000" y="836640"/>
              <a:ext cx="1008000" cy="107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900000" y="836640"/>
              <a:ext cx="1584360" cy="1079640"/>
              <a:chOff x="900000" y="836640"/>
              <a:chExt cx="1584360" cy="1079640"/>
            </a:xfrm>
          </p:grpSpPr>
          <p:sp>
            <p:nvSpPr>
              <p:cNvPr id="54" name=""/>
              <p:cNvSpPr/>
              <p:nvPr/>
            </p:nvSpPr>
            <p:spPr>
              <a:xfrm>
                <a:off x="1908000" y="836640"/>
                <a:ext cx="576360" cy="107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00000" y="1916280"/>
                <a:ext cx="158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0" y="4581360"/>
            <a:ext cx="3635280" cy="227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57" name=""/>
          <p:cNvGrpSpPr/>
          <p:nvPr/>
        </p:nvGrpSpPr>
        <p:grpSpPr>
          <a:xfrm>
            <a:off x="1403280" y="3500280"/>
            <a:ext cx="504720" cy="289080"/>
            <a:chOff x="1403280" y="3500280"/>
            <a:chExt cx="504720" cy="289080"/>
          </a:xfrm>
        </p:grpSpPr>
        <p:sp>
          <p:nvSpPr>
            <p:cNvPr id="58" name=""/>
            <p:cNvSpPr/>
            <p:nvPr/>
          </p:nvSpPr>
          <p:spPr>
            <a:xfrm flipH="1">
              <a:off x="1403280" y="3500280"/>
              <a:ext cx="21600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403280" y="3500280"/>
              <a:ext cx="504720" cy="289080"/>
              <a:chOff x="1403280" y="3500280"/>
              <a:chExt cx="504720" cy="289080"/>
            </a:xfrm>
          </p:grpSpPr>
          <p:sp>
            <p:nvSpPr>
              <p:cNvPr id="60" name=""/>
              <p:cNvSpPr/>
              <p:nvPr/>
            </p:nvSpPr>
            <p:spPr>
              <a:xfrm>
                <a:off x="1619280" y="3500280"/>
                <a:ext cx="288720" cy="28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403280" y="3789360"/>
                <a:ext cx="50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"/>
          <p:cNvGrpSpPr/>
          <p:nvPr/>
        </p:nvGrpSpPr>
        <p:grpSpPr>
          <a:xfrm>
            <a:off x="4427640" y="1700280"/>
            <a:ext cx="576000" cy="1152360"/>
            <a:chOff x="4427640" y="1700280"/>
            <a:chExt cx="576000" cy="1152360"/>
          </a:xfrm>
        </p:grpSpPr>
        <p:sp>
          <p:nvSpPr>
            <p:cNvPr id="63" name=""/>
            <p:cNvSpPr/>
            <p:nvPr/>
          </p:nvSpPr>
          <p:spPr>
            <a:xfrm>
              <a:off x="4932360" y="1700280"/>
              <a:ext cx="71280" cy="1152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427640" y="1701720"/>
              <a:ext cx="576000" cy="1149480"/>
              <a:chOff x="4427640" y="1701720"/>
              <a:chExt cx="576000" cy="1149480"/>
            </a:xfrm>
          </p:grpSpPr>
          <p:sp>
            <p:nvSpPr>
              <p:cNvPr id="65" name=""/>
              <p:cNvSpPr/>
              <p:nvPr/>
            </p:nvSpPr>
            <p:spPr>
              <a:xfrm flipV="1">
                <a:off x="4427640" y="1701720"/>
                <a:ext cx="504720" cy="2872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27640" y="1989000"/>
                <a:ext cx="576000" cy="8622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7164360" y="549360"/>
            <a:ext cx="1008000" cy="936720"/>
            <a:chOff x="7164360" y="549360"/>
            <a:chExt cx="1008000" cy="936720"/>
          </a:xfrm>
        </p:grpSpPr>
        <p:sp>
          <p:nvSpPr>
            <p:cNvPr id="68" name=""/>
            <p:cNvSpPr/>
            <p:nvPr/>
          </p:nvSpPr>
          <p:spPr>
            <a:xfrm flipH="1">
              <a:off x="7811640" y="621000"/>
              <a:ext cx="360360" cy="86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164360" y="549360"/>
              <a:ext cx="1008000" cy="936720"/>
              <a:chOff x="7164360" y="549360"/>
              <a:chExt cx="1008000" cy="936720"/>
            </a:xfrm>
          </p:grpSpPr>
          <p:sp>
            <p:nvSpPr>
              <p:cNvPr id="70" name=""/>
              <p:cNvSpPr/>
              <p:nvPr/>
            </p:nvSpPr>
            <p:spPr>
              <a:xfrm>
                <a:off x="7164360" y="621000"/>
                <a:ext cx="10080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64360" y="549360"/>
                <a:ext cx="647640" cy="936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116000" y="5300640"/>
            <a:ext cx="792000" cy="1224000"/>
            <a:chOff x="1116000" y="5300640"/>
            <a:chExt cx="792000" cy="1224000"/>
          </a:xfrm>
        </p:grpSpPr>
        <p:sp>
          <p:nvSpPr>
            <p:cNvPr id="73" name=""/>
            <p:cNvSpPr/>
            <p:nvPr/>
          </p:nvSpPr>
          <p:spPr>
            <a:xfrm flipH="1">
              <a:off x="1116000" y="5300640"/>
              <a:ext cx="287280" cy="936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03280" y="5300640"/>
              <a:ext cx="504720" cy="1224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16000" y="6237360"/>
              <a:ext cx="79200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850920" y="3429000"/>
            <a:ext cx="2305440" cy="1873080"/>
            <a:chOff x="3850920" y="3429000"/>
            <a:chExt cx="2305440" cy="1873080"/>
          </a:xfrm>
        </p:grpSpPr>
        <p:sp>
          <p:nvSpPr>
            <p:cNvPr id="77" name=""/>
            <p:cNvSpPr/>
            <p:nvPr/>
          </p:nvSpPr>
          <p:spPr>
            <a:xfrm flipH="1">
              <a:off x="3850920" y="3429000"/>
              <a:ext cx="865080" cy="1873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16360" y="3429000"/>
              <a:ext cx="1440000" cy="36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851280" y="3789000"/>
              <a:ext cx="2305080" cy="1512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164360" y="2421000"/>
            <a:ext cx="1079640" cy="1944720"/>
            <a:chOff x="7164360" y="2421000"/>
            <a:chExt cx="1079640" cy="1944720"/>
          </a:xfrm>
        </p:grpSpPr>
        <p:sp>
          <p:nvSpPr>
            <p:cNvPr id="81" name=""/>
            <p:cNvSpPr/>
            <p:nvPr/>
          </p:nvSpPr>
          <p:spPr>
            <a:xfrm flipH="1">
              <a:off x="7164360" y="2421000"/>
              <a:ext cx="503280" cy="1944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164360" y="2421000"/>
              <a:ext cx="1079640" cy="1944720"/>
              <a:chOff x="7164360" y="2421000"/>
              <a:chExt cx="1079640" cy="1944720"/>
            </a:xfrm>
          </p:grpSpPr>
          <p:sp>
            <p:nvSpPr>
              <p:cNvPr id="83" name=""/>
              <p:cNvSpPr/>
              <p:nvPr/>
            </p:nvSpPr>
            <p:spPr>
              <a:xfrm>
                <a:off x="7667640" y="2421000"/>
                <a:ext cx="576360" cy="1944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164360" y="4365720"/>
                <a:ext cx="1079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7308720" y="5373720"/>
            <a:ext cx="863640" cy="576360"/>
            <a:chOff x="7308720" y="5373720"/>
            <a:chExt cx="863640" cy="576360"/>
          </a:xfrm>
        </p:grpSpPr>
        <p:sp>
          <p:nvSpPr>
            <p:cNvPr id="86" name=""/>
            <p:cNvSpPr/>
            <p:nvPr/>
          </p:nvSpPr>
          <p:spPr>
            <a:xfrm flipH="1">
              <a:off x="7308720" y="5373720"/>
              <a:ext cx="43200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40720" y="5373720"/>
              <a:ext cx="43164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08720" y="5950080"/>
              <a:ext cx="863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lu"/>
    <p:sndAc>
      <p:stSnd>
        <p:snd r:embed="rId11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79280" y="189000"/>
            <a:ext cx="2232000" cy="398880"/>
            <a:chOff x="179280" y="189000"/>
            <a:chExt cx="2232000" cy="398880"/>
          </a:xfrm>
        </p:grpSpPr>
        <p:sp>
          <p:nvSpPr>
            <p:cNvPr id="90" name=""/>
            <p:cNvSpPr/>
            <p:nvPr/>
          </p:nvSpPr>
          <p:spPr>
            <a:xfrm>
              <a:off x="179280" y="260280"/>
              <a:ext cx="2087640" cy="28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9280" y="1890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活动一 自主学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1454040" cy="208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68360" y="189000"/>
            <a:ext cx="3832560" cy="792000"/>
          </a:xfrm>
          <a:prstGeom prst="wedgeRoundRectCallout">
            <a:avLst>
              <a:gd name="adj1" fmla="val -75601"/>
              <a:gd name="adj2" fmla="val 134370"/>
              <a:gd name="adj3" fmla="val 16667"/>
            </a:avLst>
          </a:prstGeom>
          <a:solidFill>
            <a:srgbClr val="cefec6"/>
          </a:solidFill>
          <a:ln w="9360">
            <a:solidFill>
              <a:srgbClr val="20c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通过认真地预习，你能回答下面的问题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47640" y="2133720"/>
            <a:ext cx="2158560" cy="2447280"/>
            <a:chOff x="1547640" y="2133720"/>
            <a:chExt cx="2158560" cy="2447280"/>
          </a:xfrm>
        </p:grpSpPr>
        <p:grpSp>
          <p:nvGrpSpPr>
            <p:cNvPr id="95" name=""/>
            <p:cNvGrpSpPr/>
            <p:nvPr/>
          </p:nvGrpSpPr>
          <p:grpSpPr>
            <a:xfrm>
              <a:off x="1547640" y="2133720"/>
              <a:ext cx="2158560" cy="2447280"/>
              <a:chOff x="1547640" y="2133720"/>
              <a:chExt cx="2158560" cy="24472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1547640" y="2133720"/>
                <a:ext cx="1800000" cy="502920"/>
                <a:chOff x="1547640" y="2133720"/>
                <a:chExt cx="1800000" cy="5029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47640" y="2133720"/>
                  <a:ext cx="1800000" cy="502920"/>
                </a:xfrm>
                <a:prstGeom prst="ellipse">
                  <a:avLst/>
                </a:prstGeom>
                <a:solidFill>
                  <a:srgbClr val="037f3e"/>
                </a:solidFill>
                <a:ln w="9360">
                  <a:solidFill>
                    <a:srgbClr val="037f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618920" y="2206440"/>
                  <a:ext cx="172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6fd99"/>
                      </a:solidFill>
                      <a:latin typeface="Arial"/>
                    </a:rPr>
                    <a:t>三角形的概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547640" y="3213000"/>
                <a:ext cx="1942920" cy="431280"/>
                <a:chOff x="1547640" y="3213000"/>
                <a:chExt cx="1942920" cy="4312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547640" y="3213000"/>
                  <a:ext cx="1800000" cy="431280"/>
                </a:xfrm>
                <a:prstGeom prst="ellipse">
                  <a:avLst/>
                </a:prstGeom>
                <a:solidFill>
                  <a:srgbClr val="037f3e"/>
                </a:solidFill>
                <a:ln w="9360">
                  <a:solidFill>
                    <a:srgbClr val="037f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690560" y="3213000"/>
                  <a:ext cx="180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6fd99"/>
                      </a:solidFill>
                      <a:latin typeface="Arial"/>
                    </a:rPr>
                    <a:t>三角形的构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547640" y="4149720"/>
                <a:ext cx="2158560" cy="431280"/>
                <a:chOff x="1547640" y="4149720"/>
                <a:chExt cx="2158560" cy="43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547640" y="4149720"/>
                  <a:ext cx="1871280" cy="431280"/>
                </a:xfrm>
                <a:prstGeom prst="ellipse">
                  <a:avLst/>
                </a:prstGeom>
                <a:solidFill>
                  <a:srgbClr val="037f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618920" y="4149720"/>
                  <a:ext cx="20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6fd99"/>
                      </a:solidFill>
                      <a:latin typeface="Arial"/>
                    </a:rPr>
                    <a:t>三角形的表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2193840" y="2709720"/>
              <a:ext cx="504720" cy="35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93840" y="3717720"/>
              <a:ext cx="504720" cy="35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348000" y="2133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  <a:ea typeface="隶书"/>
              </a:rPr>
              <a:t>●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  <a:ea typeface="隶书"/>
              </a:rPr>
              <a:t>三条线段  </a:t>
            </a: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隶书"/>
              </a:rPr>
              <a:t>●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  <a:ea typeface="隶书"/>
              </a:rPr>
              <a:t>不在同一直线上  </a:t>
            </a: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隶书"/>
              </a:rPr>
              <a:t>●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  <a:ea typeface="隶书"/>
              </a:rPr>
              <a:t>首尾顺次相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2068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  <a:ea typeface="隶书"/>
              </a:rPr>
              <a:t>● 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  <a:ea typeface="隶书"/>
              </a:rPr>
              <a:t>三条边  </a:t>
            </a: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隶书"/>
              </a:rPr>
              <a:t>●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  <a:ea typeface="隶书"/>
              </a:rPr>
              <a:t>三个（内）角  </a:t>
            </a: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隶书"/>
              </a:rPr>
              <a:t>●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  <a:ea typeface="隶书"/>
              </a:rPr>
              <a:t>三个顶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1497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隶书"/>
                <a:ea typeface="隶书"/>
              </a:rPr>
              <a:t>⊿</a:t>
            </a:r>
            <a:r>
              <a:rPr b="1" lang="zh-CN" sz="1800" spc="-1" strike="noStrike">
                <a:solidFill>
                  <a:srgbClr val="0000cc"/>
                </a:solidFill>
                <a:latin typeface="隶书"/>
                <a:ea typeface="隶书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140360" y="3860640"/>
            <a:ext cx="3744720" cy="2127600"/>
            <a:chOff x="4140360" y="3860640"/>
            <a:chExt cx="3744720" cy="2127600"/>
          </a:xfrm>
        </p:grpSpPr>
        <p:grpSp>
          <p:nvGrpSpPr>
            <p:cNvPr id="111" name=""/>
            <p:cNvGrpSpPr/>
            <p:nvPr/>
          </p:nvGrpSpPr>
          <p:grpSpPr>
            <a:xfrm>
              <a:off x="4452840" y="4194000"/>
              <a:ext cx="2819520" cy="1523880"/>
              <a:chOff x="4452840" y="4194000"/>
              <a:chExt cx="2819520" cy="152388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4452840" y="4194000"/>
                <a:ext cx="174528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52840" y="5717880"/>
                <a:ext cx="2819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98120" y="4194000"/>
                <a:ext cx="107388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6012000" y="38606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40360" y="55893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99280" y="55893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148360" y="4365720"/>
            <a:ext cx="2160360" cy="1744560"/>
            <a:chOff x="5148360" y="4365720"/>
            <a:chExt cx="2160360" cy="1744560"/>
          </a:xfrm>
        </p:grpSpPr>
        <p:sp>
          <p:nvSpPr>
            <p:cNvPr id="119" name=""/>
            <p:cNvSpPr/>
            <p:nvPr/>
          </p:nvSpPr>
          <p:spPr>
            <a:xfrm>
              <a:off x="5724360" y="55897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148360" y="4365720"/>
              <a:ext cx="2160360" cy="520560"/>
              <a:chOff x="5148360" y="4365720"/>
              <a:chExt cx="2160360" cy="520560"/>
            </a:xfrm>
          </p:grpSpPr>
          <p:sp>
            <p:nvSpPr>
              <p:cNvPr id="121" name=""/>
              <p:cNvSpPr/>
              <p:nvPr/>
            </p:nvSpPr>
            <p:spPr>
              <a:xfrm>
                <a:off x="6588000" y="43657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cc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48360" y="43657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cc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cover dir="lu"/>
    <p:sndAc>
      <p:stSnd>
        <p:snd r:embed="rId2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68360" y="333360"/>
            <a:ext cx="1368360" cy="431640"/>
            <a:chOff x="468360" y="333360"/>
            <a:chExt cx="1368360" cy="431640"/>
          </a:xfrm>
        </p:grpSpPr>
        <p:sp>
          <p:nvSpPr>
            <p:cNvPr id="124" name=""/>
            <p:cNvSpPr/>
            <p:nvPr/>
          </p:nvSpPr>
          <p:spPr>
            <a:xfrm>
              <a:off x="539640" y="333360"/>
              <a:ext cx="100764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360" y="333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自我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03640" y="2133720"/>
            <a:ext cx="2881440" cy="2072520"/>
            <a:chOff x="5003640" y="2133720"/>
            <a:chExt cx="2881440" cy="2072520"/>
          </a:xfrm>
        </p:grpSpPr>
        <p:grpSp>
          <p:nvGrpSpPr>
            <p:cNvPr id="127" name=""/>
            <p:cNvGrpSpPr/>
            <p:nvPr/>
          </p:nvGrpSpPr>
          <p:grpSpPr>
            <a:xfrm>
              <a:off x="5435640" y="2349360"/>
              <a:ext cx="2069640" cy="1630800"/>
              <a:chOff x="5435640" y="2349360"/>
              <a:chExt cx="2069640" cy="1630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435640" y="2784240"/>
                <a:ext cx="1648080" cy="1195920"/>
                <a:chOff x="5435640" y="2784240"/>
                <a:chExt cx="1648080" cy="11959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435640" y="2784240"/>
                  <a:ext cx="152640" cy="1195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588280" y="3980160"/>
                  <a:ext cx="14950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>
                  <a:off x="5435640" y="2784240"/>
                  <a:ext cx="1648080" cy="1195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 flipV="1">
                <a:off x="5588280" y="2349360"/>
                <a:ext cx="1917000" cy="1630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7083720" y="2349360"/>
                <a:ext cx="421560" cy="1630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003640" y="25290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96200" y="21337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73920" y="3746520"/>
              <a:ext cx="4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0040" y="374508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00840" y="2913120"/>
              <a:ext cx="4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55640" y="907920"/>
            <a:ext cx="504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图中有几个三角形？怎样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以</a:t>
            </a:r>
            <a:r>
              <a:rPr b="1" i="1" lang="zh-CN" sz="2400" spc="-1" strike="noStrike">
                <a:solidFill>
                  <a:srgbClr val="0000cc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为边的三角形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以</a:t>
            </a:r>
            <a:r>
              <a:rPr b="1" i="1" lang="zh-CN" sz="24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为顶点的三角形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以∠</a:t>
            </a:r>
            <a:r>
              <a:rPr b="1" i="1" lang="zh-CN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为角的三角形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说出⊿</a:t>
            </a:r>
            <a:r>
              <a:rPr b="1" i="1" lang="zh-CN" sz="2400" spc="-1" strike="noStrike">
                <a:solidFill>
                  <a:srgbClr val="0000cc"/>
                </a:solidFill>
                <a:latin typeface="Arial"/>
              </a:rPr>
              <a:t>BCD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三个角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∠</a:t>
            </a:r>
            <a:r>
              <a:rPr b="1" i="1" lang="zh-CN" sz="2400" spc="-1" strike="noStrike">
                <a:solidFill>
                  <a:srgbClr val="0000cc"/>
                </a:solidFill>
                <a:latin typeface="Arial"/>
              </a:rPr>
              <a:t>DBC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对边是哪条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i="1" lang="zh-CN" sz="2400" spc="-1" strike="noStrike">
                <a:solidFill>
                  <a:srgbClr val="0000cc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边的对角是哪个角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79280" y="189000"/>
            <a:ext cx="2232000" cy="398880"/>
            <a:chOff x="179280" y="189000"/>
            <a:chExt cx="2232000" cy="398880"/>
          </a:xfrm>
        </p:grpSpPr>
        <p:sp>
          <p:nvSpPr>
            <p:cNvPr id="141" name=""/>
            <p:cNvSpPr/>
            <p:nvPr/>
          </p:nvSpPr>
          <p:spPr>
            <a:xfrm>
              <a:off x="179280" y="260280"/>
              <a:ext cx="2087640" cy="28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9280" y="1890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活动二 合作交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68360" y="260280"/>
            <a:ext cx="6192720" cy="1725480"/>
            <a:chOff x="468360" y="260280"/>
            <a:chExt cx="6192720" cy="17254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468360" y="549000"/>
              <a:ext cx="1001520" cy="14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00360" y="260280"/>
              <a:ext cx="3960720" cy="360360"/>
            </a:xfrm>
            <a:prstGeom prst="wedgeRoundRectCallout">
              <a:avLst>
                <a:gd name="adj1" fmla="val -91162"/>
                <a:gd name="adj2" fmla="val 235462"/>
                <a:gd name="adj3" fmla="val 16667"/>
              </a:avLst>
            </a:prstGeom>
            <a:solidFill>
              <a:srgbClr val="cefec6"/>
            </a:solidFill>
            <a:ln w="9360">
              <a:solidFill>
                <a:srgbClr val="20c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你能把三角形进行合理分类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771640" y="1125360"/>
            <a:ext cx="4392360" cy="1470600"/>
            <a:chOff x="2771640" y="1125360"/>
            <a:chExt cx="4392360" cy="1470600"/>
          </a:xfrm>
        </p:grpSpPr>
        <p:grpSp>
          <p:nvGrpSpPr>
            <p:cNvPr id="147" name=""/>
            <p:cNvGrpSpPr/>
            <p:nvPr/>
          </p:nvGrpSpPr>
          <p:grpSpPr>
            <a:xfrm>
              <a:off x="2771640" y="1197000"/>
              <a:ext cx="2736720" cy="1398960"/>
              <a:chOff x="2771640" y="1197000"/>
              <a:chExt cx="2736720" cy="1398960"/>
            </a:xfrm>
          </p:grpSpPr>
          <p:sp>
            <p:nvSpPr>
              <p:cNvPr id="148" name=""/>
              <p:cNvSpPr/>
              <p:nvPr/>
            </p:nvSpPr>
            <p:spPr>
              <a:xfrm>
                <a:off x="2771640" y="1701720"/>
                <a:ext cx="100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按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角</a:t>
                </a: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79640" y="1197000"/>
                <a:ext cx="13683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52720" y="1269720"/>
                <a:ext cx="1655640" cy="13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直角三角形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锐角三角形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钝角三角形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52720" y="1412640"/>
                <a:ext cx="71280" cy="1007640"/>
              </a:xfrm>
              <a:custGeom>
                <a:avLst/>
                <a:gdLst>
                  <a:gd name="textAreaLeft" fmla="*/ 45720 w 71280"/>
                  <a:gd name="textAreaRight" fmla="*/ 71640 w 71280"/>
                  <a:gd name="textAreaTop" fmla="*/ 26280 h 1007640"/>
                  <a:gd name="textAreaBottom" fmla="*/ 981360 h 10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36720" y="1846080"/>
                <a:ext cx="216000" cy="142560"/>
              </a:xfrm>
              <a:prstGeom prst="rightArrow">
                <a:avLst>
                  <a:gd name="adj1" fmla="val 50000"/>
                  <a:gd name="adj2" fmla="val 37879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940360" y="1125360"/>
              <a:ext cx="1223640" cy="1368720"/>
              <a:chOff x="5940360" y="1125360"/>
              <a:chExt cx="1223640" cy="1368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12000" y="1125360"/>
                <a:ext cx="934920" cy="360720"/>
              </a:xfrm>
              <a:prstGeom prst="rtTriangle">
                <a:avLst/>
              </a:prstGeom>
              <a:noFill/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6011640" y="1557360"/>
                <a:ext cx="792360" cy="504720"/>
                <a:chOff x="6011640" y="1557360"/>
                <a:chExt cx="792360" cy="50472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6011640" y="1557360"/>
                  <a:ext cx="360360" cy="50472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372360" y="1557360"/>
                  <a:ext cx="431640" cy="50472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12000" y="2062080"/>
                  <a:ext cx="792000" cy="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940360" y="2133720"/>
                <a:ext cx="1223640" cy="360360"/>
                <a:chOff x="5940360" y="2133720"/>
                <a:chExt cx="1223640" cy="360360"/>
              </a:xfrm>
            </p:grpSpPr>
            <p:sp>
              <p:nvSpPr>
                <p:cNvPr id="160" name=""/>
                <p:cNvSpPr/>
                <p:nvPr/>
              </p:nvSpPr>
              <p:spPr>
                <a:xfrm flipH="1">
                  <a:off x="5940360" y="2133720"/>
                  <a:ext cx="556560" cy="36036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496920" y="2133720"/>
                  <a:ext cx="666720" cy="36036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40360" y="2494080"/>
                  <a:ext cx="1223640" cy="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5435640" y="1413000"/>
              <a:ext cx="360360" cy="1079280"/>
              <a:chOff x="5435640" y="1413000"/>
              <a:chExt cx="360360" cy="1079280"/>
            </a:xfrm>
          </p:grpSpPr>
          <p:sp>
            <p:nvSpPr>
              <p:cNvPr id="164" name=""/>
              <p:cNvSpPr/>
              <p:nvPr/>
            </p:nvSpPr>
            <p:spPr>
              <a:xfrm>
                <a:off x="5437080" y="1413000"/>
                <a:ext cx="358920" cy="144360"/>
              </a:xfrm>
              <a:prstGeom prst="rightArrow">
                <a:avLst>
                  <a:gd name="adj1" fmla="val 50000"/>
                  <a:gd name="adj2" fmla="val 62157"/>
                </a:avLst>
              </a:prstGeom>
              <a:solidFill>
                <a:srgbClr val="ff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35640" y="1844640"/>
                <a:ext cx="358560" cy="144360"/>
              </a:xfrm>
              <a:prstGeom prst="rightArrow">
                <a:avLst>
                  <a:gd name="adj1" fmla="val 50000"/>
                  <a:gd name="adj2" fmla="val 62095"/>
                </a:avLst>
              </a:prstGeom>
              <a:solidFill>
                <a:srgbClr val="ff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35640" y="2349360"/>
                <a:ext cx="358560" cy="142920"/>
              </a:xfrm>
              <a:prstGeom prst="rightArrow">
                <a:avLst>
                  <a:gd name="adj1" fmla="val 50000"/>
                  <a:gd name="adj2" fmla="val 62720"/>
                </a:avLst>
              </a:prstGeom>
              <a:solidFill>
                <a:srgbClr val="ff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395280" y="3141720"/>
            <a:ext cx="5689440" cy="1989000"/>
            <a:chOff x="395280" y="3141720"/>
            <a:chExt cx="5689440" cy="1989000"/>
          </a:xfrm>
        </p:grpSpPr>
        <p:grpSp>
          <p:nvGrpSpPr>
            <p:cNvPr id="168" name=""/>
            <p:cNvGrpSpPr/>
            <p:nvPr/>
          </p:nvGrpSpPr>
          <p:grpSpPr>
            <a:xfrm>
              <a:off x="395280" y="3284640"/>
              <a:ext cx="5076720" cy="1789920"/>
              <a:chOff x="395280" y="3284640"/>
              <a:chExt cx="5076720" cy="1789920"/>
            </a:xfrm>
          </p:grpSpPr>
          <p:sp>
            <p:nvSpPr>
              <p:cNvPr id="169" name=""/>
              <p:cNvSpPr/>
              <p:nvPr/>
            </p:nvSpPr>
            <p:spPr>
              <a:xfrm>
                <a:off x="395280" y="3716280"/>
                <a:ext cx="151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按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边</a:t>
                </a: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47640" y="3284640"/>
                <a:ext cx="3924360" cy="17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不等边三角形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                         </a:t>
                </a: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腰≠边的三角形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等腰三角形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                         </a:t>
                </a:r>
                <a:r>
                  <a:rPr b="1" lang="zh-CN" sz="2000" spc="-1" strike="noStrike">
                    <a:solidFill>
                      <a:srgbClr val="0000cc"/>
                    </a:solidFill>
                    <a:latin typeface="Arial"/>
                  </a:rPr>
                  <a:t>等边三角形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47640" y="3500280"/>
                <a:ext cx="73080" cy="934560"/>
              </a:xfrm>
              <a:custGeom>
                <a:avLst/>
                <a:gdLst>
                  <a:gd name="textAreaLeft" fmla="*/ 46800 w 73080"/>
                  <a:gd name="textAreaRight" fmla="*/ 73440 w 73080"/>
                  <a:gd name="textAreaTop" fmla="*/ 24120 h 934560"/>
                  <a:gd name="textAreaBottom" fmla="*/ 910440 h 93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74920" y="3933720"/>
                <a:ext cx="73080" cy="934560"/>
              </a:xfrm>
              <a:custGeom>
                <a:avLst/>
                <a:gdLst>
                  <a:gd name="textAreaLeft" fmla="*/ 46800 w 73080"/>
                  <a:gd name="textAreaRight" fmla="*/ 73440 w 73080"/>
                  <a:gd name="textAreaTop" fmla="*/ 24120 h 934560"/>
                  <a:gd name="textAreaBottom" fmla="*/ 910440 h 93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31640" y="3860640"/>
                <a:ext cx="216000" cy="215640"/>
              </a:xfrm>
              <a:prstGeom prst="rightArrow">
                <a:avLst>
                  <a:gd name="adj1" fmla="val 50000"/>
                  <a:gd name="adj2" fmla="val 25042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87640" y="4292280"/>
                <a:ext cx="215640" cy="21564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349800" y="3141720"/>
              <a:ext cx="1726560" cy="503280"/>
              <a:chOff x="3349800" y="3141720"/>
              <a:chExt cx="1726560" cy="50328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3852360" y="3141720"/>
                <a:ext cx="1224000" cy="503280"/>
                <a:chOff x="3852360" y="3141720"/>
                <a:chExt cx="1224000" cy="503280"/>
              </a:xfrm>
            </p:grpSpPr>
            <p:sp>
              <p:nvSpPr>
                <p:cNvPr id="177" name=""/>
                <p:cNvSpPr/>
                <p:nvPr/>
              </p:nvSpPr>
              <p:spPr>
                <a:xfrm flipH="1">
                  <a:off x="3852360" y="3141720"/>
                  <a:ext cx="215640" cy="50328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68360" y="3141720"/>
                  <a:ext cx="1008000" cy="28728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3852720" y="3429000"/>
                  <a:ext cx="1223640" cy="21600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3349800" y="3430440"/>
                <a:ext cx="358560" cy="142920"/>
              </a:xfrm>
              <a:prstGeom prst="rightArrow">
                <a:avLst>
                  <a:gd name="adj1" fmla="val 50000"/>
                  <a:gd name="adj2" fmla="val 62720"/>
                </a:avLst>
              </a:prstGeom>
              <a:solidFill>
                <a:srgbClr val="ff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294160" y="3357720"/>
              <a:ext cx="790560" cy="934920"/>
              <a:chOff x="5294160" y="3357720"/>
              <a:chExt cx="790560" cy="934920"/>
            </a:xfrm>
          </p:grpSpPr>
          <p:sp>
            <p:nvSpPr>
              <p:cNvPr id="182" name=""/>
              <p:cNvSpPr/>
              <p:nvPr/>
            </p:nvSpPr>
            <p:spPr>
              <a:xfrm>
                <a:off x="5724360" y="3357720"/>
                <a:ext cx="360360" cy="93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94160" y="3862440"/>
                <a:ext cx="358560" cy="142920"/>
              </a:xfrm>
              <a:prstGeom prst="rightArrow">
                <a:avLst>
                  <a:gd name="adj1" fmla="val 50000"/>
                  <a:gd name="adj2" fmla="val 62720"/>
                </a:avLst>
              </a:prstGeom>
              <a:solidFill>
                <a:srgbClr val="ff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788000" y="4508640"/>
              <a:ext cx="1150920" cy="622080"/>
              <a:chOff x="4788000" y="4508640"/>
              <a:chExt cx="1150920" cy="622080"/>
            </a:xfrm>
          </p:grpSpPr>
          <p:sp>
            <p:nvSpPr>
              <p:cNvPr id="185" name=""/>
              <p:cNvSpPr/>
              <p:nvPr/>
            </p:nvSpPr>
            <p:spPr>
              <a:xfrm>
                <a:off x="5220000" y="4508640"/>
                <a:ext cx="718920" cy="6220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88000" y="4799160"/>
                <a:ext cx="358920" cy="142560"/>
              </a:xfrm>
              <a:prstGeom prst="rightArrow">
                <a:avLst>
                  <a:gd name="adj1" fmla="val 50000"/>
                  <a:gd name="adj2" fmla="val 62942"/>
                </a:avLst>
              </a:prstGeom>
              <a:solidFill>
                <a:srgbClr val="ff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6732720" y="3141720"/>
            <a:ext cx="1707840" cy="21603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732720" y="4003560"/>
            <a:ext cx="1639800" cy="1665360"/>
            <a:chOff x="6732720" y="4003560"/>
            <a:chExt cx="1639800" cy="1665360"/>
          </a:xfrm>
        </p:grpSpPr>
        <p:sp>
          <p:nvSpPr>
            <p:cNvPr id="189" name=""/>
            <p:cNvSpPr/>
            <p:nvPr/>
          </p:nvSpPr>
          <p:spPr>
            <a:xfrm>
              <a:off x="8028000" y="4005360"/>
              <a:ext cx="3445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cc"/>
                  </a:solidFill>
                  <a:latin typeface="Arial"/>
                </a:rPr>
                <a:t>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6732720" y="4003560"/>
              <a:ext cx="5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cc"/>
                  </a:solidFill>
                  <a:latin typeface="Arial"/>
                </a:rPr>
                <a:t>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08720" y="5300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cc"/>
                  </a:solidFill>
                  <a:latin typeface="Arial"/>
                </a:rPr>
                <a:t>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732720" y="3567240"/>
            <a:ext cx="1820880" cy="1742760"/>
            <a:chOff x="6732720" y="3567240"/>
            <a:chExt cx="1820880" cy="1742760"/>
          </a:xfrm>
        </p:grpSpPr>
        <p:sp>
          <p:nvSpPr>
            <p:cNvPr id="193" name=""/>
            <p:cNvSpPr/>
            <p:nvPr/>
          </p:nvSpPr>
          <p:spPr>
            <a:xfrm flipV="1" rot="10800000">
              <a:off x="7216560" y="3566880"/>
              <a:ext cx="102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cc"/>
                  </a:solidFill>
                  <a:latin typeface="Arial"/>
                </a:rPr>
                <a:t>顶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0720" y="4941720"/>
              <a:ext cx="8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cc"/>
                  </a:solidFill>
                  <a:latin typeface="Arial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4941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cc"/>
                  </a:solidFill>
                  <a:latin typeface="Arial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lu"/>
    <p:sndAc>
      <p:stSnd>
        <p:snd r:embed="rId2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79280" y="189000"/>
            <a:ext cx="2232000" cy="398880"/>
            <a:chOff x="179280" y="189000"/>
            <a:chExt cx="2232000" cy="398880"/>
          </a:xfrm>
        </p:grpSpPr>
        <p:sp>
          <p:nvSpPr>
            <p:cNvPr id="197" name=""/>
            <p:cNvSpPr/>
            <p:nvPr/>
          </p:nvSpPr>
          <p:spPr>
            <a:xfrm>
              <a:off x="179280" y="260280"/>
              <a:ext cx="2087640" cy="28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280" y="1890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活动三 探究思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014160" y="907920"/>
            <a:ext cx="2235240" cy="1899360"/>
            <a:chOff x="6014160" y="907920"/>
            <a:chExt cx="2235240" cy="1899360"/>
          </a:xfrm>
        </p:grpSpPr>
        <p:grpSp>
          <p:nvGrpSpPr>
            <p:cNvPr id="200" name=""/>
            <p:cNvGrpSpPr/>
            <p:nvPr/>
          </p:nvGrpSpPr>
          <p:grpSpPr>
            <a:xfrm>
              <a:off x="6406560" y="1339560"/>
              <a:ext cx="1511640" cy="1224000"/>
              <a:chOff x="6406560" y="1339560"/>
              <a:chExt cx="1511640" cy="122400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6406560" y="1339560"/>
                <a:ext cx="792360" cy="1224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06920" y="2563560"/>
                <a:ext cx="1511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7198920" y="1339560"/>
                <a:ext cx="718920" cy="1224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056720" y="907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14160" y="234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49080" y="234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300720" y="2492280"/>
            <a:ext cx="503280" cy="495000"/>
            <a:chOff x="6300720" y="2492280"/>
            <a:chExt cx="503280" cy="495000"/>
          </a:xfrm>
        </p:grpSpPr>
        <p:sp>
          <p:nvSpPr>
            <p:cNvPr id="208" name=""/>
            <p:cNvSpPr/>
            <p:nvPr/>
          </p:nvSpPr>
          <p:spPr>
            <a:xfrm>
              <a:off x="6373440" y="2492280"/>
              <a:ext cx="71640" cy="1443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300720" y="2636640"/>
              <a:ext cx="5032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/>
          <p:cNvSpPr/>
          <p:nvPr/>
        </p:nvSpPr>
        <p:spPr>
          <a:xfrm>
            <a:off x="539640" y="69228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壁虎要从点</a:t>
            </a:r>
            <a:r>
              <a:rPr b="1" i="1" lang="zh-CN" sz="28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出发沿着三角形的边爬到点</a:t>
            </a:r>
            <a:r>
              <a:rPr b="1" i="1" lang="zh-CN" sz="28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有几条路线可以选择？各条路线的长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11280" y="2344680"/>
            <a:ext cx="3816360" cy="581400"/>
            <a:chOff x="611280" y="2344680"/>
            <a:chExt cx="3816360" cy="581400"/>
          </a:xfrm>
        </p:grpSpPr>
        <p:sp>
          <p:nvSpPr>
            <p:cNvPr id="212" name=""/>
            <p:cNvSpPr/>
            <p:nvPr/>
          </p:nvSpPr>
          <p:spPr>
            <a:xfrm>
              <a:off x="611280" y="234468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路线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1:  </a:t>
              </a:r>
              <a:r>
                <a:rPr b="1" i="1" lang="zh-CN" sz="3200" spc="-1" strike="noStrike">
                  <a:solidFill>
                    <a:srgbClr val="0000cc"/>
                  </a:solidFill>
                  <a:latin typeface="Arial"/>
                </a:rPr>
                <a:t>B      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84360" y="2631960"/>
              <a:ext cx="57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11280" y="2997360"/>
            <a:ext cx="5400720" cy="581400"/>
            <a:chOff x="611280" y="2997360"/>
            <a:chExt cx="5400720" cy="581400"/>
          </a:xfrm>
        </p:grpSpPr>
        <p:sp>
          <p:nvSpPr>
            <p:cNvPr id="215" name=""/>
            <p:cNvSpPr/>
            <p:nvPr/>
          </p:nvSpPr>
          <p:spPr>
            <a:xfrm>
              <a:off x="611280" y="2997360"/>
              <a:ext cx="54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路线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2:  </a:t>
              </a:r>
              <a:r>
                <a:rPr b="1" i="1" lang="zh-CN" sz="3200" spc="-1" strike="noStrike">
                  <a:solidFill>
                    <a:srgbClr val="0000cc"/>
                  </a:solidFill>
                  <a:latin typeface="Arial"/>
                </a:rPr>
                <a:t>B      A      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84360" y="3284640"/>
              <a:ext cx="57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21080" y="3284640"/>
              <a:ext cx="57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11280" y="3573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Arial"/>
              </a:rPr>
              <a:t>AB+AC&gt;BC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点之间，线段最短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95280" y="4292640"/>
            <a:ext cx="5040360" cy="1008000"/>
            <a:chOff x="395280" y="4292640"/>
            <a:chExt cx="5040360" cy="1008000"/>
          </a:xfrm>
        </p:grpSpPr>
        <p:sp>
          <p:nvSpPr>
            <p:cNvPr id="220" name=""/>
            <p:cNvSpPr/>
            <p:nvPr/>
          </p:nvSpPr>
          <p:spPr>
            <a:xfrm>
              <a:off x="684360" y="4365720"/>
              <a:ext cx="475128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5280" y="4292640"/>
              <a:ext cx="4968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●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三角形的三边关系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三角形两边之和大于第三边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lu"/>
    <p:sndAc>
      <p:stSnd>
        <p:snd r:embed="rId3" name="chimes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16146 -0.00463 E">
                                      <p:cBhvr>
                                        <p:cTn id="130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0.02899 -0.08727 0.05816 -0.1743 0.08611 -0.17361 C 0.11406 -0.17292 0.15434 -0.02477 0.16736 0.00463 E">
                                      <p:cBhvr>
                                        <p:cTn id="140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539280" y="836280"/>
            <a:ext cx="7921800" cy="5111280"/>
            <a:chOff x="539280" y="836280"/>
            <a:chExt cx="7921800" cy="5111280"/>
          </a:xfrm>
        </p:grpSpPr>
        <p:sp>
          <p:nvSpPr>
            <p:cNvPr id="223" name=""/>
            <p:cNvSpPr/>
            <p:nvPr/>
          </p:nvSpPr>
          <p:spPr>
            <a:xfrm>
              <a:off x="900000" y="836640"/>
              <a:ext cx="741708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PlaceHolder 1"/>
            <p:cNvSpPr>
              <a:spLocks noGrp="1"/>
            </p:cNvSpPr>
            <p:nvPr>
              <p:ph/>
            </p:nvPr>
          </p:nvSpPr>
          <p:spPr>
            <a:xfrm>
              <a:off x="539280" y="836280"/>
              <a:ext cx="792180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lnSpc>
                  <a:spcPct val="90000"/>
                </a:lnSpc>
                <a:spcBef>
                  <a:spcPts val="7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新宋体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新宋体"/>
                </a:rPr>
                <a:t>村庄和小学分别位于两条交叉的大路边，可是每年冬天麦田弄不好就会走出一条小路来。你说小学生为什么会这样走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258920" y="2492280"/>
              <a:ext cx="5904360" cy="3455280"/>
              <a:chOff x="1258920" y="2492280"/>
              <a:chExt cx="5904360" cy="345528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547280" y="2708280"/>
                <a:ext cx="5616000" cy="3239280"/>
                <a:chOff x="1547280" y="2708280"/>
                <a:chExt cx="5616000" cy="323928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1547280" y="2708280"/>
                  <a:ext cx="5616000" cy="3239280"/>
                  <a:chOff x="1547280" y="2708280"/>
                  <a:chExt cx="5616000" cy="323928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1547280" y="2708280"/>
                    <a:ext cx="5615640" cy="3238200"/>
                    <a:chOff x="1547280" y="2708280"/>
                    <a:chExt cx="5615640" cy="3238200"/>
                  </a:xfrm>
                </p:grpSpPr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1547280" y="2709720"/>
                      <a:ext cx="3774240" cy="3236760"/>
                      <a:chOff x="1547280" y="2709720"/>
                      <a:chExt cx="3774240" cy="323676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5321520" y="2709720"/>
                        <a:ext cx="0" cy="1978200"/>
                      </a:xfrm>
                      <a:prstGeom prst="line">
                        <a:avLst/>
                      </a:prstGeom>
                      <a:ln w="7632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 flipH="1">
                        <a:off x="1547280" y="4687920"/>
                        <a:ext cx="37738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1547640" y="5136120"/>
                        <a:ext cx="37738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5321520" y="5137920"/>
                        <a:ext cx="0" cy="808560"/>
                      </a:xfrm>
                      <a:prstGeom prst="line">
                        <a:avLst/>
                      </a:prstGeom>
                      <a:ln w="7632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5780520" y="2708280"/>
                      <a:ext cx="1382400" cy="1977840"/>
                      <a:chOff x="5780520" y="2708280"/>
                      <a:chExt cx="1382400" cy="1977840"/>
                    </a:xfrm>
                  </p:grpSpPr>
                  <p:sp>
                    <p:nvSpPr>
                      <p:cNvPr id="235" name=""/>
                      <p:cNvSpPr/>
                      <p:nvPr/>
                    </p:nvSpPr>
                    <p:spPr>
                      <a:xfrm flipH="1">
                        <a:off x="5780520" y="4686120"/>
                        <a:ext cx="138240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 flipV="1">
                        <a:off x="5780520" y="2708280"/>
                        <a:ext cx="0" cy="1977840"/>
                      </a:xfrm>
                      <a:prstGeom prst="line">
                        <a:avLst/>
                      </a:prstGeom>
                      <a:ln w="7632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5780880" y="5138280"/>
                    <a:ext cx="1382400" cy="809280"/>
                    <a:chOff x="5780880" y="5138280"/>
                    <a:chExt cx="1382400" cy="8092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780880" y="5138280"/>
                      <a:ext cx="0" cy="809280"/>
                    </a:xfrm>
                    <a:prstGeom prst="line">
                      <a:avLst/>
                    </a:prstGeom>
                    <a:ln w="7632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5781240" y="5138280"/>
                      <a:ext cx="1382040" cy="0"/>
                    </a:xfrm>
                    <a:prstGeom prst="line">
                      <a:avLst/>
                    </a:prstGeom>
                    <a:ln w="7632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40" name=""/>
                <p:cNvSpPr/>
                <p:nvPr/>
              </p:nvSpPr>
              <p:spPr>
                <a:xfrm>
                  <a:off x="5819760" y="2888640"/>
                  <a:ext cx="1197360" cy="459720"/>
                </a:xfrm>
                <a:prstGeom prst="rect">
                  <a:avLst/>
                </a:prstGeom>
                <a:solidFill>
                  <a:srgbClr val="808080"/>
                </a:solidFill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村庄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112560" y="5138640"/>
                  <a:ext cx="1288440" cy="459720"/>
                </a:xfrm>
                <a:prstGeom prst="rect">
                  <a:avLst/>
                </a:prstGeom>
                <a:solidFill>
                  <a:srgbClr val="808080"/>
                </a:solidFill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学校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635280" y="2492280"/>
                <a:ext cx="214920" cy="360360"/>
                <a:chOff x="3635280" y="2492280"/>
                <a:chExt cx="214920" cy="360360"/>
              </a:xfrm>
            </p:grpSpPr>
            <p:sp>
              <p:nvSpPr>
                <p:cNvPr id="243" name=""/>
                <p:cNvSpPr/>
                <p:nvPr/>
              </p:nvSpPr>
              <p:spPr>
                <a:xfrm flipH="1">
                  <a:off x="3778920" y="2708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78920" y="2492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635280" y="2779560"/>
                  <a:ext cx="14364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211280" y="2492280"/>
                <a:ext cx="215280" cy="360360"/>
                <a:chOff x="4211280" y="2492280"/>
                <a:chExt cx="215280" cy="360360"/>
              </a:xfrm>
            </p:grpSpPr>
            <p:sp>
              <p:nvSpPr>
                <p:cNvPr id="247" name=""/>
                <p:cNvSpPr/>
                <p:nvPr/>
              </p:nvSpPr>
              <p:spPr>
                <a:xfrm flipH="1">
                  <a:off x="4355280" y="2708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355280" y="2492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211280" y="2779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2411280" y="2492280"/>
                <a:ext cx="215280" cy="360360"/>
                <a:chOff x="2411280" y="2492280"/>
                <a:chExt cx="215280" cy="360360"/>
              </a:xfrm>
            </p:grpSpPr>
            <p:sp>
              <p:nvSpPr>
                <p:cNvPr id="251" name=""/>
                <p:cNvSpPr/>
                <p:nvPr/>
              </p:nvSpPr>
              <p:spPr>
                <a:xfrm flipH="1">
                  <a:off x="2555280" y="2708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555280" y="2492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411280" y="2779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060360" y="2492280"/>
                <a:ext cx="215280" cy="360360"/>
                <a:chOff x="3060360" y="2492280"/>
                <a:chExt cx="215280" cy="360360"/>
              </a:xfrm>
            </p:grpSpPr>
            <p:sp>
              <p:nvSpPr>
                <p:cNvPr id="255" name=""/>
                <p:cNvSpPr/>
                <p:nvPr/>
              </p:nvSpPr>
              <p:spPr>
                <a:xfrm flipH="1">
                  <a:off x="3204360" y="2708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204360" y="2492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060360" y="2779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1836360" y="2492280"/>
                <a:ext cx="215280" cy="360360"/>
                <a:chOff x="1836360" y="2492280"/>
                <a:chExt cx="215280" cy="360360"/>
              </a:xfrm>
            </p:grpSpPr>
            <p:sp>
              <p:nvSpPr>
                <p:cNvPr id="259" name=""/>
                <p:cNvSpPr/>
                <p:nvPr/>
              </p:nvSpPr>
              <p:spPr>
                <a:xfrm flipH="1">
                  <a:off x="1980360" y="2708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980360" y="2492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36360" y="2779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331640" y="3068640"/>
                <a:ext cx="215280" cy="360360"/>
                <a:chOff x="1331640" y="3068640"/>
                <a:chExt cx="215280" cy="360360"/>
              </a:xfrm>
            </p:grpSpPr>
            <p:sp>
              <p:nvSpPr>
                <p:cNvPr id="263" name=""/>
                <p:cNvSpPr/>
                <p:nvPr/>
              </p:nvSpPr>
              <p:spPr>
                <a:xfrm flipH="1">
                  <a:off x="1475640" y="328464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75640" y="306864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331640" y="335592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258920" y="4221000"/>
                <a:ext cx="215280" cy="360360"/>
                <a:chOff x="1258920" y="4221000"/>
                <a:chExt cx="215280" cy="360360"/>
              </a:xfrm>
            </p:grpSpPr>
            <p:sp>
              <p:nvSpPr>
                <p:cNvPr id="267" name=""/>
                <p:cNvSpPr/>
                <p:nvPr/>
              </p:nvSpPr>
              <p:spPr>
                <a:xfrm flipH="1">
                  <a:off x="1402920" y="443700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02920" y="422100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258920" y="450828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716360" y="2492280"/>
                <a:ext cx="214920" cy="360360"/>
                <a:chOff x="4716360" y="2492280"/>
                <a:chExt cx="214920" cy="360360"/>
              </a:xfrm>
            </p:grpSpPr>
            <p:sp>
              <p:nvSpPr>
                <p:cNvPr id="271" name=""/>
                <p:cNvSpPr/>
                <p:nvPr/>
              </p:nvSpPr>
              <p:spPr>
                <a:xfrm flipH="1">
                  <a:off x="4860000" y="2708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860000" y="2492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716360" y="2779560"/>
                  <a:ext cx="14364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1331640" y="3573360"/>
                <a:ext cx="215280" cy="360360"/>
                <a:chOff x="1331640" y="3573360"/>
                <a:chExt cx="215280" cy="360360"/>
              </a:xfrm>
            </p:grpSpPr>
            <p:sp>
              <p:nvSpPr>
                <p:cNvPr id="275" name=""/>
                <p:cNvSpPr/>
                <p:nvPr/>
              </p:nvSpPr>
              <p:spPr>
                <a:xfrm flipH="1">
                  <a:off x="1475640" y="378936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475640" y="357336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331640" y="386064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4930560" y="2708280"/>
                <a:ext cx="215280" cy="360360"/>
                <a:chOff x="4930560" y="2708280"/>
                <a:chExt cx="215280" cy="36036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5074560" y="2924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074560" y="2708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930560" y="2995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427280" y="2708280"/>
                <a:ext cx="215280" cy="360360"/>
                <a:chOff x="4427280" y="2708280"/>
                <a:chExt cx="215280" cy="36036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4571280" y="2924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571280" y="2708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427280" y="2995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4643280" y="2923920"/>
                <a:ext cx="215280" cy="360360"/>
                <a:chOff x="4643280" y="2923920"/>
                <a:chExt cx="215280" cy="360360"/>
              </a:xfrm>
            </p:grpSpPr>
            <p:sp>
              <p:nvSpPr>
                <p:cNvPr id="287" name=""/>
                <p:cNvSpPr/>
                <p:nvPr/>
              </p:nvSpPr>
              <p:spPr>
                <a:xfrm flipH="1">
                  <a:off x="4787280" y="3139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787280" y="2923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643280" y="3211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922560" y="2708280"/>
                <a:ext cx="215280" cy="360360"/>
                <a:chOff x="3922560" y="2708280"/>
                <a:chExt cx="215280" cy="360360"/>
              </a:xfrm>
            </p:grpSpPr>
            <p:sp>
              <p:nvSpPr>
                <p:cNvPr id="291" name=""/>
                <p:cNvSpPr/>
                <p:nvPr/>
              </p:nvSpPr>
              <p:spPr>
                <a:xfrm flipH="1">
                  <a:off x="4066560" y="2924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66560" y="2708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922560" y="2995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38560" y="2923920"/>
                <a:ext cx="214920" cy="360360"/>
                <a:chOff x="4138560" y="2923920"/>
                <a:chExt cx="214920" cy="360360"/>
              </a:xfrm>
            </p:grpSpPr>
            <p:sp>
              <p:nvSpPr>
                <p:cNvPr id="295" name=""/>
                <p:cNvSpPr/>
                <p:nvPr/>
              </p:nvSpPr>
              <p:spPr>
                <a:xfrm flipH="1">
                  <a:off x="4282200" y="3139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282200" y="2923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38560" y="3211200"/>
                  <a:ext cx="14364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354200" y="3139920"/>
                <a:ext cx="215280" cy="360360"/>
                <a:chOff x="4354200" y="3139920"/>
                <a:chExt cx="215280" cy="360360"/>
              </a:xfrm>
            </p:grpSpPr>
            <p:sp>
              <p:nvSpPr>
                <p:cNvPr id="299" name=""/>
                <p:cNvSpPr/>
                <p:nvPr/>
              </p:nvSpPr>
              <p:spPr>
                <a:xfrm flipH="1">
                  <a:off x="4498200" y="3355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98200" y="3139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354200" y="3427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570200" y="3355920"/>
                <a:ext cx="215280" cy="360360"/>
                <a:chOff x="4570200" y="3355920"/>
                <a:chExt cx="215280" cy="360360"/>
              </a:xfrm>
            </p:grpSpPr>
            <p:sp>
              <p:nvSpPr>
                <p:cNvPr id="303" name=""/>
                <p:cNvSpPr/>
                <p:nvPr/>
              </p:nvSpPr>
              <p:spPr>
                <a:xfrm flipH="1">
                  <a:off x="4714200" y="3571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714200" y="3355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570200" y="3643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001840" y="3787560"/>
                <a:ext cx="215280" cy="360360"/>
                <a:chOff x="5001840" y="3787560"/>
                <a:chExt cx="215280" cy="36036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5145840" y="400356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145840" y="378756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001840" y="407484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346200" y="2708280"/>
                <a:ext cx="215280" cy="360360"/>
                <a:chOff x="3346200" y="2708280"/>
                <a:chExt cx="215280" cy="360360"/>
              </a:xfrm>
            </p:grpSpPr>
            <p:sp>
              <p:nvSpPr>
                <p:cNvPr id="311" name=""/>
                <p:cNvSpPr/>
                <p:nvPr/>
              </p:nvSpPr>
              <p:spPr>
                <a:xfrm flipH="1">
                  <a:off x="3490200" y="2924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490200" y="2708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346200" y="2995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562200" y="2923920"/>
                <a:ext cx="215280" cy="360360"/>
                <a:chOff x="3562200" y="2923920"/>
                <a:chExt cx="215280" cy="360360"/>
              </a:xfrm>
            </p:grpSpPr>
            <p:sp>
              <p:nvSpPr>
                <p:cNvPr id="315" name=""/>
                <p:cNvSpPr/>
                <p:nvPr/>
              </p:nvSpPr>
              <p:spPr>
                <a:xfrm flipH="1">
                  <a:off x="3706200" y="3139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706200" y="2923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562200" y="3211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778200" y="3139920"/>
                <a:ext cx="214920" cy="360360"/>
                <a:chOff x="3778200" y="3139920"/>
                <a:chExt cx="214920" cy="360360"/>
              </a:xfrm>
            </p:grpSpPr>
            <p:sp>
              <p:nvSpPr>
                <p:cNvPr id="319" name=""/>
                <p:cNvSpPr/>
                <p:nvPr/>
              </p:nvSpPr>
              <p:spPr>
                <a:xfrm flipH="1">
                  <a:off x="3921840" y="3355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921840" y="3139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778200" y="3427200"/>
                  <a:ext cx="14364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993840" y="3355920"/>
                <a:ext cx="215280" cy="360360"/>
                <a:chOff x="3993840" y="3355920"/>
                <a:chExt cx="215280" cy="360360"/>
              </a:xfrm>
            </p:grpSpPr>
            <p:sp>
              <p:nvSpPr>
                <p:cNvPr id="323" name=""/>
                <p:cNvSpPr/>
                <p:nvPr/>
              </p:nvSpPr>
              <p:spPr>
                <a:xfrm flipH="1">
                  <a:off x="4137840" y="3571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137840" y="3355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993840" y="3643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209840" y="3571920"/>
                <a:ext cx="215280" cy="360360"/>
                <a:chOff x="4209840" y="3571920"/>
                <a:chExt cx="215280" cy="360360"/>
              </a:xfrm>
            </p:grpSpPr>
            <p:sp>
              <p:nvSpPr>
                <p:cNvPr id="327" name=""/>
                <p:cNvSpPr/>
                <p:nvPr/>
              </p:nvSpPr>
              <p:spPr>
                <a:xfrm flipH="1">
                  <a:off x="4353840" y="3787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353840" y="3571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209840" y="3859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641480" y="4003560"/>
                <a:ext cx="215280" cy="360360"/>
                <a:chOff x="4641480" y="4003560"/>
                <a:chExt cx="215280" cy="360360"/>
              </a:xfrm>
            </p:grpSpPr>
            <p:sp>
              <p:nvSpPr>
                <p:cNvPr id="331" name=""/>
                <p:cNvSpPr/>
                <p:nvPr/>
              </p:nvSpPr>
              <p:spPr>
                <a:xfrm flipH="1">
                  <a:off x="4785480" y="421956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785480" y="400356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641480" y="429084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857480" y="4219560"/>
                <a:ext cx="215280" cy="360360"/>
                <a:chOff x="4857480" y="4219560"/>
                <a:chExt cx="215280" cy="360360"/>
              </a:xfrm>
            </p:grpSpPr>
            <p:sp>
              <p:nvSpPr>
                <p:cNvPr id="335" name=""/>
                <p:cNvSpPr/>
                <p:nvPr/>
              </p:nvSpPr>
              <p:spPr>
                <a:xfrm flipH="1">
                  <a:off x="5001480" y="443556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001480" y="421956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857480" y="450684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771640" y="2708280"/>
                <a:ext cx="215280" cy="360360"/>
                <a:chOff x="2771640" y="2708280"/>
                <a:chExt cx="215280" cy="360360"/>
              </a:xfrm>
            </p:grpSpPr>
            <p:sp>
              <p:nvSpPr>
                <p:cNvPr id="339" name=""/>
                <p:cNvSpPr/>
                <p:nvPr/>
              </p:nvSpPr>
              <p:spPr>
                <a:xfrm flipH="1">
                  <a:off x="2915640" y="2924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915640" y="2708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71640" y="2995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987640" y="2923920"/>
                <a:ext cx="214920" cy="360360"/>
                <a:chOff x="2987640" y="2923920"/>
                <a:chExt cx="214920" cy="360360"/>
              </a:xfrm>
            </p:grpSpPr>
            <p:sp>
              <p:nvSpPr>
                <p:cNvPr id="343" name=""/>
                <p:cNvSpPr/>
                <p:nvPr/>
              </p:nvSpPr>
              <p:spPr>
                <a:xfrm flipH="1">
                  <a:off x="3131280" y="3139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131280" y="2923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987640" y="3211200"/>
                  <a:ext cx="14364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3203280" y="3139920"/>
                <a:ext cx="215280" cy="360360"/>
                <a:chOff x="3203280" y="3139920"/>
                <a:chExt cx="215280" cy="360360"/>
              </a:xfrm>
            </p:grpSpPr>
            <p:sp>
              <p:nvSpPr>
                <p:cNvPr id="347" name=""/>
                <p:cNvSpPr/>
                <p:nvPr/>
              </p:nvSpPr>
              <p:spPr>
                <a:xfrm flipH="1">
                  <a:off x="3347280" y="3355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347280" y="3139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203280" y="3427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3419280" y="3355920"/>
                <a:ext cx="215280" cy="360360"/>
                <a:chOff x="3419280" y="3355920"/>
                <a:chExt cx="215280" cy="360360"/>
              </a:xfrm>
            </p:grpSpPr>
            <p:sp>
              <p:nvSpPr>
                <p:cNvPr id="351" name=""/>
                <p:cNvSpPr/>
                <p:nvPr/>
              </p:nvSpPr>
              <p:spPr>
                <a:xfrm flipH="1">
                  <a:off x="3563280" y="3571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563280" y="3355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419280" y="3643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635280" y="3571920"/>
                <a:ext cx="214920" cy="360360"/>
                <a:chOff x="3635280" y="3571920"/>
                <a:chExt cx="214920" cy="360360"/>
              </a:xfrm>
            </p:grpSpPr>
            <p:sp>
              <p:nvSpPr>
                <p:cNvPr id="355" name=""/>
                <p:cNvSpPr/>
                <p:nvPr/>
              </p:nvSpPr>
              <p:spPr>
                <a:xfrm flipH="1">
                  <a:off x="3778920" y="3787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778920" y="3571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635280" y="3859200"/>
                  <a:ext cx="14364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3850920" y="3787560"/>
                <a:ext cx="215280" cy="360360"/>
                <a:chOff x="3850920" y="3787560"/>
                <a:chExt cx="215280" cy="360360"/>
              </a:xfrm>
            </p:grpSpPr>
            <p:sp>
              <p:nvSpPr>
                <p:cNvPr id="359" name=""/>
                <p:cNvSpPr/>
                <p:nvPr/>
              </p:nvSpPr>
              <p:spPr>
                <a:xfrm flipH="1">
                  <a:off x="3994920" y="400356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994920" y="378756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850920" y="407484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2122200" y="2708280"/>
                <a:ext cx="215280" cy="360360"/>
                <a:chOff x="2122200" y="2708280"/>
                <a:chExt cx="215280" cy="360360"/>
              </a:xfrm>
            </p:grpSpPr>
            <p:sp>
              <p:nvSpPr>
                <p:cNvPr id="363" name=""/>
                <p:cNvSpPr/>
                <p:nvPr/>
              </p:nvSpPr>
              <p:spPr>
                <a:xfrm flipH="1">
                  <a:off x="2266200" y="2924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266200" y="2708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22200" y="2995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338200" y="2923920"/>
                <a:ext cx="215280" cy="360360"/>
                <a:chOff x="2338200" y="2923920"/>
                <a:chExt cx="215280" cy="360360"/>
              </a:xfrm>
            </p:grpSpPr>
            <p:sp>
              <p:nvSpPr>
                <p:cNvPr id="367" name=""/>
                <p:cNvSpPr/>
                <p:nvPr/>
              </p:nvSpPr>
              <p:spPr>
                <a:xfrm flipH="1">
                  <a:off x="2482200" y="3139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82200" y="2923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338200" y="3211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554200" y="3139920"/>
                <a:ext cx="214920" cy="360360"/>
                <a:chOff x="2554200" y="3139920"/>
                <a:chExt cx="214920" cy="360360"/>
              </a:xfrm>
            </p:grpSpPr>
            <p:sp>
              <p:nvSpPr>
                <p:cNvPr id="371" name=""/>
                <p:cNvSpPr/>
                <p:nvPr/>
              </p:nvSpPr>
              <p:spPr>
                <a:xfrm flipH="1">
                  <a:off x="2697840" y="3355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697840" y="3139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54200" y="3427200"/>
                  <a:ext cx="14364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2769840" y="3355920"/>
                <a:ext cx="215280" cy="360360"/>
                <a:chOff x="2769840" y="3355920"/>
                <a:chExt cx="215280" cy="360360"/>
              </a:xfrm>
            </p:grpSpPr>
            <p:sp>
              <p:nvSpPr>
                <p:cNvPr id="375" name=""/>
                <p:cNvSpPr/>
                <p:nvPr/>
              </p:nvSpPr>
              <p:spPr>
                <a:xfrm flipH="1">
                  <a:off x="2913840" y="3571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913840" y="3355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769840" y="3643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985840" y="3571920"/>
                <a:ext cx="215280" cy="360360"/>
                <a:chOff x="2985840" y="3571920"/>
                <a:chExt cx="215280" cy="360360"/>
              </a:xfrm>
            </p:grpSpPr>
            <p:sp>
              <p:nvSpPr>
                <p:cNvPr id="379" name=""/>
                <p:cNvSpPr/>
                <p:nvPr/>
              </p:nvSpPr>
              <p:spPr>
                <a:xfrm flipH="1">
                  <a:off x="3129840" y="3787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129840" y="3571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985840" y="3859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3201840" y="3787560"/>
                <a:ext cx="215280" cy="360360"/>
                <a:chOff x="3201840" y="3787560"/>
                <a:chExt cx="215280" cy="360360"/>
              </a:xfrm>
            </p:grpSpPr>
            <p:sp>
              <p:nvSpPr>
                <p:cNvPr id="383" name=""/>
                <p:cNvSpPr/>
                <p:nvPr/>
              </p:nvSpPr>
              <p:spPr>
                <a:xfrm flipH="1">
                  <a:off x="3345840" y="400356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345840" y="378756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201840" y="407484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419280" y="4076640"/>
                <a:ext cx="215280" cy="360360"/>
                <a:chOff x="3419280" y="4076640"/>
                <a:chExt cx="215280" cy="360360"/>
              </a:xfrm>
            </p:grpSpPr>
            <p:sp>
              <p:nvSpPr>
                <p:cNvPr id="387" name=""/>
                <p:cNvSpPr/>
                <p:nvPr/>
              </p:nvSpPr>
              <p:spPr>
                <a:xfrm flipH="1">
                  <a:off x="3563280" y="429264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563280" y="407664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419280" y="436392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1547640" y="2708280"/>
                <a:ext cx="215280" cy="360360"/>
                <a:chOff x="1547640" y="2708280"/>
                <a:chExt cx="215280" cy="360360"/>
              </a:xfrm>
            </p:grpSpPr>
            <p:sp>
              <p:nvSpPr>
                <p:cNvPr id="391" name=""/>
                <p:cNvSpPr/>
                <p:nvPr/>
              </p:nvSpPr>
              <p:spPr>
                <a:xfrm flipH="1">
                  <a:off x="1691640" y="2924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691640" y="2708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547640" y="2995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1763640" y="2923920"/>
                <a:ext cx="214920" cy="360360"/>
                <a:chOff x="1763640" y="2923920"/>
                <a:chExt cx="214920" cy="360360"/>
              </a:xfrm>
            </p:grpSpPr>
            <p:sp>
              <p:nvSpPr>
                <p:cNvPr id="395" name=""/>
                <p:cNvSpPr/>
                <p:nvPr/>
              </p:nvSpPr>
              <p:spPr>
                <a:xfrm flipH="1">
                  <a:off x="1907280" y="3139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907280" y="2923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763640" y="3211200"/>
                  <a:ext cx="14364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979280" y="3139920"/>
                <a:ext cx="215280" cy="360360"/>
                <a:chOff x="1979280" y="3139920"/>
                <a:chExt cx="215280" cy="360360"/>
              </a:xfrm>
            </p:grpSpPr>
            <p:sp>
              <p:nvSpPr>
                <p:cNvPr id="399" name=""/>
                <p:cNvSpPr/>
                <p:nvPr/>
              </p:nvSpPr>
              <p:spPr>
                <a:xfrm flipH="1">
                  <a:off x="2123280" y="3355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123280" y="3139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79280" y="3427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2195280" y="3355920"/>
                <a:ext cx="215280" cy="360360"/>
                <a:chOff x="2195280" y="3355920"/>
                <a:chExt cx="215280" cy="360360"/>
              </a:xfrm>
            </p:grpSpPr>
            <p:sp>
              <p:nvSpPr>
                <p:cNvPr id="403" name=""/>
                <p:cNvSpPr/>
                <p:nvPr/>
              </p:nvSpPr>
              <p:spPr>
                <a:xfrm flipH="1">
                  <a:off x="2339280" y="3571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339280" y="3355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195280" y="3643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411280" y="3571920"/>
                <a:ext cx="215280" cy="360360"/>
                <a:chOff x="2411280" y="3571920"/>
                <a:chExt cx="215280" cy="360360"/>
              </a:xfrm>
            </p:grpSpPr>
            <p:sp>
              <p:nvSpPr>
                <p:cNvPr id="407" name=""/>
                <p:cNvSpPr/>
                <p:nvPr/>
              </p:nvSpPr>
              <p:spPr>
                <a:xfrm flipH="1">
                  <a:off x="2555280" y="378792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555280" y="357192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411280" y="385920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627280" y="3787560"/>
                <a:ext cx="214920" cy="360360"/>
                <a:chOff x="2627280" y="3787560"/>
                <a:chExt cx="214920" cy="360360"/>
              </a:xfrm>
            </p:grpSpPr>
            <p:sp>
              <p:nvSpPr>
                <p:cNvPr id="411" name=""/>
                <p:cNvSpPr/>
                <p:nvPr/>
              </p:nvSpPr>
              <p:spPr>
                <a:xfrm flipH="1">
                  <a:off x="2770920" y="400356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770920" y="378756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627280" y="4074840"/>
                  <a:ext cx="14364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2842920" y="4003560"/>
                <a:ext cx="215280" cy="360360"/>
                <a:chOff x="2842920" y="4003560"/>
                <a:chExt cx="215280" cy="36036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2986920" y="421956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86920" y="400356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842920" y="429084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058920" y="4219560"/>
                <a:ext cx="215280" cy="360360"/>
                <a:chOff x="3058920" y="4219560"/>
                <a:chExt cx="215280" cy="360360"/>
              </a:xfrm>
            </p:grpSpPr>
            <p:sp>
              <p:nvSpPr>
                <p:cNvPr id="419" name=""/>
                <p:cNvSpPr/>
                <p:nvPr/>
              </p:nvSpPr>
              <p:spPr>
                <a:xfrm flipH="1">
                  <a:off x="3202920" y="443556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202920" y="421956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58920" y="450684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547640" y="3284280"/>
                <a:ext cx="215280" cy="360360"/>
                <a:chOff x="1547640" y="3284280"/>
                <a:chExt cx="215280" cy="360360"/>
              </a:xfrm>
            </p:grpSpPr>
            <p:sp>
              <p:nvSpPr>
                <p:cNvPr id="423" name=""/>
                <p:cNvSpPr/>
                <p:nvPr/>
              </p:nvSpPr>
              <p:spPr>
                <a:xfrm flipH="1">
                  <a:off x="1691640" y="3500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691640" y="3284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547640" y="3571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1763640" y="3500280"/>
                <a:ext cx="214920" cy="360360"/>
                <a:chOff x="1763640" y="3500280"/>
                <a:chExt cx="214920" cy="360360"/>
              </a:xfrm>
            </p:grpSpPr>
            <p:sp>
              <p:nvSpPr>
                <p:cNvPr id="427" name=""/>
                <p:cNvSpPr/>
                <p:nvPr/>
              </p:nvSpPr>
              <p:spPr>
                <a:xfrm flipH="1">
                  <a:off x="1907280" y="3716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907280" y="3500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763640" y="3787560"/>
                  <a:ext cx="14364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1979280" y="3716280"/>
                <a:ext cx="215280" cy="360360"/>
                <a:chOff x="1979280" y="3716280"/>
                <a:chExt cx="215280" cy="360360"/>
              </a:xfrm>
            </p:grpSpPr>
            <p:sp>
              <p:nvSpPr>
                <p:cNvPr id="431" name=""/>
                <p:cNvSpPr/>
                <p:nvPr/>
              </p:nvSpPr>
              <p:spPr>
                <a:xfrm flipH="1">
                  <a:off x="2123280" y="393228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123280" y="371628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979280" y="400356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2339640" y="4005000"/>
                <a:ext cx="215280" cy="360360"/>
                <a:chOff x="2339640" y="4005000"/>
                <a:chExt cx="215280" cy="360360"/>
              </a:xfrm>
            </p:grpSpPr>
            <p:sp>
              <p:nvSpPr>
                <p:cNvPr id="435" name=""/>
                <p:cNvSpPr/>
                <p:nvPr/>
              </p:nvSpPr>
              <p:spPr>
                <a:xfrm flipH="1">
                  <a:off x="2483640" y="422100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483640" y="400500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339640" y="429228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555640" y="4221000"/>
                <a:ext cx="215280" cy="360360"/>
                <a:chOff x="2555640" y="4221000"/>
                <a:chExt cx="215280" cy="360360"/>
              </a:xfrm>
            </p:grpSpPr>
            <p:sp>
              <p:nvSpPr>
                <p:cNvPr id="439" name=""/>
                <p:cNvSpPr/>
                <p:nvPr/>
              </p:nvSpPr>
              <p:spPr>
                <a:xfrm flipH="1">
                  <a:off x="2699640" y="443700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699640" y="422100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555640" y="450828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1547640" y="3789360"/>
                <a:ext cx="215280" cy="360360"/>
                <a:chOff x="1547640" y="3789360"/>
                <a:chExt cx="215280" cy="360360"/>
              </a:xfrm>
            </p:grpSpPr>
            <p:sp>
              <p:nvSpPr>
                <p:cNvPr id="443" name=""/>
                <p:cNvSpPr/>
                <p:nvPr/>
              </p:nvSpPr>
              <p:spPr>
                <a:xfrm flipH="1">
                  <a:off x="1691640" y="400536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691640" y="378936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547640" y="407664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1763640" y="4005000"/>
                <a:ext cx="214920" cy="360360"/>
                <a:chOff x="1763640" y="4005000"/>
                <a:chExt cx="214920" cy="360360"/>
              </a:xfrm>
            </p:grpSpPr>
            <p:sp>
              <p:nvSpPr>
                <p:cNvPr id="447" name=""/>
                <p:cNvSpPr/>
                <p:nvPr/>
              </p:nvSpPr>
              <p:spPr>
                <a:xfrm flipH="1">
                  <a:off x="1907280" y="422100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907280" y="400500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763640" y="4292280"/>
                  <a:ext cx="14364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1979280" y="4221000"/>
                <a:ext cx="215280" cy="360360"/>
                <a:chOff x="1979280" y="4221000"/>
                <a:chExt cx="215280" cy="360360"/>
              </a:xfrm>
            </p:grpSpPr>
            <p:sp>
              <p:nvSpPr>
                <p:cNvPr id="451" name=""/>
                <p:cNvSpPr/>
                <p:nvPr/>
              </p:nvSpPr>
              <p:spPr>
                <a:xfrm flipH="1">
                  <a:off x="2123280" y="443700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123280" y="422100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979280" y="450828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1547640" y="4292640"/>
                <a:ext cx="215280" cy="360360"/>
                <a:chOff x="1547640" y="4292640"/>
                <a:chExt cx="215280" cy="360360"/>
              </a:xfrm>
            </p:grpSpPr>
            <p:sp>
              <p:nvSpPr>
                <p:cNvPr id="455" name=""/>
                <p:cNvSpPr/>
                <p:nvPr/>
              </p:nvSpPr>
              <p:spPr>
                <a:xfrm flipH="1">
                  <a:off x="1691640" y="4508640"/>
                  <a:ext cx="71280" cy="144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691640" y="4292640"/>
                  <a:ext cx="0" cy="360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547640" y="4579920"/>
                  <a:ext cx="144000" cy="73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2195280" y="3571920"/>
                <a:ext cx="576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ff"/>
                    </a:solidFill>
                    <a:latin typeface="Times New Roman"/>
                  </a:rPr>
                  <a:t>麦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852720" y="2852640"/>
                <a:ext cx="574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ff"/>
                    </a:solidFill>
                    <a:latin typeface="Times New Roman"/>
                  </a:rPr>
                  <a:t>田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>
                <a:off x="3779640" y="3500280"/>
                <a:ext cx="1512360" cy="1152720"/>
              </a:xfrm>
              <a:custGeom>
                <a:avLst/>
                <a:gdLst/>
                <a:ahLst/>
                <a:rect l="l" t="t" r="r" b="b"/>
                <a:pathLst>
                  <a:path w="953" h="726">
                    <a:moveTo>
                      <a:pt x="0" y="726"/>
                    </a:moveTo>
                    <a:cubicBezTo>
                      <a:pt x="276" y="506"/>
                      <a:pt x="553" y="287"/>
                      <a:pt x="681" y="181"/>
                    </a:cubicBezTo>
                    <a:cubicBezTo>
                      <a:pt x="809" y="75"/>
                      <a:pt x="726" y="121"/>
                      <a:pt x="771" y="91"/>
                    </a:cubicBezTo>
                    <a:cubicBezTo>
                      <a:pt x="816" y="61"/>
                      <a:pt x="923" y="15"/>
                      <a:pt x="953" y="0"/>
                    </a:cubicBezTo>
                  </a:path>
                </a:pathLst>
              </a:custGeom>
              <a:noFill/>
              <a:ln w="165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3708360" y="3355920"/>
                <a:ext cx="1726200" cy="1440000"/>
                <a:chOff x="3708360" y="3355920"/>
                <a:chExt cx="1726200" cy="14400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3779280" y="3500280"/>
                  <a:ext cx="1534680" cy="1224000"/>
                  <a:chOff x="3779280" y="3500280"/>
                  <a:chExt cx="1534680" cy="12240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3810960" y="4724280"/>
                    <a:ext cx="1502640" cy="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V="1">
                    <a:off x="5313960" y="3500280"/>
                    <a:ext cx="0" cy="12240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3779280" y="3500280"/>
                    <a:ext cx="1502640" cy="12240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>
                  <a:off x="5218920" y="3355920"/>
                  <a:ext cx="215640" cy="21600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708360" y="4579920"/>
                  <a:ext cx="215640" cy="21600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8" name=""/>
          <p:cNvGrpSpPr/>
          <p:nvPr/>
        </p:nvGrpSpPr>
        <p:grpSpPr>
          <a:xfrm>
            <a:off x="468360" y="333360"/>
            <a:ext cx="1368360" cy="431640"/>
            <a:chOff x="468360" y="333360"/>
            <a:chExt cx="1368360" cy="431640"/>
          </a:xfrm>
        </p:grpSpPr>
        <p:sp>
          <p:nvSpPr>
            <p:cNvPr id="469" name=""/>
            <p:cNvSpPr/>
            <p:nvPr/>
          </p:nvSpPr>
          <p:spPr>
            <a:xfrm>
              <a:off x="539640" y="333360"/>
              <a:ext cx="100764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8360" y="333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自我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lu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109960" y="1001880"/>
            <a:ext cx="54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下列长度的三条线段能否组成三角形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55640" y="1557360"/>
            <a:ext cx="76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, 4,  8       ② 5 ,  6 , 11      ③ 5 ,  6,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5280" y="22766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，因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+4&lt;8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两条线段的和小于第三条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5640" y="34495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，因为任意两条线段的和都大于第三条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6560" y="28018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，因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+6=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即两条线段的和等于第三条直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  <p:sndAc>
      <p:stSnd>
        <p:snd r:embed="rId1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：下列长度的三条线段能否组成三角形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692360" y="1196640"/>
            <a:ext cx="5472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219640" y="119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不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48360" y="155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14836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4836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不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0920" y="4292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隶书"/>
              </a:rPr>
              <a:t>小巧门： 用较短的两条线段之和与最长的线段比较，若和大，能组成三 角形，反之，则不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5291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47640" y="537372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  考：在一个三角形中，任意两边之差与第三边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09440" y="2349360"/>
            <a:ext cx="8783640" cy="1800360"/>
            <a:chOff x="109440" y="2349360"/>
            <a:chExt cx="8783640" cy="1800360"/>
          </a:xfrm>
        </p:grpSpPr>
        <p:grpSp>
          <p:nvGrpSpPr>
            <p:cNvPr id="486" name=""/>
            <p:cNvGrpSpPr/>
            <p:nvPr/>
          </p:nvGrpSpPr>
          <p:grpSpPr>
            <a:xfrm>
              <a:off x="109440" y="2349360"/>
              <a:ext cx="8783640" cy="1800360"/>
              <a:chOff x="109440" y="2349360"/>
              <a:chExt cx="8783640" cy="1800360"/>
            </a:xfrm>
          </p:grpSpPr>
          <p:pic>
            <p:nvPicPr>
              <p:cNvPr id="4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9440" y="2349360"/>
                <a:ext cx="1176480" cy="15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2052720" y="2709720"/>
                <a:ext cx="6840360" cy="1440000"/>
              </a:xfrm>
              <a:prstGeom prst="wedgeRoundRectCallout">
                <a:avLst>
                  <a:gd name="adj1" fmla="val -66453"/>
                  <a:gd name="adj2" fmla="val -48125"/>
                  <a:gd name="adj3" fmla="val 16667"/>
                </a:avLst>
              </a:prstGeom>
              <a:solidFill>
                <a:srgbClr val="cefec6"/>
              </a:solidFill>
              <a:ln w="9360">
                <a:solidFill>
                  <a:srgbClr val="20c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312360" y="2781000"/>
              <a:ext cx="4368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判断三条线段能否组成三角形，是否一定要检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三条线段中任何两条的和都大于第三条？根据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刚才解题经验，有没有更简便的判断方法？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lu"/>
    <p:sndAc>
      <p:stSnd>
        <p:snd r:embed="rId2" name="chimes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2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8:50:39Z</dcterms:created>
  <dc:creator>YlmF</dc:creator>
  <dc:description/>
  <dc:language>en-US</dc:language>
  <cp:lastModifiedBy>微软用户</cp:lastModifiedBy>
  <dcterms:modified xsi:type="dcterms:W3CDTF">2011-03-22T04:25:35Z</dcterms:modified>
  <cp:revision>67</cp:revision>
  <dc:subject/>
  <dc:title>幻灯片 1</dc:title>
</cp:coreProperties>
</file>