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181-FDAE-41D0-9EEB-17D05C6A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640-67B3-4C62-A7A2-4B12762C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BC0-2FC2-4B14-9764-179307C6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7C0-18E3-4D25-B405-998F12E5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531-603A-4657-AD71-5ADFC5C4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A67-4905-49F0-9135-25F9C14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2FB-EF92-4EA0-8967-168521C2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A33-7D9C-4D04-AC57-4851150C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80D-082C-4FFF-895A-BB02EF5D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D09-5FE4-458A-91B9-9DBC89A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9E8-FA8B-418C-A4AA-3FA0CF8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4F7-6A2E-43AF-B141-C548768B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4851-5F13-4B7C-973E-3AD5AADCF6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九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9.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元一次不等式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有若干学生参加夏令营活动，晚上在一宾馆住宿时，如果每间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那么还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住不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同的房间，如果每间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那么还有一间住不满也不空，请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群学生有多少人？有多少间房供他们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42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如果设有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X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间房供他们住，则学生有多少人？住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人的房间有多少间？根据这些问题你能列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等式组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解决这个实际问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819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还有一间住不满也不空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8600" y="5257800"/>
            <a:ext cx="5333760" cy="1312920"/>
            <a:chOff x="228600" y="5257800"/>
            <a:chExt cx="5333760" cy="1312920"/>
          </a:xfrm>
        </p:grpSpPr>
        <p:sp>
          <p:nvSpPr>
            <p:cNvPr id="117" name=""/>
            <p:cNvSpPr/>
            <p:nvPr/>
          </p:nvSpPr>
          <p:spPr>
            <a:xfrm>
              <a:off x="353880" y="5257800"/>
              <a:ext cx="520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4x+20-8(x-1)&lt;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4x+20-8(x-1)≥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5354640"/>
              <a:ext cx="249840" cy="914400"/>
            </a:xfrm>
            <a:custGeom>
              <a:avLst/>
              <a:gdLst>
                <a:gd name="textAreaLeft" fmla="*/ 159840 w 249840"/>
                <a:gd name="textAreaRight" fmla="*/ 250200 w 2498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304920"/>
            <a:ext cx="899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4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页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一些书分给几个学生，如果每人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，那么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；如果前面的每个学生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，那么最后一人就分不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，这些书有多少本？学生有多少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86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归 纳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课本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0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1932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对于具有多种不等关系的问题，可通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等式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解一元一次不等式组时，一般先求出其中各个不等式的解集，再求出这些解集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公共部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利用数轴可以直观地表示不等式组的解集，再结合实际问题求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符合实际问题的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43000" y="612720"/>
            <a:ext cx="9702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三、巩固训练，熟练技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620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不等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≤2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≤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你觉得该怎样思考这个问题，你有解决的办法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求出不等式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解集中的正整数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27640" y="2492280"/>
            <a:ext cx="3097080" cy="1955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16640" y="5373720"/>
            <a:ext cx="31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页练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2193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某工厂工人经过第一次改进工作方法，每人每天平均加工的零件比原来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，因而，每人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内加工的零件超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，第二次又改进工作方法，每人每天平均又比第一次改进方法后多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零件，这样只做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，所做的件数就超过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所做的数量。试问每个工人原来每人平均做几个零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762120"/>
            <a:ext cx="71629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、总结反思，拓展升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应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等式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决实际问题的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(5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(6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8769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276720"/>
            <a:ext cx="6934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拓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火柴首尾相接，围成一个长方形（不包括正方形），怎样找到围出不同形状的长方形个数最多的办法呢？最多个数又是多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52480" y="21337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371600"/>
            <a:ext cx="6858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今天的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4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补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1440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觉得列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一元一次不等式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应用题与列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元一次方程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应用题的步骤一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2819520"/>
          <a:ext cx="8381880" cy="3200400"/>
        </p:xfrm>
        <a:graphic>
          <a:graphicData uri="http://schemas.openxmlformats.org/drawingml/2006/table">
            <a:tbl>
              <a:tblPr/>
              <a:tblGrid>
                <a:gridCol w="1922400"/>
                <a:gridCol w="1735200"/>
                <a:gridCol w="1295280"/>
                <a:gridCol w="1676520"/>
                <a:gridCol w="1752480"/>
              </a:tblGrid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（结果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元一次不等式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元一次方程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 txBox="1"/>
          <p:nvPr/>
        </p:nvSpPr>
        <p:spPr>
          <a:xfrm>
            <a:off x="380880" y="53352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380988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480060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809880"/>
            <a:ext cx="160020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等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724280"/>
            <a:ext cx="1676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88620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4191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题意写出答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502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解下列不等式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229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17800" y="1828080"/>
            <a:ext cx="21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≥3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6172200" cy="30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74920" y="4343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无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0920" y="2708280"/>
            <a:ext cx="845964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分别解不等式组中的各个不等式 </a:t>
            </a:r>
            <a:r>
              <a:rPr b="1" i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8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再求出这几个不等式解集的公共部分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WordArt 6" descr=""/>
          <p:cNvPicPr/>
          <p:nvPr/>
        </p:nvPicPr>
        <p:blipFill>
          <a:blip r:embed="rId1"/>
          <a:stretch/>
        </p:blipFill>
        <p:spPr>
          <a:xfrm>
            <a:off x="158760" y="1620720"/>
            <a:ext cx="7620120" cy="9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写出下列各不等式组的解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7120" y="2514600"/>
            <a:ext cx="11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x&gt;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5146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无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80060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x&lt;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487692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2&lt;x&lt;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大取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867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小取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大小小是无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58672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小小大取中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920" y="533520"/>
            <a:ext cx="7097760" cy="5597640"/>
            <a:chOff x="304920" y="533520"/>
            <a:chExt cx="7097760" cy="5597640"/>
          </a:xfrm>
        </p:grpSpPr>
        <p:grpSp>
          <p:nvGrpSpPr>
            <p:cNvPr id="59" name=""/>
            <p:cNvGrpSpPr/>
            <p:nvPr/>
          </p:nvGrpSpPr>
          <p:grpSpPr>
            <a:xfrm>
              <a:off x="762120" y="1828800"/>
              <a:ext cx="1604880" cy="2017800"/>
              <a:chOff x="762120" y="1828800"/>
              <a:chExt cx="1604880" cy="201780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04680" y="3124440"/>
                <a:ext cx="1441440" cy="72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4680" y="1828800"/>
                <a:ext cx="1462320" cy="15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762120" y="2403720"/>
                <a:ext cx="142560" cy="1152360"/>
              </a:xfrm>
              <a:custGeom>
                <a:avLst/>
                <a:gdLst>
                  <a:gd name="textAreaLeft" fmla="*/ 91080 w 142560"/>
                  <a:gd name="textAreaRight" fmla="*/ 142920 w 142560"/>
                  <a:gd name="textAreaTop" fmla="*/ 29880 h 1152360"/>
                  <a:gd name="textAreaBottom" fmla="*/ 1122480 h 115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953240" y="1752840"/>
              <a:ext cx="2449440" cy="1998720"/>
              <a:chOff x="4953240" y="1752840"/>
              <a:chExt cx="2449440" cy="1998720"/>
            </a:xfrm>
          </p:grpSpPr>
          <p:pic>
            <p:nvPicPr>
              <p:cNvPr id="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42320" y="1752840"/>
                <a:ext cx="1439640" cy="14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953240" y="2400480"/>
                <a:ext cx="142920" cy="115272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29880 h 1152720"/>
                  <a:gd name="textAreaBottom" fmla="*/ 112284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242320" y="3048120"/>
                <a:ext cx="216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x&lt;-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838440" y="4419720"/>
              <a:ext cx="1428480" cy="1711080"/>
              <a:chOff x="838440" y="4419720"/>
              <a:chExt cx="1428480" cy="1711080"/>
            </a:xfrm>
          </p:grpSpPr>
          <p:sp>
            <p:nvSpPr>
              <p:cNvPr id="68" name=""/>
              <p:cNvSpPr/>
              <p:nvPr/>
            </p:nvSpPr>
            <p:spPr>
              <a:xfrm>
                <a:off x="838440" y="4706640"/>
                <a:ext cx="142560" cy="1152360"/>
              </a:xfrm>
              <a:custGeom>
                <a:avLst/>
                <a:gdLst>
                  <a:gd name="textAreaLeft" fmla="*/ 91080 w 142560"/>
                  <a:gd name="textAreaRight" fmla="*/ 142920 w 142560"/>
                  <a:gd name="textAreaTop" fmla="*/ 29880 h 1152360"/>
                  <a:gd name="textAreaBottom" fmla="*/ 1122480 h 115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984240" y="5427360"/>
                <a:ext cx="1209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x&lt;-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57320" y="4419720"/>
                <a:ext cx="1209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x&lt;-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5105520" y="4419720"/>
              <a:ext cx="1330560" cy="1711440"/>
              <a:chOff x="5105520" y="4419720"/>
              <a:chExt cx="1330560" cy="1711440"/>
            </a:xfrm>
          </p:grpSpPr>
          <p:sp>
            <p:nvSpPr>
              <p:cNvPr id="72" name=""/>
              <p:cNvSpPr/>
              <p:nvPr/>
            </p:nvSpPr>
            <p:spPr>
              <a:xfrm>
                <a:off x="5105520" y="4757760"/>
                <a:ext cx="142920" cy="115272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29880 h 1152720"/>
                  <a:gd name="textAreaBottom" fmla="*/ 112284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324400" y="4419720"/>
                <a:ext cx="1040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x&gt;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95680" y="5427720"/>
                <a:ext cx="1040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x&lt;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304920" y="533520"/>
              <a:ext cx="632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一、复习旧知，铺垫新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star.5ewy.com:8080/RESOURCE/CZ/CZSX/DGJC2/DS1/YYYCBDSZ/JF/_OLE4858.JPG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65199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80880" y="228600"/>
            <a:ext cx="538164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不等式组的解集情况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91720" cy="2928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独立探索以下问题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“不能完成任务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“提前完成任务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小组计划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天内生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件产品（每天生产量相同），按原先的生产速度，不能完成任务；如果每个小组每天比原先多生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件产品，就能提前完成任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每个小组原先每天生产多少件产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二、师生互动，探索新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9548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按原先的生产速度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,10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天的产品数量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＿</a:t>
            </a:r>
            <a:r>
              <a:rPr b="0" lang="zh-CN" sz="4400" spc="-1" strike="noStrike" u="sng">
                <a:solidFill>
                  <a:srgbClr val="ff0066"/>
                </a:solidFill>
                <a:uFillTx/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687920"/>
            <a:ext cx="876312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提高生产速度后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,10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天的产品数量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____</a:t>
            </a:r>
            <a:r>
              <a:rPr b="1" lang="zh-CN" sz="4400" spc="-1" strike="noStrike" u="sng">
                <a:solidFill>
                  <a:srgbClr val="ff0066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79132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根据这两句话你能列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等式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决这个实际问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5880" y="3429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小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39400" y="50547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大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68580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80880"/>
            <a:ext cx="8305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小组计划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天内生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产品（每天生产量相同），按原先的生产速度，不能完成任务；如果每个小组每天比原先多生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产品，就能提前完成任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每个小组原先每天生产多少件产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3840" y="2133720"/>
            <a:ext cx="47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：设每个小组原先每天生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件产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据题意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2514600" cy="100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1295280" cy="663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91120" y="403848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629400" y="2590920"/>
            <a:ext cx="7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304812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505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不等式①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114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不等式②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此，不等式组的解集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1955520" cy="819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52578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据题意，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值应为    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791320"/>
            <a:ext cx="68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：每个小组原先每天生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件产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5257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5257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x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28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元一次不等式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实际问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一般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09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不等关系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知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8195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不等关系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等式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276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等式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962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不等式组的解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实际问题的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572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6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0120" y="5181480"/>
            <a:ext cx="28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页练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02T08:31:43Z</dcterms:modified>
  <cp:revision>105</cp:revision>
  <dc:subject/>
  <dc:title>第九章9.3一元一次不等式组(2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30000000000010250600207f7000400038000</vt:lpwstr>
  </property>
  <property fmtid="{D5CDD505-2E9C-101B-9397-08002B2CF9AE}" pid="3" name="Version">
    <vt:r8>1</vt:r8>
  </property>
</Properties>
</file>