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F20-95D1-4870-87D0-14B32C8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5E1-3A04-4DF9-A9A9-C5BB7952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141-9352-4316-BF6E-CE8B3AB1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42A-F411-4EB3-B562-260DF53C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715D-EFFA-4DE4-BD63-C8B1C8FC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61F-5DCB-4483-9D9C-E1EF5468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12A-2141-4717-A2F3-3DF2C41D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EA7C-2B73-40B3-9247-01A2E3E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4DA-F3BE-4CB8-93F9-357E644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8C7-9CF4-4535-B28D-A5B18C9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829E-9FA2-42F6-A749-2B1513A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356-A1A6-484D-8C55-6F421683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AF9C-2DDF-4ACC-8BBD-8BDB064C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19D5-3313-4FD5-800B-4C433F7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1E5-F24A-4531-9ADE-F2C38D2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B38-90B2-4937-8B37-891AC7FA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46A5-73B2-4A9B-986D-522E62D9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09F-4B28-4AAC-8410-4A5C823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BA1-BDE9-4CF4-A831-8E38CF6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931-CED9-4068-A2A0-17AF9A6B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4D2-B691-4428-87DF-3DF3D3D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5AB-4F91-4DFB-9494-2A92FEF3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D40-8158-4E0E-8BFD-3BA585D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985-624C-471F-ACE4-2EF8D90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A1FE-1B71-403D-8944-FA02A2AE75C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3B41-9BA7-48D4-8C95-45F0F8A3A02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26920" y="907920"/>
            <a:ext cx="756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三元一次方程组解法思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328464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数学思想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：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类比思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72428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柞水县瓦房口中学  阮仕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623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解方程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84280"/>
            <a:ext cx="11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724280" y="406440"/>
            <a:ext cx="609840" cy="952200"/>
            <a:chOff x="4724280" y="406440"/>
            <a:chExt cx="609840" cy="952200"/>
          </a:xfrm>
        </p:grpSpPr>
        <p:sp>
          <p:nvSpPr>
            <p:cNvPr id="87" name=""/>
            <p:cNvSpPr/>
            <p:nvPr/>
          </p:nvSpPr>
          <p:spPr>
            <a:xfrm>
              <a:off x="4724280" y="4064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83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79520" y="152388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①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523880"/>
            <a:ext cx="15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- 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523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27664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③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②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27664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5-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+4y= 9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4797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2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7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4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653000"/>
            <a:ext cx="1295640" cy="216000"/>
          </a:xfrm>
          <a:prstGeom prst="rightArrow">
            <a:avLst>
              <a:gd name="adj1" fmla="val 50000"/>
              <a:gd name="adj2" fmla="val 149958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877000"/>
            <a:ext cx="1871640" cy="216000"/>
          </a:xfrm>
          <a:prstGeom prst="rightArrow">
            <a:avLst>
              <a:gd name="adj1" fmla="val 50000"/>
              <a:gd name="adj2" fmla="val 216625"/>
            </a:avLst>
          </a:prstGeom>
          <a:solidFill>
            <a:srgbClr val="ff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1484280"/>
            <a:ext cx="100800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变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276640"/>
            <a:ext cx="1008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933720"/>
            <a:ext cx="1000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5589720"/>
            <a:ext cx="1079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68360" y="404640"/>
            <a:ext cx="2895480" cy="1144800"/>
            <a:chOff x="2268360" y="404640"/>
            <a:chExt cx="2895480" cy="1144800"/>
          </a:xfrm>
        </p:grpSpPr>
        <p:sp>
          <p:nvSpPr>
            <p:cNvPr id="104" name=""/>
            <p:cNvSpPr/>
            <p:nvPr/>
          </p:nvSpPr>
          <p:spPr>
            <a:xfrm>
              <a:off x="2344680" y="40464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x +y = 35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4680" y="96804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x +4 y = 9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8360" y="55692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42920" y="3213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 1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0920" y="5516640"/>
            <a:ext cx="4107600" cy="1007640"/>
            <a:chOff x="250920" y="5516640"/>
            <a:chExt cx="4107600" cy="1007640"/>
          </a:xfrm>
        </p:grpSpPr>
        <p:sp>
          <p:nvSpPr>
            <p:cNvPr id="109" name=""/>
            <p:cNvSpPr/>
            <p:nvPr/>
          </p:nvSpPr>
          <p:spPr>
            <a:xfrm>
              <a:off x="250920" y="5752440"/>
              <a:ext cx="33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∴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原方程组的解是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16080" y="5516640"/>
              <a:ext cx="1342440" cy="1007640"/>
              <a:chOff x="3016080" y="5516640"/>
              <a:chExt cx="1342440" cy="1007640"/>
            </a:xfrm>
          </p:grpSpPr>
          <p:sp>
            <p:nvSpPr>
              <p:cNvPr id="111" name=""/>
              <p:cNvSpPr/>
              <p:nvPr/>
            </p:nvSpPr>
            <p:spPr>
              <a:xfrm>
                <a:off x="3104640" y="5516640"/>
                <a:ext cx="12538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x =23</a:t>
                </a:r>
                <a:endParaRPr b="0" lang="en-US" sz="3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04640" y="5918040"/>
                <a:ext cx="1179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y =</a:t>
                </a:r>
                <a:r>
                  <a:rPr b="1" lang="en-US" sz="18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16080" y="5760720"/>
                <a:ext cx="96840" cy="556920"/>
              </a:xfrm>
              <a:custGeom>
                <a:avLst/>
                <a:gdLst>
                  <a:gd name="textAreaLeft" fmla="*/ 61920 w 96840"/>
                  <a:gd name="textAreaRight" fmla="*/ 97200 w 96840"/>
                  <a:gd name="textAreaTop" fmla="*/ 14400 h 556920"/>
                  <a:gd name="textAreaBottom" fmla="*/ 542520 h 55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5364000" y="47628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代入消元法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4290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005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 1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，得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 +12= 3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法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84720" y="0"/>
            <a:ext cx="2834640" cy="1614240"/>
            <a:chOff x="6084720" y="0"/>
            <a:chExt cx="2834640" cy="161424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084720" y="0"/>
                  <a:ext cx="2417760" cy="16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23720" y="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23720" y="5508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23720" y="1054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9640" y="549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：由①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90792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④代入②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-y+z=4,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-3y+5z=-6   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84464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④代入③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+y-3z=10,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-y+z=0      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637000"/>
            <a:ext cx="9144000" cy="925200"/>
            <a:chOff x="0" y="2637000"/>
            <a:chExt cx="9144000" cy="925200"/>
          </a:xfrm>
        </p:grpSpPr>
        <p:sp>
          <p:nvSpPr>
            <p:cNvPr id="128" name=""/>
            <p:cNvSpPr/>
            <p:nvPr/>
          </p:nvSpPr>
          <p:spPr>
            <a:xfrm>
              <a:off x="611280" y="2924280"/>
              <a:ext cx="46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把⑤、⑥组成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0" y="2637000"/>
              <a:ext cx="9144000" cy="925200"/>
              <a:chOff x="0" y="2637000"/>
              <a:chExt cx="9144000" cy="92520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32004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1" name=""/>
                  <p:cNvSpPr txBox="1"/>
                  <p:nvPr/>
                </p:nvSpPr>
                <p:spPr>
                  <a:xfrm>
                    <a:off x="5219640" y="2637000"/>
                    <a:ext cx="1871640" cy="92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2" name=""/>
              <p:cNvSpPr/>
              <p:nvPr/>
            </p:nvSpPr>
            <p:spPr>
              <a:xfrm>
                <a:off x="7261200" y="263700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⑤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200" y="306864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⑥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3429000"/>
            <a:ext cx="4681440" cy="984240"/>
            <a:chOff x="611280" y="3429000"/>
            <a:chExt cx="4681440" cy="984240"/>
          </a:xfrm>
        </p:grpSpPr>
        <p:sp>
          <p:nvSpPr>
            <p:cNvPr id="136" name=""/>
            <p:cNvSpPr/>
            <p:nvPr/>
          </p:nvSpPr>
          <p:spPr>
            <a:xfrm>
              <a:off x="611280" y="364500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解这个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284720" y="3429000"/>
                  <a:ext cx="1008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611280" y="429264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      代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5-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16000" y="4221000"/>
                <a:ext cx="93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1128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∴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64000" y="5300640"/>
                <a:ext cx="9064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500720" y="692280"/>
            <a:ext cx="215640" cy="21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549360"/>
            <a:ext cx="93636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变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1052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90792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1989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84464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28000" y="263700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292428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3860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378936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869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72428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587700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5734080"/>
            <a:ext cx="936720" cy="45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消元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0" r="-1590" b="62441"/>
          <a:stretch/>
        </p:blipFill>
        <p:spPr>
          <a:xfrm>
            <a:off x="6588000" y="1484280"/>
            <a:ext cx="2414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9079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说一说：下列三元一次方程组用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代入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如何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消元组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成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二元一次方程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19280" y="2060640"/>
            <a:ext cx="2334960" cy="1601640"/>
            <a:chOff x="1619280" y="2060640"/>
            <a:chExt cx="2334960" cy="160164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1619280" y="2065320"/>
                  <a:ext cx="170640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3516120" y="2060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16120" y="25639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6120" y="30733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00720" y="1989000"/>
            <a:ext cx="3271680" cy="1630440"/>
            <a:chOff x="4500720" y="1989000"/>
            <a:chExt cx="3271680" cy="163044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500720" y="2022480"/>
                  <a:ext cx="253044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329240" y="198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34280" y="2520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34280" y="3024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63640" y="386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认识提高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用代入法解三元一次方程组的关键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486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何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96360" y="4797360"/>
            <a:ext cx="828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5084640"/>
            <a:ext cx="358560" cy="28764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14520" y="1506600"/>
            <a:ext cx="77040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加减法解方程组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900000" y="2060640"/>
          <a:ext cx="2521080" cy="10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060640"/>
                    <a:ext cx="25210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0" y="32119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①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967680" y="585684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3397320" y="5742000"/>
          <a:ext cx="107928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7320" y="5742000"/>
                    <a:ext cx="1079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8"/>
          <p:cNvSpPr/>
          <p:nvPr/>
        </p:nvSpPr>
        <p:spPr>
          <a:xfrm>
            <a:off x="3443400" y="19940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477240" y="25272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24000" y="422100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③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④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6x+9y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-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6x+8y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=36-34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79280" y="472428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代入①得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2=1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x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91160" y="371628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②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991160" y="3214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x+9y=36 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954440" y="376704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x+8y=34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37440" y="2565360"/>
            <a:ext cx="1299960" cy="676440"/>
          </a:xfrm>
          <a:prstGeom prst="wedgeRoundRectCallout">
            <a:avLst>
              <a:gd name="adj1" fmla="val -235712"/>
              <a:gd name="adj2" fmla="val 168546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配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2562120"/>
            <a:ext cx="1299960" cy="676440"/>
          </a:xfrm>
          <a:prstGeom prst="wedgeRoundRectCallout">
            <a:avLst>
              <a:gd name="adj1" fmla="val -123013"/>
              <a:gd name="adj2" fmla="val 7159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配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3360" y="789120"/>
            <a:ext cx="3078000" cy="685800"/>
          </a:xfrm>
          <a:prstGeom prst="wedgeRoundRectCallout">
            <a:avLst>
              <a:gd name="adj1" fmla="val -69444"/>
              <a:gd name="adj2" fmla="val 322916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x+3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=3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3320" y="1554120"/>
            <a:ext cx="3078360" cy="685800"/>
          </a:xfrm>
          <a:prstGeom prst="wedgeRoundRectCallout">
            <a:avLst>
              <a:gd name="adj1" fmla="val -112300"/>
              <a:gd name="adj2" fmla="val 29583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x+4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=2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62720" y="3668760"/>
            <a:ext cx="1143000" cy="509400"/>
          </a:xfrm>
          <a:prstGeom prst="wedgeRoundRectCallout">
            <a:avLst>
              <a:gd name="adj1" fmla="val -121944"/>
              <a:gd name="adj2" fmla="val 108564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0400" y="4643280"/>
            <a:ext cx="1143000" cy="509760"/>
          </a:xfrm>
          <a:prstGeom prst="wedgeRoundRectCallout">
            <a:avLst>
              <a:gd name="adj1" fmla="val -182916"/>
              <a:gd name="adj2" fmla="val 12930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51560" y="5641920"/>
            <a:ext cx="1143000" cy="509760"/>
          </a:xfrm>
          <a:prstGeom prst="wedgeRoundRectCallout">
            <a:avLst>
              <a:gd name="adj1" fmla="val -228333"/>
              <a:gd name="adj2" fmla="val 57787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4936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代入消元法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法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84720" y="0"/>
            <a:ext cx="2834640" cy="1614240"/>
            <a:chOff x="6084720" y="0"/>
            <a:chExt cx="2834640" cy="161424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084720" y="0"/>
                  <a:ext cx="2417760" cy="16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8523720" y="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23720" y="5508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23720" y="1054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620640"/>
            <a:ext cx="68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：由①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得：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+y-2z)+(2x-y+z)=5+4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：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x-z=9 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637000"/>
            <a:ext cx="9144000" cy="925200"/>
            <a:chOff x="0" y="2637000"/>
            <a:chExt cx="9144000" cy="925200"/>
          </a:xfrm>
        </p:grpSpPr>
        <p:sp>
          <p:nvSpPr>
            <p:cNvPr id="208" name=""/>
            <p:cNvSpPr/>
            <p:nvPr/>
          </p:nvSpPr>
          <p:spPr>
            <a:xfrm>
              <a:off x="611280" y="2924280"/>
              <a:ext cx="46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把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④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、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⑤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组成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0" y="2637000"/>
              <a:ext cx="9144000" cy="925200"/>
              <a:chOff x="0" y="2637000"/>
              <a:chExt cx="9144000" cy="92520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2004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1" name=""/>
                  <p:cNvSpPr txBox="1"/>
                  <p:nvPr/>
                </p:nvSpPr>
                <p:spPr>
                  <a:xfrm>
                    <a:off x="5334120" y="2637000"/>
                    <a:ext cx="1643040" cy="92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-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" name=""/>
              <p:cNvSpPr/>
              <p:nvPr/>
            </p:nvSpPr>
            <p:spPr>
              <a:xfrm>
                <a:off x="7261920" y="263700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④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61920" y="306864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⑤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3429000"/>
            <a:ext cx="4681440" cy="984240"/>
            <a:chOff x="611280" y="3429000"/>
            <a:chExt cx="4681440" cy="984240"/>
          </a:xfrm>
        </p:grpSpPr>
        <p:sp>
          <p:nvSpPr>
            <p:cNvPr id="216" name=""/>
            <p:cNvSpPr/>
            <p:nvPr/>
          </p:nvSpPr>
          <p:spPr>
            <a:xfrm>
              <a:off x="611280" y="364500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解这个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284720" y="3429000"/>
                  <a:ext cx="1008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611280" y="429264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      代入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+y-2(-3)=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4149720"/>
                <a:ext cx="93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1128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∴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64000" y="5300640"/>
                <a:ext cx="9064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435640" y="1052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90792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13372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198900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28000" y="263700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67640" y="292428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3860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378936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4869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472428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59280" y="587700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5734080"/>
            <a:ext cx="936720" cy="45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减消元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557360"/>
            <a:ext cx="680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得：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x-y+z)+(2x+y-3z)=4+10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x-2z=14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0" r="-1590" b="62441"/>
          <a:stretch/>
        </p:blipFill>
        <p:spPr>
          <a:xfrm>
            <a:off x="6516720" y="1557360"/>
            <a:ext cx="24145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7640" y="9079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说一说：下列三元一次方程组用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加减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如何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消元组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成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二元一次方程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19280" y="2060640"/>
            <a:ext cx="2334960" cy="1601640"/>
            <a:chOff x="1619280" y="2060640"/>
            <a:chExt cx="2334960" cy="160164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619280" y="2065320"/>
                  <a:ext cx="170640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516120" y="2060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16120" y="25639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6120" y="30733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00720" y="1989000"/>
            <a:ext cx="3271680" cy="1630440"/>
            <a:chOff x="4500720" y="1989000"/>
            <a:chExt cx="3271680" cy="163044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4500720" y="2022480"/>
                  <a:ext cx="253044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7329240" y="198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34280" y="2520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4280" y="3024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763640" y="386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认识提高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用加减法解三元一次方程组的关键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486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何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96360" y="4797360"/>
            <a:ext cx="828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5084640"/>
            <a:ext cx="358560" cy="28764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16000" y="23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、数学思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类比思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4120" y="285264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解三元一次方程组的关键是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无论用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代入法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是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加减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都要想办法如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提高认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2693880" cy="622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53440" y="350208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3080" y="378936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0:22:22Z</dcterms:created>
  <dc:creator>User</dc:creator>
  <dc:description/>
  <dc:language>en-US</dc:language>
  <cp:lastModifiedBy>User</cp:lastModifiedBy>
  <dcterms:modified xsi:type="dcterms:W3CDTF">2013-05-06T12:58:07Z</dcterms:modified>
  <cp:revision>13</cp:revision>
  <dc:subject/>
  <dc:title>幻灯片 1</dc:title>
</cp:coreProperties>
</file>