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8EB-DE47-4969-B176-B01D1028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577-73F2-4BD1-8089-C65FD4C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CB6-FCB9-4747-9110-29A62A4B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243-61ED-49C6-BAD1-8EFAFAD4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8AFF-23D7-4341-913C-57BAC38B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720-F177-46BE-A5E9-19D1B46E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65B-844E-481D-AB9A-1F34746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0E2-7A6F-4C4E-B6C8-5ECF82EB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671-32FE-4B63-842D-2C5AA81B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69DD-672D-48A4-B7F2-7384222D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A8B1-9164-49E4-9B0D-8DD0E6D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39E-48DE-41D2-AF26-1C0F02CD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EAD2-6CB2-4000-8456-A4E82456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3A04-D9B2-4591-8C2B-060A95F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3973-94C1-4826-9798-6C1E5D0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1B81-416A-473C-8107-D1E54C49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155-4662-4C50-B9C4-ACF095D3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D91E-819B-4B2E-BD65-3DB082BF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66C0-EB7A-49DF-A856-02241F1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99F5-1231-448F-AB7A-DE237474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17CA-087A-4148-B1CF-136E4D8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9DC3-3722-4BBA-9F3D-120AB438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833-B430-48B9-92E3-9583AD22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F7D1-2FD6-4F48-8328-C002E1A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7718-CD2A-471C-843C-07F16D9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6262-67BC-42F2-B81A-C66CAE9F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DF53-3840-4A28-B6C3-F0F1033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6DF9-4B07-4BE8-A65A-6151D73E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776E-A715-4004-9246-65E8A028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7406-025C-4649-8D9D-2F81E9F2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B29C-00EE-497F-9E9F-1E2394BD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B309-8A83-431A-A391-926C90F5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21A2-F925-43DE-A089-BC214F2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29A-4BFC-42AA-97D0-F5772FC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F882-644E-481C-A7A8-8633531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1CB2-4388-4FEA-9840-FEA180B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4FF0-4AAC-4663-92DD-F5F77C50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BDC7-EE96-40D9-BB04-9A671B3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F78E-67C4-4669-A62C-85A9A2A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F03C-60D6-424E-A753-2F113B7F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A872-94D2-463A-8F3E-E8AB76D2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774F-981E-4344-81EF-4F9B65DF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E411-FE71-4BA8-B409-54B0766D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3F7-0B76-40C6-8D69-79C8A73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B76-9CEB-492F-A728-7A9FBD9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BEB-84DB-42F9-8E65-52FB10B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1E1-BD60-4757-A7BD-DF37FDE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530-E4C1-419F-BBD5-1A60A89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180-DA4A-40AA-8D30-29C5F4283D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AAA-927B-4ED6-A525-56C43BD5197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50F-E413-4F69-90ED-5CDA0CC45A6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99B-60D8-459D-AD71-FFCB494B0B5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10920" y="1483920"/>
            <a:ext cx="6769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第十章 数据的收集、整理与描述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</a:rPr>
              <a:t>10.3 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课题学习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从数据谈节水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476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七年级  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副标题 2"/>
          <p:cNvSpPr/>
          <p:nvPr/>
        </p:nvSpPr>
        <p:spPr>
          <a:xfrm>
            <a:off x="1835280" y="5013360"/>
            <a:ext cx="69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楷体_GB2312"/>
              </a:rPr>
              <a:t>湖北省咸宁市咸安区实验中小学　曾令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250920" y="1351080"/>
            <a:ext cx="8713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如果用靠近尽可能多散点的直线来表示用水量的这种发展趋势，你能试着在图中上作出这条直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840360" cy="3527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468360" y="165420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根据所作直线，估计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09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年和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10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年的全国生活用水量，并和自己查阅的这两年实际用水量进行比较．你的估计准确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539640" y="360684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09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年是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750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10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年是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770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，只是根据直线的一个估计，不一定准确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324000" y="1944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通过本节课的学习，你对当前水资源及节约水资源带来的价值有什么新的认识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堂小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0" y="1341360"/>
            <a:ext cx="91440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　　请以小组为单位，以“家庭人均月生活用水量”为题，在全校范围内开展一次统计调查活动，并完成一篇调查报告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给出调查目的，调查对象，调查问卷，调查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用表格整理收集到的数据，用直方图描述数据，并分析数据中蕴含的信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计算或估计全校同学家庭人均月生活用水量的平均数，并与全国人均月生活用水量比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结合我国水资源短缺的形势，谈谈节约用水的意义，以及节约用水如何从我做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外作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250920" y="5373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看了这些图片，你有哪些感受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" descr="U662P1T1D4993364F21DT20041122103931"/>
          <p:cNvPicPr/>
          <p:nvPr/>
        </p:nvPicPr>
        <p:blipFill>
          <a:blip r:embed="rId2"/>
          <a:stretch/>
        </p:blipFill>
        <p:spPr>
          <a:xfrm>
            <a:off x="539640" y="1628640"/>
            <a:ext cx="2521080" cy="18018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U397P1T1D7019276F21DT20050622231652"/>
          <p:cNvPicPr/>
          <p:nvPr/>
        </p:nvPicPr>
        <p:blipFill>
          <a:blip r:embed="rId3"/>
          <a:stretch/>
        </p:blipFill>
        <p:spPr>
          <a:xfrm>
            <a:off x="2050920" y="2205000"/>
            <a:ext cx="2521080" cy="1801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13567"/>
          <p:cNvPicPr/>
          <p:nvPr/>
        </p:nvPicPr>
        <p:blipFill>
          <a:blip r:embed="rId4"/>
          <a:stretch/>
        </p:blipFill>
        <p:spPr>
          <a:xfrm>
            <a:off x="3492360" y="3500280"/>
            <a:ext cx="2521080" cy="18018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W020050410390773097020"/>
          <p:cNvPicPr/>
          <p:nvPr/>
        </p:nvPicPr>
        <p:blipFill>
          <a:blip r:embed="rId5"/>
          <a:stretch/>
        </p:blipFill>
        <p:spPr>
          <a:xfrm>
            <a:off x="5506920" y="2708280"/>
            <a:ext cx="2521080" cy="179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情境引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84280" y="148428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　　阅读教科书附录中的资料，通过小组合作，按以下步骤回答第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5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页的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个问题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0"/>
          <p:cNvSpPr/>
          <p:nvPr/>
        </p:nvSpPr>
        <p:spPr>
          <a:xfrm>
            <a:off x="611280" y="3284640"/>
            <a:ext cx="80931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请给短文配上合适的统计图表，直观的表示地球上的水资源和淡水资源的分布情况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79280" y="2781360"/>
            <a:ext cx="889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　　地球上水的总体积是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14.2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亿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km</a:t>
            </a:r>
            <a:r>
              <a:rPr b="0" lang="en-US" sz="30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，其中海洋水约占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96.53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％以上，淡水约占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2.53 %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79280" y="1590840"/>
            <a:ext cx="8791560" cy="64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　　短文中表示地球上的水资源和淡水资源的分布情况的数据是什么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79280" y="4076640"/>
            <a:ext cx="8640720" cy="118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　　在淡水中，大部分在两极的冰川、冰盖和以地下水的形式存在，其中冰川、冰盖占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77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％，地下水占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22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％，而人类可以利用的水还不到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％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179280" y="1484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你能选择合适的统计图，直观地描述地球上水资源和淡水资源的分布情况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9"/>
          <p:cNvGrpSpPr/>
          <p:nvPr/>
        </p:nvGrpSpPr>
        <p:grpSpPr>
          <a:xfrm>
            <a:off x="1036080" y="2851200"/>
            <a:ext cx="2722680" cy="2943360"/>
            <a:chOff x="1036080" y="2851200"/>
            <a:chExt cx="2722680" cy="2943360"/>
          </a:xfrm>
        </p:grpSpPr>
        <p:pic>
          <p:nvPicPr>
            <p:cNvPr id="192" name="Picture 13" descr="地球水资源分布"/>
            <p:cNvPicPr/>
            <p:nvPr/>
          </p:nvPicPr>
          <p:blipFill>
            <a:blip r:embed="rId2"/>
            <a:stretch/>
          </p:blipFill>
          <p:spPr>
            <a:xfrm>
              <a:off x="1036080" y="2851200"/>
              <a:ext cx="2722680" cy="24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15"/>
            <p:cNvSpPr/>
            <p:nvPr/>
          </p:nvSpPr>
          <p:spPr>
            <a:xfrm>
              <a:off x="1449000" y="5334840"/>
              <a:ext cx="2068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地球上水资源分布情况</a:t>
              </a: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0"/>
          <p:cNvGrpSpPr/>
          <p:nvPr/>
        </p:nvGrpSpPr>
        <p:grpSpPr>
          <a:xfrm>
            <a:off x="4656600" y="2637000"/>
            <a:ext cx="2747160" cy="3147840"/>
            <a:chOff x="4656600" y="2637000"/>
            <a:chExt cx="2747160" cy="3147840"/>
          </a:xfrm>
        </p:grpSpPr>
        <p:pic>
          <p:nvPicPr>
            <p:cNvPr id="195" name="Picture 14" descr="地球淡水资源分布"/>
            <p:cNvPicPr/>
            <p:nvPr/>
          </p:nvPicPr>
          <p:blipFill>
            <a:blip r:embed="rId3"/>
            <a:stretch/>
          </p:blipFill>
          <p:spPr>
            <a:xfrm>
              <a:off x="4656600" y="2637000"/>
              <a:ext cx="2747160" cy="25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16"/>
            <p:cNvSpPr/>
            <p:nvPr/>
          </p:nvSpPr>
          <p:spPr>
            <a:xfrm>
              <a:off x="5112000" y="5325120"/>
              <a:ext cx="2251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地球上淡水资源分布情况</a:t>
              </a:r>
              <a:r>
                <a:rPr b="0" lang="zh-CN" sz="1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611280" y="1484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根据国外的经验，一个国家的用水量超过其水资源的总量的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0%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，就有可能发生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水危机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．依据这个标准，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年我国是否属于可能发生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水危机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的行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501480" y="1557360"/>
            <a:ext cx="8642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中国年水资源总量约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.75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年，全国农业用水量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3 664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，全国工业用水量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 401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，全国生活用水量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727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亿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395280" y="1701720"/>
            <a:ext cx="83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　　怎么计算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年全国用水量是否超过其水资源的总量的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20%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正字三化"/>
          <p:cNvPicPr/>
          <p:nvPr/>
        </p:nvPicPr>
        <p:blipFill>
          <a:blip r:embed="rId2"/>
          <a:stretch/>
        </p:blipFill>
        <p:spPr>
          <a:xfrm>
            <a:off x="0" y="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正字三化"/>
          <p:cNvPicPr/>
          <p:nvPr/>
        </p:nvPicPr>
        <p:blipFill>
          <a:blip r:embed="rId3"/>
          <a:stretch/>
        </p:blipFill>
        <p:spPr>
          <a:xfrm>
            <a:off x="0" y="0"/>
            <a:ext cx="142920" cy="14292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22"/>
          <p:cNvGrpSpPr/>
          <p:nvPr/>
        </p:nvGrpSpPr>
        <p:grpSpPr>
          <a:xfrm>
            <a:off x="466560" y="3125880"/>
            <a:ext cx="8209080" cy="2174040"/>
            <a:chOff x="466560" y="3125880"/>
            <a:chExt cx="8209080" cy="2174040"/>
          </a:xfrm>
        </p:grpSpPr>
        <p:sp>
          <p:nvSpPr>
            <p:cNvPr id="209" name="Text Box 21"/>
            <p:cNvSpPr/>
            <p:nvPr/>
          </p:nvSpPr>
          <p:spPr>
            <a:xfrm>
              <a:off x="466560" y="3652920"/>
              <a:ext cx="8209080" cy="16470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　　　　　　　　　　　，</a:t>
              </a:r>
              <a:r>
                <a:rPr b="0" lang="en-US" sz="3000" spc="-1" strike="noStrike">
                  <a:solidFill>
                    <a:srgbClr val="0033cc"/>
                  </a:solidFill>
                  <a:latin typeface="Times New Roman"/>
                </a:rPr>
                <a:t>21.6%&gt;20%</a:t>
              </a: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，所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cc"/>
                  </a:solidFill>
                  <a:latin typeface="Times New Roman"/>
                </a:rPr>
                <a:t>2008</a:t>
              </a: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年我国属于可能发生</a:t>
              </a:r>
              <a:r>
                <a:rPr b="0" lang="zh-CN" sz="3000" spc="-1" strike="noStrike">
                  <a:solidFill>
                    <a:srgbClr val="0033cc"/>
                  </a:solidFill>
                  <a:latin typeface="宋体"/>
                </a:rPr>
                <a:t>“</a:t>
              </a: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水危机</a:t>
              </a:r>
              <a:r>
                <a:rPr b="0" lang="zh-CN" sz="3000" spc="-1" strike="noStrike">
                  <a:solidFill>
                    <a:srgbClr val="0033cc"/>
                  </a:solidFill>
                  <a:latin typeface="宋体"/>
                </a:rPr>
                <a:t>”</a:t>
              </a: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的行列．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Object 2"/>
            <p:cNvGraphicFramePr/>
            <p:nvPr/>
          </p:nvGraphicFramePr>
          <p:xfrm>
            <a:off x="1359000" y="3183120"/>
            <a:ext cx="4579920" cy="53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59000" y="3183120"/>
                      <a:ext cx="45799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Text Box 18"/>
            <p:cNvSpPr/>
            <p:nvPr/>
          </p:nvSpPr>
          <p:spPr>
            <a:xfrm>
              <a:off x="5865840" y="3125880"/>
              <a:ext cx="2305080" cy="550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3000" spc="-1" strike="noStrike">
                  <a:solidFill>
                    <a:srgbClr val="0033cc"/>
                  </a:solidFill>
                  <a:latin typeface="宋体"/>
                </a:rPr>
                <a:t>亿</a:t>
              </a:r>
              <a:r>
                <a:rPr b="0" lang="zh-CN" sz="30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0" lang="en-US" sz="3000" spc="-1" strike="noStrike" baseline="30000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0" lang="zh-CN" sz="3000" spc="-1" strike="noStrike">
                  <a:solidFill>
                    <a:srgbClr val="0033cc"/>
                  </a:solidFill>
                  <a:latin typeface="宋体"/>
                </a:rPr>
                <a:t>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" name="Object 3"/>
            <p:cNvGraphicFramePr/>
            <p:nvPr/>
          </p:nvGraphicFramePr>
          <p:xfrm>
            <a:off x="466560" y="3716640"/>
            <a:ext cx="4289400" cy="1136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4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6560" y="3716640"/>
                      <a:ext cx="4289400" cy="11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250920" y="1484280"/>
            <a:ext cx="91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由表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00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～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年全国用水量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”可知，全国生活用水量逐年上升．若在平面直角坐标中描出表中各对值所对应的点，其中横坐标表示年份，纵坐标表示年用水量（如图），可以发现这些散点近似落在某条直线上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6985080" cy="2665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合作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User</cp:lastModifiedBy>
  <dcterms:modified xsi:type="dcterms:W3CDTF">2015-03-22T02:26:52Z</dcterms:modified>
  <cp:revision>168</cp:revision>
  <dc:subject/>
  <dc:title>幻灯片 1</dc:title>
</cp:coreProperties>
</file>