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28.wmf" ContentType="image/x-wmf"/>
  <Override PartName="/ppt/media/image30.wmf" ContentType="image/x-wmf"/>
  <Override PartName="/ppt/media/image6.jpeg" ContentType="image/jpeg"/>
  <Override PartName="/ppt/media/image21.wmf" ContentType="image/x-wmf"/>
  <Override PartName="/ppt/media/image19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0.wmf" ContentType="image/x-wmf"/>
  <Override PartName="/ppt/media/image31.wmf" ContentType="image/x-wmf"/>
  <Override PartName="/ppt/media/image3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18.wmf" ContentType="image/x-wmf"/>
  <Override PartName="/ppt/media/image36.jpeg" ContentType="image/jpeg"/>
  <Override PartName="/ppt/media/image2.jpeg" ContentType="image/jpeg"/>
  <Override PartName="/ppt/media/image25.wmf" ContentType="image/x-wmf"/>
  <Override PartName="/ppt/media/image34.wmf" ContentType="image/x-wmf"/>
  <Override PartName="/ppt/media/image8.gif" ContentType="image/gi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131-513E-4260-9977-38F7A6F799A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C9A-D41C-4934-96DB-4186EA36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C7C-A93F-427D-8CA1-979ADDC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9ED-48C5-41B7-BF20-3E293C4C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08F-1B04-49A5-A477-6806485D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0E8-8BD8-490D-9DEE-A7D72A31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32C-ECA2-4BA5-B734-EEF8A56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67F-E5AE-48D6-9751-2341E9AD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AC2-996D-4EB8-BD6C-4E43E62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14C-7C45-4016-A347-2E95DEB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328-6501-4896-BFA4-61B44D4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84D-0E48-4287-8FC1-634876F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24A-252D-4D5A-ADB6-13259B0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425-5A17-48D4-8133-7EA4089F67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27560" y="3733920"/>
            <a:ext cx="667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5640" y="2836800"/>
            <a:ext cx="1565280" cy="271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774800" y="4062240"/>
            <a:ext cx="550404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角的比较与运算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432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515600" y="4622760"/>
            <a:ext cx="1068480" cy="966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352680" y="2438280"/>
            <a:ext cx="2971800" cy="1907640"/>
            <a:chOff x="3352680" y="2438280"/>
            <a:chExt cx="2971800" cy="1907640"/>
          </a:xfrm>
        </p:grpSpPr>
        <p:grpSp>
          <p:nvGrpSpPr>
            <p:cNvPr id="203" name=""/>
            <p:cNvGrpSpPr/>
            <p:nvPr/>
          </p:nvGrpSpPr>
          <p:grpSpPr>
            <a:xfrm>
              <a:off x="3733560" y="3047400"/>
              <a:ext cx="2133720" cy="838800"/>
              <a:chOff x="3733560" y="3047400"/>
              <a:chExt cx="2133720" cy="8388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3733560" y="3047400"/>
                <a:ext cx="213372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33560" y="388620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86728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526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64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96840" y="2057400"/>
            <a:ext cx="3371760" cy="2288520"/>
            <a:chOff x="3696840" y="2057400"/>
            <a:chExt cx="3371760" cy="2288520"/>
          </a:xfrm>
        </p:grpSpPr>
        <p:grpSp>
          <p:nvGrpSpPr>
            <p:cNvPr id="210" name=""/>
            <p:cNvGrpSpPr/>
            <p:nvPr/>
          </p:nvGrpSpPr>
          <p:grpSpPr>
            <a:xfrm>
              <a:off x="3696840" y="2514600"/>
              <a:ext cx="2133720" cy="1371600"/>
              <a:chOff x="3696840" y="2514600"/>
              <a:chExt cx="2133720" cy="137160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3696840" y="2514600"/>
                <a:ext cx="1600200" cy="1371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97200" y="3886200"/>
                <a:ext cx="2133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916160" y="20574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97200" y="38862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7824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811680"/>
            <a:ext cx="2133360" cy="74520"/>
            <a:chOff x="3697200" y="3811680"/>
            <a:chExt cx="2133360" cy="74520"/>
          </a:xfrm>
        </p:grpSpPr>
        <p:sp>
          <p:nvSpPr>
            <p:cNvPr id="217" name=""/>
            <p:cNvSpPr/>
            <p:nvPr/>
          </p:nvSpPr>
          <p:spPr>
            <a:xfrm>
              <a:off x="3697200" y="3811680"/>
              <a:ext cx="75960" cy="745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97200" y="388620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352680" y="4622760"/>
            <a:ext cx="3276720" cy="1932840"/>
            <a:chOff x="3352680" y="4622760"/>
            <a:chExt cx="3276720" cy="1932840"/>
          </a:xfrm>
        </p:grpSpPr>
        <p:grpSp>
          <p:nvGrpSpPr>
            <p:cNvPr id="220" name=""/>
            <p:cNvGrpSpPr/>
            <p:nvPr/>
          </p:nvGrpSpPr>
          <p:grpSpPr>
            <a:xfrm>
              <a:off x="3733920" y="5181480"/>
              <a:ext cx="2514600" cy="914400"/>
              <a:chOff x="3733920" y="5181480"/>
              <a:chExt cx="2514600" cy="91440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3733920" y="5181480"/>
                <a:ext cx="21333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33920" y="60958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867280" y="6095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2680" y="6095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4622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733920" y="4724280"/>
            <a:ext cx="3886200" cy="1831320"/>
            <a:chOff x="3733920" y="4724280"/>
            <a:chExt cx="3886200" cy="1831320"/>
          </a:xfrm>
        </p:grpSpPr>
        <p:grpSp>
          <p:nvGrpSpPr>
            <p:cNvPr id="227" name=""/>
            <p:cNvGrpSpPr/>
            <p:nvPr/>
          </p:nvGrpSpPr>
          <p:grpSpPr>
            <a:xfrm>
              <a:off x="3733920" y="5181480"/>
              <a:ext cx="2514600" cy="914400"/>
              <a:chOff x="3733920" y="5181480"/>
              <a:chExt cx="2514600" cy="9144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3733920" y="5181480"/>
                <a:ext cx="2133360" cy="914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6095880"/>
                <a:ext cx="25146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733920" y="6095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E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6095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640" y="4724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F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733920" y="6016680"/>
            <a:ext cx="2514240" cy="74520"/>
            <a:chOff x="3733920" y="6016680"/>
            <a:chExt cx="2514240" cy="74520"/>
          </a:xfrm>
        </p:grpSpPr>
        <p:sp>
          <p:nvSpPr>
            <p:cNvPr id="234" name=""/>
            <p:cNvSpPr/>
            <p:nvPr/>
          </p:nvSpPr>
          <p:spPr>
            <a:xfrm>
              <a:off x="3733920" y="6016680"/>
              <a:ext cx="89280" cy="745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920" y="6091200"/>
              <a:ext cx="251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971800" y="-76320"/>
            <a:ext cx="3124080" cy="2517840"/>
            <a:chOff x="2971800" y="-76320"/>
            <a:chExt cx="3124080" cy="2517840"/>
          </a:xfrm>
        </p:grpSpPr>
        <p:sp>
          <p:nvSpPr>
            <p:cNvPr id="237" name=""/>
            <p:cNvSpPr/>
            <p:nvPr/>
          </p:nvSpPr>
          <p:spPr>
            <a:xfrm>
              <a:off x="5562720" y="1616040"/>
              <a:ext cx="53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180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-76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504960" y="304920"/>
              <a:ext cx="2057760" cy="1295280"/>
              <a:chOff x="3504960" y="304920"/>
              <a:chExt cx="2057760" cy="129528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3504960" y="304920"/>
                <a:ext cx="160020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05320" y="1600200"/>
                <a:ext cx="205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3505320" y="249120"/>
            <a:ext cx="3252240" cy="1810800"/>
            <a:chOff x="3505320" y="249120"/>
            <a:chExt cx="3252240" cy="1810800"/>
          </a:xfrm>
        </p:grpSpPr>
        <p:sp>
          <p:nvSpPr>
            <p:cNvPr id="244" name=""/>
            <p:cNvSpPr/>
            <p:nvPr/>
          </p:nvSpPr>
          <p:spPr>
            <a:xfrm>
              <a:off x="6114960" y="24912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93880" y="1584360"/>
              <a:ext cx="9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E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0560" y="1600200"/>
              <a:ext cx="92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D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505320" y="690120"/>
              <a:ext cx="2361960" cy="910080"/>
              <a:chOff x="3505320" y="690120"/>
              <a:chExt cx="2361960" cy="91008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3505320" y="690120"/>
                <a:ext cx="2361960" cy="909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05320" y="1600200"/>
                <a:ext cx="2057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3505320" y="1523880"/>
            <a:ext cx="2133360" cy="74520"/>
            <a:chOff x="3505320" y="1523880"/>
            <a:chExt cx="2133360" cy="74520"/>
          </a:xfrm>
        </p:grpSpPr>
        <p:sp>
          <p:nvSpPr>
            <p:cNvPr id="251" name=""/>
            <p:cNvSpPr/>
            <p:nvPr/>
          </p:nvSpPr>
          <p:spPr>
            <a:xfrm>
              <a:off x="3505320" y="1523880"/>
              <a:ext cx="75960" cy="745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05320" y="159840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36560" y="2363760"/>
            <a:ext cx="1521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叠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529320" y="1643040"/>
            <a:ext cx="2614320" cy="520560"/>
            <a:chOff x="6529320" y="1643040"/>
            <a:chExt cx="2614320" cy="520560"/>
          </a:xfrm>
        </p:grpSpPr>
        <p:sp>
          <p:nvSpPr>
            <p:cNvPr id="255" name=""/>
            <p:cNvSpPr/>
            <p:nvPr/>
          </p:nvSpPr>
          <p:spPr>
            <a:xfrm>
              <a:off x="6551640" y="1643040"/>
              <a:ext cx="25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BC&gt;  DE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529320" y="1794960"/>
              <a:ext cx="238320" cy="228960"/>
              <a:chOff x="6529320" y="1794960"/>
              <a:chExt cx="238320" cy="228960"/>
            </a:xfrm>
          </p:grpSpPr>
          <p:sp>
            <p:nvSpPr>
              <p:cNvPr id="257" name=""/>
              <p:cNvSpPr/>
              <p:nvPr/>
            </p:nvSpPr>
            <p:spPr>
              <a:xfrm>
                <a:off x="6529320" y="2023920"/>
                <a:ext cx="2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529320" y="1794960"/>
                <a:ext cx="238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703640" y="1794960"/>
              <a:ext cx="238320" cy="228960"/>
              <a:chOff x="7703640" y="1794960"/>
              <a:chExt cx="238320" cy="228960"/>
            </a:xfrm>
          </p:grpSpPr>
          <p:sp>
            <p:nvSpPr>
              <p:cNvPr id="260" name=""/>
              <p:cNvSpPr/>
              <p:nvPr/>
            </p:nvSpPr>
            <p:spPr>
              <a:xfrm>
                <a:off x="7703640" y="2023920"/>
                <a:ext cx="2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703640" y="1794960"/>
                <a:ext cx="238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6400800" y="3505320"/>
            <a:ext cx="2514600" cy="459720"/>
            <a:chOff x="6400800" y="3505320"/>
            <a:chExt cx="2514600" cy="459720"/>
          </a:xfrm>
        </p:grpSpPr>
        <p:grpSp>
          <p:nvGrpSpPr>
            <p:cNvPr id="263" name=""/>
            <p:cNvGrpSpPr/>
            <p:nvPr/>
          </p:nvGrpSpPr>
          <p:grpSpPr>
            <a:xfrm>
              <a:off x="6400800" y="3582720"/>
              <a:ext cx="252360" cy="228960"/>
              <a:chOff x="6400800" y="3582720"/>
              <a:chExt cx="252360" cy="228960"/>
            </a:xfrm>
          </p:grpSpPr>
          <p:sp>
            <p:nvSpPr>
              <p:cNvPr id="264" name=""/>
              <p:cNvSpPr/>
              <p:nvPr/>
            </p:nvSpPr>
            <p:spPr>
              <a:xfrm>
                <a:off x="6400800" y="3811680"/>
                <a:ext cx="2523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400800" y="3582720"/>
                <a:ext cx="25236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629400" y="35053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 C&lt;    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620120" y="3582720"/>
              <a:ext cx="252360" cy="228960"/>
              <a:chOff x="7620120" y="3582720"/>
              <a:chExt cx="252360" cy="228960"/>
            </a:xfrm>
          </p:grpSpPr>
          <p:sp>
            <p:nvSpPr>
              <p:cNvPr id="268" name=""/>
              <p:cNvSpPr/>
              <p:nvPr/>
            </p:nvSpPr>
            <p:spPr>
              <a:xfrm>
                <a:off x="7620120" y="3811680"/>
                <a:ext cx="2523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20120" y="3582720"/>
                <a:ext cx="25236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6505560" y="5713560"/>
            <a:ext cx="2409840" cy="459720"/>
            <a:chOff x="6505560" y="5713560"/>
            <a:chExt cx="2409840" cy="459720"/>
          </a:xfrm>
        </p:grpSpPr>
        <p:sp>
          <p:nvSpPr>
            <p:cNvPr id="271" name=""/>
            <p:cNvSpPr/>
            <p:nvPr/>
          </p:nvSpPr>
          <p:spPr>
            <a:xfrm>
              <a:off x="6757920" y="5713560"/>
              <a:ext cx="21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C =     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872480" y="5787720"/>
              <a:ext cx="252360" cy="228960"/>
              <a:chOff x="7872480" y="5787720"/>
              <a:chExt cx="252360" cy="228960"/>
            </a:xfrm>
          </p:grpSpPr>
          <p:sp>
            <p:nvSpPr>
              <p:cNvPr id="273" name=""/>
              <p:cNvSpPr/>
              <p:nvPr/>
            </p:nvSpPr>
            <p:spPr>
              <a:xfrm>
                <a:off x="7872480" y="6016680"/>
                <a:ext cx="2523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872480" y="5787720"/>
                <a:ext cx="25236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505560" y="5787720"/>
              <a:ext cx="252360" cy="228960"/>
              <a:chOff x="6505560" y="5787720"/>
              <a:chExt cx="252360" cy="228960"/>
            </a:xfrm>
          </p:grpSpPr>
          <p:sp>
            <p:nvSpPr>
              <p:cNvPr id="276" name=""/>
              <p:cNvSpPr/>
              <p:nvPr/>
            </p:nvSpPr>
            <p:spPr>
              <a:xfrm>
                <a:off x="6505560" y="6016680"/>
                <a:ext cx="2523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505560" y="5787720"/>
                <a:ext cx="25236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544680" y="3886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两角的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须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边必须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，另一边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重合的一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同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449080" y="1411200"/>
            <a:ext cx="587880" cy="4800600"/>
            <a:chOff x="2449080" y="1411200"/>
            <a:chExt cx="587880" cy="4800600"/>
          </a:xfrm>
        </p:grpSpPr>
        <p:sp>
          <p:nvSpPr>
            <p:cNvPr id="280" name=""/>
            <p:cNvSpPr/>
            <p:nvPr/>
          </p:nvSpPr>
          <p:spPr>
            <a:xfrm>
              <a:off x="2830680" y="14112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0680" y="1411200"/>
              <a:ext cx="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830680" y="6206760"/>
              <a:ext cx="206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0680" y="3621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449080" y="3621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08640" y="33336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度量法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22480" y="1916280"/>
            <a:ext cx="2620800" cy="2935080"/>
            <a:chOff x="2022480" y="1916280"/>
            <a:chExt cx="2620800" cy="2935080"/>
          </a:xfrm>
        </p:grpSpPr>
        <p:sp>
          <p:nvSpPr>
            <p:cNvPr id="287" name=""/>
            <p:cNvSpPr/>
            <p:nvPr/>
          </p:nvSpPr>
          <p:spPr>
            <a:xfrm flipV="1">
              <a:off x="2309760" y="2274840"/>
              <a:ext cx="1152360" cy="19396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0120" y="41479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4480" y="19162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09760" y="4214880"/>
              <a:ext cx="2160720" cy="432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2480" y="4147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-85320" y="1742400"/>
            <a:ext cx="4939920" cy="4941000"/>
            <a:chOff x="-85320" y="1742400"/>
            <a:chExt cx="4939920" cy="4941000"/>
          </a:xfrm>
        </p:grpSpPr>
        <p:sp>
          <p:nvSpPr>
            <p:cNvPr id="293" name=""/>
            <p:cNvSpPr/>
            <p:nvPr/>
          </p:nvSpPr>
          <p:spPr>
            <a:xfrm>
              <a:off x="2161080" y="4199040"/>
              <a:ext cx="3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-85320" y="1742400"/>
              <a:ext cx="4939920" cy="4941000"/>
              <a:chOff x="-85320" y="1742400"/>
              <a:chExt cx="4939920" cy="4941000"/>
            </a:xfrm>
          </p:grpSpPr>
          <p:sp>
            <p:nvSpPr>
              <p:cNvPr id="295" name="PubChord"/>
              <p:cNvSpPr/>
              <p:nvPr/>
            </p:nvSpPr>
            <p:spPr>
              <a:xfrm rot="8071200">
                <a:off x="617400" y="2485800"/>
                <a:ext cx="3533760" cy="34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163" y="3163"/>
                    </a:moveTo>
                    <a:arcTo wR="10800" hR="10800" stAng="-8100000" swAng="-10800000"/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349720" y="2422080"/>
                <a:ext cx="0" cy="180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349720" y="2709360"/>
                <a:ext cx="899280" cy="1513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349720" y="3357360"/>
                <a:ext cx="1452600" cy="865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1450440" y="2638080"/>
                <a:ext cx="898920" cy="158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898920" y="3286080"/>
                <a:ext cx="1450800" cy="936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281320" y="4149720"/>
                <a:ext cx="138240" cy="73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52960" y="4224240"/>
                <a:ext cx="114120" cy="1800"/>
              </a:xfrm>
              <a:custGeom>
                <a:avLst/>
                <a:gdLst/>
                <a:ahLst/>
                <a:rect l="l" t="t" r="r" b="b"/>
                <a:pathLst>
                  <a:path w="75" h="1">
                    <a:moveTo>
                      <a:pt x="0" y="0"/>
                    </a:moveTo>
                    <a:cubicBezTo>
                      <a:pt x="25" y="0"/>
                      <a:pt x="50" y="0"/>
                      <a:pt x="75" y="0"/>
                    </a:cubicBez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393600">
                <a:off x="3670560" y="2961360"/>
                <a:ext cx="52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988440" y="3933720"/>
                <a:ext cx="36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206200">
                <a:off x="3178080" y="227772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42720" y="198900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578000">
                <a:off x="864360" y="2150640"/>
                <a:ext cx="7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8445200">
                <a:off x="82080" y="2828880"/>
                <a:ext cx="91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62440"/>
                <a:ext cx="64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900000" y="505152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C=6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88280" y="2416320"/>
            <a:ext cx="2620800" cy="2454480"/>
            <a:chOff x="6488280" y="2416320"/>
            <a:chExt cx="2620800" cy="2454480"/>
          </a:xfrm>
        </p:grpSpPr>
        <p:sp>
          <p:nvSpPr>
            <p:cNvPr id="312" name=""/>
            <p:cNvSpPr/>
            <p:nvPr/>
          </p:nvSpPr>
          <p:spPr>
            <a:xfrm flipV="1">
              <a:off x="6775560" y="3118320"/>
              <a:ext cx="1973160" cy="11160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75560" y="4167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59920" y="24163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5560" y="4234320"/>
              <a:ext cx="2160360" cy="468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88280" y="41673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18920" y="1692360"/>
            <a:ext cx="5042520" cy="5041800"/>
            <a:chOff x="4318920" y="1692360"/>
            <a:chExt cx="5042520" cy="5041800"/>
          </a:xfrm>
        </p:grpSpPr>
        <p:sp>
          <p:nvSpPr>
            <p:cNvPr id="318" name=""/>
            <p:cNvSpPr/>
            <p:nvPr/>
          </p:nvSpPr>
          <p:spPr>
            <a:xfrm>
              <a:off x="6607080" y="4199040"/>
              <a:ext cx="3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318920" y="1692360"/>
              <a:ext cx="5042520" cy="5041800"/>
              <a:chOff x="4318920" y="1692360"/>
              <a:chExt cx="5042520" cy="5041800"/>
            </a:xfrm>
          </p:grpSpPr>
          <p:sp>
            <p:nvSpPr>
              <p:cNvPr id="320" name="PubChord"/>
              <p:cNvSpPr/>
              <p:nvPr/>
            </p:nvSpPr>
            <p:spPr>
              <a:xfrm rot="8071200">
                <a:off x="5073120" y="2414520"/>
                <a:ext cx="3533760" cy="359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163" y="3163"/>
                    </a:moveTo>
                    <a:arcTo wR="10800" hR="10800" stAng="-8100000" swAng="-10800000"/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6803640" y="2422080"/>
                <a:ext cx="0" cy="180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803640" y="2709360"/>
                <a:ext cx="936720" cy="1513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803640" y="3357360"/>
                <a:ext cx="1513080" cy="865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5866920" y="2638080"/>
                <a:ext cx="936360" cy="158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5292360" y="3286080"/>
                <a:ext cx="1511280" cy="936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731640" y="4149720"/>
                <a:ext cx="144360" cy="73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06880" y="4224240"/>
                <a:ext cx="119160" cy="1800"/>
              </a:xfrm>
              <a:custGeom>
                <a:avLst/>
                <a:gdLst/>
                <a:ahLst/>
                <a:rect l="l" t="t" r="r" b="b"/>
                <a:pathLst>
                  <a:path w="75" h="1">
                    <a:moveTo>
                      <a:pt x="0" y="0"/>
                    </a:moveTo>
                    <a:cubicBezTo>
                      <a:pt x="25" y="0"/>
                      <a:pt x="50" y="0"/>
                      <a:pt x="75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93600">
                <a:off x="8199720" y="2956680"/>
                <a:ext cx="5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7c80"/>
                    </a:solidFill>
                    <a:latin typeface="Times New Roman"/>
                    <a:ea typeface="楷体_GB2312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510400" y="3933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206200">
                <a:off x="7663680" y="2275920"/>
                <a:ext cx="5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88000" y="1989000"/>
                <a:ext cx="5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578000">
                <a:off x="5253120" y="2150640"/>
                <a:ext cx="74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8445200">
                <a:off x="4456080" y="2825280"/>
                <a:ext cx="91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56000" y="386244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5003640" y="505152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EF=3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5877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∴ 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C&gt;∠D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83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量角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别测量出两个角的度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度数大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判断两个角的大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11280" y="895320"/>
            <a:ext cx="80564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78732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26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到开始的问题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靓和王帅同学的对话中说的折扇的大小和长短能判断角的大小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2664000" cy="1790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3384360" cy="3024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4581360"/>
            <a:ext cx="8064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角的两边张开越大，角就越大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所画边的长短无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812000" y="5767560"/>
            <a:ext cx="11527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4572000" y="3560760"/>
            <a:ext cx="3733920" cy="2154240"/>
            <a:chOff x="4572000" y="3560760"/>
            <a:chExt cx="3733920" cy="2154240"/>
          </a:xfrm>
        </p:grpSpPr>
        <p:grpSp>
          <p:nvGrpSpPr>
            <p:cNvPr id="346" name=""/>
            <p:cNvGrpSpPr/>
            <p:nvPr/>
          </p:nvGrpSpPr>
          <p:grpSpPr>
            <a:xfrm>
              <a:off x="5105160" y="3886200"/>
              <a:ext cx="2514960" cy="1523880"/>
              <a:chOff x="5105160" y="3886200"/>
              <a:chExt cx="2514960" cy="152388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5105160" y="3886200"/>
                <a:ext cx="221004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05520" y="54100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7696080" y="52578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72000" y="51814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67480" y="3560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33520" y="2743200"/>
            <a:ext cx="3581280" cy="2971800"/>
            <a:chOff x="533520" y="2743200"/>
            <a:chExt cx="3581280" cy="2971800"/>
          </a:xfrm>
        </p:grpSpPr>
        <p:grpSp>
          <p:nvGrpSpPr>
            <p:cNvPr id="353" name=""/>
            <p:cNvGrpSpPr/>
            <p:nvPr/>
          </p:nvGrpSpPr>
          <p:grpSpPr>
            <a:xfrm>
              <a:off x="990720" y="3124080"/>
              <a:ext cx="2514600" cy="2286000"/>
              <a:chOff x="990720" y="3124080"/>
              <a:chExt cx="2514600" cy="228600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990720" y="3124080"/>
                <a:ext cx="175248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90720" y="54100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3581280" y="5257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257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3200" y="27432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33520" y="243000"/>
            <a:ext cx="7772400" cy="2186640"/>
            <a:chOff x="533520" y="243000"/>
            <a:chExt cx="7772400" cy="2186640"/>
          </a:xfrm>
        </p:grpSpPr>
        <p:sp>
          <p:nvSpPr>
            <p:cNvPr id="360" name=""/>
            <p:cNvSpPr/>
            <p:nvPr/>
          </p:nvSpPr>
          <p:spPr>
            <a:xfrm>
              <a:off x="533520" y="243000"/>
              <a:ext cx="7772400" cy="21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三、角的和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已知两个角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&gt;    2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把它们的顶点和一边重合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395960" y="1294920"/>
              <a:ext cx="252360" cy="228960"/>
              <a:chOff x="4395960" y="1294920"/>
              <a:chExt cx="252360" cy="228960"/>
            </a:xfrm>
          </p:grpSpPr>
          <p:sp>
            <p:nvSpPr>
              <p:cNvPr id="362" name=""/>
              <p:cNvSpPr/>
              <p:nvPr/>
            </p:nvSpPr>
            <p:spPr>
              <a:xfrm>
                <a:off x="4395960" y="15238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395960" y="12949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486400" y="1294920"/>
              <a:ext cx="252360" cy="228960"/>
              <a:chOff x="5486400" y="1294920"/>
              <a:chExt cx="252360" cy="228960"/>
            </a:xfrm>
          </p:grpSpPr>
          <p:sp>
            <p:nvSpPr>
              <p:cNvPr id="365" name=""/>
              <p:cNvSpPr/>
              <p:nvPr/>
            </p:nvSpPr>
            <p:spPr>
              <a:xfrm>
                <a:off x="5486400" y="15238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486400" y="12949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400800" y="1294920"/>
              <a:ext cx="252360" cy="228960"/>
              <a:chOff x="6400800" y="1294920"/>
              <a:chExt cx="252360" cy="22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6400800" y="15238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400800" y="12949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328920" y="1294920"/>
              <a:ext cx="252360" cy="228960"/>
              <a:chOff x="3328920" y="1294920"/>
              <a:chExt cx="252360" cy="228960"/>
            </a:xfrm>
          </p:grpSpPr>
          <p:sp>
            <p:nvSpPr>
              <p:cNvPr id="371" name=""/>
              <p:cNvSpPr/>
              <p:nvPr/>
            </p:nvSpPr>
            <p:spPr>
              <a:xfrm>
                <a:off x="3328920" y="15238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328920" y="12949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1257480" y="5086440"/>
            <a:ext cx="82440" cy="342720"/>
          </a:xfrm>
          <a:custGeom>
            <a:avLst/>
            <a:gdLst/>
            <a:ahLst/>
            <a:rect l="l" t="t" r="r" b="b"/>
            <a:pathLst>
              <a:path w="52" h="216">
                <a:moveTo>
                  <a:pt x="0" y="0"/>
                </a:moveTo>
                <a:cubicBezTo>
                  <a:pt x="52" y="78"/>
                  <a:pt x="48" y="123"/>
                  <a:pt x="48" y="2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05480" y="5124600"/>
            <a:ext cx="112680" cy="285480"/>
          </a:xfrm>
          <a:custGeom>
            <a:avLst/>
            <a:gdLst/>
            <a:ahLst/>
            <a:rect l="l" t="t" r="r" b="b"/>
            <a:pathLst>
              <a:path w="71" h="180">
                <a:moveTo>
                  <a:pt x="0" y="0"/>
                </a:moveTo>
                <a:cubicBezTo>
                  <a:pt x="71" y="47"/>
                  <a:pt x="48" y="88"/>
                  <a:pt x="48" y="1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28920" y="5429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5200" y="3560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384" name="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385" name="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238280" y="1816200"/>
                <a:ext cx="66960" cy="238320"/>
              </a:xfrm>
              <a:custGeom>
                <a:avLst/>
                <a:gdLst/>
                <a:ahLst/>
                <a:rect l="l" t="t" r="r" b="b"/>
                <a:pathLst>
                  <a:path w="42" h="150">
                    <a:moveTo>
                      <a:pt x="0" y="0"/>
                    </a:moveTo>
                    <a:cubicBezTo>
                      <a:pt x="13" y="19"/>
                      <a:pt x="35" y="34"/>
                      <a:pt x="38" y="56"/>
                    </a:cubicBezTo>
                    <a:cubicBezTo>
                      <a:pt x="42" y="88"/>
                      <a:pt x="19" y="150"/>
                      <a:pt x="19" y="15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0" name="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1" name="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5320" y="0"/>
            <a:ext cx="2743200" cy="2513880"/>
            <a:chOff x="3505320" y="0"/>
            <a:chExt cx="2743200" cy="2513880"/>
          </a:xfrm>
        </p:grpSpPr>
        <p:grpSp>
          <p:nvGrpSpPr>
            <p:cNvPr id="395" name=""/>
            <p:cNvGrpSpPr/>
            <p:nvPr/>
          </p:nvGrpSpPr>
          <p:grpSpPr>
            <a:xfrm>
              <a:off x="3811680" y="0"/>
              <a:ext cx="1752840" cy="2060640"/>
              <a:chOff x="3811680" y="0"/>
              <a:chExt cx="1752840" cy="20606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3811680" y="460440"/>
                <a:ext cx="1752480" cy="1600200"/>
                <a:chOff x="3811680" y="460440"/>
                <a:chExt cx="1752480" cy="160020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381168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381168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2116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135320" y="1698840"/>
                  <a:ext cx="114480" cy="13320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0" y="0"/>
                      </a:moveTo>
                      <a:cubicBezTo>
                        <a:pt x="42" y="14"/>
                        <a:pt x="38" y="5"/>
                        <a:pt x="60" y="48"/>
                      </a:cubicBezTo>
                      <a:cubicBezTo>
                        <a:pt x="66" y="59"/>
                        <a:pt x="72" y="84"/>
                        <a:pt x="72" y="8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13532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13532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518328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407" name=""/>
            <p:cNvSpPr/>
            <p:nvPr/>
          </p:nvSpPr>
          <p:spPr>
            <a:xfrm>
              <a:off x="4971960" y="4967280"/>
              <a:ext cx="162000" cy="371520"/>
            </a:xfrm>
            <a:custGeom>
              <a:avLst/>
              <a:gdLst/>
              <a:ahLst/>
              <a:rect l="l" t="t" r="r" b="b"/>
              <a:pathLst>
                <a:path w="102" h="234">
                  <a:moveTo>
                    <a:pt x="0" y="0"/>
                  </a:moveTo>
                  <a:cubicBezTo>
                    <a:pt x="22" y="15"/>
                    <a:pt x="45" y="30"/>
                    <a:pt x="67" y="45"/>
                  </a:cubicBezTo>
                  <a:cubicBezTo>
                    <a:pt x="102" y="69"/>
                    <a:pt x="100" y="204"/>
                    <a:pt x="100" y="23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409" name="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067280" y="3732120"/>
            <a:ext cx="3049560" cy="2059920"/>
            <a:chOff x="4067280" y="3732120"/>
            <a:chExt cx="3049560" cy="2059920"/>
          </a:xfrm>
        </p:grpSpPr>
        <p:sp>
          <p:nvSpPr>
            <p:cNvPr id="416" name=""/>
            <p:cNvSpPr/>
            <p:nvPr/>
          </p:nvSpPr>
          <p:spPr>
            <a:xfrm>
              <a:off x="4067280" y="533232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24680" y="373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373640" y="4188960"/>
              <a:ext cx="2743200" cy="1143000"/>
              <a:chOff x="4373640" y="4188960"/>
              <a:chExt cx="2743200" cy="114300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43754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373640" y="4798800"/>
                <a:ext cx="22860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59640" y="464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02000">
                <a:off x="4802040" y="5091120"/>
                <a:ext cx="150840" cy="90360"/>
              </a:xfrm>
              <a:custGeom>
                <a:avLst/>
                <a:gdLst/>
                <a:ahLst/>
                <a:rect l="l" t="t" r="r" b="b"/>
                <a:pathLst>
                  <a:path w="33" h="66">
                    <a:moveTo>
                      <a:pt x="0" y="0"/>
                    </a:moveTo>
                    <a:cubicBezTo>
                      <a:pt x="7" y="11"/>
                      <a:pt x="16" y="21"/>
                      <a:pt x="22" y="33"/>
                    </a:cubicBezTo>
                    <a:cubicBezTo>
                      <a:pt x="27" y="43"/>
                      <a:pt x="33" y="66"/>
                      <a:pt x="33" y="66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31000" y="4761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3505320" y="2529000"/>
            <a:ext cx="5790960" cy="1015920"/>
            <a:chOff x="3505320" y="2529000"/>
            <a:chExt cx="5790960" cy="1015920"/>
          </a:xfrm>
        </p:grpSpPr>
        <p:grpSp>
          <p:nvGrpSpPr>
            <p:cNvPr id="425" name=""/>
            <p:cNvGrpSpPr/>
            <p:nvPr/>
          </p:nvGrpSpPr>
          <p:grpSpPr>
            <a:xfrm>
              <a:off x="4132440" y="2649240"/>
              <a:ext cx="2925720" cy="780840"/>
              <a:chOff x="4132440" y="2649240"/>
              <a:chExt cx="2925720" cy="7808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6816600" y="3201480"/>
                <a:ext cx="241560" cy="228240"/>
                <a:chOff x="6816600" y="3201480"/>
                <a:chExt cx="241560" cy="228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816600" y="34297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6816600" y="3201480"/>
                  <a:ext cx="24156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4664160" y="34300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664160" y="320148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08800" y="28774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508800" y="264924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560920" y="28774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560920" y="264924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4132440" y="2649240"/>
                <a:ext cx="241200" cy="228240"/>
                <a:chOff x="4132440" y="2649240"/>
                <a:chExt cx="241200" cy="2282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132440" y="287748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4132440" y="2649240"/>
                  <a:ext cx="24120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5979960" y="34300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5979960" y="320148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3505320" y="2529000"/>
              <a:ext cx="5790960" cy="1015920"/>
              <a:chOff x="3505320" y="2529000"/>
              <a:chExt cx="5790960" cy="1015920"/>
            </a:xfrm>
          </p:grpSpPr>
          <p:sp>
            <p:nvSpPr>
              <p:cNvPr id="441" name=""/>
              <p:cNvSpPr/>
              <p:nvPr/>
            </p:nvSpPr>
            <p:spPr>
              <a:xfrm>
                <a:off x="3762360" y="252900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记作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OC =     1 +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05320" y="2529000"/>
                <a:ext cx="50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69120" y="3076560"/>
                <a:ext cx="379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3124080" y="5789520"/>
            <a:ext cx="5790960" cy="1015920"/>
            <a:chOff x="3124080" y="5789520"/>
            <a:chExt cx="5790960" cy="1015920"/>
          </a:xfrm>
        </p:grpSpPr>
        <p:grpSp>
          <p:nvGrpSpPr>
            <p:cNvPr id="445" name=""/>
            <p:cNvGrpSpPr/>
            <p:nvPr/>
          </p:nvGrpSpPr>
          <p:grpSpPr>
            <a:xfrm>
              <a:off x="3751200" y="5909760"/>
              <a:ext cx="2925720" cy="781560"/>
              <a:chOff x="3751200" y="5909760"/>
              <a:chExt cx="2925720" cy="7815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6435360" y="6462360"/>
                <a:ext cx="241560" cy="228960"/>
                <a:chOff x="6435360" y="6462360"/>
                <a:chExt cx="241560" cy="228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35360" y="66913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6435360" y="6462360"/>
                  <a:ext cx="24156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4282920" y="66913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282920" y="64623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27560" y="61387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127560" y="59097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79680" y="61387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5179680" y="59097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3751200" y="5909760"/>
                <a:ext cx="241200" cy="228960"/>
                <a:chOff x="3751200" y="5909760"/>
                <a:chExt cx="241200" cy="2289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51200" y="613872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3751200" y="5909760"/>
                  <a:ext cx="24120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598720" y="66913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598720" y="64623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124080" y="5789520"/>
              <a:ext cx="5790960" cy="1015920"/>
              <a:chOff x="3124080" y="5789520"/>
              <a:chExt cx="5790960" cy="1015920"/>
            </a:xfrm>
          </p:grpSpPr>
          <p:sp>
            <p:nvSpPr>
              <p:cNvPr id="461" name=""/>
              <p:cNvSpPr/>
              <p:nvPr/>
            </p:nvSpPr>
            <p:spPr>
              <a:xfrm>
                <a:off x="3381120" y="578952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记作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OC =     1 –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24080" y="5789520"/>
                <a:ext cx="50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887880" y="6337080"/>
                <a:ext cx="379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2695680" y="993600"/>
            <a:ext cx="685800" cy="4338720"/>
            <a:chOff x="2695680" y="993600"/>
            <a:chExt cx="685800" cy="4338720"/>
          </a:xfrm>
        </p:grpSpPr>
        <p:sp>
          <p:nvSpPr>
            <p:cNvPr id="465" name=""/>
            <p:cNvSpPr/>
            <p:nvPr/>
          </p:nvSpPr>
          <p:spPr>
            <a:xfrm>
              <a:off x="2924280" y="99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24280" y="993600"/>
              <a:ext cx="0" cy="43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24280" y="53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5680" y="206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7571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421400" y="0"/>
            <a:ext cx="1722600" cy="1314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09480" y="5254560"/>
            <a:ext cx="11970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-396720" y="112536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如图，用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〞或 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〞或 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〞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51037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5219640" y="1916280"/>
            <a:ext cx="3727080" cy="2773800"/>
            <a:chOff x="5219640" y="1916280"/>
            <a:chExt cx="3727080" cy="2773800"/>
          </a:xfrm>
        </p:grpSpPr>
        <p:sp>
          <p:nvSpPr>
            <p:cNvPr id="475" name=""/>
            <p:cNvSpPr/>
            <p:nvPr/>
          </p:nvSpPr>
          <p:spPr>
            <a:xfrm>
              <a:off x="5678280" y="4313880"/>
              <a:ext cx="2981520" cy="1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642280" y="3474360"/>
              <a:ext cx="2637720" cy="8294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642280" y="2567880"/>
              <a:ext cx="1375920" cy="17776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661720" y="2241720"/>
              <a:ext cx="630360" cy="20739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602920" y="4047120"/>
              <a:ext cx="3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9640" y="4108680"/>
              <a:ext cx="3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16000" y="3219840"/>
              <a:ext cx="34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69400" y="2271600"/>
              <a:ext cx="3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65160" y="1916280"/>
              <a:ext cx="34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324000" y="4724280"/>
            <a:ext cx="8353440" cy="5889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835280" y="2060640"/>
            <a:ext cx="8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08000" y="27082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48000" y="3357720"/>
            <a:ext cx="8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35280" y="38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16720" y="4508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3964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5423040"/>
            <a:ext cx="499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B+∠B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D + ∠B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609480" y="228600"/>
            <a:ext cx="8229600" cy="2669400"/>
            <a:chOff x="609480" y="228600"/>
            <a:chExt cx="8229600" cy="2669400"/>
          </a:xfrm>
        </p:grpSpPr>
        <p:grpSp>
          <p:nvGrpSpPr>
            <p:cNvPr id="493" name=""/>
            <p:cNvGrpSpPr/>
            <p:nvPr/>
          </p:nvGrpSpPr>
          <p:grpSpPr>
            <a:xfrm>
              <a:off x="609480" y="228600"/>
              <a:ext cx="7772400" cy="2514600"/>
              <a:chOff x="609480" y="228600"/>
              <a:chExt cx="7772400" cy="2514600"/>
            </a:xfrm>
          </p:grpSpPr>
          <p:sp>
            <p:nvSpPr>
              <p:cNvPr id="494" name=""/>
              <p:cNvSpPr/>
              <p:nvPr/>
            </p:nvSpPr>
            <p:spPr>
              <a:xfrm>
                <a:off x="609480" y="228600"/>
                <a:ext cx="571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、根据右图，求解下列问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48520" y="160020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62920" y="53352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162920" y="53352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62920" y="1600200"/>
                <a:ext cx="12189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62920" y="144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15200" y="144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6629400" y="1523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05720" y="457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457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7732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01000" y="198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8168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80880" y="990720"/>
            <a:ext cx="6019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C,∠A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，并指出其中的锐角、直角、钝角、平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32004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出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某些角之间的两个等量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rcRect l="-13165" t="0" r="53789" b="0"/>
          <a:stretch/>
        </p:blipFill>
        <p:spPr>
          <a:xfrm>
            <a:off x="685800" y="1295280"/>
            <a:ext cx="3311640" cy="3213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rcRect l="39593" t="0" r="0" b="0"/>
          <a:stretch/>
        </p:blipFill>
        <p:spPr>
          <a:xfrm>
            <a:off x="4997520" y="1557360"/>
            <a:ext cx="3384360" cy="3227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80880" y="478476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 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7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0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20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3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50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65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18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13040" y="228600"/>
            <a:ext cx="563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请你试用一对三角尺根据刚才学过的角的和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识拼出所有的特殊角。</a:t>
            </a:r>
            <a:r>
              <a:rPr b="1" lang="zh-CN" sz="32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609480" y="1247760"/>
            <a:ext cx="2828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4</a:t>
            </a:r>
            <a:r>
              <a:rPr b="1" lang="zh-CN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、看图填空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14" name=""/>
          <p:cNvSpPr/>
          <p:nvPr/>
        </p:nvSpPr>
        <p:spPr>
          <a:xfrm>
            <a:off x="1600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3040" y="2114640"/>
            <a:ext cx="2340000" cy="2631240"/>
            <a:chOff x="473040" y="2114640"/>
            <a:chExt cx="2340000" cy="2631240"/>
          </a:xfrm>
        </p:grpSpPr>
        <p:grpSp>
          <p:nvGrpSpPr>
            <p:cNvPr id="516" name=""/>
            <p:cNvGrpSpPr/>
            <p:nvPr/>
          </p:nvGrpSpPr>
          <p:grpSpPr>
            <a:xfrm>
              <a:off x="618840" y="2399760"/>
              <a:ext cx="1918800" cy="1886040"/>
              <a:chOff x="618840" y="2399760"/>
              <a:chExt cx="1918800" cy="18860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9200" y="2399760"/>
                <a:ext cx="1918440" cy="1886040"/>
                <a:chOff x="619200" y="2399760"/>
                <a:chExt cx="1918440" cy="188604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9200" y="2856960"/>
                  <a:ext cx="327600" cy="14284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946800" y="2399760"/>
                  <a:ext cx="1128600" cy="4568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19200" y="4285800"/>
                  <a:ext cx="19184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075400" y="2400120"/>
                  <a:ext cx="461880" cy="1885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 flipH="1">
                <a:off x="618840" y="2400120"/>
                <a:ext cx="1456200" cy="1885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473040" y="4286160"/>
              <a:ext cx="32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38000" y="4286160"/>
              <a:ext cx="2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9560" y="2400120"/>
              <a:ext cx="2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76840" y="211464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033720" y="2571840"/>
            <a:ext cx="4495680" cy="459720"/>
            <a:chOff x="3033720" y="2571840"/>
            <a:chExt cx="4495680" cy="459720"/>
          </a:xfrm>
        </p:grpSpPr>
        <p:grpSp>
          <p:nvGrpSpPr>
            <p:cNvPr id="528" name=""/>
            <p:cNvGrpSpPr/>
            <p:nvPr/>
          </p:nvGrpSpPr>
          <p:grpSpPr>
            <a:xfrm>
              <a:off x="3033720" y="2571840"/>
              <a:ext cx="4190760" cy="459720"/>
              <a:chOff x="3033720" y="2571840"/>
              <a:chExt cx="4190760" cy="4597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3033720" y="2571840"/>
                <a:ext cx="4190760" cy="459720"/>
                <a:chOff x="3033720" y="2571840"/>
                <a:chExt cx="4190760" cy="4597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033720" y="2571840"/>
                  <a:ext cx="419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1  )     DAB =      DAC+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3871800" y="2647440"/>
                  <a:ext cx="252360" cy="228960"/>
                  <a:chOff x="3871800" y="2647440"/>
                  <a:chExt cx="252360" cy="2289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3871800" y="28764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871800" y="264744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5190840" y="2647800"/>
                <a:ext cx="252360" cy="228960"/>
                <a:chOff x="5190840" y="2647800"/>
                <a:chExt cx="252360" cy="2289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190840" y="2876760"/>
                  <a:ext cx="25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5190840" y="2647800"/>
                  <a:ext cx="252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6462720" y="3029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033720" y="3352680"/>
            <a:ext cx="4495680" cy="459720"/>
            <a:chOff x="3033720" y="3352680"/>
            <a:chExt cx="4495680" cy="459720"/>
          </a:xfrm>
        </p:grpSpPr>
        <p:grpSp>
          <p:nvGrpSpPr>
            <p:cNvPr id="539" name=""/>
            <p:cNvGrpSpPr/>
            <p:nvPr/>
          </p:nvGrpSpPr>
          <p:grpSpPr>
            <a:xfrm>
              <a:off x="3033720" y="3352680"/>
              <a:ext cx="4495680" cy="459720"/>
              <a:chOff x="3033720" y="3352680"/>
              <a:chExt cx="4495680" cy="45972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5214960" y="3428640"/>
                <a:ext cx="252360" cy="228960"/>
                <a:chOff x="5214960" y="3428640"/>
                <a:chExt cx="252360" cy="2289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214960" y="3657600"/>
                  <a:ext cx="25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5214960" y="3428640"/>
                  <a:ext cx="252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3033720" y="3352680"/>
                <a:ext cx="4495680" cy="459720"/>
                <a:chOff x="3033720" y="3352680"/>
                <a:chExt cx="4495680" cy="4597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3895560" y="3428640"/>
                  <a:ext cx="252360" cy="228960"/>
                  <a:chOff x="3895560" y="3428640"/>
                  <a:chExt cx="252360" cy="22896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3895560" y="36576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3895560" y="342864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3033720" y="3352680"/>
                  <a:ext cx="449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2  )     ACB =      DCB 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8" name=""/>
            <p:cNvSpPr/>
            <p:nvPr/>
          </p:nvSpPr>
          <p:spPr>
            <a:xfrm>
              <a:off x="6462720" y="380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448320" y="2571840"/>
            <a:ext cx="1295280" cy="459720"/>
            <a:chOff x="6448320" y="2571840"/>
            <a:chExt cx="1295280" cy="459720"/>
          </a:xfrm>
        </p:grpSpPr>
        <p:grpSp>
          <p:nvGrpSpPr>
            <p:cNvPr id="550" name=""/>
            <p:cNvGrpSpPr/>
            <p:nvPr/>
          </p:nvGrpSpPr>
          <p:grpSpPr>
            <a:xfrm>
              <a:off x="6448320" y="2647440"/>
              <a:ext cx="252360" cy="228960"/>
              <a:chOff x="6448320" y="2647440"/>
              <a:chExt cx="252360" cy="228960"/>
            </a:xfrm>
          </p:grpSpPr>
          <p:sp>
            <p:nvSpPr>
              <p:cNvPr id="551" name=""/>
              <p:cNvSpPr/>
              <p:nvPr/>
            </p:nvSpPr>
            <p:spPr>
              <a:xfrm>
                <a:off x="6448320" y="2876400"/>
                <a:ext cx="252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448320" y="2647440"/>
                <a:ext cx="2523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6700680" y="2571840"/>
              <a:ext cx="10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462720" y="3352680"/>
            <a:ext cx="1295280" cy="459720"/>
            <a:chOff x="6462720" y="3352680"/>
            <a:chExt cx="1295280" cy="459720"/>
          </a:xfrm>
        </p:grpSpPr>
        <p:grpSp>
          <p:nvGrpSpPr>
            <p:cNvPr id="555" name=""/>
            <p:cNvGrpSpPr/>
            <p:nvPr/>
          </p:nvGrpSpPr>
          <p:grpSpPr>
            <a:xfrm>
              <a:off x="6462720" y="3428640"/>
              <a:ext cx="252360" cy="228960"/>
              <a:chOff x="6462720" y="3428640"/>
              <a:chExt cx="252360" cy="228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462720" y="3657600"/>
                <a:ext cx="252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6462720" y="3428640"/>
                <a:ext cx="2523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715080" y="3352680"/>
              <a:ext cx="10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448320" y="444600"/>
            <a:ext cx="16527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8317080" y="981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724360" y="1773360"/>
            <a:ext cx="432000" cy="165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1596960"/>
            <a:ext cx="153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8360" y="18900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365440" y="260280"/>
            <a:ext cx="3283200" cy="2637000"/>
            <a:chOff x="5365440" y="260280"/>
            <a:chExt cx="3283200" cy="2637000"/>
          </a:xfrm>
        </p:grpSpPr>
        <p:grpSp>
          <p:nvGrpSpPr>
            <p:cNvPr id="565" name=""/>
            <p:cNvGrpSpPr/>
            <p:nvPr/>
          </p:nvGrpSpPr>
          <p:grpSpPr>
            <a:xfrm>
              <a:off x="6011280" y="855360"/>
              <a:ext cx="2232360" cy="1584000"/>
              <a:chOff x="6011280" y="855360"/>
              <a:chExt cx="2232360" cy="1584000"/>
            </a:xfrm>
          </p:grpSpPr>
          <p:sp>
            <p:nvSpPr>
              <p:cNvPr id="566" name=""/>
              <p:cNvSpPr/>
              <p:nvPr/>
            </p:nvSpPr>
            <p:spPr>
              <a:xfrm flipH="1">
                <a:off x="6011280" y="855360"/>
                <a:ext cx="1368360" cy="1584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011640" y="2439360"/>
                <a:ext cx="2232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365440" y="2315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77080" y="26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73800" y="2276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V="1">
            <a:off x="6013440" y="1360080"/>
            <a:ext cx="2305080" cy="107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1680" y="3340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一个角的顶点出发，把这个角分成相等的两个角的射线叫做这个角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角平分线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836640"/>
            <a:ext cx="763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张纸上画出一个角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，将这个角对折，使其两边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，折痕记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与角两边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的两个角的大小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7560" y="3935520"/>
            <a:ext cx="7624800" cy="2745360"/>
            <a:chOff x="547560" y="3935520"/>
            <a:chExt cx="7624800" cy="2745360"/>
          </a:xfrm>
        </p:grpSpPr>
        <p:sp>
          <p:nvSpPr>
            <p:cNvPr id="576" name=""/>
            <p:cNvSpPr/>
            <p:nvPr/>
          </p:nvSpPr>
          <p:spPr>
            <a:xfrm>
              <a:off x="547560" y="3935520"/>
              <a:ext cx="7624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OB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分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C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 已知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B =      BOC =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/2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C=2     AOB=2     BO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 角平分线定义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371760" y="4620960"/>
              <a:ext cx="252360" cy="228960"/>
              <a:chOff x="3371760" y="4620960"/>
              <a:chExt cx="252360" cy="228960"/>
            </a:xfrm>
          </p:grpSpPr>
          <p:sp>
            <p:nvSpPr>
              <p:cNvPr id="578" name=""/>
              <p:cNvSpPr/>
              <p:nvPr/>
            </p:nvSpPr>
            <p:spPr>
              <a:xfrm>
                <a:off x="3371760" y="484992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3371760" y="462096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300640" y="5154120"/>
              <a:ext cx="252360" cy="228960"/>
              <a:chOff x="5300640" y="5154120"/>
              <a:chExt cx="252360" cy="228960"/>
            </a:xfrm>
          </p:grpSpPr>
          <p:sp>
            <p:nvSpPr>
              <p:cNvPr id="581" name=""/>
              <p:cNvSpPr/>
              <p:nvPr/>
            </p:nvSpPr>
            <p:spPr>
              <a:xfrm>
                <a:off x="5300640" y="53830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300640" y="51541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305080" y="5154120"/>
              <a:ext cx="252360" cy="228960"/>
              <a:chOff x="2305080" y="5154120"/>
              <a:chExt cx="252360" cy="228960"/>
            </a:xfrm>
          </p:grpSpPr>
          <p:sp>
            <p:nvSpPr>
              <p:cNvPr id="584" name=""/>
              <p:cNvSpPr/>
              <p:nvPr/>
            </p:nvSpPr>
            <p:spPr>
              <a:xfrm>
                <a:off x="2305080" y="53830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305080" y="51541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462200" y="5687640"/>
              <a:ext cx="252360" cy="228960"/>
              <a:chOff x="4462200" y="5687640"/>
              <a:chExt cx="252360" cy="228960"/>
            </a:xfrm>
          </p:grpSpPr>
          <p:sp>
            <p:nvSpPr>
              <p:cNvPr id="587" name=""/>
              <p:cNvSpPr/>
              <p:nvPr/>
            </p:nvSpPr>
            <p:spPr>
              <a:xfrm>
                <a:off x="4462200" y="59166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462200" y="56876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3119400" y="5687640"/>
              <a:ext cx="252360" cy="228960"/>
              <a:chOff x="3119400" y="5687640"/>
              <a:chExt cx="252360" cy="228960"/>
            </a:xfrm>
          </p:grpSpPr>
          <p:sp>
            <p:nvSpPr>
              <p:cNvPr id="590" name=""/>
              <p:cNvSpPr/>
              <p:nvPr/>
            </p:nvSpPr>
            <p:spPr>
              <a:xfrm>
                <a:off x="3119400" y="59166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119400" y="56876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747800" y="5687640"/>
              <a:ext cx="252360" cy="228960"/>
              <a:chOff x="1747800" y="5687640"/>
              <a:chExt cx="252360" cy="228960"/>
            </a:xfrm>
          </p:grpSpPr>
          <p:sp>
            <p:nvSpPr>
              <p:cNvPr id="593" name=""/>
              <p:cNvSpPr/>
              <p:nvPr/>
            </p:nvSpPr>
            <p:spPr>
              <a:xfrm>
                <a:off x="1747800" y="59166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1747800" y="56876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771200" y="5078520"/>
              <a:ext cx="228960" cy="304200"/>
              <a:chOff x="1771200" y="5078520"/>
              <a:chExt cx="228960" cy="304200"/>
            </a:xfrm>
          </p:grpSpPr>
          <p:sp>
            <p:nvSpPr>
              <p:cNvPr id="596" name=""/>
              <p:cNvSpPr/>
              <p:nvPr/>
            </p:nvSpPr>
            <p:spPr>
              <a:xfrm flipH="1">
                <a:off x="1847520" y="5078520"/>
                <a:ext cx="7632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923840" y="5306760"/>
                <a:ext cx="7632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1770840" y="5306760"/>
                <a:ext cx="7596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747440" y="4544640"/>
              <a:ext cx="228960" cy="304920"/>
              <a:chOff x="1747440" y="4544640"/>
              <a:chExt cx="228960" cy="304920"/>
            </a:xfrm>
          </p:grpSpPr>
          <p:sp>
            <p:nvSpPr>
              <p:cNvPr id="600" name=""/>
              <p:cNvSpPr/>
              <p:nvPr/>
            </p:nvSpPr>
            <p:spPr>
              <a:xfrm flipH="1" rot="10800000">
                <a:off x="1823760" y="477324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rot="10800000">
                <a:off x="1747440" y="454464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rot="10800000">
                <a:off x="1900080" y="4544640"/>
                <a:ext cx="7596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3624120" y="5154120"/>
              <a:ext cx="252360" cy="228960"/>
              <a:chOff x="3624120" y="5154120"/>
              <a:chExt cx="252360" cy="228960"/>
            </a:xfrm>
          </p:grpSpPr>
          <p:sp>
            <p:nvSpPr>
              <p:cNvPr id="604" name=""/>
              <p:cNvSpPr/>
              <p:nvPr/>
            </p:nvSpPr>
            <p:spPr>
              <a:xfrm>
                <a:off x="3624120" y="538308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3624120" y="515412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29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图形比较几个角的大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5720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教学目标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5830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解角的和差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284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掌握角平分线的概念及简单运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SIAV1" descr=""/>
          <p:cNvPicPr/>
          <p:nvPr/>
        </p:nvPicPr>
        <p:blipFill>
          <a:blip r:embed="rId2"/>
          <a:stretch/>
        </p:blipFill>
        <p:spPr>
          <a:xfrm>
            <a:off x="504720" y="5934240"/>
            <a:ext cx="952560" cy="47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9640" y="3986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角的度、分、秒之间的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228600" y="1219320"/>
            <a:ext cx="3048120" cy="2669400"/>
            <a:chOff x="228600" y="1219320"/>
            <a:chExt cx="3048120" cy="2669400"/>
          </a:xfrm>
        </p:grpSpPr>
        <p:grpSp>
          <p:nvGrpSpPr>
            <p:cNvPr id="607" name=""/>
            <p:cNvGrpSpPr/>
            <p:nvPr/>
          </p:nvGrpSpPr>
          <p:grpSpPr>
            <a:xfrm>
              <a:off x="533160" y="1752480"/>
              <a:ext cx="2286360" cy="1676160"/>
              <a:chOff x="533160" y="1752480"/>
              <a:chExt cx="2286360" cy="1676160"/>
            </a:xfrm>
          </p:grpSpPr>
          <p:sp>
            <p:nvSpPr>
              <p:cNvPr id="608" name=""/>
              <p:cNvSpPr/>
              <p:nvPr/>
            </p:nvSpPr>
            <p:spPr>
              <a:xfrm flipH="1">
                <a:off x="533160" y="1752480"/>
                <a:ext cx="1143000" cy="167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33520" y="342864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33520" y="2056680"/>
                <a:ext cx="1600200" cy="137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33520" y="2590200"/>
                <a:ext cx="198108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281952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14600" y="2590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2057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6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860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105000" y="1052640"/>
            <a:ext cx="57150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     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分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643280" y="1603440"/>
            <a:ext cx="1158840" cy="459720"/>
            <a:chOff x="4643280" y="1603440"/>
            <a:chExt cx="1158840" cy="459720"/>
          </a:xfrm>
        </p:grpSpPr>
        <p:grpSp>
          <p:nvGrpSpPr>
            <p:cNvPr id="619" name=""/>
            <p:cNvGrpSpPr/>
            <p:nvPr/>
          </p:nvGrpSpPr>
          <p:grpSpPr>
            <a:xfrm>
              <a:off x="4643280" y="1679400"/>
              <a:ext cx="252360" cy="228960"/>
              <a:chOff x="4643280" y="1679400"/>
              <a:chExt cx="252360" cy="228960"/>
            </a:xfrm>
          </p:grpSpPr>
          <p:sp>
            <p:nvSpPr>
              <p:cNvPr id="620" name=""/>
              <p:cNvSpPr/>
              <p:nvPr/>
            </p:nvSpPr>
            <p:spPr>
              <a:xfrm>
                <a:off x="4643280" y="190836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643280" y="1679400"/>
                <a:ext cx="2523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4896000" y="160344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468600" y="2133720"/>
            <a:ext cx="1463400" cy="459720"/>
            <a:chOff x="3468600" y="2133720"/>
            <a:chExt cx="1463400" cy="459720"/>
          </a:xfrm>
        </p:grpSpPr>
        <p:grpSp>
          <p:nvGrpSpPr>
            <p:cNvPr id="624" name=""/>
            <p:cNvGrpSpPr/>
            <p:nvPr/>
          </p:nvGrpSpPr>
          <p:grpSpPr>
            <a:xfrm>
              <a:off x="3468600" y="2257200"/>
              <a:ext cx="252360" cy="228960"/>
              <a:chOff x="3468600" y="2257200"/>
              <a:chExt cx="252360" cy="228960"/>
            </a:xfrm>
          </p:grpSpPr>
          <p:sp>
            <p:nvSpPr>
              <p:cNvPr id="625" name=""/>
              <p:cNvSpPr/>
              <p:nvPr/>
            </p:nvSpPr>
            <p:spPr>
              <a:xfrm>
                <a:off x="3468600" y="2486160"/>
                <a:ext cx="252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68600" y="2257200"/>
                <a:ext cx="25236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765240" y="213372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419640" y="2709720"/>
            <a:ext cx="1258200" cy="459720"/>
            <a:chOff x="3419640" y="2709720"/>
            <a:chExt cx="1258200" cy="459720"/>
          </a:xfrm>
        </p:grpSpPr>
        <p:grpSp>
          <p:nvGrpSpPr>
            <p:cNvPr id="629" name=""/>
            <p:cNvGrpSpPr/>
            <p:nvPr/>
          </p:nvGrpSpPr>
          <p:grpSpPr>
            <a:xfrm>
              <a:off x="3419640" y="2818800"/>
              <a:ext cx="252000" cy="228960"/>
              <a:chOff x="3419640" y="2818800"/>
              <a:chExt cx="252000" cy="228960"/>
            </a:xfrm>
          </p:grpSpPr>
          <p:sp>
            <p:nvSpPr>
              <p:cNvPr id="630" name=""/>
              <p:cNvSpPr/>
              <p:nvPr/>
            </p:nvSpPr>
            <p:spPr>
              <a:xfrm>
                <a:off x="3419640" y="3047760"/>
                <a:ext cx="25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3419640" y="2818800"/>
                <a:ext cx="2520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715920" y="270972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457960" y="3200400"/>
            <a:ext cx="1419120" cy="459720"/>
            <a:chOff x="5457960" y="3200400"/>
            <a:chExt cx="1419120" cy="459720"/>
          </a:xfrm>
        </p:grpSpPr>
        <p:grpSp>
          <p:nvGrpSpPr>
            <p:cNvPr id="634" name=""/>
            <p:cNvGrpSpPr/>
            <p:nvPr/>
          </p:nvGrpSpPr>
          <p:grpSpPr>
            <a:xfrm>
              <a:off x="5457960" y="3295440"/>
              <a:ext cx="252360" cy="228960"/>
              <a:chOff x="5457960" y="3295440"/>
              <a:chExt cx="252360" cy="228960"/>
            </a:xfrm>
          </p:grpSpPr>
          <p:sp>
            <p:nvSpPr>
              <p:cNvPr id="635" name=""/>
              <p:cNvSpPr/>
              <p:nvPr/>
            </p:nvSpPr>
            <p:spPr>
              <a:xfrm>
                <a:off x="5457960" y="352440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5457960" y="3295440"/>
                <a:ext cx="2523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710320" y="320040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492360" y="3835440"/>
            <a:ext cx="1479240" cy="459720"/>
            <a:chOff x="3492360" y="3835440"/>
            <a:chExt cx="1479240" cy="459720"/>
          </a:xfrm>
        </p:grpSpPr>
        <p:grpSp>
          <p:nvGrpSpPr>
            <p:cNvPr id="639" name=""/>
            <p:cNvGrpSpPr/>
            <p:nvPr/>
          </p:nvGrpSpPr>
          <p:grpSpPr>
            <a:xfrm>
              <a:off x="3492360" y="3916080"/>
              <a:ext cx="252360" cy="228960"/>
              <a:chOff x="3492360" y="3916080"/>
              <a:chExt cx="252360" cy="228960"/>
            </a:xfrm>
          </p:grpSpPr>
          <p:sp>
            <p:nvSpPr>
              <p:cNvPr id="640" name=""/>
              <p:cNvSpPr/>
              <p:nvPr/>
            </p:nvSpPr>
            <p:spPr>
              <a:xfrm>
                <a:off x="3492360" y="414504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492360" y="3916080"/>
                <a:ext cx="2523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3828600" y="3835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364000" y="3908520"/>
            <a:ext cx="1319040" cy="459720"/>
            <a:chOff x="5364000" y="3908520"/>
            <a:chExt cx="1319040" cy="459720"/>
          </a:xfrm>
        </p:grpSpPr>
        <p:grpSp>
          <p:nvGrpSpPr>
            <p:cNvPr id="644" name=""/>
            <p:cNvGrpSpPr/>
            <p:nvPr/>
          </p:nvGrpSpPr>
          <p:grpSpPr>
            <a:xfrm>
              <a:off x="5364000" y="3984120"/>
              <a:ext cx="252360" cy="228960"/>
              <a:chOff x="5364000" y="3984120"/>
              <a:chExt cx="252360" cy="228960"/>
            </a:xfrm>
          </p:grpSpPr>
          <p:sp>
            <p:nvSpPr>
              <p:cNvPr id="645" name=""/>
              <p:cNvSpPr/>
              <p:nvPr/>
            </p:nvSpPr>
            <p:spPr>
              <a:xfrm>
                <a:off x="5364000" y="4213080"/>
                <a:ext cx="25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364000" y="3984120"/>
                <a:ext cx="25236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5616360" y="3908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7807320" y="115920"/>
            <a:ext cx="1336680" cy="1900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635200" y="4896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933560" y="4807080"/>
            <a:ext cx="6173640" cy="1699920"/>
            <a:chOff x="1933560" y="4807080"/>
            <a:chExt cx="6173640" cy="1699920"/>
          </a:xfrm>
        </p:grpSpPr>
        <p:sp>
          <p:nvSpPr>
            <p:cNvPr id="651" name=""/>
            <p:cNvSpPr/>
            <p:nvPr/>
          </p:nvSpPr>
          <p:spPr>
            <a:xfrm>
              <a:off x="1933560" y="4807080"/>
              <a:ext cx="6173640" cy="1699920"/>
            </a:xfrm>
            <a:prstGeom prst="cloudCallout">
              <a:avLst>
                <a:gd name="adj1" fmla="val -58254"/>
                <a:gd name="adj2" fmla="val -14645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26000" y="5397480"/>
              <a:ext cx="45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此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叫∠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O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三等份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 txBox="1"/>
          <p:nvPr/>
        </p:nvSpPr>
        <p:spPr>
          <a:xfrm>
            <a:off x="228600" y="51444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4932360" y="2048040"/>
            <a:ext cx="216000" cy="57132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5003640" y="2590920"/>
            <a:ext cx="216000" cy="571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5076720" y="3144960"/>
            <a:ext cx="216000" cy="5713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6"/>
          <a:stretch/>
        </p:blipFill>
        <p:spPr>
          <a:xfrm>
            <a:off x="5076720" y="3833640"/>
            <a:ext cx="216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380880" y="2360520"/>
            <a:ext cx="2743200" cy="2745720"/>
            <a:chOff x="380880" y="2360520"/>
            <a:chExt cx="2743200" cy="2745720"/>
          </a:xfrm>
        </p:grpSpPr>
        <p:grpSp>
          <p:nvGrpSpPr>
            <p:cNvPr id="659" name=""/>
            <p:cNvGrpSpPr/>
            <p:nvPr/>
          </p:nvGrpSpPr>
          <p:grpSpPr>
            <a:xfrm>
              <a:off x="609480" y="2741400"/>
              <a:ext cx="2057400" cy="1905120"/>
              <a:chOff x="609480" y="2741400"/>
              <a:chExt cx="2057400" cy="1905120"/>
            </a:xfrm>
          </p:grpSpPr>
          <p:sp>
            <p:nvSpPr>
              <p:cNvPr id="660" name=""/>
              <p:cNvSpPr/>
              <p:nvPr/>
            </p:nvSpPr>
            <p:spPr>
              <a:xfrm>
                <a:off x="609480" y="4646520"/>
                <a:ext cx="205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09480" y="2741400"/>
                <a:ext cx="11430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752480" y="2741400"/>
                <a:ext cx="9144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752480" y="274140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9480" y="3655800"/>
                <a:ext cx="160020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523880" y="236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0880" y="464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464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23880" y="464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61960" y="3198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100040" y="2360520"/>
            <a:ext cx="4038840" cy="1221840"/>
            <a:chOff x="4100040" y="2360520"/>
            <a:chExt cx="4038840" cy="1221840"/>
          </a:xfrm>
        </p:grpSpPr>
        <p:grpSp>
          <p:nvGrpSpPr>
            <p:cNvPr id="671" name=""/>
            <p:cNvGrpSpPr/>
            <p:nvPr/>
          </p:nvGrpSpPr>
          <p:grpSpPr>
            <a:xfrm>
              <a:off x="4100040" y="3122640"/>
              <a:ext cx="228960" cy="304920"/>
              <a:chOff x="4100040" y="3122640"/>
              <a:chExt cx="228960" cy="30492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4176360" y="312264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252680" y="335124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099680" y="3351240"/>
                <a:ext cx="7596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4100040" y="2360520"/>
              <a:ext cx="4038840" cy="459720"/>
              <a:chOff x="4100040" y="2360520"/>
              <a:chExt cx="4038840" cy="45972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4100040" y="2434680"/>
                <a:ext cx="228960" cy="304920"/>
                <a:chOff x="4100040" y="2434680"/>
                <a:chExt cx="228960" cy="304920"/>
              </a:xfrm>
            </p:grpSpPr>
            <p:sp>
              <p:nvSpPr>
                <p:cNvPr id="677" name=""/>
                <p:cNvSpPr/>
                <p:nvPr/>
              </p:nvSpPr>
              <p:spPr>
                <a:xfrm flipH="1" rot="10800000">
                  <a:off x="4176360" y="2663280"/>
                  <a:ext cx="76320" cy="7632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rot="10800000">
                  <a:off x="4100040" y="2434680"/>
                  <a:ext cx="76320" cy="7632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 rot="10800000">
                  <a:off x="4252680" y="2434680"/>
                  <a:ext cx="75960" cy="7632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403520" y="2360520"/>
                <a:ext cx="3735360" cy="459720"/>
                <a:chOff x="4403520" y="2360520"/>
                <a:chExt cx="3735360" cy="459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403520" y="2360520"/>
                  <a:ext cx="373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AD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是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BAC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的平分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5395680" y="2434680"/>
                  <a:ext cx="252360" cy="228960"/>
                  <a:chOff x="5395680" y="2434680"/>
                  <a:chExt cx="252360" cy="22896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5395680" y="2663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V="1">
                    <a:off x="5395680" y="243468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85" name=""/>
            <p:cNvGrpSpPr/>
            <p:nvPr/>
          </p:nvGrpSpPr>
          <p:grpSpPr>
            <a:xfrm>
              <a:off x="4608360" y="3198600"/>
              <a:ext cx="252360" cy="228960"/>
              <a:chOff x="4608360" y="3198600"/>
              <a:chExt cx="252360" cy="228960"/>
            </a:xfrm>
          </p:grpSpPr>
          <p:sp>
            <p:nvSpPr>
              <p:cNvPr id="686" name=""/>
              <p:cNvSpPr/>
              <p:nvPr/>
            </p:nvSpPr>
            <p:spPr>
              <a:xfrm>
                <a:off x="4608360" y="342756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4608360" y="319860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362640" y="3198600"/>
              <a:ext cx="252360" cy="228960"/>
              <a:chOff x="6362640" y="3198600"/>
              <a:chExt cx="252360" cy="228960"/>
            </a:xfrm>
          </p:grpSpPr>
          <p:sp>
            <p:nvSpPr>
              <p:cNvPr id="689" name=""/>
              <p:cNvSpPr/>
              <p:nvPr/>
            </p:nvSpPr>
            <p:spPr>
              <a:xfrm>
                <a:off x="6362640" y="342756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362640" y="319860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6767640" y="35035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91040" y="350352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77080" y="31226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101840" y="4187880"/>
            <a:ext cx="3964320" cy="1067760"/>
            <a:chOff x="4101840" y="4187880"/>
            <a:chExt cx="3964320" cy="1067760"/>
          </a:xfrm>
        </p:grpSpPr>
        <p:sp>
          <p:nvSpPr>
            <p:cNvPr id="695" name=""/>
            <p:cNvSpPr/>
            <p:nvPr/>
          </p:nvSpPr>
          <p:spPr>
            <a:xfrm>
              <a:off x="4917960" y="418788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C = 2     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4101840" y="4264560"/>
              <a:ext cx="228960" cy="304200"/>
              <a:chOff x="4101840" y="4264560"/>
              <a:chExt cx="228960" cy="304200"/>
            </a:xfrm>
          </p:grpSpPr>
          <p:sp>
            <p:nvSpPr>
              <p:cNvPr id="697" name=""/>
              <p:cNvSpPr/>
              <p:nvPr/>
            </p:nvSpPr>
            <p:spPr>
              <a:xfrm flipH="1" rot="10800000">
                <a:off x="4178160" y="4492800"/>
                <a:ext cx="7632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rot="10800000">
                <a:off x="4101840" y="4264560"/>
                <a:ext cx="7632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rot="10800000">
                <a:off x="4254480" y="4264560"/>
                <a:ext cx="75960" cy="75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176360" y="4948200"/>
              <a:ext cx="228960" cy="304920"/>
              <a:chOff x="4176360" y="4948200"/>
              <a:chExt cx="228960" cy="304920"/>
            </a:xfrm>
          </p:grpSpPr>
          <p:sp>
            <p:nvSpPr>
              <p:cNvPr id="701" name=""/>
              <p:cNvSpPr/>
              <p:nvPr/>
            </p:nvSpPr>
            <p:spPr>
              <a:xfrm flipH="1">
                <a:off x="4252680" y="494820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4329000" y="5176800"/>
                <a:ext cx="7632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176000" y="5176800"/>
                <a:ext cx="75960" cy="76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665600" y="4263840"/>
              <a:ext cx="252360" cy="228960"/>
              <a:chOff x="4665600" y="4263840"/>
              <a:chExt cx="252360" cy="228960"/>
            </a:xfrm>
          </p:grpSpPr>
          <p:sp>
            <p:nvSpPr>
              <p:cNvPr id="705" name=""/>
              <p:cNvSpPr/>
              <p:nvPr/>
            </p:nvSpPr>
            <p:spPr>
              <a:xfrm>
                <a:off x="4665600" y="44928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665600" y="42638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208560" y="4263840"/>
              <a:ext cx="252360" cy="228960"/>
              <a:chOff x="6208560" y="4263840"/>
              <a:chExt cx="252360" cy="228960"/>
            </a:xfrm>
          </p:grpSpPr>
          <p:sp>
            <p:nvSpPr>
              <p:cNvPr id="708" name=""/>
              <p:cNvSpPr/>
              <p:nvPr/>
            </p:nvSpPr>
            <p:spPr>
              <a:xfrm>
                <a:off x="6208560" y="44928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6208560" y="42638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442200" y="4947840"/>
              <a:ext cx="252360" cy="228960"/>
              <a:chOff x="6442200" y="4947840"/>
              <a:chExt cx="252360" cy="228960"/>
            </a:xfrm>
          </p:grpSpPr>
          <p:sp>
            <p:nvSpPr>
              <p:cNvPr id="711" name=""/>
              <p:cNvSpPr/>
              <p:nvPr/>
            </p:nvSpPr>
            <p:spPr>
              <a:xfrm>
                <a:off x="6442200" y="5176800"/>
                <a:ext cx="2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42200" y="4947840"/>
                <a:ext cx="252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4689360" y="525312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23160" y="52531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75320" y="4795920"/>
              <a:ext cx="8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4861080" y="5408640"/>
            <a:ext cx="37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（ 角平分线的定义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917960" y="3046320"/>
            <a:ext cx="2814480" cy="459720"/>
            <a:chOff x="4917960" y="3046320"/>
            <a:chExt cx="2814480" cy="459720"/>
          </a:xfrm>
        </p:grpSpPr>
        <p:sp>
          <p:nvSpPr>
            <p:cNvPr id="718" name=""/>
            <p:cNvSpPr/>
            <p:nvPr/>
          </p:nvSpPr>
          <p:spPr>
            <a:xfrm>
              <a:off x="4917960" y="304632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94200" y="3046320"/>
              <a:ext cx="10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861080" y="4794120"/>
            <a:ext cx="3278160" cy="461520"/>
            <a:chOff x="4861080" y="4794120"/>
            <a:chExt cx="3278160" cy="461520"/>
          </a:xfrm>
        </p:grpSpPr>
        <p:sp>
          <p:nvSpPr>
            <p:cNvPr id="721" name=""/>
            <p:cNvSpPr/>
            <p:nvPr/>
          </p:nvSpPr>
          <p:spPr>
            <a:xfrm>
              <a:off x="4861080" y="47941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23160" y="4795920"/>
              <a:ext cx="12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067360" y="3656160"/>
            <a:ext cx="37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（ 角平分线的定义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609480" y="5253120"/>
            <a:ext cx="1524240" cy="147168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5648400" y="838080"/>
            <a:ext cx="1584360" cy="7336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609480" y="8380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71640" y="54936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68360" y="54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34560" y="263700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86920" y="263700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78920" y="263700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31280" y="263700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5480" y="2637000"/>
            <a:ext cx="47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10920" y="2637000"/>
            <a:ext cx="5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92000" y="2565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55280" y="2565360"/>
            <a:ext cx="5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34920" y="2565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825480" y="4581360"/>
            <a:ext cx="2699640" cy="668520"/>
            <a:chOff x="825480" y="4581360"/>
            <a:chExt cx="2699640" cy="668520"/>
          </a:xfrm>
        </p:grpSpPr>
        <p:sp>
          <p:nvSpPr>
            <p:cNvPr id="739" name=""/>
            <p:cNvSpPr/>
            <p:nvPr/>
          </p:nvSpPr>
          <p:spPr>
            <a:xfrm>
              <a:off x="3269880" y="4640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16880" y="464004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69000" y="4640040"/>
              <a:ext cx="764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5480" y="46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6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98200" y="4598640"/>
              <a:ext cx="5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'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07720" y="45986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07720" y="458136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682000" y="263700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73240" y="5075280"/>
            <a:ext cx="1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25480" y="3213000"/>
            <a:ext cx="3012120" cy="651240"/>
            <a:chOff x="825480" y="3213000"/>
            <a:chExt cx="3012120" cy="651240"/>
          </a:xfrm>
        </p:grpSpPr>
        <p:sp>
          <p:nvSpPr>
            <p:cNvPr id="749" name=""/>
            <p:cNvSpPr/>
            <p:nvPr/>
          </p:nvSpPr>
          <p:spPr>
            <a:xfrm>
              <a:off x="2066040" y="325440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72320" y="325440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5480" y="334476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4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48800" y="3213000"/>
              <a:ext cx="5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'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58320" y="32130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05360" y="3270240"/>
              <a:ext cx="732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化为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314800" y="194940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90840" y="1241280"/>
            <a:ext cx="25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75080" y="1963800"/>
            <a:ext cx="4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928240" y="1963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38960" y="1963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75560" y="1255680"/>
            <a:ext cx="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90720" y="1255680"/>
            <a:ext cx="4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3880" y="1255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55760" y="1255680"/>
            <a:ext cx="4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74000" y="1255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58560" y="198900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3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26480" y="199872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5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57840" y="1989000"/>
            <a:ext cx="649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18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78000" y="1998720"/>
            <a:ext cx="1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25480" y="1989000"/>
            <a:ext cx="47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23520" y="129060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75960" y="129060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53640" y="129060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3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72600" y="129060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3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25720" y="129060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42480" y="1290600"/>
            <a:ext cx="217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3400" y="129060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825480" y="3933720"/>
            <a:ext cx="3066120" cy="651240"/>
            <a:chOff x="825480" y="3933720"/>
            <a:chExt cx="3066120" cy="651240"/>
          </a:xfrm>
        </p:grpSpPr>
        <p:sp>
          <p:nvSpPr>
            <p:cNvPr id="778" name=""/>
            <p:cNvSpPr/>
            <p:nvPr/>
          </p:nvSpPr>
          <p:spPr>
            <a:xfrm>
              <a:off x="3636360" y="39751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69320" y="397512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31120" y="397512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61160" y="397512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5480" y="39751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5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9840" y="3933720"/>
              <a:ext cx="119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"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13520" y="3933720"/>
              <a:ext cx="5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'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39240" y="393372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45680" y="3962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900000" y="-565200"/>
            <a:ext cx="8569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422000" tIns="46800" bIns="2808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377352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0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26920" y="22860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00000" y="588960"/>
            <a:ext cx="66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468360" y="2924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zh-CN" sz="5400" spc="-1" strike="noStrike">
                <a:solidFill>
                  <a:srgbClr val="ccccff"/>
                </a:solidFill>
                <a:latin typeface="Times New Roman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92428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由题意可知</a:t>
            </a:r>
            <a:r>
              <a:rPr b="0" lang="zh-CN" sz="5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9267840" cy="17334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4"/>
          <a:stretch/>
        </p:blipFill>
        <p:spPr>
          <a:xfrm>
            <a:off x="396720" y="1776240"/>
            <a:ext cx="9728280" cy="14576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5"/>
          <a:stretch/>
        </p:blipFill>
        <p:spPr>
          <a:xfrm>
            <a:off x="755640" y="3789360"/>
            <a:ext cx="9001080" cy="7192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689040" y="4508640"/>
            <a:ext cx="9647280" cy="25286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4195800" y="20012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82680" y="616500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219640" y="2637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56360" y="141300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195960" y="776160"/>
            <a:ext cx="5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61080" y="2565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003640" y="26370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173800" y="2565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659640" y="2349360"/>
            <a:ext cx="141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84040" y="2349360"/>
            <a:ext cx="57528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60" y="303"/>
                </a:moveTo>
                <a:arcTo wR="10800" hR="10800" stAng="-6216122" swAng="6160108"/>
                <a:lnTo>
                  <a:pt x="10800" y="10800"/>
                </a:lnTo>
                <a:close/>
              </a:path>
              <a:path fill="none" w="21600" h="21600">
                <a:moveTo>
                  <a:pt x="8260" y="303"/>
                </a:moveTo>
                <a:arcTo wR="10800" hR="10800" stAng="-6216122" swAng="616010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6659640" y="2349360"/>
            <a:ext cx="142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5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558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6514920" y="2347920"/>
            <a:ext cx="57636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84" y="65"/>
                </a:moveTo>
                <a:arcTo wR="10800" hR="10800" stAng="-5022512" swAng="4711358"/>
                <a:lnTo>
                  <a:pt x="10800" y="10800"/>
                </a:lnTo>
                <a:close/>
              </a:path>
              <a:path fill="none" w="21600" h="21600">
                <a:moveTo>
                  <a:pt x="11984" y="65"/>
                </a:moveTo>
                <a:arcTo wR="10800" hR="10800" stAng="-5022512" swAng="4711358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971640" y="666720"/>
            <a:ext cx="8785080" cy="8175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1773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1942920" cy="5065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4"/>
          <a:stretch/>
        </p:blipFill>
        <p:spPr>
          <a:xfrm>
            <a:off x="3635280" y="1844640"/>
            <a:ext cx="3241800" cy="59688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5"/>
          <a:stretch/>
        </p:blipFill>
        <p:spPr>
          <a:xfrm>
            <a:off x="3635280" y="2565360"/>
            <a:ext cx="3456000" cy="57636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6"/>
          <a:stretch/>
        </p:blipFill>
        <p:spPr>
          <a:xfrm>
            <a:off x="3635280" y="3357720"/>
            <a:ext cx="1800360" cy="5760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96920" y="1141560"/>
            <a:ext cx="99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若上图中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　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034280" y="2852640"/>
            <a:ext cx="5069160" cy="3174480"/>
            <a:chOff x="1034280" y="2852640"/>
            <a:chExt cx="5069160" cy="3174480"/>
          </a:xfrm>
        </p:grpSpPr>
        <p:sp>
          <p:nvSpPr>
            <p:cNvPr id="819" name=""/>
            <p:cNvSpPr/>
            <p:nvPr/>
          </p:nvSpPr>
          <p:spPr>
            <a:xfrm flipH="1">
              <a:off x="1136520" y="3073320"/>
              <a:ext cx="2879280" cy="24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36520" y="5522760"/>
              <a:ext cx="49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136520" y="4010040"/>
              <a:ext cx="345564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23440" y="5162400"/>
              <a:ext cx="14400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67080" y="5018040"/>
              <a:ext cx="28800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86440" y="285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10640" y="5521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19360" y="4154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34280" y="5521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4211640" y="1141560"/>
            <a:ext cx="1073160" cy="52056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7451640" y="1141560"/>
            <a:ext cx="995400" cy="4982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53964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11280" y="12682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如图，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是直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28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说出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1905120" y="3733920"/>
            <a:ext cx="3886200" cy="2288520"/>
            <a:chOff x="1905120" y="3733920"/>
            <a:chExt cx="3886200" cy="2288520"/>
          </a:xfrm>
        </p:grpSpPr>
        <p:grpSp>
          <p:nvGrpSpPr>
            <p:cNvPr id="833" name=""/>
            <p:cNvGrpSpPr/>
            <p:nvPr/>
          </p:nvGrpSpPr>
          <p:grpSpPr>
            <a:xfrm>
              <a:off x="1981440" y="3962520"/>
              <a:ext cx="3504960" cy="1600200"/>
              <a:chOff x="1981440" y="3962520"/>
              <a:chExt cx="3504960" cy="1600200"/>
            </a:xfrm>
          </p:grpSpPr>
          <p:sp>
            <p:nvSpPr>
              <p:cNvPr id="834" name=""/>
              <p:cNvSpPr/>
              <p:nvPr/>
            </p:nvSpPr>
            <p:spPr>
              <a:xfrm>
                <a:off x="3581640" y="396252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581640" y="556272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3581640" y="4114800"/>
                <a:ext cx="761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981440" y="4648320"/>
                <a:ext cx="16002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581640" y="5410440"/>
                <a:ext cx="228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810240" y="5410440"/>
                <a:ext cx="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190512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57800" y="5029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744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24440" y="38102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00400" y="5562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2101320" y="2443320"/>
            <a:ext cx="50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角的大小比较方法（叠合、度量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78360" y="308448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角的和差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62680" y="37260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角的平分线的性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8380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latin typeface="隶书"/>
              </a:rPr>
              <a:t>小结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>
                  <a:alpha val="50000"/>
                </a:srgbClr>
              </a:solidFill>
              <a:latin typeface="隶书"/>
              <a:ea typeface="隶书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016360" cy="2246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739520" y="436716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角的和、差、积、商运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2590920" y="16002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b2b2b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后作业</a:t>
            </a:r>
            <a:endParaRPr b="0" lang="en-US" sz="2400" spc="1" strike="noStrike">
              <a:ln w="19080">
                <a:solidFill>
                  <a:srgbClr val="993366"/>
                </a:solidFill>
                <a:miter/>
              </a:ln>
              <a:solidFill>
                <a:srgbClr val="b2b2b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34290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43-144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.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,5,6,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2133720"/>
            <a:ext cx="80564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541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02572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692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天学生张靓和王帅各带了一把折扇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状态如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他们的一段对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638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的折扇张开大一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我的折扇的角也大一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0890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的折扇长一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我的折扇的角也大一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3297240"/>
            <a:ext cx="4319640" cy="290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2951280" cy="302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8840" y="-34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趣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036800" y="1066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一点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B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380880" y="304920"/>
            <a:ext cx="1992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思考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857" name=""/>
          <p:cNvSpPr/>
          <p:nvPr/>
        </p:nvSpPr>
        <p:spPr>
          <a:xfrm>
            <a:off x="2409840" y="198108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00240" y="1973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 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4495680"/>
            <a:ext cx="48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OF=∠EOC+∠C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419720" y="496728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∠AOC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∠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C+∠C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843280" y="2424240"/>
            <a:ext cx="6552720" cy="1015920"/>
            <a:chOff x="2843280" y="2424240"/>
            <a:chExt cx="6552720" cy="1015920"/>
          </a:xfrm>
        </p:grpSpPr>
        <p:sp>
          <p:nvSpPr>
            <p:cNvPr id="862" name=""/>
            <p:cNvSpPr/>
            <p:nvPr/>
          </p:nvSpPr>
          <p:spPr>
            <a:xfrm>
              <a:off x="2843280" y="2424240"/>
              <a:ext cx="5106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∴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EOC=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∠AOC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OF=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∠CO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47080" y="2971800"/>
              <a:ext cx="31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角平分线的定义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124080" y="3532320"/>
            <a:ext cx="6019560" cy="1015920"/>
            <a:chOff x="3124080" y="3532320"/>
            <a:chExt cx="6019560" cy="1015920"/>
          </a:xfrm>
        </p:grpSpPr>
        <p:sp>
          <p:nvSpPr>
            <p:cNvPr id="865" name=""/>
            <p:cNvSpPr/>
            <p:nvPr/>
          </p:nvSpPr>
          <p:spPr>
            <a:xfrm>
              <a:off x="3124080" y="3532320"/>
              <a:ext cx="5390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∵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OB=∠AOC+∠COB=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17960" y="3989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平角的定义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6320" y="2278080"/>
            <a:ext cx="2923560" cy="1988640"/>
            <a:chOff x="76320" y="2278080"/>
            <a:chExt cx="2923560" cy="1988640"/>
          </a:xfrm>
        </p:grpSpPr>
        <p:grpSp>
          <p:nvGrpSpPr>
            <p:cNvPr id="868" name=""/>
            <p:cNvGrpSpPr/>
            <p:nvPr/>
          </p:nvGrpSpPr>
          <p:grpSpPr>
            <a:xfrm>
              <a:off x="76320" y="2278080"/>
              <a:ext cx="2923560" cy="1988640"/>
              <a:chOff x="76320" y="2278080"/>
              <a:chExt cx="2923560" cy="198864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366480" y="3803400"/>
                <a:ext cx="26334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320" y="3803760"/>
                <a:ext cx="2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25480" y="3805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34640" y="2594160"/>
                <a:ext cx="23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98320" y="2278080"/>
                <a:ext cx="27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25480" y="25941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366560" y="3807000"/>
                <a:ext cx="53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>
                <a:off x="1036440" y="2430720"/>
                <a:ext cx="615600" cy="13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366120" y="3051360"/>
                <a:ext cx="1285560" cy="752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1652400" y="2658960"/>
                <a:ext cx="720360" cy="11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 flipV="1">
              <a:off x="1652760" y="2658960"/>
              <a:ext cx="720720" cy="1144800"/>
            </a:xfrm>
            <a:prstGeom prst="line">
              <a:avLst/>
            </a:prstGeom>
            <a:ln w="9360">
              <a:solidFill>
                <a:srgbClr val="ffff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0880" y="304920"/>
            <a:ext cx="1992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思考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1066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D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BOD=2∠AO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D=114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6320" y="2133720"/>
            <a:ext cx="3886200" cy="2467800"/>
            <a:chOff x="76320" y="2133720"/>
            <a:chExt cx="3886200" cy="2467800"/>
          </a:xfrm>
        </p:grpSpPr>
        <p:grpSp>
          <p:nvGrpSpPr>
            <p:cNvPr id="883" name=""/>
            <p:cNvGrpSpPr/>
            <p:nvPr/>
          </p:nvGrpSpPr>
          <p:grpSpPr>
            <a:xfrm>
              <a:off x="381240" y="2590560"/>
              <a:ext cx="2743200" cy="1600560"/>
              <a:chOff x="381240" y="2590560"/>
              <a:chExt cx="2743200" cy="1600560"/>
            </a:xfrm>
          </p:grpSpPr>
          <p:sp>
            <p:nvSpPr>
              <p:cNvPr id="884" name=""/>
              <p:cNvSpPr/>
              <p:nvPr/>
            </p:nvSpPr>
            <p:spPr>
              <a:xfrm>
                <a:off x="1295640" y="419112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1240" y="2590920"/>
                <a:ext cx="9144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1295640" y="2819520"/>
                <a:ext cx="773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1295640" y="2590560"/>
                <a:ext cx="2286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7632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08160" y="21337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68920" y="2362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72160" y="41148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90720" y="4141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830680" y="2071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∵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D=∠AOB+∠BOD=11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05320" y="3228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B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∠AOD=3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05320" y="3733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分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05320" y="4191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C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∠AOD=57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64520" y="4648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角平分线的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05320" y="510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C=∠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33920" y="27716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=2∠A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77360" y="548640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57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94200" y="5867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3645000"/>
            <a:ext cx="3708360" cy="1022760"/>
          </a:xfrm>
          <a:prstGeom prst="wedgeRoundRectCallout">
            <a:avLst>
              <a:gd name="adj1" fmla="val 47726"/>
              <a:gd name="adj2" fmla="val -5138"/>
              <a:gd name="adj3" fmla="val 16667"/>
            </a:avLst>
          </a:prstGeom>
          <a:solidFill>
            <a:srgbClr val="3366ff"/>
          </a:solidFill>
          <a:ln w="9360">
            <a:solidFill>
              <a:srgbClr val="fff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同学们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你们有办法帮他们进行判断吗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30040"/>
            <a:ext cx="4356000" cy="3049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2158920" y="2776680"/>
            <a:ext cx="2160720" cy="2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86920" y="2633400"/>
            <a:ext cx="190836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236000" y="476280"/>
            <a:ext cx="834840" cy="24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280" y="2924280"/>
            <a:ext cx="223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908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6800" y="530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01120" y="4897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580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329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3120" y="3125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7960" y="597204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样比较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大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5360" y="411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复习：线段的比较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0440" y="1461960"/>
            <a:ext cx="8763120" cy="1754640"/>
            <a:chOff x="190440" y="1461960"/>
            <a:chExt cx="8763120" cy="1754640"/>
          </a:xfrm>
        </p:grpSpPr>
        <p:sp>
          <p:nvSpPr>
            <p:cNvPr id="83" name=""/>
            <p:cNvSpPr/>
            <p:nvPr/>
          </p:nvSpPr>
          <p:spPr>
            <a:xfrm>
              <a:off x="495360" y="1461960"/>
              <a:ext cx="84582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从“形”出发，利用线段移动叠合的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90440" y="2635200"/>
              <a:ext cx="4191120" cy="581400"/>
              <a:chOff x="190440" y="2635200"/>
              <a:chExt cx="4191120" cy="581400"/>
            </a:xfrm>
          </p:grpSpPr>
          <p:sp>
            <p:nvSpPr>
              <p:cNvPr id="85" name=""/>
              <p:cNvSpPr/>
              <p:nvPr/>
            </p:nvSpPr>
            <p:spPr>
              <a:xfrm>
                <a:off x="495360" y="313164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360" y="2950920"/>
                <a:ext cx="0" cy="18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76640" y="2960280"/>
                <a:ext cx="0" cy="18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440" y="2635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72080" y="26352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33840" y="2590200"/>
              <a:ext cx="4038840" cy="625320"/>
              <a:chOff x="4533840" y="2590200"/>
              <a:chExt cx="4038840" cy="625320"/>
            </a:xfrm>
          </p:grpSpPr>
          <p:sp>
            <p:nvSpPr>
              <p:cNvPr id="91" name=""/>
              <p:cNvSpPr/>
              <p:nvPr/>
            </p:nvSpPr>
            <p:spPr>
              <a:xfrm>
                <a:off x="8267760" y="2950920"/>
                <a:ext cx="0" cy="18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62440" y="2960280"/>
                <a:ext cx="0" cy="18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4533840" y="2590200"/>
                <a:ext cx="4038840" cy="625320"/>
                <a:chOff x="4533840" y="2590200"/>
                <a:chExt cx="4038840" cy="625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762440" y="3131640"/>
                  <a:ext cx="350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33840" y="26341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10560" y="259020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7" name=""/>
          <p:cNvSpPr/>
          <p:nvPr/>
        </p:nvSpPr>
        <p:spPr>
          <a:xfrm>
            <a:off x="495360" y="4089240"/>
            <a:ext cx="90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“数” 出发，通过度量长度进行数值大 小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382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733920"/>
            <a:ext cx="91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7640" y="2590920"/>
            <a:ext cx="850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叠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4479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86728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9120" y="582948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544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 flipV="1">
            <a:off x="2627280" y="137088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9880" y="3429000"/>
            <a:ext cx="4506840" cy="682200"/>
            <a:chOff x="3809880" y="3429000"/>
            <a:chExt cx="4506840" cy="682200"/>
          </a:xfrm>
        </p:grpSpPr>
        <p:sp>
          <p:nvSpPr>
            <p:cNvPr id="107" name=""/>
            <p:cNvSpPr/>
            <p:nvPr/>
          </p:nvSpPr>
          <p:spPr>
            <a:xfrm>
              <a:off x="3940560" y="3557880"/>
              <a:ext cx="352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0560" y="3429000"/>
              <a:ext cx="0" cy="12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840" y="3429000"/>
              <a:ext cx="0" cy="12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590640"/>
              <a:ext cx="58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2000" y="3590640"/>
              <a:ext cx="10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C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28960" y="5551560"/>
            <a:ext cx="3657600" cy="633240"/>
            <a:chOff x="3828960" y="5551560"/>
            <a:chExt cx="3657600" cy="633240"/>
          </a:xfrm>
        </p:grpSpPr>
        <p:sp>
          <p:nvSpPr>
            <p:cNvPr id="113" name=""/>
            <p:cNvSpPr/>
            <p:nvPr/>
          </p:nvSpPr>
          <p:spPr>
            <a:xfrm>
              <a:off x="3943440" y="5664240"/>
              <a:ext cx="308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3440" y="5551560"/>
              <a:ext cx="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9360" y="5551560"/>
              <a:ext cx="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28960" y="566424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0" y="566424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657600" y="1295280"/>
            <a:ext cx="4800600" cy="790920"/>
            <a:chOff x="3657600" y="1295280"/>
            <a:chExt cx="4800600" cy="790920"/>
          </a:xfrm>
        </p:grpSpPr>
        <p:sp>
          <p:nvSpPr>
            <p:cNvPr id="119" name=""/>
            <p:cNvSpPr/>
            <p:nvPr/>
          </p:nvSpPr>
          <p:spPr>
            <a:xfrm>
              <a:off x="3733920" y="144972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1295280"/>
              <a:ext cx="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48720" y="1295280"/>
              <a:ext cx="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7600" y="156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1564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33920" y="1449360"/>
            <a:ext cx="3809880" cy="529920"/>
            <a:chOff x="3733920" y="1449360"/>
            <a:chExt cx="3809880" cy="529920"/>
          </a:xfrm>
        </p:grpSpPr>
        <p:sp>
          <p:nvSpPr>
            <p:cNvPr id="125" name=""/>
            <p:cNvSpPr/>
            <p:nvPr/>
          </p:nvSpPr>
          <p:spPr>
            <a:xfrm>
              <a:off x="7010640" y="1449360"/>
              <a:ext cx="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458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0240" y="1454400"/>
              <a:ext cx="32004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1458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0240" y="1449360"/>
              <a:ext cx="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09880" y="3429000"/>
            <a:ext cx="4267080" cy="642600"/>
            <a:chOff x="3809880" y="3429000"/>
            <a:chExt cx="4267080" cy="642600"/>
          </a:xfrm>
        </p:grpSpPr>
        <p:sp>
          <p:nvSpPr>
            <p:cNvPr id="131" name=""/>
            <p:cNvSpPr/>
            <p:nvPr/>
          </p:nvSpPr>
          <p:spPr>
            <a:xfrm>
              <a:off x="3941280" y="3526200"/>
              <a:ext cx="3544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355104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0960" y="355104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86200" y="3429000"/>
              <a:ext cx="0" cy="9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41280" y="3429000"/>
              <a:ext cx="0" cy="9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28960" y="5603760"/>
            <a:ext cx="3257280" cy="566280"/>
            <a:chOff x="3828960" y="5603760"/>
            <a:chExt cx="3257280" cy="566280"/>
          </a:xfrm>
        </p:grpSpPr>
        <p:sp>
          <p:nvSpPr>
            <p:cNvPr id="137" name=""/>
            <p:cNvSpPr/>
            <p:nvPr/>
          </p:nvSpPr>
          <p:spPr>
            <a:xfrm>
              <a:off x="6339960" y="5603760"/>
              <a:ext cx="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4680" y="5650920"/>
              <a:ext cx="237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8960" y="5649480"/>
              <a:ext cx="6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9960" y="564948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4680" y="5603760"/>
              <a:ext cx="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48280" y="1793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 &gt; A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038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 = A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2480" y="596412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 &lt; A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叠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219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“数” 出发，通过度量长度进行数值大 小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度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4360" y="3032280"/>
            <a:ext cx="7161840" cy="1784160"/>
            <a:chOff x="684360" y="3032280"/>
            <a:chExt cx="7161840" cy="1784160"/>
          </a:xfrm>
        </p:grpSpPr>
        <p:grpSp>
          <p:nvGrpSpPr>
            <p:cNvPr id="149" name=""/>
            <p:cNvGrpSpPr/>
            <p:nvPr/>
          </p:nvGrpSpPr>
          <p:grpSpPr>
            <a:xfrm>
              <a:off x="684360" y="3032280"/>
              <a:ext cx="3961800" cy="1270080"/>
              <a:chOff x="684360" y="3032280"/>
              <a:chExt cx="3961800" cy="127008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912600" y="3427200"/>
                <a:ext cx="3504960" cy="171360"/>
                <a:chOff x="912600" y="3427200"/>
                <a:chExt cx="3504960" cy="171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912600" y="3598560"/>
                  <a:ext cx="3504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417560" y="3427200"/>
                  <a:ext cx="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12600" y="3427200"/>
                  <a:ext cx="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827000" y="3598920"/>
                <a:ext cx="2133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5 c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4360" y="30322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9320" y="30322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256000" y="3032280"/>
              <a:ext cx="2590200" cy="1270080"/>
              <a:chOff x="5256000" y="3032280"/>
              <a:chExt cx="2590200" cy="12700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636520" y="3427200"/>
                <a:ext cx="1904760" cy="171360"/>
                <a:chOff x="5636520" y="3427200"/>
                <a:chExt cx="1904760" cy="171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541280" y="3427200"/>
                  <a:ext cx="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36520" y="3427200"/>
                  <a:ext cx="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36520" y="3598560"/>
                  <a:ext cx="190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5789160" y="3598920"/>
                <a:ext cx="175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 c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56000" y="303228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60760" y="3032280"/>
                <a:ext cx="68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03520" y="4113000"/>
              <a:ext cx="304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B &gt; C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6560" y="341280"/>
            <a:ext cx="590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探索角的比较大小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052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任意画出两个角、或任意剪出两个角比较一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讨论你们的比较方法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6200" y="3573360"/>
            <a:ext cx="3459240" cy="2521440"/>
            <a:chOff x="646200" y="3573360"/>
            <a:chExt cx="3459240" cy="2521440"/>
          </a:xfrm>
        </p:grpSpPr>
        <p:sp>
          <p:nvSpPr>
            <p:cNvPr id="169" name=""/>
            <p:cNvSpPr/>
            <p:nvPr/>
          </p:nvSpPr>
          <p:spPr>
            <a:xfrm>
              <a:off x="928800" y="5554800"/>
              <a:ext cx="30477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928800" y="3954240"/>
              <a:ext cx="2286000" cy="1600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200" y="5513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3573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9640" y="5513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94200" y="3581280"/>
            <a:ext cx="3532320" cy="2516760"/>
            <a:chOff x="4894200" y="3581280"/>
            <a:chExt cx="3532320" cy="2516760"/>
          </a:xfrm>
        </p:grpSpPr>
        <p:sp>
          <p:nvSpPr>
            <p:cNvPr id="175" name=""/>
            <p:cNvSpPr/>
            <p:nvPr/>
          </p:nvSpPr>
          <p:spPr>
            <a:xfrm>
              <a:off x="5167440" y="5562720"/>
              <a:ext cx="3047760" cy="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167440" y="3962160"/>
              <a:ext cx="2286000" cy="1600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94200" y="5513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40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40720" y="5516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222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方法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5160" y="29401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度量法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83520" y="222264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叠合法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5704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叠合比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“形”出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 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E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0" y="3581280"/>
            <a:ext cx="3733920" cy="2136240"/>
            <a:chOff x="4572000" y="3581280"/>
            <a:chExt cx="3733920" cy="2136240"/>
          </a:xfrm>
        </p:grpSpPr>
        <p:grpSp>
          <p:nvGrpSpPr>
            <p:cNvPr id="186" name=""/>
            <p:cNvGrpSpPr/>
            <p:nvPr/>
          </p:nvGrpSpPr>
          <p:grpSpPr>
            <a:xfrm>
              <a:off x="5105160" y="3886200"/>
              <a:ext cx="2514960" cy="1523880"/>
              <a:chOff x="5105160" y="3886200"/>
              <a:chExt cx="2514960" cy="152388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5105160" y="3886200"/>
                <a:ext cx="221004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05520" y="54100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696080" y="52578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6964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3520" y="2743200"/>
            <a:ext cx="3581280" cy="2974320"/>
            <a:chOff x="533520" y="2743200"/>
            <a:chExt cx="3581280" cy="2974320"/>
          </a:xfrm>
        </p:grpSpPr>
        <p:grpSp>
          <p:nvGrpSpPr>
            <p:cNvPr id="193" name=""/>
            <p:cNvGrpSpPr/>
            <p:nvPr/>
          </p:nvGrpSpPr>
          <p:grpSpPr>
            <a:xfrm>
              <a:off x="990720" y="3124080"/>
              <a:ext cx="2514600" cy="2286000"/>
              <a:chOff x="990720" y="3124080"/>
              <a:chExt cx="2514600" cy="22860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990720" y="3124080"/>
                <a:ext cx="175248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90720" y="541008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58128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5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58920" y="69228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移动一个角使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它的顶点和一条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另一个角的顶点和一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其余的边在重合边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同侧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不重合两边的位置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判断两个角的大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6:50:33Z</dcterms:created>
  <dc:creator>ase</dc:creator>
  <dc:description/>
  <dc:language>en-US</dc:language>
  <cp:lastModifiedBy>微软用户</cp:lastModifiedBy>
  <dcterms:modified xsi:type="dcterms:W3CDTF">2011-12-07T06:22:00Z</dcterms:modified>
  <cp:revision>94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50600207f7000400038000</vt:lpwstr>
  </property>
</Properties>
</file>