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3B3-E115-4459-B66A-F006E68A6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16EE-1AAE-4DF3-9920-AA9E131C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58B188-49D3-47E9-9A6C-C997BA44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D26C6-47C9-4AD2-8B9F-9DA60932B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96B95A-6EB6-4DAF-B68B-442B4C473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79CB6-E3E6-4702-8CEC-A74D4147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F101B3-4759-48D3-A0A1-2BBA944A9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AD5734-3A2D-49D6-8684-C6480CD0D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2201B6-1D15-4A8F-A166-12EDC6A64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9024C-888B-4390-9ED3-1F778CF9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EB06C4-BDA4-47EE-92D9-E0BE6C88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1D30-F822-454F-A8FB-C89C34A8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B1D5-A053-45E6-9D54-64BCB2B42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F07A7-0ECD-4E03-9015-230D028C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89444-9369-4A73-9762-4C936851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B110-16E5-4E2A-BC9A-A9CBF47A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CA84-7263-4F56-BD41-9D751C92C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8B952-736A-4C8A-AAF6-5083E3E80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1714-A1C8-46FB-9C96-A5B264EA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E11D-E209-4F4F-A77F-50F9A5FA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BE47-0F07-4E9F-BFBF-0E19D3EA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26BF5-F91D-4C1C-8A80-35E2C873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5DC2-3A84-4A0A-91BE-AED76504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262B-CB57-4678-A7EC-2BF16C362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6CA9C-622E-4520-AEDD-466876B78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BB0A7-4561-4F88-A8B9-8F8EBDA44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DFE82-7CFF-4534-A031-2ED8DF06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6F921-7591-47D3-86DC-FDBFA634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A5E83-D97B-424F-BAC8-DEE9311E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133E-5052-424F-9915-3E09C313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E30C16-DB2E-4156-A4F3-5259AF984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B23-DD6E-4C18-BDB5-90C51E6C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C5648-7930-4F2D-BE88-461A5E2E4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1CDC-BFA7-48D1-A87C-87A7AAFD6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1DD90-15FC-4129-AC7E-10F10201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14DBE-9312-4837-9C6D-C49EDFF5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83594-3446-48B4-8566-2AFC8D00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7B263-DFB7-44A7-A91E-D28ED55A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47AD8-1AE0-4AF8-84AD-490DBE36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3228F-7242-4CD5-8FDA-1294B9DCE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367602-C210-4406-B922-CC49B325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1F13D-719D-43AF-915D-FCF7D32B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4546-BC31-49F8-AE19-B826CF74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BB424A-85CE-4182-8875-DDA1B910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91085-E45C-4CEC-883A-83DD58441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21A9A-FF1F-45EE-93AC-C2F6A8F82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609D3-E9DB-4BD7-B459-B6C8818C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939B0-6191-4C34-B290-F98B4A6E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8E9333-77C9-4E49-A584-E1892B9B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28255-B50A-4940-B6F9-7A76229E8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50317-1DF5-471E-82AF-F39C34884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EDEFF-B8D5-40E2-B2E5-EE7E609D5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10362-679D-4D94-918D-3F231BB68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A1C-0623-4ABC-8367-A6847F7E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37D17-9EEA-4742-84EA-0B43AAB4B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7889E-9A84-44F7-BC6E-52901061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2116F-E9C5-4FD8-8293-AB97586DE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7CEDDC-259C-469A-8290-A6BD0115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AA952-A424-4692-8967-158C118E1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2C83B2-9D04-4BD6-8C8C-DAC7D0CA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CE52A-872C-4290-842C-0D608E2C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667F4-02CA-4075-9F1D-3D9C8B2CC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2F9860-735D-4E59-A1E4-E7D546D8E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5C75C8-F436-4CA9-961F-E335A03B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AEF-3C45-4624-8BD7-26A08F3E8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4CF4B-3BDD-4E11-BF3D-473FE1E5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D6DFA-2207-4E1B-98A8-C622480D4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EB5337-F082-4F99-BB31-FB4CBB1B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F6575-1DF0-4630-AAE5-3EB25FECE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C075C-905F-41A9-9B1A-79AB01CA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7F97B-0934-498D-B46E-48C98AD1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55A0D-942C-492E-8437-D30942360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86C26-8327-4817-B63A-DF42CCF2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132FC-6771-455E-8555-FAFAA4BBD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62F75B-5617-4F91-9365-7501B91D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0F9A-FAE3-42CD-BAC3-B8CE2C8F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98DDF-8252-4914-A2DC-A6A2B88D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9A5CEA-6BE9-46FA-975B-23957C3BA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39378-AA95-47E9-BCFF-33CF77AB7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F7F00-82BF-45B9-8A81-7C9B23BE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B2323-730C-45C7-9663-A7E81C5D2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78A958-06E7-478E-B4E4-7DD90EA6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73247D-B727-4127-873C-AC397F66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B6CDE-0756-4FFE-A8FF-9FCE65C0F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9638FD-022B-48FA-BE03-82329380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8AC20D-D9C5-4833-84AC-533D5C4B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F0C0-FBFB-4C5F-8709-BDADF649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0C488-EF7D-4234-B374-26407DE1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77180-4F21-4145-A548-74F7C8EA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0D117-9725-4D83-A8BC-A66A24D6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215F57-6A80-4B35-AC13-2BCDBAC4F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44596-8B2C-4C8F-89EC-084EA14C7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C64B3-7EF4-44B3-B40F-DA237BF20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B26558-5834-4A6D-AD6E-709321F6C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654150-5D4F-4855-9090-4D4230A6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AB1FBA-A760-4FF4-B5A1-FD580C75B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F55B7-1AE1-4F68-A540-04ECA5E3D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5530-2DC2-4990-8437-47C521BB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C3B84-F3FF-4756-BACD-C303A042E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B8D7B-6F7D-413E-83B3-0EFF4592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AFD8F-0DFC-490A-B421-2F845A8C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98A99-97D2-46C1-89F6-34BDC3080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367CCB-D1AF-4567-9F47-A510B922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E54533-9CC8-429F-B7D7-6C0A9075D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7E7F8-F059-4C69-85BC-3D54CA14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BCD24-0889-4127-978D-401A255EF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630C9-4FB0-493A-9F6E-39A67997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5C68B-52A3-4681-B16B-32487F8C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3E54C-C308-4836-9716-75A76524DCA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35F6-274A-46F6-B05F-20938A9043D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4013-0B21-40FF-AA40-FA232E0961D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7BDA-8791-4794-8578-1445AC11F2F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F328A-96FF-436E-B9D2-C9634895C80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1EBD-B4AB-4593-9CEA-84985A4013F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C314C-072B-4E3F-BBAA-135797A5C01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5B7E2-729C-4DB8-9B60-E14D7B38A45F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73A49-854A-4FA3-AE56-36A017818B8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9.xml"/><Relationship Id="rId5" Type="http://schemas.openxmlformats.org/officeDocument/2006/relationships/slide" Target="slide11.xml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6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7.xml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105520"/>
            <a:ext cx="1968480" cy="1320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7"/>
          <p:cNvSpPr/>
          <p:nvPr/>
        </p:nvSpPr>
        <p:spPr>
          <a:xfrm>
            <a:off x="338040" y="5421240"/>
            <a:ext cx="8496360" cy="42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有水平的运动，同样也有上、下、升、降运动，如电梯的升降、汽车的运动、水位的变化，以及与它们相类似的股票问题，都属于要用有理数加法解决的问题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5" name="Text Box 48"/>
          <p:cNvSpPr/>
          <p:nvPr/>
        </p:nvSpPr>
        <p:spPr>
          <a:xfrm>
            <a:off x="518040" y="5410080"/>
            <a:ext cx="704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点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6" name="Text Box 101"/>
          <p:cNvSpPr/>
          <p:nvPr/>
        </p:nvSpPr>
        <p:spPr>
          <a:xfrm>
            <a:off x="3278160" y="1495440"/>
            <a:ext cx="200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有理数加法的简单应用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7" name="Picture 102" descr="知识点二"/>
          <p:cNvPicPr/>
          <p:nvPr/>
        </p:nvPicPr>
        <p:blipFill>
          <a:blip r:embed="rId1"/>
          <a:stretch/>
        </p:blipFill>
        <p:spPr>
          <a:xfrm>
            <a:off x="914400" y="1447920"/>
            <a:ext cx="1905120" cy="63504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103"/>
          <p:cNvSpPr/>
          <p:nvPr/>
        </p:nvSpPr>
        <p:spPr>
          <a:xfrm>
            <a:off x="1219320" y="2085840"/>
            <a:ext cx="914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例题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2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59" name="Picture 104" descr="典例剖析"/>
          <p:cNvPicPr/>
          <p:nvPr/>
        </p:nvPicPr>
        <p:blipFill>
          <a:blip r:embed="rId2"/>
          <a:stretch/>
        </p:blipFill>
        <p:spPr>
          <a:xfrm>
            <a:off x="1219320" y="838080"/>
            <a:ext cx="1904760" cy="63504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5"/>
          <p:cNvSpPr/>
          <p:nvPr/>
        </p:nvSpPr>
        <p:spPr>
          <a:xfrm>
            <a:off x="609480" y="2092320"/>
            <a:ext cx="861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一病人每天下午都需要测量血压，该病人上个星期日的收缩压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单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下表是该病人星期一至星期五收缩压的变化情况：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1371600" y="2895480"/>
          <a:ext cx="6683400" cy="963720"/>
        </p:xfrm>
        <a:graphic>
          <a:graphicData uri="http://schemas.openxmlformats.org/drawingml/2006/table">
            <a:tbl>
              <a:tblPr/>
              <a:tblGrid>
                <a:gridCol w="1546200"/>
                <a:gridCol w="1073160"/>
                <a:gridCol w="1015920"/>
                <a:gridCol w="1015920"/>
                <a:gridCol w="1016280"/>
                <a:gridCol w="1015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星期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一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二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四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五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收缩压的变化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与前一天的比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3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17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18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2" name="Text Box 129"/>
          <p:cNvSpPr/>
          <p:nvPr/>
        </p:nvSpPr>
        <p:spPr>
          <a:xfrm>
            <a:off x="1066680" y="3809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注：正号表示血压比前一天升，负号表示比前一天降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)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3" name="Text Box 130"/>
          <p:cNvSpPr/>
          <p:nvPr/>
        </p:nvSpPr>
        <p:spPr>
          <a:xfrm>
            <a:off x="533520" y="411480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上周日相比，该病人星期五的血压是升了还是降了？该病人的收缩压是多少？ 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Text Box 131"/>
          <p:cNvSpPr/>
          <p:nvPr/>
        </p:nvSpPr>
        <p:spPr>
          <a:xfrm>
            <a:off x="533520" y="47386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   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与上周日相比，该病人的血压升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5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，星期五的收缩压为：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60+25=185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. 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Text Box 132"/>
          <p:cNvSpPr/>
          <p:nvPr/>
        </p:nvSpPr>
        <p:spPr>
          <a:xfrm>
            <a:off x="409680" y="4724280"/>
            <a:ext cx="1155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析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Rectangle 133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Rectangle 134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8" name="Rectangle 135">
            <a:hlinkClick r:id="rId3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Rectangle 136">
            <a:hlinkClick r:id="rId4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Rectangle 137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1" name="Rectangle 138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2" name="Rectangle 139">
            <a:hlinkClick r:id="rId5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3" name="Rectangle 140">
            <a:hlinkClick r:id="rId6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36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4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Text Box 2"/>
          <p:cNvSpPr/>
          <p:nvPr/>
        </p:nvSpPr>
        <p:spPr>
          <a:xfrm>
            <a:off x="380880" y="144792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借助数轴，规定向左为负，向右为正，回答下列问题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380880" y="51354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某次测试，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为标准，老师记录的成绩为：小红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小明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小军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，则小红的实际得分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小明的实际得分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小军的实际得分是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Text Box 50"/>
          <p:cNvSpPr/>
          <p:nvPr/>
        </p:nvSpPr>
        <p:spPr>
          <a:xfrm>
            <a:off x="1824120" y="217656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Text Box 51"/>
          <p:cNvSpPr/>
          <p:nvPr/>
        </p:nvSpPr>
        <p:spPr>
          <a:xfrm>
            <a:off x="4572000" y="3019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(-5)+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3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-8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Text Box 62"/>
          <p:cNvSpPr/>
          <p:nvPr/>
        </p:nvSpPr>
        <p:spPr>
          <a:xfrm>
            <a:off x="4691160" y="218124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+3=8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Text Box 71"/>
          <p:cNvSpPr/>
          <p:nvPr/>
        </p:nvSpPr>
        <p:spPr>
          <a:xfrm>
            <a:off x="380880" y="18288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红从原点出发，先向右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向右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共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右走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用算式表示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Text Box 72"/>
          <p:cNvSpPr/>
          <p:nvPr/>
        </p:nvSpPr>
        <p:spPr>
          <a:xfrm>
            <a:off x="380880" y="2666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军从原点出发，先向左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向左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共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左走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用算式表示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Text Box 73"/>
          <p:cNvSpPr/>
          <p:nvPr/>
        </p:nvSpPr>
        <p:spPr>
          <a:xfrm>
            <a:off x="380880" y="35053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华从原点出发，先向右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向左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点向右走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用算式表示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Text Box 74"/>
          <p:cNvSpPr/>
          <p:nvPr/>
        </p:nvSpPr>
        <p:spPr>
          <a:xfrm>
            <a:off x="380880" y="4282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小明从原点出发，先向左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再向右走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从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点向左走了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用算式表示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3" name="Text Box 75"/>
          <p:cNvSpPr/>
          <p:nvPr/>
        </p:nvSpPr>
        <p:spPr>
          <a:xfrm>
            <a:off x="1828800" y="2986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4" name="Text Box 76"/>
          <p:cNvSpPr/>
          <p:nvPr/>
        </p:nvSpPr>
        <p:spPr>
          <a:xfrm>
            <a:off x="2438280" y="38242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5" name="Text Box 77"/>
          <p:cNvSpPr/>
          <p:nvPr/>
        </p:nvSpPr>
        <p:spPr>
          <a:xfrm>
            <a:off x="5105520" y="385776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5+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3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6" name="Text Box 78"/>
          <p:cNvSpPr/>
          <p:nvPr/>
        </p:nvSpPr>
        <p:spPr>
          <a:xfrm>
            <a:off x="2523960" y="45864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7" name="Text Box 79"/>
          <p:cNvSpPr/>
          <p:nvPr/>
        </p:nvSpPr>
        <p:spPr>
          <a:xfrm>
            <a:off x="5257800" y="4648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5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+3=-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8" name="Text Box 80"/>
          <p:cNvSpPr/>
          <p:nvPr/>
        </p:nvSpPr>
        <p:spPr>
          <a:xfrm>
            <a:off x="6200640" y="5500800"/>
            <a:ext cx="119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90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9" name="Text Box 81"/>
          <p:cNvSpPr/>
          <p:nvPr/>
        </p:nvSpPr>
        <p:spPr>
          <a:xfrm>
            <a:off x="990720" y="5867280"/>
            <a:ext cx="12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80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0" name="Text Box 82"/>
          <p:cNvSpPr/>
          <p:nvPr/>
        </p:nvSpPr>
        <p:spPr>
          <a:xfrm>
            <a:off x="4343400" y="5867280"/>
            <a:ext cx="111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8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1" name="Rectangle 83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2" name="Rectangle 84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3" name="Rectangle 85">
            <a:hlinkClick r:id="rId1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4" name="Rectangle 86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5" name="Rectangle 87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6" name="Rectangle 88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7" name="Rectangle 89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8" name="Rectangle 90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99" name="Picture 91" descr="对应练习副本"/>
          <p:cNvPicPr/>
          <p:nvPr/>
        </p:nvPicPr>
        <p:blipFill>
          <a:blip r:embed="rId2"/>
          <a:stretch/>
        </p:blipFill>
        <p:spPr>
          <a:xfrm>
            <a:off x="422280" y="609480"/>
            <a:ext cx="2473200" cy="8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15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4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4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5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4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4"/>
          <p:cNvSpPr/>
          <p:nvPr/>
        </p:nvSpPr>
        <p:spPr>
          <a:xfrm>
            <a:off x="533520" y="1527120"/>
            <a:ext cx="8381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鱼缸里，金鱼位于水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过一会儿，金鱼向上游游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那么此时金鱼的位置是（ 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水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处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水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处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水面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处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游到了水面处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1" name="Rectangle 8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2" name="Rectangle 9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3" name="Rectangle 10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4" name="Rectangle 11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5" name="Text Box 34"/>
          <p:cNvSpPr/>
          <p:nvPr/>
        </p:nvSpPr>
        <p:spPr>
          <a:xfrm>
            <a:off x="5724360" y="1862280"/>
            <a:ext cx="685800" cy="48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B</a:t>
            </a:r>
            <a:endParaRPr b="1" lang="en-US" sz="2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6" name="Rectangle 65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7" name="Rectangle 66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8" name="Rectangle 67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09" name="Rectangle 68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610" name="Picture 69" descr="对应练习副本"/>
          <p:cNvPicPr/>
          <p:nvPr/>
        </p:nvPicPr>
        <p:blipFill>
          <a:blip r:embed="rId1"/>
          <a:stretch/>
        </p:blipFill>
        <p:spPr>
          <a:xfrm>
            <a:off x="422280" y="685800"/>
            <a:ext cx="2473200" cy="83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Picture 4" descr="课堂小结"/>
          <p:cNvPicPr/>
          <p:nvPr/>
        </p:nvPicPr>
        <p:blipFill>
          <a:blip r:embed="rId1"/>
          <a:stretch/>
        </p:blipFill>
        <p:spPr>
          <a:xfrm>
            <a:off x="685800" y="1117440"/>
            <a:ext cx="2286000" cy="635040"/>
          </a:xfrm>
          <a:prstGeom prst="rect">
            <a:avLst/>
          </a:prstGeom>
          <a:ln w="0">
            <a:noFill/>
          </a:ln>
        </p:spPr>
      </p:pic>
      <p:sp>
        <p:nvSpPr>
          <p:cNvPr id="612" name="Text Box 5"/>
          <p:cNvSpPr/>
          <p:nvPr/>
        </p:nvSpPr>
        <p:spPr>
          <a:xfrm>
            <a:off x="3163320" y="2590920"/>
            <a:ext cx="312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的加法法则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的加法法则的应用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3" name="AutoShape 6"/>
          <p:cNvSpPr/>
          <p:nvPr/>
        </p:nvSpPr>
        <p:spPr>
          <a:xfrm>
            <a:off x="2050920" y="2771640"/>
            <a:ext cx="290520" cy="990720"/>
          </a:xfrm>
          <a:custGeom>
            <a:avLst/>
            <a:gdLst>
              <a:gd name="textAreaLeft" fmla="*/ 185760 w 290520"/>
              <a:gd name="textAreaRight" fmla="*/ 290880 w 2905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4" name="Rectangle 8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5" name="Rectangle 9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7" name="Rectangle 11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8" name="Rectangle 12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19" name="Rectangle 13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0" name="Rectangle 14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21" name="Rectangle 15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7"/>
          <p:cNvGrpSpPr/>
          <p:nvPr/>
        </p:nvGrpSpPr>
        <p:grpSpPr>
          <a:xfrm>
            <a:off x="1184400" y="1676520"/>
            <a:ext cx="6664320" cy="1514520"/>
            <a:chOff x="1184400" y="1676520"/>
            <a:chExt cx="6664320" cy="1514520"/>
          </a:xfrm>
        </p:grpSpPr>
        <p:grpSp>
          <p:nvGrpSpPr>
            <p:cNvPr id="401" name="Group 3"/>
            <p:cNvGrpSpPr/>
            <p:nvPr/>
          </p:nvGrpSpPr>
          <p:grpSpPr>
            <a:xfrm>
              <a:off x="1184400" y="1676520"/>
              <a:ext cx="6653160" cy="1514520"/>
              <a:chOff x="1184400" y="1676520"/>
              <a:chExt cx="6653160" cy="1514520"/>
            </a:xfrm>
          </p:grpSpPr>
          <p:sp>
            <p:nvSpPr>
              <p:cNvPr id="402" name="AutoShape 4"/>
              <p:cNvSpPr/>
              <p:nvPr/>
            </p:nvSpPr>
            <p:spPr>
              <a:xfrm>
                <a:off x="1184400" y="2046600"/>
                <a:ext cx="6653160" cy="11444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5644e"/>
                  </a:gs>
                  <a:gs pos="100000">
                    <a:srgbClr val="734636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3" name="AutoShape 5"/>
              <p:cNvSpPr/>
              <p:nvPr/>
            </p:nvSpPr>
            <p:spPr>
              <a:xfrm flipV="1">
                <a:off x="1262160" y="1676160"/>
                <a:ext cx="6502680" cy="363600"/>
              </a:xfrm>
              <a:custGeom>
                <a:avLst/>
                <a:gdLst>
                  <a:gd name="textAreaLeft" fmla="*/ 1116000 w 6502680"/>
                  <a:gd name="textAreaRight" fmla="*/ 5386680 w 6502680"/>
                  <a:gd name="textAreaTop" fmla="*/ 61920 h 363600"/>
                  <a:gd name="textAreaBottom" fmla="*/ 30168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13" y="21600"/>
                    </a:lnTo>
                    <a:lnTo>
                      <a:pt x="1778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644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pic>
            <p:nvPicPr>
              <p:cNvPr id="404" name="Picture 6" descr="Picture4"/>
              <p:cNvPicPr/>
              <p:nvPr/>
            </p:nvPicPr>
            <p:blipFill>
              <a:blip r:embed="rId1"/>
              <a:stretch/>
            </p:blipFill>
            <p:spPr>
              <a:xfrm>
                <a:off x="1241640" y="2089440"/>
                <a:ext cx="67464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AutoShape 7"/>
              <p:cNvSpPr/>
              <p:nvPr/>
            </p:nvSpPr>
            <p:spPr>
              <a:xfrm>
                <a:off x="1671840" y="1819440"/>
                <a:ext cx="57913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effff"/>
              </a:solidFill>
              <a:ln w="28440">
                <a:solidFill>
                  <a:srgbClr val="a564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6" name="Rectangle 8"/>
              <p:cNvSpPr/>
              <p:nvPr/>
            </p:nvSpPr>
            <p:spPr>
              <a:xfrm>
                <a:off x="2052720" y="1819440"/>
                <a:ext cx="50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a5644e"/>
                    </a:solidFill>
                    <a:latin typeface="Arial"/>
                  </a:rPr>
                  <a:t>知识与技能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07" name="Text Box 9"/>
            <p:cNvSpPr/>
            <p:nvPr/>
          </p:nvSpPr>
          <p:spPr>
            <a:xfrm>
              <a:off x="1371600" y="2209680"/>
              <a:ext cx="64771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通过实例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了解有理数加法的意义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会根据有理数的加法法则进行有理数的加法运算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能运用有理数的加法解决实际问题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8" name="Group 10"/>
          <p:cNvGrpSpPr/>
          <p:nvPr/>
        </p:nvGrpSpPr>
        <p:grpSpPr>
          <a:xfrm>
            <a:off x="1187280" y="3266640"/>
            <a:ext cx="6742080" cy="1389240"/>
            <a:chOff x="1187280" y="3266640"/>
            <a:chExt cx="6742080" cy="1389240"/>
          </a:xfrm>
        </p:grpSpPr>
        <p:grpSp>
          <p:nvGrpSpPr>
            <p:cNvPr id="409" name="Group 11"/>
            <p:cNvGrpSpPr/>
            <p:nvPr/>
          </p:nvGrpSpPr>
          <p:grpSpPr>
            <a:xfrm>
              <a:off x="1187280" y="3266640"/>
              <a:ext cx="6653160" cy="1389240"/>
              <a:chOff x="1187280" y="3266640"/>
              <a:chExt cx="6653160" cy="1389240"/>
            </a:xfrm>
          </p:grpSpPr>
          <p:sp>
            <p:nvSpPr>
              <p:cNvPr id="410" name="AutoShape 12"/>
              <p:cNvSpPr/>
              <p:nvPr/>
            </p:nvSpPr>
            <p:spPr>
              <a:xfrm>
                <a:off x="1187280" y="3636720"/>
                <a:ext cx="6653160" cy="10191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c42f"/>
                  </a:gs>
                  <a:gs pos="100000">
                    <a:srgbClr val="b28921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1" name="AutoShape 13"/>
              <p:cNvSpPr/>
              <p:nvPr/>
            </p:nvSpPr>
            <p:spPr>
              <a:xfrm flipV="1">
                <a:off x="1358640" y="3265920"/>
                <a:ext cx="6397920" cy="361800"/>
              </a:xfrm>
              <a:custGeom>
                <a:avLst/>
                <a:gdLst>
                  <a:gd name="textAreaLeft" fmla="*/ 1098360 w 6397920"/>
                  <a:gd name="textAreaRight" fmla="*/ 5299560 w 6397920"/>
                  <a:gd name="textAreaTop" fmla="*/ 61920 h 361800"/>
                  <a:gd name="textAreaBottom" fmla="*/ 299880 h 36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13" y="21600"/>
                    </a:lnTo>
                    <a:lnTo>
                      <a:pt x="1778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42f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pic>
            <p:nvPicPr>
              <p:cNvPr id="412" name="Picture 14" descr="Picture4"/>
              <p:cNvPicPr/>
              <p:nvPr/>
            </p:nvPicPr>
            <p:blipFill>
              <a:blip r:embed="rId2"/>
              <a:stretch/>
            </p:blipFill>
            <p:spPr>
              <a:xfrm>
                <a:off x="1238040" y="3682800"/>
                <a:ext cx="67644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AutoShape 15"/>
              <p:cNvSpPr/>
              <p:nvPr/>
            </p:nvSpPr>
            <p:spPr>
              <a:xfrm>
                <a:off x="1671480" y="3429000"/>
                <a:ext cx="57913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effff"/>
              </a:solidFill>
              <a:ln w="28440">
                <a:solidFill>
                  <a:srgbClr val="ffc4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4" name="Rectangle 16"/>
              <p:cNvSpPr/>
              <p:nvPr/>
            </p:nvSpPr>
            <p:spPr>
              <a:xfrm>
                <a:off x="2052360" y="3438360"/>
                <a:ext cx="50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c42f"/>
                    </a:solidFill>
                    <a:latin typeface="Arial"/>
                  </a:rPr>
                  <a:t>过程与方法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17"/>
            <p:cNvSpPr/>
            <p:nvPr/>
          </p:nvSpPr>
          <p:spPr>
            <a:xfrm>
              <a:off x="1371600" y="3886200"/>
              <a:ext cx="65577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正确地进行有理数的加法运算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用数形结合的思想方法得出有理数的加法法则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16" name="Group 28"/>
          <p:cNvGrpSpPr/>
          <p:nvPr/>
        </p:nvGrpSpPr>
        <p:grpSpPr>
          <a:xfrm>
            <a:off x="1195560" y="4787640"/>
            <a:ext cx="6653160" cy="1396800"/>
            <a:chOff x="1195560" y="4787640"/>
            <a:chExt cx="6653160" cy="1396800"/>
          </a:xfrm>
        </p:grpSpPr>
        <p:grpSp>
          <p:nvGrpSpPr>
            <p:cNvPr id="417" name="Group 19"/>
            <p:cNvGrpSpPr/>
            <p:nvPr/>
          </p:nvGrpSpPr>
          <p:grpSpPr>
            <a:xfrm>
              <a:off x="1195560" y="4787640"/>
              <a:ext cx="6653160" cy="1396800"/>
              <a:chOff x="1195560" y="4787640"/>
              <a:chExt cx="6653160" cy="1396800"/>
            </a:xfrm>
          </p:grpSpPr>
          <p:sp>
            <p:nvSpPr>
              <p:cNvPr id="418" name="AutoShape 20"/>
              <p:cNvSpPr/>
              <p:nvPr/>
            </p:nvSpPr>
            <p:spPr>
              <a:xfrm>
                <a:off x="1195560" y="5153040"/>
                <a:ext cx="6653160" cy="10314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d1f1f"/>
                  </a:gs>
                  <a:gs pos="100000">
                    <a:srgbClr val="791616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9" name="AutoShape 21"/>
              <p:cNvSpPr/>
              <p:nvPr/>
            </p:nvSpPr>
            <p:spPr>
              <a:xfrm flipV="1">
                <a:off x="1314720" y="4786920"/>
                <a:ext cx="6475320" cy="363240"/>
              </a:xfrm>
              <a:custGeom>
                <a:avLst/>
                <a:gdLst>
                  <a:gd name="textAreaLeft" fmla="*/ 1111320 w 6475320"/>
                  <a:gd name="textAreaRight" fmla="*/ 5364000 w 6475320"/>
                  <a:gd name="textAreaTop" fmla="*/ 61920 h 363240"/>
                  <a:gd name="textAreaBottom" fmla="*/ 301320 h 363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13" y="21600"/>
                    </a:lnTo>
                    <a:lnTo>
                      <a:pt x="1778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1f1f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pic>
            <p:nvPicPr>
              <p:cNvPr id="420" name="Picture 22" descr="Picture4"/>
              <p:cNvPicPr/>
              <p:nvPr/>
            </p:nvPicPr>
            <p:blipFill>
              <a:blip r:embed="rId3"/>
              <a:stretch/>
            </p:blipFill>
            <p:spPr>
              <a:xfrm>
                <a:off x="1243080" y="5194080"/>
                <a:ext cx="675000" cy="5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AutoShape 23"/>
              <p:cNvSpPr/>
              <p:nvPr/>
            </p:nvSpPr>
            <p:spPr>
              <a:xfrm>
                <a:off x="1671840" y="4930560"/>
                <a:ext cx="579132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effff"/>
              </a:solidFill>
              <a:ln w="28440">
                <a:solidFill>
                  <a:srgbClr val="ad1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2" name="Rectangle 24"/>
              <p:cNvSpPr/>
              <p:nvPr/>
            </p:nvSpPr>
            <p:spPr>
              <a:xfrm>
                <a:off x="2052720" y="4941720"/>
                <a:ext cx="50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ad1f1f"/>
                    </a:solidFill>
                    <a:latin typeface="Arial"/>
                  </a:rPr>
                  <a:t>情感态度与价值观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23" name="Text Box 25"/>
            <p:cNvSpPr/>
            <p:nvPr/>
          </p:nvSpPr>
          <p:spPr>
            <a:xfrm>
              <a:off x="1371600" y="5410080"/>
              <a:ext cx="64771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通过师生互动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学生自我探究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让学生充分参与到学习过程中来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体验数学学习过程的乐趣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424" name="Picture 26" descr="教学目标1"/>
          <p:cNvPicPr/>
          <p:nvPr/>
        </p:nvPicPr>
        <p:blipFill>
          <a:blip r:embed="rId4"/>
          <a:stretch/>
        </p:blipFill>
        <p:spPr>
          <a:xfrm>
            <a:off x="1143000" y="990720"/>
            <a:ext cx="1905120" cy="63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1279440" y="2330280"/>
            <a:ext cx="733104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了解有理数加法的意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会根据有理数加法法则进行有理数的加法运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6" name="Picture 3" descr="教学重点"/>
          <p:cNvPicPr/>
          <p:nvPr/>
        </p:nvPicPr>
        <p:blipFill>
          <a:blip r:embed="rId1"/>
          <a:stretch/>
        </p:blipFill>
        <p:spPr>
          <a:xfrm>
            <a:off x="1219320" y="1574640"/>
            <a:ext cx="1904760" cy="635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教学难点"/>
          <p:cNvPicPr/>
          <p:nvPr/>
        </p:nvPicPr>
        <p:blipFill>
          <a:blip r:embed="rId2"/>
          <a:stretch/>
        </p:blipFill>
        <p:spPr>
          <a:xfrm>
            <a:off x="1219320" y="3556080"/>
            <a:ext cx="1904760" cy="63504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5"/>
          <p:cNvSpPr/>
          <p:nvPr/>
        </p:nvSpPr>
        <p:spPr>
          <a:xfrm>
            <a:off x="2664720" y="4540320"/>
            <a:ext cx="44190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加法中的异号两数如何进行加法运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12"/>
          <p:cNvPicPr/>
          <p:nvPr/>
        </p:nvPicPr>
        <p:blipFill>
          <a:blip r:embed="rId1"/>
          <a:stretch/>
        </p:blipFill>
        <p:spPr>
          <a:xfrm>
            <a:off x="4952880" y="1500120"/>
            <a:ext cx="3988080" cy="27669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5" descr="导入新课"/>
          <p:cNvPicPr/>
          <p:nvPr/>
        </p:nvPicPr>
        <p:blipFill>
          <a:blip r:embed="rId2"/>
          <a:stretch/>
        </p:blipFill>
        <p:spPr>
          <a:xfrm>
            <a:off x="581040" y="878040"/>
            <a:ext cx="3276720" cy="617400"/>
          </a:xfrm>
          <a:prstGeom prst="rect">
            <a:avLst/>
          </a:prstGeom>
          <a:ln w="0">
            <a:noFill/>
          </a:ln>
        </p:spPr>
      </p:pic>
      <p:sp>
        <p:nvSpPr>
          <p:cNvPr id="431" name="Text Box 6"/>
          <p:cNvSpPr/>
          <p:nvPr/>
        </p:nvSpPr>
        <p:spPr>
          <a:xfrm>
            <a:off x="228600" y="1589040"/>
            <a:ext cx="472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足球循环赛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通常把进球数记为正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失球数记为负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它们的和叫作净胜球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三个队参加的足球比赛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红队胜黄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4:1)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黄队胜蓝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1:0)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蓝队胜红队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(1:0)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如何确定三个队的净胜球数与排名顺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2" name="Text Box 7"/>
          <p:cNvSpPr/>
          <p:nvPr/>
        </p:nvSpPr>
        <p:spPr>
          <a:xfrm>
            <a:off x="533520" y="4724280"/>
            <a:ext cx="8359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请同学们自学教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P17-1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并完成自学导练，相信大家感悟快！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要点感知一"/>
          <p:cNvPicPr/>
          <p:nvPr/>
        </p:nvPicPr>
        <p:blipFill>
          <a:blip r:embed="rId1"/>
          <a:stretch/>
        </p:blipFill>
        <p:spPr>
          <a:xfrm>
            <a:off x="609480" y="914400"/>
            <a:ext cx="2286000" cy="635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要点感知二"/>
          <p:cNvPicPr/>
          <p:nvPr/>
        </p:nvPicPr>
        <p:blipFill>
          <a:blip r:embed="rId2"/>
          <a:stretch/>
        </p:blipFill>
        <p:spPr>
          <a:xfrm>
            <a:off x="609480" y="2616120"/>
            <a:ext cx="2286000" cy="6350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457200" y="31021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互为相反数的两数相加，和为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一个数与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相加，仍得这个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457200" y="144000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同号两加数相加，取相同的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符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并把绝对值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相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绝对值不相等的异号两数相加，取绝对值较大的加数的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符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并用较大的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绝对值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减去较小的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绝对值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7908840" y="450072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04920" y="457056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-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这三个数中，任意两数之和的最大值是（ 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.1                B.0               C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                D.-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Text Box 40"/>
          <p:cNvSpPr/>
          <p:nvPr/>
        </p:nvSpPr>
        <p:spPr>
          <a:xfrm>
            <a:off x="1234080" y="564372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Text Box 41"/>
          <p:cNvSpPr/>
          <p:nvPr/>
        </p:nvSpPr>
        <p:spPr>
          <a:xfrm>
            <a:off x="5823720" y="565632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+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Text Box 42"/>
          <p:cNvSpPr/>
          <p:nvPr/>
        </p:nvSpPr>
        <p:spPr>
          <a:xfrm>
            <a:off x="2986920" y="602460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2" name="Text Box 43"/>
          <p:cNvSpPr/>
          <p:nvPr/>
        </p:nvSpPr>
        <p:spPr>
          <a:xfrm>
            <a:off x="5856840" y="601200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+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443" name="Group 48"/>
          <p:cNvGrpSpPr/>
          <p:nvPr/>
        </p:nvGrpSpPr>
        <p:grpSpPr>
          <a:xfrm>
            <a:off x="380880" y="5306760"/>
            <a:ext cx="8763120" cy="1302120"/>
            <a:chOff x="380880" y="5306760"/>
            <a:chExt cx="8763120" cy="1302120"/>
          </a:xfrm>
        </p:grpSpPr>
        <mc:AlternateContent>
          <mc:Choice xmlns:a14="http://schemas.microsoft.com/office/drawing/2010/main" Requires="a14">
            <p:sp>
              <p:nvSpPr>
                <p:cNvPr id="444" name="Object 35"/>
                <p:cNvSpPr txBox="1"/>
                <p:nvPr/>
              </p:nvSpPr>
              <p:spPr>
                <a:xfrm>
                  <a:off x="6172200" y="5986800"/>
                  <a:ext cx="23508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7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45" name="Rectangle 39"/>
            <p:cNvSpPr/>
            <p:nvPr/>
          </p:nvSpPr>
          <p:spPr>
            <a:xfrm>
              <a:off x="380880" y="5306760"/>
              <a:ext cx="8763120" cy="125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方框内填入适当的符号使下列等式成立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□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+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1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；         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□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+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；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（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0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□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5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5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；（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）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□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+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（</a:t>
              </a:r>
              <a:r>
                <a:rPr b="1" lang="zh-CN" sz="2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□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）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=</a:t>
              </a: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.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6" name="Object 45"/>
                <p:cNvSpPr txBox="1"/>
                <p:nvPr/>
              </p:nvSpPr>
              <p:spPr>
                <a:xfrm>
                  <a:off x="7226280" y="5999400"/>
                  <a:ext cx="293760" cy="609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47" name="Text Box 47"/>
          <p:cNvSpPr/>
          <p:nvPr/>
        </p:nvSpPr>
        <p:spPr>
          <a:xfrm>
            <a:off x="6912720" y="602604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48" name="Picture 49" descr="练习"/>
          <p:cNvPicPr/>
          <p:nvPr/>
        </p:nvPicPr>
        <p:blipFill>
          <a:blip r:embed="rId3"/>
          <a:stretch/>
        </p:blipFill>
        <p:spPr>
          <a:xfrm>
            <a:off x="596880" y="4038480"/>
            <a:ext cx="1231920" cy="507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Picture 2" descr="典例剖析"/>
          <p:cNvPicPr/>
          <p:nvPr/>
        </p:nvPicPr>
        <p:blipFill>
          <a:blip r:embed="rId1"/>
          <a:stretch/>
        </p:blipFill>
        <p:spPr>
          <a:xfrm>
            <a:off x="1219320" y="838080"/>
            <a:ext cx="1904760" cy="63504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知识点一"/>
          <p:cNvPicPr/>
          <p:nvPr/>
        </p:nvPicPr>
        <p:blipFill>
          <a:blip r:embed="rId2"/>
          <a:stretch/>
        </p:blipFill>
        <p:spPr>
          <a:xfrm>
            <a:off x="914400" y="1419120"/>
            <a:ext cx="1905120" cy="6350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4"/>
          <p:cNvSpPr/>
          <p:nvPr/>
        </p:nvSpPr>
        <p:spPr>
          <a:xfrm>
            <a:off x="3278160" y="1495440"/>
            <a:ext cx="200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有理数加法法则及运算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219320" y="2085840"/>
            <a:ext cx="914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例题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1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3" name="Text Box 6"/>
          <p:cNvSpPr/>
          <p:nvPr/>
        </p:nvSpPr>
        <p:spPr>
          <a:xfrm>
            <a:off x="2292840" y="205740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4" name="Text Box 15"/>
          <p:cNvSpPr/>
          <p:nvPr/>
        </p:nvSpPr>
        <p:spPr>
          <a:xfrm>
            <a:off x="768600" y="304812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析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5" name="Text Box 36"/>
          <p:cNvSpPr/>
          <p:nvPr/>
        </p:nvSpPr>
        <p:spPr>
          <a:xfrm>
            <a:off x="476280" y="4888080"/>
            <a:ext cx="843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进行有理数的加法运算要遵循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定二求三和差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步骤，即第一步先确定和的符号，第二步再求加数的绝对值，第三步要分析确定是绝对值相加还是相减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6" name="Text Box 40"/>
          <p:cNvSpPr/>
          <p:nvPr/>
        </p:nvSpPr>
        <p:spPr>
          <a:xfrm>
            <a:off x="656280" y="4876920"/>
            <a:ext cx="704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点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8"/>
              <p:cNvSpPr txBox="1"/>
              <p:nvPr/>
            </p:nvSpPr>
            <p:spPr>
              <a:xfrm>
                <a:off x="2971800" y="2057400"/>
                <a:ext cx="208908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8" name="Object 106"/>
              <p:cNvSpPr txBox="1"/>
              <p:nvPr/>
            </p:nvSpPr>
            <p:spPr>
              <a:xfrm>
                <a:off x="5181480" y="1905120"/>
                <a:ext cx="1658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107"/>
              <p:cNvSpPr txBox="1"/>
              <p:nvPr/>
            </p:nvSpPr>
            <p:spPr>
              <a:xfrm>
                <a:off x="6934320" y="1905120"/>
                <a:ext cx="14014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0" name="Object 108"/>
              <p:cNvSpPr txBox="1"/>
              <p:nvPr/>
            </p:nvSpPr>
            <p:spPr>
              <a:xfrm>
                <a:off x="2944800" y="2438280"/>
                <a:ext cx="19177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1" name="Text Box 91"/>
          <p:cNvSpPr/>
          <p:nvPr/>
        </p:nvSpPr>
        <p:spPr>
          <a:xfrm>
            <a:off x="1328760" y="307008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(1)(+1.15)+(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.13)=+(1.15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.13)=0.0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2" name="Object 129"/>
              <p:cNvSpPr txBox="1"/>
              <p:nvPr/>
            </p:nvSpPr>
            <p:spPr>
              <a:xfrm>
                <a:off x="5181480" y="4038480"/>
                <a:ext cx="39229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Object 130"/>
              <p:cNvSpPr txBox="1"/>
              <p:nvPr/>
            </p:nvSpPr>
            <p:spPr>
              <a:xfrm>
                <a:off x="1468440" y="3457440"/>
                <a:ext cx="33177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33"/>
              <p:cNvSpPr txBox="1"/>
              <p:nvPr/>
            </p:nvSpPr>
            <p:spPr>
              <a:xfrm>
                <a:off x="5180040" y="3457440"/>
                <a:ext cx="327816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(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34"/>
              <p:cNvSpPr txBox="1"/>
              <p:nvPr/>
            </p:nvSpPr>
            <p:spPr>
              <a:xfrm>
                <a:off x="1469880" y="4038480"/>
                <a:ext cx="2306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Object 135"/>
              <p:cNvSpPr txBox="1"/>
              <p:nvPr/>
            </p:nvSpPr>
            <p:spPr>
              <a:xfrm>
                <a:off x="5181480" y="2438280"/>
                <a:ext cx="18748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8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t xml:space="preserve">3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7" name="Rectangle 136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8" name="Rectangle 137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9" name="Rectangle 138">
            <a:hlinkClick r:id="rId3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Rectangle 139">
            <a:hlinkClick r:id="rId4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Rectangle 140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Rectangle 141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3" name="Rectangle 142">
            <a:hlinkClick r:id="rId5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4" name="Rectangle 143">
            <a:hlinkClick r:id="rId6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5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Group 147"/>
          <p:cNvGrpSpPr/>
          <p:nvPr/>
        </p:nvGrpSpPr>
        <p:grpSpPr>
          <a:xfrm>
            <a:off x="533520" y="3703680"/>
            <a:ext cx="8610480" cy="1891440"/>
            <a:chOff x="533520" y="3703680"/>
            <a:chExt cx="8610480" cy="1891440"/>
          </a:xfrm>
        </p:grpSpPr>
        <p:sp>
          <p:nvSpPr>
            <p:cNvPr id="476" name="Text Box 4"/>
            <p:cNvSpPr/>
            <p:nvPr/>
          </p:nvSpPr>
          <p:spPr>
            <a:xfrm>
              <a:off x="533520" y="3703680"/>
              <a:ext cx="8610480" cy="18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.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有理数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、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b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在数轴上的位置如图所示，则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+b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一定是（    ）</a:t>
              </a: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8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A.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正数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B.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负数           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C.0              D.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不能正确</a:t>
              </a: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</p:txBody>
        </p:sp>
        <p:pic>
          <p:nvPicPr>
            <p:cNvPr id="477" name="Picture 146" descr="-1"/>
            <p:cNvPicPr/>
            <p:nvPr/>
          </p:nvPicPr>
          <p:blipFill>
            <a:blip r:embed="rId1"/>
            <a:stretch/>
          </p:blipFill>
          <p:spPr>
            <a:xfrm>
              <a:off x="3124080" y="4243320"/>
              <a:ext cx="2438640" cy="433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8" name="Text Box 13"/>
          <p:cNvSpPr/>
          <p:nvPr/>
        </p:nvSpPr>
        <p:spPr>
          <a:xfrm>
            <a:off x="6629400" y="1328760"/>
            <a:ext cx="714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D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9" name="Text Box 2"/>
          <p:cNvSpPr/>
          <p:nvPr/>
        </p:nvSpPr>
        <p:spPr>
          <a:xfrm>
            <a:off x="533520" y="1447920"/>
            <a:ext cx="8381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对于计算（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5)+0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结果，叙述正确的是（    ）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其结果应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5+0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结果相同，即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其结果应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结果相同，即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所求和一定大于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且大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5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取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负号，并用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绝对值减去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绝对值减去 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0.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绝对值，即为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0" name="Text Box 68"/>
          <p:cNvSpPr/>
          <p:nvPr/>
        </p:nvSpPr>
        <p:spPr>
          <a:xfrm>
            <a:off x="7543800" y="3672000"/>
            <a:ext cx="533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1" name="Text Box 122"/>
          <p:cNvSpPr/>
          <p:nvPr/>
        </p:nvSpPr>
        <p:spPr>
          <a:xfrm>
            <a:off x="533520" y="555768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比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大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数是 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，比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大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数是 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Text Box 123"/>
          <p:cNvSpPr/>
          <p:nvPr/>
        </p:nvSpPr>
        <p:spPr>
          <a:xfrm>
            <a:off x="2819520" y="5410080"/>
            <a:ext cx="795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Text Box 124"/>
          <p:cNvSpPr/>
          <p:nvPr/>
        </p:nvSpPr>
        <p:spPr>
          <a:xfrm>
            <a:off x="5581800" y="5424480"/>
            <a:ext cx="10666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1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Rectangle 138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Rectangle 139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Rectangle 140">
            <a:hlinkClick r:id="rId2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Rectangle 141">
            <a:hlinkClick r:id="rId3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Rectangle 142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Rectangle 143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0" name="Rectangle 144">
            <a:hlinkClick r:id="rId4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1" name="Rectangle 145">
            <a:hlinkClick r:id="rId5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92" name="Picture 148" descr="对应练习副本"/>
          <p:cNvPicPr/>
          <p:nvPr/>
        </p:nvPicPr>
        <p:blipFill>
          <a:blip r:embed="rId6"/>
          <a:stretch/>
        </p:blipFill>
        <p:spPr>
          <a:xfrm>
            <a:off x="422280" y="685800"/>
            <a:ext cx="2473200" cy="83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6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7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9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1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3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3" name="Group 64"/>
          <p:cNvGrpSpPr/>
          <p:nvPr/>
        </p:nvGrpSpPr>
        <p:grpSpPr>
          <a:xfrm>
            <a:off x="380880" y="1447920"/>
            <a:ext cx="8610840" cy="2729880"/>
            <a:chOff x="380880" y="1447920"/>
            <a:chExt cx="8610840" cy="2729880"/>
          </a:xfrm>
        </p:grpSpPr>
        <mc:AlternateContent>
          <mc:Choice xmlns:a14="http://schemas.microsoft.com/office/drawing/2010/main" Requires="a14">
            <p:sp>
              <p:nvSpPr>
                <p:cNvPr id="494" name="Object 19"/>
                <p:cNvSpPr txBox="1"/>
                <p:nvPr/>
              </p:nvSpPr>
              <p:spPr>
                <a:xfrm>
                  <a:off x="6234120" y="1447920"/>
                  <a:ext cx="25704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grpSp>
          <p:nvGrpSpPr>
            <p:cNvPr id="495" name="Group 58"/>
            <p:cNvGrpSpPr/>
            <p:nvPr/>
          </p:nvGrpSpPr>
          <p:grpSpPr>
            <a:xfrm>
              <a:off x="380880" y="1477800"/>
              <a:ext cx="8610840" cy="2700000"/>
              <a:chOff x="380880" y="1477800"/>
              <a:chExt cx="8610840" cy="2700000"/>
            </a:xfrm>
          </p:grpSpPr>
          <p:sp>
            <p:nvSpPr>
              <p:cNvPr id="496" name="Text Box 18"/>
              <p:cNvSpPr/>
              <p:nvPr/>
            </p:nvSpPr>
            <p:spPr>
              <a:xfrm>
                <a:off x="380880" y="1616040"/>
                <a:ext cx="8610840" cy="25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. 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计算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: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）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(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－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)+(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－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12)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；                   （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2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）    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+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－    ）；</a:t>
                </a:r>
                <a:endParaRPr b="1" lang="en-US" sz="22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2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800" spc="-1" strike="noStrike">
                  <a:solidFill>
                    <a:srgbClr val="008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（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3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）（－   ）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+0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；                                （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4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）（－  ）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+0.75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Arial"/>
                    <a:ea typeface="楷体_GB2312"/>
                  </a:rPr>
                  <a:t>；</a:t>
                </a:r>
                <a:endParaRPr b="1" lang="en-US" sz="22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7" name="Object 17"/>
                  <p:cNvSpPr txBox="1"/>
                  <p:nvPr/>
                </p:nvSpPr>
                <p:spPr>
                  <a:xfrm>
                    <a:off x="6605640" y="2903400"/>
                    <a:ext cx="280800" cy="730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8" name="Object 20"/>
                  <p:cNvSpPr txBox="1"/>
                  <p:nvPr/>
                </p:nvSpPr>
                <p:spPr>
                  <a:xfrm>
                    <a:off x="7267680" y="1477800"/>
                    <a:ext cx="279360" cy="7304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499" name="Object 21"/>
                  <p:cNvSpPr txBox="1"/>
                  <p:nvPr/>
                </p:nvSpPr>
                <p:spPr>
                  <a:xfrm>
                    <a:off x="1752480" y="2932200"/>
                    <a:ext cx="255600" cy="730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mc:AlternateContent>
        <mc:Choice xmlns:a14="http://schemas.microsoft.com/office/drawing/2010/main" Requires="a14">
          <p:sp>
            <p:nvSpPr>
              <p:cNvPr id="500" name="Object 22"/>
              <p:cNvSpPr txBox="1"/>
              <p:nvPr/>
            </p:nvSpPr>
            <p:spPr>
              <a:xfrm>
                <a:off x="561960" y="4419720"/>
                <a:ext cx="2057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Object 23"/>
              <p:cNvSpPr txBox="1"/>
              <p:nvPr/>
            </p:nvSpPr>
            <p:spPr>
              <a:xfrm>
                <a:off x="5478480" y="4448160"/>
                <a:ext cx="224640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2" name="Text Box 24"/>
          <p:cNvSpPr/>
          <p:nvPr/>
        </p:nvSpPr>
        <p:spPr>
          <a:xfrm>
            <a:off x="1219320" y="2073240"/>
            <a:ext cx="21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解：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-15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3" name="Rectangle 27"/>
          <p:cNvSpPr/>
          <p:nvPr/>
        </p:nvSpPr>
        <p:spPr>
          <a:xfrm>
            <a:off x="2424240" y="648324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4" name="Rectangle 28"/>
          <p:cNvSpPr/>
          <p:nvPr/>
        </p:nvSpPr>
        <p:spPr>
          <a:xfrm>
            <a:off x="3567240" y="65214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Rectangle 29">
            <a:hlinkClick r:id="rId1" action="ppaction://hlinksldjump"/>
          </p:cNvPr>
          <p:cNvSpPr/>
          <p:nvPr/>
        </p:nvSpPr>
        <p:spPr>
          <a:xfrm>
            <a:off x="2424240" y="648324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Rectangle 30">
            <a:hlinkClick r:id="rId2" action="ppaction://hlinksldjump"/>
          </p:cNvPr>
          <p:cNvSpPr/>
          <p:nvPr/>
        </p:nvSpPr>
        <p:spPr>
          <a:xfrm>
            <a:off x="3567240" y="65214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Rectangle 31"/>
          <p:cNvSpPr/>
          <p:nvPr/>
        </p:nvSpPr>
        <p:spPr>
          <a:xfrm>
            <a:off x="4572000" y="649764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8" name="Rectangle 32"/>
          <p:cNvSpPr/>
          <p:nvPr/>
        </p:nvSpPr>
        <p:spPr>
          <a:xfrm>
            <a:off x="5715000" y="653580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9" name="Rectangle 33">
            <a:hlinkClick r:id="rId3" action="ppaction://hlinksldjump"/>
          </p:cNvPr>
          <p:cNvSpPr/>
          <p:nvPr/>
        </p:nvSpPr>
        <p:spPr>
          <a:xfrm>
            <a:off x="4572000" y="649764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Rectangle 34">
            <a:hlinkClick r:id="rId4" action="ppaction://hlinksldjump"/>
          </p:cNvPr>
          <p:cNvSpPr/>
          <p:nvPr/>
        </p:nvSpPr>
        <p:spPr>
          <a:xfrm>
            <a:off x="5715000" y="653580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Rectangle 35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Rectangle 36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Rectangle 37">
            <a:hlinkClick r:id="rId5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Rectangle 40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5" name="Rectangle 41">
            <a:hlinkClick r:id="rId6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Rectangle 42">
            <a:hlinkClick r:id="rId7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Rectangle 39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8" name="Rectangle 38">
            <a:hlinkClick r:id="rId8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19" name="Group 62"/>
          <p:cNvGrpSpPr/>
          <p:nvPr/>
        </p:nvGrpSpPr>
        <p:grpSpPr>
          <a:xfrm>
            <a:off x="631800" y="5105520"/>
            <a:ext cx="2478240" cy="464400"/>
            <a:chOff x="631800" y="5105520"/>
            <a:chExt cx="2478240" cy="464400"/>
          </a:xfrm>
        </p:grpSpPr>
        <p:sp>
          <p:nvSpPr>
            <p:cNvPr id="520" name="Text Box 26"/>
            <p:cNvSpPr/>
            <p:nvPr/>
          </p:nvSpPr>
          <p:spPr>
            <a:xfrm>
              <a:off x="1204920" y="5110200"/>
              <a:ext cx="19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原式</a:t>
              </a:r>
              <a:r>
                <a:rPr b="1" lang="en-US" sz="24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=-3.9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1" name="Rectangle 52"/>
            <p:cNvSpPr/>
            <p:nvPr/>
          </p:nvSpPr>
          <p:spPr>
            <a:xfrm>
              <a:off x="631800" y="5105520"/>
              <a:ext cx="663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解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2" name="Group 60"/>
          <p:cNvGrpSpPr/>
          <p:nvPr/>
        </p:nvGrpSpPr>
        <p:grpSpPr>
          <a:xfrm>
            <a:off x="900000" y="3581280"/>
            <a:ext cx="1817640" cy="730440"/>
            <a:chOff x="900000" y="3581280"/>
            <a:chExt cx="1817640" cy="730440"/>
          </a:xfrm>
        </p:grpSpPr>
        <mc:AlternateContent>
          <mc:Choice xmlns:a14="http://schemas.microsoft.com/office/drawing/2010/main" Requires="a14">
            <p:sp>
              <p:nvSpPr>
                <p:cNvPr id="523" name="Object 25"/>
                <p:cNvSpPr txBox="1"/>
                <p:nvPr/>
              </p:nvSpPr>
              <p:spPr>
                <a:xfrm>
                  <a:off x="1447920" y="3581280"/>
                  <a:ext cx="1269720" cy="730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原式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24" name="Rectangle 53"/>
            <p:cNvSpPr/>
            <p:nvPr/>
          </p:nvSpPr>
          <p:spPr>
            <a:xfrm>
              <a:off x="900000" y="367200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解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5" name="Group 61"/>
          <p:cNvGrpSpPr/>
          <p:nvPr/>
        </p:nvGrpSpPr>
        <p:grpSpPr>
          <a:xfrm>
            <a:off x="5627520" y="3651120"/>
            <a:ext cx="1916280" cy="466200"/>
            <a:chOff x="5627520" y="3651120"/>
            <a:chExt cx="1916280" cy="466200"/>
          </a:xfrm>
        </p:grpSpPr>
        <p:sp>
          <p:nvSpPr>
            <p:cNvPr id="526" name="Rectangle 50"/>
            <p:cNvSpPr/>
            <p:nvPr/>
          </p:nvSpPr>
          <p:spPr>
            <a:xfrm>
              <a:off x="5627520" y="365760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解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7" name="Text Box 54"/>
            <p:cNvSpPr/>
            <p:nvPr/>
          </p:nvSpPr>
          <p:spPr>
            <a:xfrm>
              <a:off x="6095880" y="36511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原式</a:t>
              </a:r>
              <a:r>
                <a:rPr b="1" lang="en-US" sz="2400" spc="-1" strike="noStrike">
                  <a:solidFill>
                    <a:srgbClr val="ff9900"/>
                  </a:solidFill>
                  <a:latin typeface="楷体_GB2312"/>
                  <a:ea typeface="楷体_GB2312"/>
                </a:rPr>
                <a:t>=0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528" name="Group 59"/>
          <p:cNvGrpSpPr/>
          <p:nvPr/>
        </p:nvGrpSpPr>
        <p:grpSpPr>
          <a:xfrm>
            <a:off x="5627520" y="2133720"/>
            <a:ext cx="1766880" cy="606240"/>
            <a:chOff x="5627520" y="2133720"/>
            <a:chExt cx="1766880" cy="606240"/>
          </a:xfrm>
        </p:grpSpPr>
        <p:sp>
          <p:nvSpPr>
            <p:cNvPr id="529" name="Rectangle 49"/>
            <p:cNvSpPr/>
            <p:nvPr/>
          </p:nvSpPr>
          <p:spPr>
            <a:xfrm>
              <a:off x="5627520" y="216360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解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Object 55"/>
                <p:cNvSpPr txBox="1"/>
                <p:nvPr/>
              </p:nvSpPr>
              <p:spPr>
                <a:xfrm>
                  <a:off x="6219720" y="2133720"/>
                  <a:ext cx="1174680" cy="60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原式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531" name="Group 63"/>
          <p:cNvGrpSpPr/>
          <p:nvPr/>
        </p:nvGrpSpPr>
        <p:grpSpPr>
          <a:xfrm>
            <a:off x="5627520" y="5105520"/>
            <a:ext cx="1914840" cy="730080"/>
            <a:chOff x="5627520" y="5105520"/>
            <a:chExt cx="1914840" cy="730080"/>
          </a:xfrm>
        </p:grpSpPr>
        <p:sp>
          <p:nvSpPr>
            <p:cNvPr id="532" name="Rectangle 51"/>
            <p:cNvSpPr/>
            <p:nvPr/>
          </p:nvSpPr>
          <p:spPr>
            <a:xfrm>
              <a:off x="5627520" y="5216400"/>
              <a:ext cx="6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解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3" name="Object 56"/>
                <p:cNvSpPr txBox="1"/>
                <p:nvPr/>
              </p:nvSpPr>
              <p:spPr>
                <a:xfrm>
                  <a:off x="6157800" y="5105520"/>
                  <a:ext cx="1384560" cy="730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原式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3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4" name="Picture 65" descr="对应练习副本"/>
          <p:cNvPicPr/>
          <p:nvPr/>
        </p:nvPicPr>
        <p:blipFill>
          <a:blip r:embed="rId9"/>
          <a:stretch/>
        </p:blipFill>
        <p:spPr>
          <a:xfrm>
            <a:off x="422280" y="762120"/>
            <a:ext cx="2473200" cy="83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Text Box 2"/>
          <p:cNvSpPr/>
          <p:nvPr/>
        </p:nvSpPr>
        <p:spPr>
          <a:xfrm>
            <a:off x="3278160" y="1495440"/>
            <a:ext cx="20095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有理数加法的简单应用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6" name="Picture 3" descr="知识点二"/>
          <p:cNvPicPr/>
          <p:nvPr/>
        </p:nvPicPr>
        <p:blipFill>
          <a:blip r:embed="rId1"/>
          <a:stretch/>
        </p:blipFill>
        <p:spPr>
          <a:xfrm>
            <a:off x="914400" y="1447920"/>
            <a:ext cx="1905120" cy="63504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4"/>
          <p:cNvSpPr/>
          <p:nvPr/>
        </p:nvSpPr>
        <p:spPr>
          <a:xfrm>
            <a:off x="1219320" y="2085840"/>
            <a:ext cx="914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例题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2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8" name="Picture 7" descr="典例剖析"/>
          <p:cNvPicPr/>
          <p:nvPr/>
        </p:nvPicPr>
        <p:blipFill>
          <a:blip r:embed="rId2"/>
          <a:stretch/>
        </p:blipFill>
        <p:spPr>
          <a:xfrm>
            <a:off x="1219320" y="838080"/>
            <a:ext cx="1904760" cy="63504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8"/>
          <p:cNvSpPr/>
          <p:nvPr/>
        </p:nvSpPr>
        <p:spPr>
          <a:xfrm>
            <a:off x="228600" y="4616280"/>
            <a:ext cx="1155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析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609480" y="2092320"/>
            <a:ext cx="8610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一病人每天下午都需要测量血压，该病人上个星期日的收缩压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6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单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下表是该病人星期一至星期五收缩压的变化情况：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1" name="Text Box 57"/>
          <p:cNvSpPr/>
          <p:nvPr/>
        </p:nvSpPr>
        <p:spPr>
          <a:xfrm>
            <a:off x="976320" y="4645080"/>
            <a:ext cx="82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与上周日比较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: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星期一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:+3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;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星期二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:+30+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+1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：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星期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:+10+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+17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+27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；星期四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:+27+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+18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+45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；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星期五：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+45+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+25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单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. 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2" name="Text Box 71"/>
          <p:cNvSpPr/>
          <p:nvPr/>
        </p:nvSpPr>
        <p:spPr>
          <a:xfrm>
            <a:off x="976320" y="566892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因此可得：星期四血压最高，星期二血压最低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43" name=""/>
          <p:cNvGraphicFramePr/>
          <p:nvPr/>
        </p:nvGraphicFramePr>
        <p:xfrm>
          <a:off x="1371600" y="2895480"/>
          <a:ext cx="6683400" cy="963720"/>
        </p:xfrm>
        <a:graphic>
          <a:graphicData uri="http://schemas.openxmlformats.org/drawingml/2006/table">
            <a:tbl>
              <a:tblPr/>
              <a:tblGrid>
                <a:gridCol w="1546200"/>
                <a:gridCol w="1073160"/>
                <a:gridCol w="1015920"/>
                <a:gridCol w="1015920"/>
                <a:gridCol w="1016280"/>
                <a:gridCol w="1015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星期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一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二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三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四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五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收缩压的变化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(</a:t>
                      </a: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与前一天的比较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)</a:t>
                      </a:r>
                      <a:endParaRPr b="1" lang="en-US" sz="14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3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17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+18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-2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单位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4" name="Text Box 126"/>
          <p:cNvSpPr/>
          <p:nvPr/>
        </p:nvSpPr>
        <p:spPr>
          <a:xfrm>
            <a:off x="762120" y="41911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周哪一天血压最高，哪一天血压最低？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5" name="Text Box 127"/>
          <p:cNvSpPr/>
          <p:nvPr/>
        </p:nvSpPr>
        <p:spPr>
          <a:xfrm>
            <a:off x="1066680" y="3809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注：正号表示血压比前一天升，负号表示比前一天降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)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6" name="Rectangle 128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7" name="Rectangle 129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8" name="Rectangle 130">
            <a:hlinkClick r:id="rId3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49" name="Rectangle 131">
            <a:hlinkClick r:id="rId4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0" name="Rectangle 132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1" name="Rectangle 133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2" name="Rectangle 134">
            <a:hlinkClick r:id="rId5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3" name="Rectangle 135">
            <a:hlinkClick r:id="rId6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07-19T06:50:07Z</dcterms:modified>
  <cp:revision>9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