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3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B2EC-EAF1-485E-B607-7B8A7D96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CBF7-9081-4E47-8885-9BD4FF01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1012A-D63F-463B-95C2-8A3E2437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C57E2-332A-4FF0-95FE-1073A99A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8222EA-D216-4F8D-B632-9192229B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F4778E-2E34-4914-B50F-00CE10C1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AE0E94-EC96-4781-A20C-A58AFD00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9D9F97-956B-41BB-83A6-3FAA59E5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A05C19-F054-4A37-B305-BE50CD85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44ED3E-335F-4301-95EE-EF95FE3B3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4E745-F7FC-4F50-BF99-1DE84F56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4A5E-EC1C-4A58-97CA-6994A0C5C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7953-C1E0-4513-9A02-5DE15A03F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76FD8-7309-4673-9212-A304F1A3C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2ABC-06DF-4BA1-8D9E-D0A3D0729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0053-4E46-4E48-A28A-297D8E39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19650-26DF-4A51-8916-AED41FD7F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8A59-03F9-4A87-B8B1-F6156553B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39A3-3242-4D02-B825-1CF59185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D0E6F-D9B9-41F9-A43D-303C99C59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3E3-D3D1-4328-BCDB-A45DA8A89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C38B-095E-4075-8C89-15B10BF7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58986-F824-4138-B4F5-ED668A256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60B0-2306-4C0A-B086-662525F2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538E-B8EC-4CB5-96D8-81AC7984E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721E-8F28-4794-8140-C1E47F18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11294-02F3-4E3C-8718-6DFB0087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AE359-010F-43C9-B9AD-2A6B7835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1FD82E-F875-4DF3-9558-08D1AFD01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4EB36-5CDB-4ABB-94C7-23A7A478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970DF-3548-4134-863C-17DA3DE0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CA63-3515-46AA-A51B-37AFE199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2978C-D20F-4F7B-80EC-5E501DCA5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9105B-5DF6-4B80-AEF0-6828F37F7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14573-0E4A-4165-9CDF-FA8669D7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6E0E7-E8ED-420D-BCE9-E057AB40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D83DD0-2CC0-4F7D-BD7B-99E2F319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84690-FB41-47F7-9135-F9B083F80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F5022-1226-4C2E-9921-62F0A330C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F36779-6CCA-437A-B426-DED0D2C56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575B7-9C5D-452C-8D88-515E8DEC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78C9C-FEA5-4772-A7FC-C783C357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EF7D-F286-4ADC-B14C-D78FC082E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603F74-9AF6-47E0-B6E6-60BD812FD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572C6-C104-4F26-AF06-11CDEE76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E11B9-5B09-4B28-9D60-A288C22B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7DE2A-17DD-464F-9D31-6BA2E0EF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0F668-9960-48CF-90AD-BF408B5C8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EA96B-980E-43DC-834A-257F877C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4F520-C4DE-4996-88BD-B123390C7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09071-19BD-40F5-AD30-8AC5C6D44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EA5929-3DBB-4478-A546-7417DAB7D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C9A20C-3391-407B-9293-39D9BD49F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8F8-550D-4565-8C2E-A99F1870A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0A239-4FE5-4BA5-9BD3-DD99E33BF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F5BCA-D78C-4551-B58E-EF96655C6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5C6E5-FA8C-4CA5-86F7-2F703236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D27EC6-775B-4B34-893F-DA8E43156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14980-D7C7-4ADF-AE15-74E079EE8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3A0BC4-7BD8-4AD6-816A-CBC0B52A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4D469-D0A9-42E6-ADEF-B7A5BE37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69A98-5D44-4395-AD55-A54C629D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CA3F-584F-42D8-B4DB-1C7046256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7E0B1-395F-4C93-9B8E-EA25F4758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B87-1BE3-4FAA-95F6-3AA75DFB4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69580-9115-48DB-98A1-E7BE6B86C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E46C7-C4F3-4722-A24A-786FB7E0D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467586-905B-4F59-8BA8-068D4C9A2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DA063-A1F8-4845-8DB2-F59980294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6F6D9-D110-44C1-B192-76DF94C2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864A1-A7FD-422A-A93C-1AA8C3FD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B4518-AF5C-4CAE-97AB-30F052B59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567720-2637-40CE-86B7-74A3D34C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65A95-D3EE-4A1B-A83B-AD3D7C80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CE242-F132-46F9-9F0E-91EDABF5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08A-F330-4F58-8D6D-D65F7727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D95DC5-026A-4F99-9CB8-D8A02BB41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AFA46-9AE3-4A42-9FC5-926A95C98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1D03E-25E5-40AD-B39B-9E4C19F4E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68D1D-9CF6-4E3B-A0E0-F56301F72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42E61B-FCF3-44EA-A22F-8187B95F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E4E24-14E5-4F29-9C0F-0E9238B3C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074E05-00B7-43B0-B1A4-4119E8D3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C3D8B9-CBC4-471A-B2D9-B88E92D0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A2E736-5C0F-487E-A448-4ACBEE746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23D08-7ABD-42F2-A95C-D3FD25C9D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29D-569D-44B2-BFD5-5EB47D3B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BA3BB-BA2B-4EC5-9CF1-B93DC75C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803E1C-FFD0-4657-B3C6-687F705F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6148DC-3B10-478D-9F2C-928347BF3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6B05C6-07BE-4DC5-9E81-5749D29F5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C03E7-A434-4DBC-A6B5-528EB7D7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4AE407-CDB9-49F4-9658-1B88D235D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820E3-BCCB-4A38-93FF-9F81A8D3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7D70B4-35E9-427A-9B94-509F2DA4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9E3C7-BAC2-4706-A8D1-2F3D672F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3EB11F-B987-4C99-84ED-0613205E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9AB7-723E-46D0-8758-96E2676B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A804A9-9651-4C20-AA2D-335C9CE6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440B92-D136-44A3-B745-5E225E7E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CDA745-CCCF-42B0-8B5E-ED4DF218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8A025-0226-4D6F-9703-1A7300F8C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0220B-E5CF-40DC-A513-27FCA9A6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742C00-731B-40EF-B2D0-ADD877C75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72AF4-5028-4129-8CF4-59A0DF78C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86868-218F-4415-9503-AC7A5DFCA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7DB50D-DE07-4A49-8CEB-62F527E02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11A3C-FA66-4352-A294-F118D7B8D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B846-EFCA-4E9E-A6F2-5A662D0B388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1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直接连接符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01B9-E66E-4FC7-AA07-CAE8D7B7463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直接连接符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直接连接符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97" name="直接连接符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直接连接符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00" name="直接连接符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直接连接符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B675-BE34-4CF7-9761-5355229180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直接连接符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7FF6-8DA2-44AC-B1F2-817A5BCE557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直接连接符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40BC-8413-46ED-A237-C80C42486D9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D390B-1B9A-4C36-A60D-6F558DDEDB4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直接连接符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直接连接符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16CE-DFBC-4EAB-9DAA-3AD8D9118D89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B5F3-B5E1-4016-B999-5C96FF9BF6B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3E6B-3330-40E6-8247-43F9E83B9F4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../../&#30446;&#24405;.ppt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slide" Target="slide9.xml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5105520"/>
            <a:ext cx="1968480" cy="132084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6"/>
          <p:cNvSpPr/>
          <p:nvPr/>
        </p:nvSpPr>
        <p:spPr>
          <a:xfrm>
            <a:off x="762120" y="4038480"/>
            <a:ext cx="51051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解：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红队比黄队低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00-150=50(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)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7" name="Text Box 7"/>
          <p:cNvSpPr/>
          <p:nvPr/>
        </p:nvSpPr>
        <p:spPr>
          <a:xfrm>
            <a:off x="1295280" y="4525920"/>
            <a:ext cx="5181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(2)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白队比蓝队高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100-(-350)=250(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)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8" name="Text Box 8"/>
          <p:cNvSpPr/>
          <p:nvPr/>
        </p:nvSpPr>
        <p:spPr>
          <a:xfrm>
            <a:off x="1295280" y="5059440"/>
            <a:ext cx="5257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(3)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第一名超出第二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00-200=200(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)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539" name="Group 41"/>
          <p:cNvGrpSpPr/>
          <p:nvPr/>
        </p:nvGrpSpPr>
        <p:grpSpPr>
          <a:xfrm>
            <a:off x="304920" y="914400"/>
            <a:ext cx="8762760" cy="3052440"/>
            <a:chOff x="304920" y="914400"/>
            <a:chExt cx="8762760" cy="3052440"/>
          </a:xfrm>
        </p:grpSpPr>
        <p:sp>
          <p:nvSpPr>
            <p:cNvPr id="540" name="Text Box 4"/>
            <p:cNvSpPr/>
            <p:nvPr/>
          </p:nvSpPr>
          <p:spPr>
            <a:xfrm>
              <a:off x="304920" y="914400"/>
              <a:ext cx="8762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将全班学生分成五个队进行游戏，每队的基本分为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0.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答对一题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，答错一题扣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0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分，游戏结束后，各组的得分如表：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41" name="Text Box 5"/>
            <p:cNvSpPr/>
            <p:nvPr/>
          </p:nvSpPr>
          <p:spPr>
            <a:xfrm>
              <a:off x="533520" y="2409840"/>
              <a:ext cx="64767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1)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红队比黄队低多少分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2)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白队比蓝队高多少分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3)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一名超出第二名多少分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(4)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第一名超出第五名多少分？</a:t>
              </a:r>
              <a:endParaRPr b="1" lang="en-US" sz="2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grpSp>
          <p:nvGrpSpPr>
            <p:cNvPr id="542" name="Group 40"/>
            <p:cNvGrpSpPr/>
            <p:nvPr/>
          </p:nvGrpSpPr>
          <p:grpSpPr>
            <a:xfrm>
              <a:off x="1447920" y="1757520"/>
              <a:ext cx="6095880" cy="680760"/>
              <a:chOff x="1447920" y="1757520"/>
              <a:chExt cx="6095880" cy="680760"/>
            </a:xfrm>
          </p:grpSpPr>
          <p:sp>
            <p:nvSpPr>
              <p:cNvPr id="543" name="Rectangle 10"/>
              <p:cNvSpPr/>
              <p:nvPr/>
            </p:nvSpPr>
            <p:spPr>
              <a:xfrm>
                <a:off x="6324480" y="2092320"/>
                <a:ext cx="12193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－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00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4" name="Rectangle 11"/>
              <p:cNvSpPr/>
              <p:nvPr/>
            </p:nvSpPr>
            <p:spPr>
              <a:xfrm>
                <a:off x="5105520" y="2092320"/>
                <a:ext cx="121896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400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5" name="Rectangle 12"/>
              <p:cNvSpPr/>
              <p:nvPr/>
            </p:nvSpPr>
            <p:spPr>
              <a:xfrm>
                <a:off x="3886200" y="2092320"/>
                <a:ext cx="12193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－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300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6" name="Rectangle 13"/>
              <p:cNvSpPr/>
              <p:nvPr/>
            </p:nvSpPr>
            <p:spPr>
              <a:xfrm>
                <a:off x="2666880" y="2092320"/>
                <a:ext cx="121932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200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7" name="Rectangle 14"/>
              <p:cNvSpPr/>
              <p:nvPr/>
            </p:nvSpPr>
            <p:spPr>
              <a:xfrm>
                <a:off x="1447920" y="2092320"/>
                <a:ext cx="1218960" cy="345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150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8" name="Rectangle 15"/>
              <p:cNvSpPr/>
              <p:nvPr/>
            </p:nvSpPr>
            <p:spPr>
              <a:xfrm>
                <a:off x="6324480" y="1757520"/>
                <a:ext cx="121932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白队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49" name="Rectangle 16"/>
              <p:cNvSpPr/>
              <p:nvPr/>
            </p:nvSpPr>
            <p:spPr>
              <a:xfrm>
                <a:off x="5105520" y="1757520"/>
                <a:ext cx="12189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绿队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0" name="Rectangle 17"/>
              <p:cNvSpPr/>
              <p:nvPr/>
            </p:nvSpPr>
            <p:spPr>
              <a:xfrm>
                <a:off x="3886200" y="1757520"/>
                <a:ext cx="121932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蓝队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1" name="Rectangle 18"/>
              <p:cNvSpPr/>
              <p:nvPr/>
            </p:nvSpPr>
            <p:spPr>
              <a:xfrm>
                <a:off x="2666880" y="1757520"/>
                <a:ext cx="121932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黄队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2" name="Rectangle 19"/>
              <p:cNvSpPr/>
              <p:nvPr/>
            </p:nvSpPr>
            <p:spPr>
              <a:xfrm>
                <a:off x="1447920" y="1757520"/>
                <a:ext cx="1218960" cy="33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红队</a:t>
                </a:r>
                <a:endParaRPr b="1" lang="en-US" sz="16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3" name="Line 20"/>
              <p:cNvSpPr/>
              <p:nvPr/>
            </p:nvSpPr>
            <p:spPr>
              <a:xfrm>
                <a:off x="1447920" y="175752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4" name="Line 21"/>
              <p:cNvSpPr/>
              <p:nvPr/>
            </p:nvSpPr>
            <p:spPr>
              <a:xfrm>
                <a:off x="1447920" y="2092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5" name="Line 22"/>
              <p:cNvSpPr/>
              <p:nvPr/>
            </p:nvSpPr>
            <p:spPr>
              <a:xfrm>
                <a:off x="1447920" y="243828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6" name="Line 23"/>
              <p:cNvSpPr/>
              <p:nvPr/>
            </p:nvSpPr>
            <p:spPr>
              <a:xfrm>
                <a:off x="1447920" y="1757520"/>
                <a:ext cx="0" cy="6807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7" name="Line 24"/>
              <p:cNvSpPr/>
              <p:nvPr/>
            </p:nvSpPr>
            <p:spPr>
              <a:xfrm>
                <a:off x="2666880" y="1757520"/>
                <a:ext cx="0" cy="68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8" name="Line 25"/>
              <p:cNvSpPr/>
              <p:nvPr/>
            </p:nvSpPr>
            <p:spPr>
              <a:xfrm>
                <a:off x="3886200" y="1757520"/>
                <a:ext cx="0" cy="68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59" name="Line 26"/>
              <p:cNvSpPr/>
              <p:nvPr/>
            </p:nvSpPr>
            <p:spPr>
              <a:xfrm>
                <a:off x="5105520" y="1757520"/>
                <a:ext cx="0" cy="68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0" name="Line 27"/>
              <p:cNvSpPr/>
              <p:nvPr/>
            </p:nvSpPr>
            <p:spPr>
              <a:xfrm>
                <a:off x="6324480" y="1757520"/>
                <a:ext cx="0" cy="680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561" name="Line 28"/>
              <p:cNvSpPr/>
              <p:nvPr/>
            </p:nvSpPr>
            <p:spPr>
              <a:xfrm>
                <a:off x="7543800" y="1757520"/>
                <a:ext cx="0" cy="68076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</p:grpSp>
      <p:sp>
        <p:nvSpPr>
          <p:cNvPr id="562" name="Rectangle 29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3" name="Rectangle 30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4" name="Rectangle 31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5" name="Rectangle 32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6" name="Rectangle 33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7" name="Rectangle 34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8" name="Rectangle 35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9" name="Rectangle 36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0" name="Text Box 37"/>
          <p:cNvSpPr/>
          <p:nvPr/>
        </p:nvSpPr>
        <p:spPr>
          <a:xfrm>
            <a:off x="1295280" y="5516640"/>
            <a:ext cx="5639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(4)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第一名超出第五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00-(-350)=750(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)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71" name="Picture 42" descr="对应练习副本"/>
          <p:cNvPicPr/>
          <p:nvPr/>
        </p:nvPicPr>
        <p:blipFill>
          <a:blip r:embed="rId1"/>
          <a:stretch/>
        </p:blipFill>
        <p:spPr>
          <a:xfrm>
            <a:off x="152280" y="152280"/>
            <a:ext cx="2473560" cy="8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4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5" descr="课堂小结"/>
          <p:cNvPicPr/>
          <p:nvPr/>
        </p:nvPicPr>
        <p:blipFill>
          <a:blip r:embed="rId1"/>
          <a:stretch/>
        </p:blipFill>
        <p:spPr>
          <a:xfrm>
            <a:off x="685800" y="1066680"/>
            <a:ext cx="2286000" cy="635040"/>
          </a:xfrm>
          <a:prstGeom prst="rect">
            <a:avLst/>
          </a:prstGeom>
          <a:ln w="0">
            <a:noFill/>
          </a:ln>
        </p:spPr>
      </p:pic>
      <p:sp>
        <p:nvSpPr>
          <p:cNvPr id="573" name="Text Box 6"/>
          <p:cNvSpPr/>
          <p:nvPr/>
        </p:nvSpPr>
        <p:spPr>
          <a:xfrm>
            <a:off x="2931480" y="2741760"/>
            <a:ext cx="312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的减法法则及运算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减法的应用；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4" name="AutoShape 7"/>
          <p:cNvSpPr/>
          <p:nvPr/>
        </p:nvSpPr>
        <p:spPr>
          <a:xfrm>
            <a:off x="1828800" y="2971800"/>
            <a:ext cx="290520" cy="990720"/>
          </a:xfrm>
          <a:custGeom>
            <a:avLst/>
            <a:gdLst>
              <a:gd name="textAreaLeft" fmla="*/ 185760 w 290520"/>
              <a:gd name="textAreaRight" fmla="*/ 290880 w 2905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5" name="Rectangle 8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6" name="Rectangle 9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7" name="Rectangle 10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8" name="Rectangle 11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79" name="Rectangle 12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0" name="Rectangle 13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1" name="Rectangle 14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82" name="Rectangle 15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7"/>
          <p:cNvGrpSpPr/>
          <p:nvPr/>
        </p:nvGrpSpPr>
        <p:grpSpPr>
          <a:xfrm>
            <a:off x="1184400" y="1676520"/>
            <a:ext cx="6653160" cy="1514520"/>
            <a:chOff x="1184400" y="1676520"/>
            <a:chExt cx="6653160" cy="1514520"/>
          </a:xfrm>
        </p:grpSpPr>
        <p:grpSp>
          <p:nvGrpSpPr>
            <p:cNvPr id="401" name="Group 3"/>
            <p:cNvGrpSpPr/>
            <p:nvPr/>
          </p:nvGrpSpPr>
          <p:grpSpPr>
            <a:xfrm>
              <a:off x="1184400" y="1676520"/>
              <a:ext cx="6653160" cy="1514520"/>
              <a:chOff x="1184400" y="1676520"/>
              <a:chExt cx="6653160" cy="1514520"/>
            </a:xfrm>
          </p:grpSpPr>
          <p:sp>
            <p:nvSpPr>
              <p:cNvPr id="402" name="AutoShape 4"/>
              <p:cNvSpPr/>
              <p:nvPr/>
            </p:nvSpPr>
            <p:spPr>
              <a:xfrm>
                <a:off x="1184400" y="2046600"/>
                <a:ext cx="6653160" cy="114444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5644e"/>
                  </a:gs>
                  <a:gs pos="100000">
                    <a:srgbClr val="734636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3" name="AutoShape 5"/>
              <p:cNvSpPr/>
              <p:nvPr/>
            </p:nvSpPr>
            <p:spPr>
              <a:xfrm flipV="1">
                <a:off x="1262160" y="1676160"/>
                <a:ext cx="6502680" cy="363600"/>
              </a:xfrm>
              <a:custGeom>
                <a:avLst/>
                <a:gdLst>
                  <a:gd name="textAreaLeft" fmla="*/ 1116000 w 6502680"/>
                  <a:gd name="textAreaRight" fmla="*/ 5386680 w 6502680"/>
                  <a:gd name="textAreaTop" fmla="*/ 61920 h 363600"/>
                  <a:gd name="textAreaBottom" fmla="*/ 301680 h 363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13" y="21600"/>
                    </a:lnTo>
                    <a:lnTo>
                      <a:pt x="1778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644e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04" name="Picture 6" descr="Picture4"/>
              <p:cNvPicPr/>
              <p:nvPr/>
            </p:nvPicPr>
            <p:blipFill>
              <a:blip r:embed="rId1"/>
              <a:stretch/>
            </p:blipFill>
            <p:spPr>
              <a:xfrm>
                <a:off x="1241640" y="2089440"/>
                <a:ext cx="674640" cy="574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5" name="AutoShape 7"/>
              <p:cNvSpPr/>
              <p:nvPr/>
            </p:nvSpPr>
            <p:spPr>
              <a:xfrm>
                <a:off x="1671840" y="1819440"/>
                <a:ext cx="57913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effff"/>
              </a:solidFill>
              <a:ln w="28440">
                <a:solidFill>
                  <a:srgbClr val="a5644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06" name="Rectangle 8"/>
              <p:cNvSpPr/>
              <p:nvPr/>
            </p:nvSpPr>
            <p:spPr>
              <a:xfrm>
                <a:off x="2052720" y="1819440"/>
                <a:ext cx="50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a5644e"/>
                    </a:solidFill>
                    <a:latin typeface="Arial"/>
                  </a:rPr>
                  <a:t>知识与技能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07" name="Text Box 9"/>
            <p:cNvSpPr/>
            <p:nvPr/>
          </p:nvSpPr>
          <p:spPr>
            <a:xfrm>
              <a:off x="1595520" y="2395440"/>
              <a:ext cx="60195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掌握有理数的减法法则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能运用有理数的减法法则进行运算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08" name="Group 10"/>
          <p:cNvGrpSpPr/>
          <p:nvPr/>
        </p:nvGrpSpPr>
        <p:grpSpPr>
          <a:xfrm>
            <a:off x="1187280" y="3266640"/>
            <a:ext cx="6742080" cy="1389240"/>
            <a:chOff x="1187280" y="3266640"/>
            <a:chExt cx="6742080" cy="1389240"/>
          </a:xfrm>
        </p:grpSpPr>
        <p:grpSp>
          <p:nvGrpSpPr>
            <p:cNvPr id="409" name="Group 11"/>
            <p:cNvGrpSpPr/>
            <p:nvPr/>
          </p:nvGrpSpPr>
          <p:grpSpPr>
            <a:xfrm>
              <a:off x="1187280" y="3266640"/>
              <a:ext cx="6653160" cy="1389240"/>
              <a:chOff x="1187280" y="3266640"/>
              <a:chExt cx="6653160" cy="1389240"/>
            </a:xfrm>
          </p:grpSpPr>
          <p:sp>
            <p:nvSpPr>
              <p:cNvPr id="410" name="AutoShape 12"/>
              <p:cNvSpPr/>
              <p:nvPr/>
            </p:nvSpPr>
            <p:spPr>
              <a:xfrm>
                <a:off x="1187280" y="3636720"/>
                <a:ext cx="6653160" cy="101916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ffc42f"/>
                  </a:gs>
                  <a:gs pos="100000">
                    <a:srgbClr val="b28921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1" name="AutoShape 13"/>
              <p:cNvSpPr/>
              <p:nvPr/>
            </p:nvSpPr>
            <p:spPr>
              <a:xfrm flipV="1">
                <a:off x="1358640" y="3265920"/>
                <a:ext cx="6397920" cy="361800"/>
              </a:xfrm>
              <a:custGeom>
                <a:avLst/>
                <a:gdLst>
                  <a:gd name="textAreaLeft" fmla="*/ 1098360 w 6397920"/>
                  <a:gd name="textAreaRight" fmla="*/ 5299560 w 6397920"/>
                  <a:gd name="textAreaTop" fmla="*/ 61920 h 361800"/>
                  <a:gd name="textAreaBottom" fmla="*/ 299880 h 361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13" y="21600"/>
                    </a:lnTo>
                    <a:lnTo>
                      <a:pt x="1778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42f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12" name="Picture 14" descr="Picture4"/>
              <p:cNvPicPr/>
              <p:nvPr/>
            </p:nvPicPr>
            <p:blipFill>
              <a:blip r:embed="rId2"/>
              <a:stretch/>
            </p:blipFill>
            <p:spPr>
              <a:xfrm>
                <a:off x="1238040" y="3682800"/>
                <a:ext cx="676440" cy="573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AutoShape 15"/>
              <p:cNvSpPr/>
              <p:nvPr/>
            </p:nvSpPr>
            <p:spPr>
              <a:xfrm>
                <a:off x="1671480" y="3429000"/>
                <a:ext cx="5791320" cy="457200"/>
              </a:xfrm>
              <a:prstGeom prst="roundRect">
                <a:avLst>
                  <a:gd name="adj" fmla="val 16667"/>
                </a:avLst>
              </a:prstGeom>
              <a:solidFill>
                <a:srgbClr val="feffff"/>
              </a:solidFill>
              <a:ln w="28440">
                <a:solidFill>
                  <a:srgbClr val="ffc42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4" name="Rectangle 16"/>
              <p:cNvSpPr/>
              <p:nvPr/>
            </p:nvSpPr>
            <p:spPr>
              <a:xfrm>
                <a:off x="2052360" y="3438360"/>
                <a:ext cx="50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c42f"/>
                    </a:solidFill>
                    <a:latin typeface="Arial"/>
                  </a:rPr>
                  <a:t>过程与方法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15" name="Text Box 17"/>
            <p:cNvSpPr/>
            <p:nvPr/>
          </p:nvSpPr>
          <p:spPr>
            <a:xfrm>
              <a:off x="1371600" y="3886200"/>
              <a:ext cx="655776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通过对有理数减法法则的探究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体验数学的转化思想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通过对有理数减法法则的探讨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培养学生的创新思维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416" name="Group 28"/>
          <p:cNvGrpSpPr/>
          <p:nvPr/>
        </p:nvGrpSpPr>
        <p:grpSpPr>
          <a:xfrm>
            <a:off x="1195560" y="4787640"/>
            <a:ext cx="6653160" cy="1396800"/>
            <a:chOff x="1195560" y="4787640"/>
            <a:chExt cx="6653160" cy="1396800"/>
          </a:xfrm>
        </p:grpSpPr>
        <p:grpSp>
          <p:nvGrpSpPr>
            <p:cNvPr id="417" name="Group 19"/>
            <p:cNvGrpSpPr/>
            <p:nvPr/>
          </p:nvGrpSpPr>
          <p:grpSpPr>
            <a:xfrm>
              <a:off x="1195560" y="4787640"/>
              <a:ext cx="6653160" cy="1396800"/>
              <a:chOff x="1195560" y="4787640"/>
              <a:chExt cx="6653160" cy="1396800"/>
            </a:xfrm>
          </p:grpSpPr>
          <p:sp>
            <p:nvSpPr>
              <p:cNvPr id="418" name="AutoShape 20"/>
              <p:cNvSpPr/>
              <p:nvPr/>
            </p:nvSpPr>
            <p:spPr>
              <a:xfrm>
                <a:off x="1195560" y="5153040"/>
                <a:ext cx="6653160" cy="103140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ad1f1f"/>
                  </a:gs>
                  <a:gs pos="100000">
                    <a:srgbClr val="791616"/>
                  </a:gs>
                </a:gsLst>
                <a:lin ang="5400000"/>
              </a:gradFill>
              <a:ln w="25560">
                <a:solidFill>
                  <a:srgbClr val="fefefe"/>
                </a:solidFill>
                <a:miter/>
              </a:ln>
              <a:effectLst>
                <a:outerShdw dist="53966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19" name="AutoShape 21"/>
              <p:cNvSpPr/>
              <p:nvPr/>
            </p:nvSpPr>
            <p:spPr>
              <a:xfrm flipV="1">
                <a:off x="1314720" y="4786920"/>
                <a:ext cx="6475320" cy="363240"/>
              </a:xfrm>
              <a:custGeom>
                <a:avLst/>
                <a:gdLst>
                  <a:gd name="textAreaLeft" fmla="*/ 1111320 w 6475320"/>
                  <a:gd name="textAreaRight" fmla="*/ 5364000 w 6475320"/>
                  <a:gd name="textAreaTop" fmla="*/ 61920 h 363240"/>
                  <a:gd name="textAreaBottom" fmla="*/ 301320 h 363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3813" y="21600"/>
                    </a:lnTo>
                    <a:lnTo>
                      <a:pt x="17787" y="21600"/>
                    </a:lnTo>
                    <a:lnTo>
                      <a:pt x="2160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d1f1f">
                      <a:alpha val="40000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pic>
            <p:nvPicPr>
              <p:cNvPr id="420" name="Picture 22" descr="Picture4"/>
              <p:cNvPicPr/>
              <p:nvPr/>
            </p:nvPicPr>
            <p:blipFill>
              <a:blip r:embed="rId3"/>
              <a:stretch/>
            </p:blipFill>
            <p:spPr>
              <a:xfrm>
                <a:off x="1243080" y="5194080"/>
                <a:ext cx="675000" cy="572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AutoShape 23"/>
              <p:cNvSpPr/>
              <p:nvPr/>
            </p:nvSpPr>
            <p:spPr>
              <a:xfrm>
                <a:off x="1671840" y="4930560"/>
                <a:ext cx="5791320" cy="456840"/>
              </a:xfrm>
              <a:prstGeom prst="roundRect">
                <a:avLst>
                  <a:gd name="adj" fmla="val 16667"/>
                </a:avLst>
              </a:prstGeom>
              <a:solidFill>
                <a:srgbClr val="feffff"/>
              </a:solidFill>
              <a:ln w="28440">
                <a:solidFill>
                  <a:srgbClr val="ad1f1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  <p:sp>
            <p:nvSpPr>
              <p:cNvPr id="422" name="Rectangle 24"/>
              <p:cNvSpPr/>
              <p:nvPr/>
            </p:nvSpPr>
            <p:spPr>
              <a:xfrm>
                <a:off x="2052720" y="4941720"/>
                <a:ext cx="502920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ad1f1f"/>
                    </a:solidFill>
                    <a:latin typeface="Arial"/>
                  </a:rPr>
                  <a:t>情感态度与价值观</a:t>
                </a:r>
                <a:endParaRPr b="1" lang="en-US" sz="1800" spc="-1" strike="noStrike">
                  <a:solidFill>
                    <a:srgbClr val="008000"/>
                  </a:solidFill>
                  <a:latin typeface="Arial"/>
                </a:endParaRPr>
              </a:p>
            </p:txBody>
          </p:sp>
        </p:grpSp>
        <p:sp>
          <p:nvSpPr>
            <p:cNvPr id="423" name="Text Box 25"/>
            <p:cNvSpPr/>
            <p:nvPr/>
          </p:nvSpPr>
          <p:spPr>
            <a:xfrm>
              <a:off x="1295280" y="5410080"/>
              <a:ext cx="65534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--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通过师生互动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问题探讨等形式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激发学生的学习兴趣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,</a:t>
              </a:r>
              <a:r>
                <a:rPr b="1" lang="zh-CN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培养学生学习数学的热情</a:t>
              </a:r>
              <a:r>
                <a:rPr b="1" lang="en-US" sz="1800" spc="-1" strike="noStrike">
                  <a:solidFill>
                    <a:srgbClr val="feffff"/>
                  </a:solidFill>
                  <a:latin typeface="楷体_GB2312"/>
                  <a:ea typeface="楷体_GB2312"/>
                </a:rPr>
                <a:t>.</a:t>
              </a:r>
              <a:endParaRPr b="1" lang="en-US" sz="18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pic>
        <p:nvPicPr>
          <p:cNvPr id="424" name="Picture 26" descr="教学目标1"/>
          <p:cNvPicPr/>
          <p:nvPr/>
        </p:nvPicPr>
        <p:blipFill>
          <a:blip r:embed="rId4"/>
          <a:stretch/>
        </p:blipFill>
        <p:spPr>
          <a:xfrm>
            <a:off x="1143000" y="990720"/>
            <a:ext cx="1905120" cy="635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1889640" y="2558880"/>
            <a:ext cx="20718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的减法法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26" name="Picture 3" descr="教学重点"/>
          <p:cNvPicPr/>
          <p:nvPr/>
        </p:nvPicPr>
        <p:blipFill>
          <a:blip r:embed="rId1"/>
          <a:stretch/>
        </p:blipFill>
        <p:spPr>
          <a:xfrm>
            <a:off x="1219320" y="1574640"/>
            <a:ext cx="1904760" cy="63504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4" descr="教学难点"/>
          <p:cNvPicPr/>
          <p:nvPr/>
        </p:nvPicPr>
        <p:blipFill>
          <a:blip r:embed="rId2"/>
          <a:stretch/>
        </p:blipFill>
        <p:spPr>
          <a:xfrm>
            <a:off x="1219320" y="3556080"/>
            <a:ext cx="1904760" cy="635040"/>
          </a:xfrm>
          <a:prstGeom prst="rect">
            <a:avLst/>
          </a:prstGeom>
          <a:ln w="0">
            <a:noFill/>
          </a:ln>
        </p:spPr>
      </p:pic>
      <p:sp>
        <p:nvSpPr>
          <p:cNvPr id="428" name="Text Box 5"/>
          <p:cNvSpPr/>
          <p:nvPr/>
        </p:nvSpPr>
        <p:spPr>
          <a:xfrm>
            <a:off x="2161440" y="4540320"/>
            <a:ext cx="29253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对有理数的减法法则的探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4" descr="导入新课"/>
          <p:cNvPicPr/>
          <p:nvPr/>
        </p:nvPicPr>
        <p:blipFill>
          <a:blip r:embed="rId1"/>
          <a:stretch/>
        </p:blipFill>
        <p:spPr>
          <a:xfrm>
            <a:off x="581040" y="878040"/>
            <a:ext cx="3276720" cy="617400"/>
          </a:xfrm>
          <a:prstGeom prst="rect">
            <a:avLst/>
          </a:prstGeom>
          <a:ln w="0">
            <a:noFill/>
          </a:ln>
        </p:spPr>
      </p:pic>
      <p:sp>
        <p:nvSpPr>
          <p:cNvPr id="430" name="Text Box 5"/>
          <p:cNvSpPr/>
          <p:nvPr/>
        </p:nvSpPr>
        <p:spPr>
          <a:xfrm>
            <a:off x="790200" y="1589040"/>
            <a:ext cx="621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出示温度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提出问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: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从温度计上看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4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比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3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高多少度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列式求这个结果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31" name="Picture 6" descr="11"/>
          <p:cNvPicPr/>
          <p:nvPr/>
        </p:nvPicPr>
        <p:blipFill>
          <a:blip r:embed="rId2"/>
          <a:srcRect l="0" t="2030" r="0" b="0"/>
          <a:stretch/>
        </p:blipFill>
        <p:spPr>
          <a:xfrm>
            <a:off x="7924680" y="1219320"/>
            <a:ext cx="1154160" cy="27432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7"/>
          <p:cNvSpPr/>
          <p:nvPr/>
        </p:nvSpPr>
        <p:spPr>
          <a:xfrm>
            <a:off x="533520" y="4724280"/>
            <a:ext cx="835956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请同学们自学教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P22-2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并完成自学导练，相信大家感悟快！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要点感知一"/>
          <p:cNvPicPr/>
          <p:nvPr/>
        </p:nvPicPr>
        <p:blipFill>
          <a:blip r:embed="rId1"/>
          <a:stretch/>
        </p:blipFill>
        <p:spPr>
          <a:xfrm>
            <a:off x="609480" y="914400"/>
            <a:ext cx="2286000" cy="635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要点感知二"/>
          <p:cNvPicPr/>
          <p:nvPr/>
        </p:nvPicPr>
        <p:blipFill>
          <a:blip r:embed="rId2"/>
          <a:stretch/>
        </p:blipFill>
        <p:spPr>
          <a:xfrm>
            <a:off x="609480" y="2362320"/>
            <a:ext cx="2286000" cy="63504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5"/>
          <p:cNvSpPr/>
          <p:nvPr/>
        </p:nvSpPr>
        <p:spPr>
          <a:xfrm>
            <a:off x="457200" y="29113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的减法运算的步骤：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根据有理数的减法法则，把减号变为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加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把减数变为它的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相反数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；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）再利用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加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法则运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6" name="Text Box 6"/>
          <p:cNvSpPr/>
          <p:nvPr/>
        </p:nvSpPr>
        <p:spPr>
          <a:xfrm>
            <a:off x="457200" y="1511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有理数的减法法则：减去一个数，等于加上这个数的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相反数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，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b=a+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（－</a:t>
            </a:r>
            <a:r>
              <a:rPr b="1" lang="en-US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b</a:t>
            </a:r>
            <a:r>
              <a:rPr b="1" lang="zh-CN" sz="2400" spc="-1" strike="noStrike" u="sng">
                <a:solidFill>
                  <a:srgbClr val="cc3300"/>
                </a:solidFill>
                <a:uFillTx/>
                <a:latin typeface="Arial"/>
                <a:ea typeface="楷体_GB2312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7" name="Text Box 13"/>
          <p:cNvSpPr/>
          <p:nvPr/>
        </p:nvSpPr>
        <p:spPr>
          <a:xfrm>
            <a:off x="3108960" y="4657680"/>
            <a:ext cx="3942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B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380880" y="45684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下列运算正确的是（   ）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A.(+3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+5)=(+5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+3)=+2           B.(+3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)=(+3)+(+5)=+8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C.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)=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)+(+5)=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      D.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+5)=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)+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)=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9" name="Rectangle 39"/>
          <p:cNvSpPr/>
          <p:nvPr/>
        </p:nvSpPr>
        <p:spPr>
          <a:xfrm>
            <a:off x="380880" y="5923440"/>
            <a:ext cx="876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在横线上填上适当的数，使等式成立：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）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8+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=40;                (2)12+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=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0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0" name="Text Box 49"/>
          <p:cNvSpPr/>
          <p:nvPr/>
        </p:nvSpPr>
        <p:spPr>
          <a:xfrm>
            <a:off x="1947960" y="618660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8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1" name="Text Box 50"/>
          <p:cNvSpPr/>
          <p:nvPr/>
        </p:nvSpPr>
        <p:spPr>
          <a:xfrm>
            <a:off x="5362560" y="6167520"/>
            <a:ext cx="9144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4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42" name="Picture 51" descr="练习"/>
          <p:cNvPicPr/>
          <p:nvPr/>
        </p:nvPicPr>
        <p:blipFill>
          <a:blip r:embed="rId3"/>
          <a:stretch/>
        </p:blipFill>
        <p:spPr>
          <a:xfrm>
            <a:off x="609480" y="4216320"/>
            <a:ext cx="1231920" cy="507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典例剖析"/>
          <p:cNvPicPr/>
          <p:nvPr/>
        </p:nvPicPr>
        <p:blipFill>
          <a:blip r:embed="rId1"/>
          <a:stretch/>
        </p:blipFill>
        <p:spPr>
          <a:xfrm>
            <a:off x="838080" y="533520"/>
            <a:ext cx="1905120" cy="6350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3" descr="知识点一"/>
          <p:cNvPicPr/>
          <p:nvPr/>
        </p:nvPicPr>
        <p:blipFill>
          <a:blip r:embed="rId2"/>
          <a:stretch/>
        </p:blipFill>
        <p:spPr>
          <a:xfrm>
            <a:off x="685800" y="1066680"/>
            <a:ext cx="1905120" cy="635040"/>
          </a:xfrm>
          <a:prstGeom prst="rect">
            <a:avLst/>
          </a:prstGeom>
          <a:ln w="0">
            <a:noFill/>
          </a:ln>
        </p:spPr>
      </p:pic>
      <p:sp>
        <p:nvSpPr>
          <p:cNvPr id="445" name="Text Box 4"/>
          <p:cNvSpPr/>
          <p:nvPr/>
        </p:nvSpPr>
        <p:spPr>
          <a:xfrm>
            <a:off x="3110400" y="1143000"/>
            <a:ext cx="2192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有理数的减法法则及运算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222120" y="1719360"/>
            <a:ext cx="914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例题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1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1295640" y="169056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计算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8" name="Text Box 15"/>
          <p:cNvSpPr/>
          <p:nvPr/>
        </p:nvSpPr>
        <p:spPr>
          <a:xfrm>
            <a:off x="609840" y="2209680"/>
            <a:ext cx="7293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9" name="Text Box 36"/>
          <p:cNvSpPr/>
          <p:nvPr/>
        </p:nvSpPr>
        <p:spPr>
          <a:xfrm>
            <a:off x="457200" y="5573880"/>
            <a:ext cx="843912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将有理数减法转化为加法时，要同时改变两个符号：一个是运算符号由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变为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；另一个是减数的性质符号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0" name="Text Box 40"/>
          <p:cNvSpPr/>
          <p:nvPr/>
        </p:nvSpPr>
        <p:spPr>
          <a:xfrm>
            <a:off x="637200" y="5562720"/>
            <a:ext cx="704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点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Object 8"/>
              <p:cNvSpPr txBox="1"/>
              <p:nvPr/>
            </p:nvSpPr>
            <p:spPr>
              <a:xfrm>
                <a:off x="1905120" y="1803240"/>
                <a:ext cx="111924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36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Object 106"/>
              <p:cNvSpPr txBox="1"/>
              <p:nvPr/>
            </p:nvSpPr>
            <p:spPr>
              <a:xfrm>
                <a:off x="4419720" y="1600200"/>
                <a:ext cx="1336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3" name="Object 107"/>
              <p:cNvSpPr txBox="1"/>
              <p:nvPr/>
            </p:nvSpPr>
            <p:spPr>
              <a:xfrm>
                <a:off x="6858000" y="1752480"/>
                <a:ext cx="1681200" cy="34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t xml:space="preserve">)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4" name="Object 108"/>
              <p:cNvSpPr txBox="1"/>
              <p:nvPr/>
            </p:nvSpPr>
            <p:spPr>
              <a:xfrm>
                <a:off x="1066680" y="3200400"/>
                <a:ext cx="1487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5" name="Object 135"/>
              <p:cNvSpPr txBox="1"/>
              <p:nvPr/>
            </p:nvSpPr>
            <p:spPr>
              <a:xfrm>
                <a:off x="4419720" y="3505320"/>
                <a:ext cx="13572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5</m:t>
                    </m:r>
                    <m:r>
                      <m:t xml:space="preserve">)</m:t>
                    </m:r>
                    <m:r>
                      <m:t xml:space="preserve">0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Text Box 144"/>
          <p:cNvSpPr/>
          <p:nvPr/>
        </p:nvSpPr>
        <p:spPr>
          <a:xfrm>
            <a:off x="1176480" y="2209680"/>
            <a:ext cx="291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21+(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6)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57" name="Text Box 145"/>
          <p:cNvSpPr/>
          <p:nvPr/>
        </p:nvSpPr>
        <p:spPr>
          <a:xfrm>
            <a:off x="1814400" y="2590920"/>
            <a:ext cx="210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5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8" name="Object 147"/>
              <p:cNvSpPr txBox="1"/>
              <p:nvPr/>
            </p:nvSpPr>
            <p:spPr>
              <a:xfrm>
                <a:off x="4508640" y="2257560"/>
                <a:ext cx="140004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式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9" name="Object 148"/>
              <p:cNvSpPr txBox="1"/>
              <p:nvPr/>
            </p:nvSpPr>
            <p:spPr>
              <a:xfrm>
                <a:off x="4800600" y="2838600"/>
                <a:ext cx="452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0" name="Text Box 151"/>
          <p:cNvSpPr/>
          <p:nvPr/>
        </p:nvSpPr>
        <p:spPr>
          <a:xfrm>
            <a:off x="67057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(</a:t>
            </a: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)+10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1" name="Text Box 152"/>
          <p:cNvSpPr/>
          <p:nvPr/>
        </p:nvSpPr>
        <p:spPr>
          <a:xfrm>
            <a:off x="7304040" y="2438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10-2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2" name="Text Box 153"/>
          <p:cNvSpPr/>
          <p:nvPr/>
        </p:nvSpPr>
        <p:spPr>
          <a:xfrm>
            <a:off x="7304040" y="28195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8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Object 155"/>
              <p:cNvSpPr txBox="1"/>
              <p:nvPr/>
            </p:nvSpPr>
            <p:spPr>
              <a:xfrm>
                <a:off x="1103400" y="3819600"/>
                <a:ext cx="2198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式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Object 156"/>
              <p:cNvSpPr txBox="1"/>
              <p:nvPr/>
            </p:nvSpPr>
            <p:spPr>
              <a:xfrm>
                <a:off x="1395360" y="4362480"/>
                <a:ext cx="127152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Object 157"/>
              <p:cNvSpPr txBox="1"/>
              <p:nvPr/>
            </p:nvSpPr>
            <p:spPr>
              <a:xfrm>
                <a:off x="1400040" y="4971960"/>
                <a:ext cx="73368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6" name="Text Box 159"/>
          <p:cNvSpPr/>
          <p:nvPr/>
        </p:nvSpPr>
        <p:spPr>
          <a:xfrm>
            <a:off x="4114800" y="4038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0+6.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7" name="Text Box 160"/>
          <p:cNvSpPr/>
          <p:nvPr/>
        </p:nvSpPr>
        <p:spPr>
          <a:xfrm>
            <a:off x="4724280" y="43909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6.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8" name="Rectangle 161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69" name="Rectangle 162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0" name="Rectangle 163">
            <a:hlinkClick r:id="rId3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1" name="Rectangle 164">
            <a:hlinkClick r:id="rId4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2" name="Rectangle 165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3" name="Rectangle 166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4" name="Rectangle 167">
            <a:hlinkClick r:id="rId5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75" name="Rectangle 168">
            <a:hlinkClick r:id="rId6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500"/>
                            </p:stCondLst>
                            <p:childTnLst>
                              <p:par>
                                <p:cTn id="1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3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1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151"/>
          <p:cNvGrpSpPr/>
          <p:nvPr/>
        </p:nvGrpSpPr>
        <p:grpSpPr>
          <a:xfrm>
            <a:off x="533520" y="2438280"/>
            <a:ext cx="8610480" cy="2775240"/>
            <a:chOff x="533520" y="2438280"/>
            <a:chExt cx="8610480" cy="2775240"/>
          </a:xfrm>
        </p:grpSpPr>
        <p:sp>
          <p:nvSpPr>
            <p:cNvPr id="477" name="Text Box 148"/>
            <p:cNvSpPr/>
            <p:nvPr/>
          </p:nvSpPr>
          <p:spPr>
            <a:xfrm>
              <a:off x="533520" y="2438280"/>
              <a:ext cx="8610480" cy="277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.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计算：</a:t>
              </a: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1)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)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+7);                                   (2)   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   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); </a:t>
              </a: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3)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3.4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4.7);                              (4)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9)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.1);</a:t>
              </a: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5)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20)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+50)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5);                    (6)23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7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7)+(</a:t>
              </a:r>
              <a:r>
                <a:rPr b="1" lang="zh-CN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－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6).</a:t>
              </a:r>
              <a:endParaRPr b="1" lang="en-US" sz="2200" spc="-1" strike="noStrike">
                <a:solidFill>
                  <a:srgbClr val="008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8" name="Object 149"/>
                <p:cNvSpPr txBox="1"/>
                <p:nvPr/>
              </p:nvSpPr>
              <p:spPr>
                <a:xfrm>
                  <a:off x="5587920" y="2662200"/>
                  <a:ext cx="231840" cy="65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79" name="Object 150"/>
                <p:cNvSpPr txBox="1"/>
                <p:nvPr/>
              </p:nvSpPr>
              <p:spPr>
                <a:xfrm>
                  <a:off x="6386400" y="2662200"/>
                  <a:ext cx="254160" cy="653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80" name="Text Box 13"/>
          <p:cNvSpPr/>
          <p:nvPr/>
        </p:nvSpPr>
        <p:spPr>
          <a:xfrm>
            <a:off x="3614760" y="1309680"/>
            <a:ext cx="71424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1" name="Text Box 2"/>
          <p:cNvSpPr/>
          <p:nvPr/>
        </p:nvSpPr>
        <p:spPr>
          <a:xfrm>
            <a:off x="533520" y="137160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算式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不能读作（   ）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A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与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差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B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与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和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C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与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的差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D.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减去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2" name="Text Box 68"/>
          <p:cNvSpPr/>
          <p:nvPr/>
        </p:nvSpPr>
        <p:spPr>
          <a:xfrm>
            <a:off x="2819520" y="2071800"/>
            <a:ext cx="53316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3" name="Text Box 146"/>
          <p:cNvSpPr/>
          <p:nvPr/>
        </p:nvSpPr>
        <p:spPr>
          <a:xfrm>
            <a:off x="533520" y="2147760"/>
            <a:ext cx="861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. 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2)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4)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;           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3)= </a:t>
            </a: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4" name="Text Box 147"/>
          <p:cNvSpPr/>
          <p:nvPr/>
        </p:nvSpPr>
        <p:spPr>
          <a:xfrm>
            <a:off x="5952960" y="2071800"/>
            <a:ext cx="533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5" name="Text Box 152"/>
          <p:cNvSpPr/>
          <p:nvPr/>
        </p:nvSpPr>
        <p:spPr>
          <a:xfrm>
            <a:off x="790560" y="325764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3-7=-10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6" name="Text Box 153"/>
          <p:cNvSpPr/>
          <p:nvPr/>
        </p:nvSpPr>
        <p:spPr>
          <a:xfrm>
            <a:off x="728640" y="4327560"/>
            <a:ext cx="32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3.4+4.7=1.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7" name="Text Box 154"/>
          <p:cNvSpPr/>
          <p:nvPr/>
        </p:nvSpPr>
        <p:spPr>
          <a:xfrm>
            <a:off x="5257800" y="4343400"/>
            <a:ext cx="31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5.9+5.1=-0.8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8" name="Text Box 155"/>
          <p:cNvSpPr/>
          <p:nvPr/>
        </p:nvSpPr>
        <p:spPr>
          <a:xfrm>
            <a:off x="762120" y="54100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-20-50+5=-65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89" name="Text Box 156"/>
          <p:cNvSpPr/>
          <p:nvPr/>
        </p:nvSpPr>
        <p:spPr>
          <a:xfrm>
            <a:off x="5257800" y="539604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原式</a:t>
            </a:r>
            <a:r>
              <a:rPr b="1" lang="en-US" sz="24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23-17+7-16=-3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0" name="Object 157"/>
              <p:cNvSpPr txBox="1"/>
              <p:nvPr/>
            </p:nvSpPr>
            <p:spPr>
              <a:xfrm>
                <a:off x="5334120" y="3200400"/>
                <a:ext cx="190332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原式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1" name="Rectangle 158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2" name="Rectangle 159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3" name="Rectangle 160">
            <a:hlinkClick r:id="rId1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4" name="Rectangle 161">
            <a:hlinkClick r:id="rId2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5" name="Rectangle 162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6" name="Rectangle 163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7" name="Rectangle 164">
            <a:hlinkClick r:id="rId3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98" name="Rectangle 165">
            <a:hlinkClick r:id="rId4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99" name="Picture 166" descr="对应练习副本"/>
          <p:cNvPicPr/>
          <p:nvPr/>
        </p:nvPicPr>
        <p:blipFill>
          <a:blip r:embed="rId5"/>
          <a:stretch/>
        </p:blipFill>
        <p:spPr>
          <a:xfrm>
            <a:off x="422280" y="457200"/>
            <a:ext cx="2473200" cy="838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2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2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7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3400200" y="1495440"/>
            <a:ext cx="23752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9900"/>
                </a:solidFill>
                <a:latin typeface="Arial"/>
              </a:rPr>
              <a:t>用有理数减法解决实际问题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01" name="Picture 3" descr="知识点二"/>
          <p:cNvPicPr/>
          <p:nvPr/>
        </p:nvPicPr>
        <p:blipFill>
          <a:blip r:embed="rId1"/>
          <a:stretch/>
        </p:blipFill>
        <p:spPr>
          <a:xfrm>
            <a:off x="914400" y="1447920"/>
            <a:ext cx="1905120" cy="63504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"/>
          <p:cNvSpPr/>
          <p:nvPr/>
        </p:nvSpPr>
        <p:spPr>
          <a:xfrm>
            <a:off x="1219320" y="2085840"/>
            <a:ext cx="91440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黑体"/>
              </a:rPr>
              <a:t>例题</a:t>
            </a:r>
            <a:r>
              <a:rPr b="0" lang="en-US" sz="2000" spc="-1" strike="noStrike">
                <a:solidFill>
                  <a:srgbClr val="000000"/>
                </a:solidFill>
                <a:latin typeface="黑体"/>
              </a:rPr>
              <a:t>2</a:t>
            </a:r>
            <a:endParaRPr b="1" lang="en-US" sz="2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03" name="Picture 7" descr="典例剖析"/>
          <p:cNvPicPr/>
          <p:nvPr/>
        </p:nvPicPr>
        <p:blipFill>
          <a:blip r:embed="rId2"/>
          <a:stretch/>
        </p:blipFill>
        <p:spPr>
          <a:xfrm>
            <a:off x="1219320" y="838080"/>
            <a:ext cx="1904760" cy="635040"/>
          </a:xfrm>
          <a:prstGeom prst="rect">
            <a:avLst/>
          </a:prstGeom>
          <a:ln w="0">
            <a:noFill/>
          </a:ln>
        </p:spPr>
      </p:pic>
      <p:sp>
        <p:nvSpPr>
          <p:cNvPr id="504" name="Text Box 8"/>
          <p:cNvSpPr/>
          <p:nvPr/>
        </p:nvSpPr>
        <p:spPr>
          <a:xfrm>
            <a:off x="228600" y="3795840"/>
            <a:ext cx="11556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解析：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5" name="Text Box 5"/>
          <p:cNvSpPr/>
          <p:nvPr/>
        </p:nvSpPr>
        <p:spPr>
          <a:xfrm>
            <a:off x="609480" y="2092320"/>
            <a:ext cx="861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全班学生分为五个组进行游戏，每组的基本分为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分，答对一题加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分，答错一题扣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</a:rPr>
              <a:t>分，游戏结束时，各组的分数如下：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6" name="Text Box 57"/>
          <p:cNvSpPr/>
          <p:nvPr/>
        </p:nvSpPr>
        <p:spPr>
          <a:xfrm>
            <a:off x="976320" y="3824280"/>
            <a:ext cx="82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由上表可以看出，第一名得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5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，第二名得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5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，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7" name="Text Box 71"/>
          <p:cNvSpPr/>
          <p:nvPr/>
        </p:nvSpPr>
        <p:spPr>
          <a:xfrm>
            <a:off x="976320" y="4176720"/>
            <a:ext cx="2757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第五名得了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0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1873080" y="2833560"/>
          <a:ext cx="5137200" cy="669960"/>
        </p:xfrm>
        <a:graphic>
          <a:graphicData uri="http://schemas.openxmlformats.org/drawingml/2006/table">
            <a:tbl>
              <a:tblPr/>
              <a:tblGrid>
                <a:gridCol w="1073160"/>
                <a:gridCol w="1016280"/>
                <a:gridCol w="1015920"/>
                <a:gridCol w="1015920"/>
                <a:gridCol w="1015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第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组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－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0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5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－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0</a:t>
                      </a:r>
                      <a:endParaRPr b="1" lang="en-US" sz="1600" spc="-1" strike="noStrike">
                        <a:solidFill>
                          <a:srgbClr val="008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Text Box 126"/>
          <p:cNvSpPr/>
          <p:nvPr/>
        </p:nvSpPr>
        <p:spPr>
          <a:xfrm>
            <a:off x="990720" y="3505320"/>
            <a:ext cx="8229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名超出第二名多少分？（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第一名超出第五名多少分？ 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0" name="Text Box 141"/>
          <p:cNvSpPr/>
          <p:nvPr/>
        </p:nvSpPr>
        <p:spPr>
          <a:xfrm>
            <a:off x="3657600" y="4176720"/>
            <a:ext cx="4648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5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50=20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分）；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1" name="Text Box 142"/>
          <p:cNvSpPr/>
          <p:nvPr/>
        </p:nvSpPr>
        <p:spPr>
          <a:xfrm>
            <a:off x="990720" y="457200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35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－（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40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=75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（分）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2" name="Text Box 143"/>
          <p:cNvSpPr/>
          <p:nvPr/>
        </p:nvSpPr>
        <p:spPr>
          <a:xfrm>
            <a:off x="1052640" y="4910040"/>
            <a:ext cx="80769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因此，第一名超出第二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20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，第一名超出第五名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750</a:t>
            </a:r>
            <a:r>
              <a:rPr b="1" lang="zh-CN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分</a:t>
            </a:r>
            <a:r>
              <a:rPr b="1" lang="en-US" sz="2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3" name="Text Box 144"/>
          <p:cNvSpPr/>
          <p:nvPr/>
        </p:nvSpPr>
        <p:spPr>
          <a:xfrm>
            <a:off x="152280" y="5345280"/>
            <a:ext cx="8991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在将实际问题转化为有理数减法运算时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要分清减数与被减数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要受小学减法运算的影响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被减数必须大于减数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这里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一名超出第二名的分数是用第一名的分数减去第二名的分数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它们大小没有关系</a:t>
            </a:r>
            <a:r>
              <a:rPr b="1" lang="en-US" sz="2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4" name="Text Box 145"/>
          <p:cNvSpPr/>
          <p:nvPr/>
        </p:nvSpPr>
        <p:spPr>
          <a:xfrm>
            <a:off x="332640" y="5334120"/>
            <a:ext cx="7048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beec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点评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5" name="Rectangle 146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6" name="Rectangle 147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7" name="Rectangle 148">
            <a:hlinkClick r:id="rId3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8" name="Rectangle 149">
            <a:hlinkClick r:id="rId4" action="ppaction://hlinksldjump"/>
          </p:cNvPr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19" name="Rectangle 150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0" name="Rectangle 151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1" name="Rectangle 152">
            <a:hlinkClick r:id="rId5" action="ppaction://hlinksldjump"/>
          </p:cNvPr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2" name="Rectangle 153">
            <a:hlinkClick r:id="rId6" action="ppaction://hlinksldjump"/>
          </p:cNvPr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3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2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 Box 2"/>
          <p:cNvSpPr/>
          <p:nvPr/>
        </p:nvSpPr>
        <p:spPr>
          <a:xfrm>
            <a:off x="380880" y="1905120"/>
            <a:ext cx="876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常人们将摄氏零上温度记为正数，零下温度记为负数，某市某天的最高气温是零上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最低气温是零下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℃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下列计算这天温差列式正确的是（   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－（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   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－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+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4" name="Text Box 50"/>
          <p:cNvSpPr/>
          <p:nvPr/>
        </p:nvSpPr>
        <p:spPr>
          <a:xfrm>
            <a:off x="3200400" y="2571840"/>
            <a:ext cx="533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C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5" name="Text Box 74"/>
          <p:cNvSpPr/>
          <p:nvPr/>
        </p:nvSpPr>
        <p:spPr>
          <a:xfrm>
            <a:off x="380880" y="42670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比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数是 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6" name="Rectangle 83"/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7" name="Rectangle 84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8" name="Rectangle 85">
            <a:hlinkClick r:id="rId1" action="ppaction://hlinksldjump"/>
          </p:cNvPr>
          <p:cNvSpPr/>
          <p:nvPr/>
        </p:nvSpPr>
        <p:spPr>
          <a:xfrm>
            <a:off x="2576520" y="652932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9" name="Rectangle 86"/>
          <p:cNvSpPr/>
          <p:nvPr/>
        </p:nvSpPr>
        <p:spPr>
          <a:xfrm>
            <a:off x="3719520" y="656748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0" name="Rectangle 87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1" name="Rectangle 88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2" name="Rectangle 89"/>
          <p:cNvSpPr/>
          <p:nvPr/>
        </p:nvSpPr>
        <p:spPr>
          <a:xfrm>
            <a:off x="4724280" y="6543720"/>
            <a:ext cx="1067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3" name="Rectangle 90"/>
          <p:cNvSpPr/>
          <p:nvPr/>
        </p:nvSpPr>
        <p:spPr>
          <a:xfrm>
            <a:off x="5867280" y="6581880"/>
            <a:ext cx="685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34" name="Text Box 114"/>
          <p:cNvSpPr/>
          <p:nvPr/>
        </p:nvSpPr>
        <p:spPr>
          <a:xfrm>
            <a:off x="3657600" y="4114800"/>
            <a:ext cx="5335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1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535" name="Picture 121" descr="对应练习副本"/>
          <p:cNvPicPr/>
          <p:nvPr/>
        </p:nvPicPr>
        <p:blipFill>
          <a:blip r:embed="rId2"/>
          <a:stretch/>
        </p:blipFill>
        <p:spPr>
          <a:xfrm>
            <a:off x="422280" y="838080"/>
            <a:ext cx="2473200" cy="8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0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1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2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3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4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5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6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7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2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4-07-19T06:49:58Z</dcterms:modified>
  <cp:revision>1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