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92C-564A-4EE7-BA6E-A8698D3D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563-0FAE-4485-BFD3-8B055D78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1C6-C789-4B42-871B-D4B58DD1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EE4-67EA-4FB1-94E3-39EFBE0C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B57-AC0F-4BBA-A329-C2B758D8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7F5-3ABD-44C9-927E-329919DE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F71-6991-4A62-A3D3-494905B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319-29E2-4848-BAF3-19BB518A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383-918E-4AED-8C7F-C8C351F0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9DF-3CA0-499A-8F3A-6210119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F16-1758-4002-BF8D-F5730F2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054-9F1D-4364-B29C-4D461CD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D93E-384B-49ED-9C3D-8180246C6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RT_002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20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09680" y="1295280"/>
            <a:ext cx="69343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小学数学第二册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548520" y="3429000"/>
            <a:ext cx="3701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两位数减两位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33ccff"/>
                </a:solidFill>
                <a:latin typeface="Times New Roman"/>
              </a:rPr>
              <a:t>（退位减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00440" y="8049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复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5720" y="2173320"/>
            <a:ext cx="11941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3-9=      17-8=       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32-5=      15-7=         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14-6=      40-3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7800" y="2057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4000" y="2057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0" y="327672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2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8040" y="34290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0" y="45720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ff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9960" y="457200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ff"/>
                </a:solidFill>
                <a:latin typeface="Times New Roman"/>
              </a:rPr>
              <a:t>3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48120" y="685800"/>
            <a:ext cx="55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8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用小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摆一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说算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0040" y="4266720"/>
            <a:ext cx="1750680" cy="1755720"/>
            <a:chOff x="320040" y="4266720"/>
            <a:chExt cx="1750680" cy="1755720"/>
          </a:xfrm>
        </p:grpSpPr>
        <p:sp>
          <p:nvSpPr>
            <p:cNvPr id="59" name=""/>
            <p:cNvSpPr/>
            <p:nvPr/>
          </p:nvSpPr>
          <p:spPr>
            <a:xfrm flipV="1" rot="600000">
              <a:off x="542160" y="4428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600000">
              <a:off x="656280" y="4418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600000">
              <a:off x="780120" y="4418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600000">
              <a:off x="456480" y="43617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600000">
              <a:off x="5896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600000">
              <a:off x="72324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600000">
              <a:off x="856440" y="4352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600000">
              <a:off x="532440" y="4276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600000">
              <a:off x="656280" y="4266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600000">
              <a:off x="789840" y="42760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486072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00000">
              <a:off x="1480320" y="44298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600000">
              <a:off x="1594440" y="4420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600000">
              <a:off x="1718280" y="44204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600000">
              <a:off x="1394640" y="4363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 rot="600000">
              <a:off x="1527840" y="4344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 rot="600000">
              <a:off x="1661400" y="43441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 rot="600000">
              <a:off x="1794600" y="43538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 rot="600000">
              <a:off x="1472040" y="427752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600000">
              <a:off x="1594440" y="426888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600000">
              <a:off x="1728000" y="4277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34960" y="486252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587120" y="2286000"/>
            <a:ext cx="871200" cy="1591920"/>
            <a:chOff x="4587120" y="2286000"/>
            <a:chExt cx="871200" cy="1591920"/>
          </a:xfrm>
        </p:grpSpPr>
        <p:sp>
          <p:nvSpPr>
            <p:cNvPr id="82" name=""/>
            <p:cNvSpPr/>
            <p:nvPr/>
          </p:nvSpPr>
          <p:spPr>
            <a:xfrm flipV="1" rot="600000">
              <a:off x="4724640" y="228564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600000">
              <a:off x="5181840" y="228564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48640" y="2209320"/>
            <a:ext cx="3731760" cy="1755720"/>
            <a:chOff x="548640" y="2209320"/>
            <a:chExt cx="3731760" cy="1755720"/>
          </a:xfrm>
        </p:grpSpPr>
        <p:grpSp>
          <p:nvGrpSpPr>
            <p:cNvPr id="85" name=""/>
            <p:cNvGrpSpPr/>
            <p:nvPr/>
          </p:nvGrpSpPr>
          <p:grpSpPr>
            <a:xfrm>
              <a:off x="548640" y="2209320"/>
              <a:ext cx="1750680" cy="1755720"/>
              <a:chOff x="548640" y="2209320"/>
              <a:chExt cx="1750680" cy="1755720"/>
            </a:xfrm>
          </p:grpSpPr>
          <p:sp>
            <p:nvSpPr>
              <p:cNvPr id="86" name=""/>
              <p:cNvSpPr/>
              <p:nvPr/>
            </p:nvSpPr>
            <p:spPr>
              <a:xfrm flipV="1" rot="600000">
                <a:off x="770760" y="2370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600000">
                <a:off x="88488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600000">
                <a:off x="100872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600000">
                <a:off x="685080" y="2304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600000">
                <a:off x="81828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600000">
                <a:off x="95184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600000">
                <a:off x="1085040" y="2294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600000">
                <a:off x="76104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 rot="600000">
                <a:off x="88488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 rot="600000">
                <a:off x="101844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5400" y="280332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 rot="600000">
                <a:off x="1708920" y="23724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 rot="600000">
                <a:off x="182304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 rot="600000">
                <a:off x="194688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 rot="600000">
                <a:off x="1623240" y="230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 rot="600000">
                <a:off x="175644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 rot="600000">
                <a:off x="189000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 rot="600000">
                <a:off x="2023200" y="2296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 rot="600000">
                <a:off x="1700640" y="222012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 rot="600000">
                <a:off x="1823040" y="221148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 rot="600000">
                <a:off x="1956600" y="2220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663560" y="280512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529720" y="2209320"/>
              <a:ext cx="1750680" cy="1755720"/>
              <a:chOff x="2529720" y="2209320"/>
              <a:chExt cx="1750680" cy="1755720"/>
            </a:xfrm>
          </p:grpSpPr>
          <p:sp>
            <p:nvSpPr>
              <p:cNvPr id="109" name=""/>
              <p:cNvSpPr/>
              <p:nvPr/>
            </p:nvSpPr>
            <p:spPr>
              <a:xfrm flipV="1" rot="600000">
                <a:off x="2751840" y="2370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 rot="600000">
                <a:off x="286596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 rot="600000">
                <a:off x="2989800" y="23612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 rot="600000">
                <a:off x="2666160" y="23043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 rot="600000">
                <a:off x="279936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 rot="600000">
                <a:off x="2932920" y="2285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 rot="600000">
                <a:off x="3066120" y="22946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 rot="600000">
                <a:off x="274212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 rot="600000">
                <a:off x="2865960" y="22089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 rot="600000">
                <a:off x="2999520" y="22186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06480" y="2803320"/>
                <a:ext cx="520560" cy="22572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 rot="600000">
                <a:off x="3690000" y="23724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 rot="600000">
                <a:off x="380412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 rot="600000">
                <a:off x="3927960" y="23630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600000">
                <a:off x="3604320" y="23058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00000">
                <a:off x="373752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600000">
                <a:off x="3871080" y="22867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600000">
                <a:off x="4004280" y="229644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 rot="600000">
                <a:off x="3681720" y="222012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600000">
                <a:off x="3804120" y="221148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00000">
                <a:off x="3937680" y="22201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44640" y="280512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2377440" y="4343040"/>
            <a:ext cx="3155760" cy="1593000"/>
            <a:chOff x="2377440" y="4343040"/>
            <a:chExt cx="3155760" cy="1593000"/>
          </a:xfrm>
        </p:grpSpPr>
        <p:sp>
          <p:nvSpPr>
            <p:cNvPr id="132" name=""/>
            <p:cNvSpPr/>
            <p:nvPr/>
          </p:nvSpPr>
          <p:spPr>
            <a:xfrm flipV="1" rot="600000">
              <a:off x="36568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600000">
              <a:off x="2513880" y="4343400"/>
              <a:ext cx="1414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600000">
              <a:off x="289656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600000">
              <a:off x="327744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600000">
              <a:off x="403812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600000">
              <a:off x="441900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600000">
              <a:off x="487620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600000">
              <a:off x="5257080" y="4342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0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929560" y="249552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48120" y="685800"/>
            <a:ext cx="551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8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样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先用小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摆一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说算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00920" y="2209320"/>
            <a:ext cx="4909680" cy="1755720"/>
            <a:chOff x="700920" y="2209320"/>
            <a:chExt cx="4909680" cy="1755720"/>
          </a:xfrm>
        </p:grpSpPr>
        <p:grpSp>
          <p:nvGrpSpPr>
            <p:cNvPr id="147" name=""/>
            <p:cNvGrpSpPr/>
            <p:nvPr/>
          </p:nvGrpSpPr>
          <p:grpSpPr>
            <a:xfrm>
              <a:off x="4739400" y="2286000"/>
              <a:ext cx="871200" cy="1591920"/>
              <a:chOff x="4739400" y="2286000"/>
              <a:chExt cx="871200" cy="1591920"/>
            </a:xfrm>
          </p:grpSpPr>
          <p:sp>
            <p:nvSpPr>
              <p:cNvPr id="148" name=""/>
              <p:cNvSpPr/>
              <p:nvPr/>
            </p:nvSpPr>
            <p:spPr>
              <a:xfrm flipV="1" rot="600000">
                <a:off x="4876920" y="22856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 rot="600000">
                <a:off x="5334120" y="2285640"/>
                <a:ext cx="1382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0920" y="2209320"/>
              <a:ext cx="3731760" cy="1755720"/>
              <a:chOff x="700920" y="2209320"/>
              <a:chExt cx="3731760" cy="175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00920" y="2209320"/>
                <a:ext cx="1750680" cy="1755720"/>
                <a:chOff x="700920" y="2209320"/>
                <a:chExt cx="1750680" cy="1755720"/>
              </a:xfrm>
            </p:grpSpPr>
            <p:sp>
              <p:nvSpPr>
                <p:cNvPr id="152" name=""/>
                <p:cNvSpPr/>
                <p:nvPr/>
              </p:nvSpPr>
              <p:spPr>
                <a:xfrm flipV="1" rot="600000">
                  <a:off x="923040" y="2370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 rot="600000">
                  <a:off x="103716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 rot="600000">
                  <a:off x="116100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 rot="600000">
                  <a:off x="837360" y="23043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 rot="600000">
                  <a:off x="97056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 rot="600000">
                  <a:off x="110412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 rot="600000">
                  <a:off x="1237320" y="22946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 rot="600000">
                  <a:off x="91332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 rot="600000">
                  <a:off x="1037160" y="2208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 rot="600000">
                  <a:off x="117072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77680" y="2803320"/>
                  <a:ext cx="520560" cy="22572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 rot="600000">
                  <a:off x="1861200" y="23724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 rot="600000">
                  <a:off x="197532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 rot="600000">
                  <a:off x="209916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 rot="600000">
                  <a:off x="1775520" y="23058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 rot="600000">
                  <a:off x="190872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 rot="600000">
                  <a:off x="204228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 rot="600000">
                  <a:off x="2175480" y="22964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 rot="600000">
                  <a:off x="1852920" y="2220120"/>
                  <a:ext cx="140040" cy="159228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 rot="600000">
                  <a:off x="1975320" y="2211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 rot="600000">
                  <a:off x="2108880" y="22201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15840" y="280512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682000" y="2209320"/>
                <a:ext cx="1750680" cy="1755720"/>
                <a:chOff x="2682000" y="2209320"/>
                <a:chExt cx="1750680" cy="1755720"/>
              </a:xfrm>
            </p:grpSpPr>
            <p:sp>
              <p:nvSpPr>
                <p:cNvPr id="175" name=""/>
                <p:cNvSpPr/>
                <p:nvPr/>
              </p:nvSpPr>
              <p:spPr>
                <a:xfrm flipV="1" rot="600000">
                  <a:off x="2904120" y="2370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 rot="600000">
                  <a:off x="301824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 rot="600000">
                  <a:off x="3142080" y="23612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 rot="600000">
                  <a:off x="2818440" y="23043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 rot="600000">
                  <a:off x="295164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 rot="600000">
                  <a:off x="3085200" y="22852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 rot="600000">
                  <a:off x="3218400" y="22946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 rot="600000">
                  <a:off x="289440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 rot="600000">
                  <a:off x="3018240" y="220896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 rot="600000">
                  <a:off x="3151800" y="221868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8760" y="2803320"/>
                  <a:ext cx="520560" cy="22572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 rot="600000">
                  <a:off x="3842280" y="23724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 rot="600000">
                  <a:off x="395640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 rot="600000">
                  <a:off x="4080240" y="23630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 rot="600000">
                  <a:off x="3756600" y="230580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 rot="600000">
                  <a:off x="388980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 rot="600000">
                  <a:off x="4023360" y="22867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 rot="600000">
                  <a:off x="4156560" y="229644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 rot="600000">
                  <a:off x="3834000" y="2220120"/>
                  <a:ext cx="140040" cy="159228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 rot="600000">
                  <a:off x="3956400" y="2211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 rot="600000">
                  <a:off x="4089960" y="2220120"/>
                  <a:ext cx="1396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96920" y="280512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" name=""/>
          <p:cNvSpPr/>
          <p:nvPr/>
        </p:nvSpPr>
        <p:spPr>
          <a:xfrm>
            <a:off x="3581280" y="40384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5400" y="236232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21760" y="31431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6360" y="4572000"/>
            <a:ext cx="8413560" cy="1829880"/>
            <a:chOff x="396360" y="4572000"/>
            <a:chExt cx="8413560" cy="1829880"/>
          </a:xfrm>
        </p:grpSpPr>
        <p:grpSp>
          <p:nvGrpSpPr>
            <p:cNvPr id="201" name=""/>
            <p:cNvGrpSpPr/>
            <p:nvPr/>
          </p:nvGrpSpPr>
          <p:grpSpPr>
            <a:xfrm>
              <a:off x="2377440" y="4647960"/>
              <a:ext cx="812880" cy="1753920"/>
              <a:chOff x="2377440" y="4647960"/>
              <a:chExt cx="812880" cy="1753920"/>
            </a:xfrm>
          </p:grpSpPr>
          <p:sp>
            <p:nvSpPr>
              <p:cNvPr id="202" name=""/>
              <p:cNvSpPr/>
              <p:nvPr/>
            </p:nvSpPr>
            <p:spPr>
              <a:xfrm flipV="1" rot="600000">
                <a:off x="2601000" y="4808880"/>
                <a:ext cx="14004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 rot="600000">
                <a:off x="2714040" y="4799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600000">
                <a:off x="2837880" y="47995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 rot="600000">
                <a:off x="2513880" y="474228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600000">
                <a:off x="2647440" y="4723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600000">
                <a:off x="2780640" y="4723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 rot="600000">
                <a:off x="2914200" y="473292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600000">
                <a:off x="2590200" y="4656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 rot="600000">
                <a:off x="2714040" y="4647960"/>
                <a:ext cx="139680" cy="159156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 rot="600000">
                <a:off x="2847240" y="46566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54560" y="5241600"/>
                <a:ext cx="520560" cy="225360"/>
              </a:xfrm>
              <a:custGeom>
                <a:avLst/>
                <a:gdLst/>
                <a:ahLst/>
                <a:rect l="l" t="t" r="r" b="b"/>
                <a:pathLst>
                  <a:path w="420" h="153">
                    <a:moveTo>
                      <a:pt x="0" y="133"/>
                    </a:moveTo>
                    <a:cubicBezTo>
                      <a:pt x="10" y="103"/>
                      <a:pt x="0" y="117"/>
                      <a:pt x="42" y="103"/>
                    </a:cubicBezTo>
                    <a:cubicBezTo>
                      <a:pt x="68" y="94"/>
                      <a:pt x="88" y="64"/>
                      <a:pt x="114" y="55"/>
                    </a:cubicBezTo>
                    <a:cubicBezTo>
                      <a:pt x="157" y="41"/>
                      <a:pt x="139" y="50"/>
                      <a:pt x="168" y="31"/>
                    </a:cubicBezTo>
                    <a:cubicBezTo>
                      <a:pt x="192" y="33"/>
                      <a:pt x="218" y="27"/>
                      <a:pt x="240" y="37"/>
                    </a:cubicBezTo>
                    <a:cubicBezTo>
                      <a:pt x="273" y="52"/>
                      <a:pt x="223" y="65"/>
                      <a:pt x="216" y="67"/>
                    </a:cubicBezTo>
                    <a:cubicBezTo>
                      <a:pt x="204" y="63"/>
                      <a:pt x="192" y="59"/>
                      <a:pt x="180" y="55"/>
                    </a:cubicBezTo>
                    <a:cubicBezTo>
                      <a:pt x="174" y="53"/>
                      <a:pt x="162" y="49"/>
                      <a:pt x="162" y="49"/>
                    </a:cubicBezTo>
                    <a:cubicBezTo>
                      <a:pt x="146" y="0"/>
                      <a:pt x="173" y="14"/>
                      <a:pt x="222" y="19"/>
                    </a:cubicBezTo>
                    <a:cubicBezTo>
                      <a:pt x="228" y="21"/>
                      <a:pt x="234" y="22"/>
                      <a:pt x="240" y="25"/>
                    </a:cubicBezTo>
                    <a:cubicBezTo>
                      <a:pt x="246" y="28"/>
                      <a:pt x="251" y="34"/>
                      <a:pt x="258" y="37"/>
                    </a:cubicBezTo>
                    <a:cubicBezTo>
                      <a:pt x="270" y="42"/>
                      <a:pt x="294" y="49"/>
                      <a:pt x="294" y="49"/>
                    </a:cubicBezTo>
                    <a:cubicBezTo>
                      <a:pt x="304" y="47"/>
                      <a:pt x="316" y="49"/>
                      <a:pt x="324" y="43"/>
                    </a:cubicBezTo>
                    <a:cubicBezTo>
                      <a:pt x="350" y="26"/>
                      <a:pt x="311" y="5"/>
                      <a:pt x="300" y="1"/>
                    </a:cubicBezTo>
                    <a:cubicBezTo>
                      <a:pt x="286" y="3"/>
                      <a:pt x="272" y="3"/>
                      <a:pt x="258" y="7"/>
                    </a:cubicBezTo>
                    <a:cubicBezTo>
                      <a:pt x="248" y="10"/>
                      <a:pt x="226" y="23"/>
                      <a:pt x="246" y="37"/>
                    </a:cubicBezTo>
                    <a:cubicBezTo>
                      <a:pt x="256" y="44"/>
                      <a:pt x="270" y="45"/>
                      <a:pt x="282" y="49"/>
                    </a:cubicBezTo>
                    <a:cubicBezTo>
                      <a:pt x="313" y="59"/>
                      <a:pt x="342" y="75"/>
                      <a:pt x="372" y="85"/>
                    </a:cubicBezTo>
                    <a:cubicBezTo>
                      <a:pt x="386" y="106"/>
                      <a:pt x="386" y="119"/>
                      <a:pt x="408" y="133"/>
                    </a:cubicBezTo>
                    <a:cubicBezTo>
                      <a:pt x="415" y="153"/>
                      <a:pt x="408" y="151"/>
                      <a:pt x="420" y="151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6360" y="4572000"/>
              <a:ext cx="8413560" cy="1755000"/>
              <a:chOff x="396360" y="4572000"/>
              <a:chExt cx="8413560" cy="175500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396360" y="4572000"/>
                <a:ext cx="1750680" cy="1755000"/>
                <a:chOff x="396360" y="4572000"/>
                <a:chExt cx="1750680" cy="1755000"/>
              </a:xfrm>
            </p:grpSpPr>
            <p:sp>
              <p:nvSpPr>
                <p:cNvPr id="215" name=""/>
                <p:cNvSpPr/>
                <p:nvPr/>
              </p:nvSpPr>
              <p:spPr>
                <a:xfrm flipV="1" rot="600000">
                  <a:off x="618480" y="473364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 rot="600000">
                  <a:off x="732600" y="47239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 rot="600000">
                  <a:off x="856440" y="47239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600000">
                  <a:off x="532800" y="466704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 rot="600000">
                  <a:off x="666000" y="46479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 rot="600000">
                  <a:off x="799560" y="46479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 rot="600000">
                  <a:off x="932760" y="46573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 rot="600000">
                  <a:off x="608760" y="45813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 rot="600000">
                  <a:off x="732600" y="45720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 rot="600000">
                  <a:off x="866160" y="458136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3120" y="5165280"/>
                  <a:ext cx="520560" cy="22536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 rot="600000">
                  <a:off x="1556640" y="47350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600000">
                  <a:off x="1670760" y="47257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600000">
                  <a:off x="1794600" y="47257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 rot="600000">
                  <a:off x="1470960" y="46684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 rot="600000">
                  <a:off x="1604160" y="46494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 rot="600000">
                  <a:off x="1737720" y="46494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 rot="600000">
                  <a:off x="1870920" y="465912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 rot="600000">
                  <a:off x="1548360" y="4582080"/>
                  <a:ext cx="1400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 rot="600000">
                  <a:off x="1670400" y="4572720"/>
                  <a:ext cx="139680" cy="159120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V="1" rot="600000">
                  <a:off x="1804320" y="458280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11280" y="5167080"/>
                  <a:ext cx="520560" cy="225000"/>
                </a:xfrm>
                <a:custGeom>
                  <a:avLst/>
                  <a:gdLst/>
                  <a:ahLst/>
                  <a:rect l="l" t="t" r="r" b="b"/>
                  <a:pathLst>
                    <a:path w="420" h="153">
                      <a:moveTo>
                        <a:pt x="0" y="133"/>
                      </a:moveTo>
                      <a:cubicBezTo>
                        <a:pt x="10" y="103"/>
                        <a:pt x="0" y="117"/>
                        <a:pt x="42" y="103"/>
                      </a:cubicBezTo>
                      <a:cubicBezTo>
                        <a:pt x="68" y="94"/>
                        <a:pt x="88" y="64"/>
                        <a:pt x="114" y="55"/>
                      </a:cubicBezTo>
                      <a:cubicBezTo>
                        <a:pt x="157" y="41"/>
                        <a:pt x="139" y="50"/>
                        <a:pt x="168" y="31"/>
                      </a:cubicBezTo>
                      <a:cubicBezTo>
                        <a:pt x="192" y="33"/>
                        <a:pt x="218" y="27"/>
                        <a:pt x="240" y="37"/>
                      </a:cubicBezTo>
                      <a:cubicBezTo>
                        <a:pt x="273" y="52"/>
                        <a:pt x="223" y="65"/>
                        <a:pt x="216" y="67"/>
                      </a:cubicBezTo>
                      <a:cubicBezTo>
                        <a:pt x="204" y="63"/>
                        <a:pt x="192" y="59"/>
                        <a:pt x="180" y="55"/>
                      </a:cubicBezTo>
                      <a:cubicBezTo>
                        <a:pt x="174" y="53"/>
                        <a:pt x="162" y="49"/>
                        <a:pt x="162" y="49"/>
                      </a:cubicBezTo>
                      <a:cubicBezTo>
                        <a:pt x="146" y="0"/>
                        <a:pt x="173" y="14"/>
                        <a:pt x="222" y="19"/>
                      </a:cubicBezTo>
                      <a:cubicBezTo>
                        <a:pt x="228" y="21"/>
                        <a:pt x="234" y="22"/>
                        <a:pt x="240" y="25"/>
                      </a:cubicBezTo>
                      <a:cubicBezTo>
                        <a:pt x="246" y="28"/>
                        <a:pt x="251" y="34"/>
                        <a:pt x="258" y="37"/>
                      </a:cubicBezTo>
                      <a:cubicBezTo>
                        <a:pt x="270" y="42"/>
                        <a:pt x="294" y="49"/>
                        <a:pt x="294" y="49"/>
                      </a:cubicBezTo>
                      <a:cubicBezTo>
                        <a:pt x="304" y="47"/>
                        <a:pt x="316" y="49"/>
                        <a:pt x="324" y="43"/>
                      </a:cubicBezTo>
                      <a:cubicBezTo>
                        <a:pt x="350" y="26"/>
                        <a:pt x="311" y="5"/>
                        <a:pt x="300" y="1"/>
                      </a:cubicBezTo>
                      <a:cubicBezTo>
                        <a:pt x="286" y="3"/>
                        <a:pt x="272" y="3"/>
                        <a:pt x="258" y="7"/>
                      </a:cubicBezTo>
                      <a:cubicBezTo>
                        <a:pt x="248" y="10"/>
                        <a:pt x="226" y="23"/>
                        <a:pt x="246" y="37"/>
                      </a:cubicBezTo>
                      <a:cubicBezTo>
                        <a:pt x="256" y="44"/>
                        <a:pt x="270" y="45"/>
                        <a:pt x="282" y="49"/>
                      </a:cubicBezTo>
                      <a:cubicBezTo>
                        <a:pt x="313" y="59"/>
                        <a:pt x="342" y="75"/>
                        <a:pt x="372" y="85"/>
                      </a:cubicBezTo>
                      <a:cubicBezTo>
                        <a:pt x="386" y="106"/>
                        <a:pt x="386" y="119"/>
                        <a:pt x="408" y="133"/>
                      </a:cubicBezTo>
                      <a:cubicBezTo>
                        <a:pt x="415" y="153"/>
                        <a:pt x="408" y="151"/>
                        <a:pt x="420" y="151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444480" y="4735440"/>
                <a:ext cx="1862280" cy="1591560"/>
                <a:chOff x="3444480" y="4735440"/>
                <a:chExt cx="1862280" cy="1591560"/>
              </a:xfrm>
            </p:grpSpPr>
            <p:sp>
              <p:nvSpPr>
                <p:cNvPr id="238" name=""/>
                <p:cNvSpPr/>
                <p:nvPr/>
              </p:nvSpPr>
              <p:spPr>
                <a:xfrm flipV="1" rot="600000">
                  <a:off x="3582000" y="4734720"/>
                  <a:ext cx="1382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600000">
                  <a:off x="4039200" y="4734720"/>
                  <a:ext cx="13824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 rot="600000">
                  <a:off x="4573440" y="4734720"/>
                  <a:ext cx="1378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00000">
                  <a:off x="5030640" y="4734720"/>
                  <a:ext cx="137880" cy="159192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425560" y="4734720"/>
                <a:ext cx="3384360" cy="1592280"/>
                <a:chOff x="5425560" y="4734720"/>
                <a:chExt cx="3384360" cy="1592280"/>
              </a:xfrm>
            </p:grpSpPr>
            <p:sp>
              <p:nvSpPr>
                <p:cNvPr id="243" name=""/>
                <p:cNvSpPr/>
                <p:nvPr/>
              </p:nvSpPr>
              <p:spPr>
                <a:xfrm flipV="1" rot="600000">
                  <a:off x="6705000" y="4735080"/>
                  <a:ext cx="139680" cy="1591560"/>
                </a:xfrm>
                <a:prstGeom prst="can">
                  <a:avLst>
                    <a:gd name="adj" fmla="val 4041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5425560" y="4734720"/>
                  <a:ext cx="3384360" cy="1592280"/>
                  <a:chOff x="5425560" y="4734720"/>
                  <a:chExt cx="3384360" cy="15922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V="1" rot="600000">
                    <a:off x="5562360" y="4734360"/>
                    <a:ext cx="141120" cy="159192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V="1" rot="600000">
                    <a:off x="594432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 rot="600000">
                    <a:off x="632556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V="1" rot="600000">
                    <a:off x="708588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V="1" rot="600000">
                    <a:off x="739080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 rot="600000">
                    <a:off x="815256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 rot="600000">
                    <a:off x="8533800" y="4735080"/>
                    <a:ext cx="139680" cy="1591560"/>
                  </a:xfrm>
                  <a:prstGeom prst="can">
                    <a:avLst>
                      <a:gd name="adj" fmla="val 4041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3429000" y="5488920"/>
                <a:ext cx="426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72320" y="4876560"/>
            <a:ext cx="1750680" cy="1755720"/>
            <a:chOff x="472320" y="4876560"/>
            <a:chExt cx="1750680" cy="1755720"/>
          </a:xfrm>
        </p:grpSpPr>
        <p:sp>
          <p:nvSpPr>
            <p:cNvPr id="255" name=""/>
            <p:cNvSpPr/>
            <p:nvPr/>
          </p:nvSpPr>
          <p:spPr>
            <a:xfrm flipV="1" rot="600000">
              <a:off x="69444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600000">
              <a:off x="80856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 rot="600000">
              <a:off x="93240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 rot="600000">
              <a:off x="60876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600000">
              <a:off x="74196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600000">
              <a:off x="87552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600000">
              <a:off x="100872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600000">
              <a:off x="6847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600000">
              <a:off x="8085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600000">
              <a:off x="9421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08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600000">
              <a:off x="163260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600000">
              <a:off x="174672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600000">
              <a:off x="187056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600000">
              <a:off x="154692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600000">
              <a:off x="16801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600000">
              <a:off x="181368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600000">
              <a:off x="194688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600000">
              <a:off x="162432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 rot="600000">
              <a:off x="174672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 rot="600000">
              <a:off x="18802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724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377440" y="4876920"/>
            <a:ext cx="812880" cy="1753920"/>
            <a:chOff x="2377440" y="4876920"/>
            <a:chExt cx="812880" cy="1753920"/>
          </a:xfrm>
        </p:grpSpPr>
        <p:sp>
          <p:nvSpPr>
            <p:cNvPr id="278" name=""/>
            <p:cNvSpPr/>
            <p:nvPr/>
          </p:nvSpPr>
          <p:spPr>
            <a:xfrm flipV="1" rot="600000">
              <a:off x="2601000" y="50378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 rot="600000">
              <a:off x="271404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600000">
              <a:off x="28378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600000">
              <a:off x="2513880" y="4971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 rot="600000">
              <a:off x="26474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 rot="600000">
              <a:off x="27806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600000">
              <a:off x="291420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00000">
              <a:off x="259020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00000">
              <a:off x="2714040" y="48769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00000">
              <a:off x="284724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54560" y="54705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368160" y="4952880"/>
            <a:ext cx="1862280" cy="1591920"/>
            <a:chOff x="3368160" y="4952880"/>
            <a:chExt cx="1862280" cy="1591920"/>
          </a:xfrm>
        </p:grpSpPr>
        <p:sp>
          <p:nvSpPr>
            <p:cNvPr id="290" name=""/>
            <p:cNvSpPr/>
            <p:nvPr/>
          </p:nvSpPr>
          <p:spPr>
            <a:xfrm flipV="1" rot="600000">
              <a:off x="35056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600000">
              <a:off x="39628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600000">
              <a:off x="44971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 rot="600000">
              <a:off x="49543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501520" y="4952520"/>
            <a:ext cx="3384360" cy="1593000"/>
            <a:chOff x="5501520" y="4952520"/>
            <a:chExt cx="3384360" cy="1593000"/>
          </a:xfrm>
        </p:grpSpPr>
        <p:sp>
          <p:nvSpPr>
            <p:cNvPr id="295" name=""/>
            <p:cNvSpPr/>
            <p:nvPr/>
          </p:nvSpPr>
          <p:spPr>
            <a:xfrm flipV="1" rot="600000">
              <a:off x="678096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501520" y="4952520"/>
              <a:ext cx="3384360" cy="1593000"/>
              <a:chOff x="5501520" y="4952520"/>
              <a:chExt cx="3384360" cy="1593000"/>
            </a:xfrm>
          </p:grpSpPr>
          <p:sp>
            <p:nvSpPr>
              <p:cNvPr id="297" name=""/>
              <p:cNvSpPr/>
              <p:nvPr/>
            </p:nvSpPr>
            <p:spPr>
              <a:xfrm flipV="1" rot="600000">
                <a:off x="5638320" y="495288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 rot="600000">
                <a:off x="602028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600000">
                <a:off x="64015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 rot="600000">
                <a:off x="716184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 rot="600000">
                <a:off x="74667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600000">
                <a:off x="82285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 rot="600000">
                <a:off x="86097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04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00400" y="5867280"/>
            <a:ext cx="44956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5520" y="-1752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1880" y="-990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54280" y="609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144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9144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4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 2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3962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905120"/>
            <a:ext cx="449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个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么办 ？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24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85800" y="1981080"/>
            <a:ext cx="4572000" cy="2743200"/>
            <a:chOff x="685800" y="1981080"/>
            <a:chExt cx="4572000" cy="2743200"/>
          </a:xfrm>
        </p:grpSpPr>
        <p:grpSp>
          <p:nvGrpSpPr>
            <p:cNvPr id="315" name=""/>
            <p:cNvGrpSpPr/>
            <p:nvPr/>
          </p:nvGrpSpPr>
          <p:grpSpPr>
            <a:xfrm>
              <a:off x="685800" y="1981080"/>
              <a:ext cx="4571640" cy="2743200"/>
              <a:chOff x="685800" y="1981080"/>
              <a:chExt cx="4571640" cy="2743200"/>
            </a:xfrm>
          </p:grpSpPr>
          <p:sp>
            <p:nvSpPr>
              <p:cNvPr id="316" name=""/>
              <p:cNvSpPr/>
              <p:nvPr/>
            </p:nvSpPr>
            <p:spPr>
              <a:xfrm>
                <a:off x="685800" y="19810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580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85800" y="47242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5744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85800" y="3352680"/>
              <a:ext cx="4572000" cy="0"/>
            </a:xfrm>
            <a:prstGeom prst="line">
              <a:avLst/>
            </a:prstGeom>
            <a:ln w="475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4920" y="4876920"/>
            <a:ext cx="1981080" cy="1828800"/>
            <a:chOff x="304920" y="4876920"/>
            <a:chExt cx="1981080" cy="1828800"/>
          </a:xfrm>
        </p:grpSpPr>
        <p:sp>
          <p:nvSpPr>
            <p:cNvPr id="322" name=""/>
            <p:cNvSpPr/>
            <p:nvPr/>
          </p:nvSpPr>
          <p:spPr>
            <a:xfrm>
              <a:off x="304920" y="48769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92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920" y="67057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257800" y="4876920"/>
            <a:ext cx="3657600" cy="1752480"/>
            <a:chOff x="5257800" y="4876920"/>
            <a:chExt cx="3657600" cy="1752480"/>
          </a:xfrm>
        </p:grpSpPr>
        <p:sp>
          <p:nvSpPr>
            <p:cNvPr id="327" name=""/>
            <p:cNvSpPr/>
            <p:nvPr/>
          </p:nvSpPr>
          <p:spPr>
            <a:xfrm>
              <a:off x="5257800" y="487692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578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57800" y="662940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9154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425560" y="4876560"/>
            <a:ext cx="3384360" cy="1593000"/>
            <a:chOff x="5425560" y="4876560"/>
            <a:chExt cx="3384360" cy="1593000"/>
          </a:xfrm>
        </p:grpSpPr>
        <p:sp>
          <p:nvSpPr>
            <p:cNvPr id="332" name=""/>
            <p:cNvSpPr/>
            <p:nvPr/>
          </p:nvSpPr>
          <p:spPr>
            <a:xfrm flipV="1" rot="600000">
              <a:off x="670500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25560" y="4876560"/>
              <a:ext cx="3384360" cy="1593000"/>
              <a:chOff x="5425560" y="4876560"/>
              <a:chExt cx="3384360" cy="1593000"/>
            </a:xfrm>
          </p:grpSpPr>
          <p:sp>
            <p:nvSpPr>
              <p:cNvPr id="334" name=""/>
              <p:cNvSpPr/>
              <p:nvPr/>
            </p:nvSpPr>
            <p:spPr>
              <a:xfrm flipV="1" rot="600000">
                <a:off x="5562360" y="487692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 rot="600000">
                <a:off x="594432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 rot="600000">
                <a:off x="632556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 rot="600000">
                <a:off x="708588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 rot="600000">
                <a:off x="739080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 rot="600000">
                <a:off x="815256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 rot="600000">
                <a:off x="8533800" y="487620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5425560" y="4952520"/>
            <a:ext cx="3384360" cy="1593000"/>
            <a:chOff x="5425560" y="4952520"/>
            <a:chExt cx="3384360" cy="1593000"/>
          </a:xfrm>
        </p:grpSpPr>
        <p:sp>
          <p:nvSpPr>
            <p:cNvPr id="342" name=""/>
            <p:cNvSpPr/>
            <p:nvPr/>
          </p:nvSpPr>
          <p:spPr>
            <a:xfrm flipV="1" rot="600000">
              <a:off x="670500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425560" y="4952520"/>
              <a:ext cx="3384360" cy="1593000"/>
              <a:chOff x="5425560" y="4952520"/>
              <a:chExt cx="3384360" cy="1593000"/>
            </a:xfrm>
          </p:grpSpPr>
          <p:sp>
            <p:nvSpPr>
              <p:cNvPr id="344" name=""/>
              <p:cNvSpPr/>
              <p:nvPr/>
            </p:nvSpPr>
            <p:spPr>
              <a:xfrm flipV="1" rot="600000">
                <a:off x="5562360" y="4952880"/>
                <a:ext cx="141120" cy="159228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 rot="600000">
                <a:off x="594432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 rot="600000">
                <a:off x="63255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 rot="600000">
                <a:off x="708588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 rot="600000">
                <a:off x="739080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 rot="600000">
                <a:off x="815256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 rot="600000">
                <a:off x="8533800" y="4952160"/>
                <a:ext cx="139680" cy="1591920"/>
              </a:xfrm>
              <a:prstGeom prst="can">
                <a:avLst>
                  <a:gd name="adj" fmla="val 4041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6248520" y="21337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5000" y="20574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21360" y="129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1295280"/>
            <a:ext cx="4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6280" y="3733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20040" y="4876560"/>
            <a:ext cx="1750680" cy="1755720"/>
            <a:chOff x="320040" y="4876560"/>
            <a:chExt cx="1750680" cy="1755720"/>
          </a:xfrm>
        </p:grpSpPr>
        <p:sp>
          <p:nvSpPr>
            <p:cNvPr id="358" name=""/>
            <p:cNvSpPr/>
            <p:nvPr/>
          </p:nvSpPr>
          <p:spPr>
            <a:xfrm flipV="1" rot="600000">
              <a:off x="54216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600000">
              <a:off x="6562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600000">
              <a:off x="78012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600000">
              <a:off x="45648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600000">
              <a:off x="58968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600000">
              <a:off x="72324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600000">
              <a:off x="85644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600000">
              <a:off x="53244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600000">
              <a:off x="65628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600000">
              <a:off x="78984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680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600000">
              <a:off x="148032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600000">
              <a:off x="159444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600000">
              <a:off x="171828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 rot="600000">
              <a:off x="139464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 rot="600000">
              <a:off x="152784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 rot="600000">
              <a:off x="166140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600000">
              <a:off x="179460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 rot="600000">
              <a:off x="147204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 rot="600000">
              <a:off x="159444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 rot="600000">
              <a:off x="172800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3496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77440" y="4876920"/>
            <a:ext cx="812880" cy="1753920"/>
            <a:chOff x="2377440" y="4876920"/>
            <a:chExt cx="812880" cy="1753920"/>
          </a:xfrm>
        </p:grpSpPr>
        <p:sp>
          <p:nvSpPr>
            <p:cNvPr id="381" name=""/>
            <p:cNvSpPr/>
            <p:nvPr/>
          </p:nvSpPr>
          <p:spPr>
            <a:xfrm flipV="1" rot="600000">
              <a:off x="2601000" y="50378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 rot="600000">
              <a:off x="271404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 rot="600000">
              <a:off x="283788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600000">
              <a:off x="2513880" y="49712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600000">
              <a:off x="26474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600000">
              <a:off x="278064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600000">
              <a:off x="291420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600000">
              <a:off x="259020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600000">
              <a:off x="2714040" y="48769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600000">
              <a:off x="284724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54560" y="54705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368160" y="4952880"/>
            <a:ext cx="1862280" cy="1591920"/>
            <a:chOff x="3368160" y="4952880"/>
            <a:chExt cx="1862280" cy="1591920"/>
          </a:xfrm>
        </p:grpSpPr>
        <p:sp>
          <p:nvSpPr>
            <p:cNvPr id="393" name=""/>
            <p:cNvSpPr/>
            <p:nvPr/>
          </p:nvSpPr>
          <p:spPr>
            <a:xfrm flipV="1" rot="600000">
              <a:off x="35056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600000">
              <a:off x="3962880" y="4952520"/>
              <a:ext cx="1382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600000">
              <a:off x="44971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600000">
              <a:off x="4954320" y="4952520"/>
              <a:ext cx="13788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200400" y="5867280"/>
            <a:ext cx="44956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05520" y="-1752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-990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54280" y="60948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-28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1447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914400"/>
            <a:ext cx="2057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4 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 2 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0080" y="3962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905120"/>
            <a:ext cx="449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个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么办 ？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2224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5800" y="1981080"/>
            <a:ext cx="4572000" cy="2743200"/>
            <a:chOff x="685800" y="1981080"/>
            <a:chExt cx="4572000" cy="2743200"/>
          </a:xfrm>
        </p:grpSpPr>
        <p:grpSp>
          <p:nvGrpSpPr>
            <p:cNvPr id="408" name=""/>
            <p:cNvGrpSpPr/>
            <p:nvPr/>
          </p:nvGrpSpPr>
          <p:grpSpPr>
            <a:xfrm>
              <a:off x="685800" y="1981080"/>
              <a:ext cx="4571640" cy="2743200"/>
              <a:chOff x="685800" y="1981080"/>
              <a:chExt cx="4571640" cy="2743200"/>
            </a:xfrm>
          </p:grpSpPr>
          <p:sp>
            <p:nvSpPr>
              <p:cNvPr id="409" name=""/>
              <p:cNvSpPr/>
              <p:nvPr/>
            </p:nvSpPr>
            <p:spPr>
              <a:xfrm>
                <a:off x="685800" y="19810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5800" y="4724280"/>
                <a:ext cx="4571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57440" y="1981080"/>
                <a:ext cx="0" cy="2743200"/>
              </a:xfrm>
              <a:prstGeom prst="line">
                <a:avLst/>
              </a:prstGeom>
              <a:ln w="38160">
                <a:solidFill>
                  <a:srgbClr val="ff00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5800" y="3352680"/>
              <a:ext cx="4572000" cy="0"/>
            </a:xfrm>
            <a:prstGeom prst="line">
              <a:avLst/>
            </a:prstGeom>
            <a:ln w="4752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04920" y="4876920"/>
            <a:ext cx="1981080" cy="1828800"/>
            <a:chOff x="304920" y="4876920"/>
            <a:chExt cx="1981080" cy="1828800"/>
          </a:xfrm>
        </p:grpSpPr>
        <p:sp>
          <p:nvSpPr>
            <p:cNvPr id="415" name=""/>
            <p:cNvSpPr/>
            <p:nvPr/>
          </p:nvSpPr>
          <p:spPr>
            <a:xfrm>
              <a:off x="304920" y="48769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92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920" y="6705720"/>
              <a:ext cx="1981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4876920"/>
              <a:ext cx="0" cy="18288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57800" y="4876920"/>
            <a:ext cx="3657600" cy="1752480"/>
            <a:chOff x="5257800" y="4876920"/>
            <a:chExt cx="3657600" cy="1752480"/>
          </a:xfrm>
        </p:grpSpPr>
        <p:sp>
          <p:nvSpPr>
            <p:cNvPr id="420" name=""/>
            <p:cNvSpPr/>
            <p:nvPr/>
          </p:nvSpPr>
          <p:spPr>
            <a:xfrm>
              <a:off x="5257800" y="487692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578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7800" y="6629400"/>
              <a:ext cx="365760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915400" y="4876920"/>
              <a:ext cx="0" cy="175248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43720" y="4876560"/>
            <a:ext cx="1750680" cy="1755720"/>
            <a:chOff x="243720" y="4876560"/>
            <a:chExt cx="1750680" cy="1755720"/>
          </a:xfrm>
        </p:grpSpPr>
        <p:sp>
          <p:nvSpPr>
            <p:cNvPr id="425" name=""/>
            <p:cNvSpPr/>
            <p:nvPr/>
          </p:nvSpPr>
          <p:spPr>
            <a:xfrm flipV="1" rot="600000">
              <a:off x="465840" y="5038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 rot="600000">
              <a:off x="57996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 rot="600000">
              <a:off x="703800" y="50284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 rot="600000">
              <a:off x="380160" y="4971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 rot="600000">
              <a:off x="51336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 rot="600000">
              <a:off x="646920" y="49525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 rot="600000">
              <a:off x="78012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 rot="600000">
              <a:off x="4561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 rot="600000">
              <a:off x="5799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 rot="600000">
              <a:off x="713520" y="48859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480" y="547056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600000">
              <a:off x="1404000" y="5039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600000">
              <a:off x="151812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600000">
              <a:off x="1641960" y="5030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600000">
              <a:off x="1318320" y="4973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600000">
              <a:off x="14515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 rot="600000">
              <a:off x="158508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 rot="600000">
              <a:off x="1718280" y="49636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600000">
              <a:off x="1395720" y="488736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 rot="600000">
              <a:off x="1518120" y="487872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 rot="600000">
              <a:off x="16516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58640" y="547236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720" y="4800240"/>
            <a:ext cx="1750680" cy="1755720"/>
            <a:chOff x="243720" y="4800240"/>
            <a:chExt cx="1750680" cy="1755720"/>
          </a:xfrm>
        </p:grpSpPr>
        <p:sp>
          <p:nvSpPr>
            <p:cNvPr id="448" name=""/>
            <p:cNvSpPr/>
            <p:nvPr/>
          </p:nvSpPr>
          <p:spPr>
            <a:xfrm flipV="1" rot="600000">
              <a:off x="465840" y="4961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600000">
              <a:off x="57996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600000">
              <a:off x="703800" y="49521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600000">
              <a:off x="380160" y="48952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600000">
              <a:off x="51336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600000">
              <a:off x="646920" y="48762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600000">
              <a:off x="780120" y="48855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600000">
              <a:off x="456120" y="4809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600000">
              <a:off x="579960" y="479988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600000">
              <a:off x="713520" y="480960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0480" y="5394240"/>
              <a:ext cx="520560" cy="22572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600000">
              <a:off x="1404000" y="49633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600000">
              <a:off x="151812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 rot="600000">
              <a:off x="1641960" y="49539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 rot="600000">
              <a:off x="1318320" y="489672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 rot="600000">
              <a:off x="1451520" y="4877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 rot="600000">
              <a:off x="1585080" y="48776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 rot="600000">
              <a:off x="1718280" y="488736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600000">
              <a:off x="1395720" y="4811040"/>
              <a:ext cx="140040" cy="159228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600000">
              <a:off x="1518120" y="4802400"/>
              <a:ext cx="139680" cy="159156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600000">
              <a:off x="1651680" y="4811040"/>
              <a:ext cx="139680" cy="1591920"/>
            </a:xfrm>
            <a:prstGeom prst="can">
              <a:avLst>
                <a:gd name="adj" fmla="val 4041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58640" y="5396040"/>
              <a:ext cx="520560" cy="225360"/>
            </a:xfrm>
            <a:custGeom>
              <a:avLst/>
              <a:gdLst/>
              <a:ahLst/>
              <a:rect l="l" t="t" r="r" b="b"/>
              <a:pathLst>
                <a:path w="420" h="153">
                  <a:moveTo>
                    <a:pt x="0" y="133"/>
                  </a:moveTo>
                  <a:cubicBezTo>
                    <a:pt x="10" y="103"/>
                    <a:pt x="0" y="117"/>
                    <a:pt x="42" y="103"/>
                  </a:cubicBezTo>
                  <a:cubicBezTo>
                    <a:pt x="68" y="94"/>
                    <a:pt x="88" y="64"/>
                    <a:pt x="114" y="55"/>
                  </a:cubicBezTo>
                  <a:cubicBezTo>
                    <a:pt x="157" y="41"/>
                    <a:pt x="139" y="50"/>
                    <a:pt x="168" y="31"/>
                  </a:cubicBezTo>
                  <a:cubicBezTo>
                    <a:pt x="192" y="33"/>
                    <a:pt x="218" y="27"/>
                    <a:pt x="240" y="37"/>
                  </a:cubicBezTo>
                  <a:cubicBezTo>
                    <a:pt x="273" y="52"/>
                    <a:pt x="223" y="65"/>
                    <a:pt x="216" y="67"/>
                  </a:cubicBezTo>
                  <a:cubicBezTo>
                    <a:pt x="204" y="63"/>
                    <a:pt x="192" y="59"/>
                    <a:pt x="180" y="55"/>
                  </a:cubicBezTo>
                  <a:cubicBezTo>
                    <a:pt x="174" y="53"/>
                    <a:pt x="162" y="49"/>
                    <a:pt x="162" y="49"/>
                  </a:cubicBezTo>
                  <a:cubicBezTo>
                    <a:pt x="146" y="0"/>
                    <a:pt x="173" y="14"/>
                    <a:pt x="222" y="19"/>
                  </a:cubicBezTo>
                  <a:cubicBezTo>
                    <a:pt x="228" y="21"/>
                    <a:pt x="234" y="22"/>
                    <a:pt x="240" y="25"/>
                  </a:cubicBezTo>
                  <a:cubicBezTo>
                    <a:pt x="246" y="28"/>
                    <a:pt x="251" y="34"/>
                    <a:pt x="258" y="37"/>
                  </a:cubicBezTo>
                  <a:cubicBezTo>
                    <a:pt x="270" y="42"/>
                    <a:pt x="294" y="49"/>
                    <a:pt x="294" y="49"/>
                  </a:cubicBezTo>
                  <a:cubicBezTo>
                    <a:pt x="304" y="47"/>
                    <a:pt x="316" y="49"/>
                    <a:pt x="324" y="43"/>
                  </a:cubicBezTo>
                  <a:cubicBezTo>
                    <a:pt x="350" y="26"/>
                    <a:pt x="311" y="5"/>
                    <a:pt x="300" y="1"/>
                  </a:cubicBezTo>
                  <a:cubicBezTo>
                    <a:pt x="286" y="3"/>
                    <a:pt x="272" y="3"/>
                    <a:pt x="258" y="7"/>
                  </a:cubicBezTo>
                  <a:cubicBezTo>
                    <a:pt x="248" y="10"/>
                    <a:pt x="226" y="23"/>
                    <a:pt x="246" y="37"/>
                  </a:cubicBezTo>
                  <a:cubicBezTo>
                    <a:pt x="256" y="44"/>
                    <a:pt x="270" y="45"/>
                    <a:pt x="282" y="49"/>
                  </a:cubicBezTo>
                  <a:cubicBezTo>
                    <a:pt x="313" y="59"/>
                    <a:pt x="342" y="75"/>
                    <a:pt x="372" y="85"/>
                  </a:cubicBezTo>
                  <a:cubicBezTo>
                    <a:pt x="386" y="106"/>
                    <a:pt x="386" y="119"/>
                    <a:pt x="408" y="133"/>
                  </a:cubicBezTo>
                  <a:cubicBezTo>
                    <a:pt x="415" y="153"/>
                    <a:pt x="408" y="151"/>
                    <a:pt x="420" y="151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6248520" y="21337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20574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21360" y="12952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1295280"/>
            <a:ext cx="41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26280" y="37339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238880" y="1752480"/>
            <a:ext cx="1585800" cy="3096360"/>
            <a:chOff x="7238880" y="1752480"/>
            <a:chExt cx="1585800" cy="3096360"/>
          </a:xfrm>
        </p:grpSpPr>
        <p:grpSp>
          <p:nvGrpSpPr>
            <p:cNvPr id="476" name=""/>
            <p:cNvGrpSpPr/>
            <p:nvPr/>
          </p:nvGrpSpPr>
          <p:grpSpPr>
            <a:xfrm>
              <a:off x="7238880" y="1752480"/>
              <a:ext cx="1585800" cy="2104920"/>
              <a:chOff x="7238880" y="1752480"/>
              <a:chExt cx="1585800" cy="2104920"/>
            </a:xfrm>
          </p:grpSpPr>
          <p:sp>
            <p:nvSpPr>
              <p:cNvPr id="477" name=""/>
              <p:cNvSpPr/>
              <p:nvPr/>
            </p:nvSpPr>
            <p:spPr>
              <a:xfrm>
                <a:off x="7316640" y="1752480"/>
                <a:ext cx="1508040" cy="21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42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000000"/>
                    </a:solidFill>
                    <a:latin typeface="Times New Roman"/>
                  </a:rPr>
                  <a:t>- 28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8880" y="373356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8155080" y="36576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ff"/>
                  </a:solidFill>
                  <a:latin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774200" y="37339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40280" y="5335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Times New Roman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685800"/>
            <a:ext cx="144792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花边" descr="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525680" y="457200"/>
            <a:ext cx="239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70-63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06920" y="1600200"/>
            <a:ext cx="12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-6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05120" y="3581280"/>
            <a:ext cx="13716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2520" y="1219320"/>
            <a:ext cx="9144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14960" y="1523880"/>
            <a:ext cx="422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十位（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后，个位要算（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减（     ）得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429000" y="1447920"/>
            <a:ext cx="5562360" cy="2514600"/>
            <a:chOff x="3429000" y="1447920"/>
            <a:chExt cx="5562360" cy="2514600"/>
          </a:xfrm>
        </p:grpSpPr>
        <p:sp>
          <p:nvSpPr>
            <p:cNvPr id="490" name=""/>
            <p:cNvSpPr/>
            <p:nvPr/>
          </p:nvSpPr>
          <p:spPr>
            <a:xfrm>
              <a:off x="3429000" y="1447920"/>
              <a:ext cx="5562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9000" y="1447920"/>
              <a:ext cx="0" cy="25146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9000" y="3962520"/>
              <a:ext cx="556236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91360" y="1447920"/>
              <a:ext cx="0" cy="251460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281952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2360" y="3581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34080" y="1371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退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7880" y="20574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78360" y="2895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5600" y="28954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ff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0280" y="30636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8640" y="4194000"/>
            <a:ext cx="138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6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60199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7440" y="4267080"/>
            <a:ext cx="119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6600" y="42670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6800" y="42670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40680" y="4267080"/>
            <a:ext cx="140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- 3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6095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60958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20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5943600"/>
            <a:ext cx="60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728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4008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9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660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2200" y="5943600"/>
            <a:ext cx="60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1680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787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560" y="59436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0WK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508040" y="2286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笔算减法要注意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4920" y="1828800"/>
            <a:ext cx="6324120" cy="4723920"/>
            <a:chOff x="304920" y="1828800"/>
            <a:chExt cx="6324120" cy="4723920"/>
          </a:xfrm>
        </p:grpSpPr>
        <p:sp>
          <p:nvSpPr>
            <p:cNvPr id="524" name=""/>
            <p:cNvSpPr/>
            <p:nvPr/>
          </p:nvSpPr>
          <p:spPr>
            <a:xfrm>
              <a:off x="304920" y="1828800"/>
              <a:ext cx="63241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920" y="1828800"/>
              <a:ext cx="0" cy="47239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920" y="6552720"/>
              <a:ext cx="632412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29040" y="1828800"/>
              <a:ext cx="0" cy="4723920"/>
            </a:xfrm>
            <a:prstGeom prst="line">
              <a:avLst/>
            </a:prstGeom>
            <a:ln w="38160">
              <a:solidFill>
                <a:srgbClr val="ff0066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457200" y="3200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1.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相同数对齐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3962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2.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从个位减起</a:t>
            </a:r>
            <a:r>
              <a:rPr b="1" lang="zh-CN" sz="5400" spc="-1" strike="noStrike">
                <a:solidFill>
                  <a:srgbClr val="ff6600"/>
                </a:solidFill>
                <a:latin typeface="Times New Roman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4876920"/>
            <a:ext cx="64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哪一位不够减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从十位退一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在个位加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10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再减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920" y="1828800"/>
            <a:ext cx="610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笔算两位数减法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要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作三条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0:58:49Z</dcterms:created>
  <dc:creator>Billgates</dc:creator>
  <dc:description/>
  <dc:language>en-US</dc:language>
  <cp:lastModifiedBy>Billgates</cp:lastModifiedBy>
  <dcterms:modified xsi:type="dcterms:W3CDTF">2003-05-19T15:13:24Z</dcterms:modified>
  <cp:revision>3</cp:revision>
  <dc:subject/>
  <dc:title>PowerPoint 演示文稿</dc:title>
</cp:coreProperties>
</file>